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AF6-72F6-4720-9A48-C05870F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808-07CA-4759-A2D6-656039B3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301-3971-46E6-BDB5-685CD478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0A4-F69B-4917-BAFA-28C8D61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6B5-5425-4475-8270-21685D0A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697-62A5-4B5B-B6EC-3FE9713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64A-3184-4970-9CFA-665922F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7D4-5F2A-4AE3-938E-886B5C4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776-0B0A-4DBB-8F6F-306EA36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CF9-BD33-45E9-8F86-9FFC87B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6FE-35FF-4C0A-9DC7-B6B6D19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AC1-448D-4A80-81EE-70F2DCE4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BEA-CCE7-49C6-8ED4-A502EC05FDF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Evaluation for Open Charm and Beauty Measurement at LHC A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D capability from λ and K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asurement at LHC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0480" y="4589640"/>
            <a:ext cx="63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筑波大学数理物質科学研究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ngo Watanabe for the ALIC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23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2336760"/>
          <a:ext cx="8686800" cy="4064040"/>
        </p:xfrm>
        <a:graphic>
          <a:graphicData uri="http://schemas.openxmlformats.org/drawingml/2006/table">
            <a:tbl>
              <a:tblPr/>
              <a:tblGrid>
                <a:gridCol w="1343160"/>
                <a:gridCol w="2543040"/>
                <a:gridCol w="2362320"/>
                <a:gridCol w="243828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ja-JP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8640" y="286704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S &amp;&amp; TPC) or 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5160" y="281952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or TPC or 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42480" y="2803680"/>
            <a:ext cx="255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TS or TPC or TOF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114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1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403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8760" y="403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11840" y="541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6440" y="541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8760" y="541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27760" y="76320"/>
            <a:ext cx="4039920" cy="2719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955040" y="13716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5080" y="4572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53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320" y="5410080"/>
            <a:ext cx="5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2960" y="586728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 = 260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2280" y="50292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2263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2600" y="54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9640" y="457200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=15235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2600" y="4038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3657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95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8040" y="594360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=260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40280" y="54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4000" y="50292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226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7320" y="457200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=1523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4038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5560" y="3657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95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3440" y="594360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=1497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54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9400" y="50292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126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6400" y="457200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*S/N=1166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8680" y="37339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6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6360" y="12193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&lt;Pt&lt;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3760" y="12193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5&lt;Pt&lt;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9760" y="12193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&lt;Pt&lt;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5760" y="12193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&lt;Pt&lt;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6000" y="3962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&lt;Pt&lt;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5680" y="3962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&lt;Pt&lt;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87360" y="3962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&lt;Pt&lt;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7680" y="3962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&lt;Pt&lt;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26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 dependence of S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18288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ITS &amp;&amp; TPC) or 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579840"/>
            <a:ext cx="5105520" cy="2897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62520" y="3530520"/>
            <a:ext cx="5192640" cy="2946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086960" y="6248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t (GeV/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960" y="6248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t (GeV/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0" y="22860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ITS or TPC or 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20" y="2819520"/>
            <a:ext cx="303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TS or TPC or TOF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00" y="3505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40280" y="342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825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8120" y="173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80060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9240" y="56386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S,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35040" y="3200400"/>
            <a:ext cx="5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6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5257800"/>
            <a:ext cx="236232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7800" y="5410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5486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9360" y="571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S,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48600" y="1521000"/>
            <a:ext cx="207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/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ts </a:t>
            </a:r>
            <a:r>
              <a:rPr b="0" lang="ja-JP" sz="2400" spc="-1" strike="noStrike">
                <a:solidFill>
                  <a:srgbClr val="000000"/>
                </a:solidFill>
                <a:latin typeface="ヒラギノ角ゴ Pro W3"/>
              </a:rPr>
              <a:t>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/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1280" y="199692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capability of IT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2068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Particle identification of ALICE central detector (ITS,TPC,TOF) using simulation dat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/N, S*S/N from λ and K</a:t>
            </a:r>
            <a:r>
              <a:rPr b="0" lang="ja-JP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5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ass spectr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/N show good PID capability of ITS and TP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*S/N show miss ID particle can be igno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76320" y="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809880"/>
            <a:ext cx="16002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9720" y="4724280"/>
            <a:ext cx="84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" y="4724280"/>
            <a:ext cx="75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LICE will be able to Identified rare particle, D,B,J/Ψ,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help of vertex detector and PID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ICE Detector Over 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18000"/>
          </a:blip>
          <a:srcRect l="0" t="0" r="0" b="2176"/>
          <a:stretch/>
        </p:blipFill>
        <p:spPr>
          <a:xfrm>
            <a:off x="839880" y="1068480"/>
            <a:ext cx="7927920" cy="57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292000" y="1006560"/>
            <a:ext cx="85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ahoma"/>
              </a:rPr>
              <a:t>T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065480" y="1476360"/>
            <a:ext cx="1379520" cy="1501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21400" y="1011240"/>
            <a:ext cx="8341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ahoma"/>
              </a:rPr>
              <a:t>T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87680" y="1460520"/>
            <a:ext cx="541440" cy="1411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8160" y="1479600"/>
            <a:ext cx="13629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HMP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7440" y="1986120"/>
            <a:ext cx="441360" cy="75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0760" y="3255840"/>
            <a:ext cx="966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PM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09640" y="3521160"/>
            <a:ext cx="876240" cy="183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87840" y="6300720"/>
            <a:ext cx="11131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PH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12800" y="4861080"/>
            <a:ext cx="876240" cy="144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24720" y="6224760"/>
            <a:ext cx="8053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ahoma"/>
              </a:rPr>
              <a:t>TP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52760" y="4403880"/>
            <a:ext cx="552600" cy="1901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629320"/>
            <a:ext cx="37335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Muon Spectrome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549680" y="3960720"/>
            <a:ext cx="727200" cy="1736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76880" y="4255920"/>
            <a:ext cx="192708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3240" y="2120760"/>
            <a:ext cx="6955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ahoma"/>
              </a:rPr>
              <a:t>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605040" y="2489040"/>
            <a:ext cx="3292560" cy="1395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16800" y="1738080"/>
            <a:ext cx="325440" cy="4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23504" t="422958" r="460580" b="201290"/>
          <a:stretch/>
        </p:blipFill>
        <p:spPr>
          <a:xfrm>
            <a:off x="6854760" y="96840"/>
            <a:ext cx="205128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To provide constrains on parton energy lo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t the very early stage of the colli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(time-scale ~ 1/m</a:t>
            </a:r>
            <a:r>
              <a:rPr b="0" lang="ja-JP" sz="25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&lt; τ</a:t>
            </a:r>
            <a:r>
              <a:rPr b="0" lang="ja-JP" sz="2500" spc="-1" strike="noStrike" baseline="-25000">
                <a:solidFill>
                  <a:srgbClr val="000000"/>
                </a:solidFill>
                <a:latin typeface="Arial"/>
              </a:rPr>
              <a:t>QGP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~ 10 fm at LHC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c,b have long lifetime (&gt; τ</a:t>
            </a:r>
            <a:r>
              <a:rPr b="0" lang="ja-JP" sz="2500" spc="-1" strike="noStrike" baseline="-25000">
                <a:solidFill>
                  <a:srgbClr val="000000"/>
                </a:solidFill>
                <a:latin typeface="Arial"/>
              </a:rPr>
              <a:t>QGP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) and can probe the bulk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trongly interacting ph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tudy of final state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Elliptic flow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-36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pen Charm and Open Beauty Measure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810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581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4419720"/>
            <a:ext cx="199368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6705720" cy="1145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9400" y="4648320"/>
            <a:ext cx="3049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14960" y="5562720"/>
            <a:ext cx="2952720" cy="554040"/>
            <a:chOff x="6114960" y="5562720"/>
            <a:chExt cx="2952720" cy="554040"/>
          </a:xfrm>
        </p:grpSpPr>
        <p:sp>
          <p:nvSpPr>
            <p:cNvPr id="73" name=""/>
            <p:cNvSpPr/>
            <p:nvPr/>
          </p:nvSpPr>
          <p:spPr>
            <a:xfrm>
              <a:off x="6114960" y="5562720"/>
              <a:ext cx="2952720" cy="554040"/>
            </a:xfrm>
            <a:prstGeom prst="roundRect">
              <a:avLst>
                <a:gd name="adj" fmla="val 2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114960" y="5562720"/>
                  <a:ext cx="29527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ϕ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6114960" y="5562720"/>
              <a:ext cx="2952720" cy="554040"/>
            </a:xfrm>
            <a:prstGeom prst="roundRect">
              <a:avLst>
                <a:gd name="adj" fmla="val 2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477120" y="51814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50080" y="6232680"/>
            <a:ext cx="7607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rovides information on the opacity of the medi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Heavy flavour measurements in ALI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9240" y="11430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decaying charm and 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280" y="1889280"/>
            <a:ext cx="3989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m ~ 1869 MeV, cτ ~ 312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m ~ 1865 MeV, cτ ~ 123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 ~ 1968 MeV, cτ ~ 147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1752480"/>
            <a:ext cx="4647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m ~ 5279 MeV, cτ ~ 501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m ~ 5279 MeV, cτ ~ 460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 ~ 5370 MeV, cτ ~ 438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 ~ 6400 MeV, cτ ~ 100~200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905120"/>
            <a:ext cx="3810240" cy="99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1752480"/>
            <a:ext cx="434340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5867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705720" y="472392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29520" y="464832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305840" y="3428640"/>
            <a:ext cx="161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08840" y="5715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32880" y="4937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5200" y="35053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880" y="38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00" y="327672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eavy flavour weak decay track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placed from primary vertex by ~ few 100 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5360" y="402264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cay vertex will be obser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th help of the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114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6483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000" y="4800600"/>
            <a:ext cx="58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ner Tracking System contain 6 silicon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licon pixel detector reconstruct secondary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724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000" y="5486400"/>
            <a:ext cx="21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8600" y="5546880"/>
            <a:ext cx="460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tracks will be re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help of the ITS,TPC,TRD and 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715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6172200"/>
            <a:ext cx="2666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Simulation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0.9GeV minimum bias ev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PYTHIA, ALICE GE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Reconstruc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ll simulation data were reconstru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-&gt; track, vertex ,signal in each detec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PID (ITS,TPC,TO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λ and K</a:t>
            </a:r>
            <a:r>
              <a:rPr b="0" lang="ja-JP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5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invaliant mass, S/N,S*S/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PID cut, Pt depend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56272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98680" y="563868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detect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article Identification in ALICE 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771560"/>
            <a:ext cx="8839080" cy="5016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6040" y="182880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9000" y="4191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720" y="1371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(track length 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6720" y="127944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(combined b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2240" y="35053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4200" y="623268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860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0840" y="5257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6640" y="2590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9440" y="274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228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Particle Identification in ALICE 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518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57560" y="11286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75280" y="11430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0840" y="502920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3120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32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.9 TeV pp minimum b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 M events reconstructed data (ALICE offici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Electron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000 events (NO TRD 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D show other particle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TPC electron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ID Summa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733920" cy="2512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4724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harm and Open Beauty production are difficult for m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6760" y="5638680"/>
            <a:ext cx="497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performance using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562720"/>
            <a:ext cx="50292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56272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λ &amp; K</a:t>
            </a:r>
            <a:r>
              <a:rPr b="0" lang="ja-JP" sz="3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3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3500" spc="-1" strike="noStrike" baseline="30000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invaliant ma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8305560" cy="4713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9680" y="13716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TS &amp;&amp; TPC) or 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3400" y="13716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r TPC or 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1200" y="1371600"/>
            <a:ext cx="303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TS or TPC or TOF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86400" y="220968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-&gt;p+π (unlike pair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720" y="4648320"/>
            <a:ext cx="350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π+π (unlike pair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0:08:47Z</dcterms:created>
  <dc:creator>渡辺 健悟</dc:creator>
  <dc:description/>
  <dc:language>en-US</dc:language>
  <cp:lastModifiedBy>渡辺 健悟</cp:lastModifiedBy>
  <dcterms:modified xsi:type="dcterms:W3CDTF">2008-09-21T14:47:12Z</dcterms:modified>
  <cp:revision>4</cp:revision>
  <dc:subject/>
  <dc:title>PowerPoint プレゼンテーション</dc:title>
</cp:coreProperties>
</file>