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603-312E-4A60-BF8E-FF93B1E2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614-C5EA-440A-AD23-D3B59CE5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9DB-C103-4B65-9F00-CAFD47B2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E5F-01DC-45A5-B080-7BDB9B60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CF6-0D84-40E1-90C6-669BE33A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677-8807-43AD-A585-2552E464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4E1-9D97-40A1-B0E0-7F9F4E3F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98A-7091-4572-B161-153FD35F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976-8341-44DC-90F6-31066267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A26-EB16-4C34-A493-5CDEF249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910-00CC-4474-AE89-15E9A79C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4B5-C000-4CEE-A9CA-5EE0399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15D60-8BC9-4F1C-B128-D10A35E306E2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5A3DB-EC3E-4972-9F85-0402069140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01240" y="1876320"/>
            <a:ext cx="874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ntified Charged Hadron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p+p Collisions at √s = 62.4 and 200 G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293840" y="3951360"/>
            <a:ext cx="68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ahiro Konno for the PHENIX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University of Tsuku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C25C1-7E53-4991-AC74-AA348F1F78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480" y="651996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S @ Yamagata, 9/21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caling for PID Spect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09680" y="5334120"/>
            <a:ext cx="8295840" cy="787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caling works for both of pions and (anti-)protons at √s = 62.4 and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compare th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scaling powe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ef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pions and (anti-)prot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図形グループ 24"/>
          <p:cNvGrpSpPr/>
          <p:nvPr/>
        </p:nvGrpSpPr>
        <p:grpSpPr>
          <a:xfrm>
            <a:off x="76320" y="801720"/>
            <a:ext cx="9067680" cy="4075200"/>
            <a:chOff x="76320" y="801720"/>
            <a:chExt cx="9067680" cy="4075200"/>
          </a:xfrm>
        </p:grpSpPr>
        <p:pic>
          <p:nvPicPr>
            <p:cNvPr id="149" name="図 18" descr="pt_pion.gif"/>
            <p:cNvPicPr/>
            <p:nvPr/>
          </p:nvPicPr>
          <p:blipFill>
            <a:blip r:embed="rId1"/>
            <a:stretch/>
          </p:blipFill>
          <p:spPr>
            <a:xfrm>
              <a:off x="76320" y="801720"/>
              <a:ext cx="4724280" cy="40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図 20" descr="pt_antiproton.gif"/>
            <p:cNvPicPr/>
            <p:nvPr/>
          </p:nvPicPr>
          <p:blipFill>
            <a:blip r:embed="rId2"/>
            <a:stretch/>
          </p:blipFill>
          <p:spPr>
            <a:xfrm>
              <a:off x="4419720" y="801720"/>
              <a:ext cx="4724280" cy="407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Box 9"/>
          <p:cNvSpPr/>
          <p:nvPr/>
        </p:nvSpPr>
        <p:spPr>
          <a:xfrm>
            <a:off x="2138400" y="4800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6177960" y="48006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図形グループ 14"/>
          <p:cNvGrpSpPr/>
          <p:nvPr/>
        </p:nvGrpSpPr>
        <p:grpSpPr>
          <a:xfrm>
            <a:off x="76320" y="801720"/>
            <a:ext cx="9067680" cy="4075200"/>
            <a:chOff x="76320" y="801720"/>
            <a:chExt cx="9067680" cy="4075200"/>
          </a:xfrm>
        </p:grpSpPr>
        <p:pic>
          <p:nvPicPr>
            <p:cNvPr id="154" name="図 12" descr="xt_pp_pion.gif"/>
            <p:cNvPicPr/>
            <p:nvPr/>
          </p:nvPicPr>
          <p:blipFill>
            <a:blip r:embed="rId3"/>
            <a:stretch/>
          </p:blipFill>
          <p:spPr>
            <a:xfrm>
              <a:off x="76320" y="801720"/>
              <a:ext cx="4724280" cy="40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図 13" descr="xt_pp_pbar.gif"/>
            <p:cNvPicPr/>
            <p:nvPr/>
          </p:nvPicPr>
          <p:blipFill>
            <a:blip r:embed="rId4"/>
            <a:stretch/>
          </p:blipFill>
          <p:spPr>
            <a:xfrm>
              <a:off x="4419720" y="801720"/>
              <a:ext cx="4724280" cy="407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スライド番号プレースホルダ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8B04D-034E-48AE-83F7-027C1807D2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imation of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ef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図 8" descr="n_vs_xt_pi0.gif"/>
          <p:cNvPicPr/>
          <p:nvPr/>
        </p:nvPicPr>
        <p:blipFill>
          <a:blip r:embed="rId1"/>
          <a:stretch/>
        </p:blipFill>
        <p:spPr>
          <a:xfrm>
            <a:off x="5105520" y="84312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0"/>
          <p:cNvSpPr/>
          <p:nvPr/>
        </p:nvSpPr>
        <p:spPr>
          <a:xfrm>
            <a:off x="304920" y="927000"/>
            <a:ext cx="4564080" cy="4046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scaling power n is a function of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√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value of n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√s),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ef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is ob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the following two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) Taking the ratio of yields between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ies (e.g. √s = 62.4, 200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2) Fit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stributions with a commo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図 11" descr="xt_pion_pp_w_line.gif"/>
          <p:cNvPicPr/>
          <p:nvPr/>
        </p:nvPicPr>
        <p:blipFill>
          <a:blip r:embed="rId2"/>
          <a:stretch/>
        </p:blipFill>
        <p:spPr>
          <a:xfrm>
            <a:off x="5078520" y="3581280"/>
            <a:ext cx="4065480" cy="327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12800" y="3060720"/>
                <a:ext cx="3859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Yiled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85800" y="4038480"/>
                <a:ext cx="16765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63" name="図形グループ 20"/>
          <p:cNvGrpSpPr/>
          <p:nvPr/>
        </p:nvGrpSpPr>
        <p:grpSpPr>
          <a:xfrm>
            <a:off x="5105520" y="538200"/>
            <a:ext cx="4038480" cy="3043080"/>
            <a:chOff x="5105520" y="538200"/>
            <a:chExt cx="4038480" cy="3043080"/>
          </a:xfrm>
        </p:grpSpPr>
        <p:pic>
          <p:nvPicPr>
            <p:cNvPr id="164" name="図 9" descr="n_vs_xt_pi0_pr_pb.gif"/>
            <p:cNvPicPr/>
            <p:nvPr/>
          </p:nvPicPr>
          <p:blipFill>
            <a:blip r:embed="rId3"/>
            <a:stretch/>
          </p:blipFill>
          <p:spPr>
            <a:xfrm>
              <a:off x="5105520" y="842760"/>
              <a:ext cx="4038480" cy="2738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5" name="直線矢印コネクタ 15"/>
            <p:cNvCxnSpPr/>
            <p:nvPr/>
          </p:nvCxnSpPr>
          <p:spPr>
            <a:xfrm flipH="1">
              <a:off x="7314480" y="995400"/>
              <a:ext cx="229320" cy="521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66" name="直線矢印コネクタ 17"/>
            <p:cNvCxnSpPr/>
            <p:nvPr/>
          </p:nvCxnSpPr>
          <p:spPr>
            <a:xfrm flipH="1" flipV="1">
              <a:off x="7467480" y="1820520"/>
              <a:ext cx="762480" cy="381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7" name="TextBox 19"/>
            <p:cNvSpPr/>
            <p:nvPr/>
          </p:nvSpPr>
          <p:spPr>
            <a:xfrm>
              <a:off x="7470000" y="5382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8229600" y="2062080"/>
                  <a:ext cx="19044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p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9" name="TextBox 13"/>
          <p:cNvSpPr/>
          <p:nvPr/>
        </p:nvSpPr>
        <p:spPr>
          <a:xfrm>
            <a:off x="6774120" y="2666880"/>
            <a:ext cx="19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points: method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ines: method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04920" y="5257800"/>
          <a:ext cx="4564080" cy="728640"/>
        </p:xfrm>
        <a:graphic>
          <a:graphicData uri="http://schemas.openxmlformats.org/drawingml/2006/table">
            <a:tbl>
              <a:tblPr/>
              <a:tblGrid>
                <a:gridCol w="1141200"/>
                <a:gridCol w="1139760"/>
                <a:gridCol w="1141560"/>
                <a:gridCol w="114156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e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5 ± 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4 ± 0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6 ± 0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22"/>
          <p:cNvSpPr/>
          <p:nvPr/>
        </p:nvSpPr>
        <p:spPr>
          <a:xfrm>
            <a:off x="2608200" y="5986440"/>
            <a:ext cx="23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Fit range: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= 0.07 – 0.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スライド番号プレースホルダ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6DC66-A33B-470D-BA63-6FB6CD7DA7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ectra in A+A Colli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533520" y="1084320"/>
            <a:ext cx="4114800" cy="2895120"/>
            <a:chOff x="533520" y="1084320"/>
            <a:chExt cx="4114800" cy="2895120"/>
          </a:xfrm>
        </p:grpSpPr>
        <p:pic>
          <p:nvPicPr>
            <p:cNvPr id="175" name="Picture 5" descr="Raa_comp_AUAU200GEV_70-80"/>
            <p:cNvPicPr/>
            <p:nvPr/>
          </p:nvPicPr>
          <p:blipFill>
            <a:blip r:embed="rId1"/>
            <a:stretch/>
          </p:blipFill>
          <p:spPr>
            <a:xfrm>
              <a:off x="533520" y="1101600"/>
              <a:ext cx="4114800" cy="28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Raa_comp_AUAU200GEV_0-5_small"/>
            <p:cNvPicPr/>
            <p:nvPr/>
          </p:nvPicPr>
          <p:blipFill>
            <a:blip r:embed="rId2"/>
            <a:stretch/>
          </p:blipFill>
          <p:spPr>
            <a:xfrm>
              <a:off x="1008000" y="1084320"/>
              <a:ext cx="3587040" cy="254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図 9" descr="int_raa_7.0-20.0_0.jpg"/>
          <p:cNvPicPr/>
          <p:nvPr/>
        </p:nvPicPr>
        <p:blipFill>
          <a:blip r:embed="rId3"/>
          <a:stretch/>
        </p:blipFill>
        <p:spPr>
          <a:xfrm>
            <a:off x="4876920" y="762120"/>
            <a:ext cx="3657600" cy="3510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642960" y="4309920"/>
            <a:ext cx="7802280" cy="20070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central Au+Au collisions, hadron yields are suppressed at hig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ed to those in p+p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he suppression is thought to be a final state effect (parton energy lo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+Au and Cu+Cu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how a similar dependence 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155600" y="5029200"/>
                <a:ext cx="24465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l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TextBox 12"/>
          <p:cNvSpPr/>
          <p:nvPr/>
        </p:nvSpPr>
        <p:spPr>
          <a:xfrm>
            <a:off x="3713760" y="5105520"/>
            <a:ext cx="432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re &lt;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col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gt; is the number of binary NN coll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スライド番号プレースホルダ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8E5DE-8E59-48AD-8C2A-DA0E86DA47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8"/>
          <p:cNvSpPr/>
          <p:nvPr/>
        </p:nvSpPr>
        <p:spPr>
          <a:xfrm>
            <a:off x="471960" y="4998960"/>
            <a:ext cx="8195400" cy="1615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ssumptions is that structure and fragmentation functions scale wit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A+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s show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aling with the same number of n as in p+p in any systems, 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ti-)protons show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aling with similar value for peripheral only. In central,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a larger value of n – due to baryon enhancement at 2-3 GeV/c in 62.4 GeV A+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e effective energy loss should scale Δ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const., leading to constant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図形グループ 25"/>
          <p:cNvGrpSpPr/>
          <p:nvPr/>
        </p:nvGrpSpPr>
        <p:grpSpPr>
          <a:xfrm>
            <a:off x="123840" y="533520"/>
            <a:ext cx="9112320" cy="4267080"/>
            <a:chOff x="123840" y="533520"/>
            <a:chExt cx="9112320" cy="4267080"/>
          </a:xfrm>
        </p:grpSpPr>
        <p:pic>
          <p:nvPicPr>
            <p:cNvPr id="184" name="図 23" descr="pt_central_auau_pion.gif"/>
            <p:cNvPicPr/>
            <p:nvPr/>
          </p:nvPicPr>
          <p:blipFill>
            <a:blip r:embed="rId1"/>
            <a:stretch/>
          </p:blipFill>
          <p:spPr>
            <a:xfrm>
              <a:off x="123840" y="533520"/>
              <a:ext cx="4680000" cy="42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図 24" descr="pt_central_auau_pbar.gif"/>
            <p:cNvPicPr/>
            <p:nvPr/>
          </p:nvPicPr>
          <p:blipFill>
            <a:blip r:embed="rId2"/>
            <a:stretch/>
          </p:blipFill>
          <p:spPr>
            <a:xfrm>
              <a:off x="4467240" y="533520"/>
              <a:ext cx="4768920" cy="42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図形グループ 22"/>
          <p:cNvGrpSpPr/>
          <p:nvPr/>
        </p:nvGrpSpPr>
        <p:grpSpPr>
          <a:xfrm>
            <a:off x="92160" y="533520"/>
            <a:ext cx="9144000" cy="4267080"/>
            <a:chOff x="92160" y="533520"/>
            <a:chExt cx="9144000" cy="4267080"/>
          </a:xfrm>
        </p:grpSpPr>
        <p:pic>
          <p:nvPicPr>
            <p:cNvPr id="187" name="図 20" descr="xt_central_auau_pion.gif"/>
            <p:cNvPicPr/>
            <p:nvPr/>
          </p:nvPicPr>
          <p:blipFill>
            <a:blip r:embed="rId3"/>
            <a:stretch/>
          </p:blipFill>
          <p:spPr>
            <a:xfrm>
              <a:off x="92160" y="539640"/>
              <a:ext cx="4727520" cy="42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図 21" descr="xt_central_auau_pbar.gif"/>
            <p:cNvPicPr/>
            <p:nvPr/>
          </p:nvPicPr>
          <p:blipFill>
            <a:blip r:embed="rId4"/>
            <a:stretch/>
          </p:blipFill>
          <p:spPr>
            <a:xfrm>
              <a:off x="4483080" y="533520"/>
              <a:ext cx="475308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caling in A+A Colli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図形グループ 33"/>
          <p:cNvGrpSpPr/>
          <p:nvPr/>
        </p:nvGrpSpPr>
        <p:grpSpPr>
          <a:xfrm>
            <a:off x="1898640" y="1219320"/>
            <a:ext cx="5340240" cy="3603600"/>
            <a:chOff x="1898640" y="1219320"/>
            <a:chExt cx="5340240" cy="3603600"/>
          </a:xfrm>
        </p:grpSpPr>
        <p:pic>
          <p:nvPicPr>
            <p:cNvPr id="191" name="図 14" descr="n_vs_npart.gif"/>
            <p:cNvPicPr/>
            <p:nvPr/>
          </p:nvPicPr>
          <p:blipFill>
            <a:blip r:embed="rId5"/>
            <a:stretch/>
          </p:blipFill>
          <p:spPr>
            <a:xfrm>
              <a:off x="1898640" y="1219320"/>
              <a:ext cx="534024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32"/>
            <p:cNvSpPr/>
            <p:nvPr/>
          </p:nvSpPr>
          <p:spPr>
            <a:xfrm>
              <a:off x="2702880" y="3886560"/>
              <a:ext cx="1311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alibri"/>
                </a:rPr>
                <a:t>eff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vs. 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alibri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図形グループ 31"/>
          <p:cNvGrpSpPr/>
          <p:nvPr/>
        </p:nvGrpSpPr>
        <p:grpSpPr>
          <a:xfrm>
            <a:off x="2895480" y="2133720"/>
            <a:ext cx="3670560" cy="1119600"/>
            <a:chOff x="2895480" y="2133720"/>
            <a:chExt cx="3670560" cy="1119600"/>
          </a:xfrm>
        </p:grpSpPr>
        <p:cxnSp>
          <p:nvCxnSpPr>
            <p:cNvPr id="194" name="直線矢印コネクタ 27"/>
            <p:cNvCxnSpPr/>
            <p:nvPr/>
          </p:nvCxnSpPr>
          <p:spPr>
            <a:xfrm>
              <a:off x="2895480" y="3251520"/>
              <a:ext cx="35064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195" name="フリーフォーム 30"/>
            <p:cNvSpPr/>
            <p:nvPr/>
          </p:nvSpPr>
          <p:spPr>
            <a:xfrm>
              <a:off x="2895480" y="2133720"/>
              <a:ext cx="3670560" cy="10735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tailEnd len="med" type="triangle" w="lg"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スライド番号プレースホルダ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17F5F-34EE-46CD-B78B-CD6F9872D7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562320" y="941400"/>
            <a:ext cx="812376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ied charged hadron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pectra measured in p+p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√s = 62.4 and 200 GeV (Phenix preliminary) for reference of heavy 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aling tested with p+p and A+A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verse slope parameter: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+p) &lt;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+A) for π, K,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creases with collision energy √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N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ti-)protons increase quickly than pions and kaons for both p+p and A+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Baryon-meson difference of the yields seen in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aling tested with p+p and A+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caling works for pions and (anti-)protons in p+p collisions (62.4, 200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In heavy ion data, 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s show xT scaling with the same number of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ef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s in p+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both central and peripheral collisions (Au+Au, Cu+C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(Anti-)protons show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aling with similar value for peripheral. In centr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show a larger value of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ef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This is consistent with the observed bar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ment at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gion (2-4 GeV/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Need to measure (anti)proton spectra highe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kno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ther a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of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ef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as pions, or as in p+p) is obtained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B75B2-123C-4A0D-978F-B3ECF4AF91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90160" y="1049400"/>
            <a:ext cx="87166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transverse momentum sp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dentified particles as reference to heavy ion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eriment: RHIC-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Data: p+p at √s = 62.4 and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the properties of hadron production in p+p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verse slope parameter i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Particle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caling, its exponent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them with data taken at different collision en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them between p+p and heavy ion data (Au+Au, Cu+C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A4519-36E3-47CD-842D-8BAD482583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図 3" descr="pt_piKp_pp62.gif"/>
          <p:cNvPicPr/>
          <p:nvPr/>
        </p:nvPicPr>
        <p:blipFill>
          <a:blip r:embed="rId1"/>
          <a:stretch/>
        </p:blipFill>
        <p:spPr>
          <a:xfrm>
            <a:off x="4572000" y="743040"/>
            <a:ext cx="4572000" cy="413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D Spectra in p+p colli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図 2" descr="pt_piKp_pp200.gif"/>
          <p:cNvPicPr/>
          <p:nvPr/>
        </p:nvPicPr>
        <p:blipFill>
          <a:blip r:embed="rId2"/>
          <a:stretch/>
        </p:blipFill>
        <p:spPr>
          <a:xfrm>
            <a:off x="79200" y="743040"/>
            <a:ext cx="4572000" cy="4133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982440" y="5156280"/>
            <a:ext cx="7369200" cy="1092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sure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tra for π, K, p with √s = 62.4 and 200 GeV p+p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ENIX TOF counter used for particle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n and antiproton spectra measured up to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4 GeV/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4BADD-EE06-472C-B3B8-ADFC5C3EF7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219400" y="7621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704280" y="7621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ectra for identified parti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図形グループ 13"/>
          <p:cNvGrpSpPr/>
          <p:nvPr/>
        </p:nvGrpSpPr>
        <p:grpSpPr>
          <a:xfrm>
            <a:off x="228600" y="762120"/>
            <a:ext cx="8763120" cy="4248000"/>
            <a:chOff x="228600" y="762120"/>
            <a:chExt cx="8763120" cy="4248000"/>
          </a:xfrm>
        </p:grpSpPr>
        <p:pic>
          <p:nvPicPr>
            <p:cNvPr id="57" name="図 7" descr="mt_m_piKp_pp200.gif"/>
            <p:cNvPicPr/>
            <p:nvPr/>
          </p:nvPicPr>
          <p:blipFill>
            <a:blip r:embed="rId1"/>
            <a:stretch/>
          </p:blipFill>
          <p:spPr>
            <a:xfrm>
              <a:off x="228600" y="762120"/>
              <a:ext cx="4572000" cy="42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図 8" descr="mt_m_piKp_pp62.gif"/>
            <p:cNvPicPr/>
            <p:nvPr/>
          </p:nvPicPr>
          <p:blipFill>
            <a:blip r:embed="rId2"/>
            <a:stretch/>
          </p:blipFill>
          <p:spPr>
            <a:xfrm>
              <a:off x="4419720" y="762120"/>
              <a:ext cx="4572000" cy="42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図形グループ 14"/>
          <p:cNvGrpSpPr/>
          <p:nvPr/>
        </p:nvGrpSpPr>
        <p:grpSpPr>
          <a:xfrm>
            <a:off x="228600" y="762120"/>
            <a:ext cx="8763120" cy="4248000"/>
            <a:chOff x="228600" y="762120"/>
            <a:chExt cx="8763120" cy="4248000"/>
          </a:xfrm>
        </p:grpSpPr>
        <p:pic>
          <p:nvPicPr>
            <p:cNvPr id="60" name="図 10" descr="mt_m_piKp_pp200_w_line.gif"/>
            <p:cNvPicPr/>
            <p:nvPr/>
          </p:nvPicPr>
          <p:blipFill>
            <a:blip r:embed="rId3"/>
            <a:stretch/>
          </p:blipFill>
          <p:spPr>
            <a:xfrm>
              <a:off x="228600" y="762120"/>
              <a:ext cx="4572000" cy="42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図 9" descr="mt_m_piKp_pp62_w_line.gif"/>
            <p:cNvPicPr/>
            <p:nvPr/>
          </p:nvPicPr>
          <p:blipFill>
            <a:blip r:embed="rId4"/>
            <a:stretch/>
          </p:blipFill>
          <p:spPr>
            <a:xfrm>
              <a:off x="4419720" y="762120"/>
              <a:ext cx="4572000" cy="42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図形グループ 18"/>
          <p:cNvGrpSpPr/>
          <p:nvPr/>
        </p:nvGrpSpPr>
        <p:grpSpPr>
          <a:xfrm>
            <a:off x="838080" y="5105520"/>
            <a:ext cx="7620120" cy="1743840"/>
            <a:chOff x="838080" y="5105520"/>
            <a:chExt cx="7620120" cy="1743840"/>
          </a:xfrm>
        </p:grpSpPr>
        <p:sp>
          <p:nvSpPr>
            <p:cNvPr id="63" name="TextBox 15"/>
            <p:cNvSpPr/>
            <p:nvPr/>
          </p:nvSpPr>
          <p:spPr>
            <a:xfrm>
              <a:off x="838080" y="5105520"/>
              <a:ext cx="7620120" cy="1743840"/>
            </a:xfrm>
            <a:prstGeom prst="rect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spectra fitted with an exponential fun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o extract the inverse slope parameter (Fit range: 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-m ~0.3-1.0 GeV).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scaling roughly applicabl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wo components (soft, hard) to be taken 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854680" y="5181480"/>
                  <a:ext cx="22222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v</m:t>
                              </m:r>
                            </m:sub>
                          </m:sSub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251240" y="5794200"/>
                  <a:ext cx="2682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v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v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v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  <m:r>
                        <m:t xml:space="preserve">»</m:t>
                      </m:r>
                      <m:r>
                        <m:rPr>
                          <m:lit/>
                          <m:nor/>
                        </m:rPr>
                        <m:t xml:space="preserve">200</m:t>
                      </m:r>
                      <m:r>
                        <m:rPr>
                          <m:lit/>
                          <m:nor/>
                        </m:rPr>
                        <m:t xml:space="preserve">Me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TextBox 19"/>
          <p:cNvSpPr/>
          <p:nvPr/>
        </p:nvSpPr>
        <p:spPr>
          <a:xfrm>
            <a:off x="2368440" y="6443640"/>
            <a:ext cx="627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 Feed-down correction not applied. If applied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in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ncreased by ~ 10-1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図形グループ 28"/>
          <p:cNvGrpSpPr/>
          <p:nvPr/>
        </p:nvGrpSpPr>
        <p:grpSpPr>
          <a:xfrm>
            <a:off x="1083960" y="1913400"/>
            <a:ext cx="7059960" cy="2146320"/>
            <a:chOff x="1083960" y="1913400"/>
            <a:chExt cx="7059960" cy="2146320"/>
          </a:xfrm>
        </p:grpSpPr>
        <p:sp>
          <p:nvSpPr>
            <p:cNvPr id="68" name="直角三角形 20"/>
            <p:cNvSpPr/>
            <p:nvPr/>
          </p:nvSpPr>
          <p:spPr>
            <a:xfrm rot="18944400">
              <a:off x="2622600" y="1809360"/>
              <a:ext cx="631800" cy="2286360"/>
            </a:xfrm>
            <a:prstGeom prst="rtTriangle">
              <a:avLst/>
            </a:prstGeom>
            <a:solidFill>
              <a:srgbClr val="ff66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角三角形 21"/>
            <p:cNvSpPr/>
            <p:nvPr/>
          </p:nvSpPr>
          <p:spPr>
            <a:xfrm rot="18944400">
              <a:off x="6804000" y="1877400"/>
              <a:ext cx="631800" cy="2286360"/>
            </a:xfrm>
            <a:prstGeom prst="rtTriangle">
              <a:avLst/>
            </a:prstGeom>
            <a:solidFill>
              <a:srgbClr val="ff66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直線矢印コネクタ 23"/>
            <p:cNvCxnSpPr/>
            <p:nvPr/>
          </p:nvCxnSpPr>
          <p:spPr>
            <a:xfrm flipH="1">
              <a:off x="3123360" y="2742840"/>
              <a:ext cx="153000" cy="61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" name="TextBox 26"/>
            <p:cNvSpPr/>
            <p:nvPr/>
          </p:nvSpPr>
          <p:spPr>
            <a:xfrm>
              <a:off x="3125880" y="2342880"/>
              <a:ext cx="68364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27"/>
            <p:cNvSpPr/>
            <p:nvPr/>
          </p:nvSpPr>
          <p:spPr>
            <a:xfrm>
              <a:off x="1083960" y="3353040"/>
              <a:ext cx="5893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of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スライド番号プレースホルダ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EA982-7617-434E-A024-6980823A32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ergy dependence of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in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826920" y="5460840"/>
            <a:ext cx="7593120" cy="1092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ile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+p (p+pbar) and A+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+p) &l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in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+A) for π/K/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energy dependences seen in (anti-)proton for both p+p and A+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図形グループ 20"/>
          <p:cNvGrpSpPr/>
          <p:nvPr/>
        </p:nvGrpSpPr>
        <p:grpSpPr>
          <a:xfrm>
            <a:off x="76320" y="825480"/>
            <a:ext cx="8991360" cy="4127400"/>
            <a:chOff x="76320" y="825480"/>
            <a:chExt cx="8991360" cy="4127400"/>
          </a:xfrm>
        </p:grpSpPr>
        <p:pic>
          <p:nvPicPr>
            <p:cNvPr id="77" name="図 21" descr=""/>
            <p:cNvPicPr/>
            <p:nvPr/>
          </p:nvPicPr>
          <p:blipFill>
            <a:blip r:embed="rId1"/>
            <a:stretch/>
          </p:blipFill>
          <p:spPr>
            <a:xfrm>
              <a:off x="3291480" y="925560"/>
              <a:ext cx="2887920" cy="40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図 22" descr=""/>
            <p:cNvPicPr/>
            <p:nvPr/>
          </p:nvPicPr>
          <p:blipFill>
            <a:blip r:embed="rId2"/>
            <a:stretch/>
          </p:blipFill>
          <p:spPr>
            <a:xfrm>
              <a:off x="6179760" y="925560"/>
              <a:ext cx="2887920" cy="40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図 25" descr=""/>
            <p:cNvPicPr/>
            <p:nvPr/>
          </p:nvPicPr>
          <p:blipFill>
            <a:blip r:embed="rId3"/>
            <a:stretch/>
          </p:blipFill>
          <p:spPr>
            <a:xfrm>
              <a:off x="76320" y="825480"/>
              <a:ext cx="3215160" cy="412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スライド番号プレースホルダ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EA7D4-3A19-4F15-948F-E35713E88E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図形グループ 23"/>
          <p:cNvGrpSpPr/>
          <p:nvPr/>
        </p:nvGrpSpPr>
        <p:grpSpPr>
          <a:xfrm>
            <a:off x="76320" y="838080"/>
            <a:ext cx="8991360" cy="4114800"/>
            <a:chOff x="76320" y="838080"/>
            <a:chExt cx="8991360" cy="4114800"/>
          </a:xfrm>
        </p:grpSpPr>
        <p:grpSp>
          <p:nvGrpSpPr>
            <p:cNvPr id="82" name="図形グループ 26"/>
            <p:cNvGrpSpPr/>
            <p:nvPr/>
          </p:nvGrpSpPr>
          <p:grpSpPr>
            <a:xfrm>
              <a:off x="76320" y="838080"/>
              <a:ext cx="8991360" cy="4114800"/>
              <a:chOff x="76320" y="838080"/>
              <a:chExt cx="8991360" cy="4114800"/>
            </a:xfrm>
          </p:grpSpPr>
          <p:pic>
            <p:nvPicPr>
              <p:cNvPr id="83" name="図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3291480" y="906840"/>
                <a:ext cx="2897280" cy="404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図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6179760" y="929880"/>
                <a:ext cx="2887920" cy="40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図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76320" y="838080"/>
                <a:ext cx="3215160" cy="411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TextBox 19"/>
            <p:cNvSpPr/>
            <p:nvPr/>
          </p:nvSpPr>
          <p:spPr>
            <a:xfrm>
              <a:off x="612360" y="1828440"/>
              <a:ext cx="19987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pen: p+p/p+pb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losed: Pb+Pb, Au+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図形グループ 44"/>
          <p:cNvGrpSpPr/>
          <p:nvPr/>
        </p:nvGrpSpPr>
        <p:grpSpPr>
          <a:xfrm>
            <a:off x="495360" y="2273400"/>
            <a:ext cx="7886160" cy="1472760"/>
            <a:chOff x="495360" y="2273400"/>
            <a:chExt cx="7886160" cy="1472760"/>
          </a:xfrm>
        </p:grpSpPr>
        <p:cxnSp>
          <p:nvCxnSpPr>
            <p:cNvPr id="88" name="直線矢印コネクタ 31"/>
            <p:cNvCxnSpPr/>
            <p:nvPr/>
          </p:nvCxnSpPr>
          <p:spPr>
            <a:xfrm flipV="1">
              <a:off x="532800" y="3352680"/>
              <a:ext cx="2057760" cy="38160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ash"/>
              <a:miter/>
              <a:tailEnd len="med" type="arrow" w="med"/>
            </a:ln>
          </p:spPr>
        </p:cxnSp>
        <p:cxnSp>
          <p:nvCxnSpPr>
            <p:cNvPr id="89" name="直線矢印コネクタ 32"/>
            <p:cNvCxnSpPr/>
            <p:nvPr/>
          </p:nvCxnSpPr>
          <p:spPr>
            <a:xfrm flipV="1">
              <a:off x="3504960" y="3123720"/>
              <a:ext cx="1981800" cy="61020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ash"/>
              <a:miter/>
              <a:tailEnd len="med" type="arrow" w="med"/>
            </a:ln>
          </p:spPr>
        </p:cxnSp>
        <p:cxnSp>
          <p:nvCxnSpPr>
            <p:cNvPr id="90" name="直線矢印コネクタ 37"/>
            <p:cNvCxnSpPr/>
            <p:nvPr/>
          </p:nvCxnSpPr>
          <p:spPr>
            <a:xfrm flipV="1">
              <a:off x="6324120" y="2437560"/>
              <a:ext cx="2057760" cy="129636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91" name="フリーフォーム 40"/>
            <p:cNvSpPr/>
            <p:nvPr/>
          </p:nvSpPr>
          <p:spPr>
            <a:xfrm>
              <a:off x="495360" y="3205080"/>
              <a:ext cx="1460520" cy="5410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tailEnd len="med" type="triangle" w="lg"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フリーフォーム 42"/>
            <p:cNvSpPr/>
            <p:nvPr/>
          </p:nvSpPr>
          <p:spPr>
            <a:xfrm>
              <a:off x="3416400" y="2895480"/>
              <a:ext cx="1396800" cy="7491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tailEnd len="med" type="triangle" w="lg"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フリーフォーム 43"/>
            <p:cNvSpPr/>
            <p:nvPr/>
          </p:nvSpPr>
          <p:spPr>
            <a:xfrm>
              <a:off x="6273720" y="2273400"/>
              <a:ext cx="1447560" cy="12574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tailEnd len="med" type="triangle" w="lg"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図形グループ 22"/>
          <p:cNvGrpSpPr/>
          <p:nvPr/>
        </p:nvGrpSpPr>
        <p:grpSpPr>
          <a:xfrm>
            <a:off x="152280" y="609480"/>
            <a:ext cx="8991720" cy="4648320"/>
            <a:chOff x="152280" y="609480"/>
            <a:chExt cx="8991720" cy="4648320"/>
          </a:xfrm>
        </p:grpSpPr>
        <p:pic>
          <p:nvPicPr>
            <p:cNvPr id="95" name="図 15" descr="mt_piKpL_pp200.gif"/>
            <p:cNvPicPr/>
            <p:nvPr/>
          </p:nvPicPr>
          <p:blipFill>
            <a:blip r:embed="rId1"/>
            <a:stretch/>
          </p:blipFill>
          <p:spPr>
            <a:xfrm>
              <a:off x="152280" y="609480"/>
              <a:ext cx="4572000" cy="46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図 17" descr="mt_piKpL_pp62.gif"/>
            <p:cNvPicPr/>
            <p:nvPr/>
          </p:nvPicPr>
          <p:blipFill>
            <a:blip r:embed="rId2"/>
            <a:stretch/>
          </p:blipFill>
          <p:spPr>
            <a:xfrm>
              <a:off x="4572000" y="609480"/>
              <a:ext cx="4572000" cy="464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Box 29"/>
          <p:cNvSpPr/>
          <p:nvPr/>
        </p:nvSpPr>
        <p:spPr>
          <a:xfrm>
            <a:off x="585000" y="5353200"/>
            <a:ext cx="7986600" cy="1266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aling in yield is roughly applicable within an order of magn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scaling arbitrarily at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 1-1.5 GeV, the spectra are split into meson and bar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s. The harder meson spectra indicate that meson production require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quark pair in fragmentation, while baryon production requires a diquark p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図形グループ 12"/>
          <p:cNvGrpSpPr/>
          <p:nvPr/>
        </p:nvGrpSpPr>
        <p:grpSpPr>
          <a:xfrm>
            <a:off x="152280" y="609480"/>
            <a:ext cx="8991720" cy="4648320"/>
            <a:chOff x="152280" y="609480"/>
            <a:chExt cx="8991720" cy="4648320"/>
          </a:xfrm>
        </p:grpSpPr>
        <p:grpSp>
          <p:nvGrpSpPr>
            <p:cNvPr id="99" name="図形グループ 23"/>
            <p:cNvGrpSpPr/>
            <p:nvPr/>
          </p:nvGrpSpPr>
          <p:grpSpPr>
            <a:xfrm>
              <a:off x="152280" y="609480"/>
              <a:ext cx="8991720" cy="4648320"/>
              <a:chOff x="152280" y="609480"/>
              <a:chExt cx="8991720" cy="4648320"/>
            </a:xfrm>
          </p:grpSpPr>
          <p:pic>
            <p:nvPicPr>
              <p:cNvPr id="100" name="図 19" descr="mt_scaled_piKpL_pp200.gif"/>
              <p:cNvPicPr/>
              <p:nvPr/>
            </p:nvPicPr>
            <p:blipFill>
              <a:blip r:embed="rId3"/>
              <a:stretch/>
            </p:blipFill>
            <p:spPr>
              <a:xfrm>
                <a:off x="152280" y="609480"/>
                <a:ext cx="4572000" cy="464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図 20" descr="mt_scaled_piKpL_pp62.gif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609480"/>
                <a:ext cx="4572000" cy="464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" name="TextBox 10"/>
            <p:cNvSpPr/>
            <p:nvPr/>
          </p:nvSpPr>
          <p:spPr>
            <a:xfrm>
              <a:off x="2595240" y="2590560"/>
              <a:ext cx="9108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es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1"/>
            <p:cNvSpPr/>
            <p:nvPr/>
          </p:nvSpPr>
          <p:spPr>
            <a:xfrm>
              <a:off x="1072440" y="3276720"/>
              <a:ext cx="9291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ary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スライド番号プレースホルダ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6CCA7-74DC-43B6-95B2-7094362676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ryon-meson difference in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ect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ryon/Meson Rat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図形グループ 11"/>
          <p:cNvGrpSpPr/>
          <p:nvPr/>
        </p:nvGrpSpPr>
        <p:grpSpPr>
          <a:xfrm>
            <a:off x="0" y="762120"/>
            <a:ext cx="9144000" cy="4114800"/>
            <a:chOff x="0" y="762120"/>
            <a:chExt cx="9144000" cy="4114800"/>
          </a:xfrm>
        </p:grpSpPr>
        <p:pic>
          <p:nvPicPr>
            <p:cNvPr id="108" name="図 9" descr="pbarpi_vs_pt_pp_phenix.gif"/>
            <p:cNvPicPr/>
            <p:nvPr/>
          </p:nvPicPr>
          <p:blipFill>
            <a:blip r:embed="rId1"/>
            <a:stretch/>
          </p:blipFill>
          <p:spPr>
            <a:xfrm>
              <a:off x="0" y="762120"/>
              <a:ext cx="472428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図 10" descr="LK_vs_pt_pp_star.gif"/>
            <p:cNvPicPr/>
            <p:nvPr/>
          </p:nvPicPr>
          <p:blipFill>
            <a:blip r:embed="rId2"/>
            <a:stretch/>
          </p:blipFill>
          <p:spPr>
            <a:xfrm>
              <a:off x="4419720" y="762120"/>
              <a:ext cx="4724280" cy="411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図形グループ 14"/>
          <p:cNvGrpSpPr/>
          <p:nvPr/>
        </p:nvGrpSpPr>
        <p:grpSpPr>
          <a:xfrm>
            <a:off x="0" y="762120"/>
            <a:ext cx="9144000" cy="4114800"/>
            <a:chOff x="0" y="762120"/>
            <a:chExt cx="9144000" cy="4114800"/>
          </a:xfrm>
        </p:grpSpPr>
        <p:pic>
          <p:nvPicPr>
            <p:cNvPr id="111" name="図 12" descr="pbarpi_vs_pt_pp.gif"/>
            <p:cNvPicPr/>
            <p:nvPr/>
          </p:nvPicPr>
          <p:blipFill>
            <a:blip r:embed="rId3"/>
            <a:stretch/>
          </p:blipFill>
          <p:spPr>
            <a:xfrm>
              <a:off x="0" y="762120"/>
              <a:ext cx="472428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図 13" descr="LK_vs_pt_pp.gif"/>
            <p:cNvPicPr/>
            <p:nvPr/>
          </p:nvPicPr>
          <p:blipFill>
            <a:blip r:embed="rId4"/>
            <a:stretch/>
          </p:blipFill>
          <p:spPr>
            <a:xfrm>
              <a:off x="4419720" y="762120"/>
              <a:ext cx="472428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Box 25"/>
          <p:cNvSpPr/>
          <p:nvPr/>
        </p:nvSpPr>
        <p:spPr>
          <a:xfrm>
            <a:off x="234000" y="5305320"/>
            <a:ext cx="877896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ryon/meson ratios increase with collision energy even in p+p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Λ/K ratios at high energies are surprisingly high as in heavy ion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ould be due to NLO contribution, bulk effect such as coalescence, and so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measure particle ratios in p+p at LHC energy (√s = 14 TeV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606680" y="4800600"/>
                <a:ext cx="5270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TextBox 27"/>
          <p:cNvSpPr/>
          <p:nvPr/>
        </p:nvSpPr>
        <p:spPr>
          <a:xfrm>
            <a:off x="2127600" y="4781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95840" y="4840200"/>
                <a:ext cx="12304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L</m:t>
                        </m:r>
                      </m:e>
                    </m:ba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Box 28"/>
          <p:cNvSpPr/>
          <p:nvPr/>
        </p:nvSpPr>
        <p:spPr>
          <a:xfrm>
            <a:off x="6775560" y="4781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スライド番号プレースホルダ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D5A6C-CE8F-4D73-82C4-4C0B7B84FA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図形グループ 20"/>
          <p:cNvGrpSpPr/>
          <p:nvPr/>
        </p:nvGrpSpPr>
        <p:grpSpPr>
          <a:xfrm>
            <a:off x="0" y="762120"/>
            <a:ext cx="9144000" cy="4114800"/>
            <a:chOff x="0" y="762120"/>
            <a:chExt cx="9144000" cy="4114800"/>
          </a:xfrm>
        </p:grpSpPr>
        <p:grpSp>
          <p:nvGrpSpPr>
            <p:cNvPr id="120" name="図形グループ 24"/>
            <p:cNvGrpSpPr/>
            <p:nvPr/>
          </p:nvGrpSpPr>
          <p:grpSpPr>
            <a:xfrm>
              <a:off x="0" y="762120"/>
              <a:ext cx="9144000" cy="4114800"/>
              <a:chOff x="0" y="762120"/>
              <a:chExt cx="9144000" cy="4114800"/>
            </a:xfrm>
          </p:grpSpPr>
          <p:pic>
            <p:nvPicPr>
              <p:cNvPr id="121" name="図 16" descr="pbarpi_vs_pt_pp_AA.gif"/>
              <p:cNvPicPr/>
              <p:nvPr/>
            </p:nvPicPr>
            <p:blipFill>
              <a:blip r:embed="rId5"/>
              <a:stretch/>
            </p:blipFill>
            <p:spPr>
              <a:xfrm>
                <a:off x="0" y="762120"/>
                <a:ext cx="4724280" cy="411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図 18" descr="LK_vs_pt_pp_AA.gif"/>
              <p:cNvPicPr/>
              <p:nvPr/>
            </p:nvPicPr>
            <p:blipFill>
              <a:blip r:embed="rId6"/>
              <a:stretch/>
            </p:blipFill>
            <p:spPr>
              <a:xfrm>
                <a:off x="4419720" y="762120"/>
                <a:ext cx="4724280" cy="411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" name="TextBox 19"/>
            <p:cNvSpPr/>
            <p:nvPr/>
          </p:nvSpPr>
          <p:spPr>
            <a:xfrm>
              <a:off x="696960" y="1295280"/>
              <a:ext cx="17092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pen: p+p/p+pb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losed: Au+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図 15" descr="pi0_phenix_pp200.jpg"/>
          <p:cNvPicPr/>
          <p:nvPr/>
        </p:nvPicPr>
        <p:blipFill>
          <a:blip r:embed="rId1"/>
          <a:stretch/>
        </p:blipFill>
        <p:spPr>
          <a:xfrm>
            <a:off x="76320" y="893880"/>
            <a:ext cx="4332240" cy="4819680"/>
          </a:xfrm>
          <a:prstGeom prst="rect">
            <a:avLst/>
          </a:prstGeom>
          <a:ln w="0">
            <a:noFill/>
          </a:ln>
        </p:spPr>
      </p:pic>
      <p:pic>
        <p:nvPicPr>
          <p:cNvPr id="125" name="図 17" descr="pi0_phenix_pp62.jpg"/>
          <p:cNvPicPr/>
          <p:nvPr/>
        </p:nvPicPr>
        <p:blipFill>
          <a:blip r:embed="rId2"/>
          <a:stretch/>
        </p:blipFill>
        <p:spPr>
          <a:xfrm>
            <a:off x="4332240" y="609480"/>
            <a:ext cx="4811760" cy="49532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9"/>
          <p:cNvSpPr/>
          <p:nvPr/>
        </p:nvSpPr>
        <p:spPr>
          <a:xfrm>
            <a:off x="846720" y="5997600"/>
            <a:ext cx="7335720" cy="74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π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tra are described over a wi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ange with pQCD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experimental and theoretical uncertaint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gh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ectra - pQCD descri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1762920" y="54658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+p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6105960" y="54658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+p 62.4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スライド番号プレースホル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64B48-A45B-42EA-9163-67328C2BB2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2601360" y="73980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D76(2007)051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caling in p+p Colli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図 14" descr="xt_charged.gif"/>
          <p:cNvPicPr/>
          <p:nvPr/>
        </p:nvPicPr>
        <p:blipFill>
          <a:blip r:embed="rId1"/>
          <a:stretch/>
        </p:blipFill>
        <p:spPr>
          <a:xfrm>
            <a:off x="5334120" y="3541680"/>
            <a:ext cx="3886200" cy="3276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6"/>
          <p:cNvSpPr/>
          <p:nvPr/>
        </p:nvSpPr>
        <p:spPr>
          <a:xfrm>
            <a:off x="85320" y="141768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ariant cross section for single-particle in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ction is given by the general scaling formu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30080" y="2160720"/>
                <a:ext cx="1632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303720" y="2313000"/>
                <a:ext cx="12682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TextBox 18"/>
          <p:cNvSpPr/>
          <p:nvPr/>
        </p:nvSpPr>
        <p:spPr>
          <a:xfrm>
            <a:off x="2441160" y="23241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98280" y="3800520"/>
            <a:ext cx="52423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n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√s) equals 4 in lowest order calculations 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ED. Measured values of n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√s) in p+p collision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range from 5 to 8 due to higher ord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ata points deviate from th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a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2 GeV/c, which is interpreted as a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hard to soft processes in particle produ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1"/>
          <p:cNvSpPr/>
          <p:nvPr/>
        </p:nvSpPr>
        <p:spPr>
          <a:xfrm>
            <a:off x="103320" y="2720880"/>
            <a:ext cx="49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sion of QCD into the above equation lea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98400" y="3106800"/>
                <a:ext cx="21700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1" name="図 13" descr="pt_charged.gif"/>
          <p:cNvPicPr/>
          <p:nvPr/>
        </p:nvPicPr>
        <p:blipFill>
          <a:blip r:embed="rId2"/>
          <a:stretch/>
        </p:blipFill>
        <p:spPr>
          <a:xfrm>
            <a:off x="5334120" y="685800"/>
            <a:ext cx="3886200" cy="3084480"/>
          </a:xfrm>
          <a:prstGeom prst="rect">
            <a:avLst/>
          </a:prstGeom>
          <a:ln w="0">
            <a:noFill/>
          </a:ln>
        </p:spPr>
      </p:pic>
      <p:sp>
        <p:nvSpPr>
          <p:cNvPr id="142" name="正方形/長方形 23"/>
          <p:cNvSpPr/>
          <p:nvPr/>
        </p:nvSpPr>
        <p:spPr>
          <a:xfrm>
            <a:off x="88920" y="1417680"/>
            <a:ext cx="5197320" cy="4414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322960"/>
                <a:ext cx="12564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スライド番号プレースホルダ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D46D3-A745-4698-86E7-C9C1E86282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217440" y="5910120"/>
            <a:ext cx="35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f: PL 42B 461(1972), PRD11(1975)11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00:11:57Z</dcterms:created>
  <dc:creator>金野 正裕</dc:creator>
  <dc:description/>
  <dc:language>en-US</dc:language>
  <cp:lastModifiedBy>金野 正裕</cp:lastModifiedBy>
  <dcterms:modified xsi:type="dcterms:W3CDTF">2008-09-25T12:03:30Z</dcterms:modified>
  <cp:revision>895</cp:revision>
  <dc:subject/>
  <dc:title>スライド 1</dc:title>
</cp:coreProperties>
</file>