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10342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413-14BF-49BA-B783-15CEE2CD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3905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7BC-4A64-4372-8835-20CF8F16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3905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3905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52F-2E6B-4082-9A3B-BBC7E527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197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197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3905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3905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3905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520-F222-4484-A91E-4A78608F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5741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3905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E90-4633-4C71-9C34-96C77962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440" y="3905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9280" y="3905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9280" y="3905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9280" y="3905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440" y="3905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9640" y="1197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0000" y="1197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9280" y="3905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9640" y="3905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0000" y="3905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6D5-6A93-4331-ADBB-99A2F5D5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372-636C-491D-8115-22995B5D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21C-C459-40A3-93C2-9362F5EA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5741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E5C-5AB2-4C41-B903-BEE02315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3905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40B-285C-4192-BC11-5F7B6E4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3905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C68-7092-4CBF-A11E-C45D41D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3905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469-D283-494B-84C3-7F4D03E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7520" y="692280"/>
            <a:ext cx="6381720" cy="144360"/>
          </a:xfrm>
          <a:prstGeom prst="rect">
            <a:avLst/>
          </a:prstGeom>
          <a:gradFill rotWithShape="0">
            <a:gsLst>
              <a:gs pos="0">
                <a:srgbClr val="42b3b3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699240" y="851040"/>
            <a:ext cx="2192400" cy="274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699240" y="692280"/>
            <a:ext cx="2193840" cy="144360"/>
          </a:xfrm>
          <a:prstGeom prst="rect">
            <a:avLst/>
          </a:prstGeom>
          <a:gradFill rotWithShape="0">
            <a:gsLst>
              <a:gs pos="0">
                <a:srgbClr val="000606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52000" y="652428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57560" y="652428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8F95-F1DF-4E51-B414-242075C18E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6453360"/>
            <a:ext cx="8642160" cy="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699240" y="907920"/>
            <a:ext cx="2192400" cy="547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3720" y="2133720"/>
            <a:ext cx="5781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83720" y="486900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784080" y="450864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7520" y="404640"/>
            <a:ext cx="6381720" cy="503280"/>
          </a:xfrm>
          <a:prstGeom prst="rect">
            <a:avLst/>
          </a:prstGeom>
          <a:gradFill rotWithShape="0">
            <a:gsLst>
              <a:gs pos="0">
                <a:srgbClr val="42b3b3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99240" y="404640"/>
            <a:ext cx="2193840" cy="503280"/>
          </a:xfrm>
          <a:prstGeom prst="rect">
            <a:avLst/>
          </a:prstGeom>
          <a:gradFill rotWithShape="0">
            <a:gsLst>
              <a:gs pos="0">
                <a:srgbClr val="000606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7520" y="901800"/>
            <a:ext cx="8574120" cy="144360"/>
          </a:xfrm>
          <a:prstGeom prst="rect">
            <a:avLst/>
          </a:prstGeom>
          <a:gradFill rotWithShape="0">
            <a:gsLst>
              <a:gs pos="0">
                <a:srgbClr val="808080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720" y="3213000"/>
            <a:ext cx="61167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6408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Arial Black"/>
              </a:rPr>
              <a:t>High p</a:t>
            </a:r>
            <a:r>
              <a:rPr b="0" lang="ja-JP" sz="2400" spc="-1" strike="noStrike" baseline="-25000">
                <a:solidFill>
                  <a:srgbClr val="008080"/>
                </a:solidFill>
                <a:latin typeface="Arial Black"/>
              </a:rPr>
              <a:t>T</a:t>
            </a:r>
            <a:r>
              <a:rPr b="0" lang="ja-JP" sz="2400" spc="-1" strike="noStrike">
                <a:solidFill>
                  <a:srgbClr val="008080"/>
                </a:solidFill>
                <a:latin typeface="Arial Black"/>
              </a:rPr>
              <a:t> direct photon spectra and azimuthal anisotropy measurements in 200GeV Au+Au collisions </a:t>
            </a:r>
            <a:br>
              <a:rPr sz="2400"/>
            </a:br>
            <a:r>
              <a:rPr b="0" lang="ja-JP" sz="2400" spc="-1" strike="noStrike">
                <a:solidFill>
                  <a:srgbClr val="008080"/>
                </a:solidFill>
                <a:latin typeface="Arial Black"/>
              </a:rPr>
              <a:t>at RHIC-PHENIX </a:t>
            </a:r>
            <a:endParaRPr b="0" lang="en-US" sz="24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76000" y="3429000"/>
            <a:ext cx="374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Arial"/>
              </a:rPr>
              <a:t>Quark-Matt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ja-JP" sz="18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ja-JP" sz="1800" spc="-1" strike="noStrike">
                <a:solidFill>
                  <a:srgbClr val="ff3300"/>
                </a:solidFill>
                <a:latin typeface="Arial"/>
              </a:rPr>
              <a:t> International Conferenc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3300"/>
                </a:solidFill>
                <a:latin typeface="Arial"/>
              </a:rPr>
              <a:t>Nucleus Nucleus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6093000"/>
            <a:ext cx="1366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/08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09320" y="4797360"/>
            <a:ext cx="39679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man Old Style"/>
              </a:rPr>
              <a:t>Kentaro MIKI (Univ. of Tsuku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man Old Style"/>
              </a:rPr>
              <a:t>for the PHENIX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man Old Style"/>
              </a:rPr>
              <a:t>mail to: kentaro@rcf2.rhic.bnl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56360" y="5373720"/>
            <a:ext cx="2743200" cy="895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77080" y="3933720"/>
            <a:ext cx="1890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3-2. Direct photon analysis ~spectra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962160" cy="4391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8560" y="907920"/>
            <a:ext cx="114552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 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0" y="2852640"/>
            <a:ext cx="4321080" cy="3168720"/>
            <a:chOff x="4572000" y="2852640"/>
            <a:chExt cx="4321080" cy="31687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4572000" y="2852640"/>
              <a:ext cx="432108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663960" y="3319920"/>
              <a:ext cx="1689480" cy="405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r>
                <a:rPr b="0" lang="ja-JP" sz="1800" spc="-1" strike="noStrike" baseline="-25000">
                  <a:solidFill>
                    <a:srgbClr val="333399"/>
                  </a:solidFill>
                  <a:latin typeface="Arial"/>
                </a:rPr>
                <a:t>AA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 with pQC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2760" y="5205960"/>
              <a:ext cx="1950120" cy="40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AA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with p+p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876720" y="3672360"/>
              <a:ext cx="65520" cy="352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6226920" y="4869000"/>
              <a:ext cx="6408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rcRect l="17492" t="56674" r="49639" b="28337"/>
          <a:stretch/>
        </p:blipFill>
        <p:spPr>
          <a:xfrm>
            <a:off x="755640" y="5516640"/>
            <a:ext cx="3598920" cy="84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5437080" y="6021360"/>
            <a:ext cx="3495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. Reygers (parallel session 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1125360"/>
            <a:ext cx="475308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: Direc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s equal to 1 below 14GeV/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 suppress/enh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A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less than 1 above 14GeV/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spin eff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C effec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ression of fragmentation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tons?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3-2. Direct photon analysis ~spectra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268560" y="907920"/>
            <a:ext cx="114552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 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0" y="2852640"/>
            <a:ext cx="4321080" cy="3168720"/>
            <a:chOff x="4572000" y="2852640"/>
            <a:chExt cx="4321080" cy="31687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4572000" y="2852640"/>
              <a:ext cx="432108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663960" y="3321360"/>
              <a:ext cx="1689480" cy="405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r>
                <a:rPr b="0" lang="ja-JP" sz="1800" spc="-1" strike="noStrike" baseline="-25000">
                  <a:solidFill>
                    <a:srgbClr val="333399"/>
                  </a:solidFill>
                  <a:latin typeface="Arial"/>
                </a:rPr>
                <a:t>AA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 with pQC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2600" y="5205960"/>
              <a:ext cx="1990440" cy="40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AA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with p+p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876720" y="3672360"/>
              <a:ext cx="65520" cy="352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6226920" y="4869000"/>
              <a:ext cx="6408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2"/>
          <a:srcRect l="17492" t="56674" r="49639" b="28337"/>
          <a:stretch/>
        </p:blipFill>
        <p:spPr>
          <a:xfrm>
            <a:off x="755640" y="5516640"/>
            <a:ext cx="3598920" cy="84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4392720" cy="345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33880" y="1504800"/>
            <a:ext cx="96084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u+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7080" y="6021360"/>
            <a:ext cx="3495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. Reygers (parallel session 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1125360"/>
            <a:ext cx="47163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: Direc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qual to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7 GeV/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photon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Cu+Cu supports simp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caling of hard scattering up to highest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3-3. Direct photon analysis ~spectra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9800" cy="4680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68200" y="907920"/>
            <a:ext cx="1209600" cy="3682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2.4 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4308480" cy="3097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88320" y="1052640"/>
            <a:ext cx="470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un4 Au+Au 62.4 GeV direct phot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rect photon at 62.4 GeV is also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scribed by NLO pQCD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ove 5 GeV/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3213000"/>
            <a:ext cx="287280" cy="237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357720"/>
            <a:ext cx="2160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0" y="3213000"/>
            <a:ext cx="432108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874400" y="2852640"/>
            <a:ext cx="284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62.4 GeV, Au + 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4-1. Direct photon analysis ~v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 Black"/>
              </a:rPr>
              <a:t>2</a:t>
            </a: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50920" y="907920"/>
            <a:ext cx="3960720" cy="1441440"/>
            <a:chOff x="250920" y="907920"/>
            <a:chExt cx="3960720" cy="1441440"/>
          </a:xfrm>
        </p:grpSpPr>
        <p:sp>
          <p:nvSpPr>
            <p:cNvPr id="256" name=""/>
            <p:cNvSpPr/>
            <p:nvPr/>
          </p:nvSpPr>
          <p:spPr>
            <a:xfrm>
              <a:off x="250920" y="907920"/>
              <a:ext cx="3960720" cy="1441440"/>
            </a:xfrm>
            <a:prstGeom prst="rect">
              <a:avLst/>
            </a:prstGeom>
            <a:solidFill>
              <a:srgbClr val="ff9900"/>
            </a:solidFill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280" y="1517760"/>
              <a:ext cx="1295280" cy="71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92360" y="1521000"/>
              <a:ext cx="2448000" cy="718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2520" y="170028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rect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0960" y="1700280"/>
              <a:ext cx="22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Hadron decay</a:t>
              </a: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　</a:t>
              </a:r>
              <a:r>
                <a:rPr b="1" lang="ja-JP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5280" y="9810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clusiv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52440" y="2205000"/>
            <a:ext cx="2347920" cy="965160"/>
            <a:chOff x="352440" y="2205000"/>
            <a:chExt cx="2347920" cy="965160"/>
          </a:xfrm>
        </p:grpSpPr>
        <p:sp>
          <p:nvSpPr>
            <p:cNvPr id="263" name=""/>
            <p:cNvSpPr/>
            <p:nvPr/>
          </p:nvSpPr>
          <p:spPr>
            <a:xfrm>
              <a:off x="352440" y="2205000"/>
              <a:ext cx="0" cy="9367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19280" y="2233440"/>
              <a:ext cx="1081080" cy="9367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24000" y="3184560"/>
            <a:ext cx="2376360" cy="2881440"/>
            <a:chOff x="324000" y="3184560"/>
            <a:chExt cx="2376360" cy="2881440"/>
          </a:xfrm>
        </p:grpSpPr>
        <p:sp>
          <p:nvSpPr>
            <p:cNvPr id="266" name=""/>
            <p:cNvSpPr/>
            <p:nvPr/>
          </p:nvSpPr>
          <p:spPr>
            <a:xfrm>
              <a:off x="324000" y="3184560"/>
              <a:ext cx="2376360" cy="288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9640" y="340056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880" y="347184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ard sc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9640" y="404820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7240" y="412128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Jet Bre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9640" y="469584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440" y="476892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et 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9640" y="534528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8360" y="541656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sQG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640680" y="4437000"/>
            <a:ext cx="51260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sensitive to the initial geomet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verlap zone and pressure gradi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refore, direct phot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consider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pend on the production processes of phot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284720" y="907920"/>
            <a:ext cx="4680000" cy="3097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284720" y="907920"/>
            <a:ext cx="4680000" cy="3097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4-1. Direct photon analysis ~v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 Black"/>
              </a:rPr>
              <a:t>2</a:t>
            </a: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50920" y="907920"/>
            <a:ext cx="3960720" cy="1441440"/>
            <a:chOff x="250920" y="907920"/>
            <a:chExt cx="3960720" cy="1441440"/>
          </a:xfrm>
        </p:grpSpPr>
        <p:sp>
          <p:nvSpPr>
            <p:cNvPr id="281" name=""/>
            <p:cNvSpPr/>
            <p:nvPr/>
          </p:nvSpPr>
          <p:spPr>
            <a:xfrm>
              <a:off x="250920" y="907920"/>
              <a:ext cx="3960720" cy="1441440"/>
            </a:xfrm>
            <a:prstGeom prst="rect">
              <a:avLst/>
            </a:prstGeom>
            <a:solidFill>
              <a:srgbClr val="ff9900"/>
            </a:solidFill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1280" y="1517760"/>
              <a:ext cx="1295280" cy="71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92360" y="1521000"/>
              <a:ext cx="2448000" cy="718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2520" y="170028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rect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30960" y="1700280"/>
              <a:ext cx="22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Hadron decay</a:t>
              </a: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　</a:t>
              </a:r>
              <a:r>
                <a:rPr b="1" lang="ja-JP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280" y="9810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clusiv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4000" y="3184560"/>
            <a:ext cx="2376360" cy="2881440"/>
            <a:chOff x="324000" y="3184560"/>
            <a:chExt cx="2376360" cy="2881440"/>
          </a:xfrm>
        </p:grpSpPr>
        <p:sp>
          <p:nvSpPr>
            <p:cNvPr id="288" name=""/>
            <p:cNvSpPr/>
            <p:nvPr/>
          </p:nvSpPr>
          <p:spPr>
            <a:xfrm>
              <a:off x="324000" y="3184560"/>
              <a:ext cx="2376360" cy="288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9640" y="340056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6880" y="347184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ard sc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9640" y="404820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7240" y="412128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Jet Bre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640" y="469584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3440" y="476892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et 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640" y="534528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8360" y="541656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sQQ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440400" y="4132440"/>
            <a:ext cx="641520" cy="1573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1585400">
            <a:off x="6152760" y="4564080"/>
            <a:ext cx="498600" cy="277920"/>
          </a:xfrm>
          <a:custGeom>
            <a:avLst/>
            <a:gdLst>
              <a:gd name="textAreaLeft" fmla="*/ 62280 w 498600"/>
              <a:gd name="textAreaRight" fmla="*/ 436320 w 498600"/>
              <a:gd name="textAreaTop" fmla="*/ 69480 h 277920"/>
              <a:gd name="textAreaBottom" fmla="*/ 2084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5558600">
            <a:off x="6422040" y="4366080"/>
            <a:ext cx="647640" cy="179280"/>
          </a:xfrm>
          <a:custGeom>
            <a:avLst/>
            <a:gdLst>
              <a:gd name="textAreaLeft" fmla="*/ 81000 w 647640"/>
              <a:gd name="textAreaRight" fmla="*/ 567000 w 647640"/>
              <a:gd name="textAreaTop" fmla="*/ 44640 h 179280"/>
              <a:gd name="textAreaBottom" fmla="*/ 134640 h 179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89200">
            <a:off x="6800400" y="4995720"/>
            <a:ext cx="498600" cy="279720"/>
          </a:xfrm>
          <a:custGeom>
            <a:avLst/>
            <a:gdLst>
              <a:gd name="textAreaLeft" fmla="*/ 62280 w 498600"/>
              <a:gd name="textAreaRight" fmla="*/ 436320 w 498600"/>
              <a:gd name="textAreaTop" fmla="*/ 69840 h 279720"/>
              <a:gd name="textAreaBottom" fmla="*/ 209880 h 27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4521600">
            <a:off x="6422400" y="5301360"/>
            <a:ext cx="647640" cy="179280"/>
          </a:xfrm>
          <a:custGeom>
            <a:avLst/>
            <a:gdLst>
              <a:gd name="textAreaLeft" fmla="*/ 81000 w 647640"/>
              <a:gd name="textAreaRight" fmla="*/ 567000 w 647640"/>
              <a:gd name="textAreaTop" fmla="*/ 44640 h 179280"/>
              <a:gd name="textAreaBottom" fmla="*/ 134640 h 179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9351000">
            <a:off x="5792760" y="4778640"/>
            <a:ext cx="534960" cy="137880"/>
          </a:xfrm>
          <a:custGeom>
            <a:avLst/>
            <a:gdLst>
              <a:gd name="textAreaLeft" fmla="*/ 83520 w 534960"/>
              <a:gd name="textAreaRight" fmla="*/ 468360 w 534960"/>
              <a:gd name="textAreaTop" fmla="*/ 34200 h 137880"/>
              <a:gd name="textAreaBottom" fmla="*/ 103320 h 137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 rot="5439600">
            <a:off x="6363360" y="5648400"/>
            <a:ext cx="693720" cy="108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27000 h 108000"/>
              <a:gd name="textAreaBottom" fmla="*/ 81000 h 10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 rot="20870400">
            <a:off x="7161120" y="4995720"/>
            <a:ext cx="534960" cy="139680"/>
          </a:xfrm>
          <a:custGeom>
            <a:avLst/>
            <a:gdLst>
              <a:gd name="textAreaLeft" fmla="*/ 83520 w 534960"/>
              <a:gd name="textAreaRight" fmla="*/ 468360 w 534960"/>
              <a:gd name="textAreaTop" fmla="*/ 34920 h 139680"/>
              <a:gd name="textAreaBottom" fmla="*/ 104760 h 139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 rot="16859400">
            <a:off x="6507360" y="4136760"/>
            <a:ext cx="693720" cy="106200"/>
          </a:xfrm>
          <a:custGeom>
            <a:avLst/>
            <a:gdLst>
              <a:gd name="textAreaLeft" fmla="*/ 108360 w 693720"/>
              <a:gd name="textAreaRight" fmla="*/ 607320 w 693720"/>
              <a:gd name="textAreaTop" fmla="*/ 26280 h 106200"/>
              <a:gd name="textAreaBottom" fmla="*/ 79560 h 10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720" y="4365720"/>
            <a:ext cx="159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P明朝B"/>
              </a:rPr>
              <a:t>annihi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P明朝B"/>
              </a:rPr>
              <a:t>compto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5120" y="5643720"/>
            <a:ext cx="13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P明朝B"/>
              </a:rPr>
              <a:t>Bremsstrah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P明朝B"/>
              </a:rPr>
              <a:t>(energy lo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4400" y="5140440"/>
            <a:ext cx="360360" cy="712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02520" y="506736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ff33cc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 &g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1960" y="571644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ff33cc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 &l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0760" y="5859360"/>
            <a:ext cx="505080" cy="1447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4000" y="3184560"/>
            <a:ext cx="3456000" cy="2881440"/>
            <a:chOff x="324000" y="3184560"/>
            <a:chExt cx="3456000" cy="2881440"/>
          </a:xfrm>
        </p:grpSpPr>
        <p:sp>
          <p:nvSpPr>
            <p:cNvPr id="313" name=""/>
            <p:cNvSpPr/>
            <p:nvPr/>
          </p:nvSpPr>
          <p:spPr>
            <a:xfrm>
              <a:off x="324000" y="3184560"/>
              <a:ext cx="3456000" cy="288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9640" y="340056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6880" y="347184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ard sc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9640" y="404820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240" y="412128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Jet Bre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640" y="4695840"/>
              <a:ext cx="1944720" cy="50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3440" y="476892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et 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9640" y="5345280"/>
              <a:ext cx="1944720" cy="504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8360" y="541656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sQG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6000" y="3400560"/>
              <a:ext cx="1152360" cy="503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06840" y="3471840"/>
              <a:ext cx="83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=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56000" y="4048200"/>
              <a:ext cx="1152360" cy="50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06840" y="4121280"/>
              <a:ext cx="83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&lt;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56000" y="4695840"/>
              <a:ext cx="1152360" cy="503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06840" y="4768920"/>
              <a:ext cx="83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&gt;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56000" y="5345280"/>
              <a:ext cx="1152360" cy="503280"/>
            </a:xfrm>
            <a:prstGeom prst="ellips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2880" y="5416560"/>
              <a:ext cx="82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≥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587120" y="3860640"/>
            <a:ext cx="105552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4-2. Run4 Result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95280" y="2276640"/>
                <a:ext cx="32400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n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oton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971640" y="2852640"/>
                <a:ext cx="1727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8785440" cy="30859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85400" y="836640"/>
            <a:ext cx="46947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Direct photon v</a:t>
            </a:r>
            <a:r>
              <a:rPr b="1" lang="ja-JP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 at 200GeV Au+Au (Run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ove to 4GeV/c, equal to 0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3 to 4 GeV/c region is Non-zero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entrality dependence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364000" y="907920"/>
            <a:ext cx="3527640" cy="2449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4-3. Compared with predictions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40" name=""/>
          <p:cNvSpPr/>
          <p:nvPr/>
        </p:nvSpPr>
        <p:spPr>
          <a:xfrm>
            <a:off x="1621440" y="5445000"/>
            <a:ext cx="301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R. Chatterjee (poster 80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50920" y="5084640"/>
            <a:ext cx="255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302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1268280"/>
            <a:ext cx="3529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ydrodynamics with a thermal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t early times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dronization and decoup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8396" r="7822" b="0"/>
          <a:stretch/>
        </p:blipFill>
        <p:spPr>
          <a:xfrm>
            <a:off x="179280" y="2060640"/>
            <a:ext cx="4464000" cy="3081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96200" y="907920"/>
            <a:ext cx="23601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upa et al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0" t="5906" r="7067" b="0"/>
          <a:stretch/>
        </p:blipFill>
        <p:spPr>
          <a:xfrm>
            <a:off x="4572000" y="1989000"/>
            <a:ext cx="4392720" cy="3095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4-3. Compared with predictions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48" name=""/>
          <p:cNvSpPr/>
          <p:nvPr/>
        </p:nvSpPr>
        <p:spPr>
          <a:xfrm>
            <a:off x="6736320" y="5084640"/>
            <a:ext cx="2145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Xiv:0712.0732v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21440" y="5445000"/>
            <a:ext cx="301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R. Chatterjee (poster 80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0920" y="5084640"/>
            <a:ext cx="255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302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26920" y="1268280"/>
            <a:ext cx="3529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ydrodynamic with a thermal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t early times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dronization and decoup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0" t="8396" r="7822" b="0"/>
          <a:stretch/>
        </p:blipFill>
        <p:spPr>
          <a:xfrm>
            <a:off x="179280" y="2060640"/>
            <a:ext cx="4464000" cy="3081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96200" y="907920"/>
            <a:ext cx="23601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upa et al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60560" y="907920"/>
            <a:ext cx="256284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uibide et al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8360" y="126828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D+1 hydrodynamical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veral different sources are conside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60560" y="5950080"/>
            <a:ext cx="420120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to theoretical calculation …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5-1. How to update?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191200" cy="36576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085360" y="1268280"/>
            <a:ext cx="333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un4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error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5-1. How to update?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85360" y="1268280"/>
            <a:ext cx="333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un4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error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78880" y="1916280"/>
            <a:ext cx="2948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Low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- thermal photon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irtual gamm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81800" y="2852640"/>
            <a:ext cx="3234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T. Dahms, (parallel talk X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191200" cy="3657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908000" y="1268280"/>
            <a:ext cx="2953080" cy="2952720"/>
          </a:xfrm>
          <a:prstGeom prst="rect">
            <a:avLst/>
          </a:prstGeom>
          <a:solidFill>
            <a:srgbClr val="c0c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1-1. Introduction ~Photons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184680" y="836640"/>
            <a:ext cx="65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s are emitted from several stage of heavy ion collision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268280"/>
            <a:ext cx="1656000" cy="1584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421000"/>
            <a:ext cx="2160720" cy="208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34555" t="0" r="41161" b="0"/>
          <a:stretch/>
        </p:blipFill>
        <p:spPr>
          <a:xfrm>
            <a:off x="179280" y="1413000"/>
            <a:ext cx="592200" cy="1352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41160" t="0" r="34556" b="0"/>
          <a:stretch/>
        </p:blipFill>
        <p:spPr>
          <a:xfrm>
            <a:off x="1187280" y="1413000"/>
            <a:ext cx="5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2958" t="26840" r="40713" b="41406"/>
          <a:stretch/>
        </p:blipFill>
        <p:spPr>
          <a:xfrm>
            <a:off x="2268360" y="2781360"/>
            <a:ext cx="648000" cy="115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31811" t="0" r="48876" b="0"/>
          <a:stretch/>
        </p:blipFill>
        <p:spPr>
          <a:xfrm>
            <a:off x="1619280" y="2997360"/>
            <a:ext cx="52704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3418" t="6990" r="80385" b="5476"/>
          <a:stretch/>
        </p:blipFill>
        <p:spPr>
          <a:xfrm>
            <a:off x="2916360" y="2421000"/>
            <a:ext cx="51912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1916280"/>
            <a:ext cx="3168720" cy="1584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35280" y="1916280"/>
            <a:ext cx="2952720" cy="1657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4437000"/>
            <a:ext cx="2089080" cy="1008000"/>
          </a:xfrm>
          <a:prstGeom prst="cloudCallout">
            <a:avLst>
              <a:gd name="adj1" fmla="val 4101"/>
              <a:gd name="adj2" fmla="val -11944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6880" y="4724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 sca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1197000"/>
            <a:ext cx="2089080" cy="1008000"/>
          </a:xfrm>
          <a:prstGeom prst="cloudCallout">
            <a:avLst>
              <a:gd name="adj1" fmla="val -11930"/>
              <a:gd name="adj2" fmla="val 6952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9080" y="14842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QGP Therm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300640"/>
            <a:ext cx="2089080" cy="1008000"/>
          </a:xfrm>
          <a:prstGeom prst="cloudCallout">
            <a:avLst>
              <a:gd name="adj1" fmla="val 23935"/>
              <a:gd name="adj2" fmla="val -13299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6520" y="5589720"/>
            <a:ext cx="14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Jet Brems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4508640"/>
            <a:ext cx="2089080" cy="1008000"/>
          </a:xfrm>
          <a:prstGeom prst="cloudCallout">
            <a:avLst>
              <a:gd name="adj1" fmla="val -14819"/>
              <a:gd name="adj2" fmla="val -9693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5440" y="465300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g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060640"/>
            <a:ext cx="2089080" cy="1008000"/>
          </a:xfrm>
          <a:prstGeom prst="cloudCallout">
            <a:avLst>
              <a:gd name="adj1" fmla="val -60712"/>
              <a:gd name="adj2" fmla="val 2527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22160" y="2349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Hadron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5-1. How to update?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5085360" y="1268280"/>
            <a:ext cx="333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un4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error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78880" y="1916280"/>
            <a:ext cx="2948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Low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- thermal photon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irtual gamm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81800" y="2852640"/>
            <a:ext cx="3234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T. Dahms, (parallel talk X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30000" y="3305160"/>
            <a:ext cx="29224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- more statis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- Run 7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- improvem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vent plane resolu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- New det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79280" y="907920"/>
            <a:ext cx="5191200" cy="3657600"/>
            <a:chOff x="179280" y="907920"/>
            <a:chExt cx="5191200" cy="3657600"/>
          </a:xfrm>
        </p:grpSpPr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179280" y="907920"/>
              <a:ext cx="5191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84000" y="1268280"/>
              <a:ext cx="1295280" cy="2952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5-2. Reaction plane detector (RXNP)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5941800" y="5950080"/>
            <a:ext cx="2638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Y. Ikeda, (poster 12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4520" y="4869000"/>
            <a:ext cx="35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NP has twice better re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BB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9760" y="98100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7 has new detector for reaction plane defin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816360" cy="28814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824360" cy="336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5-3. </a:t>
            </a:r>
            <a:r>
              <a:rPr b="1" lang="en-US" sz="2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8080"/>
                </a:solidFill>
                <a:latin typeface="Arial Black"/>
              </a:rPr>
              <a:t>0</a:t>
            </a: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 v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 Black"/>
              </a:rPr>
              <a:t>2</a:t>
            </a: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 Run7 with RXNP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785440" cy="3543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725800" y="5661000"/>
            <a:ext cx="29178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R. Wei, (poster 1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Y. Aramaki, (poster 14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2720" y="836640"/>
            <a:ext cx="48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8 B events col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ood agreement with Run4 Prelimin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ood accuracy up to 10 GeV/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re data to analyze =&gt;  up to 13 or 16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5-4. compared with …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3440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01960" y="907920"/>
            <a:ext cx="3652200" cy="40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inclusive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un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3280" y="4581360"/>
            <a:ext cx="413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e can see the same (or les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tatistical uncertainty even inclusive pho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un7 allows us more detail compari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etween hadron decay photo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sive pho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4537080" cy="35146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5-4. compared with …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248360" cy="3440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01960" y="907920"/>
            <a:ext cx="3652200" cy="40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inclusive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un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65960" y="1917720"/>
            <a:ext cx="3614040" cy="40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th charged hadr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un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3280" y="4581360"/>
            <a:ext cx="413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e can see the same (or les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tatistical uncertainty even inclusive pho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un7 allows us more detail compari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etween hadron decay photo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sive pho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0800" y="5589720"/>
            <a:ext cx="343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ood agreement to charged pion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6520" y="5950080"/>
            <a:ext cx="3170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. Huang, (parallel talk X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6. Summary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981000"/>
            <a:ext cx="74880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Direct photon is one of the interesting measur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s penetrating probe for initial hot and dense m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The photon excess ratio is measured in 200 GeV and 62.4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 The invariant yield is well described by NLO pQC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. Direct phot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measured in Run4, with large error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&gt; consistent with theoretical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. Run7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measured as a function of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&gt; Run7 allows us more detail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hoton study at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n a near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Thank you for all collaborato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148360" y="3645000"/>
            <a:ext cx="3779640" cy="2716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853488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Ex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3635640" y="285264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Ex. 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4067280" cy="287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rcRect l="0" t="7500" r="6172" b="0"/>
          <a:stretch/>
        </p:blipFill>
        <p:spPr>
          <a:xfrm>
            <a:off x="179280" y="981000"/>
            <a:ext cx="4392720" cy="266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4643280" y="3716280"/>
            <a:ext cx="4308480" cy="2665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403280" y="1700280"/>
            <a:ext cx="1008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08720" y="1773360"/>
            <a:ext cx="100800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19640" y="3716280"/>
            <a:ext cx="1513080" cy="151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403280" y="3716280"/>
            <a:ext cx="216000" cy="100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619280" y="3860280"/>
            <a:ext cx="237636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268360" y="4508640"/>
            <a:ext cx="1872000" cy="28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2520" y="4869000"/>
            <a:ext cx="46033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the 2~4 GeV/c reg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Enhancement of direct photon in Au+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Direct phot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ight be non-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&gt; There is other components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Ex. Decay photon and inc. photon (run 4)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348000" cy="23893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132000" y="2349360"/>
            <a:ext cx="5832720" cy="40323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0640" y="853920"/>
            <a:ext cx="261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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s EXODU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079960" y="2349360"/>
            <a:ext cx="37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ay photon and inc. photon v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23960" y="1052640"/>
            <a:ext cx="37360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latest Dave’s analys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rder to define the EXODUS inp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ting 1 function below 4GeV/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fitting point to point above 4GeV/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2440" y="3789360"/>
            <a:ext cx="286308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decay phot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onte Car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bar is propagated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. and sys. error to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ton as sys.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plot, assumed the K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fo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Ex. pi0 v2 in Run4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4007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1-1. Introduction ~Photons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184680" y="836640"/>
            <a:ext cx="65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s are emitted from several stage of heavy ion collision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8440" y="6021360"/>
            <a:ext cx="57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rect photons are not suppressed in Au+Au colli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268280"/>
            <a:ext cx="1656000" cy="1584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2421000"/>
            <a:ext cx="2160720" cy="208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34555" t="0" r="41161" b="0"/>
          <a:stretch/>
        </p:blipFill>
        <p:spPr>
          <a:xfrm>
            <a:off x="179280" y="1413000"/>
            <a:ext cx="592200" cy="1352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41160" t="0" r="34556" b="0"/>
          <a:stretch/>
        </p:blipFill>
        <p:spPr>
          <a:xfrm>
            <a:off x="1187280" y="1413000"/>
            <a:ext cx="5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2958" t="26840" r="40713" b="41406"/>
          <a:stretch/>
        </p:blipFill>
        <p:spPr>
          <a:xfrm>
            <a:off x="2268360" y="2781360"/>
            <a:ext cx="648000" cy="115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rcRect l="31811" t="0" r="48876" b="0"/>
          <a:stretch/>
        </p:blipFill>
        <p:spPr>
          <a:xfrm>
            <a:off x="1619280" y="2997360"/>
            <a:ext cx="5270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3418" t="6990" r="80385" b="5476"/>
          <a:stretch/>
        </p:blipFill>
        <p:spPr>
          <a:xfrm>
            <a:off x="2916360" y="2421000"/>
            <a:ext cx="51912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64000" y="1916280"/>
            <a:ext cx="3168720" cy="1584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635280" y="1916280"/>
            <a:ext cx="2952720" cy="1657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4437000"/>
            <a:ext cx="2089080" cy="1008000"/>
          </a:xfrm>
          <a:prstGeom prst="cloudCallout">
            <a:avLst>
              <a:gd name="adj1" fmla="val 4101"/>
              <a:gd name="adj2" fmla="val -11944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6880" y="4724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 sca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1197000"/>
            <a:ext cx="2089080" cy="1008000"/>
          </a:xfrm>
          <a:prstGeom prst="cloudCallout">
            <a:avLst>
              <a:gd name="adj1" fmla="val -11930"/>
              <a:gd name="adj2" fmla="val 6952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9080" y="14842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QGP Therm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5300640"/>
            <a:ext cx="2089080" cy="1008000"/>
          </a:xfrm>
          <a:prstGeom prst="cloudCallout">
            <a:avLst>
              <a:gd name="adj1" fmla="val 23935"/>
              <a:gd name="adj2" fmla="val -13299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6520" y="5589720"/>
            <a:ext cx="14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Jet Brems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4508640"/>
            <a:ext cx="2089080" cy="1008000"/>
          </a:xfrm>
          <a:prstGeom prst="cloudCallout">
            <a:avLst>
              <a:gd name="adj1" fmla="val -14819"/>
              <a:gd name="adj2" fmla="val -9693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465300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g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04000" y="2060640"/>
            <a:ext cx="2089080" cy="1008000"/>
          </a:xfrm>
          <a:prstGeom prst="cloudCallout">
            <a:avLst>
              <a:gd name="adj1" fmla="val -60712"/>
              <a:gd name="adj2" fmla="val 2527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2160" y="2349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Hadron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580000" y="3789360"/>
            <a:ext cx="3346560" cy="2257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1-2. Introduction ~direct photon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540240" cy="3219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49080" y="42210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99"/>
                </a:solidFill>
                <a:latin typeface="Arial"/>
              </a:rPr>
              <a:t>QGP-The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99280" y="42210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Jet-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0360" y="3716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NLO-pQ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0720" y="3213000"/>
            <a:ext cx="3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907920"/>
            <a:ext cx="684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photon is penetrating probe for initial hot and dense m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photon sources in heavy ion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44960" y="5516640"/>
            <a:ext cx="5712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direct photons are produced in the initial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rmal radiation are emitted in the low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311640" cy="2944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035000" y="4653000"/>
            <a:ext cx="2683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. Rev., C69:014903(200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6920" y="4869000"/>
            <a:ext cx="964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M 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5084640"/>
            <a:ext cx="24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rmal win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1~3 GeV/c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rompt phot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6~   GeV/c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1-3. Introduction ~v</a:t>
            </a:r>
            <a:r>
              <a:rPr b="1" lang="en-US" sz="2800" spc="-1" strike="noStrike" baseline="-25000">
                <a:solidFill>
                  <a:srgbClr val="008080"/>
                </a:solidFill>
                <a:latin typeface="Arial Black"/>
              </a:rPr>
              <a:t>2</a:t>
            </a: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4537080" cy="79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15600" y="5445000"/>
            <a:ext cx="38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zimuthal angle of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zimuthal angle of 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600" y="3933720"/>
            <a:ext cx="4239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Elliptic flow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) is defi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 2nd coefficient of Fourier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836640"/>
            <a:ext cx="7488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ision participation part in the early stage has spatial anisotropy. Pressure gradient is the largest in the shortest direction of the ellipsoid. Emitted particles reflect initial spatial anisotr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3440" y="5157720"/>
            <a:ext cx="319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. Huang, (Parallel talk X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038480" cy="308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2958" t="26840" r="40713" b="41406"/>
          <a:stretch/>
        </p:blipFill>
        <p:spPr>
          <a:xfrm>
            <a:off x="1979640" y="2205000"/>
            <a:ext cx="647640" cy="115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rcRect l="31811" t="0" r="48876" b="0"/>
          <a:stretch/>
        </p:blipFill>
        <p:spPr>
          <a:xfrm>
            <a:off x="1330200" y="2421000"/>
            <a:ext cx="527040" cy="143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3418" t="6990" r="80385" b="5476"/>
          <a:stretch/>
        </p:blipFill>
        <p:spPr>
          <a:xfrm>
            <a:off x="2627280" y="1844640"/>
            <a:ext cx="51912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2-1. PHENIX experiment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2592360" cy="223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1728720" cy="1347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164360" y="5013360"/>
            <a:ext cx="1657440" cy="131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11520" y="1197000"/>
            <a:ext cx="28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lead scintillator (Pb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energy resolu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8.1 %/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[G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83880" y="4005360"/>
            <a:ext cx="294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lead glass (PbG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energy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76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5.95 %/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[G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23000" y="213372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|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| &lt; 0.375   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=90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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4248000" cy="1944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3-1. Analysis method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0920" y="907920"/>
            <a:ext cx="3960720" cy="1441440"/>
            <a:chOff x="250920" y="907920"/>
            <a:chExt cx="3960720" cy="1441440"/>
          </a:xfrm>
        </p:grpSpPr>
        <p:sp>
          <p:nvSpPr>
            <p:cNvPr id="178" name=""/>
            <p:cNvSpPr/>
            <p:nvPr/>
          </p:nvSpPr>
          <p:spPr>
            <a:xfrm>
              <a:off x="250920" y="907920"/>
              <a:ext cx="3960720" cy="1441440"/>
            </a:xfrm>
            <a:prstGeom prst="rect">
              <a:avLst/>
            </a:prstGeom>
            <a:solidFill>
              <a:srgbClr val="ff9900"/>
            </a:solidFill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1280" y="1517760"/>
              <a:ext cx="1295280" cy="71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92360" y="1521000"/>
              <a:ext cx="2448000" cy="718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2520" y="170028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rect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30600" y="1700280"/>
              <a:ext cx="21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hadron decay</a:t>
              </a: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　</a:t>
              </a:r>
              <a:r>
                <a:rPr b="1" lang="ja-JP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5280" y="9810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clusiv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59280" y="2708280"/>
            <a:ext cx="3981600" cy="3505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323640" y="2205000"/>
            <a:ext cx="1368360" cy="79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2205000"/>
            <a:ext cx="0" cy="79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997360"/>
            <a:ext cx="2447640" cy="792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2997360"/>
            <a:ext cx="360360" cy="79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997360"/>
            <a:ext cx="576360" cy="79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2997360"/>
            <a:ext cx="144720" cy="792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2997360"/>
            <a:ext cx="287280" cy="79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9560" y="314172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4720" y="3141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16680" y="31417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6360" y="314172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6840" y="227340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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variant mass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55560" y="285264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0 &lt;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3-1. Analysis method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0920" y="907920"/>
            <a:ext cx="3960720" cy="1441440"/>
            <a:chOff x="250920" y="907920"/>
            <a:chExt cx="3960720" cy="1441440"/>
          </a:xfrm>
        </p:grpSpPr>
        <p:sp>
          <p:nvSpPr>
            <p:cNvPr id="201" name=""/>
            <p:cNvSpPr/>
            <p:nvPr/>
          </p:nvSpPr>
          <p:spPr>
            <a:xfrm>
              <a:off x="250920" y="907920"/>
              <a:ext cx="3960720" cy="1441440"/>
            </a:xfrm>
            <a:prstGeom prst="rect">
              <a:avLst/>
            </a:prstGeom>
            <a:solidFill>
              <a:srgbClr val="ff9900"/>
            </a:solidFill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1280" y="1517760"/>
              <a:ext cx="1295280" cy="71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92360" y="1521000"/>
              <a:ext cx="2448000" cy="718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2520" y="170028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rect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0600" y="1700280"/>
              <a:ext cx="21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hadron decay</a:t>
              </a: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　</a:t>
              </a:r>
              <a:r>
                <a:rPr b="1" lang="ja-JP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5280" y="9810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clusiv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3627720" cy="381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 rot="5400000">
            <a:off x="432360" y="2527920"/>
            <a:ext cx="3816360" cy="3890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4568760" cy="863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74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 Black"/>
              </a:rPr>
              <a:t>3-2. Direct photon analysis ~spectra~</a:t>
            </a:r>
            <a:endParaRPr b="1" lang="en-US" sz="2800" spc="-1" strike="noStrike">
              <a:solidFill>
                <a:srgbClr val="00808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962160" cy="439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356000" y="1197000"/>
            <a:ext cx="42498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un4 direct photon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spectra (900M ev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ached up to 18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 photon spectra well describ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LO pQCD calcu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8560" y="907920"/>
            <a:ext cx="114552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 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5516640"/>
            <a:ext cx="3346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2006 proceeding T. Iso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534520" y="6491160"/>
            <a:ext cx="3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M 2008  - Kentaro Miki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 / 08 /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7:24:10Z</dcterms:created>
  <dc:creator>M</dc:creator>
  <dc:description/>
  <dc:language>en-US</dc:language>
  <cp:lastModifiedBy>root</cp:lastModifiedBy>
  <dcterms:modified xsi:type="dcterms:W3CDTF">2008-02-08T01:17:13Z</dcterms:modified>
  <cp:revision>282</cp:revision>
  <dc:subject/>
  <dc:title>Direct photon v2 analysis  in 200GeV Au+Au collisions</dc:title>
</cp:coreProperties>
</file>