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5.png" ContentType="image/png"/>
  <Override PartName="/ppt/media/image48.png" ContentType="image/png"/>
  <Override PartName="/ppt/media/image11.png" ContentType="image/png"/>
  <Override PartName="/ppt/media/image29.jpeg" ContentType="image/jpeg"/>
  <Override PartName="/ppt/media/image28.png" ContentType="image/png"/>
  <Override PartName="/ppt/media/image7.jpeg" ContentType="image/jpeg"/>
  <Override PartName="/ppt/media/image16.png" ContentType="image/png"/>
  <Override PartName="/ppt/media/image27.jpeg" ContentType="image/jpeg"/>
  <Override PartName="/ppt/media/image52.png" ContentType="image/png"/>
  <Override PartName="/ppt/media/image6.jpeg" ContentType="image/jpeg"/>
  <Override PartName="/ppt/media/image60.png" ContentType="image/png"/>
  <Override PartName="/ppt/media/image18.png" ContentType="image/png"/>
  <Override PartName="/ppt/media/image36.png" ContentType="image/png"/>
  <Override PartName="/ppt/media/image3.pct" ContentType="image/x-pict"/>
  <Override PartName="/ppt/media/image40.png" ContentType="image/png"/>
  <Override PartName="/ppt/media/image26.png" ContentType="image/png"/>
  <Override PartName="/ppt/media/image14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19.png" ContentType="image/png"/>
  <Override PartName="/ppt/media/image61.png" ContentType="image/png"/>
  <Override PartName="/ppt/media/image15.png" ContentType="image/png"/>
  <Override PartName="/ppt/media/image12.pct" ContentType="image/x-pict"/>
  <Override PartName="/ppt/media/image10.png" ContentType="image/png"/>
  <Override PartName="/ppt/media/image47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24.png" ContentType="image/png"/>
  <Override PartName="/ppt/media/image13.png" ContentType="image/png"/>
  <Override PartName="/ppt/media/image1.png" ContentType="image/png"/>
  <Override PartName="/ppt/media/image2.jpeg" ContentType="image/jpeg"/>
  <Override PartName="/ppt/media/image31.png" ContentType="image/png"/>
  <Override PartName="/ppt/media/image30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50.png" ContentType="image/png"/>
  <Override PartName="/ppt/media/image4.jpeg" ContentType="image/jpeg"/>
  <Override PartName="/ppt/media/image51.png" ContentType="image/png"/>
  <Override PartName="/ppt/media/image23.png" ContentType="image/png"/>
  <Override PartName="/ppt/media/image53.jpeg" ContentType="image/jpeg"/>
  <Override PartName="/ppt/media/image5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9BD-9DD9-4102-B2CF-EBB737E8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5F4-703E-4CCD-95B7-FD7AA773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6A86-3981-4B33-A4F6-B6C9CA65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D8F6-7A66-46D4-8C83-C4EB93AE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1BB-583E-4E85-88DF-4B481258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C3B-5E40-4FE6-96B3-A48310E8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8EE-548B-4711-84E2-DC66FA3B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9F4-7622-48F5-A6AC-938135E6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2F18-D855-42D7-9740-E1FEA107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A00-2E0E-4DC0-AE0C-DFC8FC6B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5F4A-0688-4DB6-8A16-44F59C57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6729-106F-4F5E-A9BA-CBF357DC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4800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52880" y="6629040"/>
            <a:ext cx="3276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52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0D5F-CF90-45C6-8A42-1F87AD6E0A8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2.png"/><Relationship Id="rId5" Type="http://schemas.openxmlformats.org/officeDocument/2006/relationships/image" Target="../media/image52.png"/><Relationship Id="rId6" Type="http://schemas.openxmlformats.org/officeDocument/2006/relationships/image" Target="../media/image53.jpe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1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6858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wo-Particle Azimuthal Correlation of Identified Particle in High-Energy Heavy-Ion Collisions at RHIC-PHEN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1981080"/>
            <a:ext cx="441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nIchi Esu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PHENIX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. of Physics, Univ. of Tsukuba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114800"/>
            <a:ext cx="3962520" cy="1679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Jet-Suppression and Mod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Mach-cone and 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Identified Particle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Correlation w.r.t. Reaction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523880"/>
            <a:ext cx="7696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3048120"/>
            <a:ext cx="4343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05720" y="3733920"/>
            <a:ext cx="1523880" cy="598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669000" y="4398840"/>
            <a:ext cx="1600200" cy="9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6324480" y="5478480"/>
          <a:ext cx="1944720" cy="54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5478480"/>
                    <a:ext cx="19447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v. of Tsukuba, ShinIchi Esu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2520-DD4D-4199-B531-76EAEB44A9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QM08 Tsinghua Univ., Beijing, China, 9/Oct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800600" cy="4572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5029200" y="380880"/>
            <a:ext cx="4038480" cy="3276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4724280" y="3276720"/>
            <a:ext cx="4419720" cy="3276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697880" y="18252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Xiv:0712.30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557532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ar/Away-side B/M ratio increases in cent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way-side B/M ratios approach inclusiv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ompatible with in-vacuum fragmen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46280" y="152280"/>
            <a:ext cx="352080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Hadron trigger with identified associate Baryon/Me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v. of Tsukuba, ShinIchi Esu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B90C-893C-40CF-BA7E-04DC39C7B3C8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QM08 Tsinghua Univ., Beijing, China, 9/Oct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210040" cy="25941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52280" y="2514600"/>
            <a:ext cx="2210040" cy="25779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2362320" y="2070000"/>
            <a:ext cx="2209680" cy="25783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4572000" y="1536840"/>
            <a:ext cx="2209680" cy="25779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6781680" y="1003320"/>
            <a:ext cx="2210040" cy="25779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6"/>
          <a:stretch/>
        </p:blipFill>
        <p:spPr>
          <a:xfrm>
            <a:off x="4572000" y="3886200"/>
            <a:ext cx="2209680" cy="2590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2743200" y="185904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Arial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304920"/>
            <a:ext cx="4572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Identified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trigger with associate had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99520" y="537840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Width does not change with centr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imilar to charged hadron triggered c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3760" y="182880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7-9 (X) 1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0-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69560" y="292428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7-9 (X) 4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0-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55560" y="251460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7-9 (X) 4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20-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565240" y="198108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7-9 (X) 4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40-6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730640" y="144792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7-9 (X) 4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60-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65240" y="437184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7-9 (X) 6-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40-6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74920" y="68580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M08 PHE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v. of Tsukuba, ShinIchi Esu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FC4C-8554-4E32-90F5-9AD3939ADB0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QM08 Tsinghua Univ., Beijing, China, 9/Oct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3" descr="inte_asso"/>
          <p:cNvPicPr/>
          <p:nvPr/>
        </p:nvPicPr>
        <p:blipFill>
          <a:blip r:embed="rId1"/>
          <a:stretch/>
        </p:blipFill>
        <p:spPr>
          <a:xfrm>
            <a:off x="5410080" y="4114800"/>
            <a:ext cx="3276720" cy="248760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380880" y="762120"/>
            <a:ext cx="4471920" cy="3047760"/>
            <a:chOff x="380880" y="762120"/>
            <a:chExt cx="4471920" cy="3047760"/>
          </a:xfrm>
        </p:grpSpPr>
        <p:pic>
          <p:nvPicPr>
            <p:cNvPr id="319" name="Content Placeholder 6" descr="dphi_example_012908.gif"/>
            <p:cNvPicPr/>
            <p:nvPr/>
          </p:nvPicPr>
          <p:blipFill>
            <a:blip r:embed="rId2"/>
            <a:stretch/>
          </p:blipFill>
          <p:spPr>
            <a:xfrm>
              <a:off x="585720" y="762120"/>
              <a:ext cx="426708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Rectangle 7"/>
            <p:cNvSpPr/>
            <p:nvPr/>
          </p:nvSpPr>
          <p:spPr>
            <a:xfrm>
              <a:off x="380880" y="1143000"/>
              <a:ext cx="609480" cy="2590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Box 10"/>
            <p:cNvSpPr/>
            <p:nvPr/>
          </p:nvSpPr>
          <p:spPr>
            <a:xfrm rot="16200000">
              <a:off x="-376200" y="2008800"/>
              <a:ext cx="2575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1/Ntrig dN/d</a:t>
              </a:r>
              <a:r>
                <a:rPr b="1" lang="ja-JP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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(A.U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876920" y="457200"/>
            <a:ext cx="3279600" cy="3642480"/>
            <a:chOff x="4876920" y="457200"/>
            <a:chExt cx="3279600" cy="3642480"/>
          </a:xfrm>
        </p:grpSpPr>
        <p:pic>
          <p:nvPicPr>
            <p:cNvPr id="323" name="Picture 26" descr="nearint.gif"/>
            <p:cNvPicPr/>
            <p:nvPr/>
          </p:nvPicPr>
          <p:blipFill>
            <a:blip r:embed="rId3"/>
            <a:stretch/>
          </p:blipFill>
          <p:spPr>
            <a:xfrm>
              <a:off x="5172120" y="457200"/>
              <a:ext cx="2895480" cy="15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Box 34"/>
            <p:cNvSpPr/>
            <p:nvPr/>
          </p:nvSpPr>
          <p:spPr>
            <a:xfrm>
              <a:off x="6648480" y="3728880"/>
              <a:ext cx="1463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</a:t>
              </a:r>
              <a:r>
                <a:rPr b="0" lang="ja-JP" sz="16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T, 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hoton GeV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35"/>
            <p:cNvSpPr/>
            <p:nvPr/>
          </p:nvSpPr>
          <p:spPr>
            <a:xfrm rot="16200000">
              <a:off x="3931920" y="196056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Per-Trigger Yield (A.U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Picture 26" descr="ppaway23.gif"/>
            <p:cNvPicPr/>
            <p:nvPr/>
          </p:nvPicPr>
          <p:blipFill>
            <a:blip r:embed="rId4"/>
            <a:stretch/>
          </p:blipFill>
          <p:spPr>
            <a:xfrm>
              <a:off x="5184720" y="2052360"/>
              <a:ext cx="289584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37" descr="pi0dirlabel.gif"/>
            <p:cNvPicPr/>
            <p:nvPr/>
          </p:nvPicPr>
          <p:blipFill>
            <a:blip r:embed="rId5"/>
            <a:stretch/>
          </p:blipFill>
          <p:spPr>
            <a:xfrm>
              <a:off x="5337360" y="2290680"/>
              <a:ext cx="1344600" cy="60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8" name="Group 31"/>
            <p:cNvGrpSpPr/>
            <p:nvPr/>
          </p:nvGrpSpPr>
          <p:grpSpPr>
            <a:xfrm>
              <a:off x="5124600" y="3624120"/>
              <a:ext cx="3031920" cy="181080"/>
              <a:chOff x="5124600" y="3624120"/>
              <a:chExt cx="3031920" cy="181080"/>
            </a:xfrm>
          </p:grpSpPr>
          <p:pic>
            <p:nvPicPr>
              <p:cNvPr id="329" name="Picture 29" descr="xaxis_ptt.gif"/>
              <p:cNvPicPr/>
              <p:nvPr/>
            </p:nvPicPr>
            <p:blipFill>
              <a:blip r:embed="rId6"/>
              <a:stretch/>
            </p:blipFill>
            <p:spPr>
              <a:xfrm>
                <a:off x="5124600" y="3624120"/>
                <a:ext cx="3031920" cy="16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Rectangle 30"/>
              <p:cNvSpPr/>
              <p:nvPr/>
            </p:nvSpPr>
            <p:spPr>
              <a:xfrm>
                <a:off x="7585920" y="3755160"/>
                <a:ext cx="559080" cy="5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32"/>
            <p:cNvSpPr/>
            <p:nvPr/>
          </p:nvSpPr>
          <p:spPr>
            <a:xfrm>
              <a:off x="5489280" y="680760"/>
              <a:ext cx="189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un 6 p+p @ 200 Ge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Content Placeholder 31" descr="3panel_020408.gif"/>
          <p:cNvPicPr/>
          <p:nvPr/>
        </p:nvPicPr>
        <p:blipFill>
          <a:blip r:embed="rId7"/>
          <a:stretch/>
        </p:blipFill>
        <p:spPr>
          <a:xfrm>
            <a:off x="228600" y="4038480"/>
            <a:ext cx="5226120" cy="26272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31"/>
          <p:cNvSpPr/>
          <p:nvPr/>
        </p:nvSpPr>
        <p:spPr>
          <a:xfrm>
            <a:off x="312840" y="5424480"/>
            <a:ext cx="1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4920" y="3962520"/>
            <a:ext cx="5029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Run 7 Au+Au @ 200 GeV, cent=0~20%, prelimin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228600"/>
            <a:ext cx="41148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Direct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trigger with associate had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84200" y="15228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M08 PHE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5400000">
            <a:off x="7001280" y="1842120"/>
            <a:ext cx="320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+p:   Consistent with trigger photon carrying the full jet energy,   away side jets are similar between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trigg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5400000">
            <a:off x="7625880" y="4960440"/>
            <a:ext cx="20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Need more studies and statistics for Au+Au c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2"/>
          <p:cNvSpPr/>
          <p:nvPr/>
        </p:nvSpPr>
        <p:spPr>
          <a:xfrm>
            <a:off x="6009480" y="4114800"/>
            <a:ext cx="23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Gill Sans MT"/>
              </a:rPr>
              <a:t>Run 4/5 p+p/Au+Au @ 200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v. of Tsukuba, ShinIchi Esu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6A01-DAA7-4AC7-999B-5C31FC65696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QM08 Tsinghua Univ., Beijing, China, 9/Oct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108000" y="3168720"/>
            <a:ext cx="9001080" cy="3384360"/>
            <a:chOff x="108000" y="3168720"/>
            <a:chExt cx="9001080" cy="3384360"/>
          </a:xfrm>
        </p:grpSpPr>
        <p:pic>
          <p:nvPicPr>
            <p:cNvPr id="341" name="" descr=""/>
            <p:cNvPicPr/>
            <p:nvPr/>
          </p:nvPicPr>
          <p:blipFill>
            <a:blip r:embed="rId1"/>
            <a:srcRect l="4106" t="6755" r="5375" b="0"/>
            <a:stretch/>
          </p:blipFill>
          <p:spPr>
            <a:xfrm>
              <a:off x="108000" y="3168720"/>
              <a:ext cx="9001080" cy="197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2" name=""/>
            <p:cNvGrpSpPr/>
            <p:nvPr/>
          </p:nvGrpSpPr>
          <p:grpSpPr>
            <a:xfrm>
              <a:off x="324000" y="4608720"/>
              <a:ext cx="8784720" cy="1871280"/>
              <a:chOff x="324000" y="4608720"/>
              <a:chExt cx="8784720" cy="18712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2"/>
              <a:srcRect l="9191" t="48951" r="7955" b="0"/>
              <a:stretch/>
            </p:blipFill>
            <p:spPr>
              <a:xfrm>
                <a:off x="4915080" y="4608720"/>
                <a:ext cx="4193640" cy="1871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44" name=""/>
              <p:cNvGrpSpPr/>
              <p:nvPr/>
            </p:nvGrpSpPr>
            <p:grpSpPr>
              <a:xfrm>
                <a:off x="324000" y="4608720"/>
                <a:ext cx="4658760" cy="1841040"/>
                <a:chOff x="324000" y="4608720"/>
                <a:chExt cx="4658760" cy="1841040"/>
              </a:xfrm>
            </p:grpSpPr>
            <p:pic>
              <p:nvPicPr>
                <p:cNvPr id="345" name="" descr=""/>
                <p:cNvPicPr/>
                <p:nvPr/>
              </p:nvPicPr>
              <p:blipFill>
                <a:blip r:embed="rId3"/>
                <a:srcRect l="0" t="12380" r="7955" b="50392"/>
                <a:stretch/>
              </p:blipFill>
              <p:spPr>
                <a:xfrm>
                  <a:off x="324000" y="4608720"/>
                  <a:ext cx="4658760" cy="136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" descr=""/>
                <p:cNvPicPr/>
                <p:nvPr/>
              </p:nvPicPr>
              <p:blipFill>
                <a:blip r:embed="rId4"/>
                <a:srcRect l="8605" t="87012" r="7955" b="0"/>
                <a:stretch/>
              </p:blipFill>
              <p:spPr>
                <a:xfrm>
                  <a:off x="759240" y="5973480"/>
                  <a:ext cx="422316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347" name="" descr=""/>
            <p:cNvPicPr/>
            <p:nvPr/>
          </p:nvPicPr>
          <p:blipFill>
            <a:blip r:embed="rId5"/>
            <a:srcRect l="13502" t="0" r="15316" b="90711"/>
            <a:stretch/>
          </p:blipFill>
          <p:spPr>
            <a:xfrm>
              <a:off x="2484360" y="6265800"/>
              <a:ext cx="417672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"/>
          <p:cNvSpPr/>
          <p:nvPr/>
        </p:nvSpPr>
        <p:spPr>
          <a:xfrm>
            <a:off x="1960560" y="3357720"/>
            <a:ext cx="3068640" cy="26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3&lt;p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rig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&lt;4GeV/c &amp; 1.0&lt;p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ass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&lt;1.5GeV/c 20-6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356480" y="3321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08240" y="6095880"/>
            <a:ext cx="53258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associ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rigg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(rad)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6"/>
          <a:stretch/>
        </p:blipFill>
        <p:spPr>
          <a:xfrm>
            <a:off x="1066680" y="990720"/>
            <a:ext cx="3962520" cy="22129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7"/>
          <a:srcRect l="8669" t="3160" r="8288" b="0"/>
          <a:stretch/>
        </p:blipFill>
        <p:spPr>
          <a:xfrm>
            <a:off x="5181480" y="206280"/>
            <a:ext cx="3505320" cy="29941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30040" y="228600"/>
            <a:ext cx="2382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t mod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7680" y="2895480"/>
            <a:ext cx="14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QM08: STAR, PHEN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468560" y="330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QM04: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523880" y="3809880"/>
            <a:ext cx="7391520" cy="2086200"/>
            <a:chOff x="1523880" y="3809880"/>
            <a:chExt cx="7391520" cy="2086200"/>
          </a:xfrm>
        </p:grpSpPr>
        <p:grpSp>
          <p:nvGrpSpPr>
            <p:cNvPr id="357" name=""/>
            <p:cNvGrpSpPr/>
            <p:nvPr/>
          </p:nvGrpSpPr>
          <p:grpSpPr>
            <a:xfrm>
              <a:off x="1523880" y="3809880"/>
              <a:ext cx="7162920" cy="654120"/>
              <a:chOff x="1523880" y="3809880"/>
              <a:chExt cx="7162920" cy="654120"/>
            </a:xfrm>
          </p:grpSpPr>
          <p:sp>
            <p:nvSpPr>
              <p:cNvPr id="358" name=""/>
              <p:cNvSpPr/>
              <p:nvPr/>
            </p:nvSpPr>
            <p:spPr>
              <a:xfrm>
                <a:off x="1523880" y="4343400"/>
                <a:ext cx="716292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3880" y="3886200"/>
                <a:ext cx="3353040" cy="4572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600200" y="380988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71800" y="396252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419720" y="419112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715000" y="42354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086600" y="421956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458200" y="420696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1600200" y="5410080"/>
              <a:ext cx="7315200" cy="486000"/>
              <a:chOff x="1600200" y="5410080"/>
              <a:chExt cx="7315200" cy="486000"/>
            </a:xfrm>
          </p:grpSpPr>
          <p:sp>
            <p:nvSpPr>
              <p:cNvPr id="367" name=""/>
              <p:cNvSpPr/>
              <p:nvPr/>
            </p:nvSpPr>
            <p:spPr>
              <a:xfrm>
                <a:off x="1600200" y="5791320"/>
                <a:ext cx="731520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600200" y="5486400"/>
                <a:ext cx="3352680" cy="3049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838840" y="566748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210440" y="565164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582040" y="563868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676520" y="541008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63960" y="553068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479840" y="565452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1371600" y="4114800"/>
            <a:ext cx="7635960" cy="1584360"/>
            <a:chOff x="1371600" y="4114800"/>
            <a:chExt cx="7635960" cy="1584360"/>
          </a:xfrm>
        </p:grpSpPr>
        <p:grpSp>
          <p:nvGrpSpPr>
            <p:cNvPr id="376" name=""/>
            <p:cNvGrpSpPr/>
            <p:nvPr/>
          </p:nvGrpSpPr>
          <p:grpSpPr>
            <a:xfrm>
              <a:off x="1371600" y="4114800"/>
              <a:ext cx="7543800" cy="304920"/>
              <a:chOff x="1371600" y="4114800"/>
              <a:chExt cx="7543800" cy="304920"/>
            </a:xfrm>
          </p:grpSpPr>
          <p:sp>
            <p:nvSpPr>
              <p:cNvPr id="377" name=""/>
              <p:cNvSpPr/>
              <p:nvPr/>
            </p:nvSpPr>
            <p:spPr>
              <a:xfrm>
                <a:off x="1371600" y="4270320"/>
                <a:ext cx="754380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902280" y="411480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305920" y="4114800"/>
                <a:ext cx="60948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518080" y="411480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59080" y="411480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790720" y="411480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00040" y="411480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1463760" y="5394240"/>
              <a:ext cx="7543800" cy="304920"/>
              <a:chOff x="1463760" y="5394240"/>
              <a:chExt cx="7543800" cy="304920"/>
            </a:xfrm>
          </p:grpSpPr>
          <p:sp>
            <p:nvSpPr>
              <p:cNvPr id="385" name=""/>
              <p:cNvSpPr/>
              <p:nvPr/>
            </p:nvSpPr>
            <p:spPr>
              <a:xfrm>
                <a:off x="1463760" y="5549760"/>
                <a:ext cx="754380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994440" y="539424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398080" y="5394240"/>
                <a:ext cx="60948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610240" y="539424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251240" y="539424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82880" y="539424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492200" y="5394240"/>
                <a:ext cx="609840" cy="30492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2" name=""/>
          <p:cNvGrpSpPr/>
          <p:nvPr/>
        </p:nvGrpSpPr>
        <p:grpSpPr>
          <a:xfrm>
            <a:off x="1739520" y="374400"/>
            <a:ext cx="2540880" cy="2517840"/>
            <a:chOff x="1739520" y="374400"/>
            <a:chExt cx="2540880" cy="2517840"/>
          </a:xfrm>
        </p:grpSpPr>
        <p:grpSp>
          <p:nvGrpSpPr>
            <p:cNvPr id="393" name=""/>
            <p:cNvGrpSpPr/>
            <p:nvPr/>
          </p:nvGrpSpPr>
          <p:grpSpPr>
            <a:xfrm>
              <a:off x="1739520" y="374400"/>
              <a:ext cx="2465280" cy="2501640"/>
              <a:chOff x="1739520" y="374400"/>
              <a:chExt cx="2465280" cy="2501640"/>
            </a:xfrm>
          </p:grpSpPr>
          <p:sp>
            <p:nvSpPr>
              <p:cNvPr id="394" name=""/>
              <p:cNvSpPr/>
              <p:nvPr/>
            </p:nvSpPr>
            <p:spPr>
              <a:xfrm flipH="1" flipV="1">
                <a:off x="2821680" y="902520"/>
                <a:ext cx="219600" cy="37584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3076920" y="374400"/>
                <a:ext cx="118440" cy="9550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3076560" y="666360"/>
                <a:ext cx="387360" cy="6624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3053880" y="1140120"/>
                <a:ext cx="13680" cy="85320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2359440" y="2291400"/>
                <a:ext cx="187560" cy="3441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1739520" y="2235240"/>
                <a:ext cx="829440" cy="3070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flipV="1">
                <a:off x="1832760" y="2193840"/>
                <a:ext cx="735120" cy="424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2420640" y="1973520"/>
                <a:ext cx="692640" cy="35100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3575520" y="2299320"/>
                <a:ext cx="629280" cy="18864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515760" y="2311200"/>
                <a:ext cx="680400" cy="56484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514320" y="2310120"/>
                <a:ext cx="115200" cy="47664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015720" y="1970280"/>
                <a:ext cx="650520" cy="42444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300000">
                <a:off x="2854080" y="1812600"/>
                <a:ext cx="380880" cy="38124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2057400" y="1947960"/>
              <a:ext cx="844560" cy="738000"/>
              <a:chOff x="2057400" y="1947960"/>
              <a:chExt cx="844560" cy="738000"/>
            </a:xfrm>
          </p:grpSpPr>
          <p:sp>
            <p:nvSpPr>
              <p:cNvPr id="408" name=""/>
              <p:cNvSpPr/>
              <p:nvPr/>
            </p:nvSpPr>
            <p:spPr>
              <a:xfrm>
                <a:off x="2633760" y="1947960"/>
                <a:ext cx="268200" cy="425520"/>
              </a:xfrm>
              <a:custGeom>
                <a:avLst/>
                <a:gdLst/>
                <a:ahLst/>
                <a:rect l="l" t="t" r="r" b="b"/>
                <a:pathLst>
                  <a:path w="169" h="268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6" y="210"/>
                      <a:pt x="57" y="232"/>
                    </a:cubicBezTo>
                    <a:cubicBezTo>
                      <a:pt x="68" y="254"/>
                      <a:pt x="150" y="262"/>
                      <a:pt x="169" y="268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368440" y="1981080"/>
                <a:ext cx="298440" cy="622440"/>
              </a:xfrm>
              <a:custGeom>
                <a:avLst/>
                <a:gdLst/>
                <a:ahLst/>
                <a:rect l="l" t="t" r="r" b="b"/>
                <a:pathLst>
                  <a:path w="188" h="392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61"/>
                      <a:pt x="177" y="288"/>
                    </a:cubicBezTo>
                    <a:cubicBezTo>
                      <a:pt x="188" y="315"/>
                      <a:pt x="136" y="370"/>
                      <a:pt x="125" y="392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057400" y="1981080"/>
                <a:ext cx="374760" cy="704880"/>
              </a:xfrm>
              <a:custGeom>
                <a:avLst/>
                <a:gdLst/>
                <a:ahLst/>
                <a:rect l="l" t="t" r="r" b="b"/>
                <a:pathLst>
                  <a:path w="236" h="444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59"/>
                      <a:pt x="177" y="288"/>
                    </a:cubicBezTo>
                    <a:cubicBezTo>
                      <a:pt x="188" y="317"/>
                      <a:pt x="114" y="378"/>
                      <a:pt x="124" y="404"/>
                    </a:cubicBezTo>
                    <a:cubicBezTo>
                      <a:pt x="134" y="430"/>
                      <a:pt x="213" y="436"/>
                      <a:pt x="236" y="444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3228480" y="2123280"/>
              <a:ext cx="1051920" cy="768960"/>
              <a:chOff x="3228480" y="2123280"/>
              <a:chExt cx="1051920" cy="768960"/>
            </a:xfrm>
          </p:grpSpPr>
          <p:sp>
            <p:nvSpPr>
              <p:cNvPr id="412" name=""/>
              <p:cNvSpPr/>
              <p:nvPr/>
            </p:nvSpPr>
            <p:spPr>
              <a:xfrm rot="15000000">
                <a:off x="3340080" y="2108880"/>
                <a:ext cx="268200" cy="425520"/>
              </a:xfrm>
              <a:custGeom>
                <a:avLst/>
                <a:gdLst/>
                <a:ahLst/>
                <a:rect l="l" t="t" r="r" b="b"/>
                <a:pathLst>
                  <a:path w="169" h="268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6" y="210"/>
                      <a:pt x="57" y="232"/>
                    </a:cubicBezTo>
                    <a:cubicBezTo>
                      <a:pt x="68" y="254"/>
                      <a:pt x="150" y="262"/>
                      <a:pt x="169" y="268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5000000">
                <a:off x="3548160" y="2149920"/>
                <a:ext cx="298440" cy="622080"/>
              </a:xfrm>
              <a:custGeom>
                <a:avLst/>
                <a:gdLst/>
                <a:ahLst/>
                <a:rect l="l" t="t" r="r" b="b"/>
                <a:pathLst>
                  <a:path w="188" h="392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61"/>
                      <a:pt x="177" y="288"/>
                    </a:cubicBezTo>
                    <a:cubicBezTo>
                      <a:pt x="188" y="315"/>
                      <a:pt x="136" y="370"/>
                      <a:pt x="125" y="392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5000000">
                <a:off x="3697560" y="2243160"/>
                <a:ext cx="374760" cy="704880"/>
              </a:xfrm>
              <a:custGeom>
                <a:avLst/>
                <a:gdLst/>
                <a:ahLst/>
                <a:rect l="l" t="t" r="r" b="b"/>
                <a:pathLst>
                  <a:path w="236" h="444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59"/>
                      <a:pt x="177" y="288"/>
                    </a:cubicBezTo>
                    <a:cubicBezTo>
                      <a:pt x="188" y="317"/>
                      <a:pt x="114" y="378"/>
                      <a:pt x="124" y="404"/>
                    </a:cubicBezTo>
                    <a:cubicBezTo>
                      <a:pt x="134" y="430"/>
                      <a:pt x="213" y="436"/>
                      <a:pt x="236" y="444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"/>
          <p:cNvGrpSpPr/>
          <p:nvPr/>
        </p:nvGrpSpPr>
        <p:grpSpPr>
          <a:xfrm>
            <a:off x="1712160" y="1159920"/>
            <a:ext cx="2960280" cy="1650600"/>
            <a:chOff x="1712160" y="1159920"/>
            <a:chExt cx="2960280" cy="1650600"/>
          </a:xfrm>
        </p:grpSpPr>
        <p:grpSp>
          <p:nvGrpSpPr>
            <p:cNvPr id="416" name=""/>
            <p:cNvGrpSpPr/>
            <p:nvPr/>
          </p:nvGrpSpPr>
          <p:grpSpPr>
            <a:xfrm>
              <a:off x="3055320" y="1764720"/>
              <a:ext cx="1617120" cy="640800"/>
              <a:chOff x="3055320" y="1764720"/>
              <a:chExt cx="1617120" cy="640800"/>
            </a:xfrm>
          </p:grpSpPr>
          <p:sp>
            <p:nvSpPr>
              <p:cNvPr id="417" name=""/>
              <p:cNvSpPr/>
              <p:nvPr/>
            </p:nvSpPr>
            <p:spPr>
              <a:xfrm flipV="1">
                <a:off x="3770280" y="1764720"/>
                <a:ext cx="376200" cy="2199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17000" y="2020320"/>
                <a:ext cx="955440" cy="11844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18440" y="2018520"/>
                <a:ext cx="663120" cy="3870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055320" y="1997640"/>
                <a:ext cx="853200" cy="1404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1829520" y="1159920"/>
              <a:ext cx="1318320" cy="934560"/>
              <a:chOff x="1829520" y="1159920"/>
              <a:chExt cx="1318320" cy="934560"/>
            </a:xfrm>
          </p:grpSpPr>
          <p:sp>
            <p:nvSpPr>
              <p:cNvPr id="422" name=""/>
              <p:cNvSpPr/>
              <p:nvPr/>
            </p:nvSpPr>
            <p:spPr>
              <a:xfrm flipH="1">
                <a:off x="2156400" y="1770840"/>
                <a:ext cx="384120" cy="777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flipV="1">
                <a:off x="1829520" y="1313640"/>
                <a:ext cx="768240" cy="43812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 flipV="1">
                <a:off x="2154960" y="1159920"/>
                <a:ext cx="439560" cy="5904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 flipV="1">
                <a:off x="2433600" y="1695960"/>
                <a:ext cx="714240" cy="3045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" name=""/>
              <p:cNvGrpSpPr/>
              <p:nvPr/>
            </p:nvGrpSpPr>
            <p:grpSpPr>
              <a:xfrm>
                <a:off x="1925280" y="1195560"/>
                <a:ext cx="1108440" cy="898920"/>
                <a:chOff x="1925280" y="1195560"/>
                <a:chExt cx="1108440" cy="898920"/>
              </a:xfrm>
            </p:grpSpPr>
            <p:sp>
              <p:nvSpPr>
                <p:cNvPr id="427" name=""/>
                <p:cNvSpPr/>
                <p:nvPr/>
              </p:nvSpPr>
              <p:spPr>
                <a:xfrm rot="3000000">
                  <a:off x="2650320" y="1642320"/>
                  <a:ext cx="268200" cy="425520"/>
                </a:xfrm>
                <a:custGeom>
                  <a:avLst/>
                  <a:gdLst/>
                  <a:ahLst/>
                  <a:rect l="l" t="t" r="r" b="b"/>
                  <a:pathLst>
                    <a:path w="169" h="268">
                      <a:moveTo>
                        <a:pt x="53" y="0"/>
                      </a:moveTo>
                      <a:cubicBezTo>
                        <a:pt x="45" y="15"/>
                        <a:pt x="0" y="65"/>
                        <a:pt x="9" y="88"/>
                      </a:cubicBezTo>
                      <a:cubicBezTo>
                        <a:pt x="18" y="111"/>
                        <a:pt x="97" y="112"/>
                        <a:pt x="105" y="136"/>
                      </a:cubicBezTo>
                      <a:cubicBezTo>
                        <a:pt x="113" y="160"/>
                        <a:pt x="46" y="210"/>
                        <a:pt x="57" y="232"/>
                      </a:cubicBezTo>
                      <a:cubicBezTo>
                        <a:pt x="68" y="254"/>
                        <a:pt x="150" y="262"/>
                        <a:pt x="169" y="268"/>
                      </a:cubicBezTo>
                    </a:path>
                  </a:pathLst>
                </a:custGeom>
                <a:noFill/>
                <a:ln w="25560">
                  <a:solidFill>
                    <a:srgbClr val="8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rot="3000000">
                  <a:off x="2373840" y="1436400"/>
                  <a:ext cx="298440" cy="622440"/>
                </a:xfrm>
                <a:custGeom>
                  <a:avLst/>
                  <a:gdLst/>
                  <a:ahLst/>
                  <a:rect l="l" t="t" r="r" b="b"/>
                  <a:pathLst>
                    <a:path w="188" h="392">
                      <a:moveTo>
                        <a:pt x="53" y="0"/>
                      </a:moveTo>
                      <a:cubicBezTo>
                        <a:pt x="45" y="15"/>
                        <a:pt x="0" y="65"/>
                        <a:pt x="9" y="88"/>
                      </a:cubicBezTo>
                      <a:cubicBezTo>
                        <a:pt x="18" y="111"/>
                        <a:pt x="97" y="112"/>
                        <a:pt x="105" y="136"/>
                      </a:cubicBezTo>
                      <a:cubicBezTo>
                        <a:pt x="113" y="160"/>
                        <a:pt x="45" y="207"/>
                        <a:pt x="57" y="232"/>
                      </a:cubicBezTo>
                      <a:cubicBezTo>
                        <a:pt x="69" y="257"/>
                        <a:pt x="166" y="261"/>
                        <a:pt x="177" y="288"/>
                      </a:cubicBezTo>
                      <a:cubicBezTo>
                        <a:pt x="188" y="315"/>
                        <a:pt x="136" y="370"/>
                        <a:pt x="125" y="392"/>
                      </a:cubicBezTo>
                    </a:path>
                  </a:pathLst>
                </a:custGeom>
                <a:noFill/>
                <a:ln w="25560">
                  <a:solidFill>
                    <a:srgbClr val="8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rot="3000000">
                  <a:off x="2128320" y="1213200"/>
                  <a:ext cx="374760" cy="704880"/>
                </a:xfrm>
                <a:custGeom>
                  <a:avLst/>
                  <a:gdLst/>
                  <a:ahLst/>
                  <a:rect l="l" t="t" r="r" b="b"/>
                  <a:pathLst>
                    <a:path w="236" h="444">
                      <a:moveTo>
                        <a:pt x="53" y="0"/>
                      </a:moveTo>
                      <a:cubicBezTo>
                        <a:pt x="45" y="15"/>
                        <a:pt x="0" y="65"/>
                        <a:pt x="9" y="88"/>
                      </a:cubicBezTo>
                      <a:cubicBezTo>
                        <a:pt x="18" y="111"/>
                        <a:pt x="97" y="112"/>
                        <a:pt x="105" y="136"/>
                      </a:cubicBezTo>
                      <a:cubicBezTo>
                        <a:pt x="113" y="160"/>
                        <a:pt x="45" y="207"/>
                        <a:pt x="57" y="232"/>
                      </a:cubicBezTo>
                      <a:cubicBezTo>
                        <a:pt x="69" y="257"/>
                        <a:pt x="166" y="259"/>
                        <a:pt x="177" y="288"/>
                      </a:cubicBezTo>
                      <a:cubicBezTo>
                        <a:pt x="188" y="317"/>
                        <a:pt x="114" y="378"/>
                        <a:pt x="124" y="404"/>
                      </a:cubicBezTo>
                      <a:cubicBezTo>
                        <a:pt x="134" y="430"/>
                        <a:pt x="213" y="436"/>
                        <a:pt x="236" y="444"/>
                      </a:cubicBezTo>
                    </a:path>
                  </a:pathLst>
                </a:custGeom>
                <a:noFill/>
                <a:ln w="25560">
                  <a:solidFill>
                    <a:srgbClr val="8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"/>
            <p:cNvGrpSpPr/>
            <p:nvPr/>
          </p:nvGrpSpPr>
          <p:grpSpPr>
            <a:xfrm>
              <a:off x="1712160" y="1979640"/>
              <a:ext cx="1374480" cy="830880"/>
              <a:chOff x="1712160" y="1979640"/>
              <a:chExt cx="1374480" cy="830880"/>
            </a:xfrm>
          </p:grpSpPr>
          <p:sp>
            <p:nvSpPr>
              <p:cNvPr id="431" name=""/>
              <p:cNvSpPr/>
              <p:nvPr/>
            </p:nvSpPr>
            <p:spPr>
              <a:xfrm flipV="1">
                <a:off x="2044080" y="2310120"/>
                <a:ext cx="477360" cy="45072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1712160" y="2252520"/>
                <a:ext cx="829440" cy="3070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 flipV="1">
                <a:off x="2073960" y="2112120"/>
                <a:ext cx="470520" cy="1378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2393640" y="1991160"/>
                <a:ext cx="693000" cy="3513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5" name=""/>
              <p:cNvGrpSpPr/>
              <p:nvPr/>
            </p:nvGrpSpPr>
            <p:grpSpPr>
              <a:xfrm>
                <a:off x="1866600" y="1979640"/>
                <a:ext cx="857160" cy="830880"/>
                <a:chOff x="1866600" y="1979640"/>
                <a:chExt cx="857160" cy="830880"/>
              </a:xfrm>
            </p:grpSpPr>
            <p:sp>
              <p:nvSpPr>
                <p:cNvPr id="436" name=""/>
                <p:cNvSpPr/>
                <p:nvPr/>
              </p:nvSpPr>
              <p:spPr>
                <a:xfrm rot="600000">
                  <a:off x="2420280" y="1999440"/>
                  <a:ext cx="268200" cy="425160"/>
                </a:xfrm>
                <a:custGeom>
                  <a:avLst/>
                  <a:gdLst/>
                  <a:ahLst/>
                  <a:rect l="l" t="t" r="r" b="b"/>
                  <a:pathLst>
                    <a:path w="169" h="268">
                      <a:moveTo>
                        <a:pt x="53" y="0"/>
                      </a:moveTo>
                      <a:cubicBezTo>
                        <a:pt x="45" y="15"/>
                        <a:pt x="0" y="65"/>
                        <a:pt x="9" y="88"/>
                      </a:cubicBezTo>
                      <a:cubicBezTo>
                        <a:pt x="18" y="111"/>
                        <a:pt x="97" y="112"/>
                        <a:pt x="105" y="136"/>
                      </a:cubicBezTo>
                      <a:cubicBezTo>
                        <a:pt x="113" y="160"/>
                        <a:pt x="46" y="210"/>
                        <a:pt x="57" y="232"/>
                      </a:cubicBezTo>
                      <a:cubicBezTo>
                        <a:pt x="68" y="254"/>
                        <a:pt x="150" y="262"/>
                        <a:pt x="169" y="268"/>
                      </a:cubicBezTo>
                    </a:path>
                  </a:pathLst>
                </a:custGeom>
                <a:noFill/>
                <a:ln w="25560">
                  <a:solidFill>
                    <a:srgbClr val="8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600000">
                  <a:off x="2173320" y="2025000"/>
                  <a:ext cx="298440" cy="621720"/>
                </a:xfrm>
                <a:custGeom>
                  <a:avLst/>
                  <a:gdLst/>
                  <a:ahLst/>
                  <a:rect l="l" t="t" r="r" b="b"/>
                  <a:pathLst>
                    <a:path w="188" h="392">
                      <a:moveTo>
                        <a:pt x="53" y="0"/>
                      </a:moveTo>
                      <a:cubicBezTo>
                        <a:pt x="45" y="15"/>
                        <a:pt x="0" y="65"/>
                        <a:pt x="9" y="88"/>
                      </a:cubicBezTo>
                      <a:cubicBezTo>
                        <a:pt x="18" y="111"/>
                        <a:pt x="97" y="112"/>
                        <a:pt x="105" y="136"/>
                      </a:cubicBezTo>
                      <a:cubicBezTo>
                        <a:pt x="113" y="160"/>
                        <a:pt x="45" y="207"/>
                        <a:pt x="57" y="232"/>
                      </a:cubicBezTo>
                      <a:cubicBezTo>
                        <a:pt x="69" y="257"/>
                        <a:pt x="166" y="261"/>
                        <a:pt x="177" y="288"/>
                      </a:cubicBezTo>
                      <a:cubicBezTo>
                        <a:pt x="188" y="315"/>
                        <a:pt x="136" y="370"/>
                        <a:pt x="125" y="392"/>
                      </a:cubicBezTo>
                    </a:path>
                  </a:pathLst>
                </a:custGeom>
                <a:noFill/>
                <a:ln w="25560">
                  <a:solidFill>
                    <a:srgbClr val="8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600000">
                  <a:off x="1924920" y="2078640"/>
                  <a:ext cx="374760" cy="704520"/>
                </a:xfrm>
                <a:custGeom>
                  <a:avLst/>
                  <a:gdLst/>
                  <a:ahLst/>
                  <a:rect l="l" t="t" r="r" b="b"/>
                  <a:pathLst>
                    <a:path w="236" h="444">
                      <a:moveTo>
                        <a:pt x="53" y="0"/>
                      </a:moveTo>
                      <a:cubicBezTo>
                        <a:pt x="45" y="15"/>
                        <a:pt x="0" y="65"/>
                        <a:pt x="9" y="88"/>
                      </a:cubicBezTo>
                      <a:cubicBezTo>
                        <a:pt x="18" y="111"/>
                        <a:pt x="97" y="112"/>
                        <a:pt x="105" y="136"/>
                      </a:cubicBezTo>
                      <a:cubicBezTo>
                        <a:pt x="113" y="160"/>
                        <a:pt x="45" y="207"/>
                        <a:pt x="57" y="232"/>
                      </a:cubicBezTo>
                      <a:cubicBezTo>
                        <a:pt x="69" y="257"/>
                        <a:pt x="166" y="259"/>
                        <a:pt x="177" y="288"/>
                      </a:cubicBezTo>
                      <a:cubicBezTo>
                        <a:pt x="188" y="317"/>
                        <a:pt x="114" y="378"/>
                        <a:pt x="124" y="404"/>
                      </a:cubicBezTo>
                      <a:cubicBezTo>
                        <a:pt x="134" y="430"/>
                        <a:pt x="213" y="436"/>
                        <a:pt x="236" y="444"/>
                      </a:cubicBezTo>
                    </a:path>
                  </a:pathLst>
                </a:custGeom>
                <a:noFill/>
                <a:ln w="25560">
                  <a:solidFill>
                    <a:srgbClr val="8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9" name=""/>
            <p:cNvSpPr/>
            <p:nvPr/>
          </p:nvSpPr>
          <p:spPr>
            <a:xfrm rot="5700000">
              <a:off x="2854080" y="1797840"/>
              <a:ext cx="380880" cy="3808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473120" y="672480"/>
            <a:ext cx="3224160" cy="2540520"/>
            <a:chOff x="1473120" y="672480"/>
            <a:chExt cx="3224160" cy="2540520"/>
          </a:xfrm>
        </p:grpSpPr>
        <p:grpSp>
          <p:nvGrpSpPr>
            <p:cNvPr id="441" name=""/>
            <p:cNvGrpSpPr/>
            <p:nvPr/>
          </p:nvGrpSpPr>
          <p:grpSpPr>
            <a:xfrm>
              <a:off x="1473120" y="1562400"/>
              <a:ext cx="1618920" cy="642240"/>
              <a:chOff x="1473120" y="1562400"/>
              <a:chExt cx="1618920" cy="642240"/>
            </a:xfrm>
          </p:grpSpPr>
          <p:sp>
            <p:nvSpPr>
              <p:cNvPr id="442" name=""/>
              <p:cNvSpPr/>
              <p:nvPr/>
            </p:nvSpPr>
            <p:spPr>
              <a:xfrm flipH="1">
                <a:off x="2000520" y="1985040"/>
                <a:ext cx="376200" cy="219600"/>
              </a:xfrm>
              <a:prstGeom prst="line">
                <a:avLst/>
              </a:prstGeom>
              <a:ln w="63360">
                <a:solidFill>
                  <a:srgbClr val="0000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 flipV="1">
                <a:off x="1473120" y="1829880"/>
                <a:ext cx="955440" cy="118800"/>
              </a:xfrm>
              <a:prstGeom prst="line">
                <a:avLst/>
              </a:prstGeom>
              <a:ln w="63360">
                <a:solidFill>
                  <a:srgbClr val="0000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 flipV="1">
                <a:off x="1764000" y="1562400"/>
                <a:ext cx="663120" cy="387360"/>
              </a:xfrm>
              <a:prstGeom prst="line">
                <a:avLst/>
              </a:prstGeom>
              <a:ln w="63360">
                <a:solidFill>
                  <a:srgbClr val="0000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2238840" y="1959120"/>
                <a:ext cx="853200" cy="14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2195640" y="672480"/>
              <a:ext cx="2501640" cy="2465280"/>
              <a:chOff x="2195640" y="672480"/>
              <a:chExt cx="2501640" cy="2465280"/>
            </a:xfrm>
          </p:grpSpPr>
          <p:sp>
            <p:nvSpPr>
              <p:cNvPr id="447" name=""/>
              <p:cNvSpPr/>
              <p:nvPr/>
            </p:nvSpPr>
            <p:spPr>
              <a:xfrm flipV="1">
                <a:off x="3793320" y="1754640"/>
                <a:ext cx="375840" cy="2196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42200" y="2009880"/>
                <a:ext cx="955080" cy="11844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42920" y="2009520"/>
                <a:ext cx="662400" cy="3873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078360" y="1986840"/>
                <a:ext cx="853200" cy="1368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 flipV="1">
                <a:off x="2436120" y="1292400"/>
                <a:ext cx="344160" cy="1875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2529360" y="672480"/>
                <a:ext cx="307080" cy="82944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2835360" y="765720"/>
                <a:ext cx="42480" cy="73512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flipV="1">
                <a:off x="2747160" y="1353600"/>
                <a:ext cx="351000" cy="69264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2583720" y="2508480"/>
                <a:ext cx="188640" cy="6292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2195640" y="2448720"/>
                <a:ext cx="564840" cy="6804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2284920" y="2447280"/>
                <a:ext cx="476640" cy="1152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2676960" y="1948680"/>
                <a:ext cx="424440" cy="65052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5700000">
                <a:off x="2877840" y="1787040"/>
                <a:ext cx="380880" cy="38124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 rot="5400000">
              <a:off x="2778840" y="1446840"/>
              <a:ext cx="268200" cy="425520"/>
            </a:xfrm>
            <a:custGeom>
              <a:avLst/>
              <a:gdLst/>
              <a:ahLst/>
              <a:rect l="l" t="t" r="r" b="b"/>
              <a:pathLst>
                <a:path w="169" h="268">
                  <a:moveTo>
                    <a:pt x="53" y="0"/>
                  </a:moveTo>
                  <a:cubicBezTo>
                    <a:pt x="45" y="15"/>
                    <a:pt x="0" y="65"/>
                    <a:pt x="9" y="88"/>
                  </a:cubicBezTo>
                  <a:cubicBezTo>
                    <a:pt x="18" y="111"/>
                    <a:pt x="97" y="112"/>
                    <a:pt x="105" y="136"/>
                  </a:cubicBezTo>
                  <a:cubicBezTo>
                    <a:pt x="113" y="160"/>
                    <a:pt x="46" y="210"/>
                    <a:pt x="57" y="232"/>
                  </a:cubicBezTo>
                  <a:cubicBezTo>
                    <a:pt x="68" y="254"/>
                    <a:pt x="150" y="262"/>
                    <a:pt x="169" y="268"/>
                  </a:cubicBezTo>
                </a:path>
              </a:pathLst>
            </a:custGeom>
            <a:noFill/>
            <a:ln w="255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5400000">
              <a:off x="2665080" y="1058760"/>
              <a:ext cx="298440" cy="622440"/>
            </a:xfrm>
            <a:custGeom>
              <a:avLst/>
              <a:gdLst/>
              <a:ahLst/>
              <a:rect l="l" t="t" r="r" b="b"/>
              <a:pathLst>
                <a:path w="188" h="392">
                  <a:moveTo>
                    <a:pt x="53" y="0"/>
                  </a:moveTo>
                  <a:cubicBezTo>
                    <a:pt x="45" y="15"/>
                    <a:pt x="0" y="65"/>
                    <a:pt x="9" y="88"/>
                  </a:cubicBezTo>
                  <a:cubicBezTo>
                    <a:pt x="18" y="111"/>
                    <a:pt x="97" y="112"/>
                    <a:pt x="105" y="136"/>
                  </a:cubicBezTo>
                  <a:cubicBezTo>
                    <a:pt x="113" y="160"/>
                    <a:pt x="45" y="207"/>
                    <a:pt x="57" y="232"/>
                  </a:cubicBezTo>
                  <a:cubicBezTo>
                    <a:pt x="69" y="257"/>
                    <a:pt x="166" y="261"/>
                    <a:pt x="177" y="288"/>
                  </a:cubicBezTo>
                  <a:cubicBezTo>
                    <a:pt x="188" y="315"/>
                    <a:pt x="136" y="370"/>
                    <a:pt x="125" y="392"/>
                  </a:cubicBezTo>
                </a:path>
              </a:pathLst>
            </a:custGeom>
            <a:noFill/>
            <a:ln w="255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5400000">
              <a:off x="2509560" y="750600"/>
              <a:ext cx="374760" cy="704880"/>
            </a:xfrm>
            <a:custGeom>
              <a:avLst/>
              <a:gdLst/>
              <a:ahLst/>
              <a:rect l="l" t="t" r="r" b="b"/>
              <a:pathLst>
                <a:path w="236" h="444">
                  <a:moveTo>
                    <a:pt x="53" y="0"/>
                  </a:moveTo>
                  <a:cubicBezTo>
                    <a:pt x="45" y="15"/>
                    <a:pt x="0" y="65"/>
                    <a:pt x="9" y="88"/>
                  </a:cubicBezTo>
                  <a:cubicBezTo>
                    <a:pt x="18" y="111"/>
                    <a:pt x="97" y="112"/>
                    <a:pt x="105" y="136"/>
                  </a:cubicBezTo>
                  <a:cubicBezTo>
                    <a:pt x="113" y="160"/>
                    <a:pt x="45" y="207"/>
                    <a:pt x="57" y="232"/>
                  </a:cubicBezTo>
                  <a:cubicBezTo>
                    <a:pt x="69" y="257"/>
                    <a:pt x="166" y="259"/>
                    <a:pt x="177" y="288"/>
                  </a:cubicBezTo>
                  <a:cubicBezTo>
                    <a:pt x="188" y="317"/>
                    <a:pt x="114" y="378"/>
                    <a:pt x="124" y="404"/>
                  </a:cubicBezTo>
                  <a:cubicBezTo>
                    <a:pt x="134" y="430"/>
                    <a:pt x="213" y="436"/>
                    <a:pt x="236" y="444"/>
                  </a:cubicBezTo>
                </a:path>
              </a:pathLst>
            </a:custGeom>
            <a:noFill/>
            <a:ln w="255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179800" y="2161800"/>
              <a:ext cx="769320" cy="1051200"/>
              <a:chOff x="2179800" y="2161800"/>
              <a:chExt cx="769320" cy="1051200"/>
            </a:xfrm>
          </p:grpSpPr>
          <p:sp>
            <p:nvSpPr>
              <p:cNvPr id="464" name=""/>
              <p:cNvSpPr/>
              <p:nvPr/>
            </p:nvSpPr>
            <p:spPr>
              <a:xfrm rot="20400000">
                <a:off x="2616120" y="2194560"/>
                <a:ext cx="268200" cy="425160"/>
              </a:xfrm>
              <a:custGeom>
                <a:avLst/>
                <a:gdLst/>
                <a:ahLst/>
                <a:rect l="l" t="t" r="r" b="b"/>
                <a:pathLst>
                  <a:path w="169" h="268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6" y="210"/>
                      <a:pt x="57" y="232"/>
                    </a:cubicBezTo>
                    <a:cubicBezTo>
                      <a:pt x="68" y="254"/>
                      <a:pt x="150" y="262"/>
                      <a:pt x="169" y="268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20400000">
                <a:off x="2461320" y="2319480"/>
                <a:ext cx="298440" cy="621720"/>
              </a:xfrm>
              <a:custGeom>
                <a:avLst/>
                <a:gdLst/>
                <a:ahLst/>
                <a:rect l="l" t="t" r="r" b="b"/>
                <a:pathLst>
                  <a:path w="188" h="392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61"/>
                      <a:pt x="177" y="288"/>
                    </a:cubicBezTo>
                    <a:cubicBezTo>
                      <a:pt x="188" y="315"/>
                      <a:pt x="136" y="370"/>
                      <a:pt x="125" y="392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20400000">
                <a:off x="2288880" y="2465280"/>
                <a:ext cx="374760" cy="704520"/>
              </a:xfrm>
              <a:custGeom>
                <a:avLst/>
                <a:gdLst/>
                <a:ahLst/>
                <a:rect l="l" t="t" r="r" b="b"/>
                <a:pathLst>
                  <a:path w="236" h="444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59"/>
                      <a:pt x="177" y="288"/>
                    </a:cubicBezTo>
                    <a:cubicBezTo>
                      <a:pt x="188" y="317"/>
                      <a:pt x="114" y="378"/>
                      <a:pt x="124" y="404"/>
                    </a:cubicBezTo>
                    <a:cubicBezTo>
                      <a:pt x="134" y="430"/>
                      <a:pt x="213" y="436"/>
                      <a:pt x="236" y="444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7" name=""/>
          <p:cNvSpPr/>
          <p:nvPr/>
        </p:nvSpPr>
        <p:spPr>
          <a:xfrm>
            <a:off x="5783760" y="3352680"/>
            <a:ext cx="31219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ch-cone shape depends on R.P. ang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ch-cone is a source of of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v. of Tsukuba, ShinIchi Esu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DE01-8571-43F7-927B-CD0023FC51D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QM08 Tsinghua Univ., Beijing, China, 9/Oct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5562720" y="152280"/>
            <a:ext cx="3352680" cy="25909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8076960" cy="19051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304920" y="3300480"/>
            <a:ext cx="8453160" cy="31003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3629520" y="472428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SimSun"/>
              </a:rPr>
              <a:t>STAR Prelim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275680" y="3838680"/>
            <a:ext cx="341280" cy="81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SimSun"/>
              </a:rPr>
              <a:t>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71000" y="5070240"/>
            <a:ext cx="341280" cy="57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SimSun"/>
              </a:rPr>
              <a:t>Jet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797200" y="3657600"/>
            <a:ext cx="385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SimSun"/>
              </a:rPr>
              <a:t>3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r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&lt;4, 1.5&lt;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r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&lt;2.0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392960" y="297180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QM08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021000" y="914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1200000">
            <a:off x="6021000" y="2376000"/>
            <a:ext cx="94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9800000">
            <a:off x="7846200" y="2333160"/>
            <a:ext cx="45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705720" y="1060560"/>
            <a:ext cx="1358640" cy="1111320"/>
          </a:xfrm>
          <a:custGeom>
            <a:avLst/>
            <a:gdLst/>
            <a:ahLst/>
            <a:rect l="l" t="t" r="r" b="b"/>
            <a:pathLst>
              <a:path w="856" h="700">
                <a:moveTo>
                  <a:pt x="0" y="300"/>
                </a:moveTo>
                <a:lnTo>
                  <a:pt x="101" y="700"/>
                </a:lnTo>
                <a:lnTo>
                  <a:pt x="856" y="320"/>
                </a:lnTo>
                <a:lnTo>
                  <a:pt x="696" y="0"/>
                </a:lnTo>
                <a:lnTo>
                  <a:pt x="0" y="30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415200" y="1542960"/>
            <a:ext cx="442800" cy="622440"/>
          </a:xfrm>
          <a:custGeom>
            <a:avLst/>
            <a:gdLst/>
            <a:ahLst/>
            <a:rect l="l" t="t" r="r" b="b"/>
            <a:pathLst>
              <a:path w="279" h="392">
                <a:moveTo>
                  <a:pt x="279" y="392"/>
                </a:moveTo>
                <a:lnTo>
                  <a:pt x="183" y="0"/>
                </a:lnTo>
                <a:lnTo>
                  <a:pt x="0" y="283"/>
                </a:lnTo>
                <a:lnTo>
                  <a:pt x="279" y="392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20100000">
            <a:off x="6860520" y="137124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219320" y="3917880"/>
            <a:ext cx="6172200" cy="1567800"/>
            <a:chOff x="1219320" y="3917880"/>
            <a:chExt cx="6172200" cy="1567800"/>
          </a:xfrm>
        </p:grpSpPr>
        <p:grpSp>
          <p:nvGrpSpPr>
            <p:cNvPr id="483" name=""/>
            <p:cNvGrpSpPr/>
            <p:nvPr/>
          </p:nvGrpSpPr>
          <p:grpSpPr>
            <a:xfrm>
              <a:off x="1219320" y="3917880"/>
              <a:ext cx="6172200" cy="637560"/>
              <a:chOff x="1219320" y="3917880"/>
              <a:chExt cx="6172200" cy="637560"/>
            </a:xfrm>
          </p:grpSpPr>
          <p:sp>
            <p:nvSpPr>
              <p:cNvPr id="484" name=""/>
              <p:cNvSpPr/>
              <p:nvPr/>
            </p:nvSpPr>
            <p:spPr>
              <a:xfrm>
                <a:off x="1295280" y="4466880"/>
                <a:ext cx="609624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295280" y="4006440"/>
                <a:ext cx="3276720" cy="4568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219320" y="391788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438280" y="407016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581280" y="426672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768920" y="432720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987880" y="431136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130880" y="431460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1219320" y="5181480"/>
              <a:ext cx="6172200" cy="304200"/>
              <a:chOff x="1219320" y="5181480"/>
              <a:chExt cx="6172200" cy="304200"/>
            </a:xfrm>
          </p:grpSpPr>
          <p:sp>
            <p:nvSpPr>
              <p:cNvPr id="493" name=""/>
              <p:cNvSpPr/>
              <p:nvPr/>
            </p:nvSpPr>
            <p:spPr>
              <a:xfrm>
                <a:off x="1295280" y="5333760"/>
                <a:ext cx="609624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15040" y="522900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43600" y="518148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68920" y="521316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581280" y="521316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406600" y="522576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219320" y="5257440"/>
                <a:ext cx="228600" cy="2282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0" name="Text Box 39"/>
          <p:cNvSpPr/>
          <p:nvPr/>
        </p:nvSpPr>
        <p:spPr>
          <a:xfrm>
            <a:off x="8172360" y="2890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j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43"/>
          <p:cNvSpPr/>
          <p:nvPr/>
        </p:nvSpPr>
        <p:spPr>
          <a:xfrm flipH="1">
            <a:off x="7391520" y="533520"/>
            <a:ext cx="838080" cy="38088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ovéPole 30"/>
          <p:cNvSpPr/>
          <p:nvPr/>
        </p:nvSpPr>
        <p:spPr>
          <a:xfrm>
            <a:off x="6324120" y="15228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Au+Au, 200 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5520" y="152280"/>
            <a:ext cx="2465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idge/Con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geometry (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126880" y="2819520"/>
            <a:ext cx="2745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dge shape depends on R.P. ang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dge is a source of of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099040" y="2819520"/>
            <a:ext cx="20293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t does not depends on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t reduces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2438280" y="243000"/>
            <a:ext cx="2728800" cy="2501640"/>
            <a:chOff x="2438280" y="243000"/>
            <a:chExt cx="2728800" cy="2501640"/>
          </a:xfrm>
        </p:grpSpPr>
        <p:sp>
          <p:nvSpPr>
            <p:cNvPr id="507" name=""/>
            <p:cNvSpPr/>
            <p:nvPr/>
          </p:nvSpPr>
          <p:spPr>
            <a:xfrm>
              <a:off x="2805120" y="243000"/>
              <a:ext cx="2361960" cy="213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05120" y="130968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09680" y="1081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J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6200000">
              <a:off x="2937960" y="1709280"/>
              <a:ext cx="800280" cy="457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Ri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6200000">
              <a:off x="3186000" y="1157400"/>
              <a:ext cx="1905120" cy="38088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Shoulder (co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6200000">
              <a:off x="3566880" y="1157400"/>
              <a:ext cx="190512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Head (</a:t>
              </a: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2938320" y="452520"/>
              <a:ext cx="799920" cy="457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Ri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6200000">
              <a:off x="3947760" y="1157040"/>
              <a:ext cx="1905120" cy="38124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Shoulder (co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010320" y="2376360"/>
              <a:ext cx="73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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77360" y="2376360"/>
              <a:ext cx="74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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16200000">
              <a:off x="2245320" y="115668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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295280" y="1523880"/>
            <a:ext cx="914400" cy="990720"/>
            <a:chOff x="1295280" y="1523880"/>
            <a:chExt cx="914400" cy="990720"/>
          </a:xfrm>
        </p:grpSpPr>
        <p:sp>
          <p:nvSpPr>
            <p:cNvPr id="519" name=""/>
            <p:cNvSpPr/>
            <p:nvPr/>
          </p:nvSpPr>
          <p:spPr>
            <a:xfrm>
              <a:off x="1295280" y="1523880"/>
              <a:ext cx="914400" cy="457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295280" y="2057400"/>
              <a:ext cx="914400" cy="45720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0" lang="en-US" sz="2000" spc="-1" strike="noStrike" baseline="-25000">
                  <a:solidFill>
                    <a:srgbClr val="0000ff"/>
                  </a:solidFill>
                  <a:latin typeface="Times New Roman"/>
                </a:rPr>
                <a:t>2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52480" y="2133360"/>
              <a:ext cx="22860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1752480" y="1600200"/>
              <a:ext cx="22860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v. of Tsukuba, ShinIchi Esu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52E-5EEE-4620-ACF1-7D49097AD40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QM08 Tsinghua Univ., Beijing, China, 9/Oct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"/>
          <p:cNvGrpSpPr/>
          <p:nvPr/>
        </p:nvGrpSpPr>
        <p:grpSpPr>
          <a:xfrm>
            <a:off x="380880" y="1351080"/>
            <a:ext cx="3238560" cy="3959280"/>
            <a:chOff x="380880" y="1351080"/>
            <a:chExt cx="3238560" cy="3959280"/>
          </a:xfrm>
        </p:grpSpPr>
        <p:grpSp>
          <p:nvGrpSpPr>
            <p:cNvPr id="524" name=""/>
            <p:cNvGrpSpPr/>
            <p:nvPr/>
          </p:nvGrpSpPr>
          <p:grpSpPr>
            <a:xfrm>
              <a:off x="1388160" y="2430720"/>
              <a:ext cx="1258200" cy="1977840"/>
              <a:chOff x="1388160" y="2430720"/>
              <a:chExt cx="1258200" cy="1977840"/>
            </a:xfrm>
          </p:grpSpPr>
          <p:sp>
            <p:nvSpPr>
              <p:cNvPr id="525" name=""/>
              <p:cNvSpPr/>
              <p:nvPr/>
            </p:nvSpPr>
            <p:spPr>
              <a:xfrm>
                <a:off x="1388160" y="2430720"/>
                <a:ext cx="1258200" cy="1977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380880" y="3402000"/>
              <a:ext cx="3238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035800" y="1351080"/>
              <a:ext cx="108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812520" y="2284200"/>
              <a:ext cx="2338560" cy="234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>
              <a:off x="918360" y="2284200"/>
              <a:ext cx="2341800" cy="234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305240" y="1371600"/>
            <a:ext cx="3238560" cy="3959280"/>
            <a:chOff x="4305240" y="1371600"/>
            <a:chExt cx="3238560" cy="3959280"/>
          </a:xfrm>
        </p:grpSpPr>
        <p:grpSp>
          <p:nvGrpSpPr>
            <p:cNvPr id="531" name=""/>
            <p:cNvGrpSpPr/>
            <p:nvPr/>
          </p:nvGrpSpPr>
          <p:grpSpPr>
            <a:xfrm>
              <a:off x="5312520" y="2451240"/>
              <a:ext cx="1258200" cy="1977840"/>
              <a:chOff x="5312520" y="2451240"/>
              <a:chExt cx="1258200" cy="1977840"/>
            </a:xfrm>
          </p:grpSpPr>
          <p:sp>
            <p:nvSpPr>
              <p:cNvPr id="532" name=""/>
              <p:cNvSpPr/>
              <p:nvPr/>
            </p:nvSpPr>
            <p:spPr>
              <a:xfrm>
                <a:off x="5312520" y="2451240"/>
                <a:ext cx="1258200" cy="1977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4305240" y="3422520"/>
              <a:ext cx="3238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959800" y="1371600"/>
              <a:ext cx="144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4736880" y="2304720"/>
              <a:ext cx="2338920" cy="234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4843080" y="2304720"/>
              <a:ext cx="2342160" cy="234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1460520" y="2106720"/>
            <a:ext cx="1260360" cy="28796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181240" y="3726000"/>
            <a:ext cx="539640" cy="1260360"/>
          </a:xfrm>
          <a:prstGeom prst="line">
            <a:avLst/>
          </a:prstGeom>
          <a:ln w="108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452680" y="487692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08240" y="367668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ff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712960" y="270504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244600" y="198612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00ff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76240" y="281304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ff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76240" y="346248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309680" y="4290840"/>
            <a:ext cx="56988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00ff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106640" y="152388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909880" y="4648320"/>
            <a:ext cx="914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Trigger </a:t>
            </a:r>
            <a:br>
              <a:rPr sz="1600"/>
            </a:b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part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90760" y="2970360"/>
            <a:ext cx="1067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(R.P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256520" y="2970360"/>
            <a:ext cx="1066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(R.P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61240" y="1027080"/>
            <a:ext cx="345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036880" y="1027080"/>
            <a:ext cx="345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476360" y="2986200"/>
            <a:ext cx="581040" cy="839520"/>
            <a:chOff x="1476360" y="2986200"/>
            <a:chExt cx="581040" cy="839520"/>
          </a:xfrm>
        </p:grpSpPr>
        <p:sp>
          <p:nvSpPr>
            <p:cNvPr id="553" name=""/>
            <p:cNvSpPr/>
            <p:nvPr/>
          </p:nvSpPr>
          <p:spPr>
            <a:xfrm>
              <a:off x="1476360" y="2986200"/>
              <a:ext cx="581040" cy="839520"/>
            </a:xfrm>
            <a:custGeom>
              <a:avLst/>
              <a:gdLst/>
              <a:ahLst/>
              <a:rect l="l" t="t" r="r" b="b"/>
              <a:pathLst>
                <a:path w="1619" h="2338">
                  <a:moveTo>
                    <a:pt x="648" y="506"/>
                  </a:moveTo>
                  <a:lnTo>
                    <a:pt x="614" y="527"/>
                  </a:lnTo>
                  <a:lnTo>
                    <a:pt x="583" y="550"/>
                  </a:lnTo>
                  <a:lnTo>
                    <a:pt x="553" y="575"/>
                  </a:lnTo>
                  <a:lnTo>
                    <a:pt x="524" y="602"/>
                  </a:lnTo>
                  <a:lnTo>
                    <a:pt x="497" y="630"/>
                  </a:lnTo>
                  <a:lnTo>
                    <a:pt x="471" y="659"/>
                  </a:lnTo>
                  <a:lnTo>
                    <a:pt x="447" y="690"/>
                  </a:lnTo>
                  <a:lnTo>
                    <a:pt x="425" y="723"/>
                  </a:lnTo>
                  <a:lnTo>
                    <a:pt x="403" y="756"/>
                  </a:lnTo>
                  <a:lnTo>
                    <a:pt x="384" y="791"/>
                  </a:lnTo>
                  <a:lnTo>
                    <a:pt x="366" y="826"/>
                  </a:lnTo>
                  <a:lnTo>
                    <a:pt x="351" y="863"/>
                  </a:lnTo>
                  <a:lnTo>
                    <a:pt x="337" y="901"/>
                  </a:lnTo>
                  <a:lnTo>
                    <a:pt x="325" y="939"/>
                  </a:lnTo>
                  <a:lnTo>
                    <a:pt x="315" y="978"/>
                  </a:lnTo>
                  <a:lnTo>
                    <a:pt x="307" y="1017"/>
                  </a:lnTo>
                  <a:lnTo>
                    <a:pt x="301" y="1057"/>
                  </a:lnTo>
                  <a:lnTo>
                    <a:pt x="297" y="1098"/>
                  </a:lnTo>
                  <a:lnTo>
                    <a:pt x="295" y="1139"/>
                  </a:lnTo>
                  <a:lnTo>
                    <a:pt x="294" y="1180"/>
                  </a:lnTo>
                  <a:lnTo>
                    <a:pt x="297" y="1221"/>
                  </a:lnTo>
                  <a:lnTo>
                    <a:pt x="300" y="1262"/>
                  </a:lnTo>
                  <a:lnTo>
                    <a:pt x="306" y="1303"/>
                  </a:lnTo>
                  <a:lnTo>
                    <a:pt x="315" y="1344"/>
                  </a:lnTo>
                  <a:lnTo>
                    <a:pt x="324" y="1384"/>
                  </a:lnTo>
                  <a:lnTo>
                    <a:pt x="337" y="1423"/>
                  </a:lnTo>
                  <a:lnTo>
                    <a:pt x="349" y="1464"/>
                  </a:lnTo>
                  <a:lnTo>
                    <a:pt x="366" y="1502"/>
                  </a:lnTo>
                  <a:lnTo>
                    <a:pt x="384" y="1541"/>
                  </a:lnTo>
                  <a:lnTo>
                    <a:pt x="402" y="1578"/>
                  </a:lnTo>
                  <a:lnTo>
                    <a:pt x="422" y="1614"/>
                  </a:lnTo>
                  <a:lnTo>
                    <a:pt x="444" y="1649"/>
                  </a:lnTo>
                  <a:lnTo>
                    <a:pt x="468" y="1684"/>
                  </a:lnTo>
                  <a:lnTo>
                    <a:pt x="494" y="1717"/>
                  </a:lnTo>
                  <a:lnTo>
                    <a:pt x="523" y="1749"/>
                  </a:lnTo>
                  <a:lnTo>
                    <a:pt x="549" y="1779"/>
                  </a:lnTo>
                  <a:lnTo>
                    <a:pt x="579" y="1808"/>
                  </a:lnTo>
                  <a:lnTo>
                    <a:pt x="611" y="1834"/>
                  </a:lnTo>
                  <a:lnTo>
                    <a:pt x="643" y="1861"/>
                  </a:lnTo>
                  <a:lnTo>
                    <a:pt x="676" y="1886"/>
                  </a:lnTo>
                  <a:lnTo>
                    <a:pt x="711" y="1909"/>
                  </a:lnTo>
                  <a:lnTo>
                    <a:pt x="748" y="1929"/>
                  </a:lnTo>
                  <a:lnTo>
                    <a:pt x="782" y="1949"/>
                  </a:lnTo>
                  <a:lnTo>
                    <a:pt x="821" y="1966"/>
                  </a:lnTo>
                  <a:lnTo>
                    <a:pt x="857" y="1981"/>
                  </a:lnTo>
                  <a:lnTo>
                    <a:pt x="896" y="1995"/>
                  </a:lnTo>
                  <a:lnTo>
                    <a:pt x="935" y="2006"/>
                  </a:lnTo>
                  <a:lnTo>
                    <a:pt x="974" y="2015"/>
                  </a:lnTo>
                  <a:lnTo>
                    <a:pt x="1013" y="2024"/>
                  </a:lnTo>
                  <a:lnTo>
                    <a:pt x="1054" y="2028"/>
                  </a:lnTo>
                  <a:lnTo>
                    <a:pt x="1093" y="2031"/>
                  </a:lnTo>
                  <a:lnTo>
                    <a:pt x="1134" y="2033"/>
                  </a:lnTo>
                  <a:lnTo>
                    <a:pt x="1172" y="2032"/>
                  </a:lnTo>
                  <a:lnTo>
                    <a:pt x="1211" y="2029"/>
                  </a:lnTo>
                  <a:lnTo>
                    <a:pt x="1251" y="2025"/>
                  </a:lnTo>
                  <a:lnTo>
                    <a:pt x="1290" y="2017"/>
                  </a:lnTo>
                  <a:lnTo>
                    <a:pt x="1327" y="2008"/>
                  </a:lnTo>
                  <a:lnTo>
                    <a:pt x="1365" y="1997"/>
                  </a:lnTo>
                  <a:lnTo>
                    <a:pt x="1402" y="1985"/>
                  </a:lnTo>
                  <a:lnTo>
                    <a:pt x="1439" y="1970"/>
                  </a:lnTo>
                  <a:lnTo>
                    <a:pt x="1473" y="1953"/>
                  </a:lnTo>
                  <a:lnTo>
                    <a:pt x="1618" y="2225"/>
                  </a:lnTo>
                  <a:lnTo>
                    <a:pt x="1568" y="2249"/>
                  </a:lnTo>
                  <a:lnTo>
                    <a:pt x="1519" y="2270"/>
                  </a:lnTo>
                  <a:lnTo>
                    <a:pt x="1469" y="2288"/>
                  </a:lnTo>
                  <a:lnTo>
                    <a:pt x="1417" y="2303"/>
                  </a:lnTo>
                  <a:lnTo>
                    <a:pt x="1365" y="2315"/>
                  </a:lnTo>
                  <a:lnTo>
                    <a:pt x="1312" y="2324"/>
                  </a:lnTo>
                  <a:lnTo>
                    <a:pt x="1260" y="2332"/>
                  </a:lnTo>
                  <a:lnTo>
                    <a:pt x="1204" y="2335"/>
                  </a:lnTo>
                  <a:lnTo>
                    <a:pt x="1150" y="2337"/>
                  </a:lnTo>
                  <a:lnTo>
                    <a:pt x="1096" y="2334"/>
                  </a:lnTo>
                  <a:lnTo>
                    <a:pt x="1042" y="2329"/>
                  </a:lnTo>
                  <a:lnTo>
                    <a:pt x="986" y="2323"/>
                  </a:lnTo>
                  <a:lnTo>
                    <a:pt x="932" y="2312"/>
                  </a:lnTo>
                  <a:lnTo>
                    <a:pt x="878" y="2299"/>
                  </a:lnTo>
                  <a:lnTo>
                    <a:pt x="825" y="2283"/>
                  </a:lnTo>
                  <a:lnTo>
                    <a:pt x="773" y="2265"/>
                  </a:lnTo>
                  <a:lnTo>
                    <a:pt x="720" y="2244"/>
                  </a:lnTo>
                  <a:lnTo>
                    <a:pt x="669" y="2220"/>
                  </a:lnTo>
                  <a:lnTo>
                    <a:pt x="619" y="2194"/>
                  </a:lnTo>
                  <a:lnTo>
                    <a:pt x="571" y="2165"/>
                  </a:lnTo>
                  <a:lnTo>
                    <a:pt x="524" y="2134"/>
                  </a:lnTo>
                  <a:lnTo>
                    <a:pt x="478" y="2101"/>
                  </a:lnTo>
                  <a:lnTo>
                    <a:pt x="435" y="2065"/>
                  </a:lnTo>
                  <a:lnTo>
                    <a:pt x="391" y="2028"/>
                  </a:lnTo>
                  <a:lnTo>
                    <a:pt x="350" y="1988"/>
                  </a:lnTo>
                  <a:lnTo>
                    <a:pt x="310" y="1946"/>
                  </a:lnTo>
                  <a:lnTo>
                    <a:pt x="274" y="1902"/>
                  </a:lnTo>
                  <a:lnTo>
                    <a:pt x="239" y="1857"/>
                  </a:lnTo>
                  <a:lnTo>
                    <a:pt x="205" y="1811"/>
                  </a:lnTo>
                  <a:lnTo>
                    <a:pt x="174" y="1762"/>
                  </a:lnTo>
                  <a:lnTo>
                    <a:pt x="146" y="1712"/>
                  </a:lnTo>
                  <a:lnTo>
                    <a:pt x="120" y="1662"/>
                  </a:lnTo>
                  <a:lnTo>
                    <a:pt x="96" y="1609"/>
                  </a:lnTo>
                  <a:lnTo>
                    <a:pt x="75" y="1556"/>
                  </a:lnTo>
                  <a:lnTo>
                    <a:pt x="57" y="1501"/>
                  </a:lnTo>
                  <a:lnTo>
                    <a:pt x="40" y="1447"/>
                  </a:lnTo>
                  <a:lnTo>
                    <a:pt x="27" y="1391"/>
                  </a:lnTo>
                  <a:lnTo>
                    <a:pt x="17" y="1336"/>
                  </a:lnTo>
                  <a:lnTo>
                    <a:pt x="8" y="1280"/>
                  </a:lnTo>
                  <a:lnTo>
                    <a:pt x="3" y="1223"/>
                  </a:lnTo>
                  <a:lnTo>
                    <a:pt x="0" y="1167"/>
                  </a:lnTo>
                  <a:lnTo>
                    <a:pt x="0" y="1111"/>
                  </a:lnTo>
                  <a:lnTo>
                    <a:pt x="4" y="1054"/>
                  </a:lnTo>
                  <a:lnTo>
                    <a:pt x="9" y="999"/>
                  </a:lnTo>
                  <a:lnTo>
                    <a:pt x="17" y="944"/>
                  </a:lnTo>
                  <a:lnTo>
                    <a:pt x="29" y="891"/>
                  </a:lnTo>
                  <a:lnTo>
                    <a:pt x="42" y="836"/>
                  </a:lnTo>
                  <a:lnTo>
                    <a:pt x="58" y="784"/>
                  </a:lnTo>
                  <a:lnTo>
                    <a:pt x="77" y="733"/>
                  </a:lnTo>
                  <a:lnTo>
                    <a:pt x="98" y="682"/>
                  </a:lnTo>
                  <a:lnTo>
                    <a:pt x="123" y="632"/>
                  </a:lnTo>
                  <a:lnTo>
                    <a:pt x="149" y="586"/>
                  </a:lnTo>
                  <a:lnTo>
                    <a:pt x="179" y="539"/>
                  </a:lnTo>
                  <a:lnTo>
                    <a:pt x="208" y="495"/>
                  </a:lnTo>
                  <a:lnTo>
                    <a:pt x="243" y="453"/>
                  </a:lnTo>
                  <a:lnTo>
                    <a:pt x="277" y="412"/>
                  </a:lnTo>
                  <a:lnTo>
                    <a:pt x="314" y="374"/>
                  </a:lnTo>
                  <a:lnTo>
                    <a:pt x="353" y="337"/>
                  </a:lnTo>
                  <a:lnTo>
                    <a:pt x="395" y="304"/>
                  </a:lnTo>
                  <a:lnTo>
                    <a:pt x="438" y="271"/>
                  </a:lnTo>
                  <a:lnTo>
                    <a:pt x="482" y="242"/>
                  </a:lnTo>
                  <a:lnTo>
                    <a:pt x="332" y="0"/>
                  </a:lnTo>
                  <a:lnTo>
                    <a:pt x="913" y="156"/>
                  </a:lnTo>
                  <a:lnTo>
                    <a:pt x="798" y="748"/>
                  </a:lnTo>
                  <a:lnTo>
                    <a:pt x="648" y="506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1460520" y="3886200"/>
            <a:ext cx="534960" cy="3556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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905120" y="2782800"/>
            <a:ext cx="623880" cy="881280"/>
            <a:chOff x="1905120" y="2782800"/>
            <a:chExt cx="623880" cy="881280"/>
          </a:xfrm>
        </p:grpSpPr>
        <p:sp>
          <p:nvSpPr>
            <p:cNvPr id="556" name=""/>
            <p:cNvSpPr/>
            <p:nvPr/>
          </p:nvSpPr>
          <p:spPr>
            <a:xfrm>
              <a:off x="1905120" y="2782800"/>
              <a:ext cx="623880" cy="881280"/>
            </a:xfrm>
            <a:custGeom>
              <a:avLst/>
              <a:gdLst/>
              <a:ahLst/>
              <a:rect l="l" t="t" r="r" b="b"/>
              <a:pathLst>
                <a:path w="1739" h="2451">
                  <a:moveTo>
                    <a:pt x="438" y="571"/>
                  </a:moveTo>
                  <a:lnTo>
                    <a:pt x="477" y="562"/>
                  </a:lnTo>
                  <a:lnTo>
                    <a:pt x="518" y="555"/>
                  </a:lnTo>
                  <a:lnTo>
                    <a:pt x="553" y="549"/>
                  </a:lnTo>
                  <a:lnTo>
                    <a:pt x="591" y="545"/>
                  </a:lnTo>
                  <a:lnTo>
                    <a:pt x="633" y="548"/>
                  </a:lnTo>
                  <a:lnTo>
                    <a:pt x="670" y="545"/>
                  </a:lnTo>
                  <a:lnTo>
                    <a:pt x="710" y="548"/>
                  </a:lnTo>
                  <a:lnTo>
                    <a:pt x="750" y="553"/>
                  </a:lnTo>
                  <a:lnTo>
                    <a:pt x="786" y="560"/>
                  </a:lnTo>
                  <a:lnTo>
                    <a:pt x="826" y="572"/>
                  </a:lnTo>
                  <a:lnTo>
                    <a:pt x="867" y="583"/>
                  </a:lnTo>
                  <a:lnTo>
                    <a:pt x="905" y="595"/>
                  </a:lnTo>
                  <a:lnTo>
                    <a:pt x="939" y="609"/>
                  </a:lnTo>
                  <a:lnTo>
                    <a:pt x="977" y="627"/>
                  </a:lnTo>
                  <a:lnTo>
                    <a:pt x="1011" y="644"/>
                  </a:lnTo>
                  <a:lnTo>
                    <a:pt x="1046" y="665"/>
                  </a:lnTo>
                  <a:lnTo>
                    <a:pt x="1079" y="691"/>
                  </a:lnTo>
                  <a:lnTo>
                    <a:pt x="1112" y="713"/>
                  </a:lnTo>
                  <a:lnTo>
                    <a:pt x="1146" y="738"/>
                  </a:lnTo>
                  <a:lnTo>
                    <a:pt x="1175" y="765"/>
                  </a:lnTo>
                  <a:lnTo>
                    <a:pt x="1206" y="796"/>
                  </a:lnTo>
                  <a:lnTo>
                    <a:pt x="1234" y="825"/>
                  </a:lnTo>
                  <a:lnTo>
                    <a:pt x="1259" y="858"/>
                  </a:lnTo>
                  <a:lnTo>
                    <a:pt x="1285" y="890"/>
                  </a:lnTo>
                  <a:lnTo>
                    <a:pt x="1305" y="925"/>
                  </a:lnTo>
                  <a:lnTo>
                    <a:pt x="1326" y="961"/>
                  </a:lnTo>
                  <a:lnTo>
                    <a:pt x="1347" y="998"/>
                  </a:lnTo>
                  <a:lnTo>
                    <a:pt x="1366" y="1037"/>
                  </a:lnTo>
                  <a:lnTo>
                    <a:pt x="1382" y="1073"/>
                  </a:lnTo>
                  <a:lnTo>
                    <a:pt x="1398" y="1113"/>
                  </a:lnTo>
                  <a:lnTo>
                    <a:pt x="1411" y="1153"/>
                  </a:lnTo>
                  <a:lnTo>
                    <a:pt x="1421" y="1192"/>
                  </a:lnTo>
                  <a:lnTo>
                    <a:pt x="1430" y="1234"/>
                  </a:lnTo>
                  <a:lnTo>
                    <a:pt x="1436" y="1274"/>
                  </a:lnTo>
                  <a:lnTo>
                    <a:pt x="1445" y="1317"/>
                  </a:lnTo>
                  <a:lnTo>
                    <a:pt x="1445" y="1357"/>
                  </a:lnTo>
                  <a:lnTo>
                    <a:pt x="1447" y="1400"/>
                  </a:lnTo>
                  <a:lnTo>
                    <a:pt x="1448" y="1441"/>
                  </a:lnTo>
                  <a:lnTo>
                    <a:pt x="1443" y="1485"/>
                  </a:lnTo>
                  <a:lnTo>
                    <a:pt x="1440" y="1523"/>
                  </a:lnTo>
                  <a:lnTo>
                    <a:pt x="1435" y="1564"/>
                  </a:lnTo>
                  <a:lnTo>
                    <a:pt x="1423" y="1604"/>
                  </a:lnTo>
                  <a:lnTo>
                    <a:pt x="1412" y="1644"/>
                  </a:lnTo>
                  <a:lnTo>
                    <a:pt x="1404" y="1686"/>
                  </a:lnTo>
                  <a:lnTo>
                    <a:pt x="1388" y="1721"/>
                  </a:lnTo>
                  <a:lnTo>
                    <a:pt x="1372" y="1759"/>
                  </a:lnTo>
                  <a:lnTo>
                    <a:pt x="1353" y="1795"/>
                  </a:lnTo>
                  <a:lnTo>
                    <a:pt x="1333" y="1830"/>
                  </a:lnTo>
                  <a:lnTo>
                    <a:pt x="1315" y="1867"/>
                  </a:lnTo>
                  <a:lnTo>
                    <a:pt x="1290" y="1898"/>
                  </a:lnTo>
                  <a:lnTo>
                    <a:pt x="1267" y="1931"/>
                  </a:lnTo>
                  <a:lnTo>
                    <a:pt x="1240" y="1960"/>
                  </a:lnTo>
                  <a:lnTo>
                    <a:pt x="1212" y="1987"/>
                  </a:lnTo>
                  <a:lnTo>
                    <a:pt x="1186" y="2018"/>
                  </a:lnTo>
                  <a:lnTo>
                    <a:pt x="1156" y="2041"/>
                  </a:lnTo>
                  <a:lnTo>
                    <a:pt x="1123" y="2065"/>
                  </a:lnTo>
                  <a:lnTo>
                    <a:pt x="1092" y="2090"/>
                  </a:lnTo>
                  <a:lnTo>
                    <a:pt x="1057" y="2107"/>
                  </a:lnTo>
                  <a:lnTo>
                    <a:pt x="1023" y="2127"/>
                  </a:lnTo>
                  <a:lnTo>
                    <a:pt x="989" y="2145"/>
                  </a:lnTo>
                  <a:lnTo>
                    <a:pt x="951" y="2161"/>
                  </a:lnTo>
                  <a:lnTo>
                    <a:pt x="1058" y="2450"/>
                  </a:lnTo>
                  <a:lnTo>
                    <a:pt x="1106" y="2427"/>
                  </a:lnTo>
                  <a:lnTo>
                    <a:pt x="1155" y="2408"/>
                  </a:lnTo>
                  <a:lnTo>
                    <a:pt x="1202" y="2380"/>
                  </a:lnTo>
                  <a:lnTo>
                    <a:pt x="1248" y="2352"/>
                  </a:lnTo>
                  <a:lnTo>
                    <a:pt x="1292" y="2321"/>
                  </a:lnTo>
                  <a:lnTo>
                    <a:pt x="1338" y="2287"/>
                  </a:lnTo>
                  <a:lnTo>
                    <a:pt x="1378" y="2253"/>
                  </a:lnTo>
                  <a:lnTo>
                    <a:pt x="1419" y="2217"/>
                  </a:lnTo>
                  <a:lnTo>
                    <a:pt x="1452" y="2176"/>
                  </a:lnTo>
                  <a:lnTo>
                    <a:pt x="1489" y="2138"/>
                  </a:lnTo>
                  <a:lnTo>
                    <a:pt x="1522" y="2093"/>
                  </a:lnTo>
                  <a:lnTo>
                    <a:pt x="1556" y="2047"/>
                  </a:lnTo>
                  <a:lnTo>
                    <a:pt x="1585" y="2000"/>
                  </a:lnTo>
                  <a:lnTo>
                    <a:pt x="1608" y="1950"/>
                  </a:lnTo>
                  <a:lnTo>
                    <a:pt x="1632" y="1901"/>
                  </a:lnTo>
                  <a:lnTo>
                    <a:pt x="1654" y="1849"/>
                  </a:lnTo>
                  <a:lnTo>
                    <a:pt x="1674" y="1800"/>
                  </a:lnTo>
                  <a:lnTo>
                    <a:pt x="1692" y="1746"/>
                  </a:lnTo>
                  <a:lnTo>
                    <a:pt x="1706" y="1691"/>
                  </a:lnTo>
                  <a:lnTo>
                    <a:pt x="1716" y="1634"/>
                  </a:lnTo>
                  <a:lnTo>
                    <a:pt x="1726" y="1578"/>
                  </a:lnTo>
                  <a:lnTo>
                    <a:pt x="1731" y="1521"/>
                  </a:lnTo>
                  <a:lnTo>
                    <a:pt x="1738" y="1465"/>
                  </a:lnTo>
                  <a:lnTo>
                    <a:pt x="1735" y="1407"/>
                  </a:lnTo>
                  <a:lnTo>
                    <a:pt x="1734" y="1350"/>
                  </a:lnTo>
                  <a:lnTo>
                    <a:pt x="1731" y="1295"/>
                  </a:lnTo>
                  <a:lnTo>
                    <a:pt x="1725" y="1236"/>
                  </a:lnTo>
                  <a:lnTo>
                    <a:pt x="1712" y="1180"/>
                  </a:lnTo>
                  <a:lnTo>
                    <a:pt x="1702" y="1125"/>
                  </a:lnTo>
                  <a:lnTo>
                    <a:pt x="1686" y="1072"/>
                  </a:lnTo>
                  <a:lnTo>
                    <a:pt x="1667" y="1014"/>
                  </a:lnTo>
                  <a:lnTo>
                    <a:pt x="1650" y="960"/>
                  </a:lnTo>
                  <a:lnTo>
                    <a:pt x="1624" y="907"/>
                  </a:lnTo>
                  <a:lnTo>
                    <a:pt x="1602" y="857"/>
                  </a:lnTo>
                  <a:lnTo>
                    <a:pt x="1575" y="805"/>
                  </a:lnTo>
                  <a:lnTo>
                    <a:pt x="1542" y="757"/>
                  </a:lnTo>
                  <a:lnTo>
                    <a:pt x="1510" y="710"/>
                  </a:lnTo>
                  <a:lnTo>
                    <a:pt x="1475" y="663"/>
                  </a:lnTo>
                  <a:lnTo>
                    <a:pt x="1443" y="621"/>
                  </a:lnTo>
                  <a:lnTo>
                    <a:pt x="1402" y="578"/>
                  </a:lnTo>
                  <a:lnTo>
                    <a:pt x="1365" y="538"/>
                  </a:lnTo>
                  <a:lnTo>
                    <a:pt x="1323" y="501"/>
                  </a:lnTo>
                  <a:lnTo>
                    <a:pt x="1277" y="466"/>
                  </a:lnTo>
                  <a:lnTo>
                    <a:pt x="1235" y="431"/>
                  </a:lnTo>
                  <a:lnTo>
                    <a:pt x="1187" y="401"/>
                  </a:lnTo>
                  <a:lnTo>
                    <a:pt x="1139" y="373"/>
                  </a:lnTo>
                  <a:lnTo>
                    <a:pt x="1090" y="347"/>
                  </a:lnTo>
                  <a:lnTo>
                    <a:pt x="1042" y="326"/>
                  </a:lnTo>
                  <a:lnTo>
                    <a:pt x="989" y="303"/>
                  </a:lnTo>
                  <a:lnTo>
                    <a:pt x="937" y="286"/>
                  </a:lnTo>
                  <a:lnTo>
                    <a:pt x="888" y="269"/>
                  </a:lnTo>
                  <a:lnTo>
                    <a:pt x="832" y="258"/>
                  </a:lnTo>
                  <a:lnTo>
                    <a:pt x="779" y="247"/>
                  </a:lnTo>
                  <a:lnTo>
                    <a:pt x="727" y="242"/>
                  </a:lnTo>
                  <a:lnTo>
                    <a:pt x="671" y="237"/>
                  </a:lnTo>
                  <a:lnTo>
                    <a:pt x="621" y="237"/>
                  </a:lnTo>
                  <a:lnTo>
                    <a:pt x="564" y="238"/>
                  </a:lnTo>
                  <a:lnTo>
                    <a:pt x="511" y="242"/>
                  </a:lnTo>
                  <a:lnTo>
                    <a:pt x="458" y="250"/>
                  </a:lnTo>
                  <a:lnTo>
                    <a:pt x="408" y="259"/>
                  </a:lnTo>
                  <a:lnTo>
                    <a:pt x="354" y="273"/>
                  </a:lnTo>
                  <a:lnTo>
                    <a:pt x="278" y="0"/>
                  </a:lnTo>
                  <a:lnTo>
                    <a:pt x="0" y="535"/>
                  </a:lnTo>
                  <a:lnTo>
                    <a:pt x="515" y="846"/>
                  </a:lnTo>
                  <a:lnTo>
                    <a:pt x="438" y="571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2433600" y="3581280"/>
            <a:ext cx="552600" cy="37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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425920" y="3321000"/>
            <a:ext cx="897120" cy="600120"/>
            <a:chOff x="5425920" y="3321000"/>
            <a:chExt cx="897120" cy="600120"/>
          </a:xfrm>
        </p:grpSpPr>
        <p:sp>
          <p:nvSpPr>
            <p:cNvPr id="559" name=""/>
            <p:cNvSpPr/>
            <p:nvPr/>
          </p:nvSpPr>
          <p:spPr>
            <a:xfrm>
              <a:off x="5425920" y="3321000"/>
              <a:ext cx="897120" cy="600120"/>
            </a:xfrm>
            <a:custGeom>
              <a:avLst/>
              <a:gdLst/>
              <a:ahLst/>
              <a:rect l="l" t="t" r="r" b="b"/>
              <a:pathLst>
                <a:path w="2497" h="1672">
                  <a:moveTo>
                    <a:pt x="583" y="429"/>
                  </a:moveTo>
                  <a:lnTo>
                    <a:pt x="577" y="471"/>
                  </a:lnTo>
                  <a:lnTo>
                    <a:pt x="571" y="507"/>
                  </a:lnTo>
                  <a:lnTo>
                    <a:pt x="568" y="546"/>
                  </a:lnTo>
                  <a:lnTo>
                    <a:pt x="567" y="585"/>
                  </a:lnTo>
                  <a:lnTo>
                    <a:pt x="569" y="624"/>
                  </a:lnTo>
                  <a:lnTo>
                    <a:pt x="572" y="662"/>
                  </a:lnTo>
                  <a:lnTo>
                    <a:pt x="577" y="701"/>
                  </a:lnTo>
                  <a:lnTo>
                    <a:pt x="585" y="740"/>
                  </a:lnTo>
                  <a:lnTo>
                    <a:pt x="598" y="780"/>
                  </a:lnTo>
                  <a:lnTo>
                    <a:pt x="606" y="816"/>
                  </a:lnTo>
                  <a:lnTo>
                    <a:pt x="620" y="854"/>
                  </a:lnTo>
                  <a:lnTo>
                    <a:pt x="638" y="891"/>
                  </a:lnTo>
                  <a:lnTo>
                    <a:pt x="653" y="927"/>
                  </a:lnTo>
                  <a:lnTo>
                    <a:pt x="673" y="962"/>
                  </a:lnTo>
                  <a:lnTo>
                    <a:pt x="694" y="996"/>
                  </a:lnTo>
                  <a:lnTo>
                    <a:pt x="719" y="1031"/>
                  </a:lnTo>
                  <a:lnTo>
                    <a:pt x="741" y="1061"/>
                  </a:lnTo>
                  <a:lnTo>
                    <a:pt x="768" y="1093"/>
                  </a:lnTo>
                  <a:lnTo>
                    <a:pt x="795" y="1122"/>
                  </a:lnTo>
                  <a:lnTo>
                    <a:pt x="824" y="1151"/>
                  </a:lnTo>
                  <a:lnTo>
                    <a:pt x="855" y="1178"/>
                  </a:lnTo>
                  <a:lnTo>
                    <a:pt x="887" y="1204"/>
                  </a:lnTo>
                  <a:lnTo>
                    <a:pt x="922" y="1228"/>
                  </a:lnTo>
                  <a:lnTo>
                    <a:pt x="956" y="1251"/>
                  </a:lnTo>
                  <a:lnTo>
                    <a:pt x="992" y="1271"/>
                  </a:lnTo>
                  <a:lnTo>
                    <a:pt x="1029" y="1293"/>
                  </a:lnTo>
                  <a:lnTo>
                    <a:pt x="1068" y="1308"/>
                  </a:lnTo>
                  <a:lnTo>
                    <a:pt x="1106" y="1324"/>
                  </a:lnTo>
                  <a:lnTo>
                    <a:pt x="1144" y="1339"/>
                  </a:lnTo>
                  <a:lnTo>
                    <a:pt x="1185" y="1351"/>
                  </a:lnTo>
                  <a:lnTo>
                    <a:pt x="1226" y="1361"/>
                  </a:lnTo>
                  <a:lnTo>
                    <a:pt x="1267" y="1369"/>
                  </a:lnTo>
                  <a:lnTo>
                    <a:pt x="1309" y="1376"/>
                  </a:lnTo>
                  <a:lnTo>
                    <a:pt x="1349" y="1380"/>
                  </a:lnTo>
                  <a:lnTo>
                    <a:pt x="1391" y="1383"/>
                  </a:lnTo>
                  <a:lnTo>
                    <a:pt x="1433" y="1383"/>
                  </a:lnTo>
                  <a:lnTo>
                    <a:pt x="1475" y="1382"/>
                  </a:lnTo>
                  <a:lnTo>
                    <a:pt x="1516" y="1379"/>
                  </a:lnTo>
                  <a:lnTo>
                    <a:pt x="1557" y="1372"/>
                  </a:lnTo>
                  <a:lnTo>
                    <a:pt x="1600" y="1366"/>
                  </a:lnTo>
                  <a:lnTo>
                    <a:pt x="1638" y="1359"/>
                  </a:lnTo>
                  <a:lnTo>
                    <a:pt x="1677" y="1349"/>
                  </a:lnTo>
                  <a:lnTo>
                    <a:pt x="1720" y="1334"/>
                  </a:lnTo>
                  <a:lnTo>
                    <a:pt x="1755" y="1318"/>
                  </a:lnTo>
                  <a:lnTo>
                    <a:pt x="1792" y="1301"/>
                  </a:lnTo>
                  <a:lnTo>
                    <a:pt x="1829" y="1283"/>
                  </a:lnTo>
                  <a:lnTo>
                    <a:pt x="1864" y="1263"/>
                  </a:lnTo>
                  <a:lnTo>
                    <a:pt x="1897" y="1245"/>
                  </a:lnTo>
                  <a:lnTo>
                    <a:pt x="1930" y="1218"/>
                  </a:lnTo>
                  <a:lnTo>
                    <a:pt x="1962" y="1192"/>
                  </a:lnTo>
                  <a:lnTo>
                    <a:pt x="1992" y="1166"/>
                  </a:lnTo>
                  <a:lnTo>
                    <a:pt x="2023" y="1139"/>
                  </a:lnTo>
                  <a:lnTo>
                    <a:pt x="2047" y="1110"/>
                  </a:lnTo>
                  <a:lnTo>
                    <a:pt x="2072" y="1084"/>
                  </a:lnTo>
                  <a:lnTo>
                    <a:pt x="2096" y="1048"/>
                  </a:lnTo>
                  <a:lnTo>
                    <a:pt x="2121" y="1016"/>
                  </a:lnTo>
                  <a:lnTo>
                    <a:pt x="2138" y="981"/>
                  </a:lnTo>
                  <a:lnTo>
                    <a:pt x="2156" y="947"/>
                  </a:lnTo>
                  <a:lnTo>
                    <a:pt x="2173" y="911"/>
                  </a:lnTo>
                  <a:lnTo>
                    <a:pt x="2187" y="876"/>
                  </a:lnTo>
                  <a:lnTo>
                    <a:pt x="2201" y="840"/>
                  </a:lnTo>
                  <a:lnTo>
                    <a:pt x="2496" y="924"/>
                  </a:lnTo>
                  <a:lnTo>
                    <a:pt x="2478" y="979"/>
                  </a:lnTo>
                  <a:lnTo>
                    <a:pt x="2459" y="1026"/>
                  </a:lnTo>
                  <a:lnTo>
                    <a:pt x="2439" y="1075"/>
                  </a:lnTo>
                  <a:lnTo>
                    <a:pt x="2416" y="1122"/>
                  </a:lnTo>
                  <a:lnTo>
                    <a:pt x="2385" y="1167"/>
                  </a:lnTo>
                  <a:lnTo>
                    <a:pt x="2354" y="1211"/>
                  </a:lnTo>
                  <a:lnTo>
                    <a:pt x="2322" y="1260"/>
                  </a:lnTo>
                  <a:lnTo>
                    <a:pt x="2287" y="1297"/>
                  </a:lnTo>
                  <a:lnTo>
                    <a:pt x="2251" y="1337"/>
                  </a:lnTo>
                  <a:lnTo>
                    <a:pt x="2212" y="1377"/>
                  </a:lnTo>
                  <a:lnTo>
                    <a:pt x="2171" y="1412"/>
                  </a:lnTo>
                  <a:lnTo>
                    <a:pt x="2128" y="1445"/>
                  </a:lnTo>
                  <a:lnTo>
                    <a:pt x="2083" y="1477"/>
                  </a:lnTo>
                  <a:lnTo>
                    <a:pt x="2035" y="1511"/>
                  </a:lnTo>
                  <a:lnTo>
                    <a:pt x="1991" y="1535"/>
                  </a:lnTo>
                  <a:lnTo>
                    <a:pt x="1937" y="1560"/>
                  </a:lnTo>
                  <a:lnTo>
                    <a:pt x="1886" y="1582"/>
                  </a:lnTo>
                  <a:lnTo>
                    <a:pt x="1834" y="1603"/>
                  </a:lnTo>
                  <a:lnTo>
                    <a:pt x="1781" y="1620"/>
                  </a:lnTo>
                  <a:lnTo>
                    <a:pt x="1727" y="1635"/>
                  </a:lnTo>
                  <a:lnTo>
                    <a:pt x="1671" y="1647"/>
                  </a:lnTo>
                  <a:lnTo>
                    <a:pt x="1616" y="1658"/>
                  </a:lnTo>
                  <a:lnTo>
                    <a:pt x="1559" y="1665"/>
                  </a:lnTo>
                  <a:lnTo>
                    <a:pt x="1503" y="1670"/>
                  </a:lnTo>
                  <a:lnTo>
                    <a:pt x="1445" y="1671"/>
                  </a:lnTo>
                  <a:lnTo>
                    <a:pt x="1388" y="1671"/>
                  </a:lnTo>
                  <a:lnTo>
                    <a:pt x="1332" y="1671"/>
                  </a:lnTo>
                  <a:lnTo>
                    <a:pt x="1274" y="1661"/>
                  </a:lnTo>
                  <a:lnTo>
                    <a:pt x="1217" y="1653"/>
                  </a:lnTo>
                  <a:lnTo>
                    <a:pt x="1161" y="1641"/>
                  </a:lnTo>
                  <a:lnTo>
                    <a:pt x="1105" y="1627"/>
                  </a:lnTo>
                  <a:lnTo>
                    <a:pt x="1051" y="1611"/>
                  </a:lnTo>
                  <a:lnTo>
                    <a:pt x="996" y="1592"/>
                  </a:lnTo>
                  <a:lnTo>
                    <a:pt x="943" y="1571"/>
                  </a:lnTo>
                  <a:lnTo>
                    <a:pt x="891" y="1546"/>
                  </a:lnTo>
                  <a:lnTo>
                    <a:pt x="840" y="1519"/>
                  </a:lnTo>
                  <a:lnTo>
                    <a:pt x="791" y="1490"/>
                  </a:lnTo>
                  <a:lnTo>
                    <a:pt x="744" y="1459"/>
                  </a:lnTo>
                  <a:lnTo>
                    <a:pt x="698" y="1427"/>
                  </a:lnTo>
                  <a:lnTo>
                    <a:pt x="654" y="1391"/>
                  </a:lnTo>
                  <a:lnTo>
                    <a:pt x="611" y="1354"/>
                  </a:lnTo>
                  <a:lnTo>
                    <a:pt x="571" y="1316"/>
                  </a:lnTo>
                  <a:lnTo>
                    <a:pt x="532" y="1274"/>
                  </a:lnTo>
                  <a:lnTo>
                    <a:pt x="496" y="1231"/>
                  </a:lnTo>
                  <a:lnTo>
                    <a:pt x="464" y="1187"/>
                  </a:lnTo>
                  <a:lnTo>
                    <a:pt x="431" y="1142"/>
                  </a:lnTo>
                  <a:lnTo>
                    <a:pt x="402" y="1095"/>
                  </a:lnTo>
                  <a:lnTo>
                    <a:pt x="376" y="1047"/>
                  </a:lnTo>
                  <a:lnTo>
                    <a:pt x="353" y="999"/>
                  </a:lnTo>
                  <a:lnTo>
                    <a:pt x="330" y="947"/>
                  </a:lnTo>
                  <a:lnTo>
                    <a:pt x="311" y="896"/>
                  </a:lnTo>
                  <a:lnTo>
                    <a:pt x="298" y="845"/>
                  </a:lnTo>
                  <a:lnTo>
                    <a:pt x="283" y="791"/>
                  </a:lnTo>
                  <a:lnTo>
                    <a:pt x="271" y="738"/>
                  </a:lnTo>
                  <a:lnTo>
                    <a:pt x="264" y="684"/>
                  </a:lnTo>
                  <a:lnTo>
                    <a:pt x="263" y="632"/>
                  </a:lnTo>
                  <a:lnTo>
                    <a:pt x="260" y="580"/>
                  </a:lnTo>
                  <a:lnTo>
                    <a:pt x="259" y="524"/>
                  </a:lnTo>
                  <a:lnTo>
                    <a:pt x="263" y="471"/>
                  </a:lnTo>
                  <a:lnTo>
                    <a:pt x="269" y="417"/>
                  </a:lnTo>
                  <a:lnTo>
                    <a:pt x="279" y="365"/>
                  </a:lnTo>
                  <a:lnTo>
                    <a:pt x="0" y="308"/>
                  </a:lnTo>
                  <a:lnTo>
                    <a:pt x="516" y="0"/>
                  </a:lnTo>
                  <a:lnTo>
                    <a:pt x="862" y="489"/>
                  </a:lnTo>
                  <a:lnTo>
                    <a:pt x="583" y="429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6176880" y="3911760"/>
            <a:ext cx="542880" cy="355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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606640" y="2879280"/>
            <a:ext cx="839160" cy="657000"/>
            <a:chOff x="5606640" y="2879280"/>
            <a:chExt cx="839160" cy="657000"/>
          </a:xfrm>
        </p:grpSpPr>
        <p:sp>
          <p:nvSpPr>
            <p:cNvPr id="562" name=""/>
            <p:cNvSpPr/>
            <p:nvPr/>
          </p:nvSpPr>
          <p:spPr>
            <a:xfrm rot="21430200">
              <a:off x="5621040" y="2898720"/>
              <a:ext cx="809640" cy="617760"/>
            </a:xfrm>
            <a:custGeom>
              <a:avLst/>
              <a:gdLst/>
              <a:ahLst/>
              <a:rect l="l" t="t" r="r" b="b"/>
              <a:pathLst>
                <a:path w="2255" h="1718">
                  <a:moveTo>
                    <a:pt x="476" y="590"/>
                  </a:moveTo>
                  <a:lnTo>
                    <a:pt x="499" y="558"/>
                  </a:lnTo>
                  <a:lnTo>
                    <a:pt x="526" y="530"/>
                  </a:lnTo>
                  <a:lnTo>
                    <a:pt x="553" y="504"/>
                  </a:lnTo>
                  <a:lnTo>
                    <a:pt x="582" y="477"/>
                  </a:lnTo>
                  <a:lnTo>
                    <a:pt x="614" y="452"/>
                  </a:lnTo>
                  <a:lnTo>
                    <a:pt x="645" y="429"/>
                  </a:lnTo>
                  <a:lnTo>
                    <a:pt x="678" y="409"/>
                  </a:lnTo>
                  <a:lnTo>
                    <a:pt x="713" y="389"/>
                  </a:lnTo>
                  <a:lnTo>
                    <a:pt x="747" y="372"/>
                  </a:lnTo>
                  <a:lnTo>
                    <a:pt x="784" y="356"/>
                  </a:lnTo>
                  <a:lnTo>
                    <a:pt x="822" y="340"/>
                  </a:lnTo>
                  <a:lnTo>
                    <a:pt x="858" y="328"/>
                  </a:lnTo>
                  <a:lnTo>
                    <a:pt x="896" y="318"/>
                  </a:lnTo>
                  <a:lnTo>
                    <a:pt x="937" y="310"/>
                  </a:lnTo>
                  <a:lnTo>
                    <a:pt x="977" y="303"/>
                  </a:lnTo>
                  <a:lnTo>
                    <a:pt x="1016" y="299"/>
                  </a:lnTo>
                  <a:lnTo>
                    <a:pt x="1057" y="298"/>
                  </a:lnTo>
                  <a:lnTo>
                    <a:pt x="1099" y="298"/>
                  </a:lnTo>
                  <a:lnTo>
                    <a:pt x="1140" y="300"/>
                  </a:lnTo>
                  <a:lnTo>
                    <a:pt x="1180" y="302"/>
                  </a:lnTo>
                  <a:lnTo>
                    <a:pt x="1220" y="309"/>
                  </a:lnTo>
                  <a:lnTo>
                    <a:pt x="1262" y="315"/>
                  </a:lnTo>
                  <a:lnTo>
                    <a:pt x="1301" y="326"/>
                  </a:lnTo>
                  <a:lnTo>
                    <a:pt x="1341" y="336"/>
                  </a:lnTo>
                  <a:lnTo>
                    <a:pt x="1381" y="351"/>
                  </a:lnTo>
                  <a:lnTo>
                    <a:pt x="1420" y="366"/>
                  </a:lnTo>
                  <a:lnTo>
                    <a:pt x="1457" y="383"/>
                  </a:lnTo>
                  <a:lnTo>
                    <a:pt x="1494" y="402"/>
                  </a:lnTo>
                  <a:lnTo>
                    <a:pt x="1529" y="422"/>
                  </a:lnTo>
                  <a:lnTo>
                    <a:pt x="1566" y="446"/>
                  </a:lnTo>
                  <a:lnTo>
                    <a:pt x="1600" y="469"/>
                  </a:lnTo>
                  <a:lnTo>
                    <a:pt x="1633" y="495"/>
                  </a:lnTo>
                  <a:lnTo>
                    <a:pt x="1664" y="522"/>
                  </a:lnTo>
                  <a:lnTo>
                    <a:pt x="1696" y="551"/>
                  </a:lnTo>
                  <a:lnTo>
                    <a:pt x="1725" y="581"/>
                  </a:lnTo>
                  <a:lnTo>
                    <a:pt x="1753" y="612"/>
                  </a:lnTo>
                  <a:lnTo>
                    <a:pt x="1780" y="644"/>
                  </a:lnTo>
                  <a:lnTo>
                    <a:pt x="1802" y="678"/>
                  </a:lnTo>
                  <a:lnTo>
                    <a:pt x="1826" y="713"/>
                  </a:lnTo>
                  <a:lnTo>
                    <a:pt x="1848" y="748"/>
                  </a:lnTo>
                  <a:lnTo>
                    <a:pt x="1867" y="785"/>
                  </a:lnTo>
                  <a:lnTo>
                    <a:pt x="1885" y="822"/>
                  </a:lnTo>
                  <a:lnTo>
                    <a:pt x="1899" y="860"/>
                  </a:lnTo>
                  <a:lnTo>
                    <a:pt x="1914" y="899"/>
                  </a:lnTo>
                  <a:lnTo>
                    <a:pt x="1925" y="937"/>
                  </a:lnTo>
                  <a:lnTo>
                    <a:pt x="1935" y="977"/>
                  </a:lnTo>
                  <a:lnTo>
                    <a:pt x="1943" y="1017"/>
                  </a:lnTo>
                  <a:lnTo>
                    <a:pt x="1948" y="1057"/>
                  </a:lnTo>
                  <a:lnTo>
                    <a:pt x="1951" y="1098"/>
                  </a:lnTo>
                  <a:lnTo>
                    <a:pt x="1953" y="1137"/>
                  </a:lnTo>
                  <a:lnTo>
                    <a:pt x="1953" y="1177"/>
                  </a:lnTo>
                  <a:lnTo>
                    <a:pt x="1950" y="1216"/>
                  </a:lnTo>
                  <a:lnTo>
                    <a:pt x="1945" y="1256"/>
                  </a:lnTo>
                  <a:lnTo>
                    <a:pt x="1937" y="1295"/>
                  </a:lnTo>
                  <a:lnTo>
                    <a:pt x="1929" y="1334"/>
                  </a:lnTo>
                  <a:lnTo>
                    <a:pt x="1920" y="1371"/>
                  </a:lnTo>
                  <a:lnTo>
                    <a:pt x="1906" y="1408"/>
                  </a:lnTo>
                  <a:lnTo>
                    <a:pt x="1892" y="1445"/>
                  </a:lnTo>
                  <a:lnTo>
                    <a:pt x="1877" y="1480"/>
                  </a:lnTo>
                  <a:lnTo>
                    <a:pt x="1859" y="1515"/>
                  </a:lnTo>
                  <a:lnTo>
                    <a:pt x="1838" y="1549"/>
                  </a:lnTo>
                  <a:lnTo>
                    <a:pt x="2097" y="1717"/>
                  </a:lnTo>
                  <a:lnTo>
                    <a:pt x="2124" y="1671"/>
                  </a:lnTo>
                  <a:lnTo>
                    <a:pt x="2152" y="1623"/>
                  </a:lnTo>
                  <a:lnTo>
                    <a:pt x="2173" y="1575"/>
                  </a:lnTo>
                  <a:lnTo>
                    <a:pt x="2193" y="1525"/>
                  </a:lnTo>
                  <a:lnTo>
                    <a:pt x="2209" y="1474"/>
                  </a:lnTo>
                  <a:lnTo>
                    <a:pt x="2225" y="1421"/>
                  </a:lnTo>
                  <a:lnTo>
                    <a:pt x="2234" y="1369"/>
                  </a:lnTo>
                  <a:lnTo>
                    <a:pt x="2245" y="1316"/>
                  </a:lnTo>
                  <a:lnTo>
                    <a:pt x="2251" y="1262"/>
                  </a:lnTo>
                  <a:lnTo>
                    <a:pt x="2254" y="1208"/>
                  </a:lnTo>
                  <a:lnTo>
                    <a:pt x="2254" y="1153"/>
                  </a:lnTo>
                  <a:lnTo>
                    <a:pt x="2251" y="1097"/>
                  </a:lnTo>
                  <a:lnTo>
                    <a:pt x="2246" y="1042"/>
                  </a:lnTo>
                  <a:lnTo>
                    <a:pt x="2239" y="988"/>
                  </a:lnTo>
                  <a:lnTo>
                    <a:pt x="2229" y="934"/>
                  </a:lnTo>
                  <a:lnTo>
                    <a:pt x="2215" y="880"/>
                  </a:lnTo>
                  <a:lnTo>
                    <a:pt x="2200" y="826"/>
                  </a:lnTo>
                  <a:lnTo>
                    <a:pt x="2181" y="773"/>
                  </a:lnTo>
                  <a:lnTo>
                    <a:pt x="2160" y="721"/>
                  </a:lnTo>
                  <a:lnTo>
                    <a:pt x="2134" y="670"/>
                  </a:lnTo>
                  <a:lnTo>
                    <a:pt x="2110" y="619"/>
                  </a:lnTo>
                  <a:lnTo>
                    <a:pt x="2080" y="571"/>
                  </a:lnTo>
                  <a:lnTo>
                    <a:pt x="2048" y="523"/>
                  </a:lnTo>
                  <a:lnTo>
                    <a:pt x="2015" y="478"/>
                  </a:lnTo>
                  <a:lnTo>
                    <a:pt x="1980" y="433"/>
                  </a:lnTo>
                  <a:lnTo>
                    <a:pt x="1942" y="390"/>
                  </a:lnTo>
                  <a:lnTo>
                    <a:pt x="1902" y="348"/>
                  </a:lnTo>
                  <a:lnTo>
                    <a:pt x="1860" y="309"/>
                  </a:lnTo>
                  <a:lnTo>
                    <a:pt x="1815" y="273"/>
                  </a:lnTo>
                  <a:lnTo>
                    <a:pt x="1770" y="238"/>
                  </a:lnTo>
                  <a:lnTo>
                    <a:pt x="1723" y="204"/>
                  </a:lnTo>
                  <a:lnTo>
                    <a:pt x="1675" y="173"/>
                  </a:lnTo>
                  <a:lnTo>
                    <a:pt x="1626" y="145"/>
                  </a:lnTo>
                  <a:lnTo>
                    <a:pt x="1575" y="119"/>
                  </a:lnTo>
                  <a:lnTo>
                    <a:pt x="1523" y="95"/>
                  </a:lnTo>
                  <a:lnTo>
                    <a:pt x="1470" y="74"/>
                  </a:lnTo>
                  <a:lnTo>
                    <a:pt x="1415" y="55"/>
                  </a:lnTo>
                  <a:lnTo>
                    <a:pt x="1362" y="39"/>
                  </a:lnTo>
                  <a:lnTo>
                    <a:pt x="1306" y="26"/>
                  </a:lnTo>
                  <a:lnTo>
                    <a:pt x="1250" y="15"/>
                  </a:lnTo>
                  <a:lnTo>
                    <a:pt x="1194" y="7"/>
                  </a:lnTo>
                  <a:lnTo>
                    <a:pt x="1137" y="3"/>
                  </a:lnTo>
                  <a:lnTo>
                    <a:pt x="1081" y="1"/>
                  </a:lnTo>
                  <a:lnTo>
                    <a:pt x="1027" y="0"/>
                  </a:lnTo>
                  <a:lnTo>
                    <a:pt x="970" y="4"/>
                  </a:lnTo>
                  <a:lnTo>
                    <a:pt x="915" y="9"/>
                  </a:lnTo>
                  <a:lnTo>
                    <a:pt x="860" y="19"/>
                  </a:lnTo>
                  <a:lnTo>
                    <a:pt x="806" y="30"/>
                  </a:lnTo>
                  <a:lnTo>
                    <a:pt x="753" y="44"/>
                  </a:lnTo>
                  <a:lnTo>
                    <a:pt x="701" y="62"/>
                  </a:lnTo>
                  <a:lnTo>
                    <a:pt x="651" y="80"/>
                  </a:lnTo>
                  <a:lnTo>
                    <a:pt x="602" y="102"/>
                  </a:lnTo>
                  <a:lnTo>
                    <a:pt x="552" y="125"/>
                  </a:lnTo>
                  <a:lnTo>
                    <a:pt x="506" y="152"/>
                  </a:lnTo>
                  <a:lnTo>
                    <a:pt x="460" y="181"/>
                  </a:lnTo>
                  <a:lnTo>
                    <a:pt x="416" y="213"/>
                  </a:lnTo>
                  <a:lnTo>
                    <a:pt x="376" y="247"/>
                  </a:lnTo>
                  <a:lnTo>
                    <a:pt x="336" y="282"/>
                  </a:lnTo>
                  <a:lnTo>
                    <a:pt x="297" y="320"/>
                  </a:lnTo>
                  <a:lnTo>
                    <a:pt x="261" y="360"/>
                  </a:lnTo>
                  <a:lnTo>
                    <a:pt x="227" y="402"/>
                  </a:lnTo>
                  <a:lnTo>
                    <a:pt x="0" y="229"/>
                  </a:lnTo>
                  <a:lnTo>
                    <a:pt x="103" y="822"/>
                  </a:lnTo>
                  <a:lnTo>
                    <a:pt x="702" y="762"/>
                  </a:lnTo>
                  <a:lnTo>
                    <a:pt x="476" y="590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6465960" y="2895480"/>
            <a:ext cx="558720" cy="3747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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56160" y="2827440"/>
            <a:ext cx="3060720" cy="1260360"/>
          </a:xfrm>
          <a:prstGeom prst="line">
            <a:avLst/>
          </a:prstGeom>
          <a:ln w="255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92880" y="3583080"/>
            <a:ext cx="1187280" cy="503280"/>
          </a:xfrm>
          <a:prstGeom prst="line">
            <a:avLst/>
          </a:prstGeom>
          <a:ln w="1080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558200" y="366876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ff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405560" y="4083120"/>
            <a:ext cx="874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ff00"/>
                </a:solidFill>
                <a:latin typeface="Times New Roman"/>
              </a:rPr>
              <a:t>Trigg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ff00"/>
                </a:solidFill>
                <a:latin typeface="Times New Roman"/>
              </a:rPr>
              <a:t>part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236480" y="4827600"/>
            <a:ext cx="1329840" cy="381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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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542880" y="3429000"/>
            <a:ext cx="2225520" cy="2805480"/>
            <a:chOff x="542880" y="3429000"/>
            <a:chExt cx="2225520" cy="2805480"/>
          </a:xfrm>
        </p:grpSpPr>
        <p:grpSp>
          <p:nvGrpSpPr>
            <p:cNvPr id="570" name=""/>
            <p:cNvGrpSpPr/>
            <p:nvPr/>
          </p:nvGrpSpPr>
          <p:grpSpPr>
            <a:xfrm>
              <a:off x="542880" y="3429000"/>
              <a:ext cx="2225520" cy="2805480"/>
              <a:chOff x="542880" y="3429000"/>
              <a:chExt cx="2225520" cy="2805480"/>
            </a:xfrm>
          </p:grpSpPr>
          <p:grpSp>
            <p:nvGrpSpPr>
              <p:cNvPr id="571" name=""/>
              <p:cNvGrpSpPr/>
              <p:nvPr/>
            </p:nvGrpSpPr>
            <p:grpSpPr>
              <a:xfrm>
                <a:off x="1894320" y="3429000"/>
                <a:ext cx="696600" cy="1066680"/>
                <a:chOff x="1894320" y="3429000"/>
                <a:chExt cx="696600" cy="106668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2057400" y="3429000"/>
                  <a:ext cx="533520" cy="6094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057400" y="3429000"/>
                  <a:ext cx="76320" cy="1066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flipV="1">
                  <a:off x="1894320" y="3612600"/>
                  <a:ext cx="45648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"/>
              <p:cNvSpPr/>
              <p:nvPr/>
            </p:nvSpPr>
            <p:spPr>
              <a:xfrm>
                <a:off x="542880" y="5489280"/>
                <a:ext cx="2225520" cy="745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ff9900"/>
                    </a:solidFill>
                    <a:latin typeface="Times New Roman"/>
                  </a:rPr>
                  <a:t>associate particle direction at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ff9900"/>
                    </a:solidFill>
                    <a:latin typeface="Times New Roman"/>
                  </a:rPr>
                  <a:t>same |</a:t>
                </a:r>
                <a:r>
                  <a:rPr b="1" lang="ja-JP" sz="1200" spc="-1" strike="noStrike">
                    <a:solidFill>
                      <a:srgbClr val="ff9900"/>
                    </a:solidFill>
                    <a:latin typeface="Symbol"/>
                    <a:ea typeface="Symbol"/>
                  </a:rPr>
                  <a:t></a:t>
                </a:r>
                <a:r>
                  <a:rPr b="1" lang="ja-JP" sz="1200" spc="-1" strike="noStrike">
                    <a:solidFill>
                      <a:srgbClr val="ff9900"/>
                    </a:solidFill>
                    <a:latin typeface="Times New Roman"/>
                  </a:rPr>
                  <a:t>| w.r.t. trigger particl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ff9900"/>
                    </a:solidFill>
                    <a:latin typeface="Times New Roman"/>
                  </a:rPr>
                  <a:t>but with different arrow lengt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2133720" y="4491000"/>
              <a:ext cx="0" cy="9903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2133720" y="4033800"/>
              <a:ext cx="457200" cy="14475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1447560" y="1295280"/>
            <a:ext cx="3309120" cy="2203200"/>
            <a:chOff x="1447560" y="1295280"/>
            <a:chExt cx="3309120" cy="2203200"/>
          </a:xfrm>
        </p:grpSpPr>
        <p:grpSp>
          <p:nvGrpSpPr>
            <p:cNvPr id="579" name=""/>
            <p:cNvGrpSpPr/>
            <p:nvPr/>
          </p:nvGrpSpPr>
          <p:grpSpPr>
            <a:xfrm>
              <a:off x="1447560" y="1295280"/>
              <a:ext cx="3309120" cy="2203200"/>
              <a:chOff x="1447560" y="1295280"/>
              <a:chExt cx="3309120" cy="220320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1447560" y="2431800"/>
                <a:ext cx="935280" cy="1066680"/>
                <a:chOff x="1447560" y="2431800"/>
                <a:chExt cx="935280" cy="1066680"/>
              </a:xfrm>
            </p:grpSpPr>
            <p:grpSp>
              <p:nvGrpSpPr>
                <p:cNvPr id="581" name=""/>
                <p:cNvGrpSpPr/>
                <p:nvPr/>
              </p:nvGrpSpPr>
              <p:grpSpPr>
                <a:xfrm>
                  <a:off x="1447560" y="2431800"/>
                  <a:ext cx="686160" cy="990720"/>
                  <a:chOff x="1447560" y="2431800"/>
                  <a:chExt cx="686160" cy="99072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flipH="1" flipV="1">
                    <a:off x="1447560" y="2965320"/>
                    <a:ext cx="609480" cy="457200"/>
                  </a:xfrm>
                  <a:prstGeom prst="line">
                    <a:avLst/>
                  </a:prstGeom>
                  <a:ln w="38160">
                    <a:solidFill>
                      <a:srgbClr val="80008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flipV="1">
                    <a:off x="2057400" y="2431800"/>
                    <a:ext cx="76320" cy="990720"/>
                  </a:xfrm>
                  <a:prstGeom prst="line">
                    <a:avLst/>
                  </a:prstGeom>
                  <a:ln w="38160">
                    <a:solidFill>
                      <a:srgbClr val="80008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4" name=""/>
                <p:cNvSpPr/>
                <p:nvPr/>
              </p:nvSpPr>
              <p:spPr>
                <a:xfrm flipH="1">
                  <a:off x="1775160" y="3041640"/>
                  <a:ext cx="60732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43717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4371788"/>
                    </a:path>
                  </a:pathLst>
                </a:custGeom>
                <a:noFill/>
                <a:ln w="3816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"/>
              <p:cNvSpPr/>
              <p:nvPr/>
            </p:nvSpPr>
            <p:spPr>
              <a:xfrm>
                <a:off x="2521800" y="1295280"/>
                <a:ext cx="2234880" cy="745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800080"/>
                    </a:solidFill>
                    <a:latin typeface="Times New Roman"/>
                  </a:rPr>
                  <a:t>associate particle direction at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800080"/>
                    </a:solidFill>
                    <a:latin typeface="Times New Roman"/>
                  </a:rPr>
                  <a:t>same |</a:t>
                </a:r>
                <a:r>
                  <a:rPr b="1" lang="ja-JP" sz="1200" spc="-1" strike="noStrike">
                    <a:solidFill>
                      <a:srgbClr val="800080"/>
                    </a:solidFill>
                    <a:latin typeface="Symbol"/>
                    <a:ea typeface="Symbol"/>
                  </a:rPr>
                  <a:t></a:t>
                </a:r>
                <a:r>
                  <a:rPr b="1" lang="ja-JP" sz="1200" spc="-1" strike="noStrike">
                    <a:solidFill>
                      <a:srgbClr val="800080"/>
                    </a:solidFill>
                    <a:latin typeface="Times New Roman"/>
                  </a:rPr>
                  <a:t>| w.r.t. </a:t>
                </a:r>
                <a:r>
                  <a:rPr b="1" lang="ja-JP" sz="1200" spc="-1" strike="noStrike">
                    <a:solidFill>
                      <a:srgbClr val="ff0000"/>
                    </a:solidFill>
                    <a:latin typeface="Times New Roman"/>
                  </a:rPr>
                  <a:t>red dashed line</a:t>
                </a:r>
                <a:r>
                  <a:rPr b="1" lang="ja-JP" sz="12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800080"/>
                    </a:solidFill>
                    <a:latin typeface="Times New Roman"/>
                  </a:rPr>
                  <a:t>but with different arrow lengt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 flipH="1">
              <a:off x="1523880" y="1752480"/>
              <a:ext cx="990720" cy="129528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133720" y="1752480"/>
              <a:ext cx="380880" cy="83808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5712480" y="76320"/>
            <a:ext cx="4275720" cy="2212200"/>
            <a:chOff x="5712480" y="76320"/>
            <a:chExt cx="4275720" cy="2212200"/>
          </a:xfrm>
        </p:grpSpPr>
        <p:sp>
          <p:nvSpPr>
            <p:cNvPr id="589" name=""/>
            <p:cNvSpPr/>
            <p:nvPr/>
          </p:nvSpPr>
          <p:spPr>
            <a:xfrm>
              <a:off x="6783480" y="76320"/>
              <a:ext cx="228600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002440" y="609480"/>
              <a:ext cx="911520" cy="993960"/>
            </a:xfrm>
            <a:custGeom>
              <a:avLst/>
              <a:gdLst/>
              <a:ahLst/>
              <a:rect l="l" t="t" r="r" b="b"/>
              <a:pathLst>
                <a:path w="574" h="626">
                  <a:moveTo>
                    <a:pt x="0" y="0"/>
                  </a:moveTo>
                  <a:cubicBezTo>
                    <a:pt x="14" y="34"/>
                    <a:pt x="59" y="143"/>
                    <a:pt x="82" y="207"/>
                  </a:cubicBezTo>
                  <a:cubicBezTo>
                    <a:pt x="105" y="271"/>
                    <a:pt x="114" y="329"/>
                    <a:pt x="138" y="384"/>
                  </a:cubicBezTo>
                  <a:cubicBezTo>
                    <a:pt x="162" y="439"/>
                    <a:pt x="180" y="521"/>
                    <a:pt x="226" y="537"/>
                  </a:cubicBezTo>
                  <a:cubicBezTo>
                    <a:pt x="272" y="553"/>
                    <a:pt x="354" y="467"/>
                    <a:pt x="412" y="482"/>
                  </a:cubicBezTo>
                  <a:cubicBezTo>
                    <a:pt x="470" y="497"/>
                    <a:pt x="540" y="596"/>
                    <a:pt x="574" y="62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975360" y="609480"/>
              <a:ext cx="951120" cy="1089000"/>
            </a:xfrm>
            <a:custGeom>
              <a:avLst/>
              <a:gdLst/>
              <a:ahLst/>
              <a:rect l="l" t="t" r="r" b="b"/>
              <a:pathLst>
                <a:path w="599" h="686">
                  <a:moveTo>
                    <a:pt x="599" y="0"/>
                  </a:moveTo>
                  <a:cubicBezTo>
                    <a:pt x="563" y="88"/>
                    <a:pt x="527" y="176"/>
                    <a:pt x="503" y="240"/>
                  </a:cubicBezTo>
                  <a:cubicBezTo>
                    <a:pt x="479" y="304"/>
                    <a:pt x="480" y="327"/>
                    <a:pt x="455" y="384"/>
                  </a:cubicBezTo>
                  <a:cubicBezTo>
                    <a:pt x="430" y="441"/>
                    <a:pt x="399" y="563"/>
                    <a:pt x="353" y="584"/>
                  </a:cubicBezTo>
                  <a:cubicBezTo>
                    <a:pt x="307" y="605"/>
                    <a:pt x="235" y="492"/>
                    <a:pt x="176" y="509"/>
                  </a:cubicBezTo>
                  <a:cubicBezTo>
                    <a:pt x="117" y="526"/>
                    <a:pt x="37" y="649"/>
                    <a:pt x="0" y="686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827760" y="990720"/>
              <a:ext cx="1032120" cy="728640"/>
            </a:xfrm>
            <a:custGeom>
              <a:avLst/>
              <a:gdLst/>
              <a:ahLst/>
              <a:rect l="l" t="t" r="r" b="b"/>
              <a:pathLst>
                <a:path w="650" h="459">
                  <a:moveTo>
                    <a:pt x="650" y="0"/>
                  </a:moveTo>
                  <a:cubicBezTo>
                    <a:pt x="633" y="66"/>
                    <a:pt x="591" y="339"/>
                    <a:pt x="557" y="399"/>
                  </a:cubicBezTo>
                  <a:cubicBezTo>
                    <a:pt x="523" y="459"/>
                    <a:pt x="489" y="404"/>
                    <a:pt x="446" y="362"/>
                  </a:cubicBezTo>
                  <a:cubicBezTo>
                    <a:pt x="403" y="320"/>
                    <a:pt x="345" y="198"/>
                    <a:pt x="297" y="149"/>
                  </a:cubicBezTo>
                  <a:cubicBezTo>
                    <a:pt x="249" y="100"/>
                    <a:pt x="197" y="62"/>
                    <a:pt x="158" y="65"/>
                  </a:cubicBezTo>
                  <a:cubicBezTo>
                    <a:pt x="119" y="68"/>
                    <a:pt x="91" y="124"/>
                    <a:pt x="65" y="167"/>
                  </a:cubicBezTo>
                  <a:cubicBezTo>
                    <a:pt x="39" y="210"/>
                    <a:pt x="14" y="292"/>
                    <a:pt x="0" y="325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066160" y="1004760"/>
              <a:ext cx="955440" cy="73368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602" y="283"/>
                  </a:moveTo>
                  <a:cubicBezTo>
                    <a:pt x="588" y="258"/>
                    <a:pt x="547" y="173"/>
                    <a:pt x="516" y="130"/>
                  </a:cubicBezTo>
                  <a:cubicBezTo>
                    <a:pt x="485" y="87"/>
                    <a:pt x="456" y="26"/>
                    <a:pt x="418" y="28"/>
                  </a:cubicBezTo>
                  <a:cubicBezTo>
                    <a:pt x="380" y="30"/>
                    <a:pt x="320" y="92"/>
                    <a:pt x="288" y="140"/>
                  </a:cubicBezTo>
                  <a:cubicBezTo>
                    <a:pt x="256" y="188"/>
                    <a:pt x="252" y="271"/>
                    <a:pt x="223" y="316"/>
                  </a:cubicBezTo>
                  <a:cubicBezTo>
                    <a:pt x="194" y="361"/>
                    <a:pt x="149" y="462"/>
                    <a:pt x="112" y="409"/>
                  </a:cubicBezTo>
                  <a:cubicBezTo>
                    <a:pt x="75" y="356"/>
                    <a:pt x="23" y="85"/>
                    <a:pt x="0" y="0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712480" y="1828800"/>
              <a:ext cx="427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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59440" y="539640"/>
              <a:ext cx="2129040" cy="1136880"/>
            </a:xfrm>
            <a:custGeom>
              <a:avLst/>
              <a:gdLst/>
              <a:ahLst/>
              <a:rect l="l" t="t" r="r" b="b"/>
              <a:pathLst>
                <a:path w="1341" h="716">
                  <a:moveTo>
                    <a:pt x="0" y="716"/>
                  </a:moveTo>
                  <a:cubicBezTo>
                    <a:pt x="11" y="691"/>
                    <a:pt x="35" y="610"/>
                    <a:pt x="68" y="567"/>
                  </a:cubicBezTo>
                  <a:cubicBezTo>
                    <a:pt x="101" y="524"/>
                    <a:pt x="156" y="465"/>
                    <a:pt x="198" y="456"/>
                  </a:cubicBezTo>
                  <a:cubicBezTo>
                    <a:pt x="240" y="447"/>
                    <a:pt x="270" y="478"/>
                    <a:pt x="319" y="512"/>
                  </a:cubicBezTo>
                  <a:cubicBezTo>
                    <a:pt x="368" y="546"/>
                    <a:pt x="448" y="690"/>
                    <a:pt x="495" y="660"/>
                  </a:cubicBezTo>
                  <a:cubicBezTo>
                    <a:pt x="542" y="630"/>
                    <a:pt x="565" y="445"/>
                    <a:pt x="598" y="335"/>
                  </a:cubicBezTo>
                  <a:cubicBezTo>
                    <a:pt x="631" y="225"/>
                    <a:pt x="660" y="2"/>
                    <a:pt x="691" y="1"/>
                  </a:cubicBezTo>
                  <a:cubicBezTo>
                    <a:pt x="722" y="0"/>
                    <a:pt x="749" y="216"/>
                    <a:pt x="783" y="326"/>
                  </a:cubicBezTo>
                  <a:cubicBezTo>
                    <a:pt x="817" y="436"/>
                    <a:pt x="855" y="626"/>
                    <a:pt x="895" y="660"/>
                  </a:cubicBezTo>
                  <a:cubicBezTo>
                    <a:pt x="935" y="694"/>
                    <a:pt x="985" y="569"/>
                    <a:pt x="1025" y="530"/>
                  </a:cubicBezTo>
                  <a:cubicBezTo>
                    <a:pt x="1065" y="491"/>
                    <a:pt x="1098" y="431"/>
                    <a:pt x="1137" y="428"/>
                  </a:cubicBezTo>
                  <a:cubicBezTo>
                    <a:pt x="1176" y="425"/>
                    <a:pt x="1223" y="476"/>
                    <a:pt x="1257" y="512"/>
                  </a:cubicBezTo>
                  <a:cubicBezTo>
                    <a:pt x="1291" y="548"/>
                    <a:pt x="1324" y="615"/>
                    <a:pt x="1341" y="64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152280" y="1522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rder to study the jet modification (mach-cone, ridge) and it’s relation with almond geometry in more detail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191120" y="57150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and without R.P. aligned event mix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v. of Tsukuba, ShinIchi Esu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555C-EEB1-4557-AFF1-ED651DE6DF1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QM08 Tsinghua Univ., Beijing, China, 9/Oct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93492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1905120" y="7632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The PHENIX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04920" y="565200"/>
            <a:ext cx="40384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Universidade de São Paulo, Instituto de Física, Caixa Postal 66318, São Paulo CEP05315-970, Brazi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Institute of Physics, Academia Sinica, Taipei 11529, Taiw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China Institute of Atomic Energy (CIAE), Beijing, People's Republic of Ch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Peking University, Beijing, People's Republic of Ch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Charles University, Ovocnytrh 5, Praha 1, 116 36, Prague, Czech Re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Czech Technical University, Zikova 4, 166 36 Prague 6, Czech Re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Institute of Physics, Academy of Sciences of the Czech Republic, Na Slovance 2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     </a:t>
            </a: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182 21 Prague 8, Czech Re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Helsinki Institute of Physics and University of Jyväskylä, P.O.Box 35, FI-40014 Jyväskylä, Finl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Dapnia, CEA Saclay, F-91191, Gif-sur-Yvette, Fra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Laboratoire Leprince-Ringuet, Ecole Polytechnique, CNRS-IN2P3, Route de Saclay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     </a:t>
            </a: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F-91128, Palaiseau, Fra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Laboratoire de Physique Corpusculaire (LPC), Université Blaise Pascal, CNRS-IN2P3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Clermont-Fd, 63177 Aubiere Cedex, Fra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IPN-Orsay, Universite Paris Sud, CNRS-IN2P3, BP1, F-91406, Orsay, Fra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SUBATECH (Ecole des Mines de Nantes, CNRS-IN2P3, Université de Nantes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    </a:t>
            </a: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BP 20722 - 44307, Nantes, Fra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Institut für Kernphysik, University of Münster, D-48149 Münster, German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Debrecen University, H-4010 Debrecen, Egyetem tér 1, Hunga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ELTE, Eötvös Loránd University, H - 1117 Budapest, Pázmány P. s. 1/A, Hunga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KFKI Research Institute for Particle and Nuclear Physics of the Hungarian Academy of Science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    </a:t>
            </a: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(MTA KFKI RMKI), H-1525 Budapest 114, POBox 49, Budapest, Hunga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Department of Physics, Banaras Hindu University, Varanasi 221005, In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Bhabha Atomic Research Centre, Bombay 400 085, In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Weizmann Institute, Rehovot 76100, Isra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Center for Nuclear Study, Graduate School of Science, University of Tokyo, 7-3-1 Hongo, Bunkyo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    </a:t>
            </a: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Tokyo 113-0033, Jap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Hiroshima University, Kagamiyama, Higashi-Hiroshima 739-8526, Jap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KEK, High Energy Accelerator Research Organization, Tsukuba, Ibaraki 305-0801, Jap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Kyoto University, Kyoto 606-8502, Jap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Nagasaki Institute of Applied Science, Nagasaki-shi, Nagasaki 851-0193, Jap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RIKEN, The Institute of Physical and Chemical Research, Wako, Saitama 351-0198, Jap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Physics Department, Rikkyo University, 3-34-1 Nishi-Ikebukuro, Toshima, Tokyo 171-8501, Jap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Department of Physics, Tokyo Institute of Technology, Oh-okayama, Meguro, Tokyo 152-8551, Jap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Institute of Physics, University of Tsukuba, Tsukuba, Ibaraki 305, Jap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Waseda University, Advanced Research Institute for Science and Engineering, 17  Kikui-cho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     </a:t>
            </a: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Shinjuku-ku, Tokyo 162-0044, Jap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Chonbuk National University, Jeonju, Kore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Ewha Womans University, Seoul 120-750, Kore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KAERI, Cyclotron Application Laboratory, Seoul, South Kore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Kangnung National University, Kangnung 210-702, South Kore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Korea University, Seoul, 136-701, Kore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Myongji University, Yongin, Kyonggido 449-728, Kore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System Electronics Laboratory, Seoul National University, Seoul, South Kore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Yonsei University, IPAP, Seoul 120-749, Kore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IHEP Protvino, State Research Center of Russian Federation, Institute for High Energy Physic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     </a:t>
            </a: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Protvino, 142281, Russ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Joint Institute for Nuclear Research, 141980 Dubna, Moscow Region, Russ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Russian Research Center "Kurchatov Institute", Moscow, Russ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PNPI, Petersburg Nuclear Physics Institute, Gatchina, Leningrad region, 188300, Russ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Saint Petersburg State Polytechnic University, St. Petersburg, Russ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Skobeltsyn Institute of Nuclear Physics, Lomonosov Moscow State University, Vorob'evy Gory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     </a:t>
            </a: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Moscow 119992, Russi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Arial Narrow"/>
              </a:rPr>
              <a:t>Department of Physics, Lund University, Box 118, SE-221 00 Lund, Swed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145040" y="3714840"/>
            <a:ext cx="3703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Abilene Christian University, Abilene, TX 79699, U.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Collider-Accelerator Department, Brookhaven National Laboratory, Upton, NY 11973-5000, U.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Physics Department, Brookhaven National Laboratory, Upton, NY 11973-5000, U.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University of California - Riverside, Riverside, CA 92521, U.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University of Colorado, Boulder, CO 80309, U.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Columbia University, New York, NY 10027 and Nevis Laboratories, Irvington, NY 10533, U.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Florida Institute of Technology, Melbourne, FL 32901, U.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Florida State University, Tallahassee, FL 32306, U.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Georgia State University, Atlanta, GA 30303, U.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University of Illinois at Urbana-Champaign, Urbana, IL 61801, U.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Iowa State University, Ames, IA 50011, U.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Lawrence Livermore National Laboratory, Livermore, CA 94550, U.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Los Alamos National Laboratory, Los Alamos, NM 87545, U.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University of Maryland, College Park, MD 20742, U.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Department of Physics, University of Massachusetts, Amherst, MA 01003-9337, U.S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Muhlenberg College, Allentown, PA 18104-5586, U.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University of New Mexico, Albuquerque, NM 87131, U.S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New Mexico State University, Las Cruces, NM 88003, U.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Oak Ridge National Laboratory, Oak Ridge, TN 37831, U.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RIKEN BNL Research Center, Brookhaven National Laboratory, Upton, NY 11973-5000, U.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Chemistry Department, Stony Brook University, Stony Brook, SUNY, NY 11794-3400, U.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Department of Physics and Astronomy, Stony Brook University, SUNY, Stony Brook, NY 11794, U.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University of Tennessee, Knoxville, TN 37996, U.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 Narrow"/>
              </a:rPr>
              <a:t>Vanderbilt University, Nashville, TN 37235, U.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105520" y="10620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ff6666"/>
                </a:solidFill>
                <a:latin typeface="Arial"/>
              </a:rPr>
              <a:t>14 Countries  69 Instit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9832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3886200" y="609480"/>
            <a:ext cx="5105520" cy="29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mary and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 and 3- particle correlation and transverse momentum dependence of jet-modification tells us that it is likely a mach-c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h-cone and ridge are almost as soft as inclusive partic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ed particle (baryon, meson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correlation measurements in PHE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h-cone and ridge w.r.t. reaction plane angle tells us that this is a part of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v. of Tsukuba, ShinIchi Esu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95A8-8067-4372-B5A6-998877EEC676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QM08 Tsinghua Univ., Beijing, China, 9/Oct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2819520" y="251460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 and Back-up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v. of Tsukuba, ShinIchi Esu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532-8D09-417F-B36C-D13885FF0AF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QM08 Tsinghua Univ., Beijing, China, 9/Oct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235400" cy="43434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3719520" cy="441972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1743840" y="457200"/>
            <a:ext cx="595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Size and Beam Energy Dependence of Jet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064640" y="914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ucl-ex/0611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296160" y="5575320"/>
            <a:ext cx="33307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No energy dependence (62 ~ 200G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Rapid change between 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= 0 ~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Almost no change above 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&gt;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v. of Tsukuba, ShinIchi Esu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2E5-FC9C-41FC-8189-4F3AFFBAF17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QM08 Tsinghua Univ., Beijing, China, 9/Oct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343400" cy="416556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4343400" y="1676520"/>
            <a:ext cx="4405320" cy="42624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990720" y="1311120"/>
            <a:ext cx="32004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RC 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71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051902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.4&lt;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Trig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4 GeV/c 1.7&lt;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Asso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2.5 GeV/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46280" y="355680"/>
            <a:ext cx="352080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Identified Baryon/Meson trigger with associate had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72240" y="914400"/>
            <a:ext cx="372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near-side yield can no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ained by soft process like therm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mbination al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v. of Tsukuba, ShinIchi Esu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23C8-98DB-4E33-941A-DBB06D346267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QM08 Tsinghua Univ., Beijing, China, 9/Oct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14400" y="2362320"/>
            <a:ext cx="3580920" cy="3580920"/>
            <a:chOff x="914400" y="2362320"/>
            <a:chExt cx="3580920" cy="3580920"/>
          </a:xfrm>
        </p:grpSpPr>
        <p:pic>
          <p:nvPicPr>
            <p:cNvPr id="51" name="Picture 16" descr="ppHt_pict"/>
            <p:cNvPicPr/>
            <p:nvPr/>
          </p:nvPicPr>
          <p:blipFill>
            <a:blip r:embed="rId1"/>
            <a:stretch/>
          </p:blipFill>
          <p:spPr>
            <a:xfrm>
              <a:off x="914400" y="2362320"/>
              <a:ext cx="3580920" cy="358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"/>
            <p:cNvGrpSpPr/>
            <p:nvPr/>
          </p:nvGrpSpPr>
          <p:grpSpPr>
            <a:xfrm>
              <a:off x="1665720" y="2547720"/>
              <a:ext cx="2604240" cy="2604600"/>
              <a:chOff x="1665720" y="2547720"/>
              <a:chExt cx="2604240" cy="2604600"/>
            </a:xfrm>
          </p:grpSpPr>
          <p:sp>
            <p:nvSpPr>
              <p:cNvPr id="53" name="Line 17"/>
              <p:cNvSpPr/>
              <p:nvPr/>
            </p:nvSpPr>
            <p:spPr>
              <a:xfrm flipH="1" flipV="1">
                <a:off x="1665720" y="2547720"/>
                <a:ext cx="1054080" cy="15966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8"/>
              <p:cNvSpPr/>
              <p:nvPr/>
            </p:nvSpPr>
            <p:spPr>
              <a:xfrm>
                <a:off x="2708280" y="4169880"/>
                <a:ext cx="1561680" cy="982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9"/>
              <p:cNvSpPr/>
              <p:nvPr/>
            </p:nvSpPr>
            <p:spPr>
              <a:xfrm>
                <a:off x="2692800" y="3867480"/>
                <a:ext cx="209160" cy="42444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 Box 20"/>
              <p:cNvSpPr/>
              <p:nvPr/>
            </p:nvSpPr>
            <p:spPr>
              <a:xfrm>
                <a:off x="2937600" y="3482280"/>
                <a:ext cx="43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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876920" y="2362320"/>
            <a:ext cx="3577320" cy="3580560"/>
            <a:chOff x="4876920" y="2362320"/>
            <a:chExt cx="3577320" cy="3580560"/>
          </a:xfrm>
        </p:grpSpPr>
        <p:grpSp>
          <p:nvGrpSpPr>
            <p:cNvPr id="58" name=""/>
            <p:cNvGrpSpPr/>
            <p:nvPr/>
          </p:nvGrpSpPr>
          <p:grpSpPr>
            <a:xfrm>
              <a:off x="4876920" y="2362320"/>
              <a:ext cx="3577320" cy="3580560"/>
              <a:chOff x="4876920" y="2362320"/>
              <a:chExt cx="3577320" cy="3580560"/>
            </a:xfrm>
          </p:grpSpPr>
          <p:pic>
            <p:nvPicPr>
              <p:cNvPr id="59" name="" descr=""/>
              <p:cNvPicPr/>
              <p:nvPr/>
            </p:nvPicPr>
            <p:blipFill>
              <a:blip r:embed="rId2"/>
              <a:srcRect l="0" t="0" r="0" b="6753"/>
              <a:stretch/>
            </p:blipFill>
            <p:spPr>
              <a:xfrm>
                <a:off x="4876920" y="2362320"/>
                <a:ext cx="3577320" cy="358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5278320" y="4800240"/>
                <a:ext cx="183960" cy="28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5604840" y="2693160"/>
              <a:ext cx="2659320" cy="2602440"/>
              <a:chOff x="5604840" y="2693160"/>
              <a:chExt cx="2659320" cy="2602440"/>
            </a:xfrm>
          </p:grpSpPr>
          <p:sp>
            <p:nvSpPr>
              <p:cNvPr id="62" name="Line 17"/>
              <p:cNvSpPr/>
              <p:nvPr/>
            </p:nvSpPr>
            <p:spPr>
              <a:xfrm flipH="1" flipV="1">
                <a:off x="5604840" y="2693160"/>
                <a:ext cx="1076040" cy="1595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8"/>
              <p:cNvSpPr/>
              <p:nvPr/>
            </p:nvSpPr>
            <p:spPr>
              <a:xfrm>
                <a:off x="6669720" y="4313880"/>
                <a:ext cx="1594440" cy="9817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9"/>
              <p:cNvSpPr/>
              <p:nvPr/>
            </p:nvSpPr>
            <p:spPr>
              <a:xfrm>
                <a:off x="6653880" y="4011840"/>
                <a:ext cx="213480" cy="42408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20"/>
              <p:cNvSpPr/>
              <p:nvPr/>
            </p:nvSpPr>
            <p:spPr>
              <a:xfrm>
                <a:off x="6908400" y="3626640"/>
                <a:ext cx="43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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7306200" y="242244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 + 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92400" y="533520"/>
            <a:ext cx="6817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Use Jet as a probe of High-Energy and Density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Jet in p+p, d+Au or Peripheral Au+Au Collision as a Base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Subtraction of Non-Correlated BG in Central Heavy-Ion Colli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365760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 +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14400" y="2362320"/>
            <a:ext cx="7543800" cy="3581280"/>
            <a:chOff x="914400" y="2362320"/>
            <a:chExt cx="7543800" cy="3581280"/>
          </a:xfrm>
        </p:grpSpPr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4876920" y="2362320"/>
              <a:ext cx="358128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4"/>
            <a:stretch/>
          </p:blipFill>
          <p:spPr>
            <a:xfrm>
              <a:off x="914400" y="2362320"/>
              <a:ext cx="358128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314120" y="242244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u + A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27280" y="2422440"/>
              <a:ext cx="89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 + A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v. of Tsukuba, ShinIchi Esu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049-BD75-402F-8F87-8EBA1D4896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QM08 Tsinghua Univ., Beijing, China, 9/Oct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750960" y="1738440"/>
            <a:ext cx="7630920" cy="511956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750960" y="61920"/>
            <a:ext cx="7630920" cy="511956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6477120" y="76320"/>
            <a:ext cx="2355840" cy="1828800"/>
            <a:chOff x="6477120" y="76320"/>
            <a:chExt cx="2355840" cy="1828800"/>
          </a:xfrm>
        </p:grpSpPr>
        <p:sp>
          <p:nvSpPr>
            <p:cNvPr id="619" name=""/>
            <p:cNvSpPr/>
            <p:nvPr/>
          </p:nvSpPr>
          <p:spPr>
            <a:xfrm>
              <a:off x="6477120" y="76320"/>
              <a:ext cx="235584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6477120" y="76320"/>
              <a:ext cx="1925640" cy="1827000"/>
              <a:chOff x="6477120" y="76320"/>
              <a:chExt cx="1925640" cy="182700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7076160" y="574560"/>
                <a:ext cx="748080" cy="912600"/>
                <a:chOff x="7076160" y="574560"/>
                <a:chExt cx="748080" cy="91260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7076160" y="574560"/>
                  <a:ext cx="748080" cy="912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6477120" y="1022760"/>
                <a:ext cx="1925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461000" y="76320"/>
                <a:ext cx="720" cy="182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6733800" y="506520"/>
                <a:ext cx="1390680" cy="10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 flipV="1">
                <a:off x="6796800" y="506520"/>
                <a:ext cx="1392480" cy="10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8382600" y="853920"/>
              <a:ext cx="44424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.P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12160" y="390600"/>
              <a:ext cx="723600" cy="130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613560" y="742680"/>
              <a:ext cx="172080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567480" y="743040"/>
              <a:ext cx="181296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7112160" y="320760"/>
              <a:ext cx="7236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69640" y="1519200"/>
              <a:ext cx="357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(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717320" y="1366920"/>
              <a:ext cx="357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99"/>
                  </a:solidFill>
                  <a:latin typeface="Times New Roman"/>
                </a:rPr>
                <a:t>(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926840" y="1185840"/>
              <a:ext cx="357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ff00"/>
                  </a:solidFill>
                  <a:latin typeface="Times New Roman"/>
                </a:rPr>
                <a:t>(3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98560" y="947880"/>
              <a:ext cx="357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Times New Roman"/>
                </a:rPr>
                <a:t>(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98560" y="731880"/>
              <a:ext cx="357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Times New Roman"/>
                </a:rPr>
                <a:t>(5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26840" y="520560"/>
              <a:ext cx="357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ff00"/>
                  </a:solidFill>
                  <a:latin typeface="Times New Roman"/>
                </a:rPr>
                <a:t>(6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23800" y="338040"/>
              <a:ext cx="357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99"/>
                  </a:solidFill>
                  <a:latin typeface="Times New Roman"/>
                </a:rPr>
                <a:t>(7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469640" y="228600"/>
              <a:ext cx="357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(8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1129680" y="111240"/>
            <a:ext cx="1102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ave (1)~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145160" y="1981080"/>
            <a:ext cx="1047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imes New Roman"/>
              </a:rPr>
              <a:t>ave (1),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124080" y="1981080"/>
            <a:ext cx="1067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ff"/>
                </a:solidFill>
                <a:latin typeface="Times New Roman"/>
              </a:rPr>
              <a:t>ave (2),(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029200" y="19810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ff00"/>
                </a:solidFill>
                <a:latin typeface="Times New Roman"/>
              </a:rPr>
              <a:t>ave (3),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0" y="19810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ff"/>
                </a:solidFill>
                <a:latin typeface="Times New Roman"/>
              </a:rPr>
              <a:t>ave (4),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225800" y="5257800"/>
            <a:ext cx="4168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097080" y="525780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002200" y="525780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907320" y="525780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811520" y="5257800"/>
            <a:ext cx="4168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83160" y="525780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Times New Roman"/>
              </a:rPr>
              <a:t>(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587920" y="525780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493040" y="525780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004200" y="539640"/>
            <a:ext cx="309600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ure Flow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with trigger angle selection w.r.t. R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with/without R.P. aligned event mixing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rot="16200000">
            <a:off x="-937080" y="2478600"/>
            <a:ext cx="263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out R.P. aligned event mix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16200000">
            <a:off x="-310680" y="5598360"/>
            <a:ext cx="144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with R.P. alig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event mix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06520" y="228600"/>
            <a:ext cx="255600" cy="4724280"/>
          </a:xfrm>
          <a:custGeom>
            <a:avLst/>
            <a:gdLst/>
            <a:ahLst/>
            <a:rect l="l" t="t" r="r" b="b"/>
            <a:pathLst>
              <a:path w="161" h="3172">
                <a:moveTo>
                  <a:pt x="161" y="4"/>
                </a:moveTo>
                <a:cubicBezTo>
                  <a:pt x="138" y="19"/>
                  <a:pt x="48" y="0"/>
                  <a:pt x="24" y="96"/>
                </a:cubicBezTo>
                <a:cubicBezTo>
                  <a:pt x="0" y="192"/>
                  <a:pt x="18" y="323"/>
                  <a:pt x="17" y="580"/>
                </a:cubicBezTo>
                <a:cubicBezTo>
                  <a:pt x="16" y="837"/>
                  <a:pt x="17" y="1316"/>
                  <a:pt x="17" y="1636"/>
                </a:cubicBezTo>
                <a:cubicBezTo>
                  <a:pt x="17" y="1956"/>
                  <a:pt x="16" y="2263"/>
                  <a:pt x="17" y="2500"/>
                </a:cubicBezTo>
                <a:cubicBezTo>
                  <a:pt x="18" y="2737"/>
                  <a:pt x="0" y="2947"/>
                  <a:pt x="24" y="3059"/>
                </a:cubicBezTo>
                <a:cubicBezTo>
                  <a:pt x="48" y="3171"/>
                  <a:pt x="133" y="3149"/>
                  <a:pt x="161" y="31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225800" y="3581280"/>
            <a:ext cx="4168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097080" y="358128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002200" y="358128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907320" y="358128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811520" y="3581280"/>
            <a:ext cx="4168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683160" y="358128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Times New Roman"/>
              </a:rPr>
              <a:t>(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587920" y="358128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493040" y="358128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v. of Tsukuba, ShinIchi Esu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CC27-5580-4337-87C7-8995CE011922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QM08 Tsinghua Univ., Beijing, China, 9/Oct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56253" r="10210" b="0"/>
          <a:stretch/>
        </p:blipFill>
        <p:spPr>
          <a:xfrm>
            <a:off x="457200" y="1093680"/>
            <a:ext cx="3809880" cy="2792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8320" y="762120"/>
            <a:ext cx="3962160" cy="320040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152280" y="3870360"/>
            <a:ext cx="8848800" cy="2606760"/>
            <a:chOff x="152280" y="3870360"/>
            <a:chExt cx="8848800" cy="2606760"/>
          </a:xfrm>
        </p:grpSpPr>
        <p:sp>
          <p:nvSpPr>
            <p:cNvPr id="77" name=""/>
            <p:cNvSpPr/>
            <p:nvPr/>
          </p:nvSpPr>
          <p:spPr>
            <a:xfrm>
              <a:off x="152280" y="3914640"/>
              <a:ext cx="8848800" cy="256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3"/>
            <a:srcRect l="68546" t="0" r="0" b="0"/>
            <a:stretch/>
          </p:blipFill>
          <p:spPr>
            <a:xfrm>
              <a:off x="6323040" y="4159080"/>
              <a:ext cx="25923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4"/>
            <a:stretch/>
          </p:blipFill>
          <p:spPr>
            <a:xfrm>
              <a:off x="250920" y="4221000"/>
              <a:ext cx="2700360" cy="18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5"/>
            <a:srcRect l="0" t="88996" r="64788" b="0"/>
            <a:stretch/>
          </p:blipFill>
          <p:spPr>
            <a:xfrm>
              <a:off x="250920" y="5992920"/>
              <a:ext cx="273672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6"/>
            <a:srcRect l="0" t="44471" r="65258" b="0"/>
            <a:stretch/>
          </p:blipFill>
          <p:spPr>
            <a:xfrm>
              <a:off x="3220920" y="4233960"/>
              <a:ext cx="2700360" cy="22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36280" y="3870360"/>
              <a:ext cx="178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RHIC 200G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11160" y="3870360"/>
              <a:ext cx="143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SPS 17G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89360" y="38703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RHIC 62G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49120" y="4637160"/>
              <a:ext cx="1416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PHENI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nucl-ex/06110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86280" y="6156360"/>
              <a:ext cx="139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.Kniege, ISMD 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933640" y="2133720"/>
            <a:ext cx="3162240" cy="2590200"/>
            <a:chOff x="2933640" y="2133720"/>
            <a:chExt cx="3162240" cy="2590200"/>
          </a:xfrm>
        </p:grpSpPr>
        <p:sp>
          <p:nvSpPr>
            <p:cNvPr id="88" name=""/>
            <p:cNvSpPr/>
            <p:nvPr/>
          </p:nvSpPr>
          <p:spPr>
            <a:xfrm>
              <a:off x="3162240" y="3276360"/>
              <a:ext cx="2685960" cy="14331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43640" y="3276360"/>
              <a:ext cx="552240" cy="14317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33640" y="3276360"/>
              <a:ext cx="554040" cy="1447560"/>
            </a:xfrm>
            <a:prstGeom prst="ellips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00640" y="24382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857840" y="2514240"/>
              <a:ext cx="685800" cy="3808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4857840" y="2133720"/>
              <a:ext cx="609480" cy="7617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857840" y="2133720"/>
              <a:ext cx="152280" cy="7617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81320" y="3470040"/>
              <a:ext cx="1081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4765320" y="3470040"/>
              <a:ext cx="11588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86280" y="3312720"/>
              <a:ext cx="15264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47840" y="3331800"/>
              <a:ext cx="15264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476600" y="2742840"/>
              <a:ext cx="457200" cy="76176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48000" y="3165120"/>
              <a:ext cx="541440" cy="626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33600" y="316836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91000" y="316836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52720" y="38858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19600" y="38858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701880" y="3454560"/>
            <a:ext cx="837720" cy="1225440"/>
            <a:chOff x="3701880" y="3454560"/>
            <a:chExt cx="837720" cy="1225440"/>
          </a:xfrm>
        </p:grpSpPr>
        <p:sp>
          <p:nvSpPr>
            <p:cNvPr id="106" name=""/>
            <p:cNvSpPr/>
            <p:nvPr/>
          </p:nvSpPr>
          <p:spPr>
            <a:xfrm>
              <a:off x="4309920" y="4017960"/>
              <a:ext cx="77760" cy="35712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853800" y="3965760"/>
              <a:ext cx="438120" cy="71424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701880" y="3965760"/>
              <a:ext cx="590400" cy="40932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4234680" y="3454560"/>
              <a:ext cx="304920" cy="663480"/>
            </a:xfrm>
            <a:prstGeom prst="line">
              <a:avLst/>
            </a:prstGeom>
            <a:ln w="38160">
              <a:solidFill>
                <a:srgbClr val="3366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257280" y="3441600"/>
            <a:ext cx="1909080" cy="1321200"/>
            <a:chOff x="3257280" y="3441600"/>
            <a:chExt cx="1909080" cy="1321200"/>
          </a:xfrm>
        </p:grpSpPr>
        <p:sp>
          <p:nvSpPr>
            <p:cNvPr id="111" name=""/>
            <p:cNvSpPr/>
            <p:nvPr/>
          </p:nvSpPr>
          <p:spPr>
            <a:xfrm flipH="1">
              <a:off x="3597480" y="3668760"/>
              <a:ext cx="370800" cy="368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257280" y="3620160"/>
              <a:ext cx="743760" cy="2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3576960" y="3556800"/>
              <a:ext cx="419400" cy="622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46600" y="3441600"/>
              <a:ext cx="703080" cy="231840"/>
            </a:xfrm>
            <a:custGeom>
              <a:avLst/>
              <a:gdLst/>
              <a:ahLst/>
              <a:rect l="l" t="t" r="r" b="b"/>
              <a:pathLst>
                <a:path w="443" h="146">
                  <a:moveTo>
                    <a:pt x="443" y="25"/>
                  </a:moveTo>
                  <a:lnTo>
                    <a:pt x="341" y="0"/>
                  </a:lnTo>
                  <a:lnTo>
                    <a:pt x="261" y="104"/>
                  </a:lnTo>
                  <a:lnTo>
                    <a:pt x="153" y="76"/>
                  </a:lnTo>
                  <a:lnTo>
                    <a:pt x="0" y="146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43080" y="3987720"/>
              <a:ext cx="323280" cy="1699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91600" y="3968280"/>
              <a:ext cx="265320" cy="7945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724640" y="3967920"/>
              <a:ext cx="65880" cy="7160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21240" y="3441600"/>
              <a:ext cx="355680" cy="685800"/>
            </a:xfrm>
            <a:custGeom>
              <a:avLst/>
              <a:gdLst/>
              <a:ahLst/>
              <a:rect l="l" t="t" r="r" b="b"/>
              <a:pathLst>
                <a:path w="224" h="432">
                  <a:moveTo>
                    <a:pt x="32" y="0"/>
                  </a:moveTo>
                  <a:cubicBezTo>
                    <a:pt x="30" y="26"/>
                    <a:pt x="0" y="122"/>
                    <a:pt x="22" y="154"/>
                  </a:cubicBezTo>
                  <a:cubicBezTo>
                    <a:pt x="44" y="186"/>
                    <a:pt x="148" y="165"/>
                    <a:pt x="166" y="192"/>
                  </a:cubicBezTo>
                  <a:cubicBezTo>
                    <a:pt x="184" y="219"/>
                    <a:pt x="118" y="277"/>
                    <a:pt x="128" y="317"/>
                  </a:cubicBezTo>
                  <a:cubicBezTo>
                    <a:pt x="138" y="357"/>
                    <a:pt x="204" y="408"/>
                    <a:pt x="224" y="432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537000" y="3429000"/>
            <a:ext cx="1835280" cy="1247760"/>
            <a:chOff x="3537000" y="3429000"/>
            <a:chExt cx="1835280" cy="1247760"/>
          </a:xfrm>
        </p:grpSpPr>
        <p:grpSp>
          <p:nvGrpSpPr>
            <p:cNvPr id="120" name=""/>
            <p:cNvGrpSpPr/>
            <p:nvPr/>
          </p:nvGrpSpPr>
          <p:grpSpPr>
            <a:xfrm>
              <a:off x="3701880" y="3450960"/>
              <a:ext cx="837720" cy="1225440"/>
              <a:chOff x="3701880" y="3450960"/>
              <a:chExt cx="837720" cy="1225440"/>
            </a:xfrm>
          </p:grpSpPr>
          <p:sp>
            <p:nvSpPr>
              <p:cNvPr id="121" name=""/>
              <p:cNvSpPr/>
              <p:nvPr/>
            </p:nvSpPr>
            <p:spPr>
              <a:xfrm>
                <a:off x="4309920" y="4014360"/>
                <a:ext cx="77760" cy="35712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3853800" y="3962160"/>
                <a:ext cx="438120" cy="71424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3701880" y="3962160"/>
                <a:ext cx="590400" cy="40932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4234680" y="3450960"/>
                <a:ext cx="304920" cy="663480"/>
              </a:xfrm>
              <a:prstGeom prst="line">
                <a:avLst/>
              </a:prstGeom>
              <a:ln w="38160">
                <a:solidFill>
                  <a:srgbClr val="3366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3537000" y="3429000"/>
              <a:ext cx="1835280" cy="1247760"/>
              <a:chOff x="3537000" y="3429000"/>
              <a:chExt cx="1835280" cy="1247760"/>
            </a:xfrm>
          </p:grpSpPr>
          <p:sp>
            <p:nvSpPr>
              <p:cNvPr id="126" name=""/>
              <p:cNvSpPr/>
              <p:nvPr/>
            </p:nvSpPr>
            <p:spPr>
              <a:xfrm>
                <a:off x="4457880" y="3611520"/>
                <a:ext cx="596880" cy="289080"/>
              </a:xfrm>
              <a:custGeom>
                <a:avLst/>
                <a:gdLst/>
                <a:ahLst/>
                <a:rect l="l" t="t" r="r" b="b"/>
                <a:pathLst>
                  <a:path w="376" h="182">
                    <a:moveTo>
                      <a:pt x="0" y="129"/>
                    </a:moveTo>
                    <a:cubicBezTo>
                      <a:pt x="15" y="137"/>
                      <a:pt x="65" y="182"/>
                      <a:pt x="88" y="173"/>
                    </a:cubicBezTo>
                    <a:cubicBezTo>
                      <a:pt x="111" y="164"/>
                      <a:pt x="112" y="85"/>
                      <a:pt x="136" y="77"/>
                    </a:cubicBezTo>
                    <a:cubicBezTo>
                      <a:pt x="160" y="69"/>
                      <a:pt x="210" y="136"/>
                      <a:pt x="232" y="125"/>
                    </a:cubicBezTo>
                    <a:cubicBezTo>
                      <a:pt x="254" y="114"/>
                      <a:pt x="244" y="26"/>
                      <a:pt x="268" y="13"/>
                    </a:cubicBezTo>
                    <a:cubicBezTo>
                      <a:pt x="292" y="0"/>
                      <a:pt x="354" y="42"/>
                      <a:pt x="376" y="49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68960" y="3789360"/>
                <a:ext cx="888840" cy="385920"/>
              </a:xfrm>
              <a:custGeom>
                <a:avLst/>
                <a:gdLst/>
                <a:ahLst/>
                <a:rect l="l" t="t" r="r" b="b"/>
                <a:pathLst>
                  <a:path w="560" h="243">
                    <a:moveTo>
                      <a:pt x="0" y="190"/>
                    </a:moveTo>
                    <a:cubicBezTo>
                      <a:pt x="15" y="198"/>
                      <a:pt x="65" y="243"/>
                      <a:pt x="88" y="234"/>
                    </a:cubicBezTo>
                    <a:cubicBezTo>
                      <a:pt x="111" y="225"/>
                      <a:pt x="112" y="146"/>
                      <a:pt x="136" y="138"/>
                    </a:cubicBezTo>
                    <a:cubicBezTo>
                      <a:pt x="160" y="130"/>
                      <a:pt x="208" y="195"/>
                      <a:pt x="232" y="186"/>
                    </a:cubicBezTo>
                    <a:cubicBezTo>
                      <a:pt x="256" y="177"/>
                      <a:pt x="251" y="92"/>
                      <a:pt x="280" y="81"/>
                    </a:cubicBezTo>
                    <a:cubicBezTo>
                      <a:pt x="309" y="70"/>
                      <a:pt x="377" y="133"/>
                      <a:pt x="404" y="121"/>
                    </a:cubicBezTo>
                    <a:cubicBezTo>
                      <a:pt x="431" y="109"/>
                      <a:pt x="414" y="18"/>
                      <a:pt x="440" y="9"/>
                    </a:cubicBezTo>
                    <a:cubicBezTo>
                      <a:pt x="466" y="0"/>
                      <a:pt x="535" y="53"/>
                      <a:pt x="560" y="65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95720" y="4052880"/>
                <a:ext cx="1187640" cy="519120"/>
              </a:xfrm>
              <a:custGeom>
                <a:avLst/>
                <a:gdLst/>
                <a:ahLst/>
                <a:rect l="l" t="t" r="r" b="b"/>
                <a:pathLst>
                  <a:path w="748" h="327">
                    <a:moveTo>
                      <a:pt x="0" y="274"/>
                    </a:moveTo>
                    <a:cubicBezTo>
                      <a:pt x="15" y="282"/>
                      <a:pt x="65" y="327"/>
                      <a:pt x="88" y="318"/>
                    </a:cubicBezTo>
                    <a:cubicBezTo>
                      <a:pt x="111" y="309"/>
                      <a:pt x="112" y="230"/>
                      <a:pt x="136" y="222"/>
                    </a:cubicBezTo>
                    <a:cubicBezTo>
                      <a:pt x="160" y="214"/>
                      <a:pt x="208" y="279"/>
                      <a:pt x="232" y="270"/>
                    </a:cubicBezTo>
                    <a:cubicBezTo>
                      <a:pt x="256" y="261"/>
                      <a:pt x="251" y="177"/>
                      <a:pt x="280" y="165"/>
                    </a:cubicBezTo>
                    <a:cubicBezTo>
                      <a:pt x="309" y="153"/>
                      <a:pt x="378" y="210"/>
                      <a:pt x="404" y="197"/>
                    </a:cubicBezTo>
                    <a:cubicBezTo>
                      <a:pt x="430" y="184"/>
                      <a:pt x="409" y="100"/>
                      <a:pt x="436" y="89"/>
                    </a:cubicBezTo>
                    <a:cubicBezTo>
                      <a:pt x="463" y="78"/>
                      <a:pt x="535" y="143"/>
                      <a:pt x="564" y="131"/>
                    </a:cubicBezTo>
                    <a:cubicBezTo>
                      <a:pt x="593" y="119"/>
                      <a:pt x="581" y="30"/>
                      <a:pt x="612" y="15"/>
                    </a:cubicBezTo>
                    <a:cubicBezTo>
                      <a:pt x="643" y="0"/>
                      <a:pt x="720" y="37"/>
                      <a:pt x="748" y="43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470480" y="4273560"/>
                <a:ext cx="901800" cy="403200"/>
              </a:xfrm>
              <a:custGeom>
                <a:avLst/>
                <a:gdLst/>
                <a:ahLst/>
                <a:rect l="l" t="t" r="r" b="b"/>
                <a:pathLst>
                  <a:path w="568" h="254">
                    <a:moveTo>
                      <a:pt x="0" y="200"/>
                    </a:moveTo>
                    <a:cubicBezTo>
                      <a:pt x="15" y="207"/>
                      <a:pt x="68" y="254"/>
                      <a:pt x="92" y="244"/>
                    </a:cubicBezTo>
                    <a:cubicBezTo>
                      <a:pt x="116" y="234"/>
                      <a:pt x="119" y="148"/>
                      <a:pt x="144" y="139"/>
                    </a:cubicBezTo>
                    <a:cubicBezTo>
                      <a:pt x="169" y="130"/>
                      <a:pt x="216" y="196"/>
                      <a:pt x="240" y="187"/>
                    </a:cubicBezTo>
                    <a:cubicBezTo>
                      <a:pt x="264" y="178"/>
                      <a:pt x="260" y="93"/>
                      <a:pt x="288" y="82"/>
                    </a:cubicBezTo>
                    <a:cubicBezTo>
                      <a:pt x="316" y="71"/>
                      <a:pt x="381" y="132"/>
                      <a:pt x="408" y="120"/>
                    </a:cubicBezTo>
                    <a:cubicBezTo>
                      <a:pt x="435" y="108"/>
                      <a:pt x="421" y="24"/>
                      <a:pt x="448" y="12"/>
                    </a:cubicBezTo>
                    <a:cubicBezTo>
                      <a:pt x="475" y="0"/>
                      <a:pt x="543" y="41"/>
                      <a:pt x="568" y="48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87720" y="3429000"/>
                <a:ext cx="268560" cy="425520"/>
              </a:xfrm>
              <a:custGeom>
                <a:avLst/>
                <a:gdLst/>
                <a:ahLst/>
                <a:rect l="l" t="t" r="r" b="b"/>
                <a:pathLst>
                  <a:path w="169" h="268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6" y="210"/>
                      <a:pt x="57" y="232"/>
                    </a:cubicBezTo>
                    <a:cubicBezTo>
                      <a:pt x="68" y="254"/>
                      <a:pt x="150" y="262"/>
                      <a:pt x="169" y="268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765600" y="3568680"/>
                <a:ext cx="298440" cy="622440"/>
              </a:xfrm>
              <a:custGeom>
                <a:avLst/>
                <a:gdLst/>
                <a:ahLst/>
                <a:rect l="l" t="t" r="r" b="b"/>
                <a:pathLst>
                  <a:path w="188" h="392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61"/>
                      <a:pt x="177" y="288"/>
                    </a:cubicBezTo>
                    <a:cubicBezTo>
                      <a:pt x="188" y="315"/>
                      <a:pt x="136" y="370"/>
                      <a:pt x="125" y="392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37000" y="3657600"/>
                <a:ext cx="374760" cy="704880"/>
              </a:xfrm>
              <a:custGeom>
                <a:avLst/>
                <a:gdLst/>
                <a:ahLst/>
                <a:rect l="l" t="t" r="r" b="b"/>
                <a:pathLst>
                  <a:path w="236" h="444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59"/>
                      <a:pt x="177" y="288"/>
                    </a:cubicBezTo>
                    <a:cubicBezTo>
                      <a:pt x="188" y="317"/>
                      <a:pt x="114" y="378"/>
                      <a:pt x="124" y="404"/>
                    </a:cubicBezTo>
                    <a:cubicBezTo>
                      <a:pt x="134" y="430"/>
                      <a:pt x="213" y="436"/>
                      <a:pt x="236" y="444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>
            <a:off x="226080" y="17316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Jet suppression    modification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ith 2-particle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33360"/>
            <a:ext cx="228600" cy="184320"/>
          </a:xfrm>
          <a:prstGeom prst="rightArrow">
            <a:avLst>
              <a:gd name="adj1" fmla="val 36204"/>
              <a:gd name="adj2" fmla="val 5167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v. of Tsukuba, ShinIchi Esu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328-422D-4929-AEDF-707250B2CFA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QM08 Tsinghua Univ., Beijing, China, 9/Oct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1074600"/>
            <a:ext cx="4648320" cy="4488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3043080" cy="4495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936120" y="99072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Xiv:0801.4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8840" y="457200"/>
            <a:ext cx="730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verse Momentum (Trigger, Associate) Dependence of Jet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22320" y="5586480"/>
            <a:ext cx="43275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Suppression in both near/away side peak at high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Enhancement in near side peak at low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Development of away side shoulder at low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546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3960" y="5707080"/>
            <a:ext cx="20232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No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dependenc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shoulder peak po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v. of Tsukuba, ShinIchi Esu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429-FC2B-44FB-8627-113C3CE3BCA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QM08 Tsinghua Univ., Beijing, China, 9/Oct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7080" y="762120"/>
            <a:ext cx="3606840" cy="2819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2700000">
            <a:off x="1141920" y="1391400"/>
            <a:ext cx="1895400" cy="35100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52280" y="3581280"/>
            <a:ext cx="3657600" cy="2819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rot="2700000">
            <a:off x="1200240" y="4249080"/>
            <a:ext cx="186552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2360" y="601920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rcRect l="0" t="64996" r="15320" b="0"/>
          <a:stretch/>
        </p:blipFill>
        <p:spPr>
          <a:xfrm>
            <a:off x="3276720" y="609480"/>
            <a:ext cx="2819160" cy="2667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rcRect l="1920" t="68373" r="15320" b="0"/>
          <a:stretch/>
        </p:blipFill>
        <p:spPr>
          <a:xfrm>
            <a:off x="3352680" y="365760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254120" y="3092400"/>
            <a:ext cx="1139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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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)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84000" y="5911920"/>
            <a:ext cx="1139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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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)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6172200" y="3603600"/>
            <a:ext cx="2895480" cy="2568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023240" y="552852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rcRect l="0" t="0" r="0" b="93032"/>
          <a:stretch/>
        </p:blipFill>
        <p:spPr>
          <a:xfrm rot="16200000">
            <a:off x="5861880" y="4339080"/>
            <a:ext cx="495000" cy="27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762600" y="396216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e angle (radi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94520" y="5938560"/>
            <a:ext cx="1265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(GeV/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943600" y="76320"/>
            <a:ext cx="3162240" cy="2590200"/>
            <a:chOff x="5943600" y="76320"/>
            <a:chExt cx="3162240" cy="2590200"/>
          </a:xfrm>
        </p:grpSpPr>
        <p:sp>
          <p:nvSpPr>
            <p:cNvPr id="157" name=""/>
            <p:cNvSpPr/>
            <p:nvPr/>
          </p:nvSpPr>
          <p:spPr>
            <a:xfrm>
              <a:off x="6172200" y="1218960"/>
              <a:ext cx="2685960" cy="14331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553600" y="1218960"/>
              <a:ext cx="552240" cy="14317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43600" y="1218960"/>
              <a:ext cx="554040" cy="1447560"/>
            </a:xfrm>
            <a:prstGeom prst="ellips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10600" y="3808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867800" y="456840"/>
              <a:ext cx="685800" cy="3808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867800" y="76320"/>
              <a:ext cx="609480" cy="7617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867800" y="76320"/>
              <a:ext cx="152280" cy="7617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91280" y="1412640"/>
              <a:ext cx="1081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775280" y="1412640"/>
              <a:ext cx="11588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96240" y="1255320"/>
              <a:ext cx="15264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57800" y="1274400"/>
              <a:ext cx="152640" cy="304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486560" y="685440"/>
              <a:ext cx="457200" cy="76176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57960" y="1107720"/>
              <a:ext cx="541440" cy="626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43560" y="111096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00960" y="111096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62680" y="18284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29560" y="18284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546960" y="1371600"/>
            <a:ext cx="1834560" cy="1247760"/>
            <a:chOff x="6546960" y="1371600"/>
            <a:chExt cx="1834560" cy="1247760"/>
          </a:xfrm>
        </p:grpSpPr>
        <p:grpSp>
          <p:nvGrpSpPr>
            <p:cNvPr id="175" name=""/>
            <p:cNvGrpSpPr/>
            <p:nvPr/>
          </p:nvGrpSpPr>
          <p:grpSpPr>
            <a:xfrm>
              <a:off x="6711480" y="1393560"/>
              <a:ext cx="837720" cy="1225440"/>
              <a:chOff x="6711480" y="1393560"/>
              <a:chExt cx="837720" cy="1225440"/>
            </a:xfrm>
          </p:grpSpPr>
          <p:sp>
            <p:nvSpPr>
              <p:cNvPr id="176" name=""/>
              <p:cNvSpPr/>
              <p:nvPr/>
            </p:nvSpPr>
            <p:spPr>
              <a:xfrm>
                <a:off x="7319520" y="1956960"/>
                <a:ext cx="77760" cy="35712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6863400" y="1904760"/>
                <a:ext cx="438120" cy="71424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6711480" y="1904760"/>
                <a:ext cx="590400" cy="40932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7244280" y="1393560"/>
                <a:ext cx="304920" cy="663480"/>
              </a:xfrm>
              <a:prstGeom prst="line">
                <a:avLst/>
              </a:prstGeom>
              <a:ln w="38160">
                <a:solidFill>
                  <a:srgbClr val="3366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46960" y="1371600"/>
              <a:ext cx="1834560" cy="1247760"/>
              <a:chOff x="6546960" y="1371600"/>
              <a:chExt cx="1834560" cy="1247760"/>
            </a:xfrm>
          </p:grpSpPr>
          <p:sp>
            <p:nvSpPr>
              <p:cNvPr id="181" name=""/>
              <p:cNvSpPr/>
              <p:nvPr/>
            </p:nvSpPr>
            <p:spPr>
              <a:xfrm>
                <a:off x="7467480" y="1554120"/>
                <a:ext cx="596520" cy="289080"/>
              </a:xfrm>
              <a:custGeom>
                <a:avLst/>
                <a:gdLst/>
                <a:ahLst/>
                <a:rect l="l" t="t" r="r" b="b"/>
                <a:pathLst>
                  <a:path w="376" h="182">
                    <a:moveTo>
                      <a:pt x="0" y="129"/>
                    </a:moveTo>
                    <a:cubicBezTo>
                      <a:pt x="15" y="137"/>
                      <a:pt x="65" y="182"/>
                      <a:pt x="88" y="173"/>
                    </a:cubicBezTo>
                    <a:cubicBezTo>
                      <a:pt x="111" y="164"/>
                      <a:pt x="112" y="85"/>
                      <a:pt x="136" y="77"/>
                    </a:cubicBezTo>
                    <a:cubicBezTo>
                      <a:pt x="160" y="69"/>
                      <a:pt x="210" y="136"/>
                      <a:pt x="232" y="125"/>
                    </a:cubicBezTo>
                    <a:cubicBezTo>
                      <a:pt x="254" y="114"/>
                      <a:pt x="244" y="26"/>
                      <a:pt x="268" y="13"/>
                    </a:cubicBezTo>
                    <a:cubicBezTo>
                      <a:pt x="292" y="0"/>
                      <a:pt x="354" y="42"/>
                      <a:pt x="376" y="49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78560" y="1731960"/>
                <a:ext cx="888480" cy="385920"/>
              </a:xfrm>
              <a:custGeom>
                <a:avLst/>
                <a:gdLst/>
                <a:ahLst/>
                <a:rect l="l" t="t" r="r" b="b"/>
                <a:pathLst>
                  <a:path w="560" h="243">
                    <a:moveTo>
                      <a:pt x="0" y="190"/>
                    </a:moveTo>
                    <a:cubicBezTo>
                      <a:pt x="15" y="198"/>
                      <a:pt x="65" y="243"/>
                      <a:pt x="88" y="234"/>
                    </a:cubicBezTo>
                    <a:cubicBezTo>
                      <a:pt x="111" y="225"/>
                      <a:pt x="112" y="146"/>
                      <a:pt x="136" y="138"/>
                    </a:cubicBezTo>
                    <a:cubicBezTo>
                      <a:pt x="160" y="130"/>
                      <a:pt x="208" y="195"/>
                      <a:pt x="232" y="186"/>
                    </a:cubicBezTo>
                    <a:cubicBezTo>
                      <a:pt x="256" y="177"/>
                      <a:pt x="251" y="92"/>
                      <a:pt x="280" y="81"/>
                    </a:cubicBezTo>
                    <a:cubicBezTo>
                      <a:pt x="309" y="70"/>
                      <a:pt x="377" y="133"/>
                      <a:pt x="404" y="121"/>
                    </a:cubicBezTo>
                    <a:cubicBezTo>
                      <a:pt x="431" y="109"/>
                      <a:pt x="414" y="18"/>
                      <a:pt x="440" y="9"/>
                    </a:cubicBezTo>
                    <a:cubicBezTo>
                      <a:pt x="466" y="0"/>
                      <a:pt x="535" y="53"/>
                      <a:pt x="560" y="65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05320" y="1995480"/>
                <a:ext cx="1187280" cy="519120"/>
              </a:xfrm>
              <a:custGeom>
                <a:avLst/>
                <a:gdLst/>
                <a:ahLst/>
                <a:rect l="l" t="t" r="r" b="b"/>
                <a:pathLst>
                  <a:path w="748" h="327">
                    <a:moveTo>
                      <a:pt x="0" y="274"/>
                    </a:moveTo>
                    <a:cubicBezTo>
                      <a:pt x="15" y="282"/>
                      <a:pt x="65" y="327"/>
                      <a:pt x="88" y="318"/>
                    </a:cubicBezTo>
                    <a:cubicBezTo>
                      <a:pt x="111" y="309"/>
                      <a:pt x="112" y="230"/>
                      <a:pt x="136" y="222"/>
                    </a:cubicBezTo>
                    <a:cubicBezTo>
                      <a:pt x="160" y="214"/>
                      <a:pt x="208" y="279"/>
                      <a:pt x="232" y="270"/>
                    </a:cubicBezTo>
                    <a:cubicBezTo>
                      <a:pt x="256" y="261"/>
                      <a:pt x="251" y="177"/>
                      <a:pt x="280" y="165"/>
                    </a:cubicBezTo>
                    <a:cubicBezTo>
                      <a:pt x="309" y="153"/>
                      <a:pt x="378" y="210"/>
                      <a:pt x="404" y="197"/>
                    </a:cubicBezTo>
                    <a:cubicBezTo>
                      <a:pt x="430" y="184"/>
                      <a:pt x="409" y="100"/>
                      <a:pt x="436" y="89"/>
                    </a:cubicBezTo>
                    <a:cubicBezTo>
                      <a:pt x="463" y="78"/>
                      <a:pt x="535" y="143"/>
                      <a:pt x="564" y="131"/>
                    </a:cubicBezTo>
                    <a:cubicBezTo>
                      <a:pt x="593" y="119"/>
                      <a:pt x="581" y="30"/>
                      <a:pt x="612" y="15"/>
                    </a:cubicBezTo>
                    <a:cubicBezTo>
                      <a:pt x="643" y="0"/>
                      <a:pt x="720" y="37"/>
                      <a:pt x="748" y="43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480080" y="2216160"/>
                <a:ext cx="901440" cy="403200"/>
              </a:xfrm>
              <a:custGeom>
                <a:avLst/>
                <a:gdLst/>
                <a:ahLst/>
                <a:rect l="l" t="t" r="r" b="b"/>
                <a:pathLst>
                  <a:path w="568" h="254">
                    <a:moveTo>
                      <a:pt x="0" y="200"/>
                    </a:moveTo>
                    <a:cubicBezTo>
                      <a:pt x="15" y="207"/>
                      <a:pt x="68" y="254"/>
                      <a:pt x="92" y="244"/>
                    </a:cubicBezTo>
                    <a:cubicBezTo>
                      <a:pt x="116" y="234"/>
                      <a:pt x="119" y="148"/>
                      <a:pt x="144" y="139"/>
                    </a:cubicBezTo>
                    <a:cubicBezTo>
                      <a:pt x="169" y="130"/>
                      <a:pt x="216" y="196"/>
                      <a:pt x="240" y="187"/>
                    </a:cubicBezTo>
                    <a:cubicBezTo>
                      <a:pt x="264" y="178"/>
                      <a:pt x="260" y="93"/>
                      <a:pt x="288" y="82"/>
                    </a:cubicBezTo>
                    <a:cubicBezTo>
                      <a:pt x="316" y="71"/>
                      <a:pt x="381" y="132"/>
                      <a:pt x="408" y="120"/>
                    </a:cubicBezTo>
                    <a:cubicBezTo>
                      <a:pt x="435" y="108"/>
                      <a:pt x="421" y="24"/>
                      <a:pt x="448" y="12"/>
                    </a:cubicBezTo>
                    <a:cubicBezTo>
                      <a:pt x="475" y="0"/>
                      <a:pt x="543" y="41"/>
                      <a:pt x="568" y="48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997320" y="1371600"/>
                <a:ext cx="268200" cy="425520"/>
              </a:xfrm>
              <a:custGeom>
                <a:avLst/>
                <a:gdLst/>
                <a:ahLst/>
                <a:rect l="l" t="t" r="r" b="b"/>
                <a:pathLst>
                  <a:path w="169" h="268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6" y="210"/>
                      <a:pt x="57" y="232"/>
                    </a:cubicBezTo>
                    <a:cubicBezTo>
                      <a:pt x="68" y="254"/>
                      <a:pt x="150" y="262"/>
                      <a:pt x="169" y="268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775200" y="1511280"/>
                <a:ext cx="298080" cy="622440"/>
              </a:xfrm>
              <a:custGeom>
                <a:avLst/>
                <a:gdLst/>
                <a:ahLst/>
                <a:rect l="l" t="t" r="r" b="b"/>
                <a:pathLst>
                  <a:path w="188" h="392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61"/>
                      <a:pt x="177" y="288"/>
                    </a:cubicBezTo>
                    <a:cubicBezTo>
                      <a:pt x="188" y="315"/>
                      <a:pt x="136" y="370"/>
                      <a:pt x="125" y="392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546960" y="1600200"/>
                <a:ext cx="374400" cy="704880"/>
              </a:xfrm>
              <a:custGeom>
                <a:avLst/>
                <a:gdLst/>
                <a:ahLst/>
                <a:rect l="l" t="t" r="r" b="b"/>
                <a:pathLst>
                  <a:path w="236" h="444">
                    <a:moveTo>
                      <a:pt x="53" y="0"/>
                    </a:moveTo>
                    <a:cubicBezTo>
                      <a:pt x="45" y="15"/>
                      <a:pt x="0" y="65"/>
                      <a:pt x="9" y="88"/>
                    </a:cubicBezTo>
                    <a:cubicBezTo>
                      <a:pt x="18" y="111"/>
                      <a:pt x="97" y="112"/>
                      <a:pt x="105" y="136"/>
                    </a:cubicBezTo>
                    <a:cubicBezTo>
                      <a:pt x="113" y="160"/>
                      <a:pt x="45" y="207"/>
                      <a:pt x="57" y="232"/>
                    </a:cubicBezTo>
                    <a:cubicBezTo>
                      <a:pt x="69" y="257"/>
                      <a:pt x="166" y="259"/>
                      <a:pt x="177" y="288"/>
                    </a:cubicBezTo>
                    <a:cubicBezTo>
                      <a:pt x="188" y="317"/>
                      <a:pt x="114" y="378"/>
                      <a:pt x="124" y="404"/>
                    </a:cubicBezTo>
                    <a:cubicBezTo>
                      <a:pt x="134" y="430"/>
                      <a:pt x="213" y="436"/>
                      <a:pt x="236" y="444"/>
                    </a:cubicBezTo>
                  </a:path>
                </a:pathLst>
              </a:custGeom>
              <a:noFill/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2590920" y="822240"/>
            <a:ext cx="1447560" cy="703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+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61600" y="3581280"/>
            <a:ext cx="1928880" cy="703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+A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 0-12%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52280"/>
            <a:ext cx="510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-particle correlation “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vs 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6320" y="76320"/>
            <a:ext cx="6019200" cy="3504960"/>
            <a:chOff x="76320" y="76320"/>
            <a:chExt cx="6019200" cy="3504960"/>
          </a:xfrm>
        </p:grpSpPr>
        <p:sp>
          <p:nvSpPr>
            <p:cNvPr id="192" name=""/>
            <p:cNvSpPr/>
            <p:nvPr/>
          </p:nvSpPr>
          <p:spPr>
            <a:xfrm>
              <a:off x="76320" y="76320"/>
              <a:ext cx="6010200" cy="3504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7"/>
            <a:srcRect l="0" t="52995" r="0" b="0"/>
            <a:stretch/>
          </p:blipFill>
          <p:spPr>
            <a:xfrm>
              <a:off x="423720" y="76320"/>
              <a:ext cx="5662440" cy="34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6320" y="1589040"/>
              <a:ext cx="847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</a:t>
              </a:r>
              <a:r>
                <a:rPr b="1" lang="ja-JP" sz="18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*=</a:t>
              </a:r>
              <a:r>
                <a:rPr b="1" lang="ja-JP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89200" y="474840"/>
              <a:ext cx="853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</a:t>
              </a:r>
              <a:r>
                <a:rPr b="1" lang="ja-JP" sz="18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*=</a:t>
              </a:r>
              <a:r>
                <a:rPr b="1" lang="ja-JP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55600" y="3276720"/>
              <a:ext cx="14634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8000" y="3092400"/>
              <a:ext cx="19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ＭＳ ゴシック"/>
                </a:rPr>
                <a:t>PHENIX Prelimin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8"/>
            <a:srcRect l="6469" t="34194" r="6178" b="2406"/>
            <a:stretch/>
          </p:blipFill>
          <p:spPr>
            <a:xfrm>
              <a:off x="3620880" y="1066680"/>
              <a:ext cx="247464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6320" y="76320"/>
              <a:ext cx="6010200" cy="350496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84640" y="3048120"/>
              <a:ext cx="149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ＭＳ ゴシック"/>
                </a:rPr>
                <a:t>PHENIX Prelimin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13200" y="2163600"/>
              <a:ext cx="103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ＭＳ ゴシック"/>
                </a:rPr>
                <a:t>Cone like Je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93640" y="1828800"/>
              <a:ext cx="103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ＭＳ ゴシック"/>
                </a:rPr>
                <a:t>Deflected Je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679440" y="4267080"/>
            <a:ext cx="207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Times New Roman"/>
              </a:rPr>
              <a:t>No p</a:t>
            </a:r>
            <a:r>
              <a:rPr b="0" lang="ja-JP" sz="16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ja-JP" sz="1600" spc="-1" strike="noStrike">
                <a:solidFill>
                  <a:srgbClr val="ff0000"/>
                </a:solidFill>
                <a:latin typeface="Times New Roman"/>
              </a:rPr>
              <a:t> dependence, to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5600" y="2895480"/>
            <a:ext cx="232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Both measurements pre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Mach-cone scen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v. of Tsukuba, ShinIchi Esu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DD4-7B0A-412D-8AC4-4E042659E7D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QM08 Tsinghua Univ., Beijing, China, 9/Oct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419720" y="3840120"/>
            <a:ext cx="4267080" cy="28684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3840120"/>
            <a:ext cx="4267080" cy="2868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76920" y="337176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+p, peripheral Au+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8840" y="33955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 Au+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57320" y="354960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ENIX QM0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5" descr="ForQM_dEtadPhi_dAu"/>
          <p:cNvPicPr/>
          <p:nvPr/>
        </p:nvPicPr>
        <p:blipFill>
          <a:blip r:embed="rId3"/>
          <a:srcRect l="0" t="10170" r="8276" b="4068"/>
          <a:stretch/>
        </p:blipFill>
        <p:spPr>
          <a:xfrm>
            <a:off x="152280" y="685800"/>
            <a:ext cx="3810240" cy="2362320"/>
          </a:xfrm>
          <a:prstGeom prst="rect">
            <a:avLst/>
          </a:prstGeom>
          <a:ln w="0">
            <a:noFill/>
          </a:ln>
        </p:spPr>
      </p:pic>
      <p:sp>
        <p:nvSpPr>
          <p:cNvPr id="211" name="TextovéPole 29"/>
          <p:cNvSpPr/>
          <p:nvPr/>
        </p:nvSpPr>
        <p:spPr>
          <a:xfrm>
            <a:off x="390960" y="30492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d+Au,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4572000" y="609480"/>
            <a:ext cx="4172040" cy="2590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622280" y="38088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 Q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200000">
            <a:off x="5148000" y="2793960"/>
            <a:ext cx="94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9800000">
            <a:off x="7420320" y="2819520"/>
            <a:ext cx="45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94360" y="1517760"/>
            <a:ext cx="1690560" cy="1111320"/>
          </a:xfrm>
          <a:custGeom>
            <a:avLst/>
            <a:gdLst/>
            <a:ahLst/>
            <a:rect l="l" t="t" r="r" b="b"/>
            <a:pathLst>
              <a:path w="856" h="700">
                <a:moveTo>
                  <a:pt x="0" y="300"/>
                </a:moveTo>
                <a:lnTo>
                  <a:pt x="101" y="700"/>
                </a:lnTo>
                <a:lnTo>
                  <a:pt x="856" y="320"/>
                </a:lnTo>
                <a:lnTo>
                  <a:pt x="696" y="0"/>
                </a:lnTo>
                <a:lnTo>
                  <a:pt x="0" y="30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32560" y="2000160"/>
            <a:ext cx="550800" cy="622440"/>
          </a:xfrm>
          <a:custGeom>
            <a:avLst/>
            <a:gdLst/>
            <a:ahLst/>
            <a:rect l="l" t="t" r="r" b="b"/>
            <a:pathLst>
              <a:path w="279" h="392">
                <a:moveTo>
                  <a:pt x="279" y="392"/>
                </a:moveTo>
                <a:lnTo>
                  <a:pt x="183" y="0"/>
                </a:lnTo>
                <a:lnTo>
                  <a:pt x="0" y="283"/>
                </a:lnTo>
                <a:lnTo>
                  <a:pt x="279" y="392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20100000">
            <a:off x="6197040" y="188244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9"/>
          <p:cNvSpPr/>
          <p:nvPr/>
        </p:nvSpPr>
        <p:spPr>
          <a:xfrm>
            <a:off x="5334120" y="1066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j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3"/>
          <p:cNvSpPr/>
          <p:nvPr/>
        </p:nvSpPr>
        <p:spPr>
          <a:xfrm>
            <a:off x="6019920" y="1295280"/>
            <a:ext cx="523800" cy="7632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ovéPole 30"/>
          <p:cNvSpPr/>
          <p:nvPr/>
        </p:nvSpPr>
        <p:spPr>
          <a:xfrm>
            <a:off x="4931640" y="304920"/>
            <a:ext cx="20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u+Au,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v. of Tsukuba, ShinIchi Esu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9456-1AB5-406A-93E4-1E622C0657A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QM08 Tsinghua Univ., Beijing, China, 9/Oct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52280" y="1096920"/>
            <a:ext cx="4953240" cy="4256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rcRect l="5901" t="5569" r="5573" b="5889"/>
          <a:stretch/>
        </p:blipFill>
        <p:spPr>
          <a:xfrm>
            <a:off x="4800600" y="1219320"/>
            <a:ext cx="4114800" cy="4267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546320" y="106668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M08 PHE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90400" y="457200"/>
            <a:ext cx="6520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Centrality Dependence of Ridge and Shoulder Yield and &lt;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0840" y="5486400"/>
            <a:ext cx="869364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Both ridge and shoulder yields increase linearly with 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Similar (flat) centrality dependence on inverse slope parameter for both ridge and shoul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Jet (p+p) like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shape is harder than ridge, ridge is harder than shoulder, shoulder is similar to inclus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v. of Tsukuba, ShinIchi Esu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2547-A069-499C-BEC4-AA21DB537BC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QM08 Tsinghua Univ., Beijing, China, 9/Oct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714240"/>
            <a:ext cx="4267440" cy="4876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746440" y="124704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495680" y="790560"/>
            <a:ext cx="4343400" cy="4952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410080" y="1552680"/>
            <a:ext cx="2590920" cy="1523880"/>
          </a:xfrm>
          <a:prstGeom prst="line">
            <a:avLst/>
          </a:prstGeom>
          <a:ln w="64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454800" y="1857240"/>
            <a:ext cx="30492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4687920"/>
            <a:ext cx="228600" cy="0"/>
          </a:xfrm>
          <a:prstGeom prst="line">
            <a:avLst/>
          </a:prstGeom>
          <a:ln w="64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14880" y="4938840"/>
            <a:ext cx="228600" cy="0"/>
          </a:xfrm>
          <a:prstGeom prst="line">
            <a:avLst/>
          </a:prstGeom>
          <a:ln w="64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2314440"/>
            <a:ext cx="2590920" cy="1524240"/>
          </a:xfrm>
          <a:prstGeom prst="line">
            <a:avLst/>
          </a:prstGeom>
          <a:ln w="64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52480" y="230760"/>
            <a:ext cx="57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Inclusiv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 ~  T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Shoulder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~  T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Ridg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 &lt;  T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30800" y="155196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M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78920" y="391392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M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90920" y="23144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5200" y="21304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2009880"/>
            <a:ext cx="761760" cy="0"/>
          </a:xfrm>
          <a:prstGeom prst="line">
            <a:avLst/>
          </a:prstGeom>
          <a:ln w="19080">
            <a:solidFill>
              <a:srgbClr val="ff33cc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26193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04880" y="24354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53040" y="1825560"/>
            <a:ext cx="9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inclu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4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52880" y="4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21240" y="2085840"/>
            <a:ext cx="2590920" cy="236232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5743440"/>
            <a:ext cx="8001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Both ridge and shoulder &lt;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&gt; are almost independent with centrality and trigger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sele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It’s just like a bulk matter… suspicious on BG(bulk) subtraction… but this is what we se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v. of Tsukuba, ShinIchi Esu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003B-16E1-4312-9C5B-D445922BE6B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QM08 Tsinghua Univ., Beijing, China, 9/Oct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585400" y="583236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2" descr="fig3.gif"/>
          <p:cNvPicPr/>
          <p:nvPr/>
        </p:nvPicPr>
        <p:blipFill>
          <a:blip r:embed="rId1"/>
          <a:srcRect l="0" t="4934" r="1971" b="50004"/>
          <a:stretch/>
        </p:blipFill>
        <p:spPr>
          <a:xfrm>
            <a:off x="349200" y="3855960"/>
            <a:ext cx="6966000" cy="2008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fig3-hijing.gif"/>
          <p:cNvPicPr/>
          <p:nvPr/>
        </p:nvPicPr>
        <p:blipFill>
          <a:blip r:embed="rId2"/>
          <a:srcRect l="5026" t="25018" r="71385" b="57789"/>
          <a:stretch/>
        </p:blipFill>
        <p:spPr>
          <a:xfrm>
            <a:off x="706320" y="4751280"/>
            <a:ext cx="1676520" cy="766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fig3-hijing.gif"/>
          <p:cNvPicPr/>
          <p:nvPr/>
        </p:nvPicPr>
        <p:blipFill>
          <a:blip r:embed="rId3"/>
          <a:srcRect l="38195" t="13050" r="38216" b="57789"/>
          <a:stretch/>
        </p:blipFill>
        <p:spPr>
          <a:xfrm>
            <a:off x="3068640" y="4218120"/>
            <a:ext cx="1676520" cy="1299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fig3-hijing.gif"/>
          <p:cNvPicPr/>
          <p:nvPr/>
        </p:nvPicPr>
        <p:blipFill>
          <a:blip r:embed="rId4"/>
          <a:srcRect l="71568" t="13050" r="4843" b="57789"/>
          <a:stretch/>
        </p:blipFill>
        <p:spPr>
          <a:xfrm>
            <a:off x="5430960" y="4218120"/>
            <a:ext cx="1676160" cy="12999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1"/>
          <p:cNvSpPr/>
          <p:nvPr/>
        </p:nvSpPr>
        <p:spPr>
          <a:xfrm>
            <a:off x="706320" y="39844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200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  <a:ea typeface="Arial"/>
              </a:rPr>
              <a:t>62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630360" y="38368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64a2"/>
                </a:solidFill>
                <a:latin typeface="Arial"/>
                <a:ea typeface="Arial"/>
              </a:rPr>
              <a:t>STAR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2992320" y="38368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64a2"/>
                </a:solidFill>
                <a:latin typeface="Arial"/>
                <a:ea typeface="Arial"/>
              </a:rPr>
              <a:t>STAR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5354640" y="38368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64a2"/>
                </a:solidFill>
                <a:latin typeface="Arial"/>
                <a:ea typeface="Arial"/>
              </a:rPr>
              <a:t>STAR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630360" y="35812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ak Amplit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8"/>
          <p:cNvSpPr/>
          <p:nvPr/>
        </p:nvSpPr>
        <p:spPr>
          <a:xfrm>
            <a:off x="299232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Peak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8"/>
          <p:cNvSpPr/>
          <p:nvPr/>
        </p:nvSpPr>
        <p:spPr>
          <a:xfrm>
            <a:off x="535464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Peak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73960" y="6016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23280" y="5864400"/>
            <a:ext cx="190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8000"/>
                </a:solidFill>
                <a:latin typeface="Arial"/>
                <a:ea typeface="Arial"/>
              </a:rPr>
              <a:t>HIJING 1.382 defau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8000"/>
                </a:solidFill>
                <a:latin typeface="Arial"/>
                <a:ea typeface="Arial"/>
              </a:rPr>
              <a:t>200 GeV, quench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4080" y="5864400"/>
            <a:ext cx="262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33cc"/>
                </a:solidFill>
                <a:latin typeface="Arial"/>
                <a:ea typeface="Arial"/>
              </a:rPr>
              <a:t>binary scaling assum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33cc"/>
                </a:solidFill>
                <a:latin typeface="Arial"/>
                <a:ea typeface="Arial"/>
              </a:rPr>
              <a:t>in Kharzeev and Nardi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0" descr="fig4.gif"/>
          <p:cNvPicPr/>
          <p:nvPr/>
        </p:nvPicPr>
        <p:blipFill>
          <a:blip r:embed="rId5"/>
          <a:srcRect l="0" t="8790" r="50002" b="0"/>
          <a:stretch/>
        </p:blipFill>
        <p:spPr>
          <a:xfrm>
            <a:off x="0" y="880920"/>
            <a:ext cx="4572000" cy="182592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5"/>
          <p:cNvSpPr/>
          <p:nvPr/>
        </p:nvSpPr>
        <p:spPr>
          <a:xfrm>
            <a:off x="228600" y="763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  <a:ea typeface="Arial"/>
              </a:rPr>
              <a:t>data - fit (except same-side pea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6"/>
          <p:cNvSpPr/>
          <p:nvPr/>
        </p:nvSpPr>
        <p:spPr>
          <a:xfrm>
            <a:off x="228600" y="2819520"/>
            <a:ext cx="31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Shape changes little from peripheral to the tran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7"/>
          <p:cNvSpPr/>
          <p:nvPr/>
        </p:nvSpPr>
        <p:spPr>
          <a:xfrm>
            <a:off x="380880" y="758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d0d0d"/>
                </a:solidFill>
                <a:latin typeface="Arial"/>
                <a:ea typeface="Arial"/>
              </a:rPr>
              <a:t>83-9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8"/>
          <p:cNvSpPr/>
          <p:nvPr/>
        </p:nvSpPr>
        <p:spPr>
          <a:xfrm>
            <a:off x="2666880" y="758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d0d0d"/>
                </a:solidFill>
                <a:latin typeface="Arial"/>
                <a:ea typeface="Arial"/>
              </a:rPr>
              <a:t>55-6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2"/>
          <p:cNvSpPr/>
          <p:nvPr/>
        </p:nvSpPr>
        <p:spPr>
          <a:xfrm rot="20736000">
            <a:off x="1275480" y="2285280"/>
            <a:ext cx="1143000" cy="336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0000"/>
                </a:solidFill>
                <a:latin typeface="Arial"/>
                <a:ea typeface="Arial"/>
              </a:rPr>
              <a:t>η</a:t>
            </a:r>
            <a:r>
              <a:rPr b="1" lang="el-GR" sz="1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Δ</a:t>
            </a:r>
            <a:r>
              <a:rPr b="1" lang="ja-JP" sz="1400" spc="-1" strike="noStrike">
                <a:solidFill>
                  <a:srgbClr val="ff0000"/>
                </a:solidFill>
                <a:latin typeface="Arial"/>
                <a:ea typeface="Arial"/>
              </a:rPr>
              <a:t> wid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eft-Right Arrow 21"/>
          <p:cNvSpPr/>
          <p:nvPr/>
        </p:nvSpPr>
        <p:spPr>
          <a:xfrm rot="20778600">
            <a:off x="1203480" y="2144520"/>
            <a:ext cx="761760" cy="228600"/>
          </a:xfrm>
          <a:prstGeom prst="leftRigh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7"/>
          <p:cNvSpPr/>
          <p:nvPr/>
        </p:nvSpPr>
        <p:spPr>
          <a:xfrm>
            <a:off x="1830240" y="2343240"/>
            <a:ext cx="1598760" cy="504720"/>
          </a:xfrm>
          <a:prstGeom prst="pie">
            <a:avLst/>
          </a:prstGeom>
          <a:noFill/>
          <a:ln w="38160">
            <a:solidFill>
              <a:srgbClr val="c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6"/>
          <p:cNvSpPr/>
          <p:nvPr/>
        </p:nvSpPr>
        <p:spPr>
          <a:xfrm rot="20746200">
            <a:off x="304920" y="976320"/>
            <a:ext cx="15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64a2"/>
                </a:solidFill>
                <a:latin typeface="Arial"/>
                <a:ea typeface="Arial"/>
              </a:rPr>
              <a:t>STAR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0"/>
          <p:cNvSpPr/>
          <p:nvPr/>
        </p:nvSpPr>
        <p:spPr>
          <a:xfrm rot="20746200">
            <a:off x="2602080" y="985680"/>
            <a:ext cx="15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64a2"/>
                </a:solidFill>
                <a:latin typeface="Arial"/>
                <a:ea typeface="Arial"/>
              </a:rPr>
              <a:t>STAR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3"/>
          <p:cNvGrpSpPr/>
          <p:nvPr/>
        </p:nvGrpSpPr>
        <p:grpSpPr>
          <a:xfrm>
            <a:off x="3886200" y="758880"/>
            <a:ext cx="2971800" cy="2695680"/>
            <a:chOff x="3886200" y="758880"/>
            <a:chExt cx="2971800" cy="2695680"/>
          </a:xfrm>
        </p:grpSpPr>
        <p:grpSp>
          <p:nvGrpSpPr>
            <p:cNvPr id="274" name="Group 24"/>
            <p:cNvGrpSpPr/>
            <p:nvPr/>
          </p:nvGrpSpPr>
          <p:grpSpPr>
            <a:xfrm>
              <a:off x="3886200" y="758880"/>
              <a:ext cx="2971800" cy="2695680"/>
              <a:chOff x="3886200" y="758880"/>
              <a:chExt cx="2971800" cy="2695680"/>
            </a:xfrm>
          </p:grpSpPr>
          <p:pic>
            <p:nvPicPr>
              <p:cNvPr id="275" name="Picture 30" descr="fig4.gif"/>
              <p:cNvPicPr/>
              <p:nvPr/>
            </p:nvPicPr>
            <p:blipFill>
              <a:blip r:embed="rId6"/>
              <a:srcRect l="50002" t="8790" r="25003" b="0"/>
              <a:stretch/>
            </p:blipFill>
            <p:spPr>
              <a:xfrm>
                <a:off x="4572000" y="884160"/>
                <a:ext cx="2286000" cy="1825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6" name="Group 15"/>
              <p:cNvGrpSpPr/>
              <p:nvPr/>
            </p:nvGrpSpPr>
            <p:grpSpPr>
              <a:xfrm>
                <a:off x="3886200" y="1487160"/>
                <a:ext cx="1752480" cy="1967400"/>
                <a:chOff x="3886200" y="1487160"/>
                <a:chExt cx="1752480" cy="1967400"/>
              </a:xfrm>
            </p:grpSpPr>
            <p:sp>
              <p:nvSpPr>
                <p:cNvPr id="277" name="TextBox 43"/>
                <p:cNvSpPr/>
                <p:nvPr/>
              </p:nvSpPr>
              <p:spPr>
                <a:xfrm>
                  <a:off x="3886200" y="2630520"/>
                  <a:ext cx="17524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b050"/>
                      </a:solidFill>
                      <a:latin typeface="Arial"/>
                      <a:ea typeface="Arial"/>
                    </a:rPr>
                    <a:t>Large change within ~10% centralit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44"/>
                <p:cNvSpPr/>
                <p:nvPr/>
              </p:nvSpPr>
              <p:spPr>
                <a:xfrm flipV="1">
                  <a:off x="3962160" y="1486800"/>
                  <a:ext cx="1600200" cy="152280"/>
                </a:xfrm>
                <a:prstGeom prst="pie">
                  <a:avLst/>
                </a:prstGeom>
                <a:noFill/>
                <a:ln w="38160">
                  <a:solidFill>
                    <a:srgbClr val="00b05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TextBox 19"/>
              <p:cNvSpPr/>
              <p:nvPr/>
            </p:nvSpPr>
            <p:spPr>
              <a:xfrm>
                <a:off x="4952880" y="758880"/>
                <a:ext cx="121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d0d0d"/>
                    </a:solidFill>
                    <a:latin typeface="Arial"/>
                    <a:ea typeface="Arial"/>
                  </a:rPr>
                  <a:t>46-55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TextBox 31"/>
            <p:cNvSpPr/>
            <p:nvPr/>
          </p:nvSpPr>
          <p:spPr>
            <a:xfrm rot="20746200">
              <a:off x="4887720" y="985680"/>
              <a:ext cx="153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64a2"/>
                  </a:solidFill>
                  <a:latin typeface="Arial"/>
                  <a:ea typeface="Arial"/>
                </a:rPr>
                <a:t>STAR Prelimin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4"/>
          <p:cNvGrpSpPr/>
          <p:nvPr/>
        </p:nvGrpSpPr>
        <p:grpSpPr>
          <a:xfrm>
            <a:off x="6172200" y="758880"/>
            <a:ext cx="2971800" cy="2639520"/>
            <a:chOff x="6172200" y="758880"/>
            <a:chExt cx="2971800" cy="2639520"/>
          </a:xfrm>
        </p:grpSpPr>
        <p:grpSp>
          <p:nvGrpSpPr>
            <p:cNvPr id="282" name="Group 25"/>
            <p:cNvGrpSpPr/>
            <p:nvPr/>
          </p:nvGrpSpPr>
          <p:grpSpPr>
            <a:xfrm>
              <a:off x="6172200" y="758880"/>
              <a:ext cx="2971800" cy="2639520"/>
              <a:chOff x="6172200" y="758880"/>
              <a:chExt cx="2971800" cy="2639520"/>
            </a:xfrm>
          </p:grpSpPr>
          <p:pic>
            <p:nvPicPr>
              <p:cNvPr id="283" name="Picture 30" descr="fig4.gif"/>
              <p:cNvPicPr/>
              <p:nvPr/>
            </p:nvPicPr>
            <p:blipFill>
              <a:blip r:embed="rId7"/>
              <a:srcRect l="75005" t="8790" r="0" b="0"/>
              <a:stretch/>
            </p:blipFill>
            <p:spPr>
              <a:xfrm>
                <a:off x="6858000" y="884160"/>
                <a:ext cx="2286000" cy="1825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4" name="Group 16"/>
              <p:cNvGrpSpPr/>
              <p:nvPr/>
            </p:nvGrpSpPr>
            <p:grpSpPr>
              <a:xfrm>
                <a:off x="6172200" y="2362320"/>
                <a:ext cx="2667240" cy="1036080"/>
                <a:chOff x="6172200" y="2362320"/>
                <a:chExt cx="2667240" cy="1036080"/>
              </a:xfrm>
            </p:grpSpPr>
            <p:sp>
              <p:nvSpPr>
                <p:cNvPr id="285" name="TextBox 38"/>
                <p:cNvSpPr/>
                <p:nvPr/>
              </p:nvSpPr>
              <p:spPr>
                <a:xfrm>
                  <a:off x="6172200" y="2817720"/>
                  <a:ext cx="26672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70c0"/>
                      </a:solidFill>
                      <a:latin typeface="Arial"/>
                      <a:ea typeface="Arial"/>
                    </a:rPr>
                    <a:t>Smaller change from transition to most centra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39"/>
                <p:cNvSpPr/>
                <p:nvPr/>
              </p:nvSpPr>
              <p:spPr>
                <a:xfrm>
                  <a:off x="6172200" y="2362320"/>
                  <a:ext cx="1821240" cy="380880"/>
                </a:xfrm>
                <a:prstGeom prst="pie">
                  <a:avLst/>
                </a:prstGeom>
                <a:noFill/>
                <a:ln w="38160">
                  <a:solidFill>
                    <a:srgbClr val="0070c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TextBox 20"/>
              <p:cNvSpPr/>
              <p:nvPr/>
            </p:nvSpPr>
            <p:spPr>
              <a:xfrm>
                <a:off x="7238880" y="758880"/>
                <a:ext cx="121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d0d0d"/>
                    </a:solidFill>
                    <a:latin typeface="Arial"/>
                    <a:ea typeface="Arial"/>
                  </a:rPr>
                  <a:t>0-5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TextBox 32"/>
            <p:cNvSpPr/>
            <p:nvPr/>
          </p:nvSpPr>
          <p:spPr>
            <a:xfrm rot="20746200">
              <a:off x="7173720" y="985680"/>
              <a:ext cx="153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64a2"/>
                  </a:solidFill>
                  <a:latin typeface="Arial"/>
                  <a:ea typeface="Arial"/>
                </a:rPr>
                <a:t>STAR Prelimin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Footer Placeholder 53"/>
          <p:cNvSpPr/>
          <p:nvPr/>
        </p:nvSpPr>
        <p:spPr>
          <a:xfrm>
            <a:off x="7620120" y="3808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M08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6671520" y="4372920"/>
            <a:ext cx="2743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Extracted 2-D near-side Gaussian parameters are shown. The strong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width change vs centrality should have a relation to the ridge 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572000" y="3429000"/>
            <a:ext cx="4267080" cy="2981160"/>
            <a:chOff x="4572000" y="3429000"/>
            <a:chExt cx="4267080" cy="2981160"/>
          </a:xfrm>
        </p:grpSpPr>
        <p:pic>
          <p:nvPicPr>
            <p:cNvPr id="292" name="" descr=""/>
            <p:cNvPicPr/>
            <p:nvPr/>
          </p:nvPicPr>
          <p:blipFill>
            <a:blip r:embed="rId8"/>
            <a:stretch/>
          </p:blipFill>
          <p:spPr>
            <a:xfrm>
              <a:off x="4572000" y="3429000"/>
              <a:ext cx="4267080" cy="2981160"/>
            </a:xfrm>
            <a:prstGeom prst="rect">
              <a:avLst/>
            </a:prstGeom>
            <a:ln w="38160">
              <a:solidFill>
                <a:srgbClr val="ff00ff"/>
              </a:solidFill>
              <a:miter/>
            </a:ln>
          </p:spPr>
        </p:pic>
        <p:pic>
          <p:nvPicPr>
            <p:cNvPr id="293" name="" descr=""/>
            <p:cNvPicPr/>
            <p:nvPr/>
          </p:nvPicPr>
          <p:blipFill>
            <a:blip r:embed="rId9"/>
            <a:stretch/>
          </p:blipFill>
          <p:spPr>
            <a:xfrm>
              <a:off x="6286680" y="4733640"/>
              <a:ext cx="20952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218280" y="4200480"/>
              <a:ext cx="229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ngitudinal (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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rrelation leng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v. of Tsukuba, ShinIchi Esu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E85-7AFC-4F9E-A3EA-DEA700F2F8A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QM08 Tsinghua Univ., Beijing, China, 9/Oct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20:44:15Z</dcterms:created>
  <dc:creator>Esumi ShinIchi</dc:creator>
  <dc:description/>
  <dc:language>en-US</dc:language>
  <cp:lastModifiedBy>Esumi ShinIchi</cp:lastModifiedBy>
  <dcterms:modified xsi:type="dcterms:W3CDTF">2008-10-08T23:06:09Z</dcterms:modified>
  <cp:revision>52</cp:revision>
  <dc:subject/>
  <dc:title>PowerPoint プレゼンテーション</dc:title>
</cp:coreProperties>
</file>