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F9E-938D-44C0-8B5C-DBBF132B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237-EF4C-4B9F-94C8-E994F0B0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DDE-1F39-4D93-814D-B6C28EA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C1A-43B9-44FF-B643-A7145D1E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74B-FD4D-46EF-B7F1-F682E9AE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543-EF0B-4ACF-86B0-40ED86DD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C71D-4C18-4D82-A683-9225724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F4BA-F5EF-4560-A37F-26529DDE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DF0B-695F-4CF9-AE8A-BA60744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D73-84EE-4A17-8F51-1DD994C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1697-B670-402E-A712-4847457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594-9C2B-46C6-8D24-50514517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E03-F9FB-4EF9-9C28-6904F09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B9B-6A71-46AE-91EA-7C8E18E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31E-F03D-495D-89A3-D916EF1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E794-ACDE-427A-B0F2-11B0C52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1326-D41C-4269-9CE7-9C7E5685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302-5E38-4594-B6E6-4487D3C8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B09-1867-4332-AD08-55601575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B7D-F5A3-4393-B13E-A669FA03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7B8-B254-4D8E-9F17-FCC36CD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AF5-2A77-4991-8900-9631BB8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5B9-3FE7-4049-922A-EAE42C7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BE5-49B0-40C5-B825-7BC0B1B5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898560" cy="141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877080" y="189000"/>
            <a:ext cx="2089080" cy="45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79280" y="907920"/>
            <a:ext cx="7129440" cy="216000"/>
          </a:xfrm>
          <a:prstGeom prst="rect">
            <a:avLst/>
          </a:prstGeom>
          <a:gradFill rotWithShape="0">
            <a:gsLst>
              <a:gs pos="0">
                <a:srgbClr val="8f38f8"/>
              </a:gs>
              <a:gs pos="100000">
                <a:srgbClr val="5405b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1640" y="6093000"/>
            <a:ext cx="8172360" cy="215640"/>
          </a:xfrm>
          <a:prstGeom prst="rect">
            <a:avLst/>
          </a:prstGeom>
          <a:gradFill rotWithShape="0">
            <a:gsLst>
              <a:gs pos="0">
                <a:srgbClr val="5405b3"/>
              </a:gs>
              <a:gs pos="100000">
                <a:srgbClr val="8f38f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5880" y="64008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earning Curve"/>
              </a:rPr>
              <a:t>Alice at L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050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06692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4CB9-816A-4839-B053-E902EF79C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871560" cy="136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19640" y="4005360"/>
            <a:ext cx="3456000" cy="1368360"/>
          </a:xfrm>
          <a:prstGeom prst="rect">
            <a:avLst/>
          </a:prstGeom>
          <a:solidFill>
            <a:srgbClr val="59490d">
              <a:alpha val="78000"/>
            </a:srgbClr>
          </a:solidFill>
          <a:ln w="9360">
            <a:solidFill>
              <a:srgbClr val="594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773360"/>
            <a:ext cx="7561440" cy="2232000"/>
          </a:xfrm>
          <a:prstGeom prst="rect">
            <a:avLst/>
          </a:prstGeom>
          <a:gradFill rotWithShape="0">
            <a:gsLst>
              <a:gs pos="0">
                <a:srgbClr val="8f38f8"/>
              </a:gs>
              <a:gs pos="100000">
                <a:srgbClr val="5405b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229F-48C7-4F18-9F46-B904EF9A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881080" cy="62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04960" y="1268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earning Curve"/>
              </a:rPr>
              <a:t>Alice at L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khtin.web.cern.ch/lokhtin/hydjet++/" TargetMode="External"/><Relationship Id="rId2" Type="http://schemas.openxmlformats.org/officeDocument/2006/relationships/hyperlink" Target="http://lokhtin.web.cern.ch/lokhtin/hydjet++/" TargetMode="External"/><Relationship Id="rId3" Type="http://schemas.openxmlformats.org/officeDocument/2006/relationships/hyperlink" Target="http://lokhtin.web.cern.ch/lokhtin/hydjet++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ja-JP" sz="3600" spc="-1" strike="noStrike">
                <a:solidFill>
                  <a:srgbClr val="ffffff"/>
                </a:solidFill>
                <a:latin typeface="Arial Black"/>
              </a:rPr>
              <a:t>Jettiness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Arial Black"/>
              </a:rPr>
              <a:t>       and Reaction Plane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Arial Black"/>
              </a:rPr>
              <a:t>                   determination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Arial Black"/>
              </a:rPr>
              <a:t>                                    at LH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219280" y="4292640"/>
            <a:ext cx="3489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Tsuku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satsu Sak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03760" y="5445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Workshop at Wuhan 2008/1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Black"/>
              </a:rPr>
              <a:t>Jet Reconstruction (HYDJET++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30200" y="2276640"/>
            <a:ext cx="8713800" cy="3166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07280" y="112536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45f24"/>
                </a:solidFill>
                <a:latin typeface="Arial Black"/>
              </a:rPr>
              <a:t>we like to get information of 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45f24"/>
                </a:solidFill>
                <a:latin typeface="Arial Black"/>
              </a:rPr>
              <a:t>  </a:t>
            </a:r>
            <a:r>
              <a:rPr b="0" lang="ja-JP" sz="1800" spc="-1" strike="noStrike">
                <a:solidFill>
                  <a:srgbClr val="845f24"/>
                </a:solidFill>
                <a:latin typeface="Arial Black"/>
              </a:rPr>
              <a:t>So we estimate R dependence of hard eT ratio.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8200" y="2274840"/>
            <a:ext cx="302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seed eT cut [eTcut=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54560" y="227484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2274840"/>
            <a:ext cx="28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eT cut [seedeTcut=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2400" y="5445000"/>
            <a:ext cx="5007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maller R  is better to get information of J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9080" y="5229360"/>
            <a:ext cx="246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Yaxis: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eThard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e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Xaxis: cone radius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93680" y="187308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tting HYDJET++ [HYDJET++ &amp; PYQUE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980-581D-4586-ACFA-778ACDAFFA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Black"/>
              </a:rPr>
              <a:t>Combine PYTHIA &amp; HYDJET++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056720" cy="2471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214640" y="1773360"/>
            <a:ext cx="63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YDJET++ (soft)        PYTHIA (hard)         HYDJET++&amp;PYT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3000" y="4724280"/>
            <a:ext cx="42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Radius direction: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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[-10&lt;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&lt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nguler direction: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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&lt;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&lt;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ight direction:       pT[GeV/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95840" y="1125360"/>
            <a:ext cx="59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To analyze jets with information of primary par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Mix hard event of PYTHIA and soft event of HYDJET++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71D-20CF-4C20-A481-1CB9477955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To be done..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nd &amp; reconstructjets in HYDJET++ with di-j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stimate # of jets at # of Ncol. And mix HYDJET++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x cut parameter to reconstruct &amp; find je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Include Detector effec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stimate trigger rate ,efficiency,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A1A-F37C-4D70-964F-09A4AF8BB2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tim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P resolution &amp; compare v2 and true-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of simple re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PYTH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Tjet/eTpart~0.9   resolution&lt;20%  at  pThat=40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larger R is better to reconstruct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HYD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maller R is better to find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n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eed particle in eT&gt;8GeV/c is almost come from hard coll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 eT &gt; 3GeV/c particles in cone come from hard more than so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7f6229"/>
                </a:solidFill>
                <a:latin typeface="Arial"/>
              </a:rPr>
              <a:t>　   </a:t>
            </a:r>
            <a:r>
              <a:rPr b="1" lang="ja-JP" sz="3200" spc="-1" strike="noStrike">
                <a:solidFill>
                  <a:srgbClr val="7f6229"/>
                </a:solidFill>
                <a:latin typeface="Arial"/>
              </a:rPr>
              <a:t>And we have to do much more work</a:t>
            </a:r>
            <a:r>
              <a:rPr b="1" lang="ja-JP" sz="3200" spc="-1" strike="noStrike">
                <a:solidFill>
                  <a:srgbClr val="7f6229"/>
                </a:solidFill>
                <a:latin typeface="Arial"/>
              </a:rPr>
              <a:t>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827-8FE0-4C4F-A543-69E9B16AE1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1D6-1F71-48F4-9D82-51B2A152A3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616360" cy="3676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689440" cy="4394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GauFontOverDrive"/>
              </a:rPr>
              <a:t>ALICE det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1557360"/>
            <a:ext cx="1800000" cy="2519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3760" y="1557360"/>
            <a:ext cx="53748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08000" y="1916280"/>
            <a:ext cx="576360" cy="201744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1916280"/>
            <a:ext cx="288720" cy="1944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492280"/>
            <a:ext cx="504720" cy="72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66120" y="2997360"/>
            <a:ext cx="459720" cy="368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66120" y="3933720"/>
            <a:ext cx="4474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23200" y="2205000"/>
            <a:ext cx="676080" cy="3682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32920" y="1557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9&lt;η&lt;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12040" y="21528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1&lt;η&lt;-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7&lt;η&lt;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32560" y="299736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0&lt;η&lt;-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9&lt;η&lt;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32560" y="393372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&lt;η&lt;-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&lt;η&lt; 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427640" y="1700280"/>
            <a:ext cx="201600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484360" y="2421000"/>
            <a:ext cx="395928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1692000" y="2924280"/>
            <a:ext cx="4895640" cy="21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403280" y="3141720"/>
            <a:ext cx="518472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34F-27C8-4232-83C3-93A97F8C54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 Black"/>
              </a:rPr>
              <a:t>Pt &amp; Et of</a:t>
            </a:r>
            <a:br>
              <a:rPr sz="2800"/>
            </a:br>
            <a:r>
              <a:rPr b="0" lang="ja-JP" sz="2800" spc="-1" strike="noStrike">
                <a:solidFill>
                  <a:srgbClr val="5f5f5f"/>
                </a:solidFill>
                <a:latin typeface="Arial Black"/>
              </a:rPr>
              <a:t>     primaly parton &amp; seed partic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356360" cy="2954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9640" cy="2930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04240" y="43210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violet          : parton pT or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other color : trigger particle pT or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220-E68C-4A99-B81C-2BCB53AD5F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Black"/>
              </a:rPr>
              <a:t>Particle distribution of jet axi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384360" cy="2295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769080" cy="2826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067520" y="129708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YDJE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ard ratio vs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3440" y="4105440"/>
            <a:ext cx="35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YT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article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vs d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dφ= φ-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φ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CEE-95EB-4268-A8BA-35AE286BFC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 Black"/>
              </a:rPr>
              <a:t>Detail of jet reconstru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2441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600360" cy="2441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995640" y="1413000"/>
            <a:ext cx="4897440" cy="3321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759040" y="501336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35772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56F-AD3D-4D6A-8044-A7FFF49529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8160" cy="34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62A-2D00-4F8B-A69F-B16FF0303E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JET++(HYDJ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Plane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t Re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 done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773-FFE0-417F-A912-CD0B16DED0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5f5f5f"/>
                </a:solidFill>
                <a:latin typeface="Arial Black"/>
              </a:rPr>
              <a:t>Njet corre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89600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CBE-D239-44C7-B24D-CA0368E995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527600" y="3333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61080" y="6251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GauFontOverDrive"/>
              </a:rPr>
              <a:t>Reaction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452200" y="166536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62560" y="175428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00840" y="1498680"/>
            <a:ext cx="3900960" cy="2548080"/>
            <a:chOff x="600840" y="1498680"/>
            <a:chExt cx="3900960" cy="2548080"/>
          </a:xfrm>
        </p:grpSpPr>
        <p:sp>
          <p:nvSpPr>
            <p:cNvPr id="314" name=""/>
            <p:cNvSpPr/>
            <p:nvPr/>
          </p:nvSpPr>
          <p:spPr>
            <a:xfrm rot="11343000">
              <a:off x="3620520" y="159876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396440" y="1715040"/>
              <a:ext cx="848520" cy="908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731240" y="1765800"/>
              <a:ext cx="831960" cy="894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8560" y="1905840"/>
              <a:ext cx="2257560" cy="359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45720" y="2963520"/>
              <a:ext cx="1586520" cy="25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3000">
              <a:off x="736200" y="177156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00840" y="3094920"/>
              <a:ext cx="355320" cy="383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851840" y="1816920"/>
              <a:ext cx="1031400" cy="1107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1343000">
              <a:off x="1772640" y="281376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54480" y="2809440"/>
              <a:ext cx="759240" cy="812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820240" y="1646280"/>
              <a:ext cx="1289520" cy="1285200"/>
              <a:chOff x="2820240" y="1646280"/>
              <a:chExt cx="1289520" cy="12852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820240" y="1646280"/>
                <a:ext cx="1289520" cy="1285200"/>
                <a:chOff x="2820240" y="1646280"/>
                <a:chExt cx="1289520" cy="1285200"/>
              </a:xfrm>
            </p:grpSpPr>
            <p:sp>
              <p:nvSpPr>
                <p:cNvPr id="326" name=""/>
                <p:cNvSpPr/>
                <p:nvPr/>
              </p:nvSpPr>
              <p:spPr>
                <a:xfrm rot="543000">
                  <a:off x="2928600" y="172692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543000">
                  <a:off x="2928960" y="172584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543000">
                  <a:off x="2865600" y="217152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543000">
                  <a:off x="2918160" y="220140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 rot="543000">
                <a:off x="2927160" y="181476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261520" y="1712880"/>
              <a:ext cx="929880" cy="14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65720" y="1985040"/>
              <a:ext cx="667800" cy="106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87480" y="2093760"/>
              <a:ext cx="1323360" cy="210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776320" y="2223000"/>
              <a:ext cx="446040" cy="478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10720" y="2285640"/>
              <a:ext cx="2260800" cy="360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557720" y="1861560"/>
              <a:ext cx="1635480" cy="1758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2520" y="2476080"/>
              <a:ext cx="2260440" cy="360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2135880" y="2167560"/>
              <a:ext cx="714960" cy="1180440"/>
              <a:chOff x="2135880" y="2167560"/>
              <a:chExt cx="714960" cy="1180440"/>
            </a:xfrm>
          </p:grpSpPr>
          <p:sp>
            <p:nvSpPr>
              <p:cNvPr id="339" name=""/>
              <p:cNvSpPr/>
              <p:nvPr/>
            </p:nvSpPr>
            <p:spPr>
              <a:xfrm rot="543000">
                <a:off x="2219400" y="220464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43000">
                <a:off x="2177640" y="272844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543000">
                <a:off x="2212920" y="273420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43000">
                <a:off x="2219400" y="220356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2527200" y="2457360"/>
              <a:ext cx="122796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210040" y="2480760"/>
              <a:ext cx="1157400" cy="1243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74360" y="2859120"/>
              <a:ext cx="1039320" cy="165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71640" y="2843280"/>
              <a:ext cx="776160" cy="834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124000" y="2808000"/>
              <a:ext cx="190080" cy="20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0440" y="2739240"/>
              <a:ext cx="528480" cy="84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859680" y="2526120"/>
              <a:ext cx="1280160" cy="1287360"/>
              <a:chOff x="859680" y="2526120"/>
              <a:chExt cx="1280160" cy="1287360"/>
            </a:xfrm>
          </p:grpSpPr>
          <p:sp>
            <p:nvSpPr>
              <p:cNvPr id="350" name=""/>
              <p:cNvSpPr/>
              <p:nvPr/>
            </p:nvSpPr>
            <p:spPr>
              <a:xfrm rot="543000">
                <a:off x="958320" y="260712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3000">
                <a:off x="955800" y="260568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543000">
                <a:off x="904680" y="306072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 rot="11343000">
                <a:off x="1775160" y="280548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543000">
                <a:off x="1749600" y="278352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3000">
                <a:off x="941400" y="315252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H="1">
              <a:off x="1863000" y="2581200"/>
              <a:ext cx="308880" cy="331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3920" y="2964600"/>
              <a:ext cx="1400040" cy="223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3000">
              <a:off x="1665360" y="348156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2800" y="3173400"/>
              <a:ext cx="1481400" cy="2361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551240" y="2998440"/>
              <a:ext cx="583920" cy="6285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244520" y="3372120"/>
              <a:ext cx="191880" cy="206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929880" y="3274920"/>
              <a:ext cx="227880" cy="248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5480" y="3482640"/>
              <a:ext cx="2210760" cy="352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3000">
              <a:off x="980640" y="334008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52920" y="2351160"/>
              <a:ext cx="1308240" cy="475920"/>
              <a:chOff x="1852920" y="2351160"/>
              <a:chExt cx="1308240" cy="475920"/>
            </a:xfrm>
          </p:grpSpPr>
          <p:sp>
            <p:nvSpPr>
              <p:cNvPr id="366" name=""/>
              <p:cNvSpPr/>
              <p:nvPr/>
            </p:nvSpPr>
            <p:spPr>
              <a:xfrm flipV="1">
                <a:off x="2581560" y="249624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725920" y="246672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800440" y="268524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88560" y="279108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035800" y="235116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1904760" y="250452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852920" y="267228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2155320" y="266256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2203920" y="252648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2419200" y="248256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655360" y="261324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29800" y="272124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2357640" y="263772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826640" y="2853360"/>
              <a:ext cx="1278000" cy="465120"/>
              <a:chOff x="1826640" y="2853360"/>
              <a:chExt cx="1278000" cy="46512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2270880" y="302616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001240" y="306108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826640" y="294840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1925280" y="285336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13960" y="312768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07200" y="302112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87120" y="293724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577960" y="294552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561400" y="304884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78600" y="308484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155680" y="302904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2098800" y="292320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78600" y="296928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825840" y="3238200"/>
              <a:ext cx="366840" cy="58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67840" y="2409120"/>
              <a:ext cx="275760" cy="43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026600" y="2014920"/>
              <a:ext cx="139680" cy="152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8639000">
            <a:off x="2880000" y="283536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617200" y="159984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84880" y="2075760"/>
            <a:ext cx="64260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14520" y="1860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31880" y="14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489200" y="1558080"/>
            <a:ext cx="252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5368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77680" y="2614680"/>
            <a:ext cx="3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81240" y="149220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86720" y="149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613760" y="1419120"/>
            <a:ext cx="3901320" cy="2748240"/>
            <a:chOff x="4613760" y="1419120"/>
            <a:chExt cx="3901320" cy="2748240"/>
          </a:xfrm>
        </p:grpSpPr>
        <p:sp>
          <p:nvSpPr>
            <p:cNvPr id="407" name=""/>
            <p:cNvSpPr/>
            <p:nvPr/>
          </p:nvSpPr>
          <p:spPr>
            <a:xfrm>
              <a:off x="5545080" y="2596680"/>
              <a:ext cx="2260440" cy="360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912720" y="2174400"/>
              <a:ext cx="122796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630120" y="2087280"/>
              <a:ext cx="1227960" cy="1319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293520" y="2034720"/>
              <a:ext cx="122796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3440" y="2359800"/>
              <a:ext cx="1323360" cy="210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87240" y="2977560"/>
              <a:ext cx="1399680" cy="223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222240" y="2601360"/>
              <a:ext cx="1158120" cy="124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409360" y="1834560"/>
              <a:ext cx="848520" cy="907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744160" y="1885680"/>
              <a:ext cx="832320" cy="894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81840" y="2025360"/>
              <a:ext cx="2257200" cy="359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543000">
              <a:off x="4749480" y="189216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613760" y="3214800"/>
              <a:ext cx="355320" cy="383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864040" y="1936440"/>
              <a:ext cx="1031760" cy="1107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566320" y="2929680"/>
              <a:ext cx="759960" cy="812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74800" y="1832400"/>
              <a:ext cx="929880" cy="14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77920" y="2104200"/>
              <a:ext cx="667800" cy="1065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99320" y="2214000"/>
              <a:ext cx="1323360" cy="210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788520" y="2341800"/>
              <a:ext cx="446040" cy="478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2920" y="2405880"/>
              <a:ext cx="2260440" cy="360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69200" y="1981440"/>
              <a:ext cx="1635480" cy="1758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539760" y="2577600"/>
              <a:ext cx="122796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135840" y="2928240"/>
              <a:ext cx="190080" cy="20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23000" y="2858400"/>
              <a:ext cx="528480" cy="84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875560" y="2700360"/>
              <a:ext cx="308520" cy="3315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55760" y="3084120"/>
              <a:ext cx="1399680" cy="223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43000">
              <a:off x="5184720" y="355896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05360" y="3293280"/>
              <a:ext cx="1481400" cy="2361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256360" y="3492000"/>
              <a:ext cx="191520" cy="205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939560" y="3391560"/>
              <a:ext cx="229320" cy="248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57320" y="3602160"/>
              <a:ext cx="2210400" cy="352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37680" y="3357000"/>
              <a:ext cx="367200" cy="58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80400" y="2529000"/>
              <a:ext cx="275760" cy="43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38440" y="2134080"/>
              <a:ext cx="140040" cy="153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71800">
              <a:off x="5643000" y="225864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884200" y="2962440"/>
              <a:ext cx="776160" cy="83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2720" y="3168000"/>
              <a:ext cx="1481400" cy="2361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1371800">
              <a:off x="5293800" y="164376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4520" y="254628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756760" y="2844720"/>
              <a:ext cx="642240" cy="691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293080" y="2764800"/>
              <a:ext cx="830880" cy="894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986360" y="2653560"/>
              <a:ext cx="871200" cy="936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942880" y="2899080"/>
              <a:ext cx="776160" cy="83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303240" y="2924280"/>
              <a:ext cx="776160" cy="834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86560" y="2979360"/>
              <a:ext cx="1039680" cy="165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6160" y="2784960"/>
              <a:ext cx="1586520" cy="25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9600" y="2595240"/>
              <a:ext cx="319680" cy="52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55600" y="2900520"/>
              <a:ext cx="355320" cy="58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571440" y="2898000"/>
              <a:ext cx="896040" cy="963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8280" y="3083400"/>
              <a:ext cx="1586520" cy="25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076160" y="2347560"/>
              <a:ext cx="820800" cy="491040"/>
              <a:chOff x="7076160" y="2347560"/>
              <a:chExt cx="820800" cy="49104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7076160" y="243684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7296120" y="234756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411680" y="259092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24720" y="280368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7165800" y="257904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48520" y="274356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423760" y="2160360"/>
              <a:ext cx="932760" cy="403920"/>
              <a:chOff x="5423760" y="2160360"/>
              <a:chExt cx="932760" cy="403920"/>
            </a:xfrm>
          </p:grpSpPr>
          <p:sp>
            <p:nvSpPr>
              <p:cNvPr id="464" name=""/>
              <p:cNvSpPr/>
              <p:nvPr/>
            </p:nvSpPr>
            <p:spPr>
              <a:xfrm flipH="1" flipV="1">
                <a:off x="5722560" y="216036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5503320" y="228816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5423760" y="244764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5840280" y="250452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6074640" y="224136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6293880" y="216288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6072840" y="242316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500080" y="2682360"/>
              <a:ext cx="484560" cy="432000"/>
              <a:chOff x="5500080" y="2682360"/>
              <a:chExt cx="484560" cy="43200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5877720" y="297864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5672160" y="291672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5525640" y="284148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5500080" y="268236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818320" y="286416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5673600" y="275184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944760" y="3012120"/>
              <a:ext cx="784440" cy="351720"/>
              <a:chOff x="6944760" y="3012120"/>
              <a:chExt cx="784440" cy="351720"/>
            </a:xfrm>
          </p:grpSpPr>
          <p:sp>
            <p:nvSpPr>
              <p:cNvPr id="479" name=""/>
              <p:cNvSpPr/>
              <p:nvPr/>
            </p:nvSpPr>
            <p:spPr>
              <a:xfrm>
                <a:off x="7050240" y="317304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33480" y="309744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12040" y="302832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42040" y="301212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28280" y="310968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44760" y="319248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6760" y="304416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7478280" y="291528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628320" y="1678680"/>
            <a:ext cx="3960" cy="70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200360" y="153000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39640" y="4437000"/>
            <a:ext cx="8229600" cy="1571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DFD-4DEC-4A82-A8C5-A4EE32FB698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GauFontOverDrive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88880" y="3703680"/>
                <a:ext cx="3311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*sin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*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44520" y="5369040"/>
                <a:ext cx="3570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tio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097600" y="3956040"/>
                <a:ext cx="3582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−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8461080" y="6251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168880" y="4711680"/>
                <a:ext cx="32814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560520" y="470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032520" y="126324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08520" y="248760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08520" y="1982520"/>
            <a:ext cx="2592360" cy="936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032520" y="1407600"/>
            <a:ext cx="1008000" cy="1079640"/>
          </a:xfrm>
          <a:prstGeom prst="line">
            <a:avLst/>
          </a:prstGeom>
          <a:ln w="190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42480" y="2637000"/>
            <a:ext cx="34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36080" y="1119240"/>
            <a:ext cx="34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24520" y="1695600"/>
            <a:ext cx="216000" cy="792000"/>
          </a:xfrm>
          <a:custGeom>
            <a:avLst/>
            <a:gdLst/>
            <a:ahLst/>
            <a:rect l="l" t="t" r="r" b="b"/>
            <a:pathLst>
              <a:path w="317" h="998">
                <a:moveTo>
                  <a:pt x="272" y="998"/>
                </a:moveTo>
                <a:cubicBezTo>
                  <a:pt x="294" y="786"/>
                  <a:pt x="317" y="574"/>
                  <a:pt x="272" y="408"/>
                </a:cubicBezTo>
                <a:cubicBezTo>
                  <a:pt x="227" y="242"/>
                  <a:pt x="113" y="121"/>
                  <a:pt x="0" y="0"/>
                </a:cubicBezTo>
              </a:path>
            </a:pathLst>
          </a:custGeom>
          <a:noFill/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784520" y="126324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0520" y="248760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5240" y="2127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68520" y="19828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60520" y="1982520"/>
            <a:ext cx="2592360" cy="936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4480" y="2637000"/>
            <a:ext cx="34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07000" y="1263600"/>
            <a:ext cx="34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36880" y="2055960"/>
            <a:ext cx="144360" cy="431640"/>
          </a:xfrm>
          <a:custGeom>
            <a:avLst/>
            <a:gdLst/>
            <a:ahLst/>
            <a:rect l="l" t="t" r="r" b="b"/>
            <a:pathLst>
              <a:path w="317" h="998">
                <a:moveTo>
                  <a:pt x="272" y="998"/>
                </a:moveTo>
                <a:cubicBezTo>
                  <a:pt x="294" y="786"/>
                  <a:pt x="317" y="574"/>
                  <a:pt x="272" y="408"/>
                </a:cubicBezTo>
                <a:cubicBezTo>
                  <a:pt x="227" y="242"/>
                  <a:pt x="113" y="121"/>
                  <a:pt x="0" y="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20379600">
            <a:off x="4808520" y="2055600"/>
            <a:ext cx="2448000" cy="83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82040" y="1695600"/>
            <a:ext cx="365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3040" y="1484280"/>
            <a:ext cx="34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63640" y="155736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084720" y="155736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82C-5BAD-462E-BD2D-E93D580E5D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81636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67A-C1E7-4592-A94F-9E0D75441A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 Black"/>
              </a:rPr>
              <a:t>HYDJET++(HYDJET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1052640"/>
            <a:ext cx="76514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HYDJET++ is ev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               </a:t>
            </a:r>
            <a:r>
              <a:rPr b="0" lang="ja-JP" sz="1800" spc="-1" strike="noStrike">
                <a:solidFill>
                  <a:srgbClr val="7f6229"/>
                </a:solidFill>
                <a:latin typeface="Arial Black"/>
              </a:rPr>
              <a:t>for high energy heavy ion collision. HYDJET is previou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ja-JP" sz="1800" spc="-1" strike="noStrike" u="sng">
                <a:solidFill>
                  <a:srgbClr val="b2b2b2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ja-JP" sz="1800" spc="-1" strike="noStrike" u="sng">
                <a:solidFill>
                  <a:srgbClr val="b2b2b2"/>
                </a:solidFill>
                <a:uFillTx/>
                <a:latin typeface="Arial Black"/>
                <a:hlinkClick r:id="rId2"/>
              </a:rPr>
              <a:t>lokhtin.web.cern.ch/lokhtin/hydjet</a:t>
            </a:r>
            <a:r>
              <a:rPr b="0" lang="ja-JP" sz="1800" spc="-1" strike="noStrike" u="sng">
                <a:solidFill>
                  <a:srgbClr val="b2b2b2"/>
                </a:solidFill>
                <a:uFillTx/>
                <a:latin typeface="Arial Black"/>
                <a:hlinkClick r:id="rId3"/>
              </a:rPr>
              <a:t>+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ard part: PYTHIA or PYQUEN </a:t>
            </a: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(modifies PYTHIA6.4  for jet quench eff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Soft part: HYDJET++ (represents the ”thermal” hadronic state FAST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637000"/>
            <a:ext cx="5743440" cy="32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Set Parameter (LHC 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      :207(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CME : 55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Set   :hydro + pyqu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ard(&amp;quenching)     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thatmin: 7.GeV/c     nucl. shadowing :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T0            : 0.8GeV     Tf              :13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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:0.1fm/c      Tc             :17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# of flavor:0           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tf             :10fm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max ly flow: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max ty flow: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7280" y="2708280"/>
            <a:ext cx="18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ery 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&g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34D-A1DE-4B9A-98B1-5FAD1109E0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 Black"/>
              </a:rPr>
              <a:t>Particle emission </a:t>
            </a:r>
            <a:r>
              <a:rPr b="0" lang="en-US" sz="2000" spc="-1" strike="noStrike">
                <a:solidFill>
                  <a:srgbClr val="5f5f5f"/>
                </a:solidFill>
                <a:latin typeface="Arial Black"/>
              </a:rPr>
              <a:t>of HYDJET++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06920" y="1125360"/>
            <a:ext cx="4537080" cy="308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392360" cy="298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08880" y="4005360"/>
            <a:ext cx="711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These figure are output of sample code of HYDJE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to compare RHIC data and HYDJE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RHIC AuAu 200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left: pT distribution                          right: rapidity distributio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oint        : data from STAR               point: data from PHO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black line: HYDJET++                       black line: HYDJE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0E0-0BED-4634-9918-B53DB4FDE5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 Black"/>
              </a:rPr>
              <a:t>Reaction Plane resol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24836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1059480" y="130500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4960" y="2254320"/>
            <a:ext cx="3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8880" y="11318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360" y="11318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1400" y="1058760"/>
            <a:ext cx="3900600" cy="2748240"/>
            <a:chOff x="221400" y="1058760"/>
            <a:chExt cx="3900600" cy="2748240"/>
          </a:xfrm>
        </p:grpSpPr>
        <p:sp>
          <p:nvSpPr>
            <p:cNvPr id="113" name=""/>
            <p:cNvSpPr/>
            <p:nvPr/>
          </p:nvSpPr>
          <p:spPr>
            <a:xfrm>
              <a:off x="1152360" y="2236320"/>
              <a:ext cx="2260080" cy="360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20360" y="1814040"/>
              <a:ext cx="122760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37760" y="1726920"/>
              <a:ext cx="1227600" cy="1319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901160" y="1674360"/>
              <a:ext cx="122760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0720" y="1999440"/>
              <a:ext cx="1323000" cy="210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4160" y="2617200"/>
              <a:ext cx="1399680" cy="223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829880" y="2241000"/>
              <a:ext cx="1157760" cy="124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17000" y="1474200"/>
              <a:ext cx="848160" cy="907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351080" y="1524960"/>
              <a:ext cx="831960" cy="894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89120" y="1665000"/>
              <a:ext cx="2256840" cy="359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3000">
              <a:off x="356760" y="1531800"/>
              <a:ext cx="3630240" cy="2001960"/>
            </a:xfrm>
            <a:prstGeom prst="parallelogram">
              <a:avLst>
                <a:gd name="adj" fmla="val 67278"/>
              </a:avLst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21400" y="2854440"/>
              <a:ext cx="354960" cy="383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470960" y="1576080"/>
              <a:ext cx="1031400" cy="1107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173960" y="2569320"/>
              <a:ext cx="759600" cy="812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2080" y="1472040"/>
              <a:ext cx="929520" cy="14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5200" y="1743840"/>
              <a:ext cx="667440" cy="1065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6600" y="1853640"/>
              <a:ext cx="1323000" cy="210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396160" y="1981440"/>
              <a:ext cx="445680" cy="478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30200" y="2045520"/>
              <a:ext cx="2260080" cy="360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176840" y="1621080"/>
              <a:ext cx="1635120" cy="1758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47400" y="2217240"/>
              <a:ext cx="1227600" cy="1320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742760" y="2567880"/>
              <a:ext cx="189720" cy="20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0280" y="2498040"/>
              <a:ext cx="528120" cy="84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483200" y="2340000"/>
              <a:ext cx="308160" cy="3315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62680" y="2723760"/>
              <a:ext cx="1399680" cy="2232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3000">
              <a:off x="792000" y="3198600"/>
              <a:ext cx="192204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12640" y="2932920"/>
              <a:ext cx="1481040" cy="2361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63280" y="3131640"/>
              <a:ext cx="191160" cy="205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47200" y="3031200"/>
              <a:ext cx="228960" cy="248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4960" y="3241800"/>
              <a:ext cx="2210040" cy="352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4960" y="2996640"/>
              <a:ext cx="366840" cy="58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87680" y="2168640"/>
              <a:ext cx="275400" cy="43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46080" y="1773720"/>
              <a:ext cx="139680" cy="153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71800">
              <a:off x="1250280" y="1898280"/>
              <a:ext cx="194436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491120" y="2602080"/>
              <a:ext cx="775800" cy="83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000" y="2807640"/>
              <a:ext cx="1481040" cy="2361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1371800">
              <a:off x="901440" y="1283400"/>
              <a:ext cx="281664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61800" y="2185920"/>
              <a:ext cx="192384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63680" y="2484360"/>
              <a:ext cx="641880" cy="692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900000" y="2404440"/>
              <a:ext cx="830520" cy="894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3280" y="2293200"/>
              <a:ext cx="870840" cy="936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549800" y="2538720"/>
              <a:ext cx="775800" cy="834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10160" y="2563920"/>
              <a:ext cx="775800" cy="834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3840" y="2619000"/>
              <a:ext cx="1039320" cy="165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3440" y="2424600"/>
              <a:ext cx="1586160" cy="25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6880" y="2234880"/>
              <a:ext cx="319320" cy="529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62880" y="2540160"/>
              <a:ext cx="354960" cy="58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179080" y="2537640"/>
              <a:ext cx="895680" cy="963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560" y="2723040"/>
              <a:ext cx="1586160" cy="252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683440" y="1987200"/>
              <a:ext cx="820800" cy="491040"/>
              <a:chOff x="2683440" y="1987200"/>
              <a:chExt cx="820800" cy="49104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2683440" y="207648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03400" y="198720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3018960" y="223056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32000" y="244332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773080" y="221868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55800" y="238320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030680" y="1800000"/>
              <a:ext cx="932040" cy="403920"/>
              <a:chOff x="1030680" y="1800000"/>
              <a:chExt cx="932040" cy="403920"/>
            </a:xfrm>
          </p:grpSpPr>
          <p:sp>
            <p:nvSpPr>
              <p:cNvPr id="170" name=""/>
              <p:cNvSpPr/>
              <p:nvPr/>
            </p:nvSpPr>
            <p:spPr>
              <a:xfrm flipH="1" flipV="1">
                <a:off x="1329840" y="1800000"/>
                <a:ext cx="30888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1109880" y="1927800"/>
                <a:ext cx="34524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1030680" y="2087280"/>
                <a:ext cx="31860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1446840" y="2144160"/>
                <a:ext cx="22500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681920" y="1881000"/>
                <a:ext cx="19224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1900440" y="1802520"/>
                <a:ext cx="6228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1679400" y="2062800"/>
                <a:ext cx="12204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107360" y="2322000"/>
              <a:ext cx="484560" cy="432000"/>
              <a:chOff x="1107360" y="2322000"/>
              <a:chExt cx="484560" cy="432000"/>
            </a:xfrm>
          </p:grpSpPr>
          <p:sp>
            <p:nvSpPr>
              <p:cNvPr id="178" name=""/>
              <p:cNvSpPr/>
              <p:nvPr/>
            </p:nvSpPr>
            <p:spPr>
              <a:xfrm flipH="1">
                <a:off x="1485000" y="261828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279440" y="255636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132920" y="248112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1107360" y="232200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425600" y="250380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1280880" y="239148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552040" y="2651760"/>
              <a:ext cx="784440" cy="351720"/>
              <a:chOff x="2552040" y="2651760"/>
              <a:chExt cx="784440" cy="351720"/>
            </a:xfrm>
          </p:grpSpPr>
          <p:sp>
            <p:nvSpPr>
              <p:cNvPr id="185" name=""/>
              <p:cNvSpPr/>
              <p:nvPr/>
            </p:nvSpPr>
            <p:spPr>
              <a:xfrm>
                <a:off x="2657520" y="281268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40760" y="273708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19320" y="266796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749320" y="265176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35560" y="274932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52040" y="283212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24040" y="268380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3085560" y="255492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36680" y="1318320"/>
            <a:ext cx="3600" cy="70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07640" y="116964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8639000">
            <a:off x="-218520" y="19008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26920" y="3573360"/>
                <a:ext cx="2521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*sin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*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84360" y="4076640"/>
                <a:ext cx="2736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tio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896200" y="4437000"/>
            <a:ext cx="84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4040" y="2349360"/>
            <a:ext cx="155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T cut for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&lt;2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43480" y="52293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5f5f5f"/>
                </a:solidFill>
                <a:latin typeface="Arial Black"/>
              </a:rPr>
              <a:t>ITS+TPC(pT wight) have a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5f5f5f"/>
                </a:solidFill>
                <a:latin typeface="Arial Black"/>
              </a:rPr>
              <a:t>               </a:t>
            </a:r>
            <a:r>
              <a:rPr b="0" lang="ja-JP" sz="1800" spc="-1" strike="noStrike">
                <a:solidFill>
                  <a:srgbClr val="5f5f5f"/>
                </a:solidFill>
                <a:latin typeface="Arial Black"/>
              </a:rPr>
              <a:t>Reaction Plane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5f5f5f"/>
                </a:solidFill>
                <a:latin typeface="Arial Black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99360" y="11253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YDJET [hydro+pythi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5040" y="4437000"/>
            <a:ext cx="1128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+T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2480" y="5321160"/>
            <a:ext cx="459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5754600"/>
            <a:ext cx="460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0920" y="450540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0.9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9840" y="481500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5.1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0560" y="5246640"/>
            <a:ext cx="111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5.0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-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9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0560" y="5678640"/>
            <a:ext cx="1112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2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-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&lt;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6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9560" y="4889520"/>
            <a:ext cx="67608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72960" y="1762200"/>
            <a:ext cx="7095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 Black"/>
              </a:rPr>
              <a:t>pT 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B2A-4AB9-4D4A-940F-F530412373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3241800" cy="3122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Black"/>
              </a:rPr>
              <a:t>Compare mesured-v2 and true-v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672000" cy="268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92920" y="5157720"/>
            <a:ext cx="24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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0920" y="3860640"/>
                <a:ext cx="3492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M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4560" y="4294080"/>
                <a:ext cx="27352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olutio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M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635280" y="1197000"/>
            <a:ext cx="2448000" cy="235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34760" y="1773360"/>
            <a:ext cx="276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ratio= mesured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/true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[truev2: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with respect to true R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No pT 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90760" y="4437000"/>
            <a:ext cx="2699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 have to minim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n-flow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30800" y="1368360"/>
            <a:ext cx="238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tcut for RP : 3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71160" y="19890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entrality 20-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C08-0CF9-4921-BB5F-AFACEE5C3B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 Black"/>
              </a:rPr>
              <a:t>Method</a:t>
            </a:r>
            <a:r>
              <a:rPr b="0" lang="en-US" sz="2800" spc="-1" strike="noStrike">
                <a:solidFill>
                  <a:srgbClr val="5f5f5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 Black"/>
              </a:rPr>
              <a:t>for the Reconstru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708000" y="1267920"/>
            <a:ext cx="543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stimate R &amp; parton pT dependence 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Tjet/eTpart &amp; resolu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hardQCD:all on    softQCD:all 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primary parton Pt :20-200GeV/c(20GeV/c ste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HYDJET++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LHC defau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Find seed parti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find highest eT track (only a particle par ev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um up eT in Cone (eTj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ompare parton eT (eTpa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calculate eTjet/eTp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249640" y="3213000"/>
                <a:ext cx="1188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d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 flipV="1">
            <a:off x="395280" y="3069720"/>
            <a:ext cx="93672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58920" y="2349000"/>
            <a:ext cx="504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258920" y="1989000"/>
            <a:ext cx="1512720" cy="1152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58920" y="2493720"/>
            <a:ext cx="122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065600">
            <a:off x="2123640" y="1701360"/>
            <a:ext cx="433440" cy="115272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2440" y="3718080"/>
            <a:ext cx="1811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rimary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5680" y="1341360"/>
            <a:ext cx="155232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ed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83520" y="2925720"/>
            <a:ext cx="1515600" cy="6426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2158920" cy="1851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1160" y="4437000"/>
            <a:ext cx="138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(hard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p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 Black"/>
              </a:rPr>
              <a:t>100-120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7C6-AAB3-497E-86B0-D8ECB33975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777080" cy="3009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 Black"/>
              </a:rPr>
              <a:t>Jet Reconstruction (PYTHI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646920" y="1197000"/>
            <a:ext cx="19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eTjet/eTpart (R=0.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31000" y="1197000"/>
            <a:ext cx="209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R depen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eTjet/eTpart&amp;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19840" y="1197000"/>
            <a:ext cx="238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pThat dependen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eTjet/eTpart&amp;resolution(R=0.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0348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12520" y="4869000"/>
            <a:ext cx="65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eTjet/eTpart &amp; resolution are better  when R is lar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nd the larger pT of primary parton also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resolution b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t pthat=40  eTjet/eTpart~0.9  resolution[RMS/Mean] &lt;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17360" y="4508640"/>
            <a:ext cx="75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color : differential pT of primary parton [20-200GeV/c(20GeV/c step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23040" y="2852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7BB-6A27-424B-9C9D-D9FFE7C068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13080" cy="3232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Soft and Hard particle in HYDJET++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168720" cy="3084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03360" y="4724280"/>
            <a:ext cx="330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lmost particles come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hard collision in eT&gt;8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2060640"/>
            <a:ext cx="0" cy="2303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2060640"/>
            <a:ext cx="0" cy="2303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43880" y="4653000"/>
            <a:ext cx="321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In eT&gt;3GeV , particles 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from hard  more than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hop at Wuhan 2008/12/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34A-55CF-44B6-B752-84A2BF25B8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suatsu Sakat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34:06Z</dcterms:created>
  <dc:creator>dousatsu</dc:creator>
  <dc:description/>
  <dc:language>en-US</dc:language>
  <cp:lastModifiedBy>dousatsu</cp:lastModifiedBy>
  <dcterms:modified xsi:type="dcterms:W3CDTF">2008-12-04T07:19:53Z</dcterms:modified>
  <cp:revision>17</cp:revision>
  <dc:subject/>
  <dc:title>Reconstruct &amp; Jet Finding for ALICE - LHC</dc:title>
</cp:coreProperties>
</file>