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0B5D-BD4A-46A1-91CE-8CCAA794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88C-3363-40DD-BF7B-F98FA179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8A3-E6A5-4475-B1C9-6ECDB96C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2C79-1C7B-45B4-A4C6-65B5993B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F772-4128-4BE7-BF9C-9F36A93C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BC3-593B-4C64-9F1C-9B48E803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797-0B32-4F08-A5D9-39F9CBC7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927-2C68-4AF5-AC0D-5CE7FD2E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6FA-E561-4806-8963-F0E5D8C2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0A4-F30D-4974-A7BB-9FB0E0C2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F769-385F-4F03-BE3B-8BFF247E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3F1-C01A-4AB7-9F2D-88140BB5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3048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629040"/>
            <a:ext cx="3886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440" y="662904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EB2A-DE75-4F9F-BA38-E37D580DA486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6858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Jet study at RHIC and Jet reconstruction study at LHC energy for ALICE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19810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ShinIchi Esu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Inst. of Physics, Univ. of Tsukuba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733920"/>
            <a:ext cx="64771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Jet-Suppression and Mod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Mach-cone and Ridge w.r.t. Reaction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Jet reconstruction study with pythia at LHC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article identification to Jet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34F2-92C1-45A8-B789-013F8ED983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2743200" y="304920"/>
            <a:ext cx="3733920" cy="20858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5772240" y="1447920"/>
            <a:ext cx="628560" cy="884160"/>
          </a:xfrm>
          <a:custGeom>
            <a:avLst/>
            <a:gdLst/>
            <a:ahLst/>
            <a:rect l="l" t="t" r="r" b="b"/>
            <a:pathLst>
              <a:path w="396" h="557">
                <a:moveTo>
                  <a:pt x="396" y="37"/>
                </a:moveTo>
                <a:lnTo>
                  <a:pt x="323" y="315"/>
                </a:lnTo>
                <a:lnTo>
                  <a:pt x="111" y="557"/>
                </a:lnTo>
                <a:lnTo>
                  <a:pt x="0" y="442"/>
                </a:lnTo>
                <a:lnTo>
                  <a:pt x="196" y="232"/>
                </a:lnTo>
                <a:lnTo>
                  <a:pt x="257" y="0"/>
                </a:lnTo>
                <a:lnTo>
                  <a:pt x="396" y="37"/>
                </a:lnTo>
                <a:close/>
              </a:path>
            </a:pathLst>
          </a:custGeom>
          <a:solidFill>
            <a:srgbClr val="ccff66">
              <a:alpha val="60000"/>
            </a:srgbClr>
          </a:solidFill>
          <a:ln w="9360">
            <a:solidFill>
              <a:srgbClr val="000000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43200" y="152280"/>
            <a:ext cx="1143000" cy="114300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0" y="711"/>
                </a:moveTo>
                <a:lnTo>
                  <a:pt x="0" y="421"/>
                </a:lnTo>
                <a:lnTo>
                  <a:pt x="144" y="136"/>
                </a:lnTo>
                <a:lnTo>
                  <a:pt x="448" y="0"/>
                </a:lnTo>
                <a:lnTo>
                  <a:pt x="720" y="0"/>
                </a:lnTo>
                <a:lnTo>
                  <a:pt x="720" y="126"/>
                </a:lnTo>
                <a:lnTo>
                  <a:pt x="465" y="129"/>
                </a:lnTo>
                <a:lnTo>
                  <a:pt x="240" y="240"/>
                </a:lnTo>
                <a:cubicBezTo>
                  <a:pt x="169" y="422"/>
                  <a:pt x="158" y="393"/>
                  <a:pt x="143" y="469"/>
                </a:cubicBezTo>
                <a:lnTo>
                  <a:pt x="142" y="720"/>
                </a:lnTo>
                <a:lnTo>
                  <a:pt x="0" y="711"/>
                </a:lnTo>
                <a:close/>
              </a:path>
            </a:pathLst>
          </a:custGeom>
          <a:solidFill>
            <a:srgbClr val="ccff66">
              <a:alpha val="60000"/>
            </a:srgbClr>
          </a:solidFill>
          <a:ln w="9360">
            <a:solidFill>
              <a:srgbClr val="000000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124080" y="523800"/>
            <a:ext cx="2971800" cy="1314360"/>
            <a:chOff x="3124080" y="523800"/>
            <a:chExt cx="2971800" cy="1314360"/>
          </a:xfrm>
        </p:grpSpPr>
        <p:grpSp>
          <p:nvGrpSpPr>
            <p:cNvPr id="407" name=""/>
            <p:cNvGrpSpPr/>
            <p:nvPr/>
          </p:nvGrpSpPr>
          <p:grpSpPr>
            <a:xfrm>
              <a:off x="3250080" y="523800"/>
              <a:ext cx="1328040" cy="657000"/>
              <a:chOff x="3250080" y="523800"/>
              <a:chExt cx="1328040" cy="657000"/>
            </a:xfrm>
          </p:grpSpPr>
          <p:sp>
            <p:nvSpPr>
              <p:cNvPr id="408" name=""/>
              <p:cNvSpPr/>
              <p:nvPr/>
            </p:nvSpPr>
            <p:spPr>
              <a:xfrm flipH="1" flipV="1" rot="1227600">
                <a:off x="3313080" y="533160"/>
                <a:ext cx="126000" cy="383760"/>
              </a:xfrm>
              <a:prstGeom prst="ellipse">
                <a:avLst/>
              </a:prstGeom>
              <a:solidFill>
                <a:srgbClr val="bbe0e3">
                  <a:alpha val="60000"/>
                </a:srgbClr>
              </a:solidFill>
              <a:ln w="9360">
                <a:solidFill>
                  <a:srgbClr val="0000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flipV="1">
                <a:off x="3250440" y="906840"/>
                <a:ext cx="1327680" cy="273960"/>
              </a:xfrm>
              <a:prstGeom prst="line">
                <a:avLst/>
              </a:prstGeom>
              <a:ln w="9360">
                <a:solidFill>
                  <a:srgbClr val="000000">
                    <a:alpha val="60000"/>
                  </a:srgbClr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 flipV="1">
                <a:off x="3440160" y="577800"/>
                <a:ext cx="1137960" cy="603000"/>
              </a:xfrm>
              <a:prstGeom prst="line">
                <a:avLst/>
              </a:prstGeom>
              <a:ln w="9360">
                <a:solidFill>
                  <a:srgbClr val="000000">
                    <a:alpha val="60000"/>
                  </a:srgbClr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578480" y="1181160"/>
              <a:ext cx="1328040" cy="657000"/>
              <a:chOff x="4578480" y="1181160"/>
              <a:chExt cx="1328040" cy="657000"/>
            </a:xfrm>
          </p:grpSpPr>
          <p:sp>
            <p:nvSpPr>
              <p:cNvPr id="412" name=""/>
              <p:cNvSpPr/>
              <p:nvPr/>
            </p:nvSpPr>
            <p:spPr>
              <a:xfrm rot="1227600">
                <a:off x="5717160" y="1444320"/>
                <a:ext cx="126000" cy="383760"/>
              </a:xfrm>
              <a:prstGeom prst="ellipse">
                <a:avLst/>
              </a:prstGeom>
              <a:solidFill>
                <a:srgbClr val="bbe0e3">
                  <a:alpha val="60000"/>
                </a:srgbClr>
              </a:solidFill>
              <a:ln w="9360">
                <a:solidFill>
                  <a:srgbClr val="0000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578480" y="1181160"/>
                <a:ext cx="1327680" cy="273960"/>
              </a:xfrm>
              <a:prstGeom prst="line">
                <a:avLst/>
              </a:prstGeom>
              <a:ln w="9360">
                <a:solidFill>
                  <a:srgbClr val="000000">
                    <a:alpha val="60000"/>
                  </a:srgbClr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578480" y="1181160"/>
                <a:ext cx="1137960" cy="603000"/>
              </a:xfrm>
              <a:prstGeom prst="line">
                <a:avLst/>
              </a:prstGeom>
              <a:ln w="9360">
                <a:solidFill>
                  <a:srgbClr val="000000">
                    <a:alpha val="60000"/>
                  </a:srgbClr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4578480" y="1181160"/>
              <a:ext cx="1517400" cy="548280"/>
            </a:xfrm>
            <a:prstGeom prst="line">
              <a:avLst/>
            </a:prstGeom>
            <a:ln w="41400">
              <a:solidFill>
                <a:srgbClr val="000000">
                  <a:alpha val="60000"/>
                </a:srgbClr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3124080" y="632160"/>
              <a:ext cx="1454400" cy="548280"/>
            </a:xfrm>
            <a:prstGeom prst="line">
              <a:avLst/>
            </a:prstGeom>
            <a:ln w="38160">
              <a:solidFill>
                <a:srgbClr val="000000">
                  <a:alpha val="60000"/>
                </a:srgbClr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76320" y="2509920"/>
            <a:ext cx="906768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 order to continue and develop the Jet tomography study in Heavy-Ion collisions at LHC, we have started to consider building a new calorimeter in ALICE at azimuthally opposite side of the existing EMcal as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Yasu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ntion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e use control variables like centrality and reaction plane, which have been utilized in the previous Heavy-Ion experiments, which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Dousatsu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has discussed. We also like to treat a high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jet axis of an event as another control variable for Heavy-Ion collis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or this purpose, I just have started to play with PYTHIA p+p events to test the jet finding and reconstruction in the Heavy-Ion collision environment (by superposition of many p+p events) for the detector to be built.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Hiroki/Dousatsu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will continue to talk about his studies on jets and di-jets using HYDJET model. I’m still in the beginning and learning phase, so I appreciate your suggestions and com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121-B018-460B-97E0-CE4CE5FECB9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832040" y="380880"/>
            <a:ext cx="502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t Finder/Reconstruction stu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Heavy Ion Collisio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411200"/>
            <a:ext cx="853452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superposition of PYTHIA 5.5TeV p+p Min.Bias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(p+p)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~ 200 events (~35k final particles/event, d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c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~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inclusion of single hard scattered p+p event with vari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ha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selections (&gt; 20 ~ 90 G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modification of jet finding routine (CellJet) in pythia8.1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event-by-even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BG subtraction, based on an id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rom CMS paper E.P.J C50, 117-123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1) get average energy of cell in [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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] space with step of (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0.1,0.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for each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2) subtract the average energy from all cells, ignore negativ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3) find the jet seeds with cell energy of more than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4) sum-up all the cell energies within a cone of (d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+d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ja-JP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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0.25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rom each 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5) define the jet with the total energy above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6) recalculate the average energy by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exclud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e found jet c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7) repeat steps (2)-(6) for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1371600"/>
            <a:ext cx="7010280" cy="685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2209680"/>
            <a:ext cx="701028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" y="3048120"/>
            <a:ext cx="7010280" cy="990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3E2-61F2-4CC8-813F-A5BC5D87548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33520" y="398520"/>
            <a:ext cx="6276960" cy="60609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090440" y="152280"/>
            <a:ext cx="340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ingle p+p event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ha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gt; 40 G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17960" y="15228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4 min.bias p+p event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Pb+Pb periphe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0" y="182880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1752480"/>
            <a:ext cx="304920" cy="304920"/>
          </a:xfrm>
          <a:prstGeom prst="donut">
            <a:avLst>
              <a:gd name="adj" fmla="val 25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262908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695760" y="240048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540480" y="2577960"/>
            <a:ext cx="304920" cy="304920"/>
          </a:xfrm>
          <a:prstGeom prst="donut">
            <a:avLst>
              <a:gd name="adj" fmla="val 25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794640" y="2362320"/>
            <a:ext cx="304560" cy="304560"/>
          </a:xfrm>
          <a:prstGeom prst="donut">
            <a:avLst>
              <a:gd name="adj" fmla="val 25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995400" y="1649880"/>
            <a:ext cx="95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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666880" y="3200400"/>
            <a:ext cx="924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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F1C-9E92-4A85-A6AF-4D6BECD1AAB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1433520" y="398520"/>
            <a:ext cx="6276960" cy="60609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090440" y="152280"/>
            <a:ext cx="340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ingle p+p event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ha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gt; 40 G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918320" y="15228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77 min.bias p+p event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Pb+Pb cen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11560" y="181620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410080" y="1752480"/>
            <a:ext cx="304920" cy="304920"/>
          </a:xfrm>
          <a:prstGeom prst="donut">
            <a:avLst>
              <a:gd name="adj" fmla="val 25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05320" y="180324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591240" y="1739880"/>
            <a:ext cx="304920" cy="304920"/>
          </a:xfrm>
          <a:prstGeom prst="donut">
            <a:avLst>
              <a:gd name="adj" fmla="val 25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34120" y="160020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969160" y="162576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740560" y="195588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69080" y="262908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46920" y="19303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680160" y="1676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995400" y="1649880"/>
            <a:ext cx="95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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666880" y="3200400"/>
            <a:ext cx="924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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290800">
            <a:off x="1504080" y="5864040"/>
            <a:ext cx="95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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20773800">
            <a:off x="3117960" y="6018840"/>
            <a:ext cx="924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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C72-E31F-48B2-B30A-1A9C2FFDCD9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086600" cy="46609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886200" y="5607000"/>
            <a:ext cx="182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et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SUM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GeV/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4360" y="152280"/>
            <a:ext cx="7551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ythia8.107 p+p 5.5TeV                     superimposed on Pb+Pb min.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hat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&gt; 20 / 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ja-JP" sz="1600" spc="-1" strike="noStrike">
                <a:solidFill>
                  <a:srgbClr val="00ff00"/>
                </a:solidFill>
                <a:latin typeface="Arial"/>
              </a:rPr>
              <a:t>6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8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G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328080" y="1407960"/>
            <a:ext cx="15037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riggered p+p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+ superimpo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. bias Pb+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172200" y="22860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72200" y="1676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328800" y="2133720"/>
            <a:ext cx="1340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. bias Pb+P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one (B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59400" y="1398600"/>
            <a:ext cx="15037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ed p+p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603520" y="1600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670480" y="1971720"/>
            <a:ext cx="1600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G subtracted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14600" y="2057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452880" y="2034720"/>
            <a:ext cx="1503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N/d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(a.u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303-F3EF-46A1-B27D-8475B2CE4CC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679320" y="517680"/>
            <a:ext cx="7855200" cy="52718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654480" y="868320"/>
            <a:ext cx="219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soli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25640" y="441360"/>
            <a:ext cx="1292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Hat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=20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009960" y="441360"/>
            <a:ext cx="1292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Hat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=40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87800" y="441360"/>
            <a:ext cx="1292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Hat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=60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972480" y="441360"/>
            <a:ext cx="1292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Hat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=80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31520" y="3459240"/>
            <a:ext cx="201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C) soli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A-B)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997080" y="5683320"/>
            <a:ext cx="1380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SU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(GeV/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011000" y="5715000"/>
            <a:ext cx="142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(p+p) = 0~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(p+p) = 50~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N(p+p) = 100~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(p+p) = 150~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-185040" y="1422000"/>
            <a:ext cx="1503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N/d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(a.u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97080" y="2971800"/>
            <a:ext cx="1380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SU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(GeV/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5715000"/>
            <a:ext cx="350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A) triggered p+p event + superimposed Pb+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B) superimposed Pb+Pb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C) triggered p+p event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A-B) BG subtracted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653-CC4D-4E7A-A097-E57AD730224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5029200" y="2438280"/>
            <a:ext cx="3567240" cy="34038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133720" y="1143000"/>
            <a:ext cx="18288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Sum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&gt; 3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ja-JP" sz="16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ja-JP" sz="1600" spc="-1" strike="noStrike" baseline="30000">
                <a:solidFill>
                  <a:srgbClr val="ff0000"/>
                </a:solidFill>
                <a:latin typeface="Arial"/>
              </a:rPr>
              <a:t>Sum  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&gt; 5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0" lang="ja-JP" sz="1600" spc="-1" strike="noStrike" baseline="-25000">
                <a:solidFill>
                  <a:srgbClr val="00ff00"/>
                </a:solidFill>
                <a:latin typeface="Arial"/>
              </a:rPr>
              <a:t>T</a:t>
            </a:r>
            <a:r>
              <a:rPr b="0" lang="ja-JP" sz="1600" spc="-1" strike="noStrike" baseline="30000">
                <a:solidFill>
                  <a:srgbClr val="00ff00"/>
                </a:solidFill>
                <a:latin typeface="Arial"/>
              </a:rPr>
              <a:t>Sum  </a:t>
            </a:r>
            <a:r>
              <a:rPr b="0" lang="ja-JP" sz="1600" spc="-1" strike="noStrike">
                <a:solidFill>
                  <a:srgbClr val="00ff00"/>
                </a:solidFill>
                <a:latin typeface="Arial"/>
              </a:rPr>
              <a:t>&gt; 7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ja-JP" sz="1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0" lang="ja-JP" sz="1600" spc="-1" strike="noStrike" baseline="30000">
                <a:solidFill>
                  <a:srgbClr val="0000ff"/>
                </a:solidFill>
                <a:latin typeface="Arial"/>
              </a:rPr>
              <a:t>Sum  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&gt; 9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380880"/>
            <a:ext cx="35053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ignal to BG noise ratio increases with increasing the jet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reased efficiency of jet finding, which could be caused by the upward BG fluctuatio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 of found jet in p+p is the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1143000" y="2452680"/>
            <a:ext cx="3554280" cy="3390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 rot="16200000">
            <a:off x="3759840" y="2706480"/>
            <a:ext cx="2021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A-B) /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BG subtracted signal)  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riggered p+p event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86200" y="5805360"/>
            <a:ext cx="205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part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~ 2*N(p+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937440" y="3067920"/>
            <a:ext cx="3492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A) /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riggered p+p event + superimposed Pb+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/    (triggered p+p event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76520" y="2895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+ 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981080" y="32767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76520" y="32623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562720" y="2895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638680" y="32767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62720" y="327672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5CC-8E9A-4132-A037-AB9C2EADE6C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1828800" y="988920"/>
            <a:ext cx="6781680" cy="25034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1828800" y="3516480"/>
            <a:ext cx="6781680" cy="25034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47240" y="152280"/>
            <a:ext cx="2341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ia8.107 p+p 5.5T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a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20G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91240" y="129528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+p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2280" y="3486240"/>
            <a:ext cx="1688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ame p+p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+ superimpo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in. bias Pb+P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y pile-up p+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vents fr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in. bias p+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065320" y="9144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CD hard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883320" y="9144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qq -&gt; q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639040" y="9144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qg -&gt; q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315560" y="9144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g -&gt; g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1366920" y="1954800"/>
            <a:ext cx="95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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124000" y="3276720"/>
            <a:ext cx="924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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16480" y="3733920"/>
            <a:ext cx="339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206440" y="586728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0          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304920"/>
            <a:ext cx="4496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rigger(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 - particle(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&gt;4GeV/c)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800-2BBE-42F9-8DB3-52907444A77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6781680" cy="250164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1828800" y="3505320"/>
            <a:ext cx="6781680" cy="250164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291240" y="129528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+p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065320" y="9144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CD hard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883320" y="9144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qq -&gt; q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39040" y="9144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qg -&gt; q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315560" y="9144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g -&gt; g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16200000">
            <a:off x="1366920" y="1954800"/>
            <a:ext cx="95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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2280" y="3486240"/>
            <a:ext cx="1688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ame p+p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+ superimpo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in. bias Pb+P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y pile-up p+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vents fr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in. bias p+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24000" y="3276720"/>
            <a:ext cx="924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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16480" y="3733920"/>
            <a:ext cx="339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06440" y="586728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0          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7240" y="152280"/>
            <a:ext cx="2341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ia8.107 p+p 5.5T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a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50G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352680" y="304920"/>
            <a:ext cx="4496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rigger(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 - Jet(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&gt;50GeV/c)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800600" y="304920"/>
            <a:ext cx="1676520" cy="380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8600" y="457200"/>
            <a:ext cx="1676520" cy="304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FA32-1AB2-49D5-817E-A20B3E0A612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2455920" cy="239400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357720" y="2276640"/>
            <a:ext cx="2428560" cy="230328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5715000" y="2224080"/>
            <a:ext cx="2455920" cy="23479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809880" y="4540320"/>
            <a:ext cx="182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et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SUM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GeV/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11240" y="198108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+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811320" y="19810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b+Pb min.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59600" y="1981080"/>
            <a:ext cx="16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b+Pb cent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-448920" y="2675880"/>
            <a:ext cx="2057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MS width (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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 at away side [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2,3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03200" y="50292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CD hard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295640" y="54864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qq -&gt; q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295640" y="52578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00"/>
                </a:solidFill>
                <a:latin typeface="Arial"/>
              </a:rPr>
              <a:t>qg -&gt; q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295640" y="48006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gg -&gt; g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55160" y="15228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ia8.107 p+p 5.5T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024080" y="228600"/>
            <a:ext cx="4583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ssibility of Jet Identification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MS width (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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 at away side [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2,3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BE3-AF77-44CD-92DE-FAEA31A2C63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56253" r="10210" b="0"/>
          <a:stretch/>
        </p:blipFill>
        <p:spPr>
          <a:xfrm>
            <a:off x="457200" y="1093680"/>
            <a:ext cx="3809880" cy="2792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8320" y="762120"/>
            <a:ext cx="3962160" cy="320040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52280" y="3870360"/>
            <a:ext cx="8848800" cy="2606760"/>
            <a:chOff x="152280" y="3870360"/>
            <a:chExt cx="8848800" cy="2606760"/>
          </a:xfrm>
        </p:grpSpPr>
        <p:sp>
          <p:nvSpPr>
            <p:cNvPr id="47" name=""/>
            <p:cNvSpPr/>
            <p:nvPr/>
          </p:nvSpPr>
          <p:spPr>
            <a:xfrm>
              <a:off x="152280" y="3914640"/>
              <a:ext cx="8848800" cy="256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3"/>
            <a:srcRect l="68546" t="0" r="0" b="0"/>
            <a:stretch/>
          </p:blipFill>
          <p:spPr>
            <a:xfrm>
              <a:off x="6323040" y="4159080"/>
              <a:ext cx="2592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250920" y="4221000"/>
              <a:ext cx="2700360" cy="18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5"/>
            <a:srcRect l="0" t="88996" r="64788" b="0"/>
            <a:stretch/>
          </p:blipFill>
          <p:spPr>
            <a:xfrm>
              <a:off x="250920" y="5992920"/>
              <a:ext cx="273672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6"/>
            <a:srcRect l="0" t="44471" r="65258" b="0"/>
            <a:stretch/>
          </p:blipFill>
          <p:spPr>
            <a:xfrm>
              <a:off x="3220920" y="4233960"/>
              <a:ext cx="270036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36280" y="3870360"/>
              <a:ext cx="178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RHIC 200G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11160" y="3870360"/>
              <a:ext cx="143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SPS 17G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89360" y="38703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RHIC 62G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49120" y="4637160"/>
              <a:ext cx="1416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PHENI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nucl-ex/06110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86280" y="6156360"/>
              <a:ext cx="139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.Kniege, ISMD 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933640" y="2133720"/>
            <a:ext cx="3162240" cy="2590200"/>
            <a:chOff x="2933640" y="2133720"/>
            <a:chExt cx="3162240" cy="2590200"/>
          </a:xfrm>
        </p:grpSpPr>
        <p:sp>
          <p:nvSpPr>
            <p:cNvPr id="58" name=""/>
            <p:cNvSpPr/>
            <p:nvPr/>
          </p:nvSpPr>
          <p:spPr>
            <a:xfrm>
              <a:off x="3162240" y="3276360"/>
              <a:ext cx="2685960" cy="14331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43640" y="3276360"/>
              <a:ext cx="552240" cy="1431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33640" y="3276360"/>
              <a:ext cx="554040" cy="1447560"/>
            </a:xfrm>
            <a:prstGeom prst="ellips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00640" y="24382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857840" y="2514240"/>
              <a:ext cx="685800" cy="3808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857840" y="2133720"/>
              <a:ext cx="609480" cy="7617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4857840" y="2133720"/>
              <a:ext cx="152280" cy="7617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81320" y="3470040"/>
              <a:ext cx="1081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765320" y="3470040"/>
              <a:ext cx="11588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86280" y="3312720"/>
              <a:ext cx="15264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47840" y="3331800"/>
              <a:ext cx="15264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476600" y="2742840"/>
              <a:ext cx="457200" cy="76176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48000" y="3165120"/>
              <a:ext cx="541440" cy="626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33600" y="31683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91000" y="31683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52720" y="38858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19600" y="38858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701880" y="3454560"/>
            <a:ext cx="837720" cy="1225440"/>
            <a:chOff x="3701880" y="3454560"/>
            <a:chExt cx="837720" cy="1225440"/>
          </a:xfrm>
        </p:grpSpPr>
        <p:sp>
          <p:nvSpPr>
            <p:cNvPr id="76" name=""/>
            <p:cNvSpPr/>
            <p:nvPr/>
          </p:nvSpPr>
          <p:spPr>
            <a:xfrm>
              <a:off x="4309920" y="4017960"/>
              <a:ext cx="77760" cy="35712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3853800" y="3965760"/>
              <a:ext cx="438120" cy="71424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701880" y="3965760"/>
              <a:ext cx="590400" cy="40932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4234680" y="3454560"/>
              <a:ext cx="304920" cy="663480"/>
            </a:xfrm>
            <a:prstGeom prst="line">
              <a:avLst/>
            </a:prstGeom>
            <a:ln w="38160">
              <a:solidFill>
                <a:srgbClr val="3366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257280" y="3441600"/>
            <a:ext cx="1909080" cy="1321200"/>
            <a:chOff x="3257280" y="3441600"/>
            <a:chExt cx="1909080" cy="1321200"/>
          </a:xfrm>
        </p:grpSpPr>
        <p:sp>
          <p:nvSpPr>
            <p:cNvPr id="81" name=""/>
            <p:cNvSpPr/>
            <p:nvPr/>
          </p:nvSpPr>
          <p:spPr>
            <a:xfrm flipH="1">
              <a:off x="3597480" y="3668760"/>
              <a:ext cx="370800" cy="368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257280" y="3620160"/>
              <a:ext cx="743760" cy="2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3576960" y="3556800"/>
              <a:ext cx="419400" cy="622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46600" y="3441600"/>
              <a:ext cx="703080" cy="231840"/>
            </a:xfrm>
            <a:custGeom>
              <a:avLst/>
              <a:gdLst/>
              <a:ahLst/>
              <a:rect l="l" t="t" r="r" b="b"/>
              <a:pathLst>
                <a:path w="443" h="146">
                  <a:moveTo>
                    <a:pt x="443" y="25"/>
                  </a:moveTo>
                  <a:lnTo>
                    <a:pt x="341" y="0"/>
                  </a:lnTo>
                  <a:lnTo>
                    <a:pt x="261" y="104"/>
                  </a:lnTo>
                  <a:lnTo>
                    <a:pt x="153" y="76"/>
                  </a:lnTo>
                  <a:lnTo>
                    <a:pt x="0" y="146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43080" y="3987720"/>
              <a:ext cx="323280" cy="1699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1600" y="3968280"/>
              <a:ext cx="265320" cy="7945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724640" y="3967920"/>
              <a:ext cx="65880" cy="7160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1240" y="3441600"/>
              <a:ext cx="355680" cy="685800"/>
            </a:xfrm>
            <a:custGeom>
              <a:avLst/>
              <a:gdLst/>
              <a:ahLst/>
              <a:rect l="l" t="t" r="r" b="b"/>
              <a:pathLst>
                <a:path w="224" h="432">
                  <a:moveTo>
                    <a:pt x="32" y="0"/>
                  </a:moveTo>
                  <a:cubicBezTo>
                    <a:pt x="30" y="26"/>
                    <a:pt x="0" y="122"/>
                    <a:pt x="22" y="154"/>
                  </a:cubicBezTo>
                  <a:cubicBezTo>
                    <a:pt x="44" y="186"/>
                    <a:pt x="148" y="165"/>
                    <a:pt x="166" y="192"/>
                  </a:cubicBezTo>
                  <a:cubicBezTo>
                    <a:pt x="184" y="219"/>
                    <a:pt x="118" y="277"/>
                    <a:pt x="128" y="317"/>
                  </a:cubicBezTo>
                  <a:cubicBezTo>
                    <a:pt x="138" y="357"/>
                    <a:pt x="204" y="408"/>
                    <a:pt x="224" y="432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537000" y="3429000"/>
            <a:ext cx="1835280" cy="1247760"/>
            <a:chOff x="3537000" y="3429000"/>
            <a:chExt cx="1835280" cy="1247760"/>
          </a:xfrm>
        </p:grpSpPr>
        <p:grpSp>
          <p:nvGrpSpPr>
            <p:cNvPr id="90" name=""/>
            <p:cNvGrpSpPr/>
            <p:nvPr/>
          </p:nvGrpSpPr>
          <p:grpSpPr>
            <a:xfrm>
              <a:off x="3701880" y="3450960"/>
              <a:ext cx="837720" cy="1225440"/>
              <a:chOff x="3701880" y="3450960"/>
              <a:chExt cx="837720" cy="1225440"/>
            </a:xfrm>
          </p:grpSpPr>
          <p:sp>
            <p:nvSpPr>
              <p:cNvPr id="91" name=""/>
              <p:cNvSpPr/>
              <p:nvPr/>
            </p:nvSpPr>
            <p:spPr>
              <a:xfrm>
                <a:off x="4309920" y="4014360"/>
                <a:ext cx="77760" cy="35712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3853800" y="3962160"/>
                <a:ext cx="438120" cy="71424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3701880" y="3962160"/>
                <a:ext cx="590400" cy="40932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4234680" y="3450960"/>
                <a:ext cx="304920" cy="663480"/>
              </a:xfrm>
              <a:prstGeom prst="line">
                <a:avLst/>
              </a:prstGeom>
              <a:ln w="38160">
                <a:solidFill>
                  <a:srgbClr val="3366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537000" y="3429000"/>
              <a:ext cx="1835280" cy="1247760"/>
              <a:chOff x="3537000" y="3429000"/>
              <a:chExt cx="1835280" cy="1247760"/>
            </a:xfrm>
          </p:grpSpPr>
          <p:sp>
            <p:nvSpPr>
              <p:cNvPr id="96" name=""/>
              <p:cNvSpPr/>
              <p:nvPr/>
            </p:nvSpPr>
            <p:spPr>
              <a:xfrm>
                <a:off x="4457880" y="3611520"/>
                <a:ext cx="596880" cy="289080"/>
              </a:xfrm>
              <a:custGeom>
                <a:avLst/>
                <a:gdLst/>
                <a:ahLst/>
                <a:rect l="l" t="t" r="r" b="b"/>
                <a:pathLst>
                  <a:path w="376" h="182">
                    <a:moveTo>
                      <a:pt x="0" y="129"/>
                    </a:moveTo>
                    <a:cubicBezTo>
                      <a:pt x="15" y="137"/>
                      <a:pt x="65" y="182"/>
                      <a:pt x="88" y="173"/>
                    </a:cubicBezTo>
                    <a:cubicBezTo>
                      <a:pt x="111" y="164"/>
                      <a:pt x="112" y="85"/>
                      <a:pt x="136" y="77"/>
                    </a:cubicBezTo>
                    <a:cubicBezTo>
                      <a:pt x="160" y="69"/>
                      <a:pt x="210" y="136"/>
                      <a:pt x="232" y="125"/>
                    </a:cubicBezTo>
                    <a:cubicBezTo>
                      <a:pt x="254" y="114"/>
                      <a:pt x="244" y="26"/>
                      <a:pt x="268" y="13"/>
                    </a:cubicBezTo>
                    <a:cubicBezTo>
                      <a:pt x="292" y="0"/>
                      <a:pt x="354" y="42"/>
                      <a:pt x="376" y="49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68960" y="3789360"/>
                <a:ext cx="888840" cy="385920"/>
              </a:xfrm>
              <a:custGeom>
                <a:avLst/>
                <a:gdLst/>
                <a:ahLst/>
                <a:rect l="l" t="t" r="r" b="b"/>
                <a:pathLst>
                  <a:path w="560" h="243">
                    <a:moveTo>
                      <a:pt x="0" y="190"/>
                    </a:moveTo>
                    <a:cubicBezTo>
                      <a:pt x="15" y="198"/>
                      <a:pt x="65" y="243"/>
                      <a:pt x="88" y="234"/>
                    </a:cubicBezTo>
                    <a:cubicBezTo>
                      <a:pt x="111" y="225"/>
                      <a:pt x="112" y="146"/>
                      <a:pt x="136" y="138"/>
                    </a:cubicBezTo>
                    <a:cubicBezTo>
                      <a:pt x="160" y="130"/>
                      <a:pt x="208" y="195"/>
                      <a:pt x="232" y="186"/>
                    </a:cubicBezTo>
                    <a:cubicBezTo>
                      <a:pt x="256" y="177"/>
                      <a:pt x="251" y="92"/>
                      <a:pt x="280" y="81"/>
                    </a:cubicBezTo>
                    <a:cubicBezTo>
                      <a:pt x="309" y="70"/>
                      <a:pt x="377" y="133"/>
                      <a:pt x="404" y="121"/>
                    </a:cubicBezTo>
                    <a:cubicBezTo>
                      <a:pt x="431" y="109"/>
                      <a:pt x="414" y="18"/>
                      <a:pt x="440" y="9"/>
                    </a:cubicBezTo>
                    <a:cubicBezTo>
                      <a:pt x="466" y="0"/>
                      <a:pt x="535" y="53"/>
                      <a:pt x="560" y="65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095720" y="4052880"/>
                <a:ext cx="1187640" cy="519120"/>
              </a:xfrm>
              <a:custGeom>
                <a:avLst/>
                <a:gdLst/>
                <a:ahLst/>
                <a:rect l="l" t="t" r="r" b="b"/>
                <a:pathLst>
                  <a:path w="748" h="327">
                    <a:moveTo>
                      <a:pt x="0" y="274"/>
                    </a:moveTo>
                    <a:cubicBezTo>
                      <a:pt x="15" y="282"/>
                      <a:pt x="65" y="327"/>
                      <a:pt x="88" y="318"/>
                    </a:cubicBezTo>
                    <a:cubicBezTo>
                      <a:pt x="111" y="309"/>
                      <a:pt x="112" y="230"/>
                      <a:pt x="136" y="222"/>
                    </a:cubicBezTo>
                    <a:cubicBezTo>
                      <a:pt x="160" y="214"/>
                      <a:pt x="208" y="279"/>
                      <a:pt x="232" y="270"/>
                    </a:cubicBezTo>
                    <a:cubicBezTo>
                      <a:pt x="256" y="261"/>
                      <a:pt x="251" y="177"/>
                      <a:pt x="280" y="165"/>
                    </a:cubicBezTo>
                    <a:cubicBezTo>
                      <a:pt x="309" y="153"/>
                      <a:pt x="378" y="210"/>
                      <a:pt x="404" y="197"/>
                    </a:cubicBezTo>
                    <a:cubicBezTo>
                      <a:pt x="430" y="184"/>
                      <a:pt x="409" y="100"/>
                      <a:pt x="436" y="89"/>
                    </a:cubicBezTo>
                    <a:cubicBezTo>
                      <a:pt x="463" y="78"/>
                      <a:pt x="535" y="143"/>
                      <a:pt x="564" y="131"/>
                    </a:cubicBezTo>
                    <a:cubicBezTo>
                      <a:pt x="593" y="119"/>
                      <a:pt x="581" y="30"/>
                      <a:pt x="612" y="15"/>
                    </a:cubicBezTo>
                    <a:cubicBezTo>
                      <a:pt x="643" y="0"/>
                      <a:pt x="720" y="37"/>
                      <a:pt x="748" y="43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70480" y="4273560"/>
                <a:ext cx="901800" cy="403200"/>
              </a:xfrm>
              <a:custGeom>
                <a:avLst/>
                <a:gdLst/>
                <a:ahLst/>
                <a:rect l="l" t="t" r="r" b="b"/>
                <a:pathLst>
                  <a:path w="568" h="254">
                    <a:moveTo>
                      <a:pt x="0" y="200"/>
                    </a:moveTo>
                    <a:cubicBezTo>
                      <a:pt x="15" y="207"/>
                      <a:pt x="68" y="254"/>
                      <a:pt x="92" y="244"/>
                    </a:cubicBezTo>
                    <a:cubicBezTo>
                      <a:pt x="116" y="234"/>
                      <a:pt x="119" y="148"/>
                      <a:pt x="144" y="139"/>
                    </a:cubicBezTo>
                    <a:cubicBezTo>
                      <a:pt x="169" y="130"/>
                      <a:pt x="216" y="196"/>
                      <a:pt x="240" y="187"/>
                    </a:cubicBezTo>
                    <a:cubicBezTo>
                      <a:pt x="264" y="178"/>
                      <a:pt x="260" y="93"/>
                      <a:pt x="288" y="82"/>
                    </a:cubicBezTo>
                    <a:cubicBezTo>
                      <a:pt x="316" y="71"/>
                      <a:pt x="381" y="132"/>
                      <a:pt x="408" y="120"/>
                    </a:cubicBezTo>
                    <a:cubicBezTo>
                      <a:pt x="435" y="108"/>
                      <a:pt x="421" y="24"/>
                      <a:pt x="448" y="12"/>
                    </a:cubicBezTo>
                    <a:cubicBezTo>
                      <a:pt x="475" y="0"/>
                      <a:pt x="543" y="41"/>
                      <a:pt x="568" y="4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987720" y="3429000"/>
                <a:ext cx="268560" cy="425520"/>
              </a:xfrm>
              <a:custGeom>
                <a:avLst/>
                <a:gdLst/>
                <a:ahLst/>
                <a:rect l="l" t="t" r="r" b="b"/>
                <a:pathLst>
                  <a:path w="169" h="268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6" y="210"/>
                      <a:pt x="57" y="232"/>
                    </a:cubicBezTo>
                    <a:cubicBezTo>
                      <a:pt x="68" y="254"/>
                      <a:pt x="150" y="262"/>
                      <a:pt x="169" y="26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65600" y="3568680"/>
                <a:ext cx="298440" cy="622440"/>
              </a:xfrm>
              <a:custGeom>
                <a:avLst/>
                <a:gdLst/>
                <a:ahLst/>
                <a:rect l="l" t="t" r="r" b="b"/>
                <a:pathLst>
                  <a:path w="188" h="392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61"/>
                      <a:pt x="177" y="288"/>
                    </a:cubicBezTo>
                    <a:cubicBezTo>
                      <a:pt x="188" y="315"/>
                      <a:pt x="136" y="370"/>
                      <a:pt x="125" y="392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537000" y="3657600"/>
                <a:ext cx="374760" cy="704880"/>
              </a:xfrm>
              <a:custGeom>
                <a:avLst/>
                <a:gdLst/>
                <a:ahLst/>
                <a:rect l="l" t="t" r="r" b="b"/>
                <a:pathLst>
                  <a:path w="236" h="444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59"/>
                      <a:pt x="177" y="288"/>
                    </a:cubicBezTo>
                    <a:cubicBezTo>
                      <a:pt x="188" y="317"/>
                      <a:pt x="114" y="378"/>
                      <a:pt x="124" y="404"/>
                    </a:cubicBezTo>
                    <a:cubicBezTo>
                      <a:pt x="134" y="430"/>
                      <a:pt x="213" y="436"/>
                      <a:pt x="236" y="444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226080" y="17316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Jet suppression    modification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ith 2-particle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333360"/>
            <a:ext cx="228600" cy="184320"/>
          </a:xfrm>
          <a:prstGeom prst="rightArrow">
            <a:avLst>
              <a:gd name="adj1" fmla="val 36204"/>
              <a:gd name="adj2" fmla="val 5167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8C2-771B-4C99-82FD-4B0BB9FF12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2357640" cy="23130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3370320" y="2249640"/>
            <a:ext cx="2401920" cy="23572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5867280" y="2209680"/>
            <a:ext cx="2347920" cy="23749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911240" y="198108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+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11320" y="19810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b+Pb min.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303200" y="50292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CD hard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295640" y="54864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qq -&gt; q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95640" y="52578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00"/>
                </a:solidFill>
                <a:latin typeface="Arial"/>
              </a:rPr>
              <a:t>qg -&gt; q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295640" y="48006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gg -&gt; g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159600" y="1981080"/>
            <a:ext cx="16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b+Pb cent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09880" y="4540320"/>
            <a:ext cx="182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et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SUM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GeV/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16200000">
            <a:off x="-463320" y="270324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le multiplicity within Jet cone (r&lt;0.2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55160" y="15228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ia8.107 p+p 5.5T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024080" y="228600"/>
            <a:ext cx="4583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ssibility of Jet Identification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article multiplicity within Jet c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971800" y="518148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MS width of this particle multiplicity distribution within jet cone is large, therefore jet by jet identification might not be possible, however statistically fea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994-6196-4947-BC01-856425015879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1660680" y="14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736640" y="1419120"/>
            <a:ext cx="527364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* Jet suppression and Jet modification at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* Strong relation between v2 and 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* Jet reconstruction study with pythia at LHC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* Particle identification to Jet 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* Surface-bias (particle-particle, jet-particle and jet-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orrelation with respect to reaction plane, central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EA0-0AF7-4EC2-93BB-3E79957821EC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22D-4872-4097-B958-AAC1B6AF028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1890720" y="1351080"/>
            <a:ext cx="3238560" cy="3959280"/>
            <a:chOff x="1890720" y="1351080"/>
            <a:chExt cx="3238560" cy="3959280"/>
          </a:xfrm>
        </p:grpSpPr>
        <p:grpSp>
          <p:nvGrpSpPr>
            <p:cNvPr id="552" name=""/>
            <p:cNvGrpSpPr/>
            <p:nvPr/>
          </p:nvGrpSpPr>
          <p:grpSpPr>
            <a:xfrm>
              <a:off x="2898000" y="2430720"/>
              <a:ext cx="1258200" cy="1977840"/>
              <a:chOff x="2898000" y="2430720"/>
              <a:chExt cx="1258200" cy="1977840"/>
            </a:xfrm>
          </p:grpSpPr>
          <p:sp>
            <p:nvSpPr>
              <p:cNvPr id="553" name=""/>
              <p:cNvSpPr/>
              <p:nvPr/>
            </p:nvSpPr>
            <p:spPr>
              <a:xfrm>
                <a:off x="2898000" y="2430720"/>
                <a:ext cx="1258200" cy="1977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1890720" y="3402000"/>
              <a:ext cx="323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45640" y="1351080"/>
              <a:ext cx="108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322360" y="2284200"/>
              <a:ext cx="2338560" cy="234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428200" y="2284200"/>
              <a:ext cx="2341800" cy="234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809880" y="3657600"/>
            <a:ext cx="685800" cy="685800"/>
          </a:xfrm>
          <a:prstGeom prst="line">
            <a:avLst/>
          </a:prstGeom>
          <a:ln w="6372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657600" y="427824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30720" y="342900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ff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22800" y="281952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754440" y="190512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386080" y="281304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ff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386080" y="346248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4290840"/>
            <a:ext cx="56988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859120" y="191124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495680" y="4038480"/>
            <a:ext cx="1600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8000"/>
                </a:solidFill>
                <a:latin typeface="Times New Roman"/>
              </a:rPr>
              <a:t>Trigger part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00600" y="2970360"/>
            <a:ext cx="1066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(R.P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546360" y="1027080"/>
            <a:ext cx="346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936880" y="3044160"/>
            <a:ext cx="860760" cy="999360"/>
            <a:chOff x="2936880" y="3044160"/>
            <a:chExt cx="860760" cy="999360"/>
          </a:xfrm>
        </p:grpSpPr>
        <p:sp>
          <p:nvSpPr>
            <p:cNvPr id="571" name=""/>
            <p:cNvSpPr/>
            <p:nvPr/>
          </p:nvSpPr>
          <p:spPr>
            <a:xfrm rot="20233800">
              <a:off x="3076560" y="3123720"/>
              <a:ext cx="581040" cy="839880"/>
            </a:xfrm>
            <a:custGeom>
              <a:avLst/>
              <a:gdLst/>
              <a:ahLst/>
              <a:rect l="l" t="t" r="r" b="b"/>
              <a:pathLst>
                <a:path w="1619" h="2338">
                  <a:moveTo>
                    <a:pt x="648" y="506"/>
                  </a:moveTo>
                  <a:lnTo>
                    <a:pt x="614" y="527"/>
                  </a:lnTo>
                  <a:lnTo>
                    <a:pt x="583" y="550"/>
                  </a:lnTo>
                  <a:lnTo>
                    <a:pt x="553" y="575"/>
                  </a:lnTo>
                  <a:lnTo>
                    <a:pt x="524" y="602"/>
                  </a:lnTo>
                  <a:lnTo>
                    <a:pt x="497" y="630"/>
                  </a:lnTo>
                  <a:lnTo>
                    <a:pt x="471" y="659"/>
                  </a:lnTo>
                  <a:lnTo>
                    <a:pt x="447" y="690"/>
                  </a:lnTo>
                  <a:lnTo>
                    <a:pt x="425" y="723"/>
                  </a:lnTo>
                  <a:lnTo>
                    <a:pt x="403" y="756"/>
                  </a:lnTo>
                  <a:lnTo>
                    <a:pt x="384" y="791"/>
                  </a:lnTo>
                  <a:lnTo>
                    <a:pt x="366" y="826"/>
                  </a:lnTo>
                  <a:lnTo>
                    <a:pt x="351" y="863"/>
                  </a:lnTo>
                  <a:lnTo>
                    <a:pt x="337" y="901"/>
                  </a:lnTo>
                  <a:lnTo>
                    <a:pt x="325" y="939"/>
                  </a:lnTo>
                  <a:lnTo>
                    <a:pt x="315" y="978"/>
                  </a:lnTo>
                  <a:lnTo>
                    <a:pt x="307" y="1017"/>
                  </a:lnTo>
                  <a:lnTo>
                    <a:pt x="301" y="1057"/>
                  </a:lnTo>
                  <a:lnTo>
                    <a:pt x="297" y="1098"/>
                  </a:lnTo>
                  <a:lnTo>
                    <a:pt x="295" y="1139"/>
                  </a:lnTo>
                  <a:lnTo>
                    <a:pt x="294" y="1180"/>
                  </a:lnTo>
                  <a:lnTo>
                    <a:pt x="297" y="1221"/>
                  </a:lnTo>
                  <a:lnTo>
                    <a:pt x="300" y="1262"/>
                  </a:lnTo>
                  <a:lnTo>
                    <a:pt x="306" y="1303"/>
                  </a:lnTo>
                  <a:lnTo>
                    <a:pt x="315" y="1344"/>
                  </a:lnTo>
                  <a:lnTo>
                    <a:pt x="324" y="1384"/>
                  </a:lnTo>
                  <a:lnTo>
                    <a:pt x="337" y="1423"/>
                  </a:lnTo>
                  <a:lnTo>
                    <a:pt x="349" y="1464"/>
                  </a:lnTo>
                  <a:lnTo>
                    <a:pt x="366" y="1502"/>
                  </a:lnTo>
                  <a:lnTo>
                    <a:pt x="384" y="1541"/>
                  </a:lnTo>
                  <a:lnTo>
                    <a:pt x="402" y="1578"/>
                  </a:lnTo>
                  <a:lnTo>
                    <a:pt x="422" y="1614"/>
                  </a:lnTo>
                  <a:lnTo>
                    <a:pt x="444" y="1649"/>
                  </a:lnTo>
                  <a:lnTo>
                    <a:pt x="468" y="1684"/>
                  </a:lnTo>
                  <a:lnTo>
                    <a:pt x="494" y="1717"/>
                  </a:lnTo>
                  <a:lnTo>
                    <a:pt x="523" y="1749"/>
                  </a:lnTo>
                  <a:lnTo>
                    <a:pt x="549" y="1779"/>
                  </a:lnTo>
                  <a:lnTo>
                    <a:pt x="579" y="1808"/>
                  </a:lnTo>
                  <a:lnTo>
                    <a:pt x="611" y="1834"/>
                  </a:lnTo>
                  <a:lnTo>
                    <a:pt x="643" y="1861"/>
                  </a:lnTo>
                  <a:lnTo>
                    <a:pt x="676" y="1886"/>
                  </a:lnTo>
                  <a:lnTo>
                    <a:pt x="711" y="1909"/>
                  </a:lnTo>
                  <a:lnTo>
                    <a:pt x="748" y="1929"/>
                  </a:lnTo>
                  <a:lnTo>
                    <a:pt x="782" y="1949"/>
                  </a:lnTo>
                  <a:lnTo>
                    <a:pt x="821" y="1966"/>
                  </a:lnTo>
                  <a:lnTo>
                    <a:pt x="857" y="1981"/>
                  </a:lnTo>
                  <a:lnTo>
                    <a:pt x="896" y="1995"/>
                  </a:lnTo>
                  <a:lnTo>
                    <a:pt x="935" y="2006"/>
                  </a:lnTo>
                  <a:lnTo>
                    <a:pt x="974" y="2015"/>
                  </a:lnTo>
                  <a:lnTo>
                    <a:pt x="1013" y="2024"/>
                  </a:lnTo>
                  <a:lnTo>
                    <a:pt x="1054" y="2028"/>
                  </a:lnTo>
                  <a:lnTo>
                    <a:pt x="1093" y="2031"/>
                  </a:lnTo>
                  <a:lnTo>
                    <a:pt x="1134" y="2033"/>
                  </a:lnTo>
                  <a:lnTo>
                    <a:pt x="1172" y="2032"/>
                  </a:lnTo>
                  <a:lnTo>
                    <a:pt x="1211" y="2029"/>
                  </a:lnTo>
                  <a:lnTo>
                    <a:pt x="1251" y="2025"/>
                  </a:lnTo>
                  <a:lnTo>
                    <a:pt x="1290" y="2017"/>
                  </a:lnTo>
                  <a:lnTo>
                    <a:pt x="1327" y="2008"/>
                  </a:lnTo>
                  <a:lnTo>
                    <a:pt x="1365" y="1997"/>
                  </a:lnTo>
                  <a:lnTo>
                    <a:pt x="1402" y="1985"/>
                  </a:lnTo>
                  <a:lnTo>
                    <a:pt x="1439" y="1970"/>
                  </a:lnTo>
                  <a:lnTo>
                    <a:pt x="1473" y="1953"/>
                  </a:lnTo>
                  <a:lnTo>
                    <a:pt x="1618" y="2225"/>
                  </a:lnTo>
                  <a:lnTo>
                    <a:pt x="1568" y="2249"/>
                  </a:lnTo>
                  <a:lnTo>
                    <a:pt x="1519" y="2270"/>
                  </a:lnTo>
                  <a:lnTo>
                    <a:pt x="1469" y="2288"/>
                  </a:lnTo>
                  <a:lnTo>
                    <a:pt x="1417" y="2303"/>
                  </a:lnTo>
                  <a:lnTo>
                    <a:pt x="1365" y="2315"/>
                  </a:lnTo>
                  <a:lnTo>
                    <a:pt x="1312" y="2324"/>
                  </a:lnTo>
                  <a:lnTo>
                    <a:pt x="1260" y="2332"/>
                  </a:lnTo>
                  <a:lnTo>
                    <a:pt x="1204" y="2335"/>
                  </a:lnTo>
                  <a:lnTo>
                    <a:pt x="1150" y="2337"/>
                  </a:lnTo>
                  <a:lnTo>
                    <a:pt x="1096" y="2334"/>
                  </a:lnTo>
                  <a:lnTo>
                    <a:pt x="1042" y="2329"/>
                  </a:lnTo>
                  <a:lnTo>
                    <a:pt x="986" y="2323"/>
                  </a:lnTo>
                  <a:lnTo>
                    <a:pt x="932" y="2312"/>
                  </a:lnTo>
                  <a:lnTo>
                    <a:pt x="878" y="2299"/>
                  </a:lnTo>
                  <a:lnTo>
                    <a:pt x="825" y="2283"/>
                  </a:lnTo>
                  <a:lnTo>
                    <a:pt x="773" y="2265"/>
                  </a:lnTo>
                  <a:lnTo>
                    <a:pt x="720" y="2244"/>
                  </a:lnTo>
                  <a:lnTo>
                    <a:pt x="669" y="2220"/>
                  </a:lnTo>
                  <a:lnTo>
                    <a:pt x="619" y="2194"/>
                  </a:lnTo>
                  <a:lnTo>
                    <a:pt x="571" y="2165"/>
                  </a:lnTo>
                  <a:lnTo>
                    <a:pt x="524" y="2134"/>
                  </a:lnTo>
                  <a:lnTo>
                    <a:pt x="478" y="2101"/>
                  </a:lnTo>
                  <a:lnTo>
                    <a:pt x="435" y="2065"/>
                  </a:lnTo>
                  <a:lnTo>
                    <a:pt x="391" y="2028"/>
                  </a:lnTo>
                  <a:lnTo>
                    <a:pt x="350" y="1988"/>
                  </a:lnTo>
                  <a:lnTo>
                    <a:pt x="310" y="1946"/>
                  </a:lnTo>
                  <a:lnTo>
                    <a:pt x="274" y="1902"/>
                  </a:lnTo>
                  <a:lnTo>
                    <a:pt x="239" y="1857"/>
                  </a:lnTo>
                  <a:lnTo>
                    <a:pt x="205" y="1811"/>
                  </a:lnTo>
                  <a:lnTo>
                    <a:pt x="174" y="1762"/>
                  </a:lnTo>
                  <a:lnTo>
                    <a:pt x="146" y="1712"/>
                  </a:lnTo>
                  <a:lnTo>
                    <a:pt x="120" y="1662"/>
                  </a:lnTo>
                  <a:lnTo>
                    <a:pt x="96" y="1609"/>
                  </a:lnTo>
                  <a:lnTo>
                    <a:pt x="75" y="1556"/>
                  </a:lnTo>
                  <a:lnTo>
                    <a:pt x="57" y="1501"/>
                  </a:lnTo>
                  <a:lnTo>
                    <a:pt x="40" y="1447"/>
                  </a:lnTo>
                  <a:lnTo>
                    <a:pt x="27" y="1391"/>
                  </a:lnTo>
                  <a:lnTo>
                    <a:pt x="17" y="1336"/>
                  </a:lnTo>
                  <a:lnTo>
                    <a:pt x="8" y="1280"/>
                  </a:lnTo>
                  <a:lnTo>
                    <a:pt x="3" y="1223"/>
                  </a:lnTo>
                  <a:lnTo>
                    <a:pt x="0" y="1167"/>
                  </a:lnTo>
                  <a:lnTo>
                    <a:pt x="0" y="1111"/>
                  </a:lnTo>
                  <a:lnTo>
                    <a:pt x="4" y="1054"/>
                  </a:lnTo>
                  <a:lnTo>
                    <a:pt x="9" y="999"/>
                  </a:lnTo>
                  <a:lnTo>
                    <a:pt x="17" y="944"/>
                  </a:lnTo>
                  <a:lnTo>
                    <a:pt x="29" y="891"/>
                  </a:lnTo>
                  <a:lnTo>
                    <a:pt x="42" y="836"/>
                  </a:lnTo>
                  <a:lnTo>
                    <a:pt x="58" y="784"/>
                  </a:lnTo>
                  <a:lnTo>
                    <a:pt x="77" y="733"/>
                  </a:lnTo>
                  <a:lnTo>
                    <a:pt x="98" y="682"/>
                  </a:lnTo>
                  <a:lnTo>
                    <a:pt x="123" y="632"/>
                  </a:lnTo>
                  <a:lnTo>
                    <a:pt x="149" y="586"/>
                  </a:lnTo>
                  <a:lnTo>
                    <a:pt x="179" y="539"/>
                  </a:lnTo>
                  <a:lnTo>
                    <a:pt x="208" y="495"/>
                  </a:lnTo>
                  <a:lnTo>
                    <a:pt x="243" y="453"/>
                  </a:lnTo>
                  <a:lnTo>
                    <a:pt x="277" y="412"/>
                  </a:lnTo>
                  <a:lnTo>
                    <a:pt x="314" y="374"/>
                  </a:lnTo>
                  <a:lnTo>
                    <a:pt x="353" y="337"/>
                  </a:lnTo>
                  <a:lnTo>
                    <a:pt x="395" y="304"/>
                  </a:lnTo>
                  <a:lnTo>
                    <a:pt x="438" y="271"/>
                  </a:lnTo>
                  <a:lnTo>
                    <a:pt x="482" y="242"/>
                  </a:lnTo>
                  <a:lnTo>
                    <a:pt x="332" y="0"/>
                  </a:lnTo>
                  <a:lnTo>
                    <a:pt x="913" y="156"/>
                  </a:lnTo>
                  <a:lnTo>
                    <a:pt x="798" y="748"/>
                  </a:lnTo>
                  <a:lnTo>
                    <a:pt x="648" y="506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743200" y="3962520"/>
            <a:ext cx="534960" cy="355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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3279600" y="2701080"/>
            <a:ext cx="893520" cy="1044360"/>
            <a:chOff x="3279600" y="2701080"/>
            <a:chExt cx="893520" cy="1044360"/>
          </a:xfrm>
        </p:grpSpPr>
        <p:sp>
          <p:nvSpPr>
            <p:cNvPr id="574" name=""/>
            <p:cNvSpPr/>
            <p:nvPr/>
          </p:nvSpPr>
          <p:spPr>
            <a:xfrm rot="20366400">
              <a:off x="3414240" y="2782440"/>
              <a:ext cx="623880" cy="881280"/>
            </a:xfrm>
            <a:custGeom>
              <a:avLst/>
              <a:gdLst/>
              <a:ahLst/>
              <a:rect l="l" t="t" r="r" b="b"/>
              <a:pathLst>
                <a:path w="1739" h="2451">
                  <a:moveTo>
                    <a:pt x="438" y="571"/>
                  </a:moveTo>
                  <a:lnTo>
                    <a:pt x="477" y="562"/>
                  </a:lnTo>
                  <a:lnTo>
                    <a:pt x="518" y="555"/>
                  </a:lnTo>
                  <a:lnTo>
                    <a:pt x="553" y="549"/>
                  </a:lnTo>
                  <a:lnTo>
                    <a:pt x="591" y="545"/>
                  </a:lnTo>
                  <a:lnTo>
                    <a:pt x="633" y="548"/>
                  </a:lnTo>
                  <a:lnTo>
                    <a:pt x="670" y="545"/>
                  </a:lnTo>
                  <a:lnTo>
                    <a:pt x="710" y="548"/>
                  </a:lnTo>
                  <a:lnTo>
                    <a:pt x="750" y="553"/>
                  </a:lnTo>
                  <a:lnTo>
                    <a:pt x="786" y="560"/>
                  </a:lnTo>
                  <a:lnTo>
                    <a:pt x="826" y="572"/>
                  </a:lnTo>
                  <a:lnTo>
                    <a:pt x="867" y="583"/>
                  </a:lnTo>
                  <a:lnTo>
                    <a:pt x="905" y="595"/>
                  </a:lnTo>
                  <a:lnTo>
                    <a:pt x="939" y="609"/>
                  </a:lnTo>
                  <a:lnTo>
                    <a:pt x="977" y="627"/>
                  </a:lnTo>
                  <a:lnTo>
                    <a:pt x="1011" y="644"/>
                  </a:lnTo>
                  <a:lnTo>
                    <a:pt x="1046" y="665"/>
                  </a:lnTo>
                  <a:lnTo>
                    <a:pt x="1079" y="691"/>
                  </a:lnTo>
                  <a:lnTo>
                    <a:pt x="1112" y="713"/>
                  </a:lnTo>
                  <a:lnTo>
                    <a:pt x="1146" y="738"/>
                  </a:lnTo>
                  <a:lnTo>
                    <a:pt x="1175" y="765"/>
                  </a:lnTo>
                  <a:lnTo>
                    <a:pt x="1206" y="796"/>
                  </a:lnTo>
                  <a:lnTo>
                    <a:pt x="1234" y="825"/>
                  </a:lnTo>
                  <a:lnTo>
                    <a:pt x="1259" y="858"/>
                  </a:lnTo>
                  <a:lnTo>
                    <a:pt x="1285" y="890"/>
                  </a:lnTo>
                  <a:lnTo>
                    <a:pt x="1305" y="925"/>
                  </a:lnTo>
                  <a:lnTo>
                    <a:pt x="1326" y="961"/>
                  </a:lnTo>
                  <a:lnTo>
                    <a:pt x="1347" y="998"/>
                  </a:lnTo>
                  <a:lnTo>
                    <a:pt x="1366" y="1037"/>
                  </a:lnTo>
                  <a:lnTo>
                    <a:pt x="1382" y="1073"/>
                  </a:lnTo>
                  <a:lnTo>
                    <a:pt x="1398" y="1113"/>
                  </a:lnTo>
                  <a:lnTo>
                    <a:pt x="1411" y="1153"/>
                  </a:lnTo>
                  <a:lnTo>
                    <a:pt x="1421" y="1192"/>
                  </a:lnTo>
                  <a:lnTo>
                    <a:pt x="1430" y="1234"/>
                  </a:lnTo>
                  <a:lnTo>
                    <a:pt x="1436" y="1274"/>
                  </a:lnTo>
                  <a:lnTo>
                    <a:pt x="1445" y="1317"/>
                  </a:lnTo>
                  <a:lnTo>
                    <a:pt x="1445" y="1357"/>
                  </a:lnTo>
                  <a:lnTo>
                    <a:pt x="1447" y="1400"/>
                  </a:lnTo>
                  <a:lnTo>
                    <a:pt x="1448" y="1441"/>
                  </a:lnTo>
                  <a:lnTo>
                    <a:pt x="1443" y="1485"/>
                  </a:lnTo>
                  <a:lnTo>
                    <a:pt x="1440" y="1523"/>
                  </a:lnTo>
                  <a:lnTo>
                    <a:pt x="1435" y="1564"/>
                  </a:lnTo>
                  <a:lnTo>
                    <a:pt x="1423" y="1604"/>
                  </a:lnTo>
                  <a:lnTo>
                    <a:pt x="1412" y="1644"/>
                  </a:lnTo>
                  <a:lnTo>
                    <a:pt x="1404" y="1686"/>
                  </a:lnTo>
                  <a:lnTo>
                    <a:pt x="1388" y="1721"/>
                  </a:lnTo>
                  <a:lnTo>
                    <a:pt x="1372" y="1759"/>
                  </a:lnTo>
                  <a:lnTo>
                    <a:pt x="1353" y="1795"/>
                  </a:lnTo>
                  <a:lnTo>
                    <a:pt x="1333" y="1830"/>
                  </a:lnTo>
                  <a:lnTo>
                    <a:pt x="1315" y="1867"/>
                  </a:lnTo>
                  <a:lnTo>
                    <a:pt x="1290" y="1898"/>
                  </a:lnTo>
                  <a:lnTo>
                    <a:pt x="1267" y="1931"/>
                  </a:lnTo>
                  <a:lnTo>
                    <a:pt x="1240" y="1960"/>
                  </a:lnTo>
                  <a:lnTo>
                    <a:pt x="1212" y="1987"/>
                  </a:lnTo>
                  <a:lnTo>
                    <a:pt x="1186" y="2018"/>
                  </a:lnTo>
                  <a:lnTo>
                    <a:pt x="1156" y="2041"/>
                  </a:lnTo>
                  <a:lnTo>
                    <a:pt x="1123" y="2065"/>
                  </a:lnTo>
                  <a:lnTo>
                    <a:pt x="1092" y="2090"/>
                  </a:lnTo>
                  <a:lnTo>
                    <a:pt x="1057" y="2107"/>
                  </a:lnTo>
                  <a:lnTo>
                    <a:pt x="1023" y="2127"/>
                  </a:lnTo>
                  <a:lnTo>
                    <a:pt x="989" y="2145"/>
                  </a:lnTo>
                  <a:lnTo>
                    <a:pt x="951" y="2161"/>
                  </a:lnTo>
                  <a:lnTo>
                    <a:pt x="1058" y="2450"/>
                  </a:lnTo>
                  <a:lnTo>
                    <a:pt x="1106" y="2427"/>
                  </a:lnTo>
                  <a:lnTo>
                    <a:pt x="1155" y="2408"/>
                  </a:lnTo>
                  <a:lnTo>
                    <a:pt x="1202" y="2380"/>
                  </a:lnTo>
                  <a:lnTo>
                    <a:pt x="1248" y="2352"/>
                  </a:lnTo>
                  <a:lnTo>
                    <a:pt x="1292" y="2321"/>
                  </a:lnTo>
                  <a:lnTo>
                    <a:pt x="1338" y="2287"/>
                  </a:lnTo>
                  <a:lnTo>
                    <a:pt x="1378" y="2253"/>
                  </a:lnTo>
                  <a:lnTo>
                    <a:pt x="1419" y="2217"/>
                  </a:lnTo>
                  <a:lnTo>
                    <a:pt x="1452" y="2176"/>
                  </a:lnTo>
                  <a:lnTo>
                    <a:pt x="1489" y="2138"/>
                  </a:lnTo>
                  <a:lnTo>
                    <a:pt x="1522" y="2093"/>
                  </a:lnTo>
                  <a:lnTo>
                    <a:pt x="1556" y="2047"/>
                  </a:lnTo>
                  <a:lnTo>
                    <a:pt x="1585" y="2000"/>
                  </a:lnTo>
                  <a:lnTo>
                    <a:pt x="1608" y="1950"/>
                  </a:lnTo>
                  <a:lnTo>
                    <a:pt x="1632" y="1901"/>
                  </a:lnTo>
                  <a:lnTo>
                    <a:pt x="1654" y="1849"/>
                  </a:lnTo>
                  <a:lnTo>
                    <a:pt x="1674" y="1800"/>
                  </a:lnTo>
                  <a:lnTo>
                    <a:pt x="1692" y="1746"/>
                  </a:lnTo>
                  <a:lnTo>
                    <a:pt x="1706" y="1691"/>
                  </a:lnTo>
                  <a:lnTo>
                    <a:pt x="1716" y="1634"/>
                  </a:lnTo>
                  <a:lnTo>
                    <a:pt x="1726" y="1578"/>
                  </a:lnTo>
                  <a:lnTo>
                    <a:pt x="1731" y="1521"/>
                  </a:lnTo>
                  <a:lnTo>
                    <a:pt x="1738" y="1465"/>
                  </a:lnTo>
                  <a:lnTo>
                    <a:pt x="1735" y="1407"/>
                  </a:lnTo>
                  <a:lnTo>
                    <a:pt x="1734" y="1350"/>
                  </a:lnTo>
                  <a:lnTo>
                    <a:pt x="1731" y="1295"/>
                  </a:lnTo>
                  <a:lnTo>
                    <a:pt x="1725" y="1236"/>
                  </a:lnTo>
                  <a:lnTo>
                    <a:pt x="1712" y="1180"/>
                  </a:lnTo>
                  <a:lnTo>
                    <a:pt x="1702" y="1125"/>
                  </a:lnTo>
                  <a:lnTo>
                    <a:pt x="1686" y="1072"/>
                  </a:lnTo>
                  <a:lnTo>
                    <a:pt x="1667" y="1014"/>
                  </a:lnTo>
                  <a:lnTo>
                    <a:pt x="1650" y="960"/>
                  </a:lnTo>
                  <a:lnTo>
                    <a:pt x="1624" y="907"/>
                  </a:lnTo>
                  <a:lnTo>
                    <a:pt x="1602" y="857"/>
                  </a:lnTo>
                  <a:lnTo>
                    <a:pt x="1575" y="805"/>
                  </a:lnTo>
                  <a:lnTo>
                    <a:pt x="1542" y="757"/>
                  </a:lnTo>
                  <a:lnTo>
                    <a:pt x="1510" y="710"/>
                  </a:lnTo>
                  <a:lnTo>
                    <a:pt x="1475" y="663"/>
                  </a:lnTo>
                  <a:lnTo>
                    <a:pt x="1443" y="621"/>
                  </a:lnTo>
                  <a:lnTo>
                    <a:pt x="1402" y="578"/>
                  </a:lnTo>
                  <a:lnTo>
                    <a:pt x="1365" y="538"/>
                  </a:lnTo>
                  <a:lnTo>
                    <a:pt x="1323" y="501"/>
                  </a:lnTo>
                  <a:lnTo>
                    <a:pt x="1277" y="466"/>
                  </a:lnTo>
                  <a:lnTo>
                    <a:pt x="1235" y="431"/>
                  </a:lnTo>
                  <a:lnTo>
                    <a:pt x="1187" y="401"/>
                  </a:lnTo>
                  <a:lnTo>
                    <a:pt x="1139" y="373"/>
                  </a:lnTo>
                  <a:lnTo>
                    <a:pt x="1090" y="347"/>
                  </a:lnTo>
                  <a:lnTo>
                    <a:pt x="1042" y="326"/>
                  </a:lnTo>
                  <a:lnTo>
                    <a:pt x="989" y="303"/>
                  </a:lnTo>
                  <a:lnTo>
                    <a:pt x="937" y="286"/>
                  </a:lnTo>
                  <a:lnTo>
                    <a:pt x="888" y="269"/>
                  </a:lnTo>
                  <a:lnTo>
                    <a:pt x="832" y="258"/>
                  </a:lnTo>
                  <a:lnTo>
                    <a:pt x="779" y="247"/>
                  </a:lnTo>
                  <a:lnTo>
                    <a:pt x="727" y="242"/>
                  </a:lnTo>
                  <a:lnTo>
                    <a:pt x="671" y="237"/>
                  </a:lnTo>
                  <a:lnTo>
                    <a:pt x="621" y="237"/>
                  </a:lnTo>
                  <a:lnTo>
                    <a:pt x="564" y="238"/>
                  </a:lnTo>
                  <a:lnTo>
                    <a:pt x="511" y="242"/>
                  </a:lnTo>
                  <a:lnTo>
                    <a:pt x="458" y="250"/>
                  </a:lnTo>
                  <a:lnTo>
                    <a:pt x="408" y="259"/>
                  </a:lnTo>
                  <a:lnTo>
                    <a:pt x="354" y="273"/>
                  </a:lnTo>
                  <a:lnTo>
                    <a:pt x="278" y="0"/>
                  </a:lnTo>
                  <a:lnTo>
                    <a:pt x="0" y="535"/>
                  </a:lnTo>
                  <a:lnTo>
                    <a:pt x="515" y="846"/>
                  </a:lnTo>
                  <a:lnTo>
                    <a:pt x="438" y="571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3809880" y="2514600"/>
            <a:ext cx="552600" cy="3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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504440" y="5181480"/>
            <a:ext cx="1650240" cy="4647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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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609480"/>
            <a:ext cx="22860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467480" y="1143000"/>
            <a:ext cx="911520" cy="993600"/>
          </a:xfrm>
          <a:custGeom>
            <a:avLst/>
            <a:gdLst/>
            <a:ahLst/>
            <a:rect l="l" t="t" r="r" b="b"/>
            <a:pathLst>
              <a:path w="574" h="626">
                <a:moveTo>
                  <a:pt x="0" y="0"/>
                </a:moveTo>
                <a:cubicBezTo>
                  <a:pt x="14" y="34"/>
                  <a:pt x="59" y="143"/>
                  <a:pt x="82" y="207"/>
                </a:cubicBezTo>
                <a:cubicBezTo>
                  <a:pt x="105" y="271"/>
                  <a:pt x="114" y="329"/>
                  <a:pt x="138" y="384"/>
                </a:cubicBezTo>
                <a:cubicBezTo>
                  <a:pt x="162" y="439"/>
                  <a:pt x="180" y="521"/>
                  <a:pt x="226" y="537"/>
                </a:cubicBezTo>
                <a:cubicBezTo>
                  <a:pt x="272" y="553"/>
                  <a:pt x="354" y="467"/>
                  <a:pt x="412" y="482"/>
                </a:cubicBezTo>
                <a:cubicBezTo>
                  <a:pt x="470" y="497"/>
                  <a:pt x="540" y="596"/>
                  <a:pt x="574" y="626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40400" y="1143000"/>
            <a:ext cx="951120" cy="1089000"/>
          </a:xfrm>
          <a:custGeom>
            <a:avLst/>
            <a:gdLst/>
            <a:ahLst/>
            <a:rect l="l" t="t" r="r" b="b"/>
            <a:pathLst>
              <a:path w="599" h="686">
                <a:moveTo>
                  <a:pt x="599" y="0"/>
                </a:moveTo>
                <a:cubicBezTo>
                  <a:pt x="563" y="88"/>
                  <a:pt x="527" y="176"/>
                  <a:pt x="503" y="240"/>
                </a:cubicBezTo>
                <a:cubicBezTo>
                  <a:pt x="479" y="304"/>
                  <a:pt x="480" y="327"/>
                  <a:pt x="455" y="384"/>
                </a:cubicBezTo>
                <a:cubicBezTo>
                  <a:pt x="430" y="441"/>
                  <a:pt x="399" y="563"/>
                  <a:pt x="353" y="584"/>
                </a:cubicBezTo>
                <a:cubicBezTo>
                  <a:pt x="307" y="605"/>
                  <a:pt x="235" y="492"/>
                  <a:pt x="176" y="509"/>
                </a:cubicBezTo>
                <a:cubicBezTo>
                  <a:pt x="117" y="526"/>
                  <a:pt x="37" y="649"/>
                  <a:pt x="0" y="686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292800" y="1523880"/>
            <a:ext cx="1031760" cy="728640"/>
          </a:xfrm>
          <a:custGeom>
            <a:avLst/>
            <a:gdLst/>
            <a:ahLst/>
            <a:rect l="l" t="t" r="r" b="b"/>
            <a:pathLst>
              <a:path w="650" h="459">
                <a:moveTo>
                  <a:pt x="650" y="0"/>
                </a:moveTo>
                <a:cubicBezTo>
                  <a:pt x="633" y="66"/>
                  <a:pt x="591" y="339"/>
                  <a:pt x="557" y="399"/>
                </a:cubicBezTo>
                <a:cubicBezTo>
                  <a:pt x="523" y="459"/>
                  <a:pt x="489" y="404"/>
                  <a:pt x="446" y="362"/>
                </a:cubicBezTo>
                <a:cubicBezTo>
                  <a:pt x="403" y="320"/>
                  <a:pt x="345" y="198"/>
                  <a:pt x="297" y="149"/>
                </a:cubicBezTo>
                <a:cubicBezTo>
                  <a:pt x="249" y="100"/>
                  <a:pt x="197" y="62"/>
                  <a:pt x="158" y="65"/>
                </a:cubicBezTo>
                <a:cubicBezTo>
                  <a:pt x="119" y="68"/>
                  <a:pt x="91" y="124"/>
                  <a:pt x="65" y="167"/>
                </a:cubicBezTo>
                <a:cubicBezTo>
                  <a:pt x="39" y="210"/>
                  <a:pt x="14" y="292"/>
                  <a:pt x="0" y="325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531200" y="1538280"/>
            <a:ext cx="955440" cy="733320"/>
          </a:xfrm>
          <a:custGeom>
            <a:avLst/>
            <a:gdLst/>
            <a:ahLst/>
            <a:rect l="l" t="t" r="r" b="b"/>
            <a:pathLst>
              <a:path w="602" h="462">
                <a:moveTo>
                  <a:pt x="602" y="283"/>
                </a:moveTo>
                <a:cubicBezTo>
                  <a:pt x="588" y="258"/>
                  <a:pt x="547" y="173"/>
                  <a:pt x="516" y="130"/>
                </a:cubicBezTo>
                <a:cubicBezTo>
                  <a:pt x="485" y="87"/>
                  <a:pt x="456" y="26"/>
                  <a:pt x="418" y="28"/>
                </a:cubicBezTo>
                <a:cubicBezTo>
                  <a:pt x="380" y="30"/>
                  <a:pt x="320" y="92"/>
                  <a:pt x="288" y="140"/>
                </a:cubicBezTo>
                <a:cubicBezTo>
                  <a:pt x="256" y="188"/>
                  <a:pt x="252" y="271"/>
                  <a:pt x="223" y="316"/>
                </a:cubicBezTo>
                <a:cubicBezTo>
                  <a:pt x="194" y="361"/>
                  <a:pt x="149" y="462"/>
                  <a:pt x="112" y="409"/>
                </a:cubicBezTo>
                <a:cubicBezTo>
                  <a:pt x="75" y="356"/>
                  <a:pt x="23" y="85"/>
                  <a:pt x="0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177520" y="236232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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324480" y="1073160"/>
            <a:ext cx="2129040" cy="1136520"/>
          </a:xfrm>
          <a:custGeom>
            <a:avLst/>
            <a:gdLst/>
            <a:ahLst/>
            <a:rect l="l" t="t" r="r" b="b"/>
            <a:pathLst>
              <a:path w="1341" h="716">
                <a:moveTo>
                  <a:pt x="0" y="716"/>
                </a:moveTo>
                <a:cubicBezTo>
                  <a:pt x="11" y="691"/>
                  <a:pt x="35" y="610"/>
                  <a:pt x="68" y="567"/>
                </a:cubicBezTo>
                <a:cubicBezTo>
                  <a:pt x="101" y="524"/>
                  <a:pt x="156" y="465"/>
                  <a:pt x="198" y="456"/>
                </a:cubicBezTo>
                <a:cubicBezTo>
                  <a:pt x="240" y="447"/>
                  <a:pt x="270" y="478"/>
                  <a:pt x="319" y="512"/>
                </a:cubicBezTo>
                <a:cubicBezTo>
                  <a:pt x="368" y="546"/>
                  <a:pt x="448" y="690"/>
                  <a:pt x="495" y="660"/>
                </a:cubicBezTo>
                <a:cubicBezTo>
                  <a:pt x="542" y="630"/>
                  <a:pt x="565" y="445"/>
                  <a:pt x="598" y="335"/>
                </a:cubicBezTo>
                <a:cubicBezTo>
                  <a:pt x="631" y="225"/>
                  <a:pt x="660" y="2"/>
                  <a:pt x="691" y="1"/>
                </a:cubicBezTo>
                <a:cubicBezTo>
                  <a:pt x="722" y="0"/>
                  <a:pt x="749" y="216"/>
                  <a:pt x="783" y="326"/>
                </a:cubicBezTo>
                <a:cubicBezTo>
                  <a:pt x="817" y="436"/>
                  <a:pt x="855" y="626"/>
                  <a:pt x="895" y="660"/>
                </a:cubicBezTo>
                <a:cubicBezTo>
                  <a:pt x="935" y="694"/>
                  <a:pt x="985" y="569"/>
                  <a:pt x="1025" y="530"/>
                </a:cubicBezTo>
                <a:cubicBezTo>
                  <a:pt x="1065" y="491"/>
                  <a:pt x="1098" y="431"/>
                  <a:pt x="1137" y="428"/>
                </a:cubicBezTo>
                <a:cubicBezTo>
                  <a:pt x="1176" y="425"/>
                  <a:pt x="1223" y="476"/>
                  <a:pt x="1257" y="512"/>
                </a:cubicBezTo>
                <a:cubicBezTo>
                  <a:pt x="1291" y="548"/>
                  <a:pt x="1324" y="615"/>
                  <a:pt x="1341" y="64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2280" y="1522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rder to study the jet modification (mach-cone, ridge) and it’s relation with almond geometry in more detail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191120" y="57150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and without R.P. aligned event mix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538440" y="1905120"/>
            <a:ext cx="0" cy="914400"/>
          </a:xfrm>
          <a:prstGeom prst="line">
            <a:avLst/>
          </a:prstGeom>
          <a:ln w="5400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209680" y="3400560"/>
            <a:ext cx="1067040" cy="0"/>
          </a:xfrm>
          <a:prstGeom prst="line">
            <a:avLst/>
          </a:prstGeom>
          <a:ln w="5400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00400" y="1523880"/>
            <a:ext cx="1828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Times New Roman"/>
              </a:rPr>
              <a:t>Associate particl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09480" y="34290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Times New Roman"/>
              </a:rPr>
              <a:t>Associate particl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5F5-2370-4D55-8E66-438C61A12B0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914400" y="1693800"/>
            <a:ext cx="6240600" cy="463068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686160" y="243000"/>
            <a:ext cx="7313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imulation of flow subtraction for jet shape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ure flow + jet (~10% of total yield)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.P. is not biased by the embedded 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 different shapes (which do not depend on R.P. ori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287360" y="57150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411800" y="571500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411800" y="5638680"/>
            <a:ext cx="236196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411800" y="5486400"/>
            <a:ext cx="23619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287360" y="5562720"/>
            <a:ext cx="236232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287360" y="533412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861280" y="2808360"/>
            <a:ext cx="23875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hape#1, usual j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Shape#2, mach-c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Shape#3, asym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324480" y="1981080"/>
            <a:ext cx="2133720" cy="13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inder: we should expect the extracted jet shape should look like the jet shape above the pedestal (dashed lines, ZYAM bia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85800" y="642960"/>
            <a:ext cx="6248520" cy="8809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670120" y="1828800"/>
            <a:ext cx="2616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mbedded jets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608-FA0F-4671-ABE6-180F70C7B992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608200" cy="59626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3254400" y="460440"/>
            <a:ext cx="2635200" cy="593568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3"/>
          <a:stretch/>
        </p:blipFill>
        <p:spPr>
          <a:xfrm>
            <a:off x="5983200" y="457200"/>
            <a:ext cx="2627280" cy="595296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694800" y="1371600"/>
            <a:ext cx="213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hape#1, usual j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438360" y="1371600"/>
            <a:ext cx="2347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ape#2, mach-c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180840" y="1371600"/>
            <a:ext cx="2387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Shape#3, asym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34320" y="228600"/>
            <a:ext cx="190476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ent mixing method “CASE.B” used for all three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934320" y="2514600"/>
            <a:ext cx="761760" cy="762120"/>
          </a:xfrm>
          <a:prstGeom prst="ellipse">
            <a:avLst/>
          </a:prstGeom>
          <a:noFill/>
          <a:ln w="22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191120" y="2514600"/>
            <a:ext cx="761760" cy="762120"/>
          </a:xfrm>
          <a:prstGeom prst="ellipse">
            <a:avLst/>
          </a:prstGeom>
          <a:noFill/>
          <a:ln w="22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523880" y="2438280"/>
            <a:ext cx="762120" cy="762120"/>
          </a:xfrm>
          <a:prstGeom prst="ellipse">
            <a:avLst/>
          </a:prstGeom>
          <a:noFill/>
          <a:ln w="22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04920" y="190440"/>
            <a:ext cx="3047760" cy="87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flow+jet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: Points in the figures are given by MC with pure flow + jet sim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flow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: Lines in the figures are given by MC with pure flow sim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16200000">
            <a:off x="-1067400" y="3469680"/>
            <a:ext cx="281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(Real pair) / (Mixed pai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284-3D80-474B-99A6-880FB75C88D8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635200" cy="593568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267000" y="428760"/>
            <a:ext cx="2608200" cy="599904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5943600" y="428760"/>
            <a:ext cx="2627280" cy="597204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6934320" y="228600"/>
            <a:ext cx="19047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he sub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94800" y="1371600"/>
            <a:ext cx="213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hape#1, usual j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438360" y="1371600"/>
            <a:ext cx="2347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ape#2, mach-c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180840" y="1371600"/>
            <a:ext cx="2387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Shape#3, asym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191120" y="2514600"/>
            <a:ext cx="761760" cy="762120"/>
          </a:xfrm>
          <a:prstGeom prst="ellipse">
            <a:avLst/>
          </a:prstGeom>
          <a:noFill/>
          <a:ln w="22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934320" y="2514600"/>
            <a:ext cx="761760" cy="762120"/>
          </a:xfrm>
          <a:prstGeom prst="ellipse">
            <a:avLst/>
          </a:prstGeom>
          <a:noFill/>
          <a:ln w="22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523880" y="2514600"/>
            <a:ext cx="762120" cy="762120"/>
          </a:xfrm>
          <a:prstGeom prst="ellipse">
            <a:avLst/>
          </a:prstGeom>
          <a:noFill/>
          <a:ln w="22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rot="16200000">
            <a:off x="-878760" y="3628440"/>
            <a:ext cx="243360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 =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flow + je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f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600200" y="385920"/>
            <a:ext cx="4952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R.P. dependence of  jet shape recover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5D2-4A6F-4F26-ADA4-98591DA2264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433520" y="415800"/>
            <a:ext cx="6276960" cy="606132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1090440" y="152280"/>
            <a:ext cx="340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ingle p+p event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ha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gt; 40 G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917960" y="15228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6 min.bias p+p event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Pb+Pb mid-cen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286000" y="182880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410080" y="1752480"/>
            <a:ext cx="304920" cy="304920"/>
          </a:xfrm>
          <a:prstGeom prst="donut">
            <a:avLst>
              <a:gd name="adj" fmla="val 25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581280" y="1701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680160" y="1663560"/>
            <a:ext cx="304920" cy="304920"/>
          </a:xfrm>
          <a:prstGeom prst="donut">
            <a:avLst>
              <a:gd name="adj" fmla="val 25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16200000">
            <a:off x="995400" y="1649880"/>
            <a:ext cx="95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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66880" y="3200400"/>
            <a:ext cx="924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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EC3-4DCE-4225-9DFE-ECD9424A9349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6781680" cy="250164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1828800" y="3516480"/>
            <a:ext cx="6781680" cy="250344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147240" y="152280"/>
            <a:ext cx="2341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ia8.107 p+p 5.5T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a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20G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91240" y="129528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+p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065320" y="9144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CD hard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883320" y="9144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qq -&gt; q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639040" y="9144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qg -&gt; q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315560" y="9144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g -&gt; g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6200000">
            <a:off x="1366920" y="1954800"/>
            <a:ext cx="95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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2280" y="3486240"/>
            <a:ext cx="1688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ame p+p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+ superimpo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in. bias Pb+P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y pile-up p+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vents fr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in. bias p+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124000" y="3276720"/>
            <a:ext cx="924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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716480" y="3733920"/>
            <a:ext cx="339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206440" y="586728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0          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352680" y="304920"/>
            <a:ext cx="4496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rigger(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 - Jet(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&gt;20GeV/c)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800600" y="304920"/>
            <a:ext cx="1676520" cy="380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32A0-D5E8-4212-B8DE-A02640BF9DEC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419720" y="3840120"/>
            <a:ext cx="4267080" cy="2868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840120"/>
            <a:ext cx="4267080" cy="2868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76920" y="337176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+p, peripheral Au+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8840" y="33955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 Au+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57320" y="354960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ENIX QM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5" descr="ForQM_dEtadPhi_dAu"/>
          <p:cNvPicPr/>
          <p:nvPr/>
        </p:nvPicPr>
        <p:blipFill>
          <a:blip r:embed="rId3"/>
          <a:srcRect l="0" t="10170" r="8276" b="4068"/>
          <a:stretch/>
        </p:blipFill>
        <p:spPr>
          <a:xfrm>
            <a:off x="152280" y="685800"/>
            <a:ext cx="3810240" cy="2362320"/>
          </a:xfrm>
          <a:prstGeom prst="rect">
            <a:avLst/>
          </a:prstGeom>
          <a:ln w="0">
            <a:noFill/>
          </a:ln>
        </p:spPr>
      </p:pic>
      <p:sp>
        <p:nvSpPr>
          <p:cNvPr id="111" name="TextovéPole 29"/>
          <p:cNvSpPr/>
          <p:nvPr/>
        </p:nvSpPr>
        <p:spPr>
          <a:xfrm>
            <a:off x="390960" y="30492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d+Au,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572000" y="609480"/>
            <a:ext cx="4172040" cy="259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22280" y="38088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 Q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200000">
            <a:off x="5148000" y="2793960"/>
            <a:ext cx="94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800000">
            <a:off x="7420320" y="2819520"/>
            <a:ext cx="45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94360" y="1517760"/>
            <a:ext cx="1690560" cy="1111320"/>
          </a:xfrm>
          <a:custGeom>
            <a:avLst/>
            <a:gdLst/>
            <a:ahLst/>
            <a:rect l="l" t="t" r="r" b="b"/>
            <a:pathLst>
              <a:path w="856" h="700">
                <a:moveTo>
                  <a:pt x="0" y="300"/>
                </a:moveTo>
                <a:lnTo>
                  <a:pt x="101" y="700"/>
                </a:lnTo>
                <a:lnTo>
                  <a:pt x="856" y="320"/>
                </a:lnTo>
                <a:lnTo>
                  <a:pt x="696" y="0"/>
                </a:lnTo>
                <a:lnTo>
                  <a:pt x="0" y="30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2560" y="2000160"/>
            <a:ext cx="550800" cy="622440"/>
          </a:xfrm>
          <a:custGeom>
            <a:avLst/>
            <a:gdLst/>
            <a:ahLst/>
            <a:rect l="l" t="t" r="r" b="b"/>
            <a:pathLst>
              <a:path w="279" h="392">
                <a:moveTo>
                  <a:pt x="279" y="392"/>
                </a:moveTo>
                <a:lnTo>
                  <a:pt x="183" y="0"/>
                </a:lnTo>
                <a:lnTo>
                  <a:pt x="0" y="283"/>
                </a:lnTo>
                <a:lnTo>
                  <a:pt x="279" y="392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0100000">
            <a:off x="6197040" y="188244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9"/>
          <p:cNvSpPr/>
          <p:nvPr/>
        </p:nvSpPr>
        <p:spPr>
          <a:xfrm>
            <a:off x="5334120" y="1066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j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3"/>
          <p:cNvSpPr/>
          <p:nvPr/>
        </p:nvSpPr>
        <p:spPr>
          <a:xfrm>
            <a:off x="6019920" y="1295280"/>
            <a:ext cx="523800" cy="7632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30"/>
          <p:cNvSpPr/>
          <p:nvPr/>
        </p:nvSpPr>
        <p:spPr>
          <a:xfrm>
            <a:off x="4931640" y="304920"/>
            <a:ext cx="20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u+Au,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C268-C554-471F-BA2D-C9DFEEB3D2F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714240"/>
            <a:ext cx="4267440" cy="487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46440" y="124704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95680" y="790560"/>
            <a:ext cx="4343400" cy="4952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410080" y="1552680"/>
            <a:ext cx="2590920" cy="1523880"/>
          </a:xfrm>
          <a:prstGeom prst="line">
            <a:avLst/>
          </a:prstGeom>
          <a:ln w="64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54800" y="1857240"/>
            <a:ext cx="30492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687920"/>
            <a:ext cx="228600" cy="0"/>
          </a:xfrm>
          <a:prstGeom prst="line">
            <a:avLst/>
          </a:prstGeom>
          <a:ln w="64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14880" y="4938840"/>
            <a:ext cx="228600" cy="0"/>
          </a:xfrm>
          <a:prstGeom prst="line">
            <a:avLst/>
          </a:prstGeom>
          <a:ln w="64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2314440"/>
            <a:ext cx="2590920" cy="1524240"/>
          </a:xfrm>
          <a:prstGeom prst="line">
            <a:avLst/>
          </a:prstGeom>
          <a:ln w="64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230760"/>
            <a:ext cx="57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Inclusiv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 ~  T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Shoulder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~  T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Ridg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 &lt;  T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30800" y="155196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M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78920" y="391392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M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23144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55200" y="21304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2009880"/>
            <a:ext cx="761760" cy="0"/>
          </a:xfrm>
          <a:prstGeom prst="line">
            <a:avLst/>
          </a:prstGeom>
          <a:ln w="19080">
            <a:solidFill>
              <a:srgbClr val="ff33cc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26193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04880" y="24354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3040" y="1825560"/>
            <a:ext cx="9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inclu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4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4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21240" y="2085840"/>
            <a:ext cx="2590920" cy="236232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743440"/>
            <a:ext cx="8001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Both ridge and shoulder &lt;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&gt; are almost independent with centrality and trigger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sele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It’s just like a bulk matter… suspicious on BG(bulk) subtraction… but this is what we se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22BD-E0FB-4787-AD53-D328AD77AB0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210040" cy="2594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2280" y="2514600"/>
            <a:ext cx="2210040" cy="2577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362320" y="2070000"/>
            <a:ext cx="2209680" cy="2578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572000" y="1536840"/>
            <a:ext cx="2209680" cy="2577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6781680" y="1003320"/>
            <a:ext cx="2210040" cy="2577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4572000" y="3886200"/>
            <a:ext cx="2209680" cy="2590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43200" y="185904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304920"/>
            <a:ext cx="50292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dentified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trigger with associate had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9520" y="5378400"/>
            <a:ext cx="392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Width does not change with centr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imilar to charged hadron triggered c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urface bias (as in 2+1 correlation cas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3760" y="182880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7-9 (X) 1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0-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9560" y="292428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7-9 (X) 4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0-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5560" y="251460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7-9 (X) 4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20-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65240" y="198108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7-9 (X) 4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40-6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30640" y="144792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7-9 (X) 4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60-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65240" y="437184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7-9 (X) 6-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40-6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74920" y="68580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M08 PHE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421400">
            <a:off x="7772040" y="4571640"/>
            <a:ext cx="5335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342200">
            <a:off x="7860960" y="4686120"/>
            <a:ext cx="380880" cy="76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7848720" y="42667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29600" y="46483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7848720" y="4419360"/>
            <a:ext cx="3045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153280" y="4572000"/>
            <a:ext cx="15264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315200" y="49528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7467480" y="54864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2468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5410080"/>
            <a:ext cx="152280" cy="1526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72400" y="4876920"/>
            <a:ext cx="15228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FDD-944E-400D-9842-9403204F5DA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inte_asso"/>
          <p:cNvPicPr/>
          <p:nvPr/>
        </p:nvPicPr>
        <p:blipFill>
          <a:blip r:embed="rId1"/>
          <a:stretch/>
        </p:blipFill>
        <p:spPr>
          <a:xfrm>
            <a:off x="5410080" y="4114800"/>
            <a:ext cx="3276720" cy="248760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380880" y="762120"/>
            <a:ext cx="4472280" cy="3047760"/>
            <a:chOff x="380880" y="762120"/>
            <a:chExt cx="4472280" cy="3047760"/>
          </a:xfrm>
        </p:grpSpPr>
        <p:pic>
          <p:nvPicPr>
            <p:cNvPr id="172" name="Content Placeholder 6" descr="dphi_example_012908.gif"/>
            <p:cNvPicPr/>
            <p:nvPr/>
          </p:nvPicPr>
          <p:blipFill>
            <a:blip r:embed="rId2"/>
            <a:stretch/>
          </p:blipFill>
          <p:spPr>
            <a:xfrm>
              <a:off x="585720" y="762120"/>
              <a:ext cx="426744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Rectangle 7"/>
            <p:cNvSpPr/>
            <p:nvPr/>
          </p:nvSpPr>
          <p:spPr>
            <a:xfrm>
              <a:off x="380880" y="1143000"/>
              <a:ext cx="609840" cy="2590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0"/>
            <p:cNvSpPr/>
            <p:nvPr/>
          </p:nvSpPr>
          <p:spPr>
            <a:xfrm rot="16200000">
              <a:off x="-371160" y="1965960"/>
              <a:ext cx="2575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1/Ntrig dN/d</a:t>
              </a:r>
              <a:r>
                <a:rPr b="1" lang="ja-JP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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(A.U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876920" y="457200"/>
            <a:ext cx="3279600" cy="3642480"/>
            <a:chOff x="4876920" y="457200"/>
            <a:chExt cx="3279600" cy="3642480"/>
          </a:xfrm>
        </p:grpSpPr>
        <p:pic>
          <p:nvPicPr>
            <p:cNvPr id="176" name="Picture 26" descr="nearint.gif"/>
            <p:cNvPicPr/>
            <p:nvPr/>
          </p:nvPicPr>
          <p:blipFill>
            <a:blip r:embed="rId3"/>
            <a:stretch/>
          </p:blipFill>
          <p:spPr>
            <a:xfrm>
              <a:off x="5172120" y="457200"/>
              <a:ext cx="2895480" cy="15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34"/>
            <p:cNvSpPr/>
            <p:nvPr/>
          </p:nvSpPr>
          <p:spPr>
            <a:xfrm>
              <a:off x="6648480" y="3728880"/>
              <a:ext cx="1463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</a:t>
              </a:r>
              <a:r>
                <a:rPr b="0" lang="ja-JP" sz="16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T, 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hoton GeV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35"/>
            <p:cNvSpPr/>
            <p:nvPr/>
          </p:nvSpPr>
          <p:spPr>
            <a:xfrm rot="16200000">
              <a:off x="3931920" y="196056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Per-Trigger Yield (A.U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26" descr="ppaway23.gif"/>
            <p:cNvPicPr/>
            <p:nvPr/>
          </p:nvPicPr>
          <p:blipFill>
            <a:blip r:embed="rId4"/>
            <a:stretch/>
          </p:blipFill>
          <p:spPr>
            <a:xfrm>
              <a:off x="5184720" y="2052360"/>
              <a:ext cx="289584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37" descr="pi0dirlabel.gif"/>
            <p:cNvPicPr/>
            <p:nvPr/>
          </p:nvPicPr>
          <p:blipFill>
            <a:blip r:embed="rId5"/>
            <a:stretch/>
          </p:blipFill>
          <p:spPr>
            <a:xfrm>
              <a:off x="5337360" y="2290680"/>
              <a:ext cx="1344600" cy="60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31"/>
            <p:cNvGrpSpPr/>
            <p:nvPr/>
          </p:nvGrpSpPr>
          <p:grpSpPr>
            <a:xfrm>
              <a:off x="5124600" y="3624120"/>
              <a:ext cx="3031920" cy="181080"/>
              <a:chOff x="5124600" y="3624120"/>
              <a:chExt cx="3031920" cy="181080"/>
            </a:xfrm>
          </p:grpSpPr>
          <p:pic>
            <p:nvPicPr>
              <p:cNvPr id="182" name="Picture 29" descr="xaxis_ptt.gif"/>
              <p:cNvPicPr/>
              <p:nvPr/>
            </p:nvPicPr>
            <p:blipFill>
              <a:blip r:embed="rId6"/>
              <a:stretch/>
            </p:blipFill>
            <p:spPr>
              <a:xfrm>
                <a:off x="5124600" y="3624120"/>
                <a:ext cx="3031920" cy="16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Rectangle 30"/>
              <p:cNvSpPr/>
              <p:nvPr/>
            </p:nvSpPr>
            <p:spPr>
              <a:xfrm>
                <a:off x="7585920" y="3755160"/>
                <a:ext cx="559080" cy="5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TextBox 32"/>
            <p:cNvSpPr/>
            <p:nvPr/>
          </p:nvSpPr>
          <p:spPr>
            <a:xfrm>
              <a:off x="5489280" y="680760"/>
              <a:ext cx="189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un 6 p+p @ 200 Ge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Content Placeholder 31" descr="3panel_020408.gif"/>
          <p:cNvPicPr/>
          <p:nvPr/>
        </p:nvPicPr>
        <p:blipFill>
          <a:blip r:embed="rId7"/>
          <a:stretch/>
        </p:blipFill>
        <p:spPr>
          <a:xfrm>
            <a:off x="228600" y="4038480"/>
            <a:ext cx="5226120" cy="262728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1"/>
          <p:cNvSpPr/>
          <p:nvPr/>
        </p:nvSpPr>
        <p:spPr>
          <a:xfrm>
            <a:off x="312840" y="5424480"/>
            <a:ext cx="1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3962520"/>
            <a:ext cx="5029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Run 7 Au+Au @ 200 GeV, cent=0~20%, prelimin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28600"/>
            <a:ext cx="41148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irect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trigger with associate had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84200" y="15228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M08 PHE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5400000">
            <a:off x="7001280" y="1842120"/>
            <a:ext cx="320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+p:   Consistent with trigger photon carrying the full jet energy,   away side jets are similar between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trigg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7625880" y="4960440"/>
            <a:ext cx="20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Need more studies and statistics for Au+Au c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6009480" y="4114800"/>
            <a:ext cx="23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Gill Sans MT"/>
              </a:rPr>
              <a:t>Run 4/5 p+p/Au+Au @ 200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BB1-D7F4-44BD-9C06-D1226A28430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108000" y="3168720"/>
            <a:ext cx="9001080" cy="3384360"/>
            <a:chOff x="108000" y="3168720"/>
            <a:chExt cx="9001080" cy="338436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rcRect l="4106" t="6755" r="5375" b="0"/>
            <a:stretch/>
          </p:blipFill>
          <p:spPr>
            <a:xfrm>
              <a:off x="108000" y="3168720"/>
              <a:ext cx="9001080" cy="197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5" name=""/>
            <p:cNvGrpSpPr/>
            <p:nvPr/>
          </p:nvGrpSpPr>
          <p:grpSpPr>
            <a:xfrm>
              <a:off x="324000" y="4608720"/>
              <a:ext cx="8784720" cy="1871280"/>
              <a:chOff x="324000" y="4608720"/>
              <a:chExt cx="8784720" cy="1871280"/>
            </a:xfrm>
          </p:grpSpPr>
          <p:pic>
            <p:nvPicPr>
              <p:cNvPr id="196" name="" descr=""/>
              <p:cNvPicPr/>
              <p:nvPr/>
            </p:nvPicPr>
            <p:blipFill>
              <a:blip r:embed="rId2"/>
              <a:srcRect l="9191" t="48951" r="7955" b="0"/>
              <a:stretch/>
            </p:blipFill>
            <p:spPr>
              <a:xfrm>
                <a:off x="4915080" y="4608720"/>
                <a:ext cx="4193640" cy="187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7" name=""/>
              <p:cNvGrpSpPr/>
              <p:nvPr/>
            </p:nvGrpSpPr>
            <p:grpSpPr>
              <a:xfrm>
                <a:off x="324000" y="4608720"/>
                <a:ext cx="4658760" cy="1841040"/>
                <a:chOff x="324000" y="4608720"/>
                <a:chExt cx="4658760" cy="1841040"/>
              </a:xfrm>
            </p:grpSpPr>
            <p:pic>
              <p:nvPicPr>
                <p:cNvPr id="198" name="" descr=""/>
                <p:cNvPicPr/>
                <p:nvPr/>
              </p:nvPicPr>
              <p:blipFill>
                <a:blip r:embed="rId3"/>
                <a:srcRect l="0" t="12380" r="7955" b="50392"/>
                <a:stretch/>
              </p:blipFill>
              <p:spPr>
                <a:xfrm>
                  <a:off x="324000" y="4608720"/>
                  <a:ext cx="4658760" cy="136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4"/>
                <a:srcRect l="8605" t="87012" r="7955" b="0"/>
                <a:stretch/>
              </p:blipFill>
              <p:spPr>
                <a:xfrm>
                  <a:off x="759240" y="5973480"/>
                  <a:ext cx="422316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00" name="" descr=""/>
            <p:cNvPicPr/>
            <p:nvPr/>
          </p:nvPicPr>
          <p:blipFill>
            <a:blip r:embed="rId5"/>
            <a:srcRect l="13502" t="0" r="15316" b="90711"/>
            <a:stretch/>
          </p:blipFill>
          <p:spPr>
            <a:xfrm>
              <a:off x="2484360" y="6265800"/>
              <a:ext cx="417672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1960560" y="3357720"/>
            <a:ext cx="3068640" cy="26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3&lt;p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rig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&lt;4GeV/c &amp; 1.0&lt;p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ass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&lt;1.5GeV/c 20-6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56480" y="3321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08240" y="6095880"/>
            <a:ext cx="53258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associ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rigg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(rad)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1066680" y="990720"/>
            <a:ext cx="3962520" cy="2212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"/>
          <a:srcRect l="8669" t="3160" r="8288" b="0"/>
          <a:stretch/>
        </p:blipFill>
        <p:spPr>
          <a:xfrm>
            <a:off x="5181480" y="206280"/>
            <a:ext cx="3505320" cy="2994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30040" y="228600"/>
            <a:ext cx="2382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t mod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7680" y="2895480"/>
            <a:ext cx="14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QM08: STAR, PHEN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68560" y="330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QM04: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523880" y="3809880"/>
            <a:ext cx="7391520" cy="2086200"/>
            <a:chOff x="1523880" y="3809880"/>
            <a:chExt cx="7391520" cy="2086200"/>
          </a:xfrm>
        </p:grpSpPr>
        <p:grpSp>
          <p:nvGrpSpPr>
            <p:cNvPr id="210" name=""/>
            <p:cNvGrpSpPr/>
            <p:nvPr/>
          </p:nvGrpSpPr>
          <p:grpSpPr>
            <a:xfrm>
              <a:off x="1523880" y="3809880"/>
              <a:ext cx="7162920" cy="654120"/>
              <a:chOff x="1523880" y="3809880"/>
              <a:chExt cx="7162920" cy="654120"/>
            </a:xfrm>
          </p:grpSpPr>
          <p:sp>
            <p:nvSpPr>
              <p:cNvPr id="211" name=""/>
              <p:cNvSpPr/>
              <p:nvPr/>
            </p:nvSpPr>
            <p:spPr>
              <a:xfrm>
                <a:off x="1523880" y="4343400"/>
                <a:ext cx="716292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523880" y="3886200"/>
                <a:ext cx="3353040" cy="4572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600200" y="380988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71800" y="396252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419720" y="419112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15000" y="42354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086600" y="421956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458200" y="420696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600200" y="5410080"/>
              <a:ext cx="7315200" cy="486000"/>
              <a:chOff x="1600200" y="5410080"/>
              <a:chExt cx="7315200" cy="486000"/>
            </a:xfrm>
          </p:grpSpPr>
          <p:sp>
            <p:nvSpPr>
              <p:cNvPr id="220" name=""/>
              <p:cNvSpPr/>
              <p:nvPr/>
            </p:nvSpPr>
            <p:spPr>
              <a:xfrm>
                <a:off x="1600200" y="5791320"/>
                <a:ext cx="731520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600200" y="5486400"/>
                <a:ext cx="3352680" cy="3049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840" y="566748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10440" y="565164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582040" y="563868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41008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063960" y="553068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479840" y="565452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1371600" y="4114800"/>
            <a:ext cx="7635960" cy="1584360"/>
            <a:chOff x="1371600" y="4114800"/>
            <a:chExt cx="7635960" cy="1584360"/>
          </a:xfrm>
        </p:grpSpPr>
        <p:grpSp>
          <p:nvGrpSpPr>
            <p:cNvPr id="229" name=""/>
            <p:cNvGrpSpPr/>
            <p:nvPr/>
          </p:nvGrpSpPr>
          <p:grpSpPr>
            <a:xfrm>
              <a:off x="1371600" y="4114800"/>
              <a:ext cx="7543800" cy="304920"/>
              <a:chOff x="1371600" y="4114800"/>
              <a:chExt cx="7543800" cy="304920"/>
            </a:xfrm>
          </p:grpSpPr>
          <p:sp>
            <p:nvSpPr>
              <p:cNvPr id="230" name=""/>
              <p:cNvSpPr/>
              <p:nvPr/>
            </p:nvSpPr>
            <p:spPr>
              <a:xfrm>
                <a:off x="1371600" y="4270320"/>
                <a:ext cx="754380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902280" y="411480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305920" y="4114800"/>
                <a:ext cx="60948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518080" y="411480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159080" y="411480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90720" y="411480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00040" y="411480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1463760" y="5394240"/>
              <a:ext cx="7543800" cy="304920"/>
              <a:chOff x="1463760" y="5394240"/>
              <a:chExt cx="75438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1463760" y="5549760"/>
                <a:ext cx="754380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994440" y="539424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398080" y="5394240"/>
                <a:ext cx="60948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610240" y="539424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251240" y="539424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82880" y="539424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492200" y="539424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1739520" y="374400"/>
            <a:ext cx="2540880" cy="2517840"/>
            <a:chOff x="1739520" y="374400"/>
            <a:chExt cx="2540880" cy="2517840"/>
          </a:xfrm>
        </p:grpSpPr>
        <p:grpSp>
          <p:nvGrpSpPr>
            <p:cNvPr id="246" name=""/>
            <p:cNvGrpSpPr/>
            <p:nvPr/>
          </p:nvGrpSpPr>
          <p:grpSpPr>
            <a:xfrm>
              <a:off x="1739520" y="374400"/>
              <a:ext cx="2465280" cy="2501640"/>
              <a:chOff x="1739520" y="374400"/>
              <a:chExt cx="2465280" cy="2501640"/>
            </a:xfrm>
          </p:grpSpPr>
          <p:sp>
            <p:nvSpPr>
              <p:cNvPr id="247" name=""/>
              <p:cNvSpPr/>
              <p:nvPr/>
            </p:nvSpPr>
            <p:spPr>
              <a:xfrm flipH="1" flipV="1">
                <a:off x="2821680" y="902520"/>
                <a:ext cx="219600" cy="3758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3076920" y="374400"/>
                <a:ext cx="118440" cy="9550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3076560" y="666360"/>
                <a:ext cx="387360" cy="6624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53880" y="1140120"/>
                <a:ext cx="13680" cy="85320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359440" y="2291400"/>
                <a:ext cx="187560" cy="3441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1739520" y="2235240"/>
                <a:ext cx="829440" cy="3070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1832760" y="2193840"/>
                <a:ext cx="735120" cy="424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420640" y="1973520"/>
                <a:ext cx="692640" cy="3510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3575520" y="2299320"/>
                <a:ext cx="629280" cy="1886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515760" y="2311200"/>
                <a:ext cx="680400" cy="5648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514320" y="2310120"/>
                <a:ext cx="115200" cy="4766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15720" y="1970280"/>
                <a:ext cx="650520" cy="42444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300000">
                <a:off x="2854080" y="1812600"/>
                <a:ext cx="380880" cy="38124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057400" y="1947960"/>
              <a:ext cx="844560" cy="738000"/>
              <a:chOff x="2057400" y="1947960"/>
              <a:chExt cx="844560" cy="738000"/>
            </a:xfrm>
          </p:grpSpPr>
          <p:sp>
            <p:nvSpPr>
              <p:cNvPr id="261" name=""/>
              <p:cNvSpPr/>
              <p:nvPr/>
            </p:nvSpPr>
            <p:spPr>
              <a:xfrm>
                <a:off x="2633760" y="1947960"/>
                <a:ext cx="268200" cy="425520"/>
              </a:xfrm>
              <a:custGeom>
                <a:avLst/>
                <a:gdLst/>
                <a:ahLst/>
                <a:rect l="l" t="t" r="r" b="b"/>
                <a:pathLst>
                  <a:path w="169" h="268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6" y="210"/>
                      <a:pt x="57" y="232"/>
                    </a:cubicBezTo>
                    <a:cubicBezTo>
                      <a:pt x="68" y="254"/>
                      <a:pt x="150" y="262"/>
                      <a:pt x="169" y="26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368440" y="1981080"/>
                <a:ext cx="298440" cy="622440"/>
              </a:xfrm>
              <a:custGeom>
                <a:avLst/>
                <a:gdLst/>
                <a:ahLst/>
                <a:rect l="l" t="t" r="r" b="b"/>
                <a:pathLst>
                  <a:path w="188" h="392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61"/>
                      <a:pt x="177" y="288"/>
                    </a:cubicBezTo>
                    <a:cubicBezTo>
                      <a:pt x="188" y="315"/>
                      <a:pt x="136" y="370"/>
                      <a:pt x="125" y="392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057400" y="1981080"/>
                <a:ext cx="374760" cy="704880"/>
              </a:xfrm>
              <a:custGeom>
                <a:avLst/>
                <a:gdLst/>
                <a:ahLst/>
                <a:rect l="l" t="t" r="r" b="b"/>
                <a:pathLst>
                  <a:path w="236" h="444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59"/>
                      <a:pt x="177" y="288"/>
                    </a:cubicBezTo>
                    <a:cubicBezTo>
                      <a:pt x="188" y="317"/>
                      <a:pt x="114" y="378"/>
                      <a:pt x="124" y="404"/>
                    </a:cubicBezTo>
                    <a:cubicBezTo>
                      <a:pt x="134" y="430"/>
                      <a:pt x="213" y="436"/>
                      <a:pt x="236" y="444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228480" y="2123280"/>
              <a:ext cx="1051920" cy="768960"/>
              <a:chOff x="3228480" y="2123280"/>
              <a:chExt cx="1051920" cy="768960"/>
            </a:xfrm>
          </p:grpSpPr>
          <p:sp>
            <p:nvSpPr>
              <p:cNvPr id="265" name=""/>
              <p:cNvSpPr/>
              <p:nvPr/>
            </p:nvSpPr>
            <p:spPr>
              <a:xfrm rot="15000000">
                <a:off x="3340080" y="2108880"/>
                <a:ext cx="268200" cy="425520"/>
              </a:xfrm>
              <a:custGeom>
                <a:avLst/>
                <a:gdLst/>
                <a:ahLst/>
                <a:rect l="l" t="t" r="r" b="b"/>
                <a:pathLst>
                  <a:path w="169" h="268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6" y="210"/>
                      <a:pt x="57" y="232"/>
                    </a:cubicBezTo>
                    <a:cubicBezTo>
                      <a:pt x="68" y="254"/>
                      <a:pt x="150" y="262"/>
                      <a:pt x="169" y="26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5000000">
                <a:off x="3548160" y="2149920"/>
                <a:ext cx="298440" cy="622080"/>
              </a:xfrm>
              <a:custGeom>
                <a:avLst/>
                <a:gdLst/>
                <a:ahLst/>
                <a:rect l="l" t="t" r="r" b="b"/>
                <a:pathLst>
                  <a:path w="188" h="392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61"/>
                      <a:pt x="177" y="288"/>
                    </a:cubicBezTo>
                    <a:cubicBezTo>
                      <a:pt x="188" y="315"/>
                      <a:pt x="136" y="370"/>
                      <a:pt x="125" y="392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5000000">
                <a:off x="3697560" y="2243160"/>
                <a:ext cx="374760" cy="704880"/>
              </a:xfrm>
              <a:custGeom>
                <a:avLst/>
                <a:gdLst/>
                <a:ahLst/>
                <a:rect l="l" t="t" r="r" b="b"/>
                <a:pathLst>
                  <a:path w="236" h="444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59"/>
                      <a:pt x="177" y="288"/>
                    </a:cubicBezTo>
                    <a:cubicBezTo>
                      <a:pt x="188" y="317"/>
                      <a:pt x="114" y="378"/>
                      <a:pt x="124" y="404"/>
                    </a:cubicBezTo>
                    <a:cubicBezTo>
                      <a:pt x="134" y="430"/>
                      <a:pt x="213" y="436"/>
                      <a:pt x="236" y="444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1712160" y="1159920"/>
            <a:ext cx="2960280" cy="1650600"/>
            <a:chOff x="1712160" y="1159920"/>
            <a:chExt cx="2960280" cy="1650600"/>
          </a:xfrm>
        </p:grpSpPr>
        <p:grpSp>
          <p:nvGrpSpPr>
            <p:cNvPr id="269" name=""/>
            <p:cNvGrpSpPr/>
            <p:nvPr/>
          </p:nvGrpSpPr>
          <p:grpSpPr>
            <a:xfrm>
              <a:off x="3055320" y="1764720"/>
              <a:ext cx="1617120" cy="640800"/>
              <a:chOff x="3055320" y="1764720"/>
              <a:chExt cx="1617120" cy="640800"/>
            </a:xfrm>
          </p:grpSpPr>
          <p:sp>
            <p:nvSpPr>
              <p:cNvPr id="270" name=""/>
              <p:cNvSpPr/>
              <p:nvPr/>
            </p:nvSpPr>
            <p:spPr>
              <a:xfrm flipV="1">
                <a:off x="3770280" y="1764720"/>
                <a:ext cx="376200" cy="2199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717000" y="2020320"/>
                <a:ext cx="955440" cy="1184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18440" y="2018520"/>
                <a:ext cx="663120" cy="3870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55320" y="1997640"/>
                <a:ext cx="853200" cy="1404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829520" y="1159920"/>
              <a:ext cx="1318320" cy="934560"/>
              <a:chOff x="1829520" y="1159920"/>
              <a:chExt cx="1318320" cy="934560"/>
            </a:xfrm>
          </p:grpSpPr>
          <p:sp>
            <p:nvSpPr>
              <p:cNvPr id="275" name=""/>
              <p:cNvSpPr/>
              <p:nvPr/>
            </p:nvSpPr>
            <p:spPr>
              <a:xfrm flipH="1">
                <a:off x="2156400" y="1770840"/>
                <a:ext cx="384120" cy="777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>
                <a:off x="1829520" y="1313640"/>
                <a:ext cx="768240" cy="43812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flipV="1">
                <a:off x="2154960" y="1159920"/>
                <a:ext cx="439560" cy="5904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2433600" y="1695960"/>
                <a:ext cx="714240" cy="3045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1925280" y="1195560"/>
                <a:ext cx="1108440" cy="898920"/>
                <a:chOff x="1925280" y="1195560"/>
                <a:chExt cx="1108440" cy="898920"/>
              </a:xfrm>
            </p:grpSpPr>
            <p:sp>
              <p:nvSpPr>
                <p:cNvPr id="280" name=""/>
                <p:cNvSpPr/>
                <p:nvPr/>
              </p:nvSpPr>
              <p:spPr>
                <a:xfrm rot="3000000">
                  <a:off x="2650320" y="1642320"/>
                  <a:ext cx="268200" cy="425520"/>
                </a:xfrm>
                <a:custGeom>
                  <a:avLst/>
                  <a:gdLst/>
                  <a:ahLst/>
                  <a:rect l="l" t="t" r="r" b="b"/>
                  <a:pathLst>
                    <a:path w="169" h="268">
                      <a:moveTo>
                        <a:pt x="53" y="0"/>
                      </a:moveTo>
                      <a:cubicBezTo>
                        <a:pt x="45" y="15"/>
                        <a:pt x="0" y="65"/>
                        <a:pt x="9" y="88"/>
                      </a:cubicBezTo>
                      <a:cubicBezTo>
                        <a:pt x="18" y="111"/>
                        <a:pt x="97" y="112"/>
                        <a:pt x="105" y="136"/>
                      </a:cubicBezTo>
                      <a:cubicBezTo>
                        <a:pt x="113" y="160"/>
                        <a:pt x="46" y="210"/>
                        <a:pt x="57" y="232"/>
                      </a:cubicBezTo>
                      <a:cubicBezTo>
                        <a:pt x="68" y="254"/>
                        <a:pt x="150" y="262"/>
                        <a:pt x="169" y="268"/>
                      </a:cubicBezTo>
                    </a:path>
                  </a:pathLst>
                </a:custGeom>
                <a:noFill/>
                <a:ln w="255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3000000">
                  <a:off x="2373840" y="1436400"/>
                  <a:ext cx="298440" cy="622440"/>
                </a:xfrm>
                <a:custGeom>
                  <a:avLst/>
                  <a:gdLst/>
                  <a:ahLst/>
                  <a:rect l="l" t="t" r="r" b="b"/>
                  <a:pathLst>
                    <a:path w="188" h="392">
                      <a:moveTo>
                        <a:pt x="53" y="0"/>
                      </a:moveTo>
                      <a:cubicBezTo>
                        <a:pt x="45" y="15"/>
                        <a:pt x="0" y="65"/>
                        <a:pt x="9" y="88"/>
                      </a:cubicBezTo>
                      <a:cubicBezTo>
                        <a:pt x="18" y="111"/>
                        <a:pt x="97" y="112"/>
                        <a:pt x="105" y="136"/>
                      </a:cubicBezTo>
                      <a:cubicBezTo>
                        <a:pt x="113" y="160"/>
                        <a:pt x="45" y="207"/>
                        <a:pt x="57" y="232"/>
                      </a:cubicBezTo>
                      <a:cubicBezTo>
                        <a:pt x="69" y="257"/>
                        <a:pt x="166" y="261"/>
                        <a:pt x="177" y="288"/>
                      </a:cubicBezTo>
                      <a:cubicBezTo>
                        <a:pt x="188" y="315"/>
                        <a:pt x="136" y="370"/>
                        <a:pt x="125" y="392"/>
                      </a:cubicBezTo>
                    </a:path>
                  </a:pathLst>
                </a:custGeom>
                <a:noFill/>
                <a:ln w="255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3000000">
                  <a:off x="2128320" y="1213200"/>
                  <a:ext cx="374760" cy="704880"/>
                </a:xfrm>
                <a:custGeom>
                  <a:avLst/>
                  <a:gdLst/>
                  <a:ahLst/>
                  <a:rect l="l" t="t" r="r" b="b"/>
                  <a:pathLst>
                    <a:path w="236" h="444">
                      <a:moveTo>
                        <a:pt x="53" y="0"/>
                      </a:moveTo>
                      <a:cubicBezTo>
                        <a:pt x="45" y="15"/>
                        <a:pt x="0" y="65"/>
                        <a:pt x="9" y="88"/>
                      </a:cubicBezTo>
                      <a:cubicBezTo>
                        <a:pt x="18" y="111"/>
                        <a:pt x="97" y="112"/>
                        <a:pt x="105" y="136"/>
                      </a:cubicBezTo>
                      <a:cubicBezTo>
                        <a:pt x="113" y="160"/>
                        <a:pt x="45" y="207"/>
                        <a:pt x="57" y="232"/>
                      </a:cubicBezTo>
                      <a:cubicBezTo>
                        <a:pt x="69" y="257"/>
                        <a:pt x="166" y="259"/>
                        <a:pt x="177" y="288"/>
                      </a:cubicBezTo>
                      <a:cubicBezTo>
                        <a:pt x="188" y="317"/>
                        <a:pt x="114" y="378"/>
                        <a:pt x="124" y="404"/>
                      </a:cubicBezTo>
                      <a:cubicBezTo>
                        <a:pt x="134" y="430"/>
                        <a:pt x="213" y="436"/>
                        <a:pt x="236" y="444"/>
                      </a:cubicBezTo>
                    </a:path>
                  </a:pathLst>
                </a:custGeom>
                <a:noFill/>
                <a:ln w="255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1712160" y="1979640"/>
              <a:ext cx="1374480" cy="830880"/>
              <a:chOff x="1712160" y="1979640"/>
              <a:chExt cx="1374480" cy="830880"/>
            </a:xfrm>
          </p:grpSpPr>
          <p:sp>
            <p:nvSpPr>
              <p:cNvPr id="284" name=""/>
              <p:cNvSpPr/>
              <p:nvPr/>
            </p:nvSpPr>
            <p:spPr>
              <a:xfrm flipV="1">
                <a:off x="2044080" y="2310120"/>
                <a:ext cx="477360" cy="45072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1712160" y="2252520"/>
                <a:ext cx="829440" cy="3070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2073960" y="2112120"/>
                <a:ext cx="470520" cy="1378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2393640" y="1991160"/>
                <a:ext cx="693000" cy="3513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1866600" y="1979640"/>
                <a:ext cx="857160" cy="830880"/>
                <a:chOff x="1866600" y="1979640"/>
                <a:chExt cx="857160" cy="830880"/>
              </a:xfrm>
            </p:grpSpPr>
            <p:sp>
              <p:nvSpPr>
                <p:cNvPr id="289" name=""/>
                <p:cNvSpPr/>
                <p:nvPr/>
              </p:nvSpPr>
              <p:spPr>
                <a:xfrm rot="600000">
                  <a:off x="2420280" y="1999440"/>
                  <a:ext cx="268200" cy="425160"/>
                </a:xfrm>
                <a:custGeom>
                  <a:avLst/>
                  <a:gdLst/>
                  <a:ahLst/>
                  <a:rect l="l" t="t" r="r" b="b"/>
                  <a:pathLst>
                    <a:path w="169" h="268">
                      <a:moveTo>
                        <a:pt x="53" y="0"/>
                      </a:moveTo>
                      <a:cubicBezTo>
                        <a:pt x="45" y="15"/>
                        <a:pt x="0" y="65"/>
                        <a:pt x="9" y="88"/>
                      </a:cubicBezTo>
                      <a:cubicBezTo>
                        <a:pt x="18" y="111"/>
                        <a:pt x="97" y="112"/>
                        <a:pt x="105" y="136"/>
                      </a:cubicBezTo>
                      <a:cubicBezTo>
                        <a:pt x="113" y="160"/>
                        <a:pt x="46" y="210"/>
                        <a:pt x="57" y="232"/>
                      </a:cubicBezTo>
                      <a:cubicBezTo>
                        <a:pt x="68" y="254"/>
                        <a:pt x="150" y="262"/>
                        <a:pt x="169" y="268"/>
                      </a:cubicBezTo>
                    </a:path>
                  </a:pathLst>
                </a:custGeom>
                <a:noFill/>
                <a:ln w="255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600000">
                  <a:off x="2173320" y="2025000"/>
                  <a:ext cx="298440" cy="621720"/>
                </a:xfrm>
                <a:custGeom>
                  <a:avLst/>
                  <a:gdLst/>
                  <a:ahLst/>
                  <a:rect l="l" t="t" r="r" b="b"/>
                  <a:pathLst>
                    <a:path w="188" h="392">
                      <a:moveTo>
                        <a:pt x="53" y="0"/>
                      </a:moveTo>
                      <a:cubicBezTo>
                        <a:pt x="45" y="15"/>
                        <a:pt x="0" y="65"/>
                        <a:pt x="9" y="88"/>
                      </a:cubicBezTo>
                      <a:cubicBezTo>
                        <a:pt x="18" y="111"/>
                        <a:pt x="97" y="112"/>
                        <a:pt x="105" y="136"/>
                      </a:cubicBezTo>
                      <a:cubicBezTo>
                        <a:pt x="113" y="160"/>
                        <a:pt x="45" y="207"/>
                        <a:pt x="57" y="232"/>
                      </a:cubicBezTo>
                      <a:cubicBezTo>
                        <a:pt x="69" y="257"/>
                        <a:pt x="166" y="261"/>
                        <a:pt x="177" y="288"/>
                      </a:cubicBezTo>
                      <a:cubicBezTo>
                        <a:pt x="188" y="315"/>
                        <a:pt x="136" y="370"/>
                        <a:pt x="125" y="392"/>
                      </a:cubicBezTo>
                    </a:path>
                  </a:pathLst>
                </a:custGeom>
                <a:noFill/>
                <a:ln w="255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rot="600000">
                  <a:off x="1924920" y="2078640"/>
                  <a:ext cx="374760" cy="704520"/>
                </a:xfrm>
                <a:custGeom>
                  <a:avLst/>
                  <a:gdLst/>
                  <a:ahLst/>
                  <a:rect l="l" t="t" r="r" b="b"/>
                  <a:pathLst>
                    <a:path w="236" h="444">
                      <a:moveTo>
                        <a:pt x="53" y="0"/>
                      </a:moveTo>
                      <a:cubicBezTo>
                        <a:pt x="45" y="15"/>
                        <a:pt x="0" y="65"/>
                        <a:pt x="9" y="88"/>
                      </a:cubicBezTo>
                      <a:cubicBezTo>
                        <a:pt x="18" y="111"/>
                        <a:pt x="97" y="112"/>
                        <a:pt x="105" y="136"/>
                      </a:cubicBezTo>
                      <a:cubicBezTo>
                        <a:pt x="113" y="160"/>
                        <a:pt x="45" y="207"/>
                        <a:pt x="57" y="232"/>
                      </a:cubicBezTo>
                      <a:cubicBezTo>
                        <a:pt x="69" y="257"/>
                        <a:pt x="166" y="259"/>
                        <a:pt x="177" y="288"/>
                      </a:cubicBezTo>
                      <a:cubicBezTo>
                        <a:pt x="188" y="317"/>
                        <a:pt x="114" y="378"/>
                        <a:pt x="124" y="404"/>
                      </a:cubicBezTo>
                      <a:cubicBezTo>
                        <a:pt x="134" y="430"/>
                        <a:pt x="213" y="436"/>
                        <a:pt x="236" y="444"/>
                      </a:cubicBezTo>
                    </a:path>
                  </a:pathLst>
                </a:custGeom>
                <a:noFill/>
                <a:ln w="255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2" name=""/>
            <p:cNvSpPr/>
            <p:nvPr/>
          </p:nvSpPr>
          <p:spPr>
            <a:xfrm rot="5700000">
              <a:off x="2854080" y="1797840"/>
              <a:ext cx="380880" cy="3808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473120" y="672480"/>
            <a:ext cx="3224160" cy="2540520"/>
            <a:chOff x="1473120" y="672480"/>
            <a:chExt cx="3224160" cy="2540520"/>
          </a:xfrm>
        </p:grpSpPr>
        <p:grpSp>
          <p:nvGrpSpPr>
            <p:cNvPr id="294" name=""/>
            <p:cNvGrpSpPr/>
            <p:nvPr/>
          </p:nvGrpSpPr>
          <p:grpSpPr>
            <a:xfrm>
              <a:off x="1473120" y="1562400"/>
              <a:ext cx="1618920" cy="642240"/>
              <a:chOff x="1473120" y="1562400"/>
              <a:chExt cx="1618920" cy="6422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2000520" y="1985040"/>
                <a:ext cx="376200" cy="219600"/>
              </a:xfrm>
              <a:prstGeom prst="line">
                <a:avLst/>
              </a:prstGeom>
              <a:ln w="63360">
                <a:solidFill>
                  <a:srgbClr val="0000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flipV="1">
                <a:off x="1473120" y="1829880"/>
                <a:ext cx="955440" cy="118800"/>
              </a:xfrm>
              <a:prstGeom prst="line">
                <a:avLst/>
              </a:prstGeom>
              <a:ln w="63360">
                <a:solidFill>
                  <a:srgbClr val="0000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1764000" y="1562400"/>
                <a:ext cx="663120" cy="387360"/>
              </a:xfrm>
              <a:prstGeom prst="line">
                <a:avLst/>
              </a:prstGeom>
              <a:ln w="63360">
                <a:solidFill>
                  <a:srgbClr val="0000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flipV="1">
                <a:off x="2238840" y="1959120"/>
                <a:ext cx="853200" cy="14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2195640" y="672480"/>
              <a:ext cx="2501640" cy="2465280"/>
              <a:chOff x="2195640" y="672480"/>
              <a:chExt cx="2501640" cy="2465280"/>
            </a:xfrm>
          </p:grpSpPr>
          <p:sp>
            <p:nvSpPr>
              <p:cNvPr id="300" name=""/>
              <p:cNvSpPr/>
              <p:nvPr/>
            </p:nvSpPr>
            <p:spPr>
              <a:xfrm flipV="1">
                <a:off x="3793320" y="1754640"/>
                <a:ext cx="375840" cy="2196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742200" y="2009880"/>
                <a:ext cx="955080" cy="1184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42920" y="2009520"/>
                <a:ext cx="662400" cy="3873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78360" y="1986840"/>
                <a:ext cx="853200" cy="1368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2436120" y="1292400"/>
                <a:ext cx="344160" cy="1875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2529360" y="672480"/>
                <a:ext cx="307080" cy="8294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5360" y="765720"/>
                <a:ext cx="42480" cy="73512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>
                <a:off x="2747160" y="1353600"/>
                <a:ext cx="351000" cy="69264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2583720" y="2508480"/>
                <a:ext cx="188640" cy="6292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2195640" y="2448720"/>
                <a:ext cx="564840" cy="6804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2284920" y="2447280"/>
                <a:ext cx="476640" cy="1152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2676960" y="1948680"/>
                <a:ext cx="424440" cy="65052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5700000">
                <a:off x="2877840" y="1787040"/>
                <a:ext cx="380880" cy="38124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 rot="5400000">
              <a:off x="2778840" y="1446840"/>
              <a:ext cx="268200" cy="425520"/>
            </a:xfrm>
            <a:custGeom>
              <a:avLst/>
              <a:gdLst/>
              <a:ahLst/>
              <a:rect l="l" t="t" r="r" b="b"/>
              <a:pathLst>
                <a:path w="169" h="268">
                  <a:moveTo>
                    <a:pt x="53" y="0"/>
                  </a:moveTo>
                  <a:cubicBezTo>
                    <a:pt x="45" y="15"/>
                    <a:pt x="0" y="65"/>
                    <a:pt x="9" y="88"/>
                  </a:cubicBezTo>
                  <a:cubicBezTo>
                    <a:pt x="18" y="111"/>
                    <a:pt x="97" y="112"/>
                    <a:pt x="105" y="136"/>
                  </a:cubicBezTo>
                  <a:cubicBezTo>
                    <a:pt x="113" y="160"/>
                    <a:pt x="46" y="210"/>
                    <a:pt x="57" y="232"/>
                  </a:cubicBezTo>
                  <a:cubicBezTo>
                    <a:pt x="68" y="254"/>
                    <a:pt x="150" y="262"/>
                    <a:pt x="169" y="268"/>
                  </a:cubicBezTo>
                </a:path>
              </a:pathLst>
            </a:custGeom>
            <a:noFill/>
            <a:ln w="255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5400000">
              <a:off x="2665080" y="1058760"/>
              <a:ext cx="298440" cy="622440"/>
            </a:xfrm>
            <a:custGeom>
              <a:avLst/>
              <a:gdLst/>
              <a:ahLst/>
              <a:rect l="l" t="t" r="r" b="b"/>
              <a:pathLst>
                <a:path w="188" h="392">
                  <a:moveTo>
                    <a:pt x="53" y="0"/>
                  </a:moveTo>
                  <a:cubicBezTo>
                    <a:pt x="45" y="15"/>
                    <a:pt x="0" y="65"/>
                    <a:pt x="9" y="88"/>
                  </a:cubicBezTo>
                  <a:cubicBezTo>
                    <a:pt x="18" y="111"/>
                    <a:pt x="97" y="112"/>
                    <a:pt x="105" y="136"/>
                  </a:cubicBezTo>
                  <a:cubicBezTo>
                    <a:pt x="113" y="160"/>
                    <a:pt x="45" y="207"/>
                    <a:pt x="57" y="232"/>
                  </a:cubicBezTo>
                  <a:cubicBezTo>
                    <a:pt x="69" y="257"/>
                    <a:pt x="166" y="261"/>
                    <a:pt x="177" y="288"/>
                  </a:cubicBezTo>
                  <a:cubicBezTo>
                    <a:pt x="188" y="315"/>
                    <a:pt x="136" y="370"/>
                    <a:pt x="125" y="392"/>
                  </a:cubicBezTo>
                </a:path>
              </a:pathLst>
            </a:custGeom>
            <a:noFill/>
            <a:ln w="255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5400000">
              <a:off x="2509560" y="750600"/>
              <a:ext cx="374760" cy="704880"/>
            </a:xfrm>
            <a:custGeom>
              <a:avLst/>
              <a:gdLst/>
              <a:ahLst/>
              <a:rect l="l" t="t" r="r" b="b"/>
              <a:pathLst>
                <a:path w="236" h="444">
                  <a:moveTo>
                    <a:pt x="53" y="0"/>
                  </a:moveTo>
                  <a:cubicBezTo>
                    <a:pt x="45" y="15"/>
                    <a:pt x="0" y="65"/>
                    <a:pt x="9" y="88"/>
                  </a:cubicBezTo>
                  <a:cubicBezTo>
                    <a:pt x="18" y="111"/>
                    <a:pt x="97" y="112"/>
                    <a:pt x="105" y="136"/>
                  </a:cubicBezTo>
                  <a:cubicBezTo>
                    <a:pt x="113" y="160"/>
                    <a:pt x="45" y="207"/>
                    <a:pt x="57" y="232"/>
                  </a:cubicBezTo>
                  <a:cubicBezTo>
                    <a:pt x="69" y="257"/>
                    <a:pt x="166" y="259"/>
                    <a:pt x="177" y="288"/>
                  </a:cubicBezTo>
                  <a:cubicBezTo>
                    <a:pt x="188" y="317"/>
                    <a:pt x="114" y="378"/>
                    <a:pt x="124" y="404"/>
                  </a:cubicBezTo>
                  <a:cubicBezTo>
                    <a:pt x="134" y="430"/>
                    <a:pt x="213" y="436"/>
                    <a:pt x="236" y="444"/>
                  </a:cubicBezTo>
                </a:path>
              </a:pathLst>
            </a:custGeom>
            <a:noFill/>
            <a:ln w="255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2179800" y="2161800"/>
              <a:ext cx="769320" cy="1051200"/>
              <a:chOff x="2179800" y="2161800"/>
              <a:chExt cx="769320" cy="1051200"/>
            </a:xfrm>
          </p:grpSpPr>
          <p:sp>
            <p:nvSpPr>
              <p:cNvPr id="317" name=""/>
              <p:cNvSpPr/>
              <p:nvPr/>
            </p:nvSpPr>
            <p:spPr>
              <a:xfrm rot="20400000">
                <a:off x="2616120" y="2194560"/>
                <a:ext cx="268200" cy="425160"/>
              </a:xfrm>
              <a:custGeom>
                <a:avLst/>
                <a:gdLst/>
                <a:ahLst/>
                <a:rect l="l" t="t" r="r" b="b"/>
                <a:pathLst>
                  <a:path w="169" h="268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6" y="210"/>
                      <a:pt x="57" y="232"/>
                    </a:cubicBezTo>
                    <a:cubicBezTo>
                      <a:pt x="68" y="254"/>
                      <a:pt x="150" y="262"/>
                      <a:pt x="169" y="26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0400000">
                <a:off x="2461320" y="2319480"/>
                <a:ext cx="298440" cy="621720"/>
              </a:xfrm>
              <a:custGeom>
                <a:avLst/>
                <a:gdLst/>
                <a:ahLst/>
                <a:rect l="l" t="t" r="r" b="b"/>
                <a:pathLst>
                  <a:path w="188" h="392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61"/>
                      <a:pt x="177" y="288"/>
                    </a:cubicBezTo>
                    <a:cubicBezTo>
                      <a:pt x="188" y="315"/>
                      <a:pt x="136" y="370"/>
                      <a:pt x="125" y="392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0400000">
                <a:off x="2288880" y="2465280"/>
                <a:ext cx="374760" cy="704520"/>
              </a:xfrm>
              <a:custGeom>
                <a:avLst/>
                <a:gdLst/>
                <a:ahLst/>
                <a:rect l="l" t="t" r="r" b="b"/>
                <a:pathLst>
                  <a:path w="236" h="444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59"/>
                      <a:pt x="177" y="288"/>
                    </a:cubicBezTo>
                    <a:cubicBezTo>
                      <a:pt x="188" y="317"/>
                      <a:pt x="114" y="378"/>
                      <a:pt x="124" y="404"/>
                    </a:cubicBezTo>
                    <a:cubicBezTo>
                      <a:pt x="134" y="430"/>
                      <a:pt x="213" y="436"/>
                      <a:pt x="236" y="444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>
            <a:off x="5802480" y="3352680"/>
            <a:ext cx="3121920" cy="54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ch-cone shape depends on R.P. ang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Mach-cone is a source of of v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2CC-11BC-4AB1-AB2C-3471CA351D8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353040" cy="2590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8076960" cy="19051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304920" y="3300480"/>
            <a:ext cx="8453160" cy="31003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964680" y="472428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SimSun"/>
              </a:rPr>
              <a:t>STAR Prelim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75680" y="3838680"/>
            <a:ext cx="341280" cy="81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SimSun"/>
              </a:rPr>
              <a:t>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71000" y="5070240"/>
            <a:ext cx="341280" cy="57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SimSun"/>
              </a:rPr>
              <a:t>Jet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97200" y="3657600"/>
            <a:ext cx="385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SimSun"/>
              </a:rPr>
              <a:t>3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r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&lt;4, 1.5&lt;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r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&lt;2.0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11120" y="304812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QM08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39160" y="9907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0000">
            <a:off x="839520" y="2452680"/>
            <a:ext cx="94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800000">
            <a:off x="2664000" y="2409840"/>
            <a:ext cx="45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523880" y="1136520"/>
            <a:ext cx="1359000" cy="1111320"/>
          </a:xfrm>
          <a:custGeom>
            <a:avLst/>
            <a:gdLst/>
            <a:ahLst/>
            <a:rect l="l" t="t" r="r" b="b"/>
            <a:pathLst>
              <a:path w="856" h="700">
                <a:moveTo>
                  <a:pt x="0" y="300"/>
                </a:moveTo>
                <a:lnTo>
                  <a:pt x="101" y="700"/>
                </a:lnTo>
                <a:lnTo>
                  <a:pt x="856" y="320"/>
                </a:lnTo>
                <a:lnTo>
                  <a:pt x="696" y="0"/>
                </a:lnTo>
                <a:lnTo>
                  <a:pt x="0" y="30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33360" y="1619280"/>
            <a:ext cx="443160" cy="622440"/>
          </a:xfrm>
          <a:custGeom>
            <a:avLst/>
            <a:gdLst/>
            <a:ahLst/>
            <a:rect l="l" t="t" r="r" b="b"/>
            <a:pathLst>
              <a:path w="279" h="392">
                <a:moveTo>
                  <a:pt x="279" y="392"/>
                </a:moveTo>
                <a:lnTo>
                  <a:pt x="183" y="0"/>
                </a:lnTo>
                <a:lnTo>
                  <a:pt x="0" y="283"/>
                </a:lnTo>
                <a:lnTo>
                  <a:pt x="279" y="392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20100000">
            <a:off x="1679040" y="144756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219320" y="3917880"/>
            <a:ext cx="6172200" cy="1567800"/>
            <a:chOff x="1219320" y="3917880"/>
            <a:chExt cx="6172200" cy="1567800"/>
          </a:xfrm>
        </p:grpSpPr>
        <p:grpSp>
          <p:nvGrpSpPr>
            <p:cNvPr id="336" name=""/>
            <p:cNvGrpSpPr/>
            <p:nvPr/>
          </p:nvGrpSpPr>
          <p:grpSpPr>
            <a:xfrm>
              <a:off x="1219320" y="3917880"/>
              <a:ext cx="6172200" cy="637560"/>
              <a:chOff x="1219320" y="3917880"/>
              <a:chExt cx="6172200" cy="637560"/>
            </a:xfrm>
          </p:grpSpPr>
          <p:sp>
            <p:nvSpPr>
              <p:cNvPr id="337" name=""/>
              <p:cNvSpPr/>
              <p:nvPr/>
            </p:nvSpPr>
            <p:spPr>
              <a:xfrm>
                <a:off x="1295280" y="4466880"/>
                <a:ext cx="609624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95280" y="4006440"/>
                <a:ext cx="3276720" cy="4568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219320" y="391788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438280" y="407016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81280" y="426672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68920" y="432720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987880" y="431136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130880" y="431460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1219320" y="5181480"/>
              <a:ext cx="6172200" cy="304200"/>
              <a:chOff x="1219320" y="5181480"/>
              <a:chExt cx="6172200" cy="304200"/>
            </a:xfrm>
          </p:grpSpPr>
          <p:sp>
            <p:nvSpPr>
              <p:cNvPr id="346" name=""/>
              <p:cNvSpPr/>
              <p:nvPr/>
            </p:nvSpPr>
            <p:spPr>
              <a:xfrm>
                <a:off x="1295280" y="5333760"/>
                <a:ext cx="609624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115040" y="522900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943600" y="518148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68920" y="521316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581280" y="521316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406600" y="522576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19320" y="525744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Text Box 39"/>
          <p:cNvSpPr/>
          <p:nvPr/>
        </p:nvSpPr>
        <p:spPr>
          <a:xfrm>
            <a:off x="2990880" y="36504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j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3"/>
          <p:cNvSpPr/>
          <p:nvPr/>
        </p:nvSpPr>
        <p:spPr>
          <a:xfrm flipH="1">
            <a:off x="2209320" y="609480"/>
            <a:ext cx="838440" cy="38124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ovéPole 30"/>
          <p:cNvSpPr/>
          <p:nvPr/>
        </p:nvSpPr>
        <p:spPr>
          <a:xfrm>
            <a:off x="1142640" y="22860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Au+Au, 200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42720" y="4664160"/>
            <a:ext cx="2745720" cy="54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dge shape depends on R.P. ang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Ridge is a source of of v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108480" y="4648320"/>
            <a:ext cx="2029320" cy="54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t does not depends on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Jet reduces v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09880" y="304920"/>
            <a:ext cx="1752480" cy="2133360"/>
            <a:chOff x="3809880" y="304920"/>
            <a:chExt cx="1752480" cy="2133360"/>
          </a:xfrm>
        </p:grpSpPr>
        <p:sp>
          <p:nvSpPr>
            <p:cNvPr id="359" name=""/>
            <p:cNvSpPr/>
            <p:nvPr/>
          </p:nvSpPr>
          <p:spPr>
            <a:xfrm>
              <a:off x="4190760" y="533160"/>
              <a:ext cx="990720" cy="167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809880" y="990360"/>
              <a:ext cx="15238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09880" y="1218960"/>
              <a:ext cx="17524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495680" y="304920"/>
              <a:ext cx="38088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4572000" y="380880"/>
              <a:ext cx="380880" cy="19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62160" y="1066680"/>
              <a:ext cx="15242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62160" y="1371240"/>
              <a:ext cx="1371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809880" y="1142640"/>
              <a:ext cx="1752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962160" y="1599480"/>
              <a:ext cx="1447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14800" y="685440"/>
              <a:ext cx="12189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4038480" y="761760"/>
              <a:ext cx="121932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62160" y="609120"/>
              <a:ext cx="12956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1752120"/>
              <a:ext cx="12952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5943600" y="228600"/>
            <a:ext cx="2984400" cy="2349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 rot="20953800">
            <a:off x="7659720" y="2376360"/>
            <a:ext cx="950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2032800">
            <a:off x="6249600" y="2223720"/>
            <a:ext cx="45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20878800">
            <a:off x="6629400" y="45684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YTHIA p+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733920" y="2514600"/>
            <a:ext cx="207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way side (in d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 of one di-jet can be near side (in d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 of another di-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C63D-9EBD-4ED3-981A-6B047F4C380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56214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 rot="2668800">
            <a:off x="1399680" y="3857760"/>
            <a:ext cx="838440" cy="13716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4572000"/>
            <a:ext cx="99072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7891800">
            <a:off x="6972480" y="1104840"/>
            <a:ext cx="838080" cy="1371600"/>
          </a:xfrm>
          <a:prstGeom prst="ellips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7389000" y="1763280"/>
            <a:ext cx="992520" cy="468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53080" y="1828800"/>
            <a:ext cx="914400" cy="762120"/>
          </a:xfrm>
          <a:custGeom>
            <a:avLst/>
            <a:gdLst/>
            <a:ahLst/>
            <a:rect l="l" t="t" r="r" b="b"/>
            <a:pathLst>
              <a:path w="720" h="528">
                <a:moveTo>
                  <a:pt x="192" y="0"/>
                </a:moveTo>
                <a:lnTo>
                  <a:pt x="0" y="0"/>
                </a:lnTo>
                <a:lnTo>
                  <a:pt x="192" y="96"/>
                </a:lnTo>
                <a:lnTo>
                  <a:pt x="48" y="240"/>
                </a:lnTo>
                <a:lnTo>
                  <a:pt x="288" y="192"/>
                </a:lnTo>
                <a:lnTo>
                  <a:pt x="240" y="480"/>
                </a:lnTo>
                <a:lnTo>
                  <a:pt x="384" y="336"/>
                </a:lnTo>
                <a:lnTo>
                  <a:pt x="432" y="528"/>
                </a:lnTo>
                <a:lnTo>
                  <a:pt x="576" y="432"/>
                </a:lnTo>
                <a:lnTo>
                  <a:pt x="672" y="528"/>
                </a:lnTo>
                <a:lnTo>
                  <a:pt x="720" y="384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5400000">
            <a:off x="990000" y="3809880"/>
            <a:ext cx="914400" cy="762120"/>
          </a:xfrm>
          <a:custGeom>
            <a:avLst/>
            <a:gdLst/>
            <a:ahLst/>
            <a:rect l="l" t="t" r="r" b="b"/>
            <a:pathLst>
              <a:path w="720" h="528">
                <a:moveTo>
                  <a:pt x="192" y="0"/>
                </a:moveTo>
                <a:lnTo>
                  <a:pt x="0" y="0"/>
                </a:lnTo>
                <a:lnTo>
                  <a:pt x="192" y="96"/>
                </a:lnTo>
                <a:lnTo>
                  <a:pt x="48" y="240"/>
                </a:lnTo>
                <a:lnTo>
                  <a:pt x="288" y="192"/>
                </a:lnTo>
                <a:lnTo>
                  <a:pt x="240" y="480"/>
                </a:lnTo>
                <a:lnTo>
                  <a:pt x="384" y="336"/>
                </a:lnTo>
                <a:lnTo>
                  <a:pt x="432" y="528"/>
                </a:lnTo>
                <a:lnTo>
                  <a:pt x="576" y="432"/>
                </a:lnTo>
                <a:lnTo>
                  <a:pt x="672" y="528"/>
                </a:lnTo>
                <a:lnTo>
                  <a:pt x="720" y="3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0" y="2778120"/>
            <a:ext cx="167652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RIG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3235320"/>
            <a:ext cx="167652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RIG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05320" y="1752480"/>
            <a:ext cx="2235600" cy="2895840"/>
            <a:chOff x="3505320" y="1752480"/>
            <a:chExt cx="2235600" cy="2895840"/>
          </a:xfrm>
        </p:grpSpPr>
        <p:sp>
          <p:nvSpPr>
            <p:cNvPr id="387" name=""/>
            <p:cNvSpPr/>
            <p:nvPr/>
          </p:nvSpPr>
          <p:spPr>
            <a:xfrm>
              <a:off x="3505320" y="1752480"/>
              <a:ext cx="2205360" cy="2895840"/>
            </a:xfrm>
            <a:custGeom>
              <a:avLst/>
              <a:gdLst>
                <a:gd name="textAreaLeft" fmla="*/ 107640 w 2205360"/>
                <a:gd name="textAreaRight" fmla="*/ 2097720 w 2205360"/>
                <a:gd name="textAreaTop" fmla="*/ 107640 h 2895840"/>
                <a:gd name="textAreaBottom" fmla="*/ 2788200 h 2895840"/>
              </a:gdLst>
              <a:ahLst/>
              <a:rect l="textAreaLeft" t="textAreaTop" r="textAreaRight" b="textAreaBottom"/>
              <a:pathLst>
                <a:path w="21600" h="28362">
                  <a:moveTo>
                    <a:pt x="3600" y="0"/>
                  </a:moveTo>
                  <a:arcTo wR="3600" hR="3600" stAng="16200000" swAng="-5400000"/>
                  <a:lnTo>
                    <a:pt x="0" y="24762"/>
                  </a:lnTo>
                  <a:arcTo wR="3600" hR="3600" stAng="10800000" swAng="-5400000"/>
                  <a:lnTo>
                    <a:pt x="18000" y="283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571560" y="1828800"/>
              <a:ext cx="2057400" cy="2763720"/>
              <a:chOff x="3571560" y="1828800"/>
              <a:chExt cx="2057400" cy="276372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4211280" y="2582280"/>
                <a:ext cx="799200" cy="1380600"/>
                <a:chOff x="4211280" y="2582280"/>
                <a:chExt cx="799200" cy="138060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4211280" y="2582280"/>
                  <a:ext cx="799200" cy="1380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3571560" y="3260160"/>
                <a:ext cx="20574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622760" y="1828800"/>
                <a:ext cx="720" cy="276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3845520" y="2480040"/>
                <a:ext cx="1485720" cy="16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 flipV="1">
                <a:off x="3912840" y="2480040"/>
                <a:ext cx="1487880" cy="16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 flipV="1">
              <a:off x="4730400" y="2361960"/>
              <a:ext cx="24480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893840" y="2895120"/>
              <a:ext cx="571680" cy="22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4730400" y="3657600"/>
              <a:ext cx="244800" cy="5335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4893840" y="3352320"/>
              <a:ext cx="571680" cy="2286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059080" y="260496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-p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66280" y="351936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-p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569120" y="411480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-of-p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69120" y="1995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-of-p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9043-52CC-4D31-863D-F85E2DCBC97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uhan meeting, 4-6/Dec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6:40:47Z</dcterms:created>
  <dc:creator>Esumi ShinIchi</dc:creator>
  <dc:description/>
  <dc:language>en-US</dc:language>
  <cp:lastModifiedBy>chxiang</cp:lastModifiedBy>
  <cp:lastPrinted>2008-12-03T14:26:53Z</cp:lastPrinted>
  <dcterms:modified xsi:type="dcterms:W3CDTF">2008-12-05T05:40:12Z</dcterms:modified>
  <cp:revision>25</cp:revision>
  <dc:subject/>
  <dc:title>PowerPoint プレゼンテーション</dc:title>
</cp:coreProperties>
</file>