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9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63.jpeg" ContentType="image/jpeg"/>
  <Override PartName="/ppt/media/image29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5A0-43EE-42BF-9547-3E0FE8461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CF13-574F-4798-AEE4-23CC711F6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BDA-294F-4916-9078-E46E2ED7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4C2-3DF1-42E7-ADBC-BB84CC1A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84BA-A530-4C7D-BC19-1310B0357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A75-15AB-4905-9A21-AE64781E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60F-DF5E-498C-8CDF-2261BA22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3B3-9600-4442-B17F-85EDEB6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5F9-46FD-40B6-B376-5198E115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A852-C74C-435B-A5F2-2B8ADFF2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AF26-7B4A-43E4-9C44-354FDED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192-02CF-4CD9-8D3B-F7759E9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066-69F6-4CB5-9A5C-8B28E44E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B90-7D09-4817-BAD7-C20057F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DE86-7417-4371-8C48-3BF2D26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180-C3FD-48D0-85CB-7CFE5E6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CA3-38A7-4731-A65F-11B17F8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1794-0EFB-4BA7-B47D-64B8F5D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1398-01AA-471E-A002-CD2AFE6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F46A-AC1D-4F2E-A100-328E540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E92-36FA-41DB-BBF0-B9B7F61A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0C9-19B2-45CD-9457-49D3303B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FF3-A26D-4A0E-81C3-4D74C78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7D1-80A8-404E-87BC-4DDFFD59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F24-501A-486B-AB4A-A73C5F6A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F91-C494-44DB-8A26-266C4DB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EE6-99DB-4510-A93A-EDCA83C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F6F-06EA-428C-A016-A3D2BD6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31F-5AB0-4DA0-9998-4766E20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cc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3F9-B897-453E-8B04-BCCC0BE94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_0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9E5-E438-4B59-AFBC-B8F86BD3583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cc"/>
              </a:buClr>
              <a:buFont typeface="Arial"/>
              <a:buChar char="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33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56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2.png"/><Relationship Id="rId5" Type="http://schemas.openxmlformats.org/officeDocument/2006/relationships/image" Target="../media/image63.jpe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800" y="836280"/>
            <a:ext cx="912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ystematic Study of Elliptic Flow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t RHIC-PHENIX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49240" y="4076640"/>
            <a:ext cx="835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Maya SHIMOMURA  for the PHENIX Collaborations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University of Tsukuba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09960" y="638172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eptember 11,   DIFFRACTIO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4520" y="6018120"/>
            <a:ext cx="1728720" cy="63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89960" y="6093000"/>
            <a:ext cx="201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931-E472-40C4-97C7-D68DBECF00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416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FE3-E462-4831-8004-EF6F204008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12520" y="259920"/>
            <a:ext cx="4894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52160" y="1384200"/>
            <a:ext cx="2879640" cy="749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62.4 and 200 GeV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21240" y="1201680"/>
            <a:ext cx="5168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pendence of centrality (N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pare the results in Cu + Cu which is smaller collision size than  Au+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omparison of PID hadrons. pi/K/p </a:t>
            </a:r>
            <a:r>
              <a:rPr b="1" lang="en-US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xt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28880" y="5769000"/>
            <a:ext cx="5976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200GeV and 62GeV are consist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95400" y="2867040"/>
            <a:ext cx="3525840" cy="2728800"/>
            <a:chOff x="995400" y="2867040"/>
            <a:chExt cx="3525840" cy="272880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995400" y="2867040"/>
              <a:ext cx="352584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641600" y="3074760"/>
              <a:ext cx="259236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311800" y="2900520"/>
            <a:ext cx="3529080" cy="2695320"/>
            <a:chOff x="5311800" y="2900520"/>
            <a:chExt cx="3529080" cy="2695320"/>
          </a:xfrm>
        </p:grpSpPr>
        <p:pic>
          <p:nvPicPr>
            <p:cNvPr id="428" name="" descr=""/>
            <p:cNvPicPr/>
            <p:nvPr/>
          </p:nvPicPr>
          <p:blipFill>
            <a:blip r:embed="rId2"/>
            <a:stretch/>
          </p:blipFill>
          <p:spPr>
            <a:xfrm>
              <a:off x="5311800" y="2900520"/>
              <a:ext cx="352908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959440" y="3074760"/>
              <a:ext cx="259236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639800" y="3076560"/>
            <a:ext cx="12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05240" y="26449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53240" y="26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152880" y="3094200"/>
            <a:ext cx="1152360" cy="709200"/>
            <a:chOff x="3152880" y="3094200"/>
            <a:chExt cx="1152360" cy="709200"/>
          </a:xfrm>
        </p:grpSpPr>
        <p:sp>
          <p:nvSpPr>
            <p:cNvPr id="434" name=""/>
            <p:cNvSpPr/>
            <p:nvPr/>
          </p:nvSpPr>
          <p:spPr>
            <a:xfrm>
              <a:off x="3152880" y="3094200"/>
              <a:ext cx="1152360" cy="70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32440" y="3612240"/>
              <a:ext cx="119160" cy="1314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2440" y="3133800"/>
              <a:ext cx="119160" cy="12672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32440" y="3389400"/>
              <a:ext cx="119160" cy="12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545240" y="3251160"/>
            <a:ext cx="1152360" cy="477720"/>
            <a:chOff x="7545240" y="3251160"/>
            <a:chExt cx="1152360" cy="477720"/>
          </a:xfrm>
        </p:grpSpPr>
        <p:sp>
          <p:nvSpPr>
            <p:cNvPr id="439" name=""/>
            <p:cNvSpPr/>
            <p:nvPr/>
          </p:nvSpPr>
          <p:spPr>
            <a:xfrm>
              <a:off x="7545240" y="3251160"/>
              <a:ext cx="115236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4440" y="3520800"/>
              <a:ext cx="119160" cy="131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4440" y="3298680"/>
              <a:ext cx="119160" cy="12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961240" y="3095640"/>
            <a:ext cx="129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568520" y="2610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889600" y="261000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863800" y="37609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84880" y="3689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478-1554-46F8-AB51-95284A6DF1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313240" cy="28368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14680" y="115560"/>
            <a:ext cx="475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9800" y="5084280"/>
            <a:ext cx="6553080" cy="10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17GeV (SPS) decreases to about 50% of RHIC energies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llision energy has larger v2 up to RHIC energy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ve 62.4 GeV, 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saturated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ndicate the matter reached thermal equilibrium state at RHIC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313240" y="692280"/>
            <a:ext cx="4537080" cy="32414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337440" y="1155600"/>
            <a:ext cx="10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: neg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e: pos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028080" y="1755720"/>
            <a:ext cx="3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8904240" y="144288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85080" y="404640"/>
            <a:ext cx="1368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an p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39800" y="1628640"/>
            <a:ext cx="21589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1600" y="774720"/>
            <a:ext cx="3598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hadrons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K/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pendence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056520" y="2205000"/>
            <a:ext cx="3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8520" y="448452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lt;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gt; of 62.4 GeV and 200 GeV are consistent within errors on pi/K/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ｐ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herefore v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agree at any 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gion in fig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824520" y="3832200"/>
            <a:ext cx="2818080" cy="2465280"/>
            <a:chOff x="6824520" y="3832200"/>
            <a:chExt cx="2818080" cy="2465280"/>
          </a:xfrm>
        </p:grpSpPr>
        <p:pic>
          <p:nvPicPr>
            <p:cNvPr id="460" name="" descr=""/>
            <p:cNvPicPr/>
            <p:nvPr/>
          </p:nvPicPr>
          <p:blipFill>
            <a:blip r:embed="rId3"/>
            <a:srcRect l="0" t="7467" r="3780" b="0"/>
            <a:stretch/>
          </p:blipFill>
          <p:spPr>
            <a:xfrm>
              <a:off x="6824520" y="3933720"/>
              <a:ext cx="281808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545240" y="3832200"/>
              <a:ext cx="165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4, 2323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9107640" y="2606760"/>
                <a:ext cx="20772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3728880" y="184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8707320" y="409428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15800" y="167472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BF8-1297-43E8-90CD-6464E35C1E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12520" y="1133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29960" y="2565000"/>
            <a:ext cx="5110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Eccentricity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44880" y="37162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change the size of collision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es of collision nucleus (Au+Au ,Cu+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DB0-EB55-4C75-AE15-F16FD8A767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4030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495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3D6-6440-46DE-B747-1788343738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1C7-6CD5-4D4D-8BCD-8B2491F43F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F51-79BD-4639-87E9-BEA7FD62A6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28880" y="5445000"/>
            <a:ext cx="56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onstant and it shades depending o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28880" y="5967360"/>
            <a:ext cx="525600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be normal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t same N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pa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nough to determin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AC2-4EB3-4826-8581-AB09F70877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008160" y="1917720"/>
            <a:ext cx="2887920" cy="28796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-15840" y="198900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6321600" y="182412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4520" y="981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6560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04880" y="5573880"/>
            <a:ext cx="878508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u+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136520" y="328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EC4-EB33-4AF8-8527-2D5A1C06F3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05200" y="824040"/>
            <a:ext cx="5118120" cy="2757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03840" y="457200"/>
            <a:ext cx="33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4 Countries;  69 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0440" y="3733920"/>
            <a:ext cx="47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Abilene Christian University, Abilene, TX 79699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ollider-Accelerator Department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hysics Department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California - Riverside, Riverside, CA 9252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Colorado, Boulder, CO 80309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olumbia University, New York, NY 10027 and Nevis Laboratories, Irvington, NY 1053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lorida Institute of Technology, Melbourne, FL 3290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lorida State University, Tallahassee, FL 3230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Georgia State University, Atlanta, GA 3030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Illinois at Urbana-Champaign, Urbana, IL 6180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owa State University, Ames, IA 5001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wrence Livermore National Laboratory, Livermore, CA 9455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os Alamos National Laboratory, Los Alamos, NM 87545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Maryland, College Park, MD 20742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University of Massachusetts, Amherst, MA 01003-9337, U.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uhlenberg College, Allentown, PA 18104-558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New Mexico, Albuquerque, NM 87131, U.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New Mexico State University, Las Cruces, NM 8800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Oak Ridge National Laboratory, Oak Ridge, TN 3783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IKEN BNL Research Center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emistry Department, Stony Brook University, Stony Brook, SUNY, NY 11794-34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 and Astronomy, Stony Brook University, SUNY, Stony Brook, NY 11794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Tennessee, Knoxville, TN 3799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Vanderbilt University, Nashville, TN 37235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2440"/>
            <a:ext cx="495288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dade de São Paulo, Instituto de Física, Caixa Postal 66318, São Paulo CEP05315-970, Braz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Academia Sinica, Taipei 11529, Taiw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ina Institute of Atomic Energy (CIAE), Beijing, People's Republic of 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eking University, Beijing, People's Republic of 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arles University, Ovocnytrh 5, Praha 1, 116 36, Prague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zech Technical University, Zikova 4, 166 36 Prague 6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Academy of Sciences of the Czech Republic, Na Slovance 2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182 21 Prague 8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elsinki Institute of Physics and University of Jyväskylä, P.O.Box 35, FI-40014 Jyväskylä, Fin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apnia, CEA Saclay, F-91191, Gif-sur-Yvette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boratoire Leprince-Ringuet, Ecole Polytechnique, CNRS-IN2P3, Route de Sacla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-91128, Palaiseau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boratoire de Physique Corpusculaire (LPC), Université Blaise Pascal, CNRS-IN2P3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lermont-Fd, 63177 Aubiere Cedex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PN-Orsay, Universite Paris Sud, CNRS-IN2P3, BP1, F-91406, Orsay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UBATECH (Ecole des Mines de Nantes, CNRS-IN2P3, Université de Nante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BP 20722 - 44307, Nantes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 für Kernphysik, University of Münster, D-48149 Münster, 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brecen University, H-4010 Debrecen, Egyetem tér 1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ELTE, Eötvös Loránd University, H - 1117 Budapest, Pázmány P. s. 1/A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FKI Research Institute for Particle and Nuclear Physics of the Hungarian Academy of Sciences (MTA KFKI RMKI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-1525 Budapest 114, POBox 49, Budapest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Banaras Hindu University, Varanasi 221005, 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Bhabha Atomic Research Centre, Bombay 400 085, 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Weizmann Institute, Rehovot 76100, Isr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enter for Nuclear Study, Graduate School of Science, University of Tokyo, 7-3-1 Hongo, Bunky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Tokyo 113-0033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iroshima University, Kagamiyama, Higashi-Hiroshima 739-8526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EK, High Energy Accelerator Research Organization, Tsukuba, Ibaraki 305-080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yoto University, Kyoto 606-8502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Nagasaki Institute of Applied Science, Nagasaki-shi, Nagasaki 851-0193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IKEN, The Institute of Physical and Chemical Research, Wako, Saitama 351-0198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hysics Department, Rikkyo University, 3-34-1 Nishi-Ikebukuro, Toshima, Tokyo 171-850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Tokyo Institute of Technology, Oh-okayama, Meguro, Tokyo 152-855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University of Tsukuba, Tsukuba, Ibaraki 305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Waseda University, Advanced Research Institute for Science and Engineering, 17  Kikui-ch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hinjuku-ku, Tokyo 162-0044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onbuk National University, Jeonju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Ewha Womans University, Seoul 120-750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AERI, Cyclotron Application Laboratory, Seoul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angnung National University, Kangnung 210-702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orea University, Seoul, 136-701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yongji University, Yongin, Kyonggido 449-728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ystem Electronics Laboratory, Seoul National University, Seoul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Yonsei University, IPAP, Seoul 120-749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HEP Protvino, State Research Center of Russian Federation, Institute for High Energy Physic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rotvino, 142281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Joint Institute for Nuclear Research, 141980 Dubna, Moscow Regio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ussian Research Center "Kurchatov Institute", Moscow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NPI, Petersburg Nuclear Physics Institute, Gatchina, Leningrad region, 188300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aint Petersburg State Polytechnic University, St. Petersburg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kobeltsyn Institute of Nuclear Physics, Lomonosov Moscow State University, Vorob'evy Gor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oscow 119992, Russ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Lund University, Box 118, SE-221 00 Lund, Swe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147600"/>
            <a:ext cx="1486080" cy="538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4520" y="327672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61E-7354-4F7D-B2FA-A5A50FBB1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928960" y="1916280"/>
            <a:ext cx="2960640" cy="2952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7240" y="1936800"/>
            <a:ext cx="2879640" cy="285588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0488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703440" y="2131920"/>
            <a:ext cx="863280" cy="3142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352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0520" y="11080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2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6321600" y="1916280"/>
            <a:ext cx="3409920" cy="3209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8193240" y="2133720"/>
            <a:ext cx="1226880" cy="10904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6"/>
          <a:stretch/>
        </p:blipFill>
        <p:spPr>
          <a:xfrm>
            <a:off x="351000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7"/>
          <a:stretch/>
        </p:blipFill>
        <p:spPr>
          <a:xfrm>
            <a:off x="1781280" y="213372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787-F0C1-4223-B06F-FD3229E721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85680" y="1989000"/>
            <a:ext cx="2851200" cy="28432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3081240" y="1989000"/>
            <a:ext cx="2887920" cy="2880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71800" y="1622520"/>
            <a:ext cx="17290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3180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32520" y="2997360"/>
            <a:ext cx="28908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415800" y="4554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60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6392880" y="194796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88880" y="119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4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185436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4805280" y="339408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8481960" y="364500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35448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893-E670-47CA-84DB-E522BC162E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3527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624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87B-4743-4CC4-A548-FC667109F0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84520" y="1422000"/>
            <a:ext cx="748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Universal v</a:t>
            </a:r>
            <a:r>
              <a:rPr b="0" lang="en-US" sz="4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929960" y="3111480"/>
            <a:ext cx="7480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Quark number + K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Arial"/>
              </a:rPr>
              <a:t>ET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Universal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A65-1049-4E72-8BE2-14B2D1A02F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671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1288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475-4941-4197-AF6B-BE2781001E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965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62.4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36520" y="863640"/>
            <a:ext cx="6050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HENIX: Error bars include both statistical and systematic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AR: Error bars include statistical errors. Yellow band indicates systematic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33280" y="1704960"/>
            <a:ext cx="9672840" cy="35244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7440120" y="1137600"/>
            <a:ext cx="23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 results :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hys. Rev. C 7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00880" y="765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entrality 10-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20880" y="5823000"/>
            <a:ext cx="7345080" cy="74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universal curve independent on particl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2160" y="5300280"/>
            <a:ext cx="734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caling is OK at 62.4 GeV, too!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65240" y="1628640"/>
            <a:ext cx="136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16520" y="1628640"/>
            <a:ext cx="1944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84880" y="1628640"/>
            <a:ext cx="2232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28520" y="162864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D82-1910-4313-AF71-C2A45ADE98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641600" y="647640"/>
            <a:ext cx="6840360" cy="530244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712520" y="117360"/>
            <a:ext cx="583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2 vs. pT at Cu+Cu in 200GeV collision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00160" y="587664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ality dependence of PID v2 vs. pT for Cu+Cu 200GeV is measured.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7473960" y="3475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489-7EDB-40EB-B3C6-2A73A1F27A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35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969240" y="189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+Cu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 =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99800" y="57337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rk number + 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aling seems to works out at Cu+Cu 200GeV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40520" y="1844640"/>
            <a:ext cx="273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ll centrality, (between 0- 50 %)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 is consistent to  quark number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560520" y="642960"/>
            <a:ext cx="6480000" cy="502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082-BB4D-4A9D-A55A-1F8A7186F7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5545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Summary of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77600" y="2349360"/>
            <a:ext cx="849636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nergy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o chang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of participa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peci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ticipants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B3D-6544-4B9E-880B-1C4A5B099B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741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29960" y="115560"/>
            <a:ext cx="3527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D89-2C39-43D2-8D64-4282A032CA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29960" y="43920"/>
            <a:ext cx="7480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880" y="836280"/>
            <a:ext cx="5688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GP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RHIC-PHENIX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lliptic Flow (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Motivation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Results 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nergy dependence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BA2-1BED-4CE7-A56A-54F43E10D1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F2A-8CB3-4818-8FC3-32477D8BCC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772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773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E4B-093F-4202-B091-3394553E65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60520" y="558972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nsistent at 0-50% centralitie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780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781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"/>
          <p:cNvGrpSpPr/>
          <p:nvPr/>
        </p:nvGrpSpPr>
        <p:grpSpPr>
          <a:xfrm>
            <a:off x="6543720" y="1406520"/>
            <a:ext cx="2801880" cy="3967200"/>
            <a:chOff x="6543720" y="1406520"/>
            <a:chExt cx="2801880" cy="3967200"/>
          </a:xfrm>
        </p:grpSpPr>
        <p:sp>
          <p:nvSpPr>
            <p:cNvPr id="784" name=""/>
            <p:cNvSpPr/>
            <p:nvPr/>
          </p:nvSpPr>
          <p:spPr>
            <a:xfrm>
              <a:off x="7042320" y="140652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Npar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/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3"/>
            <a:stretch/>
          </p:blipFill>
          <p:spPr>
            <a:xfrm>
              <a:off x="6543720" y="1773360"/>
              <a:ext cx="274320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BD0-616B-428D-9FAA-B43CA08A50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496880" y="148428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(KET/nq)/nq/epar/Npart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39440" y="188640"/>
            <a:ext cx="3886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Universal Scaling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808520" y="907920"/>
            <a:ext cx="496872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ystem (Au+Au, Cu+Cu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(200GeV - 62.4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600880" y="3135240"/>
                <a:ext cx="27349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6105600" y="2276640"/>
            <a:ext cx="1512720" cy="79056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881600" y="5445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iversal Curve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05600" y="4726080"/>
            <a:ext cx="1512720" cy="79056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2600" y="789120"/>
            <a:ext cx="4724640" cy="54482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57240" y="789120"/>
            <a:ext cx="4724280" cy="54482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849240" y="34113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ndf = 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0160" y="5661000"/>
            <a:ext cx="18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symbol - Au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symbol - C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7F4-1BB8-44DF-B6C7-124D3DACB1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712880" y="189000"/>
            <a:ext cx="316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68520" y="1090080"/>
            <a:ext cx="762624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measured at 4 system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+Au, Cu+Cu) x (62.4GeV, 200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obtained in different collision energi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62.4 - 200GeV)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various hadron species are scaled by quark number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at these three system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results for Cu+Cu 62.4GeV )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caled by participant Eccentricity are consistent between Au+Au and Cu+Cu collisions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caled by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ndicates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re determined by the initial geometrical anisotropy and its time evolution effect depending on the initial volum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870-3770-458A-83CD-1F8DE89A5B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1800" y="274680"/>
            <a:ext cx="8278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on by simple expansion model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87480" y="5661000"/>
            <a:ext cx="75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 until chemical freeze-out is proportional to N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6969240" y="1628640"/>
            <a:ext cx="2517840" cy="581040"/>
          </a:xfrm>
          <a:prstGeom prst="rect">
            <a:avLst/>
          </a:prstGeom>
          <a:ln w="0">
            <a:noFill/>
          </a:ln>
        </p:spPr>
      </p:pic>
      <p:grpSp>
        <p:nvGrpSpPr>
          <p:cNvPr id="802" name=""/>
          <p:cNvGrpSpPr/>
          <p:nvPr/>
        </p:nvGrpSpPr>
        <p:grpSpPr>
          <a:xfrm>
            <a:off x="98280" y="907920"/>
            <a:ext cx="6941880" cy="4392360"/>
            <a:chOff x="98280" y="907920"/>
            <a:chExt cx="6941880" cy="4392360"/>
          </a:xfrm>
        </p:grpSpPr>
        <p:pic>
          <p:nvPicPr>
            <p:cNvPr id="803" name="" descr=""/>
            <p:cNvPicPr/>
            <p:nvPr/>
          </p:nvPicPr>
          <p:blipFill>
            <a:blip r:embed="rId2"/>
            <a:stretch/>
          </p:blipFill>
          <p:spPr>
            <a:xfrm>
              <a:off x="98280" y="975960"/>
              <a:ext cx="694188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4466160" y="1557000"/>
              <a:ext cx="703080" cy="64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778640" y="1268280"/>
              <a:ext cx="774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32160" y="907920"/>
              <a:ext cx="16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um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208160" y="4941720"/>
            <a:ext cx="40320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is done by Dr.Ko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6608880" y="2637000"/>
            <a:ext cx="3133440" cy="25304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6897600" y="2170080"/>
            <a:ext cx="2868840" cy="4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612-E57D-4AB9-884D-76B41994F78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711080" y="131760"/>
            <a:ext cx="705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y of v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duction and development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48160" y="692280"/>
            <a:ext cx="1873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Low to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57240" y="126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57240" y="1916280"/>
            <a:ext cx="16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0016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57240" y="34225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d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5724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68520" y="1341360"/>
            <a:ext cx="0" cy="4175280"/>
          </a:xfrm>
          <a:prstGeom prst="line">
            <a:avLst/>
          </a:prstGeom>
          <a:ln w="50760">
            <a:solidFill>
              <a:srgbClr val="333399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78452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31800" y="126828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017960" y="1268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initial geometrical eccentricity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th the particip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089240" y="2060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pressure gradient from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657600" y="263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60880" y="3343320"/>
            <a:ext cx="482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This finite time becomes longer with larger collision system, and the v</a:t>
            </a:r>
            <a:r>
              <a:rPr b="0" lang="en-US" sz="1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 increases proportion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9240" y="2492280"/>
            <a:ext cx="4249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xpanding during finit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depending on the kind of qu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448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5240" y="407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dial flow depending on each mass expa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4488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30524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5F8-0E29-40F7-A460-97CF58C34B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63980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1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47560" y="836280"/>
            <a:ext cx="8942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systems have same 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f paricipant geometry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85960" y="2138400"/>
            <a:ext cx="934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241960" y="1969920"/>
            <a:ext cx="504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24160" y="1916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792160" y="220500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92520" y="217188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0718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84520" y="234936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6120" y="1628640"/>
            <a:ext cx="12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792520" y="27082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335560" y="2487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12880" y="1773360"/>
            <a:ext cx="11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24160" y="3357720"/>
            <a:ext cx="151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737240" y="3405240"/>
            <a:ext cx="158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465960" y="1998720"/>
            <a:ext cx="324144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depends on eccentricity of initial participant geometry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be constant at an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it is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57240" y="4365720"/>
            <a:ext cx="792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352520" y="1544760"/>
            <a:ext cx="496908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68880" y="4653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152880" y="40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07324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24196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792160" y="4437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65600" y="44370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08160" y="515772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584520" y="4726080"/>
            <a:ext cx="50472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352520" y="3860640"/>
            <a:ext cx="49690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68520" y="4005360"/>
            <a:ext cx="15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25960" y="417204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465960" y="3759120"/>
            <a:ext cx="3224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o explai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addition to the initial geometrical eccentricity,   there are something related t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718080" y="52848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CBD-BE8A-484E-BA70-B0000830A0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39440" y="115560"/>
            <a:ext cx="6838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2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47800" y="764640"/>
            <a:ext cx="820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same eccentricity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(number of participants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537240" y="1341360"/>
            <a:ext cx="2879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comes consistent after scaled by not on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 also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641600" y="1701720"/>
            <a:ext cx="79200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1989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76520" y="1406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5724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2596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576160" y="1773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449600" y="177336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792520" y="213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68520" y="177336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36520" y="1341360"/>
            <a:ext cx="504036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96880" y="134136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737240" y="1508040"/>
            <a:ext cx="107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81240" y="352440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305240" y="3556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073240" y="310356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C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D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368520" y="263700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53724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s it because of thickness increasing along beam axis then energy per unit area increasing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392880" y="3206880"/>
            <a:ext cx="309708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GeV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2.4G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335640" y="3683160"/>
            <a:ext cx="322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oncludes that increasing dN/dy doesn’t chang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RHIC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8124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10672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53036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62200" y="5191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8900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712880" y="5900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62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25600" y="438768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3708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36256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86200" y="52531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18040" y="5119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245200" y="52531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52880" y="58514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681440" y="4340160"/>
            <a:ext cx="106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936880" y="4357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2576160" y="465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60880" y="465300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273480" y="471312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0880" y="520704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12880" y="4791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9910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264360" y="4508640"/>
            <a:ext cx="3512880" cy="177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t might be because that number of participant to 1/3 (like length) is proportional to the time period taken to freeze out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, and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xpands proportional to tha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3456000" y="2220840"/>
                <a:ext cx="3445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BA5-642E-4C1A-BAC0-60C9B32CFA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064880" y="1422360"/>
            <a:ext cx="6334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cc"/>
                </a:solidFill>
                <a:latin typeface="Arial"/>
              </a:rPr>
              <a:t>Back Up</a:t>
            </a:r>
            <a:endParaRPr b="0" lang="en-US" sz="8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D18-D692-4EDD-94E3-84482D2D7CE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6160" y="1155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Quark Gluon Plasma (QGP)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54520" y="2565360"/>
            <a:ext cx="502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Prediction from Lattice QCD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 ~ 170 MeV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ε~ 1.0 GeV/f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Quarks become de-comfined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Phase transition to QGP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Normal Nucleus: ε ~ 0.2 GeV/f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High energy nuclear collision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u+Au  √s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200GeV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"/>
              </a:rPr>
              <a:t>RHIC :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 ~ 15 GeV/f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8520" y="2071800"/>
            <a:ext cx="460368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720" y="177336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diagram ; QGP &amp;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7960" y="2565360"/>
            <a:ext cx="64620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808520" y="903960"/>
            <a:ext cx="1654560" cy="1551960"/>
            <a:chOff x="4808520" y="903960"/>
            <a:chExt cx="1654560" cy="1551960"/>
          </a:xfrm>
        </p:grpSpPr>
        <p:grpSp>
          <p:nvGrpSpPr>
            <p:cNvPr id="110" name=""/>
            <p:cNvGrpSpPr/>
            <p:nvPr/>
          </p:nvGrpSpPr>
          <p:grpSpPr>
            <a:xfrm>
              <a:off x="4861080" y="1371960"/>
              <a:ext cx="546120" cy="369000"/>
              <a:chOff x="4861080" y="1371960"/>
              <a:chExt cx="546120" cy="369000"/>
            </a:xfrm>
          </p:grpSpPr>
          <p:sp>
            <p:nvSpPr>
              <p:cNvPr id="111" name=""/>
              <p:cNvSpPr/>
              <p:nvPr/>
            </p:nvSpPr>
            <p:spPr>
              <a:xfrm rot="4810800">
                <a:off x="4990320" y="130392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810800">
                <a:off x="5157360" y="14619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810800">
                <a:off x="4967640" y="15076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57960" y="981000"/>
              <a:ext cx="504720" cy="504720"/>
              <a:chOff x="5457960" y="981000"/>
              <a:chExt cx="504720" cy="504720"/>
            </a:xfrm>
          </p:grpSpPr>
          <p:sp>
            <p:nvSpPr>
              <p:cNvPr id="115" name=""/>
              <p:cNvSpPr/>
              <p:nvPr/>
            </p:nvSpPr>
            <p:spPr>
              <a:xfrm>
                <a:off x="5747040" y="10857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31040" y="10857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35800" y="12855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57960" y="98100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0440" y="919080"/>
              <a:ext cx="563040" cy="556920"/>
              <a:chOff x="4960440" y="919080"/>
              <a:chExt cx="563040" cy="556920"/>
            </a:xfrm>
          </p:grpSpPr>
          <p:sp>
            <p:nvSpPr>
              <p:cNvPr id="120" name=""/>
              <p:cNvSpPr/>
              <p:nvPr/>
            </p:nvSpPr>
            <p:spPr>
              <a:xfrm rot="18829800">
                <a:off x="5098320" y="94500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8829800">
                <a:off x="5094000" y="10623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8829800">
                <a:off x="5243760" y="11883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202720" y="1444680"/>
              <a:ext cx="580320" cy="512640"/>
              <a:chOff x="5202720" y="1444680"/>
              <a:chExt cx="580320" cy="512640"/>
            </a:xfrm>
          </p:grpSpPr>
          <p:sp>
            <p:nvSpPr>
              <p:cNvPr id="124" name=""/>
              <p:cNvSpPr/>
              <p:nvPr/>
            </p:nvSpPr>
            <p:spPr>
              <a:xfrm rot="14259600">
                <a:off x="5348880" y="144828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4259600">
                <a:off x="5340600" y="168768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4259600">
                <a:off x="5498640" y="1572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367240" y="1813320"/>
              <a:ext cx="539640" cy="353880"/>
              <a:chOff x="5367240" y="1813320"/>
              <a:chExt cx="539640" cy="353880"/>
            </a:xfrm>
          </p:grpSpPr>
          <p:sp>
            <p:nvSpPr>
              <p:cNvPr id="128" name=""/>
              <p:cNvSpPr/>
              <p:nvPr/>
            </p:nvSpPr>
            <p:spPr>
              <a:xfrm rot="15726000">
                <a:off x="5493240" y="173772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726000">
                <a:off x="5468040" y="193860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726000">
                <a:off x="5659560" y="189900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778720" y="1805040"/>
              <a:ext cx="580320" cy="512640"/>
              <a:chOff x="5778720" y="1805040"/>
              <a:chExt cx="580320" cy="512640"/>
            </a:xfrm>
          </p:grpSpPr>
          <p:sp>
            <p:nvSpPr>
              <p:cNvPr id="132" name=""/>
              <p:cNvSpPr/>
              <p:nvPr/>
            </p:nvSpPr>
            <p:spPr>
              <a:xfrm rot="14259600">
                <a:off x="5924880" y="180864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4259600">
                <a:off x="5916600" y="204804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259600">
                <a:off x="6074640" y="1932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079600" y="2098800"/>
              <a:ext cx="540720" cy="357120"/>
              <a:chOff x="5079600" y="2098800"/>
              <a:chExt cx="540720" cy="357120"/>
            </a:xfrm>
          </p:grpSpPr>
          <p:sp>
            <p:nvSpPr>
              <p:cNvPr id="136" name=""/>
              <p:cNvSpPr/>
              <p:nvPr/>
            </p:nvSpPr>
            <p:spPr>
              <a:xfrm rot="15701400">
                <a:off x="5205960" y="202464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5701400">
                <a:off x="5181120" y="222624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5701400">
                <a:off x="5372280" y="21855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887440" y="903960"/>
              <a:ext cx="575640" cy="533520"/>
              <a:chOff x="5887440" y="903960"/>
              <a:chExt cx="575640" cy="533520"/>
            </a:xfrm>
          </p:grpSpPr>
          <p:sp>
            <p:nvSpPr>
              <p:cNvPr id="140" name=""/>
              <p:cNvSpPr/>
              <p:nvPr/>
            </p:nvSpPr>
            <p:spPr>
              <a:xfrm rot="18427200">
                <a:off x="6031440" y="91800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427200">
                <a:off x="6020280" y="104508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427200">
                <a:off x="6183720" y="11523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816520" y="1341360"/>
              <a:ext cx="504720" cy="504720"/>
              <a:chOff x="5816520" y="1341360"/>
              <a:chExt cx="504720" cy="504720"/>
            </a:xfrm>
          </p:grpSpPr>
          <p:sp>
            <p:nvSpPr>
              <p:cNvPr id="144" name=""/>
              <p:cNvSpPr/>
              <p:nvPr/>
            </p:nvSpPr>
            <p:spPr>
              <a:xfrm>
                <a:off x="6105600" y="1446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89600" y="1446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94360" y="16459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16520" y="134136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808520" y="1701720"/>
              <a:ext cx="504720" cy="504720"/>
              <a:chOff x="4808520" y="1701720"/>
              <a:chExt cx="504720" cy="504720"/>
            </a:xfrm>
          </p:grpSpPr>
          <p:sp>
            <p:nvSpPr>
              <p:cNvPr id="149" name=""/>
              <p:cNvSpPr/>
              <p:nvPr/>
            </p:nvSpPr>
            <p:spPr>
              <a:xfrm>
                <a:off x="5097600" y="1806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81600" y="1806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86360" y="20062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8520" y="170172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 rot="16200000">
            <a:off x="6604920" y="1416960"/>
            <a:ext cx="52200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45240" y="981000"/>
            <a:ext cx="1439640" cy="1225440"/>
            <a:chOff x="7545240" y="981000"/>
            <a:chExt cx="1439640" cy="1225440"/>
          </a:xfrm>
        </p:grpSpPr>
        <p:sp>
          <p:nvSpPr>
            <p:cNvPr id="155" name=""/>
            <p:cNvSpPr/>
            <p:nvPr/>
          </p:nvSpPr>
          <p:spPr>
            <a:xfrm>
              <a:off x="7689600" y="1414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0880" y="155700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0560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4996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05600" y="1414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3252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21240" y="14126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59480" y="15015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05600" y="1125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48520" y="1052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2880" y="1844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80160" y="1125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48520" y="1989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0920" y="18126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54560" y="184428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24520" y="11984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0888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53240" y="1628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37240" y="1844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4520" y="148392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0880" y="126828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76880" y="1268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4160" y="130140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08880" y="1268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21240" y="11966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86480" y="11365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0160" y="1412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4852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0888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64160" y="169992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45240" y="981000"/>
              <a:ext cx="143964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69240" y="14857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69240" y="1630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58080" y="1331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96160" y="1774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15200" y="20127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08880" y="1990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87880" y="19191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16520" y="1630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8160" y="1774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24520" y="19173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4160" y="9824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880" y="11253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4EA-B6E5-4C8B-89D8-606E0241E5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60520" y="11592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3 systemes comparison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7329600" y="463680"/>
            <a:ext cx="2571480" cy="296532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4849920" y="476280"/>
            <a:ext cx="2624040" cy="3024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84880" y="4870440"/>
            <a:ext cx="424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scalings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ks best. 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2360520" y="549360"/>
            <a:ext cx="2559240" cy="29509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2730600" y="3573360"/>
            <a:ext cx="2663640" cy="307188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173160" y="573120"/>
            <a:ext cx="2476440" cy="28558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17640" y="3457440"/>
            <a:ext cx="284796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FB8-8732-420B-8FD0-807FDAC7B4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74120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Comparison of AuAu to CuCu 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51000" y="1622520"/>
            <a:ext cx="88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quark number + KET scaling, eccentricity scaling and Npar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298600" y="105264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+Cu and Au+Au, 200GeV, PID by 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258840" y="2421000"/>
            <a:ext cx="944712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7AB-1BC2-45BF-A9EF-169C773C984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2360520" y="1268280"/>
            <a:ext cx="4869000" cy="30481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88640" y="129960"/>
            <a:ext cx="5381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767680" y="4437000"/>
            <a:ext cx="435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CE7-B655-4AD5-9897-7D9032244C7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800" y="115920"/>
            <a:ext cx="9074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200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23800" y="5661000"/>
            <a:ext cx="655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aling  exists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1281240" y="836640"/>
            <a:ext cx="6930720" cy="45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EEC-CE01-4CA0-AF25-6AD96D9DCD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68520" y="-27000"/>
            <a:ext cx="7488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onal quark number + K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caling</a:t>
            </a:r>
            <a:r>
              <a:rPr b="0" lang="en-US" sz="3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bPb 17.2GeV)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566640" y="1484280"/>
            <a:ext cx="3881520" cy="3670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5138640" y="1494000"/>
            <a:ext cx="3917880" cy="366372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5211720" y="1341360"/>
            <a:ext cx="44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ken from A. Tranenko’s talk at QM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44480" y="692280"/>
            <a:ext cx="743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236600" y="13413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b+Pb at 158A GeV, NA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639800" y="907920"/>
            <a:ext cx="688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93240" y="522936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partonic level due to nonexistence of QGP ?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are to big to conclude it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44F-0D27-4CCC-962E-91876A86768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73407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Arial"/>
              </a:rPr>
              <a:t>f0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vs. N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Arial"/>
              </a:rPr>
              <a:t>part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584280" y="1773360"/>
            <a:ext cx="2517840" cy="5810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6669000" y="1839960"/>
            <a:ext cx="3133800" cy="25304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3470400" y="1773360"/>
            <a:ext cx="2868480" cy="4665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42840" y="3279600"/>
            <a:ext cx="7016760" cy="255276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768760" y="3573360"/>
            <a:ext cx="390240" cy="36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079800" y="3286080"/>
            <a:ext cx="1569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377-74CF-4AB4-A6E3-972E28B746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247680" y="1084320"/>
            <a:ext cx="5035680" cy="4630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Comparison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between Au+Au and Cu+Cu 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5448240" y="838080"/>
            <a:ext cx="4400640" cy="290052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5448240" y="3733920"/>
            <a:ext cx="4457880" cy="2931840"/>
          </a:xfrm>
          <a:prstGeom prst="rect">
            <a:avLst/>
          </a:prstGeom>
          <a:ln w="0">
            <a:noFill/>
          </a:ln>
        </p:spPr>
      </p:pic>
      <p:grpSp>
        <p:nvGrpSpPr>
          <p:cNvPr id="943" name=""/>
          <p:cNvGrpSpPr/>
          <p:nvPr/>
        </p:nvGrpSpPr>
        <p:grpSpPr>
          <a:xfrm>
            <a:off x="330120" y="2590920"/>
            <a:ext cx="5530680" cy="3827880"/>
            <a:chOff x="330120" y="2590920"/>
            <a:chExt cx="5530680" cy="3827880"/>
          </a:xfrm>
        </p:grpSpPr>
        <p:sp>
          <p:nvSpPr>
            <p:cNvPr id="944" name=""/>
            <p:cNvSpPr/>
            <p:nvPr/>
          </p:nvSpPr>
          <p:spPr>
            <a:xfrm>
              <a:off x="1072800" y="2590920"/>
              <a:ext cx="1485720" cy="1752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301920" y="2971440"/>
              <a:ext cx="255888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4788000" y="5714640"/>
              <a:ext cx="107280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990360" y="4343040"/>
              <a:ext cx="495000" cy="1676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0120" y="6019920"/>
              <a:ext cx="4622760" cy="398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</a:rPr>
                <a:t>Both behave same at mid cent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190-1F94-4A13-987A-30212C1A7A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47280" y="147600"/>
            <a:ext cx="43419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itional N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art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639800" y="1413000"/>
            <a:ext cx="41767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t high p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&gt; 6GeV/c), scaling might work out but errors are too large to conclude.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analyze the data with  higher statistics. (ex.Run7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857240" y="9079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u+Au 200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5961240" y="923760"/>
            <a:ext cx="3887640" cy="277200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57240" y="3613320"/>
            <a:ext cx="3168720" cy="298440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415800" y="652464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ahoma"/>
              </a:rPr>
              <a:t>*PRL 91 072303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3440160" y="3429000"/>
            <a:ext cx="2730600" cy="27208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6337440" y="3868560"/>
            <a:ext cx="3439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pectra analysis, the strength of the suppression seems to be consistent at 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t doesn’t depend on the nucleus species of collision system (Au+Au, Cu+Cu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can be scaled by N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52880" y="6211800"/>
            <a:ext cx="345600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yield normalized by p+p superposition. It would be 1 without suppre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5"/>
          <a:stretch/>
        </p:blipFill>
        <p:spPr>
          <a:xfrm>
            <a:off x="6248520" y="260280"/>
            <a:ext cx="3503520" cy="33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A66-6CBB-4A4C-B77E-BB0FE07123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549240" y="43920"/>
            <a:ext cx="28846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alysis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690280" y="620280"/>
            <a:ext cx="5070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ＭＳ Ｐゴシック"/>
              </a:rPr>
              <a:t>&lt;Data set for this analysis&gt;</a:t>
            </a: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Au+Au Cu+Cu collision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taken in 2003-2005 at RHIC-PHENIX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Collision energy </a:t>
            </a: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：</a:t>
            </a:r>
            <a:r>
              <a:rPr b="0" lang="en-US" sz="2000" spc="-1" strike="noStrike">
                <a:solidFill>
                  <a:srgbClr val="ff6699"/>
                </a:solidFill>
                <a:latin typeface="ＭＳ Ｐゴシック"/>
              </a:rPr>
              <a:t>200, 62.4 GeV/2 nucleons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708200" y="213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PHENIX detector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1785960" y="2587680"/>
            <a:ext cx="2509920" cy="20127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68400" y="2498760"/>
            <a:ext cx="176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MC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38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550880" y="2854440"/>
            <a:ext cx="5461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03720" y="3646440"/>
            <a:ext cx="17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BC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to determine reaction plane and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3033360" y="3625920"/>
            <a:ext cx="1716120" cy="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82920" y="24224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C + PC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good track  selection and to determin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423960" y="2709720"/>
            <a:ext cx="93492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160" y="3699000"/>
            <a:ext cx="1716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12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630440" y="3789000"/>
            <a:ext cx="21844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3480" y="4869000"/>
            <a:ext cx="3821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PID by TOF measur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OF or EMC with BBC, the flight time of the particles is   obtained. Mass of the particle is calculated by the flight time and the momentum measured by 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97560" y="4869000"/>
            <a:ext cx="4057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Reaction Plane determ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ion plane is obtained by measurement of the anisotropic distribution for the produced particles with north and south  BBCs located at 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~ 3 –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6075360" y="2638440"/>
            <a:ext cx="3745080" cy="194616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7453440" y="3502080"/>
            <a:ext cx="31248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043840" y="3502080"/>
            <a:ext cx="31284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30680" y="3717720"/>
            <a:ext cx="187200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530680" y="3717720"/>
            <a:ext cx="249588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79200" y="27000"/>
            <a:ext cx="2378160" cy="210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7"/>
          <a:stretch/>
        </p:blipFill>
        <p:spPr>
          <a:xfrm>
            <a:off x="7370640" y="189000"/>
            <a:ext cx="249732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D11-B39C-43D4-8E6E-C881009361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51000" y="189000"/>
            <a:ext cx="92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Resolution Calculation of Reaction Plan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4700520" y="2389320"/>
            <a:ext cx="5148360" cy="341604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560520" y="198288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 : reaction plane determined for each sub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62040" y="2276640"/>
            <a:ext cx="296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41240" y="1341360"/>
                <a:ext cx="799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tion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&gt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1090440" y="3608280"/>
                <a:ext cx="35751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asured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20520" y="5516280"/>
            <a:ext cx="538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BBC North + South combined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604-17E9-481E-888F-31CB08317D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39440" y="11592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tivistic Heavy Ion Collider (RHIC)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28520" y="1123920"/>
            <a:ext cx="5977080" cy="187344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rookhaven National Laboratory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First relativistic heavy ion collider in the world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ircumference 3.83 km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2 rings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ollision species (Au+Au, Cu+Cu, d+Au, p+p)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nergy (A+A); up to 100 GeV/nucleon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HENIX is the one of the main experiment group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200160" y="4086360"/>
            <a:ext cx="3413160" cy="2438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4280" y="372600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ENIX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272880" y="765000"/>
            <a:ext cx="3311640" cy="288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448160" y="3284640"/>
            <a:ext cx="43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evolution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44880" y="4027320"/>
            <a:ext cx="3595680" cy="2497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94120" y="3213000"/>
            <a:ext cx="5811840" cy="335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61240" y="5732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78680" y="50846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40880" y="3716280"/>
            <a:ext cx="215640" cy="2448000"/>
          </a:xfrm>
          <a:prstGeom prst="upArrow">
            <a:avLst>
              <a:gd name="adj1" fmla="val 29407"/>
              <a:gd name="adj2" fmla="val 176696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73960" y="53481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61240" y="4221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emic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32880" y="3716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rm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45240" y="47800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d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D10-60CC-4722-B59C-3E09A0A03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11240" y="82440"/>
            <a:ext cx="5850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lliptic Flow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600" y="4149720"/>
                <a:ext cx="4883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1440" y="1125000"/>
            <a:ext cx="9361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A sensitive probe for studying properties of the hot dense matter made by heavy ion collisions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3680" y="1413000"/>
            <a:ext cx="3953520" cy="2691720"/>
            <a:chOff x="193680" y="1413000"/>
            <a:chExt cx="3953520" cy="2691720"/>
          </a:xfrm>
        </p:grpSpPr>
        <p:sp>
          <p:nvSpPr>
            <p:cNvPr id="217" name=""/>
            <p:cNvSpPr/>
            <p:nvPr/>
          </p:nvSpPr>
          <p:spPr>
            <a:xfrm>
              <a:off x="303480" y="1830600"/>
              <a:ext cx="117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am ax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3680" y="1413000"/>
              <a:ext cx="3953520" cy="2691720"/>
              <a:chOff x="193680" y="1413000"/>
              <a:chExt cx="3953520" cy="26917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49560" y="1413000"/>
                <a:ext cx="3797640" cy="2691720"/>
                <a:chOff x="349560" y="1413000"/>
                <a:chExt cx="3797640" cy="26917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349560" y="1576440"/>
                  <a:ext cx="3402000" cy="2528280"/>
                  <a:chOff x="349560" y="1576440"/>
                  <a:chExt cx="3402000" cy="25282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0800000">
                    <a:off x="2890440" y="157644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>
                    <a:off x="959760" y="1916280"/>
                    <a:ext cx="649800" cy="9590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1273680" y="1916280"/>
                    <a:ext cx="639000" cy="944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475280" y="2117160"/>
                    <a:ext cx="2142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424520" y="3121920"/>
                    <a:ext cx="15055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49920" y="1911960"/>
                    <a:ext cx="3401640" cy="1862280"/>
                  </a:xfrm>
                  <a:prstGeom prst="parallelogram">
                    <a:avLst>
                      <a:gd name="adj" fmla="val 67770"/>
                    </a:avLst>
                  </a:prstGeom>
                  <a:noFill/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>
                    <a:off x="349560" y="3372120"/>
                    <a:ext cx="272520" cy="405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1425600" y="1916280"/>
                    <a:ext cx="790560" cy="116856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V="1" rot="10800000">
                    <a:off x="1394280" y="2968560"/>
                    <a:ext cx="264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715">
                        <a:moveTo>
                          <a:pt x="84" y="643"/>
                        </a:moveTo>
                        <a:cubicBezTo>
                          <a:pt x="64" y="611"/>
                          <a:pt x="38" y="568"/>
                          <a:pt x="24" y="519"/>
                        </a:cubicBezTo>
                        <a:cubicBezTo>
                          <a:pt x="10" y="470"/>
                          <a:pt x="0" y="403"/>
                          <a:pt x="1" y="351"/>
                        </a:cubicBezTo>
                        <a:cubicBezTo>
                          <a:pt x="2" y="299"/>
                          <a:pt x="14" y="251"/>
                          <a:pt x="30" y="205"/>
                        </a:cubicBezTo>
                        <a:cubicBezTo>
                          <a:pt x="46" y="159"/>
                          <a:pt x="77" y="106"/>
                          <a:pt x="100" y="73"/>
                        </a:cubicBezTo>
                        <a:cubicBezTo>
                          <a:pt x="123" y="40"/>
                          <a:pt x="163" y="0"/>
                          <a:pt x="166" y="4"/>
                        </a:cubicBezTo>
                        <a:cubicBezTo>
                          <a:pt x="198" y="57"/>
                          <a:pt x="212" y="120"/>
                          <a:pt x="225" y="171"/>
                        </a:cubicBezTo>
                        <a:cubicBezTo>
                          <a:pt x="239" y="226"/>
                          <a:pt x="246" y="280"/>
                          <a:pt x="249" y="337"/>
                        </a:cubicBezTo>
                        <a:cubicBezTo>
                          <a:pt x="252" y="394"/>
                          <a:pt x="249" y="464"/>
                          <a:pt x="241" y="514"/>
                        </a:cubicBezTo>
                        <a:cubicBezTo>
                          <a:pt x="233" y="564"/>
                          <a:pt x="216" y="603"/>
                          <a:pt x="199" y="636"/>
                        </a:cubicBezTo>
                        <a:cubicBezTo>
                          <a:pt x="182" y="669"/>
                          <a:pt x="142" y="715"/>
                          <a:pt x="142" y="712"/>
                        </a:cubicBezTo>
                        <a:cubicBezTo>
                          <a:pt x="142" y="711"/>
                          <a:pt x="104" y="675"/>
                          <a:pt x="84" y="64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1251720" y="2910960"/>
                    <a:ext cx="582840" cy="8593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307960" y="379764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297080" y="182880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2295360" y="1739520"/>
                    <a:ext cx="1080000" cy="1043640"/>
                    <a:chOff x="2295360" y="1739520"/>
                    <a:chExt cx="1080000" cy="104364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2295360" y="1739520"/>
                      <a:ext cx="1080000" cy="1043640"/>
                      <a:chOff x="2295360" y="1739520"/>
                      <a:chExt cx="1080000" cy="104364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2319480" y="1740600"/>
                        <a:ext cx="1032480" cy="1024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333399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2319480" y="1739520"/>
                        <a:ext cx="1032480" cy="1024920"/>
                      </a:xfrm>
                      <a:prstGeom prst="ellips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2295360" y="2156400"/>
                        <a:ext cx="1080000" cy="62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00">
                            <a:moveTo>
                              <a:pt x="43" y="123"/>
                            </a:moveTo>
                            <a:cubicBezTo>
                              <a:pt x="61" y="136"/>
                              <a:pt x="84" y="160"/>
                              <a:pt x="120" y="181"/>
                            </a:cubicBezTo>
                            <a:cubicBezTo>
                              <a:pt x="156" y="202"/>
                              <a:pt x="210" y="233"/>
                              <a:pt x="262" y="250"/>
                            </a:cubicBezTo>
                            <a:cubicBezTo>
                              <a:pt x="314" y="267"/>
                              <a:pt x="370" y="279"/>
                              <a:pt x="432" y="280"/>
                            </a:cubicBezTo>
                            <a:cubicBezTo>
                              <a:pt x="494" y="281"/>
                              <a:pt x="573" y="272"/>
                              <a:pt x="634" y="259"/>
                            </a:cubicBezTo>
                            <a:cubicBezTo>
                              <a:pt x="695" y="246"/>
                              <a:pt x="749" y="229"/>
                              <a:pt x="799" y="201"/>
                            </a:cubicBezTo>
                            <a:cubicBezTo>
                              <a:pt x="849" y="173"/>
                              <a:pt x="899" y="122"/>
                              <a:pt x="937" y="90"/>
                            </a:cubicBezTo>
                            <a:cubicBezTo>
                              <a:pt x="975" y="58"/>
                              <a:pt x="1012" y="0"/>
                              <a:pt x="1026" y="9"/>
                            </a:cubicBezTo>
                            <a:cubicBezTo>
                              <a:pt x="1021" y="13"/>
                              <a:pt x="1025" y="101"/>
                              <a:pt x="1019" y="144"/>
                            </a:cubicBezTo>
                            <a:cubicBezTo>
                              <a:pt x="1013" y="187"/>
                              <a:pt x="1007" y="227"/>
                              <a:pt x="992" y="267"/>
                            </a:cubicBezTo>
                            <a:cubicBezTo>
                              <a:pt x="978" y="307"/>
                              <a:pt x="952" y="351"/>
                              <a:pt x="929" y="384"/>
                            </a:cubicBezTo>
                            <a:cubicBezTo>
                              <a:pt x="907" y="417"/>
                              <a:pt x="886" y="440"/>
                              <a:pt x="857" y="467"/>
                            </a:cubicBezTo>
                            <a:cubicBezTo>
                              <a:pt x="827" y="493"/>
                              <a:pt x="790" y="521"/>
                              <a:pt x="749" y="542"/>
                            </a:cubicBezTo>
                            <a:cubicBezTo>
                              <a:pt x="708" y="562"/>
                              <a:pt x="659" y="580"/>
                              <a:pt x="610" y="588"/>
                            </a:cubicBezTo>
                            <a:cubicBezTo>
                              <a:pt x="561" y="596"/>
                              <a:pt x="505" y="600"/>
                              <a:pt x="455" y="594"/>
                            </a:cubicBezTo>
                            <a:cubicBezTo>
                              <a:pt x="404" y="588"/>
                              <a:pt x="353" y="572"/>
                              <a:pt x="310" y="553"/>
                            </a:cubicBezTo>
                            <a:cubicBezTo>
                              <a:pt x="267" y="533"/>
                              <a:pt x="229" y="510"/>
                              <a:pt x="193" y="479"/>
                            </a:cubicBezTo>
                            <a:cubicBezTo>
                              <a:pt x="157" y="448"/>
                              <a:pt x="121" y="408"/>
                              <a:pt x="95" y="368"/>
                            </a:cubicBezTo>
                            <a:cubicBezTo>
                              <a:pt x="69" y="328"/>
                              <a:pt x="52" y="286"/>
                              <a:pt x="36" y="237"/>
                            </a:cubicBezTo>
                            <a:cubicBezTo>
                              <a:pt x="20" y="188"/>
                              <a:pt x="0" y="92"/>
                              <a:pt x="1" y="73"/>
                            </a:cubicBezTo>
                            <a:lnTo>
                              <a:pt x="43" y="12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2319480" y="2182320"/>
                        <a:ext cx="1030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9" h="257">
                            <a:moveTo>
                              <a:pt x="0" y="78"/>
                            </a:moveTo>
                            <a:cubicBezTo>
                              <a:pt x="17" y="92"/>
                              <a:pt x="57" y="134"/>
                              <a:pt x="101" y="160"/>
                            </a:cubicBezTo>
                            <a:cubicBezTo>
                              <a:pt x="145" y="186"/>
                              <a:pt x="213" y="216"/>
                              <a:pt x="263" y="232"/>
                            </a:cubicBezTo>
                            <a:cubicBezTo>
                              <a:pt x="313" y="248"/>
                              <a:pt x="347" y="255"/>
                              <a:pt x="404" y="256"/>
                            </a:cubicBezTo>
                            <a:cubicBezTo>
                              <a:pt x="461" y="257"/>
                              <a:pt x="542" y="254"/>
                              <a:pt x="608" y="238"/>
                            </a:cubicBezTo>
                            <a:cubicBezTo>
                              <a:pt x="674" y="222"/>
                              <a:pt x="738" y="200"/>
                              <a:pt x="800" y="160"/>
                            </a:cubicBezTo>
                            <a:cubicBezTo>
                              <a:pt x="862" y="120"/>
                              <a:pt x="942" y="33"/>
                              <a:pt x="97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314440" y="1882800"/>
                      <a:ext cx="264960" cy="74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0" name=""/>
                  <p:cNvSpPr/>
                  <p:nvPr/>
                </p:nvSpPr>
                <p:spPr>
                  <a:xfrm>
                    <a:off x="1625400" y="1911960"/>
                    <a:ext cx="88308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947960" y="2117160"/>
                    <a:ext cx="6321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335960" y="2316960"/>
                    <a:ext cx="12553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2248200" y="2240280"/>
                    <a:ext cx="341280" cy="5047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199880" y="251820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1256040" y="1911960"/>
                    <a:ext cx="1253160" cy="1854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063440" y="271944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737360" y="2322720"/>
                    <a:ext cx="515160" cy="1029960"/>
                    <a:chOff x="1737360" y="2322720"/>
                    <a:chExt cx="515160" cy="10299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1737360" y="2323440"/>
                      <a:ext cx="514080" cy="102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1737360" y="2814120"/>
                      <a:ext cx="5151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515">
                          <a:moveTo>
                            <a:pt x="13" y="46"/>
                          </a:moveTo>
                          <a:cubicBezTo>
                            <a:pt x="24" y="55"/>
                            <a:pt x="47" y="72"/>
                            <a:pt x="65" y="81"/>
                          </a:cubicBezTo>
                          <a:cubicBezTo>
                            <a:pt x="83" y="90"/>
                            <a:pt x="103" y="92"/>
                            <a:pt x="121" y="97"/>
                          </a:cubicBezTo>
                          <a:cubicBezTo>
                            <a:pt x="139" y="102"/>
                            <a:pt x="156" y="109"/>
                            <a:pt x="176" y="112"/>
                          </a:cubicBezTo>
                          <a:cubicBezTo>
                            <a:pt x="196" y="115"/>
                            <a:pt x="218" y="115"/>
                            <a:pt x="241" y="114"/>
                          </a:cubicBezTo>
                          <a:cubicBezTo>
                            <a:pt x="264" y="113"/>
                            <a:pt x="289" y="109"/>
                            <a:pt x="313" y="103"/>
                          </a:cubicBezTo>
                          <a:cubicBezTo>
                            <a:pt x="337" y="97"/>
                            <a:pt x="362" y="90"/>
                            <a:pt x="385" y="78"/>
                          </a:cubicBezTo>
                          <a:cubicBezTo>
                            <a:pt x="408" y="66"/>
                            <a:pt x="435" y="41"/>
                            <a:pt x="452" y="29"/>
                          </a:cubicBezTo>
                          <a:cubicBezTo>
                            <a:pt x="469" y="17"/>
                            <a:pt x="479" y="0"/>
                            <a:pt x="485" y="7"/>
                          </a:cubicBezTo>
                          <a:cubicBezTo>
                            <a:pt x="483" y="11"/>
                            <a:pt x="489" y="40"/>
                            <a:pt x="487" y="70"/>
                          </a:cubicBezTo>
                          <a:cubicBezTo>
                            <a:pt x="485" y="100"/>
                            <a:pt x="481" y="151"/>
                            <a:pt x="474" y="190"/>
                          </a:cubicBezTo>
                          <a:cubicBezTo>
                            <a:pt x="467" y="229"/>
                            <a:pt x="455" y="272"/>
                            <a:pt x="444" y="304"/>
                          </a:cubicBezTo>
                          <a:cubicBezTo>
                            <a:pt x="433" y="336"/>
                            <a:pt x="423" y="359"/>
                            <a:pt x="408" y="385"/>
                          </a:cubicBezTo>
                          <a:cubicBezTo>
                            <a:pt x="394" y="411"/>
                            <a:pt x="376" y="438"/>
                            <a:pt x="356" y="458"/>
                          </a:cubicBezTo>
                          <a:cubicBezTo>
                            <a:pt x="336" y="478"/>
                            <a:pt x="313" y="495"/>
                            <a:pt x="289" y="503"/>
                          </a:cubicBezTo>
                          <a:cubicBezTo>
                            <a:pt x="265" y="511"/>
                            <a:pt x="238" y="515"/>
                            <a:pt x="214" y="509"/>
                          </a:cubicBezTo>
                          <a:cubicBezTo>
                            <a:pt x="189" y="503"/>
                            <a:pt x="164" y="488"/>
                            <a:pt x="143" y="469"/>
                          </a:cubicBezTo>
                          <a:cubicBezTo>
                            <a:pt x="122" y="450"/>
                            <a:pt x="104" y="427"/>
                            <a:pt x="87" y="397"/>
                          </a:cubicBezTo>
                          <a:cubicBezTo>
                            <a:pt x="69" y="367"/>
                            <a:pt x="52" y="328"/>
                            <a:pt x="39" y="289"/>
                          </a:cubicBezTo>
                          <a:cubicBezTo>
                            <a:pt x="27" y="250"/>
                            <a:pt x="17" y="204"/>
                            <a:pt x="10" y="161"/>
                          </a:cubicBezTo>
                          <a:cubicBezTo>
                            <a:pt x="4" y="118"/>
                            <a:pt x="0" y="47"/>
                            <a:pt x="0" y="28"/>
                          </a:cubicBezTo>
                          <a:lnTo>
                            <a:pt x="13" y="4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1737360" y="2816280"/>
                      <a:ext cx="51300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9" h="257">
                          <a:moveTo>
                            <a:pt x="0" y="78"/>
                          </a:moveTo>
                          <a:cubicBezTo>
                            <a:pt x="17" y="92"/>
                            <a:pt x="57" y="134"/>
                            <a:pt x="101" y="160"/>
                          </a:cubicBezTo>
                          <a:cubicBezTo>
                            <a:pt x="145" y="186"/>
                            <a:pt x="213" y="216"/>
                            <a:pt x="263" y="232"/>
                          </a:cubicBezTo>
                          <a:cubicBezTo>
                            <a:pt x="313" y="248"/>
                            <a:pt x="347" y="255"/>
                            <a:pt x="404" y="256"/>
                          </a:cubicBezTo>
                          <a:cubicBezTo>
                            <a:pt x="461" y="257"/>
                            <a:pt x="542" y="254"/>
                            <a:pt x="608" y="238"/>
                          </a:cubicBezTo>
                          <a:cubicBezTo>
                            <a:pt x="674" y="222"/>
                            <a:pt x="738" y="200"/>
                            <a:pt x="800" y="160"/>
                          </a:cubicBezTo>
                          <a:cubicBezTo>
                            <a:pt x="862" y="120"/>
                            <a:pt x="942" y="33"/>
                            <a:pt x="979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737360" y="2322720"/>
                      <a:ext cx="514080" cy="1026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 flipH="1">
                    <a:off x="2176200" y="2377440"/>
                    <a:ext cx="940680" cy="1392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1874520" y="2455200"/>
                    <a:ext cx="886680" cy="13111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84400" y="2919240"/>
                    <a:ext cx="986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1517400" y="1803960"/>
                    <a:ext cx="163800" cy="24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1553400" y="2894760"/>
                    <a:ext cx="595080" cy="879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1689840" y="2909520"/>
                    <a:ext cx="145800" cy="216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359360" y="2920680"/>
                    <a:ext cx="501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11640" y="2837160"/>
                    <a:ext cx="1068840" cy="1045080"/>
                    <a:chOff x="611640" y="2837160"/>
                    <a:chExt cx="1068840" cy="104508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26400" y="2838240"/>
                      <a:ext cx="1031400" cy="102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33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23880" y="2837160"/>
                      <a:ext cx="1031400" cy="10249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11640" y="3262320"/>
                      <a:ext cx="106884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2" h="568">
                          <a:moveTo>
                            <a:pt x="22" y="106"/>
                          </a:moveTo>
                          <a:cubicBezTo>
                            <a:pt x="39" y="120"/>
                            <a:pt x="60" y="144"/>
                            <a:pt x="100" y="166"/>
                          </a:cubicBezTo>
                          <a:cubicBezTo>
                            <a:pt x="140" y="188"/>
                            <a:pt x="212" y="222"/>
                            <a:pt x="262" y="238"/>
                          </a:cubicBezTo>
                          <a:cubicBezTo>
                            <a:pt x="312" y="254"/>
                            <a:pt x="346" y="261"/>
                            <a:pt x="403" y="262"/>
                          </a:cubicBezTo>
                          <a:cubicBezTo>
                            <a:pt x="460" y="263"/>
                            <a:pt x="546" y="257"/>
                            <a:pt x="607" y="244"/>
                          </a:cubicBezTo>
                          <a:cubicBezTo>
                            <a:pt x="668" y="231"/>
                            <a:pt x="719" y="210"/>
                            <a:pt x="769" y="183"/>
                          </a:cubicBezTo>
                          <a:cubicBezTo>
                            <a:pt x="819" y="156"/>
                            <a:pt x="872" y="111"/>
                            <a:pt x="907" y="82"/>
                          </a:cubicBezTo>
                          <a:cubicBezTo>
                            <a:pt x="942" y="53"/>
                            <a:pt x="966" y="0"/>
                            <a:pt x="978" y="7"/>
                          </a:cubicBezTo>
                          <a:cubicBezTo>
                            <a:pt x="973" y="11"/>
                            <a:pt x="982" y="84"/>
                            <a:pt x="978" y="123"/>
                          </a:cubicBezTo>
                          <a:cubicBezTo>
                            <a:pt x="974" y="162"/>
                            <a:pt x="966" y="204"/>
                            <a:pt x="952" y="243"/>
                          </a:cubicBezTo>
                          <a:cubicBezTo>
                            <a:pt x="938" y="282"/>
                            <a:pt x="913" y="325"/>
                            <a:pt x="891" y="357"/>
                          </a:cubicBezTo>
                          <a:cubicBezTo>
                            <a:pt x="869" y="389"/>
                            <a:pt x="849" y="412"/>
                            <a:pt x="820" y="438"/>
                          </a:cubicBezTo>
                          <a:cubicBezTo>
                            <a:pt x="791" y="464"/>
                            <a:pt x="755" y="491"/>
                            <a:pt x="715" y="511"/>
                          </a:cubicBezTo>
                          <a:cubicBezTo>
                            <a:pt x="675" y="531"/>
                            <a:pt x="628" y="548"/>
                            <a:pt x="580" y="556"/>
                          </a:cubicBezTo>
                          <a:cubicBezTo>
                            <a:pt x="532" y="564"/>
                            <a:pt x="478" y="568"/>
                            <a:pt x="429" y="562"/>
                          </a:cubicBezTo>
                          <a:cubicBezTo>
                            <a:pt x="380" y="556"/>
                            <a:pt x="330" y="541"/>
                            <a:pt x="288" y="522"/>
                          </a:cubicBezTo>
                          <a:cubicBezTo>
                            <a:pt x="246" y="503"/>
                            <a:pt x="209" y="480"/>
                            <a:pt x="174" y="450"/>
                          </a:cubicBezTo>
                          <a:cubicBezTo>
                            <a:pt x="139" y="420"/>
                            <a:pt x="104" y="381"/>
                            <a:pt x="79" y="342"/>
                          </a:cubicBezTo>
                          <a:cubicBezTo>
                            <a:pt x="54" y="303"/>
                            <a:pt x="34" y="257"/>
                            <a:pt x="21" y="214"/>
                          </a:cubicBezTo>
                          <a:cubicBezTo>
                            <a:pt x="8" y="171"/>
                            <a:pt x="0" y="99"/>
                            <a:pt x="0" y="81"/>
                          </a:cubicBezTo>
                          <a:lnTo>
                            <a:pt x="22" y="10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V="1" rot="10800000">
                      <a:off x="1393920" y="2961720"/>
                      <a:ext cx="265680" cy="7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81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1369080" y="2957400"/>
                      <a:ext cx="119880" cy="76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728">
                          <a:moveTo>
                            <a:pt x="90" y="621"/>
                          </a:moveTo>
                          <a:cubicBezTo>
                            <a:pt x="86" y="592"/>
                            <a:pt x="86" y="572"/>
                            <a:pt x="84" y="540"/>
                          </a:cubicBezTo>
                          <a:cubicBezTo>
                            <a:pt x="82" y="508"/>
                            <a:pt x="78" y="467"/>
                            <a:pt x="78" y="426"/>
                          </a:cubicBezTo>
                          <a:cubicBezTo>
                            <a:pt x="78" y="385"/>
                            <a:pt x="80" y="339"/>
                            <a:pt x="81" y="291"/>
                          </a:cubicBezTo>
                          <a:cubicBezTo>
                            <a:pt x="82" y="243"/>
                            <a:pt x="83" y="185"/>
                            <a:pt x="84" y="138"/>
                          </a:cubicBezTo>
                          <a:cubicBezTo>
                            <a:pt x="85" y="91"/>
                            <a:pt x="95" y="0"/>
                            <a:pt x="86" y="6"/>
                          </a:cubicBezTo>
                          <a:cubicBezTo>
                            <a:pt x="54" y="59"/>
                            <a:pt x="40" y="122"/>
                            <a:pt x="27" y="173"/>
                          </a:cubicBezTo>
                          <a:cubicBezTo>
                            <a:pt x="13" y="228"/>
                            <a:pt x="6" y="282"/>
                            <a:pt x="3" y="339"/>
                          </a:cubicBezTo>
                          <a:cubicBezTo>
                            <a:pt x="0" y="396"/>
                            <a:pt x="3" y="465"/>
                            <a:pt x="11" y="516"/>
                          </a:cubicBezTo>
                          <a:cubicBezTo>
                            <a:pt x="19" y="567"/>
                            <a:pt x="35" y="608"/>
                            <a:pt x="52" y="643"/>
                          </a:cubicBezTo>
                          <a:cubicBezTo>
                            <a:pt x="69" y="678"/>
                            <a:pt x="108" y="728"/>
                            <a:pt x="114" y="724"/>
                          </a:cubicBezTo>
                          <a:cubicBezTo>
                            <a:pt x="114" y="723"/>
                            <a:pt x="95" y="642"/>
                            <a:pt x="90" y="621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26400" y="3362400"/>
                      <a:ext cx="83052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179">
                          <a:moveTo>
                            <a:pt x="0" y="0"/>
                          </a:moveTo>
                          <a:cubicBezTo>
                            <a:pt x="17" y="14"/>
                            <a:pt x="57" y="56"/>
                            <a:pt x="101" y="82"/>
                          </a:cubicBezTo>
                          <a:cubicBezTo>
                            <a:pt x="145" y="108"/>
                            <a:pt x="213" y="138"/>
                            <a:pt x="263" y="154"/>
                          </a:cubicBezTo>
                          <a:cubicBezTo>
                            <a:pt x="313" y="170"/>
                            <a:pt x="347" y="177"/>
                            <a:pt x="404" y="178"/>
                          </a:cubicBezTo>
                          <a:cubicBezTo>
                            <a:pt x="461" y="179"/>
                            <a:pt x="556" y="169"/>
                            <a:pt x="608" y="160"/>
                          </a:cubicBezTo>
                          <a:cubicBezTo>
                            <a:pt x="660" y="151"/>
                            <a:pt x="687" y="140"/>
                            <a:pt x="714" y="123"/>
                          </a:cubicBezTo>
                          <a:cubicBezTo>
                            <a:pt x="741" y="106"/>
                            <a:pt x="755" y="73"/>
                            <a:pt x="768" y="60"/>
                          </a:cubicBezTo>
                          <a:cubicBezTo>
                            <a:pt x="781" y="47"/>
                            <a:pt x="785" y="46"/>
                            <a:pt x="790" y="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" name=""/>
                  <p:cNvSpPr/>
                  <p:nvPr/>
                </p:nvSpPr>
                <p:spPr>
                  <a:xfrm flipH="1">
                    <a:off x="1433880" y="2721960"/>
                    <a:ext cx="236880" cy="350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3080" y="3123000"/>
                    <a:ext cx="1328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326600" y="3520080"/>
                    <a:ext cx="1333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3">
                        <a:moveTo>
                          <a:pt x="0" y="3"/>
                        </a:moveTo>
                        <a:lnTo>
                          <a:pt x="1266" y="0"/>
                        </a:lnTo>
                      </a:path>
                    </a:pathLst>
                  </a:custGeom>
                  <a:noFill/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3200" bIns="-43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407960" y="3321720"/>
                    <a:ext cx="14050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1250280" y="3111120"/>
                    <a:ext cx="447480" cy="663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959760" y="3556800"/>
                    <a:ext cx="145800" cy="2174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660960" y="3509280"/>
                    <a:ext cx="173160" cy="2599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90960" y="3774600"/>
                    <a:ext cx="209664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03800" y="356256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1389960" y="2503440"/>
                    <a:ext cx="1232640" cy="354960"/>
                    <a:chOff x="1389960" y="2503440"/>
                    <a:chExt cx="1232640" cy="3549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2052720" y="2571840"/>
                      <a:ext cx="74520" cy="10620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V="1">
                      <a:off x="2187360" y="2503440"/>
                      <a:ext cx="192600" cy="1612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2273040" y="2678040"/>
                      <a:ext cx="30204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2273040" y="2802960"/>
                      <a:ext cx="3495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1510920" y="2531160"/>
                      <a:ext cx="313920" cy="1292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 flipV="1">
                      <a:off x="1412640" y="2691360"/>
                      <a:ext cx="34020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 flipV="1">
                      <a:off x="1389960" y="2853360"/>
                      <a:ext cx="302400" cy="50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flipV="1">
                      <a:off x="1667520" y="2798640"/>
                      <a:ext cx="21708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 flipV="1">
                      <a:off x="1692000" y="266904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flipV="1">
                      <a:off x="1884960" y="2595600"/>
                      <a:ext cx="71640" cy="824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V="1">
                      <a:off x="2127600" y="266040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V="1">
                      <a:off x="2116080" y="277092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 flipV="1">
                      <a:off x="1851480" y="2747880"/>
                      <a:ext cx="120960" cy="363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1410480" y="2960280"/>
                    <a:ext cx="1184400" cy="356400"/>
                    <a:chOff x="1410480" y="2960280"/>
                    <a:chExt cx="1184400" cy="3564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1848960" y="3100680"/>
                      <a:ext cx="79920" cy="140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1605240" y="3154680"/>
                      <a:ext cx="192600" cy="1620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410480" y="3062520"/>
                      <a:ext cx="3020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1483200" y="2992680"/>
                      <a:ext cx="230400" cy="154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2160720" y="3159720"/>
                      <a:ext cx="313560" cy="1296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2232000" y="3049200"/>
                      <a:ext cx="3398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293200" y="2960280"/>
                      <a:ext cx="301680" cy="5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2101320" y="2997000"/>
                      <a:ext cx="216720" cy="22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2099880" y="309528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2029680" y="3140280"/>
                      <a:ext cx="71280" cy="824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1726200" y="311328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>
                      <a:off x="1653840" y="303444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2013120" y="3034440"/>
                      <a:ext cx="120960" cy="36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3" name=""/>
                  <p:cNvSpPr/>
                  <p:nvPr/>
                </p:nvSpPr>
                <p:spPr>
                  <a:xfrm>
                    <a:off x="522000" y="3522960"/>
                    <a:ext cx="348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214080" y="2316960"/>
                    <a:ext cx="2617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3325680" y="1910520"/>
                    <a:ext cx="107280" cy="159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237040" y="3777120"/>
                    <a:ext cx="438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" name=""/>
                <p:cNvSpPr/>
                <p:nvPr/>
              </p:nvSpPr>
              <p:spPr>
                <a:xfrm flipH="1" flipV="1">
                  <a:off x="3118320" y="2838240"/>
                  <a:ext cx="158040" cy="297000"/>
                </a:xfrm>
                <a:prstGeom prst="line">
                  <a:avLst/>
                </a:prstGeom>
                <a:ln w="936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60640" y="3061440"/>
                  <a:ext cx="1186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Reaction pl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8760" y="1413000"/>
                  <a:ext cx="2927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n central coll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 flipV="1">
                <a:off x="349920" y="3355560"/>
                <a:ext cx="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3680" y="3051000"/>
                <a:ext cx="2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7175520" y="181116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, Φ, to 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6560" y="3860640"/>
            <a:ext cx="46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efficient of 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44880" y="4869000"/>
            <a:ext cx="544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02520" y="1341360"/>
            <a:ext cx="5131800" cy="2665800"/>
            <a:chOff x="4502520" y="1341360"/>
            <a:chExt cx="5131800" cy="2665800"/>
          </a:xfrm>
        </p:grpSpPr>
        <p:sp>
          <p:nvSpPr>
            <p:cNvPr id="316" name=""/>
            <p:cNvSpPr/>
            <p:nvPr/>
          </p:nvSpPr>
          <p:spPr>
            <a:xfrm>
              <a:off x="7293600" y="2925720"/>
              <a:ext cx="23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x (Reaction Plan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63560" y="1341360"/>
              <a:ext cx="2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</a:rPr>
                <a:t>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502520" y="1629720"/>
              <a:ext cx="2865960" cy="2377440"/>
              <a:chOff x="4502520" y="1629720"/>
              <a:chExt cx="2865960" cy="237744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419800" y="2349360"/>
                <a:ext cx="1481040" cy="793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4502520" y="1629720"/>
                <a:ext cx="2865960" cy="2377440"/>
                <a:chOff x="4502520" y="1629720"/>
                <a:chExt cx="2865960" cy="23774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795920" y="3142800"/>
                  <a:ext cx="257256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5418720" y="1629720"/>
                  <a:ext cx="1440" cy="20890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02520" y="2277720"/>
                  <a:ext cx="1873440" cy="172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63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63135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201000" y="2180880"/>
                  <a:ext cx="701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cc3300"/>
                      </a:solidFill>
                      <a:latin typeface="Arial"/>
                      <a:ea typeface="Arial"/>
                    </a:rPr>
                    <a:t>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5420160" y="1908000"/>
                  <a:ext cx="62424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5430600" y="1883880"/>
                  <a:ext cx="23328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5396040" y="2855520"/>
                  <a:ext cx="1559880" cy="2872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07920" y="3153960"/>
                  <a:ext cx="1330920" cy="142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18720" y="3141360"/>
                  <a:ext cx="1258920" cy="4921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>
                  <a:off x="5261760" y="1774080"/>
                  <a:ext cx="146160" cy="1366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5318640" y="2997000"/>
              <a:ext cx="204480" cy="2890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172040" y="2565360"/>
            <a:ext cx="547560" cy="289080"/>
          </a:xfrm>
          <a:prstGeom prst="rightArrow">
            <a:avLst>
              <a:gd name="adj1" fmla="val 50000"/>
              <a:gd name="adj2" fmla="val 47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10200" y="4581360"/>
            <a:ext cx="479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ield is (x direction)&gt;(y direction)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0160" y="5159520"/>
            <a:ext cx="92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geometrical anisotropy is transferred by the pressure gradients into a momentum space anisotrop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asure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lects the dense matter produced in the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93680" y="741240"/>
            <a:ext cx="7682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trength of the elliptic anisotropy of produced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E4D-A118-4A58-9E8F-4F53CDB93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03120" y="75960"/>
            <a:ext cx="421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 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93680" y="1341360"/>
            <a:ext cx="959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low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&lt; ~2 GeV/c)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can be explained by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(&lt;4~6 GeV/c)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　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is consistent with recombination model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ults are consistent with Quark number +K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1000" y="739800"/>
            <a:ext cx="50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results at 2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15800" y="2781360"/>
            <a:ext cx="4057920" cy="2541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rot="5400000">
            <a:off x="1617480" y="5643720"/>
            <a:ext cx="432000" cy="466560"/>
          </a:xfrm>
          <a:custGeom>
            <a:avLst/>
            <a:gdLst>
              <a:gd name="textAreaLeft" fmla="*/ 144000 w 432000"/>
              <a:gd name="textAreaRight" fmla="*/ 349560 w 432000"/>
              <a:gd name="textAreaTop" fmla="*/ 244800 h 466560"/>
              <a:gd name="textAreaBottom" fmla="*/ 37764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66760" y="5711760"/>
            <a:ext cx="5694480" cy="39888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other systems and energies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265720" y="2874960"/>
            <a:ext cx="4368600" cy="2786040"/>
            <a:chOff x="5265720" y="2874960"/>
            <a:chExt cx="4368600" cy="2786040"/>
          </a:xfrm>
        </p:grpSpPr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5265720" y="2874960"/>
              <a:ext cx="43686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8074800" y="4795920"/>
              <a:ext cx="15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8, 1623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90880" y="282564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1, 1823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5746680"/>
            <a:ext cx="1230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T-m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76160" y="2637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8481960" y="4483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1BF-2B89-4B92-9E4A-00C1CD0B0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12520" y="701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12520" y="2060280"/>
            <a:ext cx="7480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Energy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uark number + K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ET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scaling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44-8C83-4585-8888-6DBF568FDD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39800" y="115560"/>
            <a:ext cx="19447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  <a:ea typeface="HGP創英角ﾎﾟｯﾌﾟ体"/>
              </a:rPr>
              <a:t>&lt;words&gt;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49240" y="836640"/>
            <a:ext cx="684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-- Number of nucleons participating the collision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col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--- Number of binary collisions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centricity(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--- geometirical eccentricity of participant nucleons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857240" y="3573360"/>
            <a:ext cx="4319640" cy="2340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824520" y="3875040"/>
            <a:ext cx="2522520" cy="2484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9240" y="1992240"/>
            <a:ext cx="67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ucleus formed by wood-Saxon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-Carlo simulatio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uber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eccentricity which is calculated with long and short axis determined by distribution of participants at each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0880" y="3278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7783560" y="1125360"/>
                <a:ext cx="163332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FFRACTION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3C3-DD1B-473C-8B2F-6FAD295E86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09/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1:03:53Z</dcterms:created>
  <dc:creator>maya</dc:creator>
  <dc:description/>
  <cp:keywords/>
  <dc:language>en-US</dc:language>
  <cp:lastModifiedBy>maya</cp:lastModifiedBy>
  <dcterms:modified xsi:type="dcterms:W3CDTF">2008-09-11T08:55:22Z</dcterms:modified>
  <cp:revision>3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211041</vt:lpwstr>
  </property>
</Properties>
</file>