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png" ContentType="image/png"/>
  <Override PartName="/ppt/media/image57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1.png" ContentType="image/png"/>
  <Override PartName="/ppt/media/image40.png" ContentType="image/png"/>
  <Override PartName="/ppt/media/image37.png" ContentType="image/png"/>
  <Override PartName="/ppt/media/image30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49.png" ContentType="image/png"/>
  <Override PartName="/ppt/media/image12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8.png" ContentType="image/png"/>
  <Override PartName="/ppt/media/image11.png" ContentType="image/png"/>
  <Override PartName="/ppt/media/image25.png" ContentType="image/png"/>
  <Override PartName="/ppt/media/image90.png" ContentType="image/png"/>
  <Override PartName="/ppt/media/image19.jpeg" ContentType="image/jpeg"/>
  <Override PartName="/ppt/media/image36.png" ContentType="image/png"/>
  <Override PartName="/ppt/media/image6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1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71.png" ContentType="image/png"/>
  <Override PartName="/ppt/media/image23.png" ContentType="image/png"/>
  <Override PartName="/ppt/media/image60.png" ContentType="image/png"/>
  <Override PartName="/ppt/media/image15.pct" ContentType="image/x-pict"/>
  <Override PartName="/ppt/media/image95.png" ContentType="image/png"/>
  <Override PartName="/ppt/media/image13.pct" ContentType="image/x-pict"/>
  <Override PartName="/ppt/media/image91.png" ContentType="image/png"/>
  <Override PartName="/ppt/media/image89.png" ContentType="image/png"/>
  <Override PartName="/ppt/media/image42.png" ContentType="image/png"/>
  <Override PartName="/ppt/media/image26.jpeg" ContentType="image/jpeg"/>
  <Override PartName="/ppt/media/image7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84.png" ContentType="image/png"/>
  <Override PartName="/ppt/media/image17.jpeg" ContentType="image/jpeg"/>
  <Override PartName="/ppt/media/image72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5.png" ContentType="image/png"/>
  <Override PartName="/ppt/media/image22.jpeg" ContentType="image/jpeg"/>
  <Override PartName="/ppt/media/image39.png" ContentType="image/png"/>
  <Override PartName="/ppt/media/image9.png" ContentType="image/png"/>
  <Override PartName="/ppt/media/image86.png" ContentType="image/png"/>
  <Override PartName="/ppt/media/image21.png" ContentType="image/png"/>
  <Override PartName="/ppt/media/image58.png" ContentType="image/png"/>
  <Override PartName="/ppt/media/image18.jpeg" ContentType="image/jpeg"/>
  <Override PartName="/ppt/media/image24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34.png" ContentType="image/png"/>
  <Override PartName="/ppt/media/image7.jpeg" ContentType="image/jpeg"/>
  <Override PartName="/ppt/media/image16.png" ContentType="image/png"/>
  <Override PartName="/ppt/media/image81.png" ContentType="image/png"/>
  <Override PartName="/ppt/media/image4.png" ContentType="image/png"/>
  <Override PartName="/ppt/media/image28.png" ContentType="image/png"/>
  <Override PartName="/ppt/media/image93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B885-3A41-48C8-831B-573A594F4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2E8E-0ADE-48F3-BA43-7E5FC9DF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7738-DAB3-468F-BA7D-2B0E63C6E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7444-98C5-466B-9E4F-CFB850AB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111C-B5FF-4BC2-830B-F2BC9AD56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D3B3-4E26-48D9-8FE9-AD538E05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82E2-609B-4FBC-B737-70B97C09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C79C-2373-433C-8A9C-050A192C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D718-B52D-45FD-BF55-2A1A09EE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76320"/>
            <a:ext cx="83822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3C7B-824A-47DF-ABDE-134B12D0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2FAA-B493-4263-AE28-21DC8CA0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7670-4FFC-41B0-ACCF-E4ACBB77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9BBA-9F1C-4F82-808D-B086572A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53FD-D7DB-4EC4-A431-A003D93D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6752-38D1-49D4-BD9C-0ABF2866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8894-C9A0-4F4B-BCD0-49D0EB959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E4E0-7BFD-49B9-A246-4455721CD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BC67-CC09-42EF-B811-94F57970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635A-DB60-4E78-8351-3C41D92C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28DB-2AFF-4E71-9A3A-FE3D0AD2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76320"/>
            <a:ext cx="83822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A17A-2BA3-4B7C-90E7-24052D2F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E856-E19B-4306-BAFB-B8C80020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6C01-7804-4A43-87BF-18E714DF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D980-1849-4502-889D-CD8394D8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76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1602-C023-4C5E-A01D-A91802AF758D}" type="slidenum"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rial Black"/>
              </a:rPr>
              <a:t>Click to edit the title text format</a:t>
            </a:r>
            <a:endParaRPr b="1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62560" y="76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8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4590-7DDA-4508-86FF-6F753283576E}" type="slidenum">
              <a:rPr b="0" lang="ja-JP" sz="28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image" Target="../media/image39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53.png"/><Relationship Id="rId3" Type="http://schemas.openxmlformats.org/officeDocument/2006/relationships/image" Target="../media/image51.png"/><Relationship Id="rId4" Type="http://schemas.openxmlformats.org/officeDocument/2006/relationships/image" Target="../media/image50.png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image" Target="../media/image78.png"/><Relationship Id="rId5" Type="http://schemas.openxmlformats.org/officeDocument/2006/relationships/image" Target="../media/image79.png"/><Relationship Id="rId6" Type="http://schemas.openxmlformats.org/officeDocument/2006/relationships/image" Target="../media/image80.png"/><Relationship Id="rId7" Type="http://schemas.openxmlformats.org/officeDocument/2006/relationships/image" Target="../media/image81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image" Target="../media/image93.png"/><Relationship Id="rId5" Type="http://schemas.openxmlformats.org/officeDocument/2006/relationships/image" Target="../media/image9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333399"/>
                </a:solidFill>
                <a:latin typeface="Arial Black"/>
              </a:rPr>
              <a:t>Measurement of Centrality Dependence of Elliptic Flow for Identified Hadrons in Au+Au Collisions </a:t>
            </a:r>
            <a:br>
              <a:rPr sz="4000"/>
            </a:br>
            <a:r>
              <a:rPr b="1" lang="ja-JP" sz="4000" spc="-1" strike="noStrike">
                <a:solidFill>
                  <a:srgbClr val="333399"/>
                </a:solidFill>
                <a:latin typeface="Arial Black"/>
              </a:rPr>
              <a:t>at </a:t>
            </a:r>
            <a:r>
              <a:rPr b="1" lang="ja-JP" sz="4000" spc="-1" strike="noStrike">
                <a:solidFill>
                  <a:srgbClr val="333399"/>
                </a:solidFill>
                <a:latin typeface="Symbol"/>
                <a:ea typeface="Symbol"/>
              </a:rPr>
              <a:t></a:t>
            </a:r>
            <a:r>
              <a:rPr b="1" lang="ja-JP" sz="4000" spc="-1" strike="noStrike">
                <a:solidFill>
                  <a:srgbClr val="333399"/>
                </a:solidFill>
                <a:latin typeface="Arial Black"/>
              </a:rPr>
              <a:t>s</a:t>
            </a:r>
            <a:r>
              <a:rPr b="1" lang="ja-JP" sz="4000" spc="-1" strike="noStrike" baseline="-25000">
                <a:solidFill>
                  <a:srgbClr val="333399"/>
                </a:solidFill>
                <a:latin typeface="Arial Black"/>
              </a:rPr>
              <a:t>NN</a:t>
            </a:r>
            <a:r>
              <a:rPr b="1" lang="ja-JP" sz="4000" spc="-1" strike="noStrike">
                <a:solidFill>
                  <a:srgbClr val="333399"/>
                </a:solidFill>
                <a:latin typeface="Arial Black"/>
              </a:rPr>
              <a:t> = 200 GeV </a:t>
            </a:r>
            <a:endParaRPr b="1" lang="en-US" sz="40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益井　宙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数理物質科学研究科物理学専攻５年次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本審査公開発表会  </a:t>
            </a: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月</a:t>
            </a: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27</a:t>
            </a: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日</a:t>
            </a: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(2007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C505-861F-48C5-897E-C4689CC19D6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rial Black"/>
              </a:rPr>
              <a:t>Motivation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What have we learned from collective flow at RHIC ?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trong collective (radial)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uccess of Hydrodynamical model (with perfect fluid) for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&lt; 2 GeV/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eviation from Hydrodynamical model for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&gt; 2 GeV/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Measure centrality dependence of identified hadron elliptic flow (</a:t>
            </a:r>
            <a:r>
              <a:rPr b="0" lang="ja-JP" sz="24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, K, p, d and </a:t>
            </a:r>
            <a:r>
              <a:rPr b="0" lang="ja-JP" sz="24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) in </a:t>
            </a:r>
            <a:r>
              <a:rPr b="0" lang="ja-JP" sz="2400" spc="-1" strike="noStrike">
                <a:solidFill>
                  <a:srgbClr val="333399"/>
                </a:solidFill>
                <a:latin typeface="Symbol"/>
                <a:ea typeface="Symbol"/>
              </a:rPr>
              <a:t>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Arial"/>
              </a:rPr>
              <a:t>NN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 = 200 GeV Au+Au collisio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Goal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tudy the relation between eccentricity and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xtract bulk freeze-out temperature and radial flow velocity from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est the validity of quark number scaling of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with identified hadrons for a wide range of centr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1829-6DFE-473F-833F-34EA9E9E05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 rot="5400000">
            <a:off x="4495680" y="-2895480"/>
            <a:ext cx="152280" cy="8686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 Black"/>
              </a:rPr>
              <a:t>My contributions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333" name=""/>
          <p:cNvSpPr/>
          <p:nvPr/>
        </p:nvSpPr>
        <p:spPr>
          <a:xfrm>
            <a:off x="533520" y="121932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1295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581280" y="121932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1295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 rot="10800000">
            <a:off x="1600560" y="914040"/>
            <a:ext cx="127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M1, 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 rot="10800000">
            <a:off x="1821600" y="1324800"/>
            <a:ext cx="99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2001 -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553080" y="121932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629400" y="1295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 rot="10800000">
            <a:off x="5039640" y="13248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 rot="10800000">
            <a:off x="7618680" y="13248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 rot="10800000">
            <a:off x="5036400" y="914040"/>
            <a:ext cx="5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 rot="10800000">
            <a:off x="7565400" y="914040"/>
            <a:ext cx="5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D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5400000">
            <a:off x="4495680" y="-152280"/>
            <a:ext cx="152280" cy="8686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905120" y="396252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981080" y="40384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228600" y="3657600"/>
            <a:ext cx="87631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952880" y="396252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029200" y="40384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 rot="10800000">
            <a:off x="3298320" y="3657240"/>
            <a:ext cx="5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D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 rot="10800000">
            <a:off x="3362760" y="40680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 rot="10800000">
            <a:off x="6409080" y="40680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 rot="10800000">
            <a:off x="6408000" y="3657240"/>
            <a:ext cx="5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D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 rot="10800000">
            <a:off x="686160" y="40680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17760" y="1736640"/>
            <a:ext cx="7473960" cy="307080"/>
          </a:xfrm>
          <a:prstGeom prst="rect">
            <a:avLst/>
          </a:prstGeom>
          <a:noFill/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Time-Of-Flight Detector): Timing calibration, offline software mainte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04920" y="4495680"/>
            <a:ext cx="4952880" cy="733320"/>
          </a:xfrm>
          <a:prstGeom prst="rect">
            <a:avLst/>
          </a:prstGeom>
          <a:noFill/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Year-3 d+Au timing calib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Year-4 Au+Au 200 GeV &amp; 62.4 GeV timing calib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Year-5 Cu+Cu 200 GeV timing calib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803760" y="2057400"/>
            <a:ext cx="5187960" cy="520200"/>
          </a:xfrm>
          <a:prstGeom prst="rect">
            <a:avLst/>
          </a:prstGeom>
          <a:noFill/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Aerogel Cherenkov Counter): Offline software development, maintenance. Simulation for online LVL-2 trig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4920" y="5257800"/>
            <a:ext cx="8686800" cy="520200"/>
          </a:xfrm>
          <a:prstGeom prst="rect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Event Plane calibration): Offline software development. Calibration for Year-4 &amp; Year-5 Event plane f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veral different subsystem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43000" y="2590920"/>
            <a:ext cx="2286000" cy="5493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High 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charged hadron Elliptic Flo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114800" y="2590920"/>
            <a:ext cx="2286000" cy="5202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irected Flow analysis by using Elliptic Event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629400" y="2590920"/>
            <a:ext cx="2362320" cy="5493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Fast track analsis for 62.4 GeV Au+Au PID hadron v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438280" y="5791320"/>
            <a:ext cx="655344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 GeV Year-4 Au+Au and Year-5 Cu+Cu, Elliptic Flow 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95280" y="327672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rk Matter 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952880" y="327672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ll DN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" y="60958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rk Matter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505320" y="64771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rk Matter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514600" y="617220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NP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86400" y="617220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PAN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019920" y="64771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HIC-AGS user’s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553080" y="3284640"/>
            <a:ext cx="2463840" cy="276480"/>
          </a:xfrm>
          <a:prstGeom prst="rect">
            <a:avLst/>
          </a:prstGeom>
          <a:solidFill>
            <a:srgbClr val="0033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62.4 GeV: PRL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94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, 232302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892480" y="4392720"/>
            <a:ext cx="2945160" cy="276480"/>
          </a:xfrm>
          <a:prstGeom prst="rect">
            <a:avLst/>
          </a:prstGeom>
          <a:solidFill>
            <a:srgbClr val="0033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200" spc="-1" strike="noStrike">
                <a:solidFill>
                  <a:srgbClr val="ffffff"/>
                </a:solidFill>
                <a:latin typeface="Arial"/>
              </a:rPr>
              <a:t>Au+Au &amp; Cu+Cu: PRL</a:t>
            </a:r>
            <a:r>
              <a:rPr b="1" i="1" lang="ja-JP" sz="1200" spc="-1" strike="noStrike">
                <a:solidFill>
                  <a:srgbClr val="ffffff"/>
                </a:solidFill>
                <a:latin typeface="Arial"/>
              </a:rPr>
              <a:t>98</a:t>
            </a:r>
            <a:r>
              <a:rPr b="0" i="1" lang="ja-JP" sz="1200" spc="-1" strike="noStrike">
                <a:solidFill>
                  <a:srgbClr val="ffffff"/>
                </a:solidFill>
                <a:latin typeface="Arial"/>
              </a:rPr>
              <a:t>, 162301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5880" y="4800600"/>
            <a:ext cx="1750320" cy="276480"/>
          </a:xfrm>
          <a:prstGeom prst="rect">
            <a:avLst/>
          </a:prstGeom>
          <a:solidFill>
            <a:srgbClr val="0033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d &amp; </a:t>
            </a:r>
            <a:r>
              <a:rPr b="0" i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: nucl-ex/0703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2848-26DE-4008-8701-5D6563404E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6600" spc="-1" strike="noStrike">
                <a:solidFill>
                  <a:srgbClr val="333399"/>
                </a:solidFill>
                <a:latin typeface="Arial Black"/>
              </a:rPr>
              <a:t>Analysis</a:t>
            </a:r>
            <a:br>
              <a:rPr sz="6600"/>
            </a:br>
            <a:r>
              <a:rPr b="0" lang="ja-JP" sz="2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ja-JP" sz="3200" spc="-1" strike="noStrike">
                <a:solidFill>
                  <a:srgbClr val="333399"/>
                </a:solidFill>
                <a:latin typeface="Arial Black"/>
              </a:rPr>
              <a:t> 0. PHENIX experiment </a:t>
            </a:r>
            <a:br>
              <a:rPr sz="3200"/>
            </a:br>
            <a:r>
              <a:rPr b="0" lang="ja-JP" sz="3200" spc="-1" strike="noStrike">
                <a:solidFill>
                  <a:srgbClr val="333399"/>
                </a:solidFill>
                <a:latin typeface="Arial Black"/>
              </a:rPr>
              <a:t>  1. Event selection (centrality)</a:t>
            </a:r>
            <a:br>
              <a:rPr sz="3200"/>
            </a:br>
            <a:r>
              <a:rPr b="0" lang="ja-JP" sz="3200" spc="-1" strike="noStrike">
                <a:solidFill>
                  <a:srgbClr val="333399"/>
                </a:solidFill>
                <a:latin typeface="Arial Black"/>
              </a:rPr>
              <a:t>  2. Track reconstruction</a:t>
            </a:r>
            <a:br>
              <a:rPr sz="3200"/>
            </a:br>
            <a:r>
              <a:rPr b="0" lang="ja-JP" sz="3200" spc="-1" strike="noStrike">
                <a:solidFill>
                  <a:srgbClr val="333399"/>
                </a:solidFill>
                <a:latin typeface="Arial Black"/>
              </a:rPr>
              <a:t>  3. Particle identification</a:t>
            </a:r>
            <a:br>
              <a:rPr sz="3200"/>
            </a:br>
            <a:r>
              <a:rPr b="0" lang="ja-JP" sz="3200" spc="-1" strike="noStrike">
                <a:solidFill>
                  <a:srgbClr val="333399"/>
                </a:solidFill>
                <a:latin typeface="Arial Black"/>
              </a:rPr>
              <a:t>  4. Event plane determination</a:t>
            </a:r>
            <a:br>
              <a:rPr sz="3200"/>
            </a:br>
            <a:r>
              <a:rPr b="0" lang="ja-JP" sz="3200" spc="-1" strike="noStrike">
                <a:solidFill>
                  <a:srgbClr val="333399"/>
                </a:solidFill>
                <a:latin typeface="Arial Black"/>
              </a:rPr>
              <a:t>  5. v</a:t>
            </a:r>
            <a:r>
              <a:rPr b="0" lang="ja-JP" sz="3200" spc="-1" strike="noStrike" baseline="-25000">
                <a:solidFill>
                  <a:srgbClr val="333399"/>
                </a:solidFill>
                <a:latin typeface="Arial Black"/>
              </a:rPr>
              <a:t>2</a:t>
            </a:r>
            <a:r>
              <a:rPr b="0" lang="ja-JP" sz="3200" spc="-1" strike="noStrike">
                <a:solidFill>
                  <a:srgbClr val="333399"/>
                </a:solidFill>
                <a:latin typeface="Arial Black"/>
              </a:rPr>
              <a:t> measurement</a:t>
            </a:r>
            <a:endParaRPr b="0" lang="en-US" sz="32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6307-8A5F-4093-8537-850CDBB110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 Black"/>
              </a:rPr>
              <a:t>PHENIX experiment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105160" y="1142640"/>
            <a:ext cx="3886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Global information (Trigger, centrality, collision vertex, etc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819000" indent="-285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Beam-Beam Counter (BBC), 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, |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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|=3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Zero Degree Calorimeter (ZDC) and Shower Maximum Detector (SMD) 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, |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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|&gt;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Central arm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, |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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|&lt;0.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Tracking, momentum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819000" indent="-285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rift Chamber (DC), R=2.2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ad Chamber (PC), R=2.5m (PC1), 4.9m (PC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Particle identific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819000" indent="-285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Time-Of-Flight (TOF), R=5m, 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/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76320" y="1143000"/>
            <a:ext cx="4952880" cy="402588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654120" y="6324480"/>
            <a:ext cx="1066680" cy="304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652320" y="5409720"/>
            <a:ext cx="0" cy="9572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72260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746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54120" y="5486400"/>
            <a:ext cx="609480" cy="8380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65400" y="533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2819160" y="1905120"/>
            <a:ext cx="2819160" cy="1066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2285640" y="1905120"/>
            <a:ext cx="335268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 flipV="1">
            <a:off x="533160" y="2285640"/>
            <a:ext cx="510516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4571640" y="2514600"/>
            <a:ext cx="1066680" cy="1066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 flipV="1">
            <a:off x="2361960" y="3276720"/>
            <a:ext cx="327636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 flipV="1">
            <a:off x="2514600" y="2666880"/>
            <a:ext cx="3124080" cy="152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2361960" y="3733920"/>
            <a:ext cx="3276360" cy="761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2209320" y="3276720"/>
            <a:ext cx="3429000" cy="12189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 flipV="1">
            <a:off x="2590920" y="2590560"/>
            <a:ext cx="3047760" cy="1904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 flipV="1">
            <a:off x="2742840" y="2133360"/>
            <a:ext cx="2895480" cy="23619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3048120" y="2133360"/>
            <a:ext cx="2590560" cy="32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CEBF-DB7C-4758-95E6-E7D9D11F62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 Black"/>
              </a:rPr>
              <a:t>Global Detectors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5562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The role of BBC and ZDC+SMD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inimum bias trigger, Collision z-vertex, Centrality, Event plane (BBC, SMD), Start timing for Time-Of-Flight Detector (BB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rcRect l="16666" t="10882" r="20002" b="9118"/>
          <a:stretch/>
        </p:blipFill>
        <p:spPr>
          <a:xfrm>
            <a:off x="152280" y="990720"/>
            <a:ext cx="2895840" cy="274320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"/>
          <a:srcRect l="3335" t="24355" r="5000" b="8982"/>
          <a:stretch/>
        </p:blipFill>
        <p:spPr>
          <a:xfrm>
            <a:off x="2666880" y="2743200"/>
            <a:ext cx="1905120" cy="103968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4800600" y="992160"/>
            <a:ext cx="3657600" cy="27417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8229600" y="2590920"/>
            <a:ext cx="0" cy="9903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257680" y="248112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06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6400800" y="3657600"/>
            <a:ext cx="17524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859080" y="36576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20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567400" y="327672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45</a:t>
            </a:r>
            <a:r>
              <a:rPr b="0" lang="en-US" sz="14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5943600" y="3276720"/>
            <a:ext cx="45648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924680" y="2971800"/>
            <a:ext cx="976320" cy="228600"/>
          </a:xfrm>
          <a:prstGeom prst="leftArrow">
            <a:avLst>
              <a:gd name="adj1" fmla="val 50000"/>
              <a:gd name="adj2" fmla="val 106772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8369280" y="3200400"/>
            <a:ext cx="67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53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381880" y="31240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288280" y="277164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990720" y="2819160"/>
            <a:ext cx="838080" cy="6094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739520" y="34290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20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88720" y="3992400"/>
            <a:ext cx="3202560" cy="14331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B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esh-dynode PMT (1 in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iame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3 cm quartz Cherenkov radia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64 PMT elements on each B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865400" y="3992400"/>
            <a:ext cx="3878640" cy="171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ZDC (+SM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ampling calorimeter (Tungste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cintillator) 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3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in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/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MD is located between 2</a:t>
            </a:r>
            <a:r>
              <a:rPr b="0" lang="ja-JP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and 3</a:t>
            </a:r>
            <a:r>
              <a:rPr b="0" lang="ja-JP" sz="1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Z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8 bins in (x,y) 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8829000">
            <a:off x="166320" y="2895120"/>
            <a:ext cx="976320" cy="228600"/>
          </a:xfrm>
          <a:prstGeom prst="leftArrow">
            <a:avLst>
              <a:gd name="adj1" fmla="val 50000"/>
              <a:gd name="adj2" fmla="val 106772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87280" y="320040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9C47-EDCA-4B6F-9BC5-EC4BEC81E7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52280" y="5848200"/>
            <a:ext cx="4800600" cy="9144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52280" y="4200480"/>
            <a:ext cx="4800600" cy="9144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52280" y="5105520"/>
            <a:ext cx="4800600" cy="76176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rcRect l="0" t="6422" r="0" b="0"/>
          <a:stretch/>
        </p:blipFill>
        <p:spPr>
          <a:xfrm>
            <a:off x="160200" y="934920"/>
            <a:ext cx="5249880" cy="333216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 Black"/>
              </a:rPr>
              <a:t>Centrality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28840" y="1104480"/>
            <a:ext cx="396252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Geometry of heavy ion collis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mpact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umber of participant nucle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ultiplicity, energy of spectator neu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Number of Participant (N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Arial"/>
              </a:rPr>
              <a:t>part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alculate N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by Glauber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Glauber Mod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hickness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oods-saxon density distrib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768320" y="4267080"/>
            <a:ext cx="746280" cy="16002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031840" y="4267080"/>
            <a:ext cx="222480" cy="2080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897200" y="4470480"/>
            <a:ext cx="222120" cy="2062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160720" y="4513320"/>
            <a:ext cx="222120" cy="2080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292480" y="4716360"/>
            <a:ext cx="222120" cy="2080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031840" y="4718160"/>
            <a:ext cx="222480" cy="20772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12960" y="4800600"/>
            <a:ext cx="222120" cy="2080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028960" y="4962600"/>
            <a:ext cx="222120" cy="20772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292480" y="4964040"/>
            <a:ext cx="222120" cy="2080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768320" y="5046840"/>
            <a:ext cx="222480" cy="20772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857240" y="5291280"/>
            <a:ext cx="220680" cy="2062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073240" y="5170320"/>
            <a:ext cx="222120" cy="206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163600" y="5413320"/>
            <a:ext cx="222480" cy="2080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900080" y="5537160"/>
            <a:ext cx="222480" cy="2062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17880" y="5621400"/>
            <a:ext cx="220680" cy="2080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92480" y="5210280"/>
            <a:ext cx="222120" cy="20772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54120" y="5105520"/>
            <a:ext cx="746280" cy="16002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717640" y="5105520"/>
            <a:ext cx="222480" cy="20772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83000" y="5308560"/>
            <a:ext cx="222120" cy="2062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846520" y="5351400"/>
            <a:ext cx="222120" cy="2080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78280" y="5554800"/>
            <a:ext cx="222120" cy="20772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717640" y="5556240"/>
            <a:ext cx="222480" cy="2080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498760" y="5638680"/>
            <a:ext cx="222120" cy="2080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714760" y="5800680"/>
            <a:ext cx="222120" cy="2080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978280" y="5802480"/>
            <a:ext cx="222120" cy="20772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54120" y="5884920"/>
            <a:ext cx="222480" cy="2080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43040" y="6129360"/>
            <a:ext cx="220680" cy="2062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759040" y="6008760"/>
            <a:ext cx="222120" cy="2062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849400" y="6251400"/>
            <a:ext cx="222480" cy="2080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85880" y="6375240"/>
            <a:ext cx="222480" cy="206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803680" y="6459480"/>
            <a:ext cx="220680" cy="2080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978280" y="6048360"/>
            <a:ext cx="222120" cy="2080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16200000">
            <a:off x="3504960" y="5105160"/>
            <a:ext cx="533520" cy="83844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733920" y="4343400"/>
            <a:ext cx="1214280" cy="609480"/>
          </a:xfrm>
          <a:prstGeom prst="parallelogram">
            <a:avLst>
              <a:gd name="adj" fmla="val 4980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538800" y="5357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040280" y="44337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64160" y="525780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54080" y="449568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t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54080" y="609588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t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9848-5398-4C61-B65B-16BA6A9DE7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rcRect l="8701" t="0" r="10144" b="46469"/>
          <a:stretch/>
        </p:blipFill>
        <p:spPr>
          <a:xfrm>
            <a:off x="228600" y="1066680"/>
            <a:ext cx="4191120" cy="346572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 Black"/>
              </a:rPr>
              <a:t>Tracking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876560" y="1142640"/>
            <a:ext cx="3886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Drift Chambe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: incident angle, K : effective field integral, p : moment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omentum deter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omentum resolution : 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/p = 0.7 %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1 %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Pad chambe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3 dimensional hit point (straight l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econstruct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(PC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Associate DC tracks to outer detectors (PC3, TOF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2662200" y="2290320"/>
            <a:ext cx="167652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2285280" y="2514600"/>
            <a:ext cx="91404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771" y="44"/>
                </a:moveTo>
                <a:arcTo wR="10800" hR="10800" stAng="-5090501" swAng="5090501"/>
                <a:lnTo>
                  <a:pt x="10800" y="10800"/>
                </a:lnTo>
                <a:close/>
              </a:path>
              <a:path fill="none" w="21600" h="21600">
                <a:moveTo>
                  <a:pt x="11771" y="44"/>
                </a:moveTo>
                <a:arcTo wR="10800" hR="10800" stAng="-5090501" swAng="5090501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1066680" y="46483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228600" y="54864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47960" y="5486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144800" y="4648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5105520" y="1523880"/>
            <a:ext cx="3429000" cy="62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805D-E90C-4286-A24B-0EB4A9BA11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1"/>
          <a:srcRect l="2196" t="6892" r="4396" b="3542"/>
          <a:stretch/>
        </p:blipFill>
        <p:spPr>
          <a:xfrm>
            <a:off x="3962520" y="990720"/>
            <a:ext cx="5181480" cy="23763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bbe0e3"/>
                </a:solidFill>
                <a:latin typeface="Arial Black"/>
              </a:rPr>
              <a:t>Particle identification: </a:t>
            </a:r>
            <a:r>
              <a:rPr b="0" lang="ja-JP" sz="3600" spc="-1" strike="noStrike">
                <a:solidFill>
                  <a:srgbClr val="bbe0e3"/>
                </a:solidFill>
                <a:latin typeface="Symbol"/>
                <a:ea typeface="Symbol"/>
              </a:rPr>
              <a:t></a:t>
            </a:r>
            <a:r>
              <a:rPr b="0" lang="ja-JP" sz="3600" spc="-1" strike="noStrike">
                <a:solidFill>
                  <a:srgbClr val="bbe0e3"/>
                </a:solidFill>
                <a:latin typeface="Arial Black"/>
              </a:rPr>
              <a:t>/K/p/d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580920" y="3657240"/>
            <a:ext cx="54104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TOF (Flight time </a:t>
            </a:r>
            <a:r>
              <a:rPr b="0" lang="ja-JP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 Mass square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iming resolution: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OF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~ 120 ps,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EM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~ 500 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Particle separati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/K ~ 3 GeV/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an be extended up to 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~ 4 GeV/c by using asymmetric cu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K/p ~ 4 GeV/c, d :1 - 4 GeV/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/K ~ 1.5 GeV/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2"/>
          <a:srcRect l="3343" t="6883" r="8014" b="1339"/>
          <a:stretch/>
        </p:blipFill>
        <p:spPr>
          <a:xfrm>
            <a:off x="0" y="914400"/>
            <a:ext cx="3886200" cy="293220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3"/>
          <a:srcRect l="8004" t="18006" r="3984" b="7993"/>
          <a:stretch/>
        </p:blipFill>
        <p:spPr>
          <a:xfrm>
            <a:off x="347760" y="3886200"/>
            <a:ext cx="285264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53D7-260D-49A3-BB03-F4DC411668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268880" cy="574812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 Black"/>
              </a:rPr>
              <a:t>Particle identification: </a:t>
            </a:r>
            <a:r>
              <a:rPr b="0" lang="en-US" sz="3600" spc="-1" strike="noStrike">
                <a:solidFill>
                  <a:srgbClr val="bbe0e3"/>
                </a:solidFill>
                <a:latin typeface="Symbol"/>
                <a:ea typeface="Symbol"/>
              </a:rPr>
              <a:t>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1640" y="1219320"/>
            <a:ext cx="4343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Symbol"/>
                <a:ea typeface="Symbol"/>
              </a:rPr>
              <a:t>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0" lang="ja-JP" sz="24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0" lang="ja-JP" sz="2400" spc="-1" strike="noStrike" baseline="30000">
                <a:solidFill>
                  <a:srgbClr val="333399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ranching ratio = 49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Reconstruct </a:t>
            </a:r>
            <a:r>
              <a:rPr b="0" lang="ja-JP" sz="24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 meson by invariant mas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 &lt;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&lt; 4 GeV/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Kaon from TOF detector, use also EMCal to increase the statistics at low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Combinatorial background is estimated by event mixing techniqu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ackground distribution is normalized in M = 1.2 - 1.3 GeV/c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Signal extrac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reit-wigner + 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DB32-52DA-46DF-94A8-FFAE046B52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rcRect l="0" t="8611" r="0" b="0"/>
          <a:stretch/>
        </p:blipFill>
        <p:spPr>
          <a:xfrm>
            <a:off x="4724280" y="990720"/>
            <a:ext cx="4343400" cy="335268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2"/>
          <a:srcRect l="4193" t="21016" r="6941" b="33916"/>
          <a:stretch/>
        </p:blipFill>
        <p:spPr>
          <a:xfrm>
            <a:off x="76320" y="990720"/>
            <a:ext cx="4572000" cy="300024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3"/>
          <a:srcRect l="4193" t="21016" r="6941" b="33916"/>
          <a:stretch/>
        </p:blipFill>
        <p:spPr>
          <a:xfrm>
            <a:off x="76320" y="990720"/>
            <a:ext cx="4572000" cy="300024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4"/>
          <a:srcRect l="4193" t="21016" r="6941" b="33916"/>
          <a:stretch/>
        </p:blipFill>
        <p:spPr>
          <a:xfrm>
            <a:off x="76320" y="990720"/>
            <a:ext cx="4572000" cy="300024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 Black"/>
              </a:rPr>
              <a:t>Event plane @ PHENIX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86200" y="4343040"/>
            <a:ext cx="51055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Event plane determined at BBC (|</a:t>
            </a:r>
            <a:r>
              <a:rPr b="0" lang="ja-JP" sz="1800" spc="-1" strike="noStrike">
                <a:solidFill>
                  <a:srgbClr val="333399"/>
                </a:solidFill>
                <a:latin typeface="Symbol"/>
                <a:ea typeface="Symbol"/>
              </a:rPr>
              <a:t>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| = 3 - 4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over full azimuth (Half of full azimuth in Central a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Measure particles with respect to the event plane at BBC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Large rapidity gap (|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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| ~ 3) reduce non-flow effects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* contribute the flow signal </a:t>
            </a: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originated from reaction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5400000">
            <a:off x="7511400" y="2236680"/>
            <a:ext cx="24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PHOBOS: PRL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91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, 052303 (200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019920" y="2071800"/>
            <a:ext cx="228600" cy="290520"/>
          </a:xfrm>
          <a:prstGeom prst="downArrow">
            <a:avLst>
              <a:gd name="adj1" fmla="val 50000"/>
              <a:gd name="adj2" fmla="val 6180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953480" y="2071800"/>
            <a:ext cx="228600" cy="290520"/>
          </a:xfrm>
          <a:prstGeom prst="downArrow">
            <a:avLst>
              <a:gd name="adj1" fmla="val 50000"/>
              <a:gd name="adj2" fmla="val 6180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991200" y="1538280"/>
            <a:ext cx="228600" cy="290520"/>
          </a:xfrm>
          <a:prstGeom prst="downArrow">
            <a:avLst>
              <a:gd name="adj1" fmla="val 50000"/>
              <a:gd name="adj2" fmla="val 6180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5"/>
          <a:stretch/>
        </p:blipFill>
        <p:spPr>
          <a:xfrm>
            <a:off x="76320" y="4648320"/>
            <a:ext cx="3733560" cy="178596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184A-34D9-4F06-A657-EE272A4E93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 Black"/>
              </a:rPr>
              <a:t>Outline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Quark Gluon Plasma (QG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hy Elliptic Flow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Analysi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entrality, Tracking, Particle 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etermination of even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Results and Discussio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ransverse momentum, Centrality dependence of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ccentricity scaling of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, Blast-wave model, Quark number scaling of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0729-BBB5-4CF8-8516-8FDE3D6859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76320" y="5327640"/>
            <a:ext cx="4876560" cy="145404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pic>
        <p:nvPicPr>
          <p:cNvPr id="491" name="" descr=""/>
          <p:cNvPicPr/>
          <p:nvPr/>
        </p:nvPicPr>
        <p:blipFill>
          <a:blip r:embed="rId2"/>
          <a:srcRect l="0" t="2635" r="0" b="0"/>
          <a:stretch/>
        </p:blipFill>
        <p:spPr>
          <a:xfrm>
            <a:off x="304920" y="992160"/>
            <a:ext cx="4267080" cy="281772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 Black"/>
              </a:rPr>
              <a:t>Flattening correction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800600" y="114264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Reconstructed EP usually not exactly fla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etector accep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etector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eam position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tc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Overall “shift” correcti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emove almost all  bias (black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b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Flattening correcti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emove remaining non-flat contributions (blue -&gt; 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Requi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Symbol"/>
                <a:ea typeface="Symbol"/>
              </a:rPr>
              <a:t>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hould be sm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sotropic distribution -&gt; vanishing of </a:t>
            </a:r>
            <a:r>
              <a:rPr b="0" i="1" lang="ja-JP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-th Forier moment of the new distribution (</a:t>
            </a:r>
            <a:r>
              <a:rPr b="0" lang="ja-JP" sz="1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76320" y="3881520"/>
            <a:ext cx="4495680" cy="132552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495" name=""/>
          <p:cNvSpPr/>
          <p:nvPr/>
        </p:nvSpPr>
        <p:spPr>
          <a:xfrm>
            <a:off x="4037040" y="3805200"/>
            <a:ext cx="5997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530160" y="5257800"/>
            <a:ext cx="11818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tt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50DC-6388-4462-AE99-A47AB70D1B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4572000" y="914400"/>
            <a:ext cx="3986280" cy="449568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76320" y="4724280"/>
            <a:ext cx="4724280" cy="182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152280" y="4876920"/>
            <a:ext cx="4572000" cy="96516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235440" y="5996160"/>
            <a:ext cx="427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** Valid only equal multiplicity ev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vent plane resolution of each sub-event is s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3"/>
          <a:srcRect l="8499" t="6791" r="6104" b="0"/>
          <a:stretch/>
        </p:blipFill>
        <p:spPr>
          <a:xfrm>
            <a:off x="152280" y="990720"/>
            <a:ext cx="4419720" cy="327168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 Black"/>
              </a:rPr>
              <a:t>Event plane resolution &amp; Extract v</a:t>
            </a:r>
            <a:r>
              <a:rPr b="0" lang="en-US" sz="3200" spc="-1" strike="noStrike" baseline="-25000">
                <a:solidFill>
                  <a:srgbClr val="bbe0e3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5410080" y="1752480"/>
            <a:ext cx="7920" cy="25909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260320" y="137160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ent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257800" y="4343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eriph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8229600" y="1447920"/>
            <a:ext cx="685800" cy="685800"/>
          </a:xfrm>
          <a:prstGeom prst="ellipse">
            <a:avLst/>
          </a:prstGeom>
          <a:blipFill rotWithShape="0">
            <a:blip r:embed="rId4">
              <a:alphaModFix amt="24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305920" y="1447920"/>
            <a:ext cx="685800" cy="685800"/>
          </a:xfrm>
          <a:prstGeom prst="ellipse">
            <a:avLst/>
          </a:prstGeom>
          <a:blipFill rotWithShape="0">
            <a:blip r:embed="rId5">
              <a:alphaModFix amt="24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8153280" y="2666880"/>
            <a:ext cx="685800" cy="685800"/>
          </a:xfrm>
          <a:prstGeom prst="ellipse">
            <a:avLst/>
          </a:prstGeom>
          <a:blipFill rotWithShape="0">
            <a:blip r:embed="rId6">
              <a:alphaModFix amt="24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381880" y="2666880"/>
            <a:ext cx="685800" cy="685800"/>
          </a:xfrm>
          <a:prstGeom prst="ellipse">
            <a:avLst/>
          </a:prstGeom>
          <a:blipFill rotWithShape="0">
            <a:blip r:embed="rId7">
              <a:alphaModFix amt="24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8001000" y="4114800"/>
            <a:ext cx="685800" cy="685800"/>
          </a:xfrm>
          <a:prstGeom prst="ellipse">
            <a:avLst/>
          </a:prstGeom>
          <a:blipFill rotWithShape="0">
            <a:blip r:embed="rId8">
              <a:alphaModFix amt="24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381880" y="4114800"/>
            <a:ext cx="685800" cy="685800"/>
          </a:xfrm>
          <a:prstGeom prst="ellipse">
            <a:avLst/>
          </a:prstGeom>
          <a:blipFill rotWithShape="0">
            <a:blip r:embed="rId9">
              <a:alphaModFix amt="24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28680" y="2971800"/>
            <a:ext cx="914400" cy="9144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208320" y="3000240"/>
            <a:ext cx="914400" cy="9144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68000" y="3976560"/>
            <a:ext cx="824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mall v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886480" y="2133720"/>
            <a:ext cx="13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Low multipli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513240" y="2390760"/>
            <a:ext cx="75960" cy="7621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865040" y="5560920"/>
            <a:ext cx="41706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ssumptions : (for a given centrality, 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ll particles are independent in the same ev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ultiplicity is large (&gt;&gt;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No fluctuation of v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7BF0-0966-4CD4-96AA-A9ED80FE85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880" y="17521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6600" spc="-1" strike="noStrike">
                <a:solidFill>
                  <a:srgbClr val="333399"/>
                </a:solidFill>
                <a:latin typeface="Arial Black"/>
              </a:rPr>
              <a:t>Results &amp;</a:t>
            </a:r>
            <a:br>
              <a:rPr sz="6600"/>
            </a:br>
            <a:r>
              <a:rPr b="0" i="1" lang="ja-JP" sz="6600" spc="-1" strike="noStrike">
                <a:solidFill>
                  <a:srgbClr val="333399"/>
                </a:solidFill>
                <a:latin typeface="Arial Black"/>
              </a:rPr>
              <a:t>Discussions</a:t>
            </a:r>
            <a:br>
              <a:rPr sz="6600"/>
            </a:br>
            <a:r>
              <a:rPr b="0" i="1" lang="ja-JP" sz="4400" spc="-1" strike="noStrike">
                <a:solidFill>
                  <a:srgbClr val="ff0000"/>
                </a:solidFill>
                <a:latin typeface="Arial Black"/>
              </a:rPr>
              <a:t>(1) Eccentricity scaling</a:t>
            </a:r>
            <a:r>
              <a:rPr b="0" i="1" lang="ja-JP" sz="4400" spc="-1" strike="noStrike">
                <a:solidFill>
                  <a:srgbClr val="333399"/>
                </a:solidFill>
                <a:latin typeface="Arial Black"/>
              </a:rPr>
              <a:t> </a:t>
            </a:r>
            <a:br>
              <a:rPr sz="4400"/>
            </a:br>
            <a:r>
              <a:rPr b="0" i="1" lang="ja-JP" sz="4400" spc="-1" strike="noStrike">
                <a:solidFill>
                  <a:srgbClr val="333399"/>
                </a:solidFill>
                <a:latin typeface="Arial Black"/>
              </a:rPr>
              <a:t>(2) Blast-wave fit</a:t>
            </a:r>
            <a:br>
              <a:rPr sz="4400"/>
            </a:br>
            <a:r>
              <a:rPr b="0" i="1" lang="ja-JP" sz="4400" spc="-1" strike="noStrike">
                <a:solidFill>
                  <a:srgbClr val="333399"/>
                </a:solidFill>
                <a:latin typeface="Arial Black"/>
              </a:rPr>
              <a:t>(3) Quark number scaling</a:t>
            </a:r>
            <a:endParaRPr b="0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CA9E-F786-498A-A027-E9CF074D57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6240600" cy="423216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6240600" cy="423216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3"/>
          <a:stretch/>
        </p:blipFill>
        <p:spPr>
          <a:xfrm>
            <a:off x="0" y="914400"/>
            <a:ext cx="6240600" cy="423216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bbe0e3"/>
                </a:solidFill>
                <a:latin typeface="Arial Black"/>
              </a:rPr>
              <a:t>v</a:t>
            </a:r>
            <a:r>
              <a:rPr b="0" lang="ja-JP" sz="3600" spc="-1" strike="noStrike" baseline="-25000">
                <a:solidFill>
                  <a:srgbClr val="bbe0e3"/>
                </a:solidFill>
                <a:latin typeface="Arial Black"/>
              </a:rPr>
              <a:t>2</a:t>
            </a:r>
            <a:r>
              <a:rPr b="0" lang="ja-JP" sz="3600" spc="-1" strike="noStrike">
                <a:solidFill>
                  <a:srgbClr val="bbe0e3"/>
                </a:solidFill>
                <a:latin typeface="Arial Black"/>
              </a:rPr>
              <a:t>(p</a:t>
            </a:r>
            <a:r>
              <a:rPr b="0" lang="ja-JP" sz="3600" spc="-1" strike="noStrike" baseline="-25000">
                <a:solidFill>
                  <a:srgbClr val="bbe0e3"/>
                </a:solidFill>
                <a:latin typeface="Arial Black"/>
              </a:rPr>
              <a:t>T</a:t>
            </a:r>
            <a:r>
              <a:rPr b="0" lang="ja-JP" sz="3600" spc="-1" strike="noStrike">
                <a:solidFill>
                  <a:srgbClr val="bbe0e3"/>
                </a:solidFill>
                <a:latin typeface="Arial Black"/>
              </a:rPr>
              <a:t>) for </a:t>
            </a:r>
            <a:r>
              <a:rPr b="0" lang="ja-JP" sz="3600" spc="-1" strike="noStrike">
                <a:solidFill>
                  <a:srgbClr val="bbe0e3"/>
                </a:solidFill>
                <a:latin typeface="Symbol"/>
                <a:ea typeface="Symbol"/>
              </a:rPr>
              <a:t></a:t>
            </a:r>
            <a:r>
              <a:rPr b="0" lang="ja-JP" sz="3600" spc="-1" strike="noStrike">
                <a:solidFill>
                  <a:srgbClr val="bbe0e3"/>
                </a:solidFill>
                <a:latin typeface="Arial Black"/>
              </a:rPr>
              <a:t>, K, and p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791320" y="1143000"/>
            <a:ext cx="3200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Increase statistics from Run2 (</a:t>
            </a:r>
            <a:r>
              <a:rPr b="0" lang="ja-JP" sz="24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20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un2 ~ 30 M event, Run4 ~ 600 M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Symbol"/>
                <a:ea typeface="Symbol"/>
              </a:rPr>
              <a:t>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sin(2[</a:t>
            </a:r>
            <a:r>
              <a:rPr b="0" lang="ja-JP" sz="24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lang="ja-JP" sz="2400" spc="-1" strike="noStrike">
                <a:solidFill>
                  <a:srgbClr val="333399"/>
                </a:solidFill>
                <a:latin typeface="Symbol"/>
                <a:ea typeface="Symbol"/>
              </a:rPr>
              <a:t>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Arial"/>
              </a:rPr>
              <a:t>BBC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])</a:t>
            </a:r>
            <a:r>
              <a:rPr b="0" lang="ja-JP" sz="2400" spc="-1" strike="noStrike">
                <a:solidFill>
                  <a:srgbClr val="333399"/>
                </a:solidFill>
                <a:latin typeface="Symbol"/>
                <a:ea typeface="Symbol"/>
              </a:rPr>
              <a:t>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 = 0 as we expect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No charge dependenc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Consistent with Run2 resul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Consistent with K</a:t>
            </a:r>
            <a:r>
              <a:rPr b="0" lang="ja-JP" sz="2400" spc="-1" strike="noStrike" baseline="30000">
                <a:solidFill>
                  <a:srgbClr val="333399"/>
                </a:solidFill>
                <a:latin typeface="Arial"/>
              </a:rPr>
              <a:t>0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Arial"/>
              </a:rPr>
              <a:t>s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0" lang="ja-JP" sz="2400" spc="-1" strike="noStrike">
                <a:solidFill>
                  <a:srgbClr val="333399"/>
                </a:solidFill>
                <a:latin typeface="Symbol"/>
                <a:ea typeface="Symbol"/>
              </a:rPr>
              <a:t>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’s from STAR experimen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28600" y="5257800"/>
            <a:ext cx="5257800" cy="15238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Arial"/>
              </a:rPr>
              <a:t>Systematic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Event plane: ~ 6 % at mid-central, ~20 % at central and periph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rack matching cuts, PID cuts, energy loss cuts ~ 3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ja-JP" sz="14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ja-JP" sz="1400" spc="-1" strike="noStrike">
                <a:solidFill>
                  <a:srgbClr val="333399"/>
                </a:solidFill>
                <a:latin typeface="Arial"/>
              </a:rPr>
              <a:t> &gt; 3 GeV/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andom background, ~1 - 10 % (centrality depen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s-identification for Kaon, ~2 - 12 % (centrality depen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3F06-AEF2-4139-8B20-EBC0CAFB8F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rcRect l="0" t="7424" r="0" b="0"/>
          <a:stretch/>
        </p:blipFill>
        <p:spPr>
          <a:xfrm>
            <a:off x="15840" y="990720"/>
            <a:ext cx="9128160" cy="474984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bbe0e3"/>
                </a:solidFill>
                <a:latin typeface="Arial Black"/>
              </a:rPr>
              <a:t>Centrality dependence: </a:t>
            </a:r>
            <a:r>
              <a:rPr b="0" lang="ja-JP" sz="3600" spc="-1" strike="noStrike">
                <a:solidFill>
                  <a:srgbClr val="bbe0e3"/>
                </a:solidFill>
                <a:latin typeface="Symbol"/>
                <a:ea typeface="Symbol"/>
              </a:rPr>
              <a:t></a:t>
            </a:r>
            <a:r>
              <a:rPr b="0" lang="ja-JP" sz="3600" spc="-1" strike="noStrike">
                <a:solidFill>
                  <a:srgbClr val="bbe0e3"/>
                </a:solidFill>
                <a:latin typeface="Arial Black"/>
              </a:rPr>
              <a:t>/K/p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5410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ja-JP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(p</a:t>
            </a:r>
            <a:r>
              <a:rPr b="0" lang="ja-JP" sz="28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) increase with centralit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Qualitatively consistent with the centrality dependence of initial geometry overl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E604-058D-41E4-B5D3-02AA2831824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4581360" y="914400"/>
            <a:ext cx="4562640" cy="57150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4581360" y="914400"/>
            <a:ext cx="4562640" cy="571500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3"/>
          <a:stretch/>
        </p:blipFill>
        <p:spPr>
          <a:xfrm>
            <a:off x="0" y="914400"/>
            <a:ext cx="4572000" cy="310032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 Black"/>
              </a:rPr>
              <a:t>Charge dependence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51920" y="4038120"/>
            <a:ext cx="44197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3 % difference of v</a:t>
            </a:r>
            <a:r>
              <a:rPr b="0" lang="ja-JP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 for p and pbar, not observed for </a:t>
            </a:r>
            <a:r>
              <a:rPr b="0" lang="ja-JP" sz="28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 and K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eed down decay from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for net proto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486760" y="2540160"/>
            <a:ext cx="13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C sim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F620-5F2D-4AA8-BA10-2A622471315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0" y="3757680"/>
            <a:ext cx="4572000" cy="310032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2"/>
          <a:srcRect l="0" t="7375" r="0" b="0"/>
          <a:stretch/>
        </p:blipFill>
        <p:spPr>
          <a:xfrm>
            <a:off x="0" y="1014480"/>
            <a:ext cx="4572000" cy="287172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3"/>
          <a:stretch/>
        </p:blipFill>
        <p:spPr>
          <a:xfrm>
            <a:off x="7238880" y="1219320"/>
            <a:ext cx="1828800" cy="56988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bbe0e3"/>
                </a:solidFill>
                <a:latin typeface="Arial Black"/>
              </a:rPr>
              <a:t>Glauber Model simulation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343400" y="1066680"/>
            <a:ext cx="4572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Glauber MC simulati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= 42 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oods-saxon density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 = 6.38 fm, a = 0.53 fm, 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= 0.17 fm</a:t>
            </a:r>
            <a:r>
              <a:rPr b="0" lang="ja-JP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alculate number of participating nucleons and number of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n p+p,  N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= 2, N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coll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entrality is determined by the measured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Eccentricity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tandard” eccentricity: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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std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alculated with fixed axes (x, 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articipant ” eccentricity: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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var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Use variable axes, which is defined by the positions of participant nucleons event-by-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racket denote the average over all events and all participating nucle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62120" y="5486400"/>
            <a:ext cx="457200" cy="457200"/>
          </a:xfrm>
          <a:prstGeom prst="ellipse">
            <a:avLst/>
          </a:prstGeom>
          <a:solidFill>
            <a:srgbClr val="808080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838080" y="5486400"/>
            <a:ext cx="457200" cy="457200"/>
          </a:xfrm>
          <a:prstGeom prst="ellipse">
            <a:avLst/>
          </a:prstGeom>
          <a:solidFill>
            <a:srgbClr val="808080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828800" y="4952880"/>
            <a:ext cx="457200" cy="457200"/>
          </a:xfrm>
          <a:prstGeom prst="ellipse">
            <a:avLst/>
          </a:prstGeom>
          <a:solidFill>
            <a:srgbClr val="808080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81080" y="4952880"/>
            <a:ext cx="457200" cy="457200"/>
          </a:xfrm>
          <a:prstGeom prst="ellipse">
            <a:avLst/>
          </a:prstGeom>
          <a:solidFill>
            <a:srgbClr val="808080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200400" y="4572000"/>
            <a:ext cx="457200" cy="457200"/>
          </a:xfrm>
          <a:prstGeom prst="ellipse">
            <a:avLst/>
          </a:prstGeom>
          <a:solidFill>
            <a:srgbClr val="808080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505320" y="4572000"/>
            <a:ext cx="457200" cy="457200"/>
          </a:xfrm>
          <a:prstGeom prst="ellipse">
            <a:avLst/>
          </a:prstGeom>
          <a:solidFill>
            <a:srgbClr val="808080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CC96-04E1-4378-9AB9-1105F473FB8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572000" y="914400"/>
            <a:ext cx="4572000" cy="31003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4572000" y="914400"/>
            <a:ext cx="4572000" cy="310032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3"/>
          <a:stretch/>
        </p:blipFill>
        <p:spPr>
          <a:xfrm>
            <a:off x="0" y="914400"/>
            <a:ext cx="4572000" cy="310032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rial Black"/>
              </a:rPr>
              <a:t>Eccentricity scaling (1)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28600" y="441972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Scaling with </a:t>
            </a:r>
            <a:r>
              <a:rPr b="0" lang="ja-JP" sz="2800" spc="-1" strike="noStrike">
                <a:solidFill>
                  <a:srgbClr val="333399"/>
                </a:solidFill>
                <a:latin typeface="Symbol"/>
                <a:ea typeface="Symbol"/>
              </a:rPr>
              <a:t></a:t>
            </a:r>
            <a:r>
              <a:rPr b="0" lang="ja-JP" sz="2800" spc="-1" strike="noStrike" baseline="-25000">
                <a:solidFill>
                  <a:srgbClr val="333399"/>
                </a:solidFill>
                <a:latin typeface="Arial"/>
              </a:rPr>
              <a:t>std</a:t>
            </a:r>
            <a:r>
              <a:rPr b="0" lang="ja-JP" sz="2800" spc="-1" strike="noStrike">
                <a:solidFill>
                  <a:srgbClr val="333399"/>
                </a:solidFill>
                <a:latin typeface="Symbol"/>
                <a:ea typeface="Symbol"/>
              </a:rPr>
              <a:t>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 breaks between in peripheral Au+Au and in central Cu+Cu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Need to take into account the event-by-event position fluctuation of participant nucleon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81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articipant eccentr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715000" y="1219320"/>
            <a:ext cx="914400" cy="213336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429000" y="3048120"/>
            <a:ext cx="457200" cy="457200"/>
          </a:xfrm>
          <a:prstGeom prst="ellipse">
            <a:avLst/>
          </a:prstGeom>
          <a:solidFill>
            <a:srgbClr val="808080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505320" y="3048120"/>
            <a:ext cx="457200" cy="457200"/>
          </a:xfrm>
          <a:prstGeom prst="ellipse">
            <a:avLst/>
          </a:prstGeom>
          <a:solidFill>
            <a:srgbClr val="808080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38080" y="3048120"/>
            <a:ext cx="457200" cy="457200"/>
          </a:xfrm>
          <a:prstGeom prst="ellipse">
            <a:avLst/>
          </a:prstGeom>
          <a:solidFill>
            <a:srgbClr val="808080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143000" y="3048120"/>
            <a:ext cx="457200" cy="457200"/>
          </a:xfrm>
          <a:prstGeom prst="ellipse">
            <a:avLst/>
          </a:prstGeom>
          <a:solidFill>
            <a:srgbClr val="808080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7295-0708-4021-90FB-4F55C1D45AE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4572000" cy="310032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4572000" cy="310032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>
            <a:off x="4572000" y="914400"/>
            <a:ext cx="4572000" cy="310032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4"/>
          <a:stretch/>
        </p:blipFill>
        <p:spPr>
          <a:xfrm>
            <a:off x="4572000" y="914400"/>
            <a:ext cx="4572000" cy="310032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 Black"/>
              </a:rPr>
              <a:t>Eccentricity scaling (2)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267080" y="4038120"/>
            <a:ext cx="47246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Non-zero </a:t>
            </a:r>
            <a:r>
              <a:rPr b="0" lang="ja-JP" sz="1800" spc="-1" strike="noStrike">
                <a:solidFill>
                  <a:srgbClr val="333399"/>
                </a:solidFill>
                <a:latin typeface="Symbol"/>
                <a:ea typeface="Symbol"/>
              </a:rPr>
              <a:t>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 at b = 0, </a:t>
            </a:r>
            <a:r>
              <a:rPr b="0" lang="ja-JP" sz="18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 1 at most peripheral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Cu) &gt; 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Au) due to larger fluctuations in smaller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Scaling works in Au+Au and Cu+Cu with </a:t>
            </a:r>
            <a:r>
              <a:rPr b="0" lang="ja-JP" sz="1800" spc="-1" strike="noStrike">
                <a:solidFill>
                  <a:srgbClr val="333399"/>
                </a:solidFill>
                <a:latin typeface="Symbol"/>
                <a:ea typeface="Symbol"/>
              </a:rPr>
              <a:t></a:t>
            </a:r>
            <a:r>
              <a:rPr b="0" lang="ja-JP" sz="1800" spc="-1" strike="noStrike" baseline="-25000">
                <a:solidFill>
                  <a:srgbClr val="333399"/>
                </a:solidFill>
                <a:latin typeface="Arial"/>
              </a:rPr>
              <a:t>var</a:t>
            </a:r>
            <a:r>
              <a:rPr b="0" lang="ja-JP" sz="1800" spc="-1" strike="noStrike">
                <a:solidFill>
                  <a:srgbClr val="333399"/>
                </a:solidFill>
                <a:latin typeface="Symbol"/>
                <a:ea typeface="Symbol"/>
              </a:rPr>
              <a:t>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Participant eccentricity is the relevant geometric quantity to explain the </a:t>
            </a:r>
            <a:r>
              <a:rPr b="0" lang="ja-JP" sz="1800" spc="-1" strike="noStrike">
                <a:solidFill>
                  <a:srgbClr val="333399"/>
                </a:solidFill>
                <a:latin typeface="Symbol"/>
                <a:ea typeface="Symbol"/>
              </a:rPr>
              <a:t>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ja-JP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333399"/>
                </a:solidFill>
                <a:latin typeface="Symbol"/>
                <a:ea typeface="Symbol"/>
              </a:rPr>
              <a:t>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ja-JP" sz="1800" spc="-1" strike="noStrike">
                <a:solidFill>
                  <a:srgbClr val="333399"/>
                </a:solidFill>
                <a:latin typeface="Symbol"/>
                <a:ea typeface="Symbol"/>
              </a:rPr>
              <a:t>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 among the different system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5"/>
          <a:stretch/>
        </p:blipFill>
        <p:spPr>
          <a:xfrm>
            <a:off x="685800" y="4297320"/>
            <a:ext cx="3475080" cy="2103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562" name=""/>
          <p:cNvSpPr/>
          <p:nvPr/>
        </p:nvSpPr>
        <p:spPr>
          <a:xfrm>
            <a:off x="533520" y="3009960"/>
            <a:ext cx="914400" cy="83808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276720" y="1219320"/>
            <a:ext cx="914400" cy="175248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3062-F263-46AA-89CF-136117BB117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80880" y="17521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6600" spc="-1" strike="noStrike">
                <a:solidFill>
                  <a:srgbClr val="333399"/>
                </a:solidFill>
                <a:latin typeface="Arial Black"/>
              </a:rPr>
              <a:t>Results &amp;</a:t>
            </a:r>
            <a:br>
              <a:rPr sz="6600"/>
            </a:br>
            <a:r>
              <a:rPr b="0" i="1" lang="ja-JP" sz="6600" spc="-1" strike="noStrike">
                <a:solidFill>
                  <a:srgbClr val="333399"/>
                </a:solidFill>
                <a:latin typeface="Arial Black"/>
              </a:rPr>
              <a:t>Discussions</a:t>
            </a:r>
            <a:br>
              <a:rPr sz="6600"/>
            </a:br>
            <a:r>
              <a:rPr b="0" i="1" lang="ja-JP" sz="4400" spc="-1" strike="noStrike">
                <a:solidFill>
                  <a:srgbClr val="333399"/>
                </a:solidFill>
                <a:latin typeface="Arial Black"/>
              </a:rPr>
              <a:t>(1) Eccentricity scaling </a:t>
            </a:r>
            <a:br>
              <a:rPr sz="4400"/>
            </a:br>
            <a:r>
              <a:rPr b="0" i="1" lang="ja-JP" sz="4400" spc="-1" strike="noStrike">
                <a:solidFill>
                  <a:srgbClr val="ff0000"/>
                </a:solidFill>
                <a:latin typeface="Arial Black"/>
              </a:rPr>
              <a:t>(2) Blast-wave fit</a:t>
            </a:r>
            <a:br>
              <a:rPr sz="4400"/>
            </a:br>
            <a:r>
              <a:rPr b="0" i="1" lang="ja-JP" sz="4400" spc="-1" strike="noStrike">
                <a:solidFill>
                  <a:srgbClr val="333399"/>
                </a:solidFill>
                <a:latin typeface="Arial Black"/>
              </a:rPr>
              <a:t>(3) Quark number scaling</a:t>
            </a:r>
            <a:endParaRPr b="0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5F69-BDD1-4344-B8B4-8B56CADC3D0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 Black"/>
              </a:rPr>
              <a:t>Quark Gluon Plasma (QGP)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1640" y="1142640"/>
            <a:ext cx="4419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Ultimate goal of high energy heavy ion collision experimen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reate and study the properties of </a:t>
            </a:r>
            <a:r>
              <a:rPr b="0" lang="ja-JP" sz="2000" spc="-1" strike="noStrike" u="sng">
                <a:solidFill>
                  <a:srgbClr val="ff0000"/>
                </a:solidFill>
                <a:uFillTx/>
                <a:latin typeface="Arial"/>
              </a:rPr>
              <a:t>Q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uark </a:t>
            </a:r>
            <a:r>
              <a:rPr b="0" lang="ja-JP" sz="2000" spc="-1" strike="noStrike" u="sng">
                <a:solidFill>
                  <a:srgbClr val="ff0000"/>
                </a:solidFill>
                <a:uFillTx/>
                <a:latin typeface="Arial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uon </a:t>
            </a:r>
            <a:r>
              <a:rPr b="0" lang="ja-JP" sz="2000" spc="-1" strike="noStrike" u="sng">
                <a:solidFill>
                  <a:srgbClr val="ff0000"/>
                </a:solidFill>
                <a:uFillTx/>
                <a:latin typeface="Arial"/>
              </a:rPr>
              <a:t>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asma (QG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Quark-hadron phase transi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egeneracy factor (g) increase by 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g(massless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 = 3 (N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=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attice QCD cal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nergy density jumps at T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~ 150 - 170 M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~ 1 GeV/fm</a:t>
            </a:r>
            <a:r>
              <a:rPr b="0" lang="ja-JP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What is the probe for QGP ?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5880" t="2207" r="4412" b="2714"/>
          <a:stretch/>
        </p:blipFill>
        <p:spPr>
          <a:xfrm>
            <a:off x="0" y="1197000"/>
            <a:ext cx="4572000" cy="3222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33400" y="990720"/>
            <a:ext cx="32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33399"/>
                </a:solidFill>
                <a:latin typeface="Arial"/>
              </a:rPr>
              <a:t>F. Karsch, Lect. Notes Phys. </a:t>
            </a:r>
            <a:r>
              <a:rPr b="1" lang="ja-JP" sz="1200" spc="-1" strike="noStrike">
                <a:solidFill>
                  <a:srgbClr val="333399"/>
                </a:solidFill>
                <a:latin typeface="Arial"/>
              </a:rPr>
              <a:t>583</a:t>
            </a:r>
            <a:r>
              <a:rPr b="0" lang="ja-JP" sz="1200" spc="-1" strike="noStrike">
                <a:solidFill>
                  <a:srgbClr val="333399"/>
                </a:solidFill>
                <a:latin typeface="Arial"/>
              </a:rPr>
              <a:t>, 209 (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57200" y="4670280"/>
            <a:ext cx="4051440" cy="188280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2513520" y="5943600"/>
            <a:ext cx="180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8 gluons, 2 sp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2 spins, 2 charg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3 colors, 2 quark flav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87520" y="4724280"/>
            <a:ext cx="210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33399"/>
                </a:solidFill>
                <a:latin typeface="Arial"/>
              </a:rPr>
              <a:t>Non-interac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33399"/>
                </a:solidFill>
                <a:latin typeface="Arial"/>
              </a:rPr>
              <a:t>Massless quarks and glu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1150-3040-47F4-9615-D5222F0458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52280" y="1301760"/>
            <a:ext cx="4800600" cy="274212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How about v</a:t>
            </a:r>
            <a:r>
              <a:rPr b="0" lang="ja-JP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ja-JP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 is expected to saturate in the early stage </a:t>
            </a:r>
            <a:r>
              <a:rPr b="0" i="1" lang="ja-JP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(a few fm/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Different sensitivity to the bulk properties compared to the single particle spec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Need to extend the standard Blast-wave framework in non-central collisions (</a:t>
            </a:r>
            <a:r>
              <a:rPr b="0" lang="ja-JP" sz="2400" spc="-1" strike="noStrike">
                <a:solidFill>
                  <a:srgbClr val="ffffff"/>
                </a:solidFill>
                <a:latin typeface="Symbol"/>
                <a:ea typeface="Symbol"/>
              </a:rPr>
              <a:t>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5394240" cy="41385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 Black"/>
              </a:rPr>
              <a:t>Blast-wave model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105160" y="1143000"/>
            <a:ext cx="3886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Blast-wave mod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hermal equilibrium + collective transverse expa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reeze-out temperature (T) and radial flow velocity (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Transverse momentum spectra have been well describe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trong collective expansion :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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&gt; 0.5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32800" y="944640"/>
            <a:ext cx="188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33399"/>
                </a:solidFill>
                <a:latin typeface="Arial"/>
              </a:rPr>
              <a:t>A. Kiyomichi: PhD the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2"/>
          <a:stretch/>
        </p:blipFill>
        <p:spPr>
          <a:xfrm>
            <a:off x="152280" y="5872320"/>
            <a:ext cx="5410440" cy="68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1175-E36D-469F-BA1C-1EB68937CDB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114480" y="4886280"/>
            <a:ext cx="4457520" cy="181944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 Black"/>
              </a:rPr>
              <a:t>Extended Blast-wave model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1640" y="1142640"/>
            <a:ext cx="4343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Extend standard Blast-wave parameterization in order to fit v</a:t>
            </a:r>
            <a:r>
              <a:rPr b="0" lang="ja-JP" sz="2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(p</a:t>
            </a:r>
            <a:r>
              <a:rPr b="0" lang="ja-JP" sz="20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) in non-central collision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Assumption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Use density distributions from initial geometry overlap instead of uniform d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Velocity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Use Density gradient dis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Eccentricity (</a:t>
            </a:r>
            <a:r>
              <a:rPr b="0" lang="ja-JP" sz="1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is fixed by initial overlap d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Velocity anisotropy (</a:t>
            </a:r>
            <a:r>
              <a:rPr b="0" lang="ja-JP" sz="1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ja-JP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is fixed by the velocity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2 free parameter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Temperature: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agnitude of 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transverse boost velocity: </a:t>
            </a:r>
            <a:r>
              <a:rPr b="0" lang="ja-JP" sz="1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ja-JP" sz="18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146160" y="3657600"/>
            <a:ext cx="3511440" cy="113976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995400" y="1268280"/>
            <a:ext cx="1523880" cy="2133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522520" y="2335320"/>
            <a:ext cx="380880" cy="0"/>
          </a:xfrm>
          <a:prstGeom prst="line">
            <a:avLst/>
          </a:prstGeom>
          <a:ln w="22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617040" y="2335320"/>
            <a:ext cx="381240" cy="0"/>
          </a:xfrm>
          <a:prstGeom prst="line">
            <a:avLst/>
          </a:prstGeom>
          <a:ln w="22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418840" y="2867400"/>
            <a:ext cx="340920" cy="60120"/>
          </a:xfrm>
          <a:prstGeom prst="line">
            <a:avLst/>
          </a:prstGeom>
          <a:ln w="22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2382120" y="1660320"/>
            <a:ext cx="340920" cy="60120"/>
          </a:xfrm>
          <a:prstGeom prst="line">
            <a:avLst/>
          </a:prstGeom>
          <a:ln w="22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H="1" flipV="1">
            <a:off x="781560" y="1662120"/>
            <a:ext cx="340920" cy="60120"/>
          </a:xfrm>
          <a:prstGeom prst="line">
            <a:avLst/>
          </a:prstGeom>
          <a:ln w="22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749880" y="2867400"/>
            <a:ext cx="340920" cy="60120"/>
          </a:xfrm>
          <a:prstGeom prst="line">
            <a:avLst/>
          </a:prstGeom>
          <a:ln w="22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1757520" y="1066680"/>
            <a:ext cx="0" cy="201600"/>
          </a:xfrm>
          <a:prstGeom prst="line">
            <a:avLst/>
          </a:prstGeom>
          <a:ln w="22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757520" y="3402000"/>
            <a:ext cx="0" cy="201600"/>
          </a:xfrm>
          <a:prstGeom prst="line">
            <a:avLst/>
          </a:prstGeom>
          <a:ln w="22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486880" y="2634480"/>
            <a:ext cx="379440" cy="33120"/>
          </a:xfrm>
          <a:prstGeom prst="line">
            <a:avLst/>
          </a:prstGeom>
          <a:ln w="22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2486880" y="1991520"/>
            <a:ext cx="379440" cy="33120"/>
          </a:xfrm>
          <a:prstGeom prst="line">
            <a:avLst/>
          </a:prstGeom>
          <a:ln w="22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 flipV="1">
            <a:off x="643680" y="1994760"/>
            <a:ext cx="379440" cy="33120"/>
          </a:xfrm>
          <a:prstGeom prst="line">
            <a:avLst/>
          </a:prstGeom>
          <a:ln w="22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648000" y="2637720"/>
            <a:ext cx="379800" cy="33120"/>
          </a:xfrm>
          <a:prstGeom prst="line">
            <a:avLst/>
          </a:prstGeom>
          <a:ln w="22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2224080" y="1387080"/>
            <a:ext cx="290520" cy="105840"/>
          </a:xfrm>
          <a:prstGeom prst="line">
            <a:avLst/>
          </a:prstGeom>
          <a:ln w="22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 flipV="1">
            <a:off x="1002960" y="1382040"/>
            <a:ext cx="290880" cy="105840"/>
          </a:xfrm>
          <a:prstGeom prst="line">
            <a:avLst/>
          </a:prstGeom>
          <a:ln w="22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990360" y="3173040"/>
            <a:ext cx="290880" cy="105840"/>
          </a:xfrm>
          <a:prstGeom prst="line">
            <a:avLst/>
          </a:prstGeom>
          <a:ln w="22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222280" y="3169800"/>
            <a:ext cx="290880" cy="105840"/>
          </a:xfrm>
          <a:prstGeom prst="line">
            <a:avLst/>
          </a:prstGeom>
          <a:ln w="22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000880" y="1206360"/>
            <a:ext cx="243360" cy="123840"/>
          </a:xfrm>
          <a:prstGeom prst="line">
            <a:avLst/>
          </a:prstGeom>
          <a:ln w="22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1273680" y="1206360"/>
            <a:ext cx="243360" cy="123840"/>
          </a:xfrm>
          <a:prstGeom prst="line">
            <a:avLst/>
          </a:prstGeom>
          <a:ln w="22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1228680" y="3325680"/>
            <a:ext cx="243720" cy="124200"/>
          </a:xfrm>
          <a:prstGeom prst="line">
            <a:avLst/>
          </a:prstGeom>
          <a:ln w="22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043720" y="3325680"/>
            <a:ext cx="243360" cy="123840"/>
          </a:xfrm>
          <a:prstGeom prst="line">
            <a:avLst/>
          </a:prstGeom>
          <a:ln w="22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61880" y="2335320"/>
            <a:ext cx="3584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209760" y="2048040"/>
            <a:ext cx="90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1A68-015E-4E8A-89FB-1689DC0A116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437184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2"/>
          <a:stretch/>
        </p:blipFill>
        <p:spPr>
          <a:xfrm>
            <a:off x="0" y="965160"/>
            <a:ext cx="4724280" cy="398772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 Black"/>
              </a:rPr>
              <a:t>Density &amp; gradient distributions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52280" y="5334120"/>
            <a:ext cx="8839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Calculate N</a:t>
            </a:r>
            <a:r>
              <a:rPr b="0" lang="ja-JP" sz="2000" spc="-1" strike="noStrike" baseline="-25000">
                <a:solidFill>
                  <a:srgbClr val="333399"/>
                </a:solidFill>
                <a:latin typeface="Arial"/>
              </a:rPr>
              <a:t>part</a:t>
            </a: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(x, y) and N</a:t>
            </a:r>
            <a:r>
              <a:rPr b="0" lang="ja-JP" sz="2000" spc="-1" strike="noStrike" baseline="-25000">
                <a:solidFill>
                  <a:srgbClr val="333399"/>
                </a:solidFill>
                <a:latin typeface="Arial"/>
              </a:rPr>
              <a:t>coll</a:t>
            </a: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(x, y) from Woods-saxon density profil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irection of density gradient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direction of bo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Length = magnitude of bo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BA28-A539-473B-B8BE-0CD06BC69AA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5775480" cy="469260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 Black"/>
              </a:rPr>
              <a:t>Fitting results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257440" y="114300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Minimize </a:t>
            </a:r>
            <a:r>
              <a:rPr b="0" lang="ja-JP" sz="2000" spc="-1" strike="noStrike">
                <a:solidFill>
                  <a:srgbClr val="333399"/>
                </a:solidFill>
                <a:latin typeface="Symbol"/>
                <a:ea typeface="Symbol"/>
              </a:rPr>
              <a:t></a:t>
            </a:r>
            <a:r>
              <a:rPr b="0" lang="ja-JP" sz="20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 by fitting K and p simultaneously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94160" indent="-276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xclude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from fitting due to resonance decay contributions and bad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4160" indent="-276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itting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, K and p gives essentially same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Result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94160" indent="-276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itting results from spectra are consistent with standard Blast-wav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4160" indent="-276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col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density gives better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4160" indent="-276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adial flow velocity is almost un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4160" indent="-276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emperature is larger for 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compared to spec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spectra: 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T = 109 (MeV)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T = 330 (Me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 hint of early saturation of 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65720" y="5835600"/>
            <a:ext cx="26737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eft: N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density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ight: N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col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density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9577-1968-43F8-B398-C5FB7AE99C3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4572000" cy="310032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4572000" y="914400"/>
            <a:ext cx="4572000" cy="310032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Symbol"/>
                <a:ea typeface="Symbol"/>
              </a:rPr>
              <a:t></a:t>
            </a:r>
            <a:r>
              <a:rPr b="0" lang="en-US" sz="3600" spc="-1" strike="noStrike" baseline="30000">
                <a:solidFill>
                  <a:srgbClr val="bbe0e3"/>
                </a:solidFill>
                <a:latin typeface="Arial Black"/>
              </a:rPr>
              <a:t>2</a:t>
            </a:r>
            <a:r>
              <a:rPr b="0" lang="en-US" sz="3600" spc="-1" strike="noStrike">
                <a:solidFill>
                  <a:srgbClr val="bbe0e3"/>
                </a:solidFill>
                <a:latin typeface="Arial Black"/>
              </a:rPr>
              <a:t> contours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4267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Scan minimum </a:t>
            </a:r>
            <a:r>
              <a:rPr b="0" lang="ja-JP" sz="2400" spc="-1" strike="noStrike">
                <a:solidFill>
                  <a:srgbClr val="333399"/>
                </a:solidFill>
                <a:latin typeface="Symbol"/>
                <a:ea typeface="Symbol"/>
              </a:rPr>
              <a:t></a:t>
            </a:r>
            <a:r>
              <a:rPr b="0" lang="ja-JP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 in (T, </a:t>
            </a:r>
            <a:r>
              <a:rPr b="0" lang="ja-JP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) spac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ed and blue circles show 3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cont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Solid minimum position for both v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 and spectra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 ~ 3 - 4 MeV,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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~ 0.005 - 0.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 : almost unchange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T : 100 - 200 MeV larger for v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285200" y="1619280"/>
            <a:ext cx="39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143000" y="272736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pec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906520" y="1619280"/>
            <a:ext cx="39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764320" y="272736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pec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676520" y="1905120"/>
            <a:ext cx="129528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6324480" y="1752480"/>
            <a:ext cx="205740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133720" y="2895480"/>
            <a:ext cx="8380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781680" y="2971800"/>
            <a:ext cx="11430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C8B8-D6F7-4EAF-A7B1-D218366EEA0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5334120" cy="3616200"/>
          </a:xfrm>
          <a:prstGeom prst="rect">
            <a:avLst/>
          </a:prstGeom>
          <a:ln w="0">
            <a:noFill/>
          </a:ln>
        </p:spPr>
      </p:pic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 Black"/>
              </a:rPr>
              <a:t>Sensitivity to Eccentricity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952520" y="1294920"/>
            <a:ext cx="403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clude effective dynamical effect in our extended Blast-wave mod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y sensitivity of fitting parameters to eccentr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ssume 1D expansion in x direction (reaction plane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locity distribution is re-calculated for a given density distrib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13560" y="5805360"/>
            <a:ext cx="4187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: RMS of initial density distributi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114560" y="2057400"/>
            <a:ext cx="0" cy="380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912600" y="1752480"/>
            <a:ext cx="12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nitial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066680" y="4876920"/>
            <a:ext cx="35053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602720" y="5003640"/>
            <a:ext cx="22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n-plane 1D expa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71DA-6D5E-4E72-9B12-BB05455E7C5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5486400" cy="372096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5486400" cy="371952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3"/>
          <a:stretch/>
        </p:blipFill>
        <p:spPr>
          <a:xfrm>
            <a:off x="0" y="914400"/>
            <a:ext cx="5486400" cy="371952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4"/>
          <a:stretch/>
        </p:blipFill>
        <p:spPr>
          <a:xfrm>
            <a:off x="0" y="914400"/>
            <a:ext cx="5486400" cy="372096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5"/>
          <a:stretch/>
        </p:blipFill>
        <p:spPr>
          <a:xfrm>
            <a:off x="5029200" y="1400040"/>
            <a:ext cx="4114800" cy="279108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 Black"/>
              </a:rPr>
              <a:t>Results 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4920" y="464796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Radial velocity and T from spectra are not changed with </a:t>
            </a:r>
            <a:r>
              <a:rPr b="0" lang="ja-JP" sz="2400" spc="-1" strike="noStrike">
                <a:solidFill>
                  <a:srgbClr val="333399"/>
                </a:solidFill>
                <a:latin typeface="Symbol"/>
                <a:ea typeface="Symbol"/>
              </a:rPr>
              <a:t>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Temperature from v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 fit strongly decrease with </a:t>
            </a:r>
            <a:r>
              <a:rPr b="0" lang="ja-JP" sz="2400" spc="-1" strike="noStrike">
                <a:solidFill>
                  <a:srgbClr val="333399"/>
                </a:solidFill>
                <a:latin typeface="Symbol"/>
                <a:ea typeface="Symbol"/>
              </a:rPr>
              <a:t>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/NDF &lt; 1 up to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~ 0.05 with systematic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T(v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) ~ T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Arial"/>
              </a:rPr>
              <a:t>ch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 (150 MeV) &gt; T(spectra) at the eccentricity extracted by HBT analysis </a:t>
            </a:r>
            <a:r>
              <a:rPr b="0" lang="ja-JP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 early freeze-out of v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 ?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6798-D64B-42AC-95AC-9D926176923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80880" y="17521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6600" spc="-1" strike="noStrike">
                <a:solidFill>
                  <a:srgbClr val="333399"/>
                </a:solidFill>
                <a:latin typeface="Arial Black"/>
              </a:rPr>
              <a:t>Results &amp;</a:t>
            </a:r>
            <a:br>
              <a:rPr sz="6600"/>
            </a:br>
            <a:r>
              <a:rPr b="0" i="1" lang="ja-JP" sz="6600" spc="-1" strike="noStrike">
                <a:solidFill>
                  <a:srgbClr val="333399"/>
                </a:solidFill>
                <a:latin typeface="Arial Black"/>
              </a:rPr>
              <a:t>Discussions</a:t>
            </a:r>
            <a:br>
              <a:rPr sz="6600"/>
            </a:br>
            <a:r>
              <a:rPr b="0" i="1" lang="ja-JP" sz="4400" spc="-1" strike="noStrike">
                <a:solidFill>
                  <a:srgbClr val="333399"/>
                </a:solidFill>
                <a:latin typeface="Arial Black"/>
              </a:rPr>
              <a:t>(1) Eccentricity scaling </a:t>
            </a:r>
            <a:br>
              <a:rPr sz="4400"/>
            </a:br>
            <a:r>
              <a:rPr b="0" i="1" lang="ja-JP" sz="4400" spc="-1" strike="noStrike">
                <a:solidFill>
                  <a:srgbClr val="333399"/>
                </a:solidFill>
                <a:latin typeface="Arial Black"/>
              </a:rPr>
              <a:t>(2) Blast-wave fit</a:t>
            </a:r>
            <a:br>
              <a:rPr sz="4400"/>
            </a:br>
            <a:r>
              <a:rPr b="0" i="1" lang="ja-JP" sz="4400" spc="-1" strike="noStrike">
                <a:solidFill>
                  <a:srgbClr val="ff0000"/>
                </a:solidFill>
                <a:latin typeface="Arial Black"/>
              </a:rPr>
              <a:t>(3) Quark number scaling</a:t>
            </a:r>
            <a:endParaRPr b="0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1502-462B-42DD-BAAF-1099B78E0D6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" descr=""/>
          <p:cNvPicPr/>
          <p:nvPr/>
        </p:nvPicPr>
        <p:blipFill>
          <a:blip r:embed="rId1"/>
          <a:srcRect l="0" t="0" r="50003" b="0"/>
          <a:stretch/>
        </p:blipFill>
        <p:spPr>
          <a:xfrm>
            <a:off x="0" y="914400"/>
            <a:ext cx="4616280" cy="5105520"/>
          </a:xfrm>
          <a:prstGeom prst="rect">
            <a:avLst/>
          </a:prstGeom>
          <a:ln w="0">
            <a:noFill/>
          </a:ln>
        </p:spPr>
      </p:pic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 Black"/>
              </a:rPr>
              <a:t>Quark number scaling of v</a:t>
            </a:r>
            <a:r>
              <a:rPr b="0" lang="en-US" sz="3600" spc="-1" strike="noStrike" baseline="-25000">
                <a:solidFill>
                  <a:srgbClr val="bbe0e3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1640" y="25146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Ratio of (Data) to (Fit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lose to 1 at intermediate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Quark number 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Scaled v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 show remaining mass hierarchy among different particle species at low p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) &gt;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K) &gt;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Can we explain v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(p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) for different particles from low to intermediate p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838080" y="3962520"/>
            <a:ext cx="914400" cy="175248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752480" y="4267080"/>
            <a:ext cx="1981440" cy="9144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971800" y="5791320"/>
            <a:ext cx="12193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142720" y="6064200"/>
            <a:ext cx="2363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ja-JP" sz="16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 for constituent qua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3429000" y="5791320"/>
            <a:ext cx="457200" cy="304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684080" y="1295280"/>
            <a:ext cx="234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for constituent qua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0" y="990720"/>
            <a:ext cx="457200" cy="91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80880" y="1143000"/>
            <a:ext cx="1371600" cy="228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4343400" y="979560"/>
            <a:ext cx="4724280" cy="69696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4641840" y="1600200"/>
            <a:ext cx="412488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ssumptions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hermal 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distribution, momentum con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Universal v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for light quarks, v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&lt;&lt;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267080" y="990720"/>
            <a:ext cx="4800600" cy="1371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1600200"/>
            <a:ext cx="4800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363E-5F9C-42A0-805C-B39EBC7F48C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"/>
          <p:cNvPicPr/>
          <p:nvPr/>
        </p:nvPicPr>
        <p:blipFill>
          <a:blip r:embed="rId1"/>
          <a:srcRect l="-69" t="0" r="54212" b="4418"/>
          <a:stretch/>
        </p:blipFill>
        <p:spPr>
          <a:xfrm>
            <a:off x="0" y="914400"/>
            <a:ext cx="5257800" cy="406080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3962520" y="3048120"/>
            <a:ext cx="11430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962520" y="2438280"/>
            <a:ext cx="114300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024440" y="3276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e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015080" y="18288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ary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836640" y="990720"/>
            <a:ext cx="19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PHENIX: nucl-ex/06080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743200" y="3048120"/>
            <a:ext cx="914400" cy="167616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2"/>
          <a:srcRect l="51425" t="0" r="0" b="4321"/>
          <a:stretch/>
        </p:blipFill>
        <p:spPr>
          <a:xfrm>
            <a:off x="76320" y="914400"/>
            <a:ext cx="5638680" cy="411480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 Black"/>
              </a:rPr>
              <a:t>Transverse kinetic energy scaling</a:t>
            </a:r>
            <a:endParaRPr b="0" lang="en-US" sz="32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Assume v</a:t>
            </a:r>
            <a:r>
              <a:rPr b="0" lang="ja-JP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 is determined by the transverse kinetic energy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ressure gradient 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Collective kinetic energ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KE</a:t>
            </a:r>
            <a:r>
              <a:rPr b="0" lang="ja-JP" sz="18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 scaling holds up to KE</a:t>
            </a:r>
            <a:r>
              <a:rPr b="0" lang="ja-JP" sz="18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 ~ 1 GeV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Clear splitting for mesons and baryon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ossible hint of quark d.o.f become apparent at higher KE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Quark number scaling for v</a:t>
            </a:r>
            <a:r>
              <a:rPr b="0" lang="ja-JP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(KE</a:t>
            </a:r>
            <a:r>
              <a:rPr b="0" lang="ja-JP" sz="18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) !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3"/>
          <a:stretch/>
        </p:blipFill>
        <p:spPr>
          <a:xfrm>
            <a:off x="5562720" y="1755720"/>
            <a:ext cx="3504960" cy="2054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EB90-E081-487B-87E2-FF8E1853B16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2590920"/>
            <a:ext cx="4114800" cy="39495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 Black"/>
              </a:rPr>
              <a:t>Experimental probes for QGP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038120" y="2743200"/>
            <a:ext cx="48769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Transverse collective flow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ntroduced &amp; found at 1970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ransverse collective emission of particles related to the 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reaction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3 main types of flow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adial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irected flow (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ff0000"/>
                </a:solidFill>
                <a:latin typeface="Arial Black"/>
              </a:rPr>
              <a:t>Elliptic flow (v</a:t>
            </a:r>
            <a:r>
              <a:rPr b="1" i="1" lang="ja-JP" sz="1800" spc="-1" strike="noStrike" baseline="-25000">
                <a:solidFill>
                  <a:srgbClr val="ff0000"/>
                </a:solidFill>
                <a:latin typeface="Arial Black"/>
              </a:rPr>
              <a:t>2</a:t>
            </a:r>
            <a:r>
              <a:rPr b="1" i="1" lang="ja-JP" sz="1800" spc="-1" strike="noStrike">
                <a:solidFill>
                  <a:srgbClr val="ff0000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Quantitative study can be done with 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Fourier expansion series of azimuthal distribution</a:t>
            </a: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 for emitted particl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97360" y="6416640"/>
            <a:ext cx="32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333399"/>
                </a:solidFill>
                <a:latin typeface="Arial"/>
              </a:rPr>
              <a:t>S. Voloshin and Y. Zhang, Z. Phys. C</a:t>
            </a:r>
            <a:r>
              <a:rPr b="1" lang="ja-JP" sz="900" spc="-1" strike="noStrike">
                <a:solidFill>
                  <a:srgbClr val="333399"/>
                </a:solidFill>
                <a:latin typeface="Arial"/>
              </a:rPr>
              <a:t>70</a:t>
            </a:r>
            <a:r>
              <a:rPr b="0" lang="ja-JP" sz="900" spc="-1" strike="noStrike">
                <a:solidFill>
                  <a:srgbClr val="333399"/>
                </a:solidFill>
                <a:latin typeface="Arial"/>
              </a:rPr>
              <a:t>, 665 (1996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333399"/>
                </a:solidFill>
                <a:latin typeface="Arial"/>
              </a:rPr>
              <a:t>A. M. Poskanzer and S. A. Voloshin, PRC</a:t>
            </a:r>
            <a:r>
              <a:rPr b="1" lang="ja-JP" sz="900" spc="-1" strike="noStrike">
                <a:solidFill>
                  <a:srgbClr val="333399"/>
                </a:solidFill>
                <a:latin typeface="Arial"/>
              </a:rPr>
              <a:t>58</a:t>
            </a:r>
            <a:r>
              <a:rPr b="0" lang="ja-JP" sz="900" spc="-1" strike="noStrike">
                <a:solidFill>
                  <a:srgbClr val="333399"/>
                </a:solidFill>
                <a:latin typeface="Arial"/>
              </a:rPr>
              <a:t>, 1671 (1998)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52280" y="990720"/>
            <a:ext cx="8686800" cy="165708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8B31-81CC-4FA2-B26A-ACF52AE2DC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" descr=""/>
          <p:cNvPicPr/>
          <p:nvPr/>
        </p:nvPicPr>
        <p:blipFill>
          <a:blip r:embed="rId1"/>
          <a:srcRect l="0" t="4519" r="0" b="0"/>
          <a:stretch/>
        </p:blipFill>
        <p:spPr>
          <a:xfrm>
            <a:off x="0" y="914400"/>
            <a:ext cx="9144000" cy="482904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2"/>
          <a:srcRect l="0" t="4524" r="0" b="0"/>
          <a:stretch/>
        </p:blipFill>
        <p:spPr>
          <a:xfrm>
            <a:off x="0" y="914400"/>
            <a:ext cx="9144000" cy="4827600"/>
          </a:xfrm>
          <a:prstGeom prst="rect">
            <a:avLst/>
          </a:prstGeom>
          <a:ln w="0">
            <a:noFill/>
          </a:ln>
        </p:spPr>
      </p:pic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bbe0e3"/>
                </a:solidFill>
                <a:latin typeface="Arial Black"/>
              </a:rPr>
              <a:t>Centrality dependence: </a:t>
            </a:r>
            <a:r>
              <a:rPr b="0" lang="ja-JP" sz="3600" spc="-1" strike="noStrike">
                <a:solidFill>
                  <a:srgbClr val="bbe0e3"/>
                </a:solidFill>
                <a:latin typeface="Symbol"/>
                <a:ea typeface="Symbol"/>
              </a:rPr>
              <a:t></a:t>
            </a:r>
            <a:r>
              <a:rPr b="0" lang="ja-JP" sz="3600" spc="-1" strike="noStrike">
                <a:solidFill>
                  <a:srgbClr val="bbe0e3"/>
                </a:solidFill>
                <a:latin typeface="Arial Black"/>
              </a:rPr>
              <a:t>/K/p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56386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Quark number scaling with KE</a:t>
            </a:r>
            <a:r>
              <a:rPr b="0" lang="ja-JP" sz="20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 holds for all centrality within systematic errors, except for KE</a:t>
            </a:r>
            <a:r>
              <a:rPr b="0" lang="ja-JP" sz="20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/n</a:t>
            </a:r>
            <a:r>
              <a:rPr b="0" lang="ja-JP" sz="2000" spc="-1" strike="noStrike" baseline="-25000">
                <a:solidFill>
                  <a:srgbClr val="333399"/>
                </a:solidFill>
                <a:latin typeface="Arial"/>
              </a:rPr>
              <a:t>q</a:t>
            </a: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 &lt; 0.3 GeV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adial flow after hadronizatio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56C1-E2A5-4056-B71A-1A0431BC60C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3303720" cy="5943600"/>
          </a:xfrm>
          <a:prstGeom prst="rect">
            <a:avLst/>
          </a:prstGeom>
          <a:ln w="0">
            <a:noFill/>
          </a:ln>
        </p:spPr>
      </p:pic>
      <p:pic>
        <p:nvPicPr>
          <p:cNvPr id="665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3305160" cy="5943600"/>
          </a:xfrm>
          <a:prstGeom prst="rect">
            <a:avLst/>
          </a:prstGeom>
          <a:ln w="0">
            <a:noFill/>
          </a:ln>
        </p:spPr>
      </p:pic>
      <p:pic>
        <p:nvPicPr>
          <p:cNvPr id="666" name="" descr=""/>
          <p:cNvPicPr/>
          <p:nvPr/>
        </p:nvPicPr>
        <p:blipFill>
          <a:blip r:embed="rId3"/>
          <a:stretch/>
        </p:blipFill>
        <p:spPr>
          <a:xfrm>
            <a:off x="0" y="914400"/>
            <a:ext cx="3303720" cy="594360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4"/>
          <a:stretch/>
        </p:blipFill>
        <p:spPr>
          <a:xfrm>
            <a:off x="0" y="914400"/>
            <a:ext cx="3303720" cy="594360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5"/>
          <a:stretch/>
        </p:blipFill>
        <p:spPr>
          <a:xfrm>
            <a:off x="3048120" y="914400"/>
            <a:ext cx="3305160" cy="594360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6"/>
          <a:stretch/>
        </p:blipFill>
        <p:spPr>
          <a:xfrm>
            <a:off x="3048120" y="911160"/>
            <a:ext cx="3306600" cy="594684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7"/>
          <a:stretch/>
        </p:blipFill>
        <p:spPr>
          <a:xfrm>
            <a:off x="3048120" y="914400"/>
            <a:ext cx="3305160" cy="594360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8"/>
          <a:stretch/>
        </p:blipFill>
        <p:spPr>
          <a:xfrm>
            <a:off x="3048120" y="914400"/>
            <a:ext cx="3303360" cy="594360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9"/>
          <a:stretch/>
        </p:blipFill>
        <p:spPr>
          <a:xfrm>
            <a:off x="6095880" y="4876920"/>
            <a:ext cx="2971800" cy="1811160"/>
          </a:xfrm>
          <a:prstGeom prst="rect">
            <a:avLst/>
          </a:prstGeom>
          <a:ln w="0">
            <a:noFill/>
          </a:ln>
        </p:spPr>
      </p:pic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 Black"/>
              </a:rPr>
              <a:t>Extract d &amp; </a:t>
            </a:r>
            <a:r>
              <a:rPr b="0" lang="en-US" sz="3600" spc="-1" strike="noStrike">
                <a:solidFill>
                  <a:srgbClr val="bbe0e3"/>
                </a:solidFill>
                <a:latin typeface="Symbol"/>
                <a:ea typeface="Symbol"/>
              </a:rPr>
              <a:t></a:t>
            </a:r>
            <a:r>
              <a:rPr b="0" lang="en-US" sz="3600" spc="-1" strike="noStrike">
                <a:solidFill>
                  <a:srgbClr val="bbe0e3"/>
                </a:solidFill>
                <a:latin typeface="Arial Black"/>
              </a:rPr>
              <a:t> v</a:t>
            </a:r>
            <a:r>
              <a:rPr b="0" lang="en-US" sz="3600" spc="-1" strike="noStrike" baseline="-25000">
                <a:solidFill>
                  <a:srgbClr val="bbe0e3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095880" y="1371240"/>
            <a:ext cx="28958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Simultaneous fitting of relative yield and v</a:t>
            </a:r>
            <a:r>
              <a:rPr b="0" lang="ja-JP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Fitting mass distributions by signal + background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81072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/B depends on m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Parameterize S/(S+B) and B/(S+B) vs mas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Fitting v</a:t>
            </a:r>
            <a:r>
              <a:rPr b="0" lang="ja-JP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1800" spc="-1" strike="noStrike" baseline="30000">
                <a:solidFill>
                  <a:srgbClr val="333399"/>
                </a:solidFill>
                <a:latin typeface="Arial"/>
              </a:rPr>
              <a:t>obs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 vs mass with 2 free parameters v</a:t>
            </a:r>
            <a:r>
              <a:rPr b="0" lang="ja-JP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1800" spc="-1" strike="noStrike" baseline="30000">
                <a:solidFill>
                  <a:srgbClr val="333399"/>
                </a:solidFill>
                <a:latin typeface="Arial"/>
              </a:rPr>
              <a:t>S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 and v</a:t>
            </a:r>
            <a:r>
              <a:rPr b="0" lang="ja-JP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1800" spc="-1" strike="noStrike" baseline="30000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095880" y="4724280"/>
            <a:ext cx="1143000" cy="68580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324480" y="5181480"/>
            <a:ext cx="2590920" cy="838440"/>
          </a:xfrm>
          <a:prstGeom prst="ellipse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553080" y="5943600"/>
            <a:ext cx="2514600" cy="7621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18840" y="1111320"/>
            <a:ext cx="4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259600" y="2023920"/>
            <a:ext cx="4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654600" y="939960"/>
            <a:ext cx="184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333399"/>
                </a:solidFill>
                <a:latin typeface="Arial"/>
              </a:rPr>
              <a:t>N. Borghini and J.-Y. Ollitr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333399"/>
                </a:solidFill>
                <a:latin typeface="Arial"/>
              </a:rPr>
              <a:t>PRC</a:t>
            </a:r>
            <a:r>
              <a:rPr b="1" lang="ja-JP" sz="1000" spc="-1" strike="noStrike">
                <a:solidFill>
                  <a:srgbClr val="333399"/>
                </a:solidFill>
                <a:latin typeface="Arial"/>
              </a:rPr>
              <a:t>70</a:t>
            </a:r>
            <a:r>
              <a:rPr b="0" lang="ja-JP" sz="1000" spc="-1" strike="noStrike">
                <a:solidFill>
                  <a:srgbClr val="333399"/>
                </a:solidFill>
                <a:latin typeface="Arial"/>
              </a:rPr>
              <a:t>, 064905 (200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58F8-807C-4FC1-98C5-7F7C55B7A8C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" descr=""/>
          <p:cNvPicPr/>
          <p:nvPr/>
        </p:nvPicPr>
        <p:blipFill>
          <a:blip r:embed="rId1"/>
          <a:stretch/>
        </p:blipFill>
        <p:spPr>
          <a:xfrm>
            <a:off x="4572000" y="1243080"/>
            <a:ext cx="4572000" cy="310032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2"/>
          <a:stretch/>
        </p:blipFill>
        <p:spPr>
          <a:xfrm>
            <a:off x="0" y="1243080"/>
            <a:ext cx="4572000" cy="310032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bbe0e3"/>
                </a:solidFill>
                <a:latin typeface="Arial Black"/>
              </a:rPr>
              <a:t>Deuteron &amp; </a:t>
            </a:r>
            <a:r>
              <a:rPr b="0" lang="ja-JP" sz="3600" spc="-1" strike="noStrike">
                <a:solidFill>
                  <a:srgbClr val="bbe0e3"/>
                </a:solidFill>
                <a:latin typeface="Symbol"/>
                <a:ea typeface="Symbol"/>
              </a:rPr>
              <a:t></a:t>
            </a:r>
            <a:r>
              <a:rPr b="0" lang="ja-JP" sz="3600" spc="-1" strike="noStrike">
                <a:solidFill>
                  <a:srgbClr val="bbe0e3"/>
                </a:solidFill>
                <a:latin typeface="Arial Black"/>
              </a:rPr>
              <a:t> v</a:t>
            </a:r>
            <a:r>
              <a:rPr b="0" lang="ja-JP" sz="3600" spc="-1" strike="noStrike" baseline="-25000">
                <a:solidFill>
                  <a:srgbClr val="bbe0e3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4648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Deuteron (</a:t>
            </a:r>
            <a:r>
              <a:rPr b="0" lang="ja-JP" sz="28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) v</a:t>
            </a:r>
            <a:r>
              <a:rPr b="0" lang="ja-JP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 is smaller than others for p</a:t>
            </a:r>
            <a:r>
              <a:rPr b="0" lang="ja-JP" sz="28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 &lt; 2 (1.5) GeV/c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For p</a:t>
            </a:r>
            <a:r>
              <a:rPr b="0" lang="ja-JP" sz="28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 &gt; 2 (1.5) GeV/c, v</a:t>
            </a:r>
            <a:r>
              <a:rPr b="0" lang="ja-JP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 is as large as other hadron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A06E-E2EC-45F6-A7F6-8C070EF5976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" descr=""/>
          <p:cNvPicPr/>
          <p:nvPr/>
        </p:nvPicPr>
        <p:blipFill>
          <a:blip r:embed="rId1"/>
          <a:srcRect l="0" t="5939" r="0" b="0"/>
          <a:stretch/>
        </p:blipFill>
        <p:spPr>
          <a:xfrm>
            <a:off x="15840" y="990720"/>
            <a:ext cx="9128160" cy="4825800"/>
          </a:xfrm>
          <a:prstGeom prst="rect">
            <a:avLst/>
          </a:prstGeom>
          <a:ln w="0">
            <a:noFill/>
          </a:ln>
        </p:spPr>
      </p:pic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 Black"/>
              </a:rPr>
              <a:t>Centrality dependence: d, </a:t>
            </a:r>
            <a:r>
              <a:rPr b="0" lang="en-US" sz="3600" spc="-1" strike="noStrike">
                <a:solidFill>
                  <a:srgbClr val="bbe0e3"/>
                </a:solidFill>
                <a:latin typeface="Symbol"/>
                <a:ea typeface="Symbol"/>
              </a:rPr>
              <a:t>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Sizeable v</a:t>
            </a:r>
            <a:r>
              <a:rPr b="0" lang="ja-JP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 for both d and </a:t>
            </a:r>
            <a:r>
              <a:rPr b="0" lang="ja-JP" sz="28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entrality dependenc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7D59-21C4-4F1A-86E1-1BC38C8BE03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05620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rial Black"/>
              </a:rPr>
              <a:t>Scaled v</a:t>
            </a:r>
            <a:r>
              <a:rPr b="1" lang="en-US" sz="3600" spc="-1" strike="noStrike" baseline="-25000">
                <a:solidFill>
                  <a:srgbClr val="bbe0e3"/>
                </a:solidFill>
                <a:latin typeface="Arial Black"/>
              </a:rPr>
              <a:t>2</a:t>
            </a:r>
            <a:r>
              <a:rPr b="1" lang="en-US" sz="3600" spc="-1" strike="noStrike">
                <a:solidFill>
                  <a:srgbClr val="bbe0e3"/>
                </a:solidFill>
                <a:latin typeface="Arial Black"/>
              </a:rPr>
              <a:t> for </a:t>
            </a:r>
            <a:r>
              <a:rPr b="1" lang="en-US" sz="3600" spc="-1" strike="noStrike">
                <a:solidFill>
                  <a:srgbClr val="bbe0e3"/>
                </a:solidFill>
                <a:latin typeface="Symbol"/>
                <a:ea typeface="Symbol"/>
              </a:rPr>
              <a:t></a:t>
            </a:r>
            <a:r>
              <a:rPr b="1" lang="en-US" sz="3600" spc="-1" strike="noStrike">
                <a:solidFill>
                  <a:srgbClr val="bbe0e3"/>
                </a:solidFill>
                <a:latin typeface="Arial Black"/>
              </a:rPr>
              <a:t> meson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5866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Quark scaling of v</a:t>
            </a:r>
            <a:r>
              <a:rPr b="0" lang="ja-JP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 also works for d and </a:t>
            </a:r>
            <a:r>
              <a:rPr b="0" lang="ja-JP" sz="18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 meson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uggest that partonic collectivity is established at pre-hadronic s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01B2-8C57-4585-AB3C-7F5821D775A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304920" y="969840"/>
            <a:ext cx="8534160" cy="4973760"/>
          </a:xfrm>
          <a:prstGeom prst="rect">
            <a:avLst/>
          </a:prstGeom>
          <a:ln w="0">
            <a:noFill/>
          </a:ln>
        </p:spPr>
      </p:pic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 Black"/>
              </a:rPr>
              <a:t>Centrality dependence: d, </a:t>
            </a:r>
            <a:r>
              <a:rPr b="0" lang="en-US" sz="3600" spc="-1" strike="noStrike">
                <a:solidFill>
                  <a:srgbClr val="bbe0e3"/>
                </a:solidFill>
                <a:latin typeface="Symbol"/>
                <a:ea typeface="Symbol"/>
              </a:rPr>
              <a:t>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5943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KE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 + quark number scaling also works for d and </a:t>
            </a:r>
            <a:r>
              <a:rPr b="0" lang="ja-JP" sz="24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 mesons in central to peripheral collisio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F7CC-E800-4096-9607-220C5D93BBE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rial Black"/>
              </a:rPr>
              <a:t>Conclusions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Measure elliptic flow (v</a:t>
            </a:r>
            <a:r>
              <a:rPr b="0" lang="ja-JP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) parameter of identified hadrons for a broad range of centrality and p</a:t>
            </a:r>
            <a:r>
              <a:rPr b="0" lang="ja-JP" sz="18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Large data sets in Run4 allow us to study detailed centrality dependence of 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for different particle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ncrease 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with increasing centr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ame mass ordering for measured centrality r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Eccentricity scaling of v</a:t>
            </a:r>
            <a:r>
              <a:rPr b="0" lang="ja-JP" sz="2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caling works for both Au+Au and Cu+Cu with participant eccentr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Participant eccentricity is the relevant geometric 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Extended Blast-wave mod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arger temperature from 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fit compared to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spectra 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etter fitting results with N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col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density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(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 ~ T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ch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150 MeV) at the eccentricity extracted by HBT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Suggest early freeze-out for v</a:t>
            </a:r>
            <a:r>
              <a:rPr b="0" lang="ja-JP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Transverse Kinetic energy (KE</a:t>
            </a:r>
            <a:r>
              <a:rPr b="0" lang="ja-JP" sz="20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) + Quark Number scaling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olds for all particles species in measured centrality bins within systematic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inite 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&amp; quark number scaling of 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with KE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me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Partonic flow by collective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52B4-365D-4F52-B9C5-53956CCB6D9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6600" spc="-1" strike="noStrike">
                <a:solidFill>
                  <a:srgbClr val="333399"/>
                </a:solidFill>
                <a:latin typeface="Arial Black"/>
              </a:rPr>
              <a:t>Back up </a:t>
            </a:r>
            <a:endParaRPr b="0" lang="en-US" sz="6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7234-74FE-4618-BBA1-66CBE66751A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178920" y="1523880"/>
            <a:ext cx="4226760" cy="321552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Hydrodynamica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eep mass or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crease linea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son v</a:t>
            </a:r>
            <a:r>
              <a:rPr b="0" lang="ja-JP" sz="20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start to satu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</a:t>
            </a:r>
            <a:r>
              <a:rPr b="0" lang="ja-JP" sz="20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p) &gt; v</a:t>
            </a:r>
            <a:r>
              <a:rPr b="0" lang="ja-JP" sz="20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0" lang="ja-JP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or 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Are there any mechanis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to explain this behavior of v</a:t>
            </a:r>
            <a:r>
              <a:rPr b="0" lang="ja-JP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76320" y="990720"/>
            <a:ext cx="4495680" cy="419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457200" y="1873080"/>
            <a:ext cx="3581280" cy="323532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"/>
          <a:srcRect l="1667" t="4420" r="6668" b="1690"/>
          <a:stretch/>
        </p:blipFill>
        <p:spPr>
          <a:xfrm>
            <a:off x="4572000" y="1884240"/>
            <a:ext cx="4419720" cy="3068640"/>
          </a:xfrm>
          <a:prstGeom prst="rect">
            <a:avLst/>
          </a:prstGeom>
          <a:ln w="0">
            <a:noFill/>
          </a:ln>
        </p:spPr>
      </p:pic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bbe0e3"/>
                </a:solidFill>
                <a:latin typeface="Arial Black"/>
              </a:rPr>
              <a:t>v</a:t>
            </a:r>
            <a:r>
              <a:rPr b="0" lang="ja-JP" sz="3600" spc="-1" strike="noStrike" baseline="-25000">
                <a:solidFill>
                  <a:srgbClr val="bbe0e3"/>
                </a:solidFill>
                <a:latin typeface="Arial Black"/>
              </a:rPr>
              <a:t>2</a:t>
            </a:r>
            <a:r>
              <a:rPr b="0" lang="ja-JP" sz="3600" spc="-1" strike="noStrike">
                <a:solidFill>
                  <a:srgbClr val="bbe0e3"/>
                </a:solidFill>
                <a:latin typeface="Arial Black"/>
              </a:rPr>
              <a:t>(p</a:t>
            </a:r>
            <a:r>
              <a:rPr b="0" lang="ja-JP" sz="3600" spc="-1" strike="noStrike" baseline="-25000">
                <a:solidFill>
                  <a:srgbClr val="bbe0e3"/>
                </a:solidFill>
                <a:latin typeface="Arial Black"/>
              </a:rPr>
              <a:t>T</a:t>
            </a:r>
            <a:r>
              <a:rPr b="0" lang="ja-JP" sz="3600" spc="-1" strike="noStrike">
                <a:solidFill>
                  <a:srgbClr val="bbe0e3"/>
                </a:solidFill>
                <a:latin typeface="Arial Black"/>
              </a:rPr>
              <a:t>): SPS vs RHIC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Hydrodynamical model (Perfect fluid: no viscosity, no heat conductivity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PS: overestimate 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HIC: good agreement for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&lt; 2 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Rapid (</a:t>
            </a:r>
            <a:r>
              <a:rPr b="0" lang="ja-JP" sz="2000" spc="-1" strike="noStrike">
                <a:solidFill>
                  <a:srgbClr val="333399"/>
                </a:solidFill>
                <a:latin typeface="Symbol"/>
                <a:ea typeface="Symbol"/>
              </a:rPr>
              <a:t></a:t>
            </a:r>
            <a:r>
              <a:rPr b="0" lang="ja-JP" sz="2000" spc="-1" strike="noStrike" baseline="-25000">
                <a:solidFill>
                  <a:srgbClr val="333399"/>
                </a:solidFill>
                <a:latin typeface="Arial"/>
              </a:rPr>
              <a:t>0</a:t>
            </a: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 ~ 1 fm/c) thermalization at RHIC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928800" y="974880"/>
            <a:ext cx="255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PS (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= 17 G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629320" y="990720"/>
            <a:ext cx="281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HIC (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= 200 G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rot="5400000">
            <a:off x="2811600" y="3143160"/>
            <a:ext cx="226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NA49: nucl-ex/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0606026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958000" y="1828800"/>
            <a:ext cx="24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33399"/>
                </a:solidFill>
                <a:latin typeface="Arial"/>
              </a:rPr>
              <a:t>PHENIX: PRL </a:t>
            </a:r>
            <a:r>
              <a:rPr b="1" lang="ja-JP" sz="1200" spc="-1" strike="noStrike">
                <a:solidFill>
                  <a:srgbClr val="333399"/>
                </a:solidFill>
                <a:latin typeface="Arial"/>
              </a:rPr>
              <a:t>91</a:t>
            </a:r>
            <a:r>
              <a:rPr b="0" lang="ja-JP" sz="1200" spc="-1" strike="noStrike">
                <a:solidFill>
                  <a:srgbClr val="333399"/>
                </a:solidFill>
                <a:latin typeface="Arial"/>
              </a:rPr>
              <a:t>, 182301 (200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H="1">
            <a:off x="936720" y="1523880"/>
            <a:ext cx="2954520" cy="4194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Hydrodynamical model: 1</a:t>
            </a:r>
            <a:r>
              <a:rPr b="0" lang="ja-JP" sz="1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order phase transition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=165 MeV, T</a:t>
            </a:r>
            <a:r>
              <a:rPr b="0" lang="ja-JP" sz="1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=120 MeV, </a:t>
            </a:r>
            <a:r>
              <a:rPr b="0" lang="ja-JP" sz="1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ja-JP" sz="1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0.8 fm/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477120" y="2438280"/>
            <a:ext cx="1828800" cy="1828800"/>
          </a:xfrm>
          <a:prstGeom prst="ellipse">
            <a:avLst/>
          </a:prstGeom>
          <a:noFill/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FAF3-09F0-4B1B-A5D3-DBA2D334A99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720800" y="914400"/>
            <a:ext cx="5359320" cy="594360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/>
          <p:nvPr/>
        </p:nvSpPr>
        <p:spPr>
          <a:xfrm>
            <a:off x="76320" y="990720"/>
            <a:ext cx="3124080" cy="2895480"/>
          </a:xfrm>
          <a:prstGeom prst="roundRect">
            <a:avLst>
              <a:gd name="adj" fmla="val 11019"/>
            </a:avLst>
          </a:pr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943600" y="990720"/>
            <a:ext cx="3124080" cy="2895480"/>
          </a:xfrm>
          <a:prstGeom prst="roundRect">
            <a:avLst>
              <a:gd name="adj" fmla="val 1101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 Black"/>
              </a:rPr>
              <a:t>Quark recombination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713" name=""/>
          <p:cNvSpPr/>
          <p:nvPr/>
        </p:nvSpPr>
        <p:spPr>
          <a:xfrm>
            <a:off x="3857760" y="3790800"/>
            <a:ext cx="152280" cy="152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505320" y="3200400"/>
            <a:ext cx="152280" cy="15228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505320" y="3352680"/>
            <a:ext cx="152280" cy="15264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505320" y="3505320"/>
            <a:ext cx="152280" cy="15228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857760" y="394344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870440" y="4800600"/>
            <a:ext cx="30492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632560" y="533412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rot="630000">
            <a:off x="3849480" y="2982600"/>
            <a:ext cx="1247760" cy="1933560"/>
          </a:xfrm>
          <a:custGeom>
            <a:avLst/>
            <a:gdLst>
              <a:gd name="textAreaLeft" fmla="*/ 0 w 1247760"/>
              <a:gd name="textAreaRight" fmla="*/ 1248120 w 1247760"/>
              <a:gd name="textAreaTop" fmla="*/ 0 h 1933560"/>
              <a:gd name="textAreaBottom" fmla="*/ 1933920 h 1933560"/>
            </a:gdLst>
            <a:ahLst/>
            <a:rect l="textAreaLeft" t="textAreaTop" r="textAreaRight" b="textAreaBottom"/>
            <a:pathLst>
              <a:path w="21600" h="21600">
                <a:moveTo>
                  <a:pt x="3086" y="9858"/>
                </a:moveTo>
                <a:arcTo wR="-7771" hR="-7771" stAng="-10382266" swAng="-10297036"/>
                <a:lnTo>
                  <a:pt x="385" y="7942"/>
                </a:lnTo>
                <a:arcTo wR="10800" hR="10800" stAng="-9879302" swAng="10297036"/>
                <a:lnTo>
                  <a:pt x="24200" y="12436"/>
                </a:lnTo>
                <a:lnTo>
                  <a:pt x="19506" y="16109"/>
                </a:lnTo>
                <a:lnTo>
                  <a:pt x="15834" y="11415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H="1" rot="16200000">
            <a:off x="3384360" y="3314520"/>
            <a:ext cx="1676520" cy="1905120"/>
          </a:xfrm>
          <a:custGeom>
            <a:avLst/>
            <a:gdLst>
              <a:gd name="textAreaLeft" fmla="*/ -360 w 1676520"/>
              <a:gd name="textAreaRight" fmla="*/ 1676520 w 16765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21600" h="21600">
                <a:moveTo>
                  <a:pt x="2308" y="9919"/>
                </a:moveTo>
                <a:arcTo wR="-8538" hR="-8538" stAng="-10444666" swAng="-8214565"/>
                <a:lnTo>
                  <a:pt x="3716" y="2648"/>
                </a:lnTo>
                <a:arcTo wR="10800" hR="10800" stAng="-7859231" swAng="8214565"/>
                <a:lnTo>
                  <a:pt x="24228" y="12193"/>
                </a:lnTo>
                <a:lnTo>
                  <a:pt x="20022" y="15608"/>
                </a:lnTo>
                <a:lnTo>
                  <a:pt x="16607" y="11402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H="1" rot="2234400">
            <a:off x="5264280" y="4265280"/>
            <a:ext cx="914400" cy="1044720"/>
          </a:xfrm>
          <a:custGeom>
            <a:avLst/>
            <a:gdLst>
              <a:gd name="textAreaLeft" fmla="*/ 360 w 914400"/>
              <a:gd name="textAreaRight" fmla="*/ 915120 w 91440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21600" h="21600">
                <a:moveTo>
                  <a:pt x="3635" y="9448"/>
                </a:moveTo>
                <a:arcTo wR="-7291" hR="-7291" stAng="-10158853" swAng="-13063382"/>
                <a:lnTo>
                  <a:pt x="1180" y="15709"/>
                </a:lnTo>
                <a:arcTo wR="10800" hR="10800" stAng="9177764" swAng="13063382"/>
                <a:lnTo>
                  <a:pt x="24066" y="13303"/>
                </a:lnTo>
                <a:lnTo>
                  <a:pt x="18863" y="16854"/>
                </a:lnTo>
                <a:lnTo>
                  <a:pt x="15311" y="11651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322680" y="992160"/>
            <a:ext cx="247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80880" y="990720"/>
            <a:ext cx="24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Re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2"/>
          <a:stretch/>
        </p:blipFill>
        <p:spPr>
          <a:xfrm>
            <a:off x="6019920" y="1523880"/>
            <a:ext cx="2971800" cy="62568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pic>
        <p:nvPicPr>
          <p:cNvPr id="726" name="" descr=""/>
          <p:cNvPicPr/>
          <p:nvPr/>
        </p:nvPicPr>
        <p:blipFill>
          <a:blip r:embed="rId3"/>
          <a:stretch/>
        </p:blipFill>
        <p:spPr>
          <a:xfrm>
            <a:off x="152280" y="1623960"/>
            <a:ext cx="2971800" cy="57636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727" name=""/>
          <p:cNvSpPr/>
          <p:nvPr/>
        </p:nvSpPr>
        <p:spPr>
          <a:xfrm>
            <a:off x="6327000" y="2298600"/>
            <a:ext cx="246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ry only a fra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z &lt; 1) of the initial qua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ment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08160" y="2362320"/>
            <a:ext cx="277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Hadrons from coalesce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have larger momentum th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the quark moment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4"/>
          <a:stretch/>
        </p:blipFill>
        <p:spPr>
          <a:xfrm>
            <a:off x="6889680" y="3143160"/>
            <a:ext cx="1187640" cy="51444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5"/>
          <a:stretch/>
        </p:blipFill>
        <p:spPr>
          <a:xfrm>
            <a:off x="1022400" y="3219480"/>
            <a:ext cx="1187280" cy="51444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/>
          <p:nvPr/>
        </p:nvSpPr>
        <p:spPr>
          <a:xfrm>
            <a:off x="533520" y="4419720"/>
            <a:ext cx="8113680" cy="188424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There can be a region where quark recombi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process becomes domi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1600" spc="-1" strike="noStrike">
                <a:solidFill>
                  <a:srgbClr val="ffffff"/>
                </a:solidFill>
                <a:latin typeface="Arial"/>
              </a:rPr>
              <a:t>when parton phase space density quickly drops with increasing p</a:t>
            </a:r>
            <a:r>
              <a:rPr b="0" lang="ja-JP" sz="16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At RHIC, it is expected quark recombination is domin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for intermediate p</a:t>
            </a:r>
            <a:r>
              <a:rPr b="0" lang="ja-JP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region, p</a:t>
            </a:r>
            <a:r>
              <a:rPr b="0" lang="ja-JP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~ 2 - 6 GeV/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5160" y="6378480"/>
            <a:ext cx="460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333399"/>
                </a:solidFill>
                <a:latin typeface="Arial"/>
              </a:rPr>
              <a:t>R. C. Hwa and C. B. Yang, PRC</a:t>
            </a:r>
            <a:r>
              <a:rPr b="1" lang="ja-JP" sz="900" spc="-1" strike="noStrike">
                <a:solidFill>
                  <a:srgbClr val="333399"/>
                </a:solidFill>
                <a:latin typeface="Arial"/>
              </a:rPr>
              <a:t>66</a:t>
            </a:r>
            <a:r>
              <a:rPr b="0" lang="ja-JP" sz="900" spc="-1" strike="noStrike">
                <a:solidFill>
                  <a:srgbClr val="333399"/>
                </a:solidFill>
                <a:latin typeface="Arial"/>
              </a:rPr>
              <a:t>, 025205 (2002); V. Greco et al, PRL</a:t>
            </a:r>
            <a:r>
              <a:rPr b="1" lang="ja-JP" sz="900" spc="-1" strike="noStrike">
                <a:solidFill>
                  <a:srgbClr val="333399"/>
                </a:solidFill>
                <a:latin typeface="Arial"/>
              </a:rPr>
              <a:t>90</a:t>
            </a:r>
            <a:r>
              <a:rPr b="0" lang="ja-JP" sz="900" spc="-1" strike="noStrike">
                <a:solidFill>
                  <a:srgbClr val="333399"/>
                </a:solidFill>
                <a:latin typeface="Arial"/>
              </a:rPr>
              <a:t>, 202302 (2003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333399"/>
                </a:solidFill>
                <a:latin typeface="Arial"/>
              </a:rPr>
              <a:t>R. J. Fries et al, PRL</a:t>
            </a:r>
            <a:r>
              <a:rPr b="1" lang="ja-JP" sz="900" spc="-1" strike="noStrike">
                <a:solidFill>
                  <a:srgbClr val="333399"/>
                </a:solidFill>
                <a:latin typeface="Arial"/>
              </a:rPr>
              <a:t>90</a:t>
            </a:r>
            <a:r>
              <a:rPr b="0" lang="ja-JP" sz="900" spc="-1" strike="noStrike">
                <a:solidFill>
                  <a:srgbClr val="333399"/>
                </a:solidFill>
                <a:latin typeface="Arial"/>
              </a:rPr>
              <a:t>, 202303 (2003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47C4-528F-43AD-A1A4-C0C6AA6AFAC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5880" y="3651120"/>
            <a:ext cx="2159280" cy="540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38080" y="3429000"/>
            <a:ext cx="1974960" cy="933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01" name=""/>
          <p:cNvSpPr/>
          <p:nvPr/>
        </p:nvSpPr>
        <p:spPr>
          <a:xfrm flipH="1">
            <a:off x="5945760" y="1101960"/>
            <a:ext cx="2113200" cy="226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86560" y="1284480"/>
            <a:ext cx="2113200" cy="226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4480" y="1028520"/>
            <a:ext cx="3900960" cy="2548080"/>
            <a:chOff x="24480" y="1028520"/>
            <a:chExt cx="3900960" cy="2548080"/>
          </a:xfrm>
        </p:grpSpPr>
        <p:sp>
          <p:nvSpPr>
            <p:cNvPr id="104" name=""/>
            <p:cNvSpPr/>
            <p:nvPr/>
          </p:nvSpPr>
          <p:spPr>
            <a:xfrm rot="11343000">
              <a:off x="3044160" y="1128600"/>
              <a:ext cx="401400" cy="347760"/>
            </a:xfrm>
            <a:custGeom>
              <a:avLst/>
              <a:gdLst/>
              <a:ahLst/>
              <a:rect l="l" t="t" r="r" b="b"/>
              <a:pathLst>
                <a:path w="720" h="622">
                  <a:moveTo>
                    <a:pt x="430" y="0"/>
                  </a:moveTo>
                  <a:lnTo>
                    <a:pt x="177" y="379"/>
                  </a:lnTo>
                  <a:lnTo>
                    <a:pt x="0" y="379"/>
                  </a:lnTo>
                  <a:lnTo>
                    <a:pt x="168" y="622"/>
                  </a:lnTo>
                  <a:lnTo>
                    <a:pt x="631" y="379"/>
                  </a:lnTo>
                  <a:lnTo>
                    <a:pt x="465" y="382"/>
                  </a:lnTo>
                  <a:lnTo>
                    <a:pt x="72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820080" y="1244880"/>
              <a:ext cx="848520" cy="9082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154880" y="1295640"/>
              <a:ext cx="831960" cy="8946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92200" y="1435680"/>
              <a:ext cx="2257560" cy="3596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69360" y="2493360"/>
              <a:ext cx="1586520" cy="2527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543000">
              <a:off x="159840" y="1301400"/>
              <a:ext cx="3630600" cy="2001960"/>
            </a:xfrm>
            <a:prstGeom prst="parallelogram">
              <a:avLst>
                <a:gd name="adj" fmla="val 67285"/>
              </a:avLst>
            </a:prstGeom>
            <a:noFill/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4480" y="2624760"/>
              <a:ext cx="355320" cy="3837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275480" y="1346760"/>
              <a:ext cx="1031400" cy="1107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 rot="11343000">
              <a:off x="1196280" y="2343600"/>
              <a:ext cx="282600" cy="803520"/>
            </a:xfrm>
            <a:custGeom>
              <a:avLst/>
              <a:gdLst/>
              <a:ahLst/>
              <a:rect l="l" t="t" r="r" b="b"/>
              <a:pathLst>
                <a:path w="252" h="715">
                  <a:moveTo>
                    <a:pt x="84" y="643"/>
                  </a:moveTo>
                  <a:cubicBezTo>
                    <a:pt x="64" y="611"/>
                    <a:pt x="38" y="568"/>
                    <a:pt x="24" y="519"/>
                  </a:cubicBezTo>
                  <a:cubicBezTo>
                    <a:pt x="10" y="470"/>
                    <a:pt x="0" y="403"/>
                    <a:pt x="1" y="351"/>
                  </a:cubicBezTo>
                  <a:cubicBezTo>
                    <a:pt x="2" y="299"/>
                    <a:pt x="14" y="251"/>
                    <a:pt x="30" y="205"/>
                  </a:cubicBezTo>
                  <a:cubicBezTo>
                    <a:pt x="46" y="159"/>
                    <a:pt x="77" y="106"/>
                    <a:pt x="100" y="73"/>
                  </a:cubicBezTo>
                  <a:cubicBezTo>
                    <a:pt x="123" y="40"/>
                    <a:pt x="163" y="0"/>
                    <a:pt x="166" y="4"/>
                  </a:cubicBezTo>
                  <a:cubicBezTo>
                    <a:pt x="198" y="57"/>
                    <a:pt x="212" y="120"/>
                    <a:pt x="225" y="171"/>
                  </a:cubicBezTo>
                  <a:cubicBezTo>
                    <a:pt x="239" y="226"/>
                    <a:pt x="246" y="280"/>
                    <a:pt x="249" y="337"/>
                  </a:cubicBezTo>
                  <a:cubicBezTo>
                    <a:pt x="252" y="394"/>
                    <a:pt x="249" y="464"/>
                    <a:pt x="241" y="514"/>
                  </a:cubicBezTo>
                  <a:cubicBezTo>
                    <a:pt x="233" y="564"/>
                    <a:pt x="216" y="603"/>
                    <a:pt x="199" y="636"/>
                  </a:cubicBezTo>
                  <a:cubicBezTo>
                    <a:pt x="182" y="669"/>
                    <a:pt x="142" y="715"/>
                    <a:pt x="142" y="712"/>
                  </a:cubicBezTo>
                  <a:cubicBezTo>
                    <a:pt x="142" y="711"/>
                    <a:pt x="104" y="675"/>
                    <a:pt x="84" y="643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978120" y="2339280"/>
              <a:ext cx="759240" cy="8128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2243880" y="1176120"/>
              <a:ext cx="1289520" cy="1285200"/>
              <a:chOff x="2243880" y="1176120"/>
              <a:chExt cx="1289520" cy="128520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2243880" y="1176120"/>
                <a:ext cx="1289520" cy="1285200"/>
                <a:chOff x="2243880" y="1176120"/>
                <a:chExt cx="1289520" cy="1285200"/>
              </a:xfrm>
            </p:grpSpPr>
            <p:sp>
              <p:nvSpPr>
                <p:cNvPr id="116" name=""/>
                <p:cNvSpPr/>
                <p:nvPr/>
              </p:nvSpPr>
              <p:spPr>
                <a:xfrm rot="543000">
                  <a:off x="2352240" y="1256760"/>
                  <a:ext cx="1100880" cy="110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rot="543000">
                  <a:off x="2352600" y="1255680"/>
                  <a:ext cx="1100880" cy="11016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rot="543000">
                  <a:off x="2289240" y="1701360"/>
                  <a:ext cx="1152360" cy="673560"/>
                </a:xfrm>
                <a:custGeom>
                  <a:avLst/>
                  <a:gdLst/>
                  <a:ahLst/>
                  <a:rect l="l" t="t" r="r" b="b"/>
                  <a:pathLst>
                    <a:path w="1026" h="600">
                      <a:moveTo>
                        <a:pt x="43" y="123"/>
                      </a:moveTo>
                      <a:cubicBezTo>
                        <a:pt x="61" y="136"/>
                        <a:pt x="84" y="160"/>
                        <a:pt x="120" y="181"/>
                      </a:cubicBezTo>
                      <a:cubicBezTo>
                        <a:pt x="156" y="202"/>
                        <a:pt x="210" y="233"/>
                        <a:pt x="262" y="250"/>
                      </a:cubicBezTo>
                      <a:cubicBezTo>
                        <a:pt x="314" y="267"/>
                        <a:pt x="370" y="279"/>
                        <a:pt x="432" y="280"/>
                      </a:cubicBezTo>
                      <a:cubicBezTo>
                        <a:pt x="494" y="281"/>
                        <a:pt x="573" y="272"/>
                        <a:pt x="634" y="259"/>
                      </a:cubicBezTo>
                      <a:cubicBezTo>
                        <a:pt x="695" y="246"/>
                        <a:pt x="749" y="229"/>
                        <a:pt x="799" y="201"/>
                      </a:cubicBezTo>
                      <a:cubicBezTo>
                        <a:pt x="849" y="173"/>
                        <a:pt x="899" y="122"/>
                        <a:pt x="937" y="90"/>
                      </a:cubicBezTo>
                      <a:cubicBezTo>
                        <a:pt x="975" y="58"/>
                        <a:pt x="1012" y="0"/>
                        <a:pt x="1026" y="9"/>
                      </a:cubicBezTo>
                      <a:cubicBezTo>
                        <a:pt x="1021" y="13"/>
                        <a:pt x="1025" y="101"/>
                        <a:pt x="1019" y="144"/>
                      </a:cubicBezTo>
                      <a:cubicBezTo>
                        <a:pt x="1013" y="187"/>
                        <a:pt x="1007" y="227"/>
                        <a:pt x="992" y="267"/>
                      </a:cubicBezTo>
                      <a:cubicBezTo>
                        <a:pt x="978" y="307"/>
                        <a:pt x="952" y="351"/>
                        <a:pt x="929" y="384"/>
                      </a:cubicBezTo>
                      <a:cubicBezTo>
                        <a:pt x="907" y="417"/>
                        <a:pt x="886" y="440"/>
                        <a:pt x="857" y="467"/>
                      </a:cubicBezTo>
                      <a:cubicBezTo>
                        <a:pt x="827" y="493"/>
                        <a:pt x="790" y="521"/>
                        <a:pt x="749" y="542"/>
                      </a:cubicBezTo>
                      <a:cubicBezTo>
                        <a:pt x="708" y="562"/>
                        <a:pt x="659" y="580"/>
                        <a:pt x="610" y="588"/>
                      </a:cubicBezTo>
                      <a:cubicBezTo>
                        <a:pt x="561" y="596"/>
                        <a:pt x="505" y="600"/>
                        <a:pt x="455" y="594"/>
                      </a:cubicBezTo>
                      <a:cubicBezTo>
                        <a:pt x="404" y="588"/>
                        <a:pt x="353" y="572"/>
                        <a:pt x="310" y="553"/>
                      </a:cubicBezTo>
                      <a:cubicBezTo>
                        <a:pt x="267" y="533"/>
                        <a:pt x="229" y="510"/>
                        <a:pt x="193" y="479"/>
                      </a:cubicBezTo>
                      <a:cubicBezTo>
                        <a:pt x="157" y="448"/>
                        <a:pt x="121" y="408"/>
                        <a:pt x="95" y="368"/>
                      </a:cubicBezTo>
                      <a:cubicBezTo>
                        <a:pt x="69" y="328"/>
                        <a:pt x="52" y="286"/>
                        <a:pt x="36" y="237"/>
                      </a:cubicBezTo>
                      <a:cubicBezTo>
                        <a:pt x="20" y="188"/>
                        <a:pt x="0" y="92"/>
                        <a:pt x="1" y="73"/>
                      </a:cubicBezTo>
                      <a:lnTo>
                        <a:pt x="43" y="123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rot="543000">
                  <a:off x="2341800" y="1731240"/>
                  <a:ext cx="1099080" cy="288000"/>
                </a:xfrm>
                <a:custGeom>
                  <a:avLst/>
                  <a:gdLst/>
                  <a:ahLst/>
                  <a:rect l="l" t="t" r="r" b="b"/>
                  <a:pathLst>
                    <a:path w="979" h="257">
                      <a:moveTo>
                        <a:pt x="0" y="78"/>
                      </a:moveTo>
                      <a:cubicBezTo>
                        <a:pt x="17" y="92"/>
                        <a:pt x="57" y="134"/>
                        <a:pt x="101" y="160"/>
                      </a:cubicBezTo>
                      <a:cubicBezTo>
                        <a:pt x="145" y="186"/>
                        <a:pt x="213" y="216"/>
                        <a:pt x="263" y="232"/>
                      </a:cubicBezTo>
                      <a:cubicBezTo>
                        <a:pt x="313" y="248"/>
                        <a:pt x="347" y="255"/>
                        <a:pt x="404" y="256"/>
                      </a:cubicBezTo>
                      <a:cubicBezTo>
                        <a:pt x="461" y="257"/>
                        <a:pt x="542" y="254"/>
                        <a:pt x="608" y="238"/>
                      </a:cubicBezTo>
                      <a:cubicBezTo>
                        <a:pt x="674" y="222"/>
                        <a:pt x="738" y="200"/>
                        <a:pt x="800" y="160"/>
                      </a:cubicBezTo>
                      <a:cubicBezTo>
                        <a:pt x="862" y="120"/>
                        <a:pt x="942" y="33"/>
                        <a:pt x="979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 rot="543000">
                <a:off x="2350800" y="1344600"/>
                <a:ext cx="282240" cy="803160"/>
              </a:xfrm>
              <a:custGeom>
                <a:avLst/>
                <a:gdLst/>
                <a:ahLst/>
                <a:rect l="l" t="t" r="r" b="b"/>
                <a:pathLst>
                  <a:path w="252" h="715">
                    <a:moveTo>
                      <a:pt x="84" y="643"/>
                    </a:moveTo>
                    <a:cubicBezTo>
                      <a:pt x="64" y="611"/>
                      <a:pt x="38" y="568"/>
                      <a:pt x="24" y="519"/>
                    </a:cubicBezTo>
                    <a:cubicBezTo>
                      <a:pt x="10" y="470"/>
                      <a:pt x="0" y="403"/>
                      <a:pt x="1" y="351"/>
                    </a:cubicBezTo>
                    <a:cubicBezTo>
                      <a:pt x="2" y="299"/>
                      <a:pt x="14" y="251"/>
                      <a:pt x="30" y="205"/>
                    </a:cubicBezTo>
                    <a:cubicBezTo>
                      <a:pt x="46" y="159"/>
                      <a:pt x="77" y="106"/>
                      <a:pt x="100" y="73"/>
                    </a:cubicBezTo>
                    <a:cubicBezTo>
                      <a:pt x="123" y="40"/>
                      <a:pt x="163" y="0"/>
                      <a:pt x="166" y="4"/>
                    </a:cubicBezTo>
                    <a:cubicBezTo>
                      <a:pt x="198" y="57"/>
                      <a:pt x="212" y="120"/>
                      <a:pt x="225" y="171"/>
                    </a:cubicBezTo>
                    <a:cubicBezTo>
                      <a:pt x="239" y="226"/>
                      <a:pt x="246" y="280"/>
                      <a:pt x="249" y="337"/>
                    </a:cubicBezTo>
                    <a:cubicBezTo>
                      <a:pt x="252" y="394"/>
                      <a:pt x="249" y="464"/>
                      <a:pt x="241" y="514"/>
                    </a:cubicBezTo>
                    <a:cubicBezTo>
                      <a:pt x="233" y="564"/>
                      <a:pt x="216" y="603"/>
                      <a:pt x="199" y="636"/>
                    </a:cubicBezTo>
                    <a:cubicBezTo>
                      <a:pt x="182" y="669"/>
                      <a:pt x="142" y="715"/>
                      <a:pt x="142" y="712"/>
                    </a:cubicBezTo>
                    <a:cubicBezTo>
                      <a:pt x="142" y="711"/>
                      <a:pt x="104" y="675"/>
                      <a:pt x="84" y="6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1685160" y="1242720"/>
              <a:ext cx="929880" cy="14832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9360" y="1514880"/>
              <a:ext cx="667800" cy="1062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311120" y="1623600"/>
              <a:ext cx="1323360" cy="2109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199960" y="1752840"/>
              <a:ext cx="446040" cy="4784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34360" y="1815480"/>
              <a:ext cx="2260800" cy="360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981360" y="1391400"/>
              <a:ext cx="1635480" cy="17586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56160" y="2005920"/>
              <a:ext cx="2260440" cy="360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1559520" y="1697400"/>
              <a:ext cx="714960" cy="1180440"/>
              <a:chOff x="1559520" y="1697400"/>
              <a:chExt cx="714960" cy="1180440"/>
            </a:xfrm>
          </p:grpSpPr>
          <p:sp>
            <p:nvSpPr>
              <p:cNvPr id="129" name=""/>
              <p:cNvSpPr/>
              <p:nvPr/>
            </p:nvSpPr>
            <p:spPr>
              <a:xfrm rot="543000">
                <a:off x="1643040" y="1734480"/>
                <a:ext cx="547920" cy="110376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543000">
                <a:off x="1601280" y="2258280"/>
                <a:ext cx="549360" cy="579600"/>
              </a:xfrm>
              <a:custGeom>
                <a:avLst/>
                <a:gdLst/>
                <a:ahLst/>
                <a:rect l="l" t="t" r="r" b="b"/>
                <a:pathLst>
                  <a:path w="489" h="515">
                    <a:moveTo>
                      <a:pt x="13" y="46"/>
                    </a:moveTo>
                    <a:cubicBezTo>
                      <a:pt x="24" y="55"/>
                      <a:pt x="47" y="72"/>
                      <a:pt x="65" y="81"/>
                    </a:cubicBezTo>
                    <a:cubicBezTo>
                      <a:pt x="83" y="90"/>
                      <a:pt x="103" y="92"/>
                      <a:pt x="121" y="97"/>
                    </a:cubicBezTo>
                    <a:cubicBezTo>
                      <a:pt x="139" y="102"/>
                      <a:pt x="156" y="109"/>
                      <a:pt x="176" y="112"/>
                    </a:cubicBezTo>
                    <a:cubicBezTo>
                      <a:pt x="196" y="115"/>
                      <a:pt x="218" y="115"/>
                      <a:pt x="241" y="114"/>
                    </a:cubicBezTo>
                    <a:cubicBezTo>
                      <a:pt x="264" y="113"/>
                      <a:pt x="289" y="109"/>
                      <a:pt x="313" y="103"/>
                    </a:cubicBezTo>
                    <a:cubicBezTo>
                      <a:pt x="337" y="97"/>
                      <a:pt x="362" y="90"/>
                      <a:pt x="385" y="78"/>
                    </a:cubicBezTo>
                    <a:cubicBezTo>
                      <a:pt x="408" y="66"/>
                      <a:pt x="435" y="41"/>
                      <a:pt x="452" y="29"/>
                    </a:cubicBezTo>
                    <a:cubicBezTo>
                      <a:pt x="469" y="17"/>
                      <a:pt x="479" y="0"/>
                      <a:pt x="485" y="7"/>
                    </a:cubicBezTo>
                    <a:cubicBezTo>
                      <a:pt x="483" y="11"/>
                      <a:pt x="489" y="40"/>
                      <a:pt x="487" y="70"/>
                    </a:cubicBezTo>
                    <a:cubicBezTo>
                      <a:pt x="485" y="100"/>
                      <a:pt x="481" y="151"/>
                      <a:pt x="474" y="190"/>
                    </a:cubicBezTo>
                    <a:cubicBezTo>
                      <a:pt x="467" y="229"/>
                      <a:pt x="455" y="272"/>
                      <a:pt x="444" y="304"/>
                    </a:cubicBezTo>
                    <a:cubicBezTo>
                      <a:pt x="433" y="336"/>
                      <a:pt x="423" y="359"/>
                      <a:pt x="408" y="385"/>
                    </a:cubicBezTo>
                    <a:cubicBezTo>
                      <a:pt x="394" y="411"/>
                      <a:pt x="376" y="438"/>
                      <a:pt x="356" y="458"/>
                    </a:cubicBezTo>
                    <a:cubicBezTo>
                      <a:pt x="336" y="478"/>
                      <a:pt x="313" y="495"/>
                      <a:pt x="289" y="503"/>
                    </a:cubicBezTo>
                    <a:cubicBezTo>
                      <a:pt x="265" y="511"/>
                      <a:pt x="238" y="515"/>
                      <a:pt x="214" y="509"/>
                    </a:cubicBezTo>
                    <a:cubicBezTo>
                      <a:pt x="189" y="503"/>
                      <a:pt x="164" y="488"/>
                      <a:pt x="143" y="469"/>
                    </a:cubicBezTo>
                    <a:cubicBezTo>
                      <a:pt x="122" y="450"/>
                      <a:pt x="104" y="427"/>
                      <a:pt x="87" y="397"/>
                    </a:cubicBezTo>
                    <a:cubicBezTo>
                      <a:pt x="69" y="367"/>
                      <a:pt x="52" y="328"/>
                      <a:pt x="39" y="289"/>
                    </a:cubicBezTo>
                    <a:cubicBezTo>
                      <a:pt x="27" y="250"/>
                      <a:pt x="17" y="204"/>
                      <a:pt x="10" y="161"/>
                    </a:cubicBezTo>
                    <a:cubicBezTo>
                      <a:pt x="4" y="118"/>
                      <a:pt x="0" y="47"/>
                      <a:pt x="0" y="28"/>
                    </a:cubicBezTo>
                    <a:lnTo>
                      <a:pt x="13" y="46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543000">
                <a:off x="1636560" y="2264040"/>
                <a:ext cx="546120" cy="123480"/>
              </a:xfrm>
              <a:custGeom>
                <a:avLst/>
                <a:gdLst/>
                <a:ahLst/>
                <a:rect l="l" t="t" r="r" b="b"/>
                <a:pathLst>
                  <a:path w="979" h="257">
                    <a:moveTo>
                      <a:pt x="0" y="78"/>
                    </a:moveTo>
                    <a:cubicBezTo>
                      <a:pt x="17" y="92"/>
                      <a:pt x="57" y="134"/>
                      <a:pt x="101" y="160"/>
                    </a:cubicBezTo>
                    <a:cubicBezTo>
                      <a:pt x="145" y="186"/>
                      <a:pt x="213" y="216"/>
                      <a:pt x="263" y="232"/>
                    </a:cubicBezTo>
                    <a:cubicBezTo>
                      <a:pt x="313" y="248"/>
                      <a:pt x="347" y="255"/>
                      <a:pt x="404" y="256"/>
                    </a:cubicBezTo>
                    <a:cubicBezTo>
                      <a:pt x="461" y="257"/>
                      <a:pt x="542" y="254"/>
                      <a:pt x="608" y="238"/>
                    </a:cubicBezTo>
                    <a:cubicBezTo>
                      <a:pt x="674" y="222"/>
                      <a:pt x="738" y="200"/>
                      <a:pt x="800" y="160"/>
                    </a:cubicBezTo>
                    <a:cubicBezTo>
                      <a:pt x="862" y="120"/>
                      <a:pt x="942" y="33"/>
                      <a:pt x="979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543000">
                <a:off x="1643040" y="1733400"/>
                <a:ext cx="547920" cy="1103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 flipH="1">
              <a:off x="1950840" y="1987200"/>
              <a:ext cx="1227960" cy="13201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633680" y="2010600"/>
              <a:ext cx="1157400" cy="12430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98000" y="2388960"/>
              <a:ext cx="1039320" cy="1656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295280" y="2373120"/>
              <a:ext cx="776160" cy="8348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1547640" y="2337840"/>
              <a:ext cx="190080" cy="2044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34080" y="2269080"/>
              <a:ext cx="528480" cy="842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283320" y="2055960"/>
              <a:ext cx="1280160" cy="1287360"/>
              <a:chOff x="283320" y="2055960"/>
              <a:chExt cx="1280160" cy="1287360"/>
            </a:xfrm>
          </p:grpSpPr>
          <p:sp>
            <p:nvSpPr>
              <p:cNvPr id="140" name=""/>
              <p:cNvSpPr/>
              <p:nvPr/>
            </p:nvSpPr>
            <p:spPr>
              <a:xfrm rot="543000">
                <a:off x="381960" y="2136960"/>
                <a:ext cx="1101600" cy="1101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543000">
                <a:off x="379440" y="2135520"/>
                <a:ext cx="1101600" cy="1101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543000">
                <a:off x="328320" y="2590560"/>
                <a:ext cx="1141560" cy="666720"/>
              </a:xfrm>
              <a:custGeom>
                <a:avLst/>
                <a:gdLst/>
                <a:ahLst/>
                <a:rect l="l" t="t" r="r" b="b"/>
                <a:pathLst>
                  <a:path w="982" h="568">
                    <a:moveTo>
                      <a:pt x="22" y="106"/>
                    </a:moveTo>
                    <a:cubicBezTo>
                      <a:pt x="39" y="120"/>
                      <a:pt x="60" y="144"/>
                      <a:pt x="100" y="166"/>
                    </a:cubicBezTo>
                    <a:cubicBezTo>
                      <a:pt x="140" y="188"/>
                      <a:pt x="212" y="222"/>
                      <a:pt x="262" y="238"/>
                    </a:cubicBezTo>
                    <a:cubicBezTo>
                      <a:pt x="312" y="254"/>
                      <a:pt x="346" y="261"/>
                      <a:pt x="403" y="262"/>
                    </a:cubicBezTo>
                    <a:cubicBezTo>
                      <a:pt x="460" y="263"/>
                      <a:pt x="546" y="257"/>
                      <a:pt x="607" y="244"/>
                    </a:cubicBezTo>
                    <a:cubicBezTo>
                      <a:pt x="668" y="231"/>
                      <a:pt x="719" y="210"/>
                      <a:pt x="769" y="183"/>
                    </a:cubicBezTo>
                    <a:cubicBezTo>
                      <a:pt x="819" y="156"/>
                      <a:pt x="872" y="111"/>
                      <a:pt x="907" y="82"/>
                    </a:cubicBezTo>
                    <a:cubicBezTo>
                      <a:pt x="942" y="53"/>
                      <a:pt x="966" y="0"/>
                      <a:pt x="978" y="7"/>
                    </a:cubicBezTo>
                    <a:cubicBezTo>
                      <a:pt x="973" y="11"/>
                      <a:pt x="982" y="84"/>
                      <a:pt x="978" y="123"/>
                    </a:cubicBezTo>
                    <a:cubicBezTo>
                      <a:pt x="974" y="162"/>
                      <a:pt x="966" y="204"/>
                      <a:pt x="952" y="243"/>
                    </a:cubicBezTo>
                    <a:cubicBezTo>
                      <a:pt x="938" y="282"/>
                      <a:pt x="913" y="325"/>
                      <a:pt x="891" y="357"/>
                    </a:cubicBezTo>
                    <a:cubicBezTo>
                      <a:pt x="869" y="389"/>
                      <a:pt x="849" y="412"/>
                      <a:pt x="820" y="438"/>
                    </a:cubicBezTo>
                    <a:cubicBezTo>
                      <a:pt x="791" y="464"/>
                      <a:pt x="755" y="491"/>
                      <a:pt x="715" y="511"/>
                    </a:cubicBezTo>
                    <a:cubicBezTo>
                      <a:pt x="675" y="531"/>
                      <a:pt x="628" y="548"/>
                      <a:pt x="580" y="556"/>
                    </a:cubicBezTo>
                    <a:cubicBezTo>
                      <a:pt x="532" y="564"/>
                      <a:pt x="478" y="568"/>
                      <a:pt x="429" y="562"/>
                    </a:cubicBezTo>
                    <a:cubicBezTo>
                      <a:pt x="380" y="556"/>
                      <a:pt x="330" y="541"/>
                      <a:pt x="288" y="522"/>
                    </a:cubicBezTo>
                    <a:cubicBezTo>
                      <a:pt x="246" y="503"/>
                      <a:pt x="209" y="480"/>
                      <a:pt x="174" y="450"/>
                    </a:cubicBezTo>
                    <a:cubicBezTo>
                      <a:pt x="139" y="420"/>
                      <a:pt x="104" y="381"/>
                      <a:pt x="79" y="342"/>
                    </a:cubicBezTo>
                    <a:cubicBezTo>
                      <a:pt x="54" y="303"/>
                      <a:pt x="34" y="257"/>
                      <a:pt x="21" y="214"/>
                    </a:cubicBezTo>
                    <a:cubicBezTo>
                      <a:pt x="8" y="171"/>
                      <a:pt x="0" y="99"/>
                      <a:pt x="0" y="81"/>
                    </a:cubicBezTo>
                    <a:lnTo>
                      <a:pt x="22" y="106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 rot="11343000">
                <a:off x="1198800" y="2335320"/>
                <a:ext cx="283680" cy="803520"/>
              </a:xfrm>
              <a:custGeom>
                <a:avLst/>
                <a:gdLst/>
                <a:ahLst/>
                <a:rect l="l" t="t" r="r" b="b"/>
                <a:pathLst>
                  <a:path w="252" h="715">
                    <a:moveTo>
                      <a:pt x="84" y="643"/>
                    </a:moveTo>
                    <a:cubicBezTo>
                      <a:pt x="64" y="611"/>
                      <a:pt x="38" y="568"/>
                      <a:pt x="24" y="519"/>
                    </a:cubicBezTo>
                    <a:cubicBezTo>
                      <a:pt x="10" y="470"/>
                      <a:pt x="0" y="403"/>
                      <a:pt x="1" y="351"/>
                    </a:cubicBezTo>
                    <a:cubicBezTo>
                      <a:pt x="2" y="299"/>
                      <a:pt x="14" y="251"/>
                      <a:pt x="30" y="205"/>
                    </a:cubicBezTo>
                    <a:cubicBezTo>
                      <a:pt x="46" y="159"/>
                      <a:pt x="77" y="106"/>
                      <a:pt x="100" y="73"/>
                    </a:cubicBezTo>
                    <a:cubicBezTo>
                      <a:pt x="123" y="40"/>
                      <a:pt x="163" y="0"/>
                      <a:pt x="166" y="4"/>
                    </a:cubicBezTo>
                    <a:cubicBezTo>
                      <a:pt x="198" y="57"/>
                      <a:pt x="212" y="120"/>
                      <a:pt x="225" y="171"/>
                    </a:cubicBezTo>
                    <a:cubicBezTo>
                      <a:pt x="239" y="226"/>
                      <a:pt x="246" y="280"/>
                      <a:pt x="249" y="337"/>
                    </a:cubicBezTo>
                    <a:cubicBezTo>
                      <a:pt x="252" y="394"/>
                      <a:pt x="249" y="464"/>
                      <a:pt x="241" y="514"/>
                    </a:cubicBezTo>
                    <a:cubicBezTo>
                      <a:pt x="233" y="564"/>
                      <a:pt x="216" y="603"/>
                      <a:pt x="199" y="636"/>
                    </a:cubicBezTo>
                    <a:cubicBezTo>
                      <a:pt x="182" y="669"/>
                      <a:pt x="142" y="715"/>
                      <a:pt x="142" y="712"/>
                    </a:cubicBezTo>
                    <a:cubicBezTo>
                      <a:pt x="142" y="711"/>
                      <a:pt x="104" y="675"/>
                      <a:pt x="84" y="6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543000">
                <a:off x="1173240" y="2313360"/>
                <a:ext cx="127800" cy="818280"/>
              </a:xfrm>
              <a:custGeom>
                <a:avLst/>
                <a:gdLst/>
                <a:ahLst/>
                <a:rect l="l" t="t" r="r" b="b"/>
                <a:pathLst>
                  <a:path w="114" h="728">
                    <a:moveTo>
                      <a:pt x="90" y="621"/>
                    </a:moveTo>
                    <a:cubicBezTo>
                      <a:pt x="86" y="592"/>
                      <a:pt x="86" y="572"/>
                      <a:pt x="84" y="540"/>
                    </a:cubicBezTo>
                    <a:cubicBezTo>
                      <a:pt x="82" y="508"/>
                      <a:pt x="78" y="467"/>
                      <a:pt x="78" y="426"/>
                    </a:cubicBezTo>
                    <a:cubicBezTo>
                      <a:pt x="78" y="385"/>
                      <a:pt x="80" y="339"/>
                      <a:pt x="81" y="291"/>
                    </a:cubicBezTo>
                    <a:cubicBezTo>
                      <a:pt x="82" y="243"/>
                      <a:pt x="83" y="185"/>
                      <a:pt x="84" y="138"/>
                    </a:cubicBezTo>
                    <a:cubicBezTo>
                      <a:pt x="85" y="91"/>
                      <a:pt x="95" y="0"/>
                      <a:pt x="86" y="6"/>
                    </a:cubicBezTo>
                    <a:cubicBezTo>
                      <a:pt x="54" y="59"/>
                      <a:pt x="40" y="122"/>
                      <a:pt x="27" y="173"/>
                    </a:cubicBezTo>
                    <a:cubicBezTo>
                      <a:pt x="13" y="228"/>
                      <a:pt x="6" y="282"/>
                      <a:pt x="3" y="339"/>
                    </a:cubicBezTo>
                    <a:cubicBezTo>
                      <a:pt x="0" y="396"/>
                      <a:pt x="3" y="465"/>
                      <a:pt x="11" y="516"/>
                    </a:cubicBezTo>
                    <a:cubicBezTo>
                      <a:pt x="19" y="567"/>
                      <a:pt x="35" y="608"/>
                      <a:pt x="52" y="643"/>
                    </a:cubicBezTo>
                    <a:cubicBezTo>
                      <a:pt x="69" y="678"/>
                      <a:pt x="108" y="728"/>
                      <a:pt x="114" y="724"/>
                    </a:cubicBezTo>
                    <a:cubicBezTo>
                      <a:pt x="114" y="723"/>
                      <a:pt x="95" y="642"/>
                      <a:pt x="90" y="621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543000">
                <a:off x="365040" y="2682360"/>
                <a:ext cx="887040" cy="200160"/>
              </a:xfrm>
              <a:custGeom>
                <a:avLst/>
                <a:gdLst/>
                <a:ahLst/>
                <a:rect l="l" t="t" r="r" b="b"/>
                <a:pathLst>
                  <a:path w="790" h="179">
                    <a:moveTo>
                      <a:pt x="0" y="0"/>
                    </a:moveTo>
                    <a:cubicBezTo>
                      <a:pt x="17" y="14"/>
                      <a:pt x="57" y="56"/>
                      <a:pt x="101" y="82"/>
                    </a:cubicBezTo>
                    <a:cubicBezTo>
                      <a:pt x="145" y="108"/>
                      <a:pt x="213" y="138"/>
                      <a:pt x="263" y="154"/>
                    </a:cubicBezTo>
                    <a:cubicBezTo>
                      <a:pt x="313" y="170"/>
                      <a:pt x="347" y="177"/>
                      <a:pt x="404" y="178"/>
                    </a:cubicBezTo>
                    <a:cubicBezTo>
                      <a:pt x="461" y="179"/>
                      <a:pt x="556" y="169"/>
                      <a:pt x="608" y="160"/>
                    </a:cubicBezTo>
                    <a:cubicBezTo>
                      <a:pt x="660" y="151"/>
                      <a:pt x="687" y="140"/>
                      <a:pt x="714" y="123"/>
                    </a:cubicBezTo>
                    <a:cubicBezTo>
                      <a:pt x="741" y="106"/>
                      <a:pt x="755" y="73"/>
                      <a:pt x="768" y="60"/>
                    </a:cubicBezTo>
                    <a:cubicBezTo>
                      <a:pt x="781" y="47"/>
                      <a:pt x="785" y="46"/>
                      <a:pt x="790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 flipH="1">
              <a:off x="1286640" y="2111040"/>
              <a:ext cx="308880" cy="3319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67560" y="2494440"/>
              <a:ext cx="1400040" cy="2232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3000">
              <a:off x="1089000" y="3011400"/>
              <a:ext cx="1422360" cy="3240"/>
            </a:xfrm>
            <a:custGeom>
              <a:avLst/>
              <a:gdLst/>
              <a:ahLst/>
              <a:rect l="l" t="t" r="r" b="b"/>
              <a:pathLst>
                <a:path w="1266" h="3">
                  <a:moveTo>
                    <a:pt x="0" y="3"/>
                  </a:moveTo>
                  <a:lnTo>
                    <a:pt x="1266" y="0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6440" y="2703240"/>
              <a:ext cx="1481400" cy="2361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974880" y="2528280"/>
              <a:ext cx="583920" cy="6285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668160" y="2901960"/>
              <a:ext cx="191880" cy="2062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353520" y="2804760"/>
              <a:ext cx="227880" cy="248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120" y="3012480"/>
              <a:ext cx="2210760" cy="35244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3000">
              <a:off x="404280" y="2869920"/>
              <a:ext cx="401760" cy="345960"/>
            </a:xfrm>
            <a:custGeom>
              <a:avLst/>
              <a:gdLst/>
              <a:ahLst/>
              <a:rect l="l" t="t" r="r" b="b"/>
              <a:pathLst>
                <a:path w="720" h="622">
                  <a:moveTo>
                    <a:pt x="430" y="0"/>
                  </a:moveTo>
                  <a:lnTo>
                    <a:pt x="177" y="379"/>
                  </a:lnTo>
                  <a:lnTo>
                    <a:pt x="0" y="379"/>
                  </a:lnTo>
                  <a:lnTo>
                    <a:pt x="168" y="622"/>
                  </a:lnTo>
                  <a:lnTo>
                    <a:pt x="631" y="379"/>
                  </a:lnTo>
                  <a:lnTo>
                    <a:pt x="465" y="382"/>
                  </a:lnTo>
                  <a:lnTo>
                    <a:pt x="72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1276560" y="1881000"/>
              <a:ext cx="1308240" cy="475920"/>
              <a:chOff x="1276560" y="1881000"/>
              <a:chExt cx="1308240" cy="475920"/>
            </a:xfrm>
          </p:grpSpPr>
          <p:sp>
            <p:nvSpPr>
              <p:cNvPr id="156" name=""/>
              <p:cNvSpPr/>
              <p:nvPr/>
            </p:nvSpPr>
            <p:spPr>
              <a:xfrm flipV="1">
                <a:off x="2005200" y="2026080"/>
                <a:ext cx="96120" cy="1011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2149560" y="1996560"/>
                <a:ext cx="230400" cy="1389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2224080" y="2215080"/>
                <a:ext cx="332640" cy="334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212200" y="2320920"/>
                <a:ext cx="372600" cy="360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1459440" y="1881000"/>
                <a:ext cx="308880" cy="1890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1328400" y="2034360"/>
                <a:ext cx="345240" cy="1414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276560" y="2202120"/>
                <a:ext cx="318600" cy="561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flipV="1">
                <a:off x="1578960" y="2192400"/>
                <a:ext cx="225720" cy="590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 flipV="1">
                <a:off x="1627560" y="2056320"/>
                <a:ext cx="193320" cy="918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842840" y="2012400"/>
                <a:ext cx="61560" cy="986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079000" y="2143080"/>
                <a:ext cx="146880" cy="270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053440" y="2251080"/>
                <a:ext cx="231840" cy="223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 flipV="1">
                <a:off x="1781280" y="2167560"/>
                <a:ext cx="121320" cy="594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1250280" y="2383200"/>
              <a:ext cx="1278000" cy="465120"/>
              <a:chOff x="1250280" y="2383200"/>
              <a:chExt cx="1278000" cy="465120"/>
            </a:xfrm>
          </p:grpSpPr>
          <p:sp>
            <p:nvSpPr>
              <p:cNvPr id="170" name=""/>
              <p:cNvSpPr/>
              <p:nvPr/>
            </p:nvSpPr>
            <p:spPr>
              <a:xfrm flipH="1">
                <a:off x="1694520" y="2556000"/>
                <a:ext cx="108360" cy="1360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1424880" y="2590920"/>
                <a:ext cx="230760" cy="1404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1250280" y="2478240"/>
                <a:ext cx="331200" cy="33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>
                <a:off x="1348920" y="2383200"/>
                <a:ext cx="245520" cy="212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037600" y="2657520"/>
                <a:ext cx="309240" cy="1908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130840" y="2550960"/>
                <a:ext cx="345240" cy="141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210760" y="2467080"/>
                <a:ext cx="317520" cy="561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001600" y="2475360"/>
                <a:ext cx="225360" cy="597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985040" y="2578680"/>
                <a:ext cx="193680" cy="914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902240" y="2614680"/>
                <a:ext cx="61560" cy="1004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1579320" y="2558880"/>
                <a:ext cx="147240" cy="255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 flipV="1">
                <a:off x="1522440" y="2453040"/>
                <a:ext cx="230040" cy="219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902240" y="2499120"/>
                <a:ext cx="121320" cy="594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249480" y="2768040"/>
              <a:ext cx="366840" cy="583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91480" y="1938960"/>
              <a:ext cx="275760" cy="439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450240" y="1544760"/>
              <a:ext cx="139680" cy="1526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 rot="18639000">
            <a:off x="2303640" y="2365920"/>
            <a:ext cx="18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Reaction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040840" y="1129680"/>
            <a:ext cx="490320" cy="52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08520" y="1605960"/>
            <a:ext cx="642600" cy="9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38160" y="13906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55520" y="1004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912840" y="1087560"/>
            <a:ext cx="2520" cy="510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64320" y="10666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571240" y="2050920"/>
            <a:ext cx="38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175160" y="928800"/>
            <a:ext cx="38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 Blac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180640" y="92880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 Black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107680" y="855360"/>
            <a:ext cx="3900600" cy="2748240"/>
            <a:chOff x="5107680" y="855360"/>
            <a:chExt cx="3900600" cy="2748240"/>
          </a:xfrm>
        </p:grpSpPr>
        <p:sp>
          <p:nvSpPr>
            <p:cNvPr id="197" name=""/>
            <p:cNvSpPr/>
            <p:nvPr/>
          </p:nvSpPr>
          <p:spPr>
            <a:xfrm>
              <a:off x="6038640" y="2032920"/>
              <a:ext cx="2260080" cy="360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406640" y="1610640"/>
              <a:ext cx="1227600" cy="13201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7124040" y="1523520"/>
              <a:ext cx="1227600" cy="13197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6787440" y="1470960"/>
              <a:ext cx="1227600" cy="13201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17000" y="1796040"/>
              <a:ext cx="1323000" cy="2109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80440" y="2413800"/>
              <a:ext cx="1399680" cy="2232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716160" y="2037600"/>
              <a:ext cx="1157760" cy="12427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5903280" y="1270800"/>
              <a:ext cx="848160" cy="9079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237360" y="1321560"/>
              <a:ext cx="831960" cy="8946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75400" y="1461600"/>
              <a:ext cx="2256840" cy="3592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543000">
              <a:off x="5243040" y="1328400"/>
              <a:ext cx="3630240" cy="2001960"/>
            </a:xfrm>
            <a:prstGeom prst="parallelogram">
              <a:avLst>
                <a:gd name="adj" fmla="val 67278"/>
              </a:avLst>
            </a:prstGeom>
            <a:noFill/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5107680" y="2651040"/>
              <a:ext cx="354960" cy="3837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6357240" y="1372680"/>
              <a:ext cx="1031400" cy="1107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6060240" y="2365920"/>
              <a:ext cx="759600" cy="8128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68360" y="1268640"/>
              <a:ext cx="929520" cy="14832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71480" y="1540440"/>
              <a:ext cx="667440" cy="1065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92880" y="1650240"/>
              <a:ext cx="1323000" cy="2109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7282440" y="1778040"/>
              <a:ext cx="445680" cy="4788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16480" y="1842120"/>
              <a:ext cx="2260080" cy="360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6063120" y="1417680"/>
              <a:ext cx="1635120" cy="17586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7033680" y="2013840"/>
              <a:ext cx="1227600" cy="13201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629040" y="2364480"/>
              <a:ext cx="189720" cy="2044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316560" y="2294640"/>
              <a:ext cx="528120" cy="842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6369480" y="2136600"/>
              <a:ext cx="308160" cy="3315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48960" y="2520360"/>
              <a:ext cx="1399680" cy="2232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543000">
              <a:off x="5678280" y="2995200"/>
              <a:ext cx="1922040" cy="2880"/>
            </a:xfrm>
            <a:custGeom>
              <a:avLst/>
              <a:gdLst/>
              <a:ahLst/>
              <a:rect l="l" t="t" r="r" b="b"/>
              <a:pathLst>
                <a:path w="1266" h="3">
                  <a:moveTo>
                    <a:pt x="0" y="3"/>
                  </a:moveTo>
                  <a:lnTo>
                    <a:pt x="1266" y="0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98920" y="2729520"/>
              <a:ext cx="1481040" cy="2361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5749560" y="2928240"/>
              <a:ext cx="191160" cy="2059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5433480" y="2827800"/>
              <a:ext cx="228960" cy="248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51240" y="3038400"/>
              <a:ext cx="2210040" cy="35208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31240" y="2793240"/>
              <a:ext cx="366840" cy="583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373960" y="1965240"/>
              <a:ext cx="275400" cy="439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8532360" y="1570320"/>
              <a:ext cx="139680" cy="153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71800">
              <a:off x="6136560" y="1694880"/>
              <a:ext cx="1944360" cy="961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6377400" y="2398680"/>
              <a:ext cx="775800" cy="8344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16280" y="2604240"/>
              <a:ext cx="1481040" cy="2361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1371800">
              <a:off x="5787720" y="1080000"/>
              <a:ext cx="2816640" cy="124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57" y="2880"/>
                  </a:moveTo>
                  <a:arcTo wR="10800" hR="10800" stAng="-7970201" swAng="5200149"/>
                  <a:lnTo>
                    <a:pt x="10800" y="10800"/>
                  </a:lnTo>
                  <a:close/>
                </a:path>
                <a:path fill="none" w="21600" h="21600">
                  <a:moveTo>
                    <a:pt x="3457" y="2880"/>
                  </a:moveTo>
                  <a:arcTo wR="10800" hR="10800" stAng="-7970201" swAng="520014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48080" y="1982520"/>
              <a:ext cx="1923840" cy="695520"/>
            </a:xfrm>
            <a:custGeom>
              <a:avLst/>
              <a:gdLst/>
              <a:ahLst/>
              <a:rect l="l" t="t" r="r" b="b"/>
              <a:pathLst>
                <a:path w="1212" h="438">
                  <a:moveTo>
                    <a:pt x="58" y="184"/>
                  </a:moveTo>
                  <a:cubicBezTo>
                    <a:pt x="69" y="195"/>
                    <a:pt x="60" y="192"/>
                    <a:pt x="108" y="234"/>
                  </a:cubicBezTo>
                  <a:cubicBezTo>
                    <a:pt x="157" y="271"/>
                    <a:pt x="130" y="252"/>
                    <a:pt x="163" y="276"/>
                  </a:cubicBezTo>
                  <a:cubicBezTo>
                    <a:pt x="200" y="299"/>
                    <a:pt x="211" y="307"/>
                    <a:pt x="244" y="322"/>
                  </a:cubicBezTo>
                  <a:cubicBezTo>
                    <a:pt x="276" y="337"/>
                    <a:pt x="318" y="355"/>
                    <a:pt x="334" y="361"/>
                  </a:cubicBezTo>
                  <a:cubicBezTo>
                    <a:pt x="354" y="369"/>
                    <a:pt x="374" y="375"/>
                    <a:pt x="394" y="382"/>
                  </a:cubicBezTo>
                  <a:cubicBezTo>
                    <a:pt x="415" y="390"/>
                    <a:pt x="445" y="396"/>
                    <a:pt x="471" y="405"/>
                  </a:cubicBezTo>
                  <a:cubicBezTo>
                    <a:pt x="516" y="411"/>
                    <a:pt x="505" y="411"/>
                    <a:pt x="526" y="414"/>
                  </a:cubicBezTo>
                  <a:cubicBezTo>
                    <a:pt x="555" y="420"/>
                    <a:pt x="559" y="421"/>
                    <a:pt x="579" y="424"/>
                  </a:cubicBezTo>
                  <a:cubicBezTo>
                    <a:pt x="615" y="429"/>
                    <a:pt x="637" y="433"/>
                    <a:pt x="658" y="433"/>
                  </a:cubicBezTo>
                  <a:cubicBezTo>
                    <a:pt x="697" y="438"/>
                    <a:pt x="717" y="435"/>
                    <a:pt x="730" y="436"/>
                  </a:cubicBezTo>
                  <a:cubicBezTo>
                    <a:pt x="774" y="436"/>
                    <a:pt x="763" y="438"/>
                    <a:pt x="792" y="436"/>
                  </a:cubicBezTo>
                  <a:cubicBezTo>
                    <a:pt x="828" y="435"/>
                    <a:pt x="849" y="433"/>
                    <a:pt x="871" y="430"/>
                  </a:cubicBezTo>
                  <a:cubicBezTo>
                    <a:pt x="934" y="420"/>
                    <a:pt x="915" y="424"/>
                    <a:pt x="940" y="418"/>
                  </a:cubicBezTo>
                  <a:cubicBezTo>
                    <a:pt x="987" y="406"/>
                    <a:pt x="985" y="408"/>
                    <a:pt x="1008" y="400"/>
                  </a:cubicBezTo>
                  <a:cubicBezTo>
                    <a:pt x="1054" y="385"/>
                    <a:pt x="1068" y="381"/>
                    <a:pt x="1090" y="367"/>
                  </a:cubicBezTo>
                  <a:cubicBezTo>
                    <a:pt x="1137" y="334"/>
                    <a:pt x="1142" y="336"/>
                    <a:pt x="1167" y="312"/>
                  </a:cubicBezTo>
                  <a:cubicBezTo>
                    <a:pt x="1191" y="281"/>
                    <a:pt x="1183" y="292"/>
                    <a:pt x="1195" y="271"/>
                  </a:cubicBezTo>
                  <a:cubicBezTo>
                    <a:pt x="1210" y="237"/>
                    <a:pt x="1201" y="259"/>
                    <a:pt x="1205" y="251"/>
                  </a:cubicBezTo>
                  <a:cubicBezTo>
                    <a:pt x="1206" y="236"/>
                    <a:pt x="1209" y="237"/>
                    <a:pt x="1212" y="207"/>
                  </a:cubicBezTo>
                  <a:cubicBezTo>
                    <a:pt x="1176" y="213"/>
                    <a:pt x="1163" y="217"/>
                    <a:pt x="1143" y="219"/>
                  </a:cubicBezTo>
                  <a:cubicBezTo>
                    <a:pt x="1134" y="222"/>
                    <a:pt x="1107" y="225"/>
                    <a:pt x="1107" y="225"/>
                  </a:cubicBezTo>
                  <a:cubicBezTo>
                    <a:pt x="1068" y="232"/>
                    <a:pt x="1054" y="231"/>
                    <a:pt x="1027" y="232"/>
                  </a:cubicBezTo>
                  <a:cubicBezTo>
                    <a:pt x="994" y="235"/>
                    <a:pt x="962" y="238"/>
                    <a:pt x="940" y="238"/>
                  </a:cubicBezTo>
                  <a:cubicBezTo>
                    <a:pt x="907" y="237"/>
                    <a:pt x="891" y="235"/>
                    <a:pt x="861" y="237"/>
                  </a:cubicBezTo>
                  <a:cubicBezTo>
                    <a:pt x="818" y="236"/>
                    <a:pt x="814" y="234"/>
                    <a:pt x="777" y="234"/>
                  </a:cubicBezTo>
                  <a:cubicBezTo>
                    <a:pt x="738" y="229"/>
                    <a:pt x="723" y="230"/>
                    <a:pt x="675" y="222"/>
                  </a:cubicBezTo>
                  <a:cubicBezTo>
                    <a:pt x="654" y="219"/>
                    <a:pt x="634" y="217"/>
                    <a:pt x="615" y="214"/>
                  </a:cubicBezTo>
                  <a:cubicBezTo>
                    <a:pt x="593" y="210"/>
                    <a:pt x="567" y="204"/>
                    <a:pt x="541" y="199"/>
                  </a:cubicBezTo>
                  <a:cubicBezTo>
                    <a:pt x="511" y="194"/>
                    <a:pt x="494" y="191"/>
                    <a:pt x="460" y="183"/>
                  </a:cubicBezTo>
                  <a:cubicBezTo>
                    <a:pt x="424" y="176"/>
                    <a:pt x="424" y="172"/>
                    <a:pt x="387" y="165"/>
                  </a:cubicBezTo>
                  <a:cubicBezTo>
                    <a:pt x="358" y="157"/>
                    <a:pt x="338" y="149"/>
                    <a:pt x="316" y="142"/>
                  </a:cubicBezTo>
                  <a:cubicBezTo>
                    <a:pt x="306" y="138"/>
                    <a:pt x="262" y="122"/>
                    <a:pt x="252" y="121"/>
                  </a:cubicBezTo>
                  <a:cubicBezTo>
                    <a:pt x="233" y="114"/>
                    <a:pt x="219" y="107"/>
                    <a:pt x="203" y="101"/>
                  </a:cubicBezTo>
                  <a:cubicBezTo>
                    <a:pt x="187" y="95"/>
                    <a:pt x="185" y="92"/>
                    <a:pt x="169" y="87"/>
                  </a:cubicBezTo>
                  <a:cubicBezTo>
                    <a:pt x="154" y="81"/>
                    <a:pt x="138" y="73"/>
                    <a:pt x="123" y="64"/>
                  </a:cubicBezTo>
                  <a:cubicBezTo>
                    <a:pt x="106" y="55"/>
                    <a:pt x="86" y="46"/>
                    <a:pt x="70" y="36"/>
                  </a:cubicBezTo>
                  <a:cubicBezTo>
                    <a:pt x="59" y="29"/>
                    <a:pt x="40" y="21"/>
                    <a:pt x="29" y="15"/>
                  </a:cubicBezTo>
                  <a:cubicBezTo>
                    <a:pt x="27" y="14"/>
                    <a:pt x="6" y="0"/>
                    <a:pt x="7" y="1"/>
                  </a:cubicBezTo>
                  <a:cubicBezTo>
                    <a:pt x="5" y="12"/>
                    <a:pt x="1" y="15"/>
                    <a:pt x="0" y="45"/>
                  </a:cubicBezTo>
                  <a:cubicBezTo>
                    <a:pt x="0" y="73"/>
                    <a:pt x="1" y="77"/>
                    <a:pt x="10" y="106"/>
                  </a:cubicBezTo>
                  <a:cubicBezTo>
                    <a:pt x="27" y="139"/>
                    <a:pt x="40" y="163"/>
                    <a:pt x="57" y="183"/>
                  </a:cubicBezTo>
                </a:path>
              </a:pathLst>
            </a:custGeom>
            <a:solidFill>
              <a:srgbClr val="ffffff">
                <a:alpha val="50000"/>
              </a:srgbClr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249960" y="2280960"/>
              <a:ext cx="641880" cy="6922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5786280" y="2201040"/>
              <a:ext cx="830520" cy="8949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5479560" y="2089800"/>
              <a:ext cx="870840" cy="9367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436080" y="2335320"/>
              <a:ext cx="775800" cy="8344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6796440" y="2360520"/>
              <a:ext cx="775800" cy="8348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080120" y="2415600"/>
              <a:ext cx="1039320" cy="1656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859720" y="2221200"/>
              <a:ext cx="1586160" cy="2527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23160" y="2031480"/>
              <a:ext cx="319320" cy="529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949160" y="2336760"/>
              <a:ext cx="354960" cy="583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7065360" y="2334240"/>
              <a:ext cx="895680" cy="963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51840" y="2519640"/>
              <a:ext cx="1586160" cy="2527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7569720" y="1783800"/>
              <a:ext cx="820800" cy="491040"/>
              <a:chOff x="7569720" y="1783800"/>
              <a:chExt cx="820800" cy="491040"/>
            </a:xfrm>
          </p:grpSpPr>
          <p:sp>
            <p:nvSpPr>
              <p:cNvPr id="247" name=""/>
              <p:cNvSpPr/>
              <p:nvPr/>
            </p:nvSpPr>
            <p:spPr>
              <a:xfrm flipV="1">
                <a:off x="7569720" y="1873080"/>
                <a:ext cx="96480" cy="1022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7789680" y="1783800"/>
                <a:ext cx="231120" cy="1382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7905240" y="2027160"/>
                <a:ext cx="333360" cy="324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018280" y="2239920"/>
                <a:ext cx="372240" cy="349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7659360" y="2015280"/>
                <a:ext cx="145440" cy="270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642080" y="2179800"/>
                <a:ext cx="231120" cy="223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5916960" y="1596600"/>
              <a:ext cx="932040" cy="403920"/>
              <a:chOff x="5916960" y="1596600"/>
              <a:chExt cx="932040" cy="403920"/>
            </a:xfrm>
          </p:grpSpPr>
          <p:sp>
            <p:nvSpPr>
              <p:cNvPr id="254" name=""/>
              <p:cNvSpPr/>
              <p:nvPr/>
            </p:nvSpPr>
            <p:spPr>
              <a:xfrm flipH="1" flipV="1">
                <a:off x="6216120" y="1596600"/>
                <a:ext cx="308880" cy="1908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flipV="1">
                <a:off x="5996160" y="1724400"/>
                <a:ext cx="345240" cy="1418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flipV="1">
                <a:off x="5916960" y="1883880"/>
                <a:ext cx="318600" cy="572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flipV="1">
                <a:off x="6333120" y="1940760"/>
                <a:ext cx="225000" cy="597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flipV="1">
                <a:off x="6568200" y="1677600"/>
                <a:ext cx="192240" cy="918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 flipV="1">
                <a:off x="6786720" y="1599120"/>
                <a:ext cx="62280" cy="997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 flipV="1">
                <a:off x="6565680" y="1859400"/>
                <a:ext cx="122040" cy="601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993640" y="2118600"/>
              <a:ext cx="484560" cy="432000"/>
              <a:chOff x="5993640" y="2118600"/>
              <a:chExt cx="484560" cy="432000"/>
            </a:xfrm>
          </p:grpSpPr>
          <p:sp>
            <p:nvSpPr>
              <p:cNvPr id="262" name=""/>
              <p:cNvSpPr/>
              <p:nvPr/>
            </p:nvSpPr>
            <p:spPr>
              <a:xfrm flipH="1">
                <a:off x="6371280" y="2414880"/>
                <a:ext cx="106920" cy="13572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6165720" y="2352960"/>
                <a:ext cx="229680" cy="1400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6019200" y="2277720"/>
                <a:ext cx="331560" cy="320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flipV="1">
                <a:off x="5993640" y="2118600"/>
                <a:ext cx="245880" cy="216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6311880" y="2300400"/>
                <a:ext cx="146880" cy="24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flipV="1">
                <a:off x="6167160" y="2188080"/>
                <a:ext cx="230760" cy="2232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7438320" y="2448360"/>
              <a:ext cx="784440" cy="351720"/>
              <a:chOff x="7438320" y="2448360"/>
              <a:chExt cx="784440" cy="351720"/>
            </a:xfrm>
          </p:grpSpPr>
          <p:sp>
            <p:nvSpPr>
              <p:cNvPr id="269" name=""/>
              <p:cNvSpPr/>
              <p:nvPr/>
            </p:nvSpPr>
            <p:spPr>
              <a:xfrm>
                <a:off x="7543800" y="2609280"/>
                <a:ext cx="308880" cy="1908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727040" y="2533680"/>
                <a:ext cx="345600" cy="1418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905600" y="2464560"/>
                <a:ext cx="317160" cy="5652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635600" y="2448360"/>
                <a:ext cx="226800" cy="60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521840" y="2545920"/>
                <a:ext cx="194040" cy="921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438320" y="2628720"/>
                <a:ext cx="61200" cy="1011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510320" y="2480400"/>
                <a:ext cx="122040" cy="597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6" name=""/>
          <p:cNvSpPr/>
          <p:nvPr/>
        </p:nvSpPr>
        <p:spPr>
          <a:xfrm>
            <a:off x="7971840" y="2351520"/>
            <a:ext cx="898200" cy="122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7122960" y="1115640"/>
            <a:ext cx="3600" cy="705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7693920" y="966240"/>
            <a:ext cx="490320" cy="52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rial Black"/>
              </a:rPr>
              <a:t>Why Elliptic flow ?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itial geometry overlap (eccentricity,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Final momentum anisotropy (elliptic flow, v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94160" indent="-276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volution of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pends on initial density profile, Equation of State, and system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nsitive probe to the early stage of heavy ion collisio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6200000">
            <a:off x="4338360" y="1909440"/>
            <a:ext cx="486000" cy="1086120"/>
          </a:xfrm>
          <a:prstGeom prst="downArrow">
            <a:avLst>
              <a:gd name="adj1" fmla="val 39213"/>
              <a:gd name="adj2" fmla="val 68472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16200000">
            <a:off x="4329000" y="2957040"/>
            <a:ext cx="485640" cy="1828800"/>
          </a:xfrm>
          <a:prstGeom prst="downArrow">
            <a:avLst>
              <a:gd name="adj1" fmla="val 39213"/>
              <a:gd name="adj2" fmla="val 115378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788F-9968-49AD-BE8C-73F2827738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bbe0e3"/>
                </a:solidFill>
                <a:latin typeface="Arial Black"/>
              </a:rPr>
              <a:t>Simultaneous </a:t>
            </a:r>
            <a:r>
              <a:rPr b="0" lang="ja-JP" sz="3600" spc="-1" strike="noStrike">
                <a:solidFill>
                  <a:srgbClr val="bbe0e3"/>
                </a:solidFill>
                <a:latin typeface="Symbol"/>
                <a:ea typeface="Symbol"/>
              </a:rPr>
              <a:t></a:t>
            </a:r>
            <a:r>
              <a:rPr b="0" lang="ja-JP" sz="3600" spc="-1" strike="noStrike">
                <a:solidFill>
                  <a:srgbClr val="bbe0e3"/>
                </a:solidFill>
                <a:latin typeface="Arial Black"/>
              </a:rPr>
              <a:t>/K/p fit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1"/>
          <a:stretch/>
        </p:blipFill>
        <p:spPr>
          <a:xfrm>
            <a:off x="152280" y="958680"/>
            <a:ext cx="7077240" cy="574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F517-1D9E-4E4F-9EF8-B631DA3D87A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4EDC-9B73-44DF-9732-D50771B4B00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 Black"/>
              </a:rPr>
              <a:t>RHIC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562360" y="990720"/>
            <a:ext cx="34290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The first heavy ion collider in the world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 counter-circulating 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3.8 km circum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Top energies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00 GeV/nucleon A+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50 GeV/nucleon p+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6320" y="1920960"/>
            <a:ext cx="5410080" cy="40989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725040" y="1081080"/>
            <a:ext cx="4207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lativistic 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avy 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ll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rookhaven National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885200" y="4495680"/>
            <a:ext cx="4051800" cy="1675800"/>
          </a:xfrm>
          <a:prstGeom prst="rect">
            <a:avLst/>
          </a:prstGeom>
          <a:solidFill>
            <a:srgbClr val="ffffff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33399"/>
                </a:solidFill>
                <a:latin typeface="Arial"/>
              </a:rPr>
              <a:t>Run1  2000                     Au+Au 130 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33399"/>
                </a:solidFill>
                <a:latin typeface="Arial"/>
              </a:rPr>
              <a:t>Run2  2001-2002            Au+Au, p+p 200 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33399"/>
                </a:solidFill>
                <a:latin typeface="Arial"/>
              </a:rPr>
              <a:t>Run3  2002-2003            d+Au, p+p 200 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Run4  2003-2004  Au+Au 200</a:t>
            </a:r>
            <a:r>
              <a:rPr b="0" lang="ja-JP" sz="1200" spc="-1" strike="noStrike">
                <a:solidFill>
                  <a:srgbClr val="333399"/>
                </a:solidFill>
                <a:latin typeface="Arial"/>
              </a:rPr>
              <a:t>, 62.4 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Run5  2004-2005  Cu+Cu 200</a:t>
            </a:r>
            <a:r>
              <a:rPr b="0" lang="ja-JP" sz="1200" spc="-1" strike="noStrike">
                <a:solidFill>
                  <a:srgbClr val="333399"/>
                </a:solidFill>
                <a:latin typeface="Arial"/>
              </a:rPr>
              <a:t>, 62.4, 22.5GeV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33399"/>
                </a:solidFill>
                <a:latin typeface="Arial"/>
              </a:rPr>
              <a:t>                                        </a:t>
            </a:r>
            <a:r>
              <a:rPr b="0" lang="ja-JP" sz="1200" spc="-1" strike="noStrike">
                <a:solidFill>
                  <a:srgbClr val="333399"/>
                </a:solidFill>
                <a:latin typeface="Arial"/>
              </a:rPr>
              <a:t>p+p 200 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33399"/>
                </a:solidFill>
                <a:latin typeface="Arial"/>
              </a:rPr>
              <a:t>Run6  2005-2006            p+p 200, 62.4 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33399"/>
                </a:solidFill>
                <a:latin typeface="Arial"/>
              </a:rPr>
              <a:t>Run7  2006-2007            Au+Au 200 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7B5A-BAA9-44B9-8E6C-6087BCCEC8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6070680" cy="44258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6070680" cy="44258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5715000" y="1279440"/>
            <a:ext cx="3276720" cy="154008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 Black"/>
              </a:rPr>
              <a:t>Collective Expansion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562360" y="2971800"/>
            <a:ext cx="3352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p+p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A+A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distribution is different for different particle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533520" y="5638680"/>
            <a:ext cx="3504960" cy="7765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5"/>
          <a:stretch/>
        </p:blipFill>
        <p:spPr>
          <a:xfrm>
            <a:off x="76320" y="5667480"/>
            <a:ext cx="5410080" cy="6807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6137280" y="990720"/>
            <a:ext cx="269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333399"/>
                </a:solidFill>
                <a:latin typeface="Arial"/>
              </a:rPr>
              <a:t>E. Schnedermann et al, PRC</a:t>
            </a:r>
            <a:r>
              <a:rPr b="1" lang="ja-JP" sz="1000" spc="-1" strike="noStrike">
                <a:solidFill>
                  <a:srgbClr val="333399"/>
                </a:solidFill>
                <a:latin typeface="Arial"/>
              </a:rPr>
              <a:t>48</a:t>
            </a:r>
            <a:r>
              <a:rPr b="0" lang="ja-JP" sz="1000" spc="-1" strike="noStrike">
                <a:solidFill>
                  <a:srgbClr val="333399"/>
                </a:solidFill>
                <a:latin typeface="Arial"/>
              </a:rPr>
              <a:t>, 2462 (199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0840" y="1492200"/>
            <a:ext cx="209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333399"/>
                </a:solidFill>
                <a:latin typeface="Arial"/>
              </a:rPr>
              <a:t>PHENIX: Au+Au: PRC </a:t>
            </a:r>
            <a:r>
              <a:rPr b="1" lang="ja-JP" sz="800" spc="-1" strike="noStrike">
                <a:solidFill>
                  <a:srgbClr val="333399"/>
                </a:solidFill>
                <a:latin typeface="Arial"/>
              </a:rPr>
              <a:t>63</a:t>
            </a:r>
            <a:r>
              <a:rPr b="0" lang="ja-JP" sz="800" spc="-1" strike="noStrike">
                <a:solidFill>
                  <a:srgbClr val="333399"/>
                </a:solidFill>
                <a:latin typeface="Arial"/>
              </a:rPr>
              <a:t>, 034909 (2004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333399"/>
                </a:solidFill>
                <a:latin typeface="Arial"/>
              </a:rPr>
              <a:t>p+p: PRC</a:t>
            </a:r>
            <a:r>
              <a:rPr b="1" lang="ja-JP" sz="800" spc="-1" strike="noStrike">
                <a:solidFill>
                  <a:srgbClr val="333399"/>
                </a:solidFill>
                <a:latin typeface="Arial"/>
              </a:rPr>
              <a:t>74</a:t>
            </a:r>
            <a:r>
              <a:rPr b="0" lang="ja-JP" sz="800" spc="-1" strike="noStrike">
                <a:solidFill>
                  <a:srgbClr val="333399"/>
                </a:solidFill>
                <a:latin typeface="Arial"/>
              </a:rPr>
              <a:t>, 024904 (2006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172200" y="5754600"/>
            <a:ext cx="609480" cy="60984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22920" y="5299560"/>
            <a:ext cx="1532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losive 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985160" y="5721480"/>
            <a:ext cx="609480" cy="60948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585280" y="6026040"/>
            <a:ext cx="3045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516880" y="6208560"/>
            <a:ext cx="228600" cy="228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7832520" y="6216480"/>
            <a:ext cx="228600" cy="228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7679880" y="6026040"/>
            <a:ext cx="3049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290080" y="6324480"/>
            <a:ext cx="0" cy="304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8290080" y="5501880"/>
            <a:ext cx="0" cy="2221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7889400" y="5559120"/>
            <a:ext cx="228600" cy="228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8489880" y="5568480"/>
            <a:ext cx="228600" cy="228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973640" y="5874840"/>
            <a:ext cx="6163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783040" y="5299560"/>
            <a:ext cx="1419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mal 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300720" y="5906520"/>
            <a:ext cx="3362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15000" y="5257800"/>
            <a:ext cx="3352680" cy="1447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4419720"/>
            <a:ext cx="8113680" cy="124164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Blast-wave model describe the single particle spect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Strong collective expansion at RHIC, </a:t>
            </a:r>
            <a:r>
              <a:rPr b="0" lang="ja-JP" sz="2400" spc="-1" strike="noStrike">
                <a:solidFill>
                  <a:srgbClr val="ffffff"/>
                </a:solidFill>
                <a:latin typeface="Symbol"/>
                <a:ea typeface="Symbol"/>
              </a:rPr>
              <a:t></a:t>
            </a:r>
            <a:r>
              <a:rPr b="0" lang="ja-JP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ffffff"/>
                </a:solidFill>
                <a:latin typeface="Symbol"/>
                <a:ea typeface="Symbol"/>
              </a:rPr>
              <a:t>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&gt; 0.5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How about collective azimuthal flow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8C12-AB44-47C1-A5FF-61C5C841F0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4648320" y="1294920"/>
            <a:ext cx="441936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Large v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 at RHIC !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= 0.1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50 % more particles in in-plane than in out-of-pla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50 % increase from 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Hydrodynamical model successfully describes v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 at p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 &lt; 2 GeV/c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eavier particles have smaller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collective expa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erfect fluid ?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apid thermalization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~ 1 fm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rcRect l="0" t="1553280" r="113854" b="0"/>
          <a:stretch/>
        </p:blipFill>
        <p:spPr>
          <a:xfrm>
            <a:off x="0" y="4267080"/>
            <a:ext cx="4572000" cy="23623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rcRect l="1667" t="4420" r="6668" b="1690"/>
          <a:stretch/>
        </p:blipFill>
        <p:spPr>
          <a:xfrm>
            <a:off x="152280" y="1046160"/>
            <a:ext cx="4419720" cy="30686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835200" y="990720"/>
            <a:ext cx="24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33399"/>
                </a:solidFill>
                <a:latin typeface="Arial"/>
              </a:rPr>
              <a:t>PHENIX: PRL </a:t>
            </a:r>
            <a:r>
              <a:rPr b="1" lang="ja-JP" sz="1200" spc="-1" strike="noStrike">
                <a:solidFill>
                  <a:srgbClr val="333399"/>
                </a:solidFill>
                <a:latin typeface="Arial"/>
              </a:rPr>
              <a:t>91</a:t>
            </a:r>
            <a:r>
              <a:rPr b="0" lang="ja-JP" sz="1200" spc="-1" strike="noStrike">
                <a:solidFill>
                  <a:srgbClr val="333399"/>
                </a:solidFill>
                <a:latin typeface="Arial"/>
              </a:rPr>
              <a:t>, 182301 (200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 Black"/>
              </a:rPr>
              <a:t>Large v</a:t>
            </a:r>
            <a:r>
              <a:rPr b="0" lang="en-US" sz="3600" spc="-1" strike="noStrike" baseline="-25000">
                <a:solidFill>
                  <a:srgbClr val="bbe0e3"/>
                </a:solidFill>
                <a:latin typeface="Arial Black"/>
              </a:rPr>
              <a:t>2</a:t>
            </a:r>
            <a:r>
              <a:rPr b="0" lang="en-US" sz="3600" spc="-1" strike="noStrike">
                <a:solidFill>
                  <a:srgbClr val="bbe0e3"/>
                </a:solidFill>
                <a:latin typeface="Arial Black"/>
              </a:rPr>
              <a:t> at RHIC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147240" y="4026600"/>
            <a:ext cx="368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724280" y="1981080"/>
            <a:ext cx="4267440" cy="366984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Success of hydrodynamical model at RH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ja-JP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Thermalization </a:t>
            </a:r>
            <a:r>
              <a:rPr b="0" lang="ja-JP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v</a:t>
            </a:r>
            <a:r>
              <a:rPr b="0" lang="ja-JP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Need to measure centrality dependence of v</a:t>
            </a:r>
            <a:r>
              <a:rPr b="0" lang="ja-JP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previous measurements, statistics was not enough to study detailed centrality 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High statistics Run4 data sets ! ( </a:t>
            </a:r>
            <a:r>
              <a:rPr b="0" lang="ja-JP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20 more statistic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6CA1-435A-44B7-9846-ACEDDC8FA7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rcRect l="0" t="96049" r="0" b="167477"/>
          <a:stretch/>
        </p:blipFill>
        <p:spPr>
          <a:xfrm>
            <a:off x="304920" y="4114800"/>
            <a:ext cx="3886200" cy="252576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rcRect l="1667" t="4420" r="6668" b="1690"/>
          <a:stretch/>
        </p:blipFill>
        <p:spPr>
          <a:xfrm>
            <a:off x="152280" y="1046160"/>
            <a:ext cx="4419720" cy="30686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835200" y="990720"/>
            <a:ext cx="24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33399"/>
                </a:solidFill>
                <a:latin typeface="Arial"/>
              </a:rPr>
              <a:t>PHENIX: PRL </a:t>
            </a:r>
            <a:r>
              <a:rPr b="1" lang="ja-JP" sz="1200" spc="-1" strike="noStrike">
                <a:solidFill>
                  <a:srgbClr val="333399"/>
                </a:solidFill>
                <a:latin typeface="Arial"/>
              </a:rPr>
              <a:t>91</a:t>
            </a:r>
            <a:r>
              <a:rPr b="0" lang="ja-JP" sz="1200" spc="-1" strike="noStrike">
                <a:solidFill>
                  <a:srgbClr val="333399"/>
                </a:solidFill>
                <a:latin typeface="Arial"/>
              </a:rPr>
              <a:t>, 182301 (200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752480" y="1676520"/>
            <a:ext cx="1828800" cy="1828800"/>
          </a:xfrm>
          <a:prstGeom prst="ellipse">
            <a:avLst/>
          </a:prstGeom>
          <a:noFill/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 Black"/>
              </a:rPr>
              <a:t>Quark Recombination ?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1640" y="2209320"/>
            <a:ext cx="4419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Quark recombination scenario predicts the existence of universal scaling of v</a:t>
            </a:r>
            <a:r>
              <a:rPr b="0" lang="ja-JP" sz="2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 for light quark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adron production via quark recombination is expected to be dominant for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= 2 - 6 GeV/c at RH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Quark number scaling of v</a:t>
            </a:r>
            <a:r>
              <a:rPr b="0" lang="ja-JP" sz="2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 has been observed in minimum bias events for several identified particle speci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92120" y="6416640"/>
            <a:ext cx="368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33399"/>
                </a:solidFill>
                <a:latin typeface="Arial"/>
              </a:rPr>
              <a:t>D. Molnar and S. A. Voloshin,  PRL</a:t>
            </a:r>
            <a:r>
              <a:rPr b="1" lang="ja-JP" sz="1200" spc="-1" strike="noStrike">
                <a:solidFill>
                  <a:srgbClr val="333399"/>
                </a:solidFill>
                <a:latin typeface="Arial"/>
              </a:rPr>
              <a:t>91</a:t>
            </a:r>
            <a:r>
              <a:rPr b="0" lang="ja-JP" sz="1200" spc="-1" strike="noStrike">
                <a:solidFill>
                  <a:srgbClr val="333399"/>
                </a:solidFill>
                <a:latin typeface="Arial"/>
              </a:rPr>
              <a:t>, 092301 (200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33399"/>
                </a:solidFill>
                <a:latin typeface="Arial"/>
              </a:rPr>
              <a:t>Z. Lin and C. M. Ko, PRL</a:t>
            </a:r>
            <a:r>
              <a:rPr b="1" lang="ja-JP" sz="1200" spc="-1" strike="noStrike">
                <a:solidFill>
                  <a:srgbClr val="333399"/>
                </a:solidFill>
                <a:latin typeface="Arial"/>
              </a:rPr>
              <a:t>89</a:t>
            </a:r>
            <a:r>
              <a:rPr b="0" lang="ja-JP" sz="1200" spc="-1" strike="noStrike">
                <a:solidFill>
                  <a:srgbClr val="333399"/>
                </a:solidFill>
                <a:latin typeface="Arial"/>
              </a:rPr>
              <a:t>, 202302 (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5029200" y="1066680"/>
            <a:ext cx="3276720" cy="98136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328" name=""/>
          <p:cNvSpPr/>
          <p:nvPr/>
        </p:nvSpPr>
        <p:spPr>
          <a:xfrm>
            <a:off x="457200" y="3581280"/>
            <a:ext cx="8229600" cy="319284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What is the good probe to study quark number scaling of v</a:t>
            </a:r>
            <a:r>
              <a:rPr b="0" lang="ja-JP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? </a:t>
            </a:r>
            <a:r>
              <a:rPr b="0" lang="ja-JP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me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Be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mall cross section (~ 9 mb) with non-strange hadrons = larger mean free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latively longer life time ~ 45 fm/c compared to that of fireball </a:t>
            </a:r>
            <a:r>
              <a:rPr b="0" i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0 fm/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Study the validity of the scaling for identified hadrons in a wide range of cent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1B52-FD35-4C80-A056-D6085A3E7E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8T13:54:12Z</dcterms:created>
  <dc:creator>益井 宙</dc:creator>
  <dc:description/>
  <dc:language>en-US</dc:language>
  <cp:lastModifiedBy>益井 宙</cp:lastModifiedBy>
  <cp:lastPrinted>2007-04-23T05:39:00Z</cp:lastPrinted>
  <dcterms:modified xsi:type="dcterms:W3CDTF">2007-09-27T08:18:26Z</dcterms:modified>
  <cp:revision>734</cp:revision>
  <dc:subject/>
  <dc:title>Measurement of Centrality Dependence of Elliptic Flow for Identified Hadrons in sNN = 200 GeV Au+Au Collisions </dc:title>
</cp:coreProperties>
</file>