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6C06-7186-4EA2-890C-427162A484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0B0-54D2-4B80-AAC9-01CF0B6A95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B75-8902-4EB5-936A-3D047C9F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E41-F686-4748-A0EB-5005130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00A-E6B2-403E-BC7E-5E022CB0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B53-AC90-4A88-917E-8E8FFEFA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5FB-2AF1-46F9-B515-3A89173B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BF2-125B-411C-9F39-B744C532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EB8-0FE6-4A80-856D-AA3ACFA0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7D1-3007-4B25-9A38-CE0B7D9B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E05-A2FC-4396-9748-AE30491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69B-F4EA-4C8F-A706-C07A011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D95-BE96-47F8-A959-71F38A6B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AEF-D1FE-4D23-A435-4D06148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62904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1579-FC83-4619-BC14-9CE06D08BA5E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5.png"/><Relationship Id="rId3" Type="http://schemas.openxmlformats.org/officeDocument/2006/relationships/image" Target="../media/image41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7.png"/><Relationship Id="rId3" Type="http://schemas.openxmlformats.org/officeDocument/2006/relationships/image" Target="../media/image16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246240"/>
            <a:ext cx="8305920" cy="66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low and non-flow in jet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inIchi Esumi (Univ. of Tsuku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iangyong Jia (Stony Brook Univ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          : any-correlation with R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n-flow   : random w.r.t. R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Jet : If it’s correlated with R.P. ---&gt; flow (high p</a:t>
            </a:r>
            <a:r>
              <a:rPr b="0" lang="ja-JP" sz="20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 v</a:t>
            </a:r>
            <a:r>
              <a:rPr b="0" lang="ja-JP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 &gt; 0) and non-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If it’s not correlated with R.P. ---&gt; pure non-flow (B.G. for true v</a:t>
            </a:r>
            <a:r>
              <a:rPr b="0" lang="ja-JP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n-flow” effect modifies the measured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hen they give any correlations between R.P. detector and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et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If medium responses (mach-cone, ridge) are related with jet, they will also be a part of “flow” or “non-flow” according to 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sive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hould contain all of them (jet, mach-cone, ridge),   “non-flow” should always reduce the inclusive (true)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hile    “flow” of (jet, mach-cone, ridge) can enhance the (true)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Recent results tell “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edium responses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” do change its shape and yield as a function of relative angle w.r.t. R.P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151000"/>
            <a:ext cx="4495680" cy="762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838080"/>
            <a:ext cx="63244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oreflux"/>
          <p:cNvPicPr/>
          <p:nvPr/>
        </p:nvPicPr>
        <p:blipFill>
          <a:blip r:embed="rId1"/>
          <a:stretch/>
        </p:blipFill>
        <p:spPr>
          <a:xfrm>
            <a:off x="7086600" y="1600200"/>
            <a:ext cx="1905120" cy="73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jjia\ppg\shinichi\h_logo.gif"/>
          <p:cNvPicPr/>
          <p:nvPr/>
        </p:nvPicPr>
        <p:blipFill>
          <a:blip r:embed="rId2"/>
          <a:stretch/>
        </p:blipFill>
        <p:spPr>
          <a:xfrm>
            <a:off x="6172200" y="917640"/>
            <a:ext cx="2819520" cy="65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522-9892-4627-A9DE-A002511CB6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9320" y="1676520"/>
            <a:ext cx="2330280" cy="2116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259000" y="1676520"/>
            <a:ext cx="2286000" cy="2070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2313000" cy="2079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705720" y="1676520"/>
            <a:ext cx="2313000" cy="2124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058840" y="45720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the experimental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73640" y="1203480"/>
            <a:ext cx="95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38600" y="1219320"/>
            <a:ext cx="12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48280" y="1219320"/>
            <a:ext cx="12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58320" y="1219320"/>
            <a:ext cx="12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4495680" y="3809880"/>
            <a:ext cx="2286000" cy="20894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2241720" y="3809880"/>
            <a:ext cx="2330280" cy="2124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6705720" y="3809880"/>
            <a:ext cx="2340000" cy="2070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71160" y="1905120"/>
            <a:ext cx="3454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.P. bias from jet-cor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24520" y="4038480"/>
            <a:ext cx="31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P. biased by jet-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5943600"/>
            <a:ext cx="167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3886200"/>
            <a:ext cx="167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FBD-DF78-40C6-95D9-7CD6FAC61CF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33520" y="636480"/>
            <a:ext cx="8305560" cy="18781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8305560" cy="18748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533520" y="4525920"/>
            <a:ext cx="8315280" cy="18748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92160" y="3808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24560" y="3808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5335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-1035360" y="295272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-subtracted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9473000">
            <a:off x="1447920" y="2764080"/>
            <a:ext cx="70754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reconstruction of input jet shape is very good,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when there is no R.P. dependence on jet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is will be a pure non-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Two component model (flow+jet) works perfectly only in this 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AC2-D463-4EF6-8A1C-4C89A4B81C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638680" y="4613400"/>
            <a:ext cx="32767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multiplicities in these regions are assumed to be proportional to the path length (a la energy los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e: original jets are generated according to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4133880" cy="2952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77760" y="7632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iangyong J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rcRect l="11382" t="0" r="0" b="6545"/>
          <a:stretch/>
        </p:blipFill>
        <p:spPr>
          <a:xfrm>
            <a:off x="457200" y="3124080"/>
            <a:ext cx="4876920" cy="3176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52280" y="1600200"/>
            <a:ext cx="17528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ja-JP" sz="1400" spc="-1" strike="noStrike" baseline="-25000">
                <a:solidFill>
                  <a:srgbClr val="ff0000"/>
                </a:solidFill>
                <a:latin typeface="Arial"/>
              </a:rPr>
              <a:t>loss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 depending on angle w.r.t. R.P. for near peak and Mach cone 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941080" y="469800"/>
            <a:ext cx="2896200" cy="3938400"/>
            <a:chOff x="5941080" y="469800"/>
            <a:chExt cx="2896200" cy="3938400"/>
          </a:xfrm>
        </p:grpSpPr>
        <p:sp>
          <p:nvSpPr>
            <p:cNvPr id="380" name="Oval 5"/>
            <p:cNvSpPr/>
            <p:nvPr/>
          </p:nvSpPr>
          <p:spPr>
            <a:xfrm>
              <a:off x="6629400" y="1035000"/>
              <a:ext cx="1371600" cy="2666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9"/>
            <p:cNvSpPr/>
            <p:nvPr/>
          </p:nvSpPr>
          <p:spPr>
            <a:xfrm rot="1015200">
              <a:off x="7913160" y="1111320"/>
              <a:ext cx="316080" cy="30456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0"/>
            <p:cNvSpPr/>
            <p:nvPr/>
          </p:nvSpPr>
          <p:spPr>
            <a:xfrm rot="6900600">
              <a:off x="7466400" y="3618000"/>
              <a:ext cx="312480" cy="31140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 rot="13588200">
              <a:off x="6283800" y="2370600"/>
              <a:ext cx="382680" cy="301680"/>
            </a:xfrm>
            <a:prstGeom prst="pie">
              <a:avLst/>
            </a:prstGeom>
            <a:noFill/>
            <a:ln w="25560">
              <a:solidFill>
                <a:srgbClr val="ff0000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2"/>
            <p:cNvSpPr/>
            <p:nvPr/>
          </p:nvSpPr>
          <p:spPr>
            <a:xfrm rot="2980200">
              <a:off x="7686720" y="9147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ar pe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23"/>
            <p:cNvSpPr/>
            <p:nvPr/>
          </p:nvSpPr>
          <p:spPr>
            <a:xfrm rot="19936800">
              <a:off x="7088760" y="377784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ch con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24"/>
            <p:cNvSpPr/>
            <p:nvPr/>
          </p:nvSpPr>
          <p:spPr>
            <a:xfrm rot="15789000">
              <a:off x="5516640" y="228096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ch con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15200" y="882720"/>
              <a:ext cx="838080" cy="1447560"/>
            </a:xfrm>
            <a:custGeom>
              <a:avLst/>
              <a:gdLst/>
              <a:ahLst/>
              <a:rect l="l" t="t" r="r" b="b"/>
              <a:pathLst>
                <a:path w="480" h="866">
                  <a:moveTo>
                    <a:pt x="480" y="866"/>
                  </a:moveTo>
                  <a:cubicBezTo>
                    <a:pt x="472" y="730"/>
                    <a:pt x="460" y="590"/>
                    <a:pt x="432" y="482"/>
                  </a:cubicBezTo>
                  <a:cubicBezTo>
                    <a:pt x="404" y="374"/>
                    <a:pt x="363" y="290"/>
                    <a:pt x="315" y="216"/>
                  </a:cubicBezTo>
                  <a:cubicBezTo>
                    <a:pt x="267" y="142"/>
                    <a:pt x="195" y="72"/>
                    <a:pt x="143" y="36"/>
                  </a:cubicBezTo>
                  <a:cubicBezTo>
                    <a:pt x="91" y="0"/>
                    <a:pt x="30" y="9"/>
                    <a:pt x="0" y="2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23"/>
            <p:cNvSpPr/>
            <p:nvPr/>
          </p:nvSpPr>
          <p:spPr>
            <a:xfrm>
              <a:off x="8193240" y="213372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in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23"/>
            <p:cNvSpPr/>
            <p:nvPr/>
          </p:nvSpPr>
          <p:spPr>
            <a:xfrm>
              <a:off x="6974280" y="46980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in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15200" y="149220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15200" y="2330280"/>
              <a:ext cx="228600" cy="1295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781680" y="2329920"/>
              <a:ext cx="533520" cy="83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629040" y="2330280"/>
              <a:ext cx="685800" cy="152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82760" y="3124080"/>
            <a:ext cx="4851360" cy="3202200"/>
            <a:chOff x="482760" y="3124080"/>
            <a:chExt cx="4851360" cy="3202200"/>
          </a:xfrm>
        </p:grpSpPr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482760" y="3124080"/>
              <a:ext cx="485136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3302280" y="3276720"/>
              <a:ext cx="19051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0" lang="ja-JP" sz="1200" spc="-1" strike="noStrike" baseline="-25000">
                  <a:solidFill>
                    <a:srgbClr val="ff0000"/>
                  </a:solidFill>
                  <a:latin typeface="Arial"/>
                </a:rPr>
                <a:t>T </a:t>
              </a:r>
              <a:r>
                <a:rPr b="0" lang="ja-JP" sz="1200" spc="-1" strike="noStrike">
                  <a:solidFill>
                    <a:srgbClr val="ff0000"/>
                  </a:solidFill>
                  <a:latin typeface="Arial"/>
                </a:rPr>
                <a:t>smearing included,  modified mach-cone by absorption according to E</a:t>
              </a:r>
              <a:r>
                <a:rPr b="0" lang="ja-JP" sz="1200" spc="-1" strike="noStrike" baseline="-25000">
                  <a:solidFill>
                    <a:srgbClr val="ff0000"/>
                  </a:solidFill>
                  <a:latin typeface="Arial"/>
                </a:rPr>
                <a:t>loss</a:t>
              </a:r>
              <a:r>
                <a:rPr b="0" lang="ja-JP" sz="1200" spc="-1" strike="noStrike">
                  <a:solidFill>
                    <a:srgbClr val="ff0000"/>
                  </a:solidFill>
                  <a:latin typeface="Arial"/>
                </a:rPr>
                <a:t>. The asymmetry is now flipp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2160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5800" y="4572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657600" y="60958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C44-9DE6-4363-96EA-FF1514650B3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14400" y="914400"/>
            <a:ext cx="74674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HIC 200GeV Au+Au,  mid-central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t mid-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region (1-4 GeV/c) with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0.1 ~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Significant semi-hard (mini-jet)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ative to soft-thermal contribution                           ~ several*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Significant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effect from the semi-hard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ative to soft-thermal particl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~ several*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Significant smearing on jet shape even with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 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ut it’s not really because of poor accuracy of E.P. ang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’s more because mini-jets push up the inclusiv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ich is subtra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RHIC data analysis is in progre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E.P. can also be biased by correlated pair even with large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gap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1981080"/>
            <a:ext cx="723924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2819520"/>
            <a:ext cx="723924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3657600"/>
            <a:ext cx="7239240" cy="12193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1A5-4030-41F4-8C47-26C49A2F2A9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2590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8076960" cy="1905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304920" y="3300480"/>
            <a:ext cx="8453160" cy="3100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64680" y="47242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SimSun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75680" y="3838680"/>
            <a:ext cx="341280" cy="81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71000" y="5070240"/>
            <a:ext cx="341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SimSun"/>
              </a:rPr>
              <a:t>Jet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97200" y="3657600"/>
            <a:ext cx="38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SimSun"/>
              </a:rPr>
              <a:t>3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4, 1.5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&lt;2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1120" y="304812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QM08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9160" y="9907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200000">
            <a:off x="839520" y="2452680"/>
            <a:ext cx="94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9800000">
            <a:off x="2664000" y="240984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3880" y="1136520"/>
            <a:ext cx="1359000" cy="1111320"/>
          </a:xfrm>
          <a:custGeom>
            <a:avLst/>
            <a:gdLst/>
            <a:ahLst/>
            <a:rect l="l" t="t" r="r" b="b"/>
            <a:pathLst>
              <a:path w="856" h="700">
                <a:moveTo>
                  <a:pt x="0" y="300"/>
                </a:moveTo>
                <a:lnTo>
                  <a:pt x="101" y="700"/>
                </a:lnTo>
                <a:lnTo>
                  <a:pt x="856" y="320"/>
                </a:lnTo>
                <a:lnTo>
                  <a:pt x="696" y="0"/>
                </a:lnTo>
                <a:lnTo>
                  <a:pt x="0" y="3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33360" y="1619280"/>
            <a:ext cx="443160" cy="622440"/>
          </a:xfrm>
          <a:custGeom>
            <a:avLst/>
            <a:gdLst/>
            <a:ahLst/>
            <a:rect l="l" t="t" r="r" b="b"/>
            <a:pathLst>
              <a:path w="279" h="392">
                <a:moveTo>
                  <a:pt x="279" y="392"/>
                </a:moveTo>
                <a:lnTo>
                  <a:pt x="183" y="0"/>
                </a:lnTo>
                <a:lnTo>
                  <a:pt x="0" y="283"/>
                </a:lnTo>
                <a:lnTo>
                  <a:pt x="279" y="392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0100000">
            <a:off x="1679040" y="14475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9"/>
          <p:cNvSpPr/>
          <p:nvPr/>
        </p:nvSpPr>
        <p:spPr>
          <a:xfrm>
            <a:off x="2990880" y="3650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j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3"/>
          <p:cNvSpPr/>
          <p:nvPr/>
        </p:nvSpPr>
        <p:spPr>
          <a:xfrm flipH="1">
            <a:off x="2209320" y="609480"/>
            <a:ext cx="838440" cy="3812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30"/>
          <p:cNvSpPr/>
          <p:nvPr/>
        </p:nvSpPr>
        <p:spPr>
          <a:xfrm>
            <a:off x="1142640" y="2286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u+Au, 200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809880" y="304920"/>
            <a:ext cx="1752480" cy="2133360"/>
            <a:chOff x="3809880" y="304920"/>
            <a:chExt cx="1752480" cy="2133360"/>
          </a:xfrm>
        </p:grpSpPr>
        <p:sp>
          <p:nvSpPr>
            <p:cNvPr id="425" name=""/>
            <p:cNvSpPr/>
            <p:nvPr/>
          </p:nvSpPr>
          <p:spPr>
            <a:xfrm>
              <a:off x="4190760" y="533160"/>
              <a:ext cx="990720" cy="167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809880" y="990360"/>
              <a:ext cx="15238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09880" y="1218960"/>
              <a:ext cx="17524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495680" y="304920"/>
              <a:ext cx="38088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4572000" y="380880"/>
              <a:ext cx="38088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62160" y="1066680"/>
              <a:ext cx="1524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62160" y="137124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809880" y="114264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962160" y="1599480"/>
              <a:ext cx="1447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14800" y="685440"/>
              <a:ext cx="1218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038480" y="761760"/>
              <a:ext cx="121932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962160" y="609120"/>
              <a:ext cx="12956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114800" y="1752120"/>
              <a:ext cx="12952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2984400" cy="2349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rot="20953800">
            <a:off x="7659720" y="2376360"/>
            <a:ext cx="95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2032800">
            <a:off x="6249600" y="222372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20878800">
            <a:off x="6629400" y="4568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YTHIA p+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2514600"/>
            <a:ext cx="207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way side (in d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of one di-jet can be near side (in d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of another di-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56C-03B2-4870-B584-E9082E7F9E9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984400" cy="2349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 rot="20953800">
            <a:off x="7736040" y="2300400"/>
            <a:ext cx="95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2032800">
            <a:off x="6325920" y="214740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878800">
            <a:off x="6705720" y="380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YTHIA p+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238400" y="0"/>
            <a:ext cx="3941280" cy="1882800"/>
            <a:chOff x="1238400" y="0"/>
            <a:chExt cx="3941280" cy="1882800"/>
          </a:xfrm>
        </p:grpSpPr>
        <p:sp>
          <p:nvSpPr>
            <p:cNvPr id="448" name=""/>
            <p:cNvSpPr/>
            <p:nvPr/>
          </p:nvSpPr>
          <p:spPr>
            <a:xfrm flipH="1" flipV="1">
              <a:off x="2286000" y="6634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3047760" y="739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2590560" y="1044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819520" y="1197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2971440" y="51084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33920" y="11970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1752480" y="358200"/>
              <a:ext cx="19814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33920" y="119700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733920" y="11206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33920" y="119700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33920" y="1197000"/>
              <a:ext cx="1371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33920" y="119700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33920" y="119700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2080" y="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rig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87800" y="1244520"/>
              <a:ext cx="90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ar 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2920" y="78408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way 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1238400" y="882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38400" y="1568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58560" y="653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49320" y="1263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41560" y="615960"/>
              <a:ext cx="157320" cy="231480"/>
            </a:xfrm>
            <a:custGeom>
              <a:avLst/>
              <a:gdLst/>
              <a:ahLst/>
              <a:rect l="l" t="t" r="r" b="b"/>
              <a:pathLst>
                <a:path w="99" h="146">
                  <a:moveTo>
                    <a:pt x="99" y="0"/>
                  </a:moveTo>
                  <a:cubicBezTo>
                    <a:pt x="85" y="9"/>
                    <a:pt x="32" y="32"/>
                    <a:pt x="16" y="56"/>
                  </a:cubicBezTo>
                  <a:cubicBezTo>
                    <a:pt x="0" y="80"/>
                    <a:pt x="6" y="127"/>
                    <a:pt x="3" y="14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05320" y="1038240"/>
              <a:ext cx="457200" cy="133200"/>
            </a:xfrm>
            <a:custGeom>
              <a:avLst/>
              <a:gdLst/>
              <a:ahLst/>
              <a:rect l="l" t="t" r="r" b="b"/>
              <a:pathLst>
                <a:path w="288" h="84">
                  <a:moveTo>
                    <a:pt x="0" y="40"/>
                  </a:moveTo>
                  <a:cubicBezTo>
                    <a:pt x="16" y="33"/>
                    <a:pt x="61" y="8"/>
                    <a:pt x="96" y="4"/>
                  </a:cubicBezTo>
                  <a:cubicBezTo>
                    <a:pt x="131" y="0"/>
                    <a:pt x="176" y="3"/>
                    <a:pt x="208" y="16"/>
                  </a:cubicBezTo>
                  <a:cubicBezTo>
                    <a:pt x="240" y="29"/>
                    <a:pt x="271" y="70"/>
                    <a:pt x="288" y="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2720" y="6778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23623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7467480" y="4876920"/>
            <a:ext cx="901800" cy="609120"/>
            <a:chOff x="7467480" y="4876920"/>
            <a:chExt cx="901800" cy="609120"/>
          </a:xfrm>
        </p:grpSpPr>
        <p:sp>
          <p:nvSpPr>
            <p:cNvPr id="473" name=""/>
            <p:cNvSpPr/>
            <p:nvPr/>
          </p:nvSpPr>
          <p:spPr>
            <a:xfrm>
              <a:off x="7467480" y="4876920"/>
              <a:ext cx="533520" cy="60912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0"/>
                  </a:moveTo>
                  <a:cubicBezTo>
                    <a:pt x="17" y="19"/>
                    <a:pt x="65" y="77"/>
                    <a:pt x="100" y="116"/>
                  </a:cubicBezTo>
                  <a:cubicBezTo>
                    <a:pt x="135" y="155"/>
                    <a:pt x="169" y="203"/>
                    <a:pt x="208" y="232"/>
                  </a:cubicBezTo>
                  <a:cubicBezTo>
                    <a:pt x="247" y="261"/>
                    <a:pt x="309" y="276"/>
                    <a:pt x="336" y="288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20120" y="5113800"/>
              <a:ext cx="749160" cy="279000"/>
            </a:xfrm>
            <a:custGeom>
              <a:avLst/>
              <a:gdLst/>
              <a:ahLst/>
              <a:rect l="l" t="t" r="r" b="b"/>
              <a:pathLst>
                <a:path w="472" h="132">
                  <a:moveTo>
                    <a:pt x="472" y="0"/>
                  </a:moveTo>
                  <a:cubicBezTo>
                    <a:pt x="451" y="2"/>
                    <a:pt x="389" y="1"/>
                    <a:pt x="348" y="12"/>
                  </a:cubicBezTo>
                  <a:cubicBezTo>
                    <a:pt x="307" y="23"/>
                    <a:pt x="263" y="50"/>
                    <a:pt x="228" y="64"/>
                  </a:cubicBezTo>
                  <a:cubicBezTo>
                    <a:pt x="193" y="78"/>
                    <a:pt x="174" y="85"/>
                    <a:pt x="136" y="96"/>
                  </a:cubicBezTo>
                  <a:cubicBezTo>
                    <a:pt x="98" y="107"/>
                    <a:pt x="28" y="124"/>
                    <a:pt x="0" y="13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20120" y="5105520"/>
              <a:ext cx="425160" cy="145800"/>
            </a:xfrm>
            <a:custGeom>
              <a:avLst/>
              <a:gdLst/>
              <a:ahLst/>
              <a:rect l="l" t="t" r="r" b="b"/>
              <a:pathLst>
                <a:path w="268" h="69">
                  <a:moveTo>
                    <a:pt x="0" y="0"/>
                  </a:moveTo>
                  <a:cubicBezTo>
                    <a:pt x="6" y="6"/>
                    <a:pt x="18" y="25"/>
                    <a:pt x="36" y="36"/>
                  </a:cubicBezTo>
                  <a:cubicBezTo>
                    <a:pt x="54" y="47"/>
                    <a:pt x="84" y="59"/>
                    <a:pt x="108" y="64"/>
                  </a:cubicBezTo>
                  <a:cubicBezTo>
                    <a:pt x="132" y="69"/>
                    <a:pt x="153" y="67"/>
                    <a:pt x="180" y="64"/>
                  </a:cubicBezTo>
                  <a:cubicBezTo>
                    <a:pt x="207" y="61"/>
                    <a:pt x="250" y="51"/>
                    <a:pt x="268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7437600" y="5133960"/>
            <a:ext cx="933120" cy="155520"/>
          </a:xfrm>
          <a:custGeom>
            <a:avLst/>
            <a:gdLst/>
            <a:ahLst/>
            <a:rect l="l" t="t" r="r" b="b"/>
            <a:pathLst>
              <a:path w="588" h="82">
                <a:moveTo>
                  <a:pt x="0" y="0"/>
                </a:moveTo>
                <a:cubicBezTo>
                  <a:pt x="21" y="3"/>
                  <a:pt x="88" y="14"/>
                  <a:pt x="124" y="24"/>
                </a:cubicBezTo>
                <a:cubicBezTo>
                  <a:pt x="160" y="34"/>
                  <a:pt x="179" y="51"/>
                  <a:pt x="216" y="60"/>
                </a:cubicBezTo>
                <a:cubicBezTo>
                  <a:pt x="253" y="69"/>
                  <a:pt x="301" y="82"/>
                  <a:pt x="344" y="76"/>
                </a:cubicBezTo>
                <a:cubicBezTo>
                  <a:pt x="387" y="70"/>
                  <a:pt x="435" y="37"/>
                  <a:pt x="476" y="24"/>
                </a:cubicBezTo>
                <a:cubicBezTo>
                  <a:pt x="517" y="11"/>
                  <a:pt x="565" y="5"/>
                  <a:pt x="588" y="0"/>
                </a:cubicBezTo>
              </a:path>
            </a:pathLst>
          </a:custGeom>
          <a:noFill/>
          <a:ln w="255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2280" y="1905120"/>
            <a:ext cx="617220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way side of a back-to-back(b-t-b) jet is wider in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than in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If there are two parallel b-t-b jets, away side of one b-t-b jet can be near side of the another b-t-b 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uppression as well as modification of b-t-b jet would depend on relative angle w.r.t. almond geometry, we know this from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measurement and believe this is the major source of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t high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Therefore, there should be inter b-t-b jets correlation give by the geometry from (3), this could make near side ridge like effect, especially if the effect (3) has shaper dependence than v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(=cosN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e always measure inclusive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,4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, which includes the effect (3). 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Therefore any modification which could generates the elliptic (or harmonic) anisotropy would be included in the measured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Times New Roman"/>
              </a:rPr>
              <a:t>2,4 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e subtract BG contribution with this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,4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from (5) by maximizing BG contribution assuming zero jet yield at minimum at any d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If near and away side jets overlap each other, this subtraction underestimates the jet yield and can change the extracted jet sh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If you extract angular dependence of jet w.r.t. R.P., the results will easily be affected by the choice of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Times New Roman"/>
              </a:rPr>
              <a:t>2,4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 from (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477120" y="2590920"/>
            <a:ext cx="1752480" cy="2133360"/>
            <a:chOff x="6477120" y="2590920"/>
            <a:chExt cx="1752480" cy="2133360"/>
          </a:xfrm>
        </p:grpSpPr>
        <p:sp>
          <p:nvSpPr>
            <p:cNvPr id="479" name=""/>
            <p:cNvSpPr/>
            <p:nvPr/>
          </p:nvSpPr>
          <p:spPr>
            <a:xfrm>
              <a:off x="6858000" y="2819160"/>
              <a:ext cx="990720" cy="167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477120" y="3276360"/>
              <a:ext cx="15238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77120" y="3504960"/>
              <a:ext cx="17524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162920" y="2590920"/>
              <a:ext cx="38088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7239240" y="2666880"/>
              <a:ext cx="38088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9400" y="3352680"/>
              <a:ext cx="1524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9400" y="365724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477120" y="342864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629400" y="3885480"/>
              <a:ext cx="1447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82040" y="2971440"/>
              <a:ext cx="1218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705720" y="3047760"/>
              <a:ext cx="121932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6629400" y="2895120"/>
              <a:ext cx="12956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6782040" y="4038120"/>
              <a:ext cx="12952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E2E-FC21-47B4-9694-8856128D940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50856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up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894-7B1C-44A0-8FD3-EEFAA10A11E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048120" y="2057400"/>
            <a:ext cx="2590560" cy="259092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1981080"/>
            <a:ext cx="2743200" cy="2743200"/>
          </a:xfrm>
          <a:prstGeom prst="ellipse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2057400"/>
            <a:ext cx="1676160" cy="259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71800" y="3352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43400" y="1981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352680" y="2362320"/>
            <a:ext cx="1981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352680" y="2362320"/>
            <a:ext cx="1981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048120" y="281952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809880" y="2057400"/>
            <a:ext cx="10670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281952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09880" y="2057400"/>
            <a:ext cx="10670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343400" y="243828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048120" y="335268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4343400" y="3352320"/>
            <a:ext cx="1295280" cy="2286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343040" y="2057400"/>
            <a:ext cx="228600" cy="129528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048120" y="3352680"/>
            <a:ext cx="1295280" cy="533520"/>
          </a:xfrm>
          <a:prstGeom prst="line">
            <a:avLst/>
          </a:prstGeom>
          <a:ln w="38160">
            <a:solidFill>
              <a:srgbClr val="00ff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352680" y="3352680"/>
            <a:ext cx="990720" cy="990720"/>
          </a:xfrm>
          <a:prstGeom prst="line">
            <a:avLst/>
          </a:prstGeom>
          <a:ln w="38160">
            <a:solidFill>
              <a:srgbClr val="00ff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9736400">
            <a:off x="1458360" y="449496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ar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trigger dir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19736400">
            <a:off x="5716080" y="1752120"/>
            <a:ext cx="13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way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head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666880" y="33526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528"/>
                </a:moveTo>
                <a:cubicBezTo>
                  <a:pt x="108" y="476"/>
                  <a:pt x="72" y="424"/>
                  <a:pt x="48" y="336"/>
                </a:cubicBezTo>
                <a:cubicBezTo>
                  <a:pt x="24" y="248"/>
                  <a:pt x="12" y="124"/>
                  <a:pt x="0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43880" y="3733920"/>
            <a:ext cx="1169640" cy="3362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S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715000" y="4038120"/>
            <a:ext cx="3048120" cy="2273400"/>
            <a:chOff x="5715000" y="4038120"/>
            <a:chExt cx="3048120" cy="2273400"/>
          </a:xfrm>
        </p:grpSpPr>
        <p:sp>
          <p:nvSpPr>
            <p:cNvPr id="515" name=""/>
            <p:cNvSpPr/>
            <p:nvPr/>
          </p:nvSpPr>
          <p:spPr>
            <a:xfrm>
              <a:off x="5715000" y="579132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238880" y="40381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69160" y="4667400"/>
              <a:ext cx="2565360" cy="1055520"/>
            </a:xfrm>
            <a:custGeom>
              <a:avLst/>
              <a:gdLst/>
              <a:ahLst/>
              <a:rect l="l" t="t" r="r" b="b"/>
              <a:pathLst>
                <a:path w="1616" h="665">
                  <a:moveTo>
                    <a:pt x="1616" y="601"/>
                  </a:moveTo>
                  <a:cubicBezTo>
                    <a:pt x="1603" y="570"/>
                    <a:pt x="1574" y="463"/>
                    <a:pt x="1540" y="413"/>
                  </a:cubicBezTo>
                  <a:cubicBezTo>
                    <a:pt x="1506" y="363"/>
                    <a:pt x="1450" y="303"/>
                    <a:pt x="1413" y="300"/>
                  </a:cubicBezTo>
                  <a:cubicBezTo>
                    <a:pt x="1376" y="297"/>
                    <a:pt x="1350" y="350"/>
                    <a:pt x="1320" y="393"/>
                  </a:cubicBezTo>
                  <a:cubicBezTo>
                    <a:pt x="1290" y="436"/>
                    <a:pt x="1275" y="519"/>
                    <a:pt x="1233" y="560"/>
                  </a:cubicBezTo>
                  <a:cubicBezTo>
                    <a:pt x="1191" y="601"/>
                    <a:pt x="1116" y="662"/>
                    <a:pt x="1067" y="640"/>
                  </a:cubicBezTo>
                  <a:cubicBezTo>
                    <a:pt x="1018" y="618"/>
                    <a:pt x="969" y="499"/>
                    <a:pt x="936" y="428"/>
                  </a:cubicBezTo>
                  <a:cubicBezTo>
                    <a:pt x="903" y="357"/>
                    <a:pt x="899" y="286"/>
                    <a:pt x="869" y="215"/>
                  </a:cubicBezTo>
                  <a:cubicBezTo>
                    <a:pt x="838" y="144"/>
                    <a:pt x="789" y="0"/>
                    <a:pt x="754" y="1"/>
                  </a:cubicBezTo>
                  <a:cubicBezTo>
                    <a:pt x="720" y="2"/>
                    <a:pt x="686" y="148"/>
                    <a:pt x="660" y="221"/>
                  </a:cubicBezTo>
                  <a:cubicBezTo>
                    <a:pt x="633" y="294"/>
                    <a:pt x="629" y="371"/>
                    <a:pt x="599" y="441"/>
                  </a:cubicBezTo>
                  <a:cubicBezTo>
                    <a:pt x="569" y="511"/>
                    <a:pt x="526" y="617"/>
                    <a:pt x="478" y="641"/>
                  </a:cubicBezTo>
                  <a:cubicBezTo>
                    <a:pt x="430" y="665"/>
                    <a:pt x="367" y="609"/>
                    <a:pt x="313" y="587"/>
                  </a:cubicBezTo>
                  <a:cubicBezTo>
                    <a:pt x="259" y="565"/>
                    <a:pt x="207" y="502"/>
                    <a:pt x="155" y="508"/>
                  </a:cubicBezTo>
                  <a:cubicBezTo>
                    <a:pt x="103" y="514"/>
                    <a:pt x="32" y="598"/>
                    <a:pt x="0" y="62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3600" y="4572000"/>
              <a:ext cx="12952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38880" y="4572000"/>
              <a:ext cx="12956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579132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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38880" y="5105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8520" y="5410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705720" y="5105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5308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23852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78132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629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2960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48520" y="5410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6670800" y="6019920"/>
            <a:ext cx="125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932-297B-4EBC-8947-45BED99ADF8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04920" y="514440"/>
            <a:ext cx="2939760" cy="5352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828800" y="1219320"/>
            <a:ext cx="609480" cy="3657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2640" y="1219320"/>
            <a:ext cx="685800" cy="3657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5943600"/>
            <a:ext cx="6400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R.P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trigger angle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election w.r.t. R.P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re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gives the sign of 2nd order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R.P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6095880" y="523800"/>
            <a:ext cx="2949840" cy="53434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3213000" y="533520"/>
            <a:ext cx="2959200" cy="53434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703560" y="38088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low-sub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01000" y="152280"/>
            <a:ext cx="244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event flow-sub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experimental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5160" y="152280"/>
            <a:ext cx="244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event flow-sub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perfect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A7B-5A21-4998-B33F-D844854D6EC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838080"/>
            <a:ext cx="76201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68720" y="2761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P. resolution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-91440" y="146196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-90720" y="3236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-91440" y="481788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/right aver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990720" y="969840"/>
            <a:ext cx="7467480" cy="16210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990720" y="2641680"/>
            <a:ext cx="7467480" cy="16254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467480" cy="16002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58760" y="15228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44440" y="1143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24360" y="11430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81080" y="12952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391880" y="1143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9BD-68E0-4011-9207-3572B2395C0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08000" y="3168720"/>
            <a:ext cx="9001080" cy="3384360"/>
            <a:chOff x="108000" y="3168720"/>
            <a:chExt cx="9001080" cy="33843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rcRect l="4106" t="6755" r="5375" b="0"/>
            <a:stretch/>
          </p:blipFill>
          <p:spPr>
            <a:xfrm>
              <a:off x="108000" y="3168720"/>
              <a:ext cx="9001080" cy="19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324000" y="4608720"/>
              <a:ext cx="8784720" cy="1871280"/>
              <a:chOff x="324000" y="4608720"/>
              <a:chExt cx="8784720" cy="187128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rcRect l="9191" t="48951" r="7955" b="0"/>
              <a:stretch/>
            </p:blipFill>
            <p:spPr>
              <a:xfrm>
                <a:off x="4915080" y="4608720"/>
                <a:ext cx="4193640" cy="187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" name=""/>
              <p:cNvGrpSpPr/>
              <p:nvPr/>
            </p:nvGrpSpPr>
            <p:grpSpPr>
              <a:xfrm>
                <a:off x="324000" y="4608720"/>
                <a:ext cx="4658760" cy="1841040"/>
                <a:chOff x="324000" y="4608720"/>
                <a:chExt cx="4658760" cy="184104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3"/>
                <a:srcRect l="0" t="12380" r="7955" b="50392"/>
                <a:stretch/>
              </p:blipFill>
              <p:spPr>
                <a:xfrm>
                  <a:off x="324000" y="4608720"/>
                  <a:ext cx="4658760" cy="136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rcRect l="8605" t="87012" r="7955" b="0"/>
                <a:stretch/>
              </p:blipFill>
              <p:spPr>
                <a:xfrm>
                  <a:off x="759240" y="5973480"/>
                  <a:ext cx="422316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60" name="" descr=""/>
            <p:cNvPicPr/>
            <p:nvPr/>
          </p:nvPicPr>
          <p:blipFill>
            <a:blip r:embed="rId5"/>
            <a:srcRect l="13502" t="0" r="15316" b="90711"/>
            <a:stretch/>
          </p:blipFill>
          <p:spPr>
            <a:xfrm>
              <a:off x="2484360" y="6265800"/>
              <a:ext cx="417672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1960560" y="3357720"/>
            <a:ext cx="3068640" cy="26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3&lt;p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rig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&lt;4GeV/c &amp; 1.0&lt;p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ass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&lt;1.5GeV/c 20-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56480" y="3321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8240" y="6095880"/>
            <a:ext cx="5325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ssoci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rig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rad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33520" y="228600"/>
            <a:ext cx="4038480" cy="225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rcRect l="8669" t="3160" r="8288" b="0"/>
          <a:stretch/>
        </p:blipFill>
        <p:spPr>
          <a:xfrm>
            <a:off x="5181480" y="206280"/>
            <a:ext cx="3505320" cy="29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7680" y="289548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QM08: STAR, PHEN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8560" y="330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QM04: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79C-5CAE-4F93-B817-CDE84390C2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914400" y="838080"/>
            <a:ext cx="76201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-91440" y="146196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-90720" y="3236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-91440" y="481788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/right aver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25880" y="27612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P. resolution ~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495920" cy="16002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481880" cy="16002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990720" y="4379760"/>
            <a:ext cx="7467480" cy="15638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58760" y="15228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144440" y="1143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24360" y="11430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12952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91880" y="1143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0C7-E0C7-4A32-A41D-C725FF91A4B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914400" y="838080"/>
            <a:ext cx="76201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-91440" y="146196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-90720" y="3236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6200000">
            <a:off x="-91440" y="481788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/right aver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745360" y="27612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P. biased by jet-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468920" cy="1600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491240" cy="16002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467480" cy="16002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58760" y="15228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144440" y="1143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724360" y="11430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81080" y="12952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391880" y="1143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A2D-3033-43AE-93DA-5763FA9DC6A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914400" y="838080"/>
            <a:ext cx="76201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16200000">
            <a:off x="-91440" y="146196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-90720" y="3236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-91440" y="481788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/right aver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920" y="2761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P. biased by jet-correl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andom r.p. mix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464240" cy="16002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966960" y="2666880"/>
            <a:ext cx="7491240" cy="16002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467480" cy="16002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58760" y="15228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44440" y="10666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24360" y="10666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81080" y="1219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391880" y="106668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097-7928-4A48-AE32-32F41CA2FD3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13874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457200" y="5021280"/>
            <a:ext cx="8305920" cy="13795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442800" y="3581280"/>
            <a:ext cx="8320320" cy="13590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57200" y="2146320"/>
            <a:ext cx="8305920" cy="1359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160" y="93600"/>
            <a:ext cx="27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 without R.P. 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-163800" y="1145160"/>
            <a:ext cx="69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-248400" y="2458800"/>
            <a:ext cx="86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-248400" y="3906720"/>
            <a:ext cx="86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6200000">
            <a:off x="-248400" y="5355000"/>
            <a:ext cx="86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895-B573-4721-AC31-6B30EEA93B6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13874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305920" cy="13935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8305920" cy="1368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457200" y="5029200"/>
            <a:ext cx="8305920" cy="13446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2160" y="9360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 with R.P. biased by jet-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6200000">
            <a:off x="-163800" y="1167480"/>
            <a:ext cx="69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16200000">
            <a:off x="-248400" y="2481120"/>
            <a:ext cx="86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6200000">
            <a:off x="-248400" y="3929400"/>
            <a:ext cx="86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-248400" y="5376600"/>
            <a:ext cx="86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079-EB31-44E9-9A9F-BBDAE38D2BD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779400"/>
            <a:ext cx="8305920" cy="5621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2668800">
            <a:off x="1399680" y="4255920"/>
            <a:ext cx="838440" cy="13716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970520"/>
            <a:ext cx="990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91800">
            <a:off x="6972480" y="1503360"/>
            <a:ext cx="838080" cy="1371600"/>
          </a:xfrm>
          <a:prstGeom prst="ellips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389000" y="2161800"/>
            <a:ext cx="992520" cy="468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2227320"/>
            <a:ext cx="914400" cy="76212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192" y="0"/>
                </a:moveTo>
                <a:lnTo>
                  <a:pt x="0" y="0"/>
                </a:lnTo>
                <a:lnTo>
                  <a:pt x="192" y="96"/>
                </a:lnTo>
                <a:lnTo>
                  <a:pt x="48" y="240"/>
                </a:lnTo>
                <a:lnTo>
                  <a:pt x="288" y="192"/>
                </a:lnTo>
                <a:lnTo>
                  <a:pt x="240" y="480"/>
                </a:lnTo>
                <a:lnTo>
                  <a:pt x="384" y="336"/>
                </a:lnTo>
                <a:lnTo>
                  <a:pt x="432" y="528"/>
                </a:lnTo>
                <a:lnTo>
                  <a:pt x="576" y="432"/>
                </a:lnTo>
                <a:lnTo>
                  <a:pt x="672" y="528"/>
                </a:lnTo>
                <a:lnTo>
                  <a:pt x="720" y="384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990000" y="4208400"/>
            <a:ext cx="914400" cy="76212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192" y="0"/>
                </a:moveTo>
                <a:lnTo>
                  <a:pt x="0" y="0"/>
                </a:lnTo>
                <a:lnTo>
                  <a:pt x="192" y="96"/>
                </a:lnTo>
                <a:lnTo>
                  <a:pt x="48" y="240"/>
                </a:lnTo>
                <a:lnTo>
                  <a:pt x="288" y="192"/>
                </a:lnTo>
                <a:lnTo>
                  <a:pt x="240" y="480"/>
                </a:lnTo>
                <a:lnTo>
                  <a:pt x="384" y="336"/>
                </a:lnTo>
                <a:lnTo>
                  <a:pt x="432" y="528"/>
                </a:lnTo>
                <a:lnTo>
                  <a:pt x="576" y="432"/>
                </a:lnTo>
                <a:lnTo>
                  <a:pt x="672" y="528"/>
                </a:lnTo>
                <a:lnTo>
                  <a:pt x="720" y="3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3176640"/>
            <a:ext cx="16765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633840"/>
            <a:ext cx="16765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505320" y="2151000"/>
            <a:ext cx="2235600" cy="2895840"/>
            <a:chOff x="3505320" y="2151000"/>
            <a:chExt cx="2235600" cy="2895840"/>
          </a:xfrm>
        </p:grpSpPr>
        <p:sp>
          <p:nvSpPr>
            <p:cNvPr id="78" name=""/>
            <p:cNvSpPr/>
            <p:nvPr/>
          </p:nvSpPr>
          <p:spPr>
            <a:xfrm>
              <a:off x="3505320" y="2151000"/>
              <a:ext cx="2205360" cy="2895840"/>
            </a:xfrm>
            <a:custGeom>
              <a:avLst/>
              <a:gdLst>
                <a:gd name="textAreaLeft" fmla="*/ 107640 w 2205360"/>
                <a:gd name="textAreaRight" fmla="*/ 2097720 w 2205360"/>
                <a:gd name="textAreaTop" fmla="*/ 107640 h 2895840"/>
                <a:gd name="textAreaBottom" fmla="*/ 2788200 h 2895840"/>
              </a:gdLst>
              <a:ahLst/>
              <a:rect l="textAreaLeft" t="textAreaTop" r="textAreaRight" b="textAreaBottom"/>
              <a:pathLst>
                <a:path w="21600" h="28362">
                  <a:moveTo>
                    <a:pt x="3600" y="0"/>
                  </a:moveTo>
                  <a:arcTo wR="3600" hR="3600" stAng="16200000" swAng="-5400000"/>
                  <a:lnTo>
                    <a:pt x="0" y="24762"/>
                  </a:lnTo>
                  <a:arcTo wR="3600" hR="3600" stAng="10800000" swAng="-5400000"/>
                  <a:lnTo>
                    <a:pt x="18000" y="283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571560" y="2227320"/>
              <a:ext cx="2057400" cy="2763720"/>
              <a:chOff x="3571560" y="2227320"/>
              <a:chExt cx="2057400" cy="27637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4211280" y="2980800"/>
                <a:ext cx="799200" cy="1380600"/>
                <a:chOff x="4211280" y="2980800"/>
                <a:chExt cx="799200" cy="13806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211280" y="2980800"/>
                  <a:ext cx="799200" cy="1380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3571560" y="3658680"/>
                <a:ext cx="20574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22760" y="2227320"/>
                <a:ext cx="720" cy="27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45520" y="2878560"/>
                <a:ext cx="1485720" cy="16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3912840" y="2878560"/>
                <a:ext cx="1487880" cy="16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V="1">
              <a:off x="4730400" y="2760480"/>
              <a:ext cx="24480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893840" y="3293640"/>
              <a:ext cx="57168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4730400" y="4056120"/>
              <a:ext cx="244800" cy="5335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4893840" y="3750840"/>
              <a:ext cx="571680" cy="228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59080" y="30034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66280" y="3917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69120" y="4513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-of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69120" y="23940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-of-p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401840" y="104760"/>
            <a:ext cx="616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derstanding of Mach-cone shape of 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=1~2GeV/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th trigger angle selected 2-particle correlration 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=2~4GeV/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AED-CDE2-4C3B-A9FF-1A7B88E2902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8120" y="2057400"/>
            <a:ext cx="2590560" cy="259092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1981080"/>
            <a:ext cx="2743200" cy="2743200"/>
          </a:xfrm>
          <a:prstGeom prst="ellipse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057400"/>
            <a:ext cx="1676160" cy="259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352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352680" y="2362320"/>
            <a:ext cx="1981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2362320"/>
            <a:ext cx="1981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048120" y="281952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09880" y="2057400"/>
            <a:ext cx="10670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1952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057400"/>
            <a:ext cx="10670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43400" y="243828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048120" y="335268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048120" y="3123720"/>
            <a:ext cx="1295280" cy="2286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14440" y="3352680"/>
            <a:ext cx="228600" cy="129564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343400" y="2819160"/>
            <a:ext cx="1295280" cy="533160"/>
          </a:xfrm>
          <a:prstGeom prst="line">
            <a:avLst/>
          </a:prstGeom>
          <a:ln w="38160">
            <a:solidFill>
              <a:srgbClr val="00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43400" y="2361960"/>
            <a:ext cx="990720" cy="990360"/>
          </a:xfrm>
          <a:prstGeom prst="line">
            <a:avLst/>
          </a:prstGeom>
          <a:ln w="38160">
            <a:solidFill>
              <a:srgbClr val="00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736400">
            <a:off x="5637960" y="169164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ar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trigger dir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736400">
            <a:off x="1739520" y="4419000"/>
            <a:ext cx="13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way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head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286000"/>
            <a:ext cx="966960" cy="1066680"/>
          </a:xfrm>
          <a:custGeom>
            <a:avLst/>
            <a:gdLst/>
            <a:ahLst/>
            <a:rect l="l" t="t" r="r" b="b"/>
            <a:pathLst>
              <a:path w="609" h="672">
                <a:moveTo>
                  <a:pt x="0" y="0"/>
                </a:moveTo>
                <a:cubicBezTo>
                  <a:pt x="35" y="18"/>
                  <a:pt x="134" y="98"/>
                  <a:pt x="211" y="111"/>
                </a:cubicBezTo>
                <a:cubicBezTo>
                  <a:pt x="288" y="124"/>
                  <a:pt x="400" y="84"/>
                  <a:pt x="464" y="76"/>
                </a:cubicBezTo>
                <a:cubicBezTo>
                  <a:pt x="528" y="68"/>
                  <a:pt x="585" y="46"/>
                  <a:pt x="597" y="62"/>
                </a:cubicBezTo>
                <a:cubicBezTo>
                  <a:pt x="609" y="78"/>
                  <a:pt x="569" y="128"/>
                  <a:pt x="534" y="174"/>
                </a:cubicBezTo>
                <a:cubicBezTo>
                  <a:pt x="499" y="220"/>
                  <a:pt x="425" y="285"/>
                  <a:pt x="384" y="336"/>
                </a:cubicBezTo>
                <a:cubicBezTo>
                  <a:pt x="343" y="387"/>
                  <a:pt x="312" y="424"/>
                  <a:pt x="288" y="480"/>
                </a:cubicBezTo>
                <a:cubicBezTo>
                  <a:pt x="264" y="536"/>
                  <a:pt x="252" y="604"/>
                  <a:pt x="240" y="6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54160" y="2651040"/>
            <a:ext cx="1847880" cy="2148120"/>
          </a:xfrm>
          <a:custGeom>
            <a:avLst/>
            <a:gdLst/>
            <a:ahLst/>
            <a:rect l="l" t="t" r="r" b="b"/>
            <a:pathLst>
              <a:path w="1164" h="1353">
                <a:moveTo>
                  <a:pt x="434" y="0"/>
                </a:moveTo>
                <a:cubicBezTo>
                  <a:pt x="405" y="26"/>
                  <a:pt x="321" y="106"/>
                  <a:pt x="251" y="154"/>
                </a:cubicBezTo>
                <a:cubicBezTo>
                  <a:pt x="181" y="202"/>
                  <a:pt x="26" y="232"/>
                  <a:pt x="13" y="288"/>
                </a:cubicBezTo>
                <a:cubicBezTo>
                  <a:pt x="0" y="344"/>
                  <a:pt x="124" y="420"/>
                  <a:pt x="174" y="491"/>
                </a:cubicBezTo>
                <a:cubicBezTo>
                  <a:pt x="224" y="562"/>
                  <a:pt x="274" y="640"/>
                  <a:pt x="315" y="716"/>
                </a:cubicBezTo>
                <a:cubicBezTo>
                  <a:pt x="356" y="792"/>
                  <a:pt x="380" y="870"/>
                  <a:pt x="420" y="947"/>
                </a:cubicBezTo>
                <a:cubicBezTo>
                  <a:pt x="460" y="1024"/>
                  <a:pt x="504" y="1115"/>
                  <a:pt x="553" y="1179"/>
                </a:cubicBezTo>
                <a:cubicBezTo>
                  <a:pt x="602" y="1243"/>
                  <a:pt x="659" y="1313"/>
                  <a:pt x="715" y="1333"/>
                </a:cubicBezTo>
                <a:cubicBezTo>
                  <a:pt x="771" y="1353"/>
                  <a:pt x="815" y="1331"/>
                  <a:pt x="890" y="1298"/>
                </a:cubicBezTo>
                <a:cubicBezTo>
                  <a:pt x="965" y="1265"/>
                  <a:pt x="1107" y="1171"/>
                  <a:pt x="1164" y="1137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475200">
            <a:off x="1247400" y="2590560"/>
            <a:ext cx="1645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mach-c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(shoulder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ASSO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TRIG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&gt;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7080" y="4876920"/>
            <a:ext cx="1645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mach-c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(shoulder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ASSO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Arial"/>
              </a:rPr>
              <a:t>TRIG</a:t>
            </a:r>
            <a:r>
              <a:rPr b="1" lang="ja-JP" sz="1400" spc="-1" strike="noStrike">
                <a:solidFill>
                  <a:srgbClr val="0000ff"/>
                </a:solidFill>
                <a:latin typeface="Arial"/>
              </a:rPr>
              <a:t>&lt;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929120" y="2432160"/>
            <a:ext cx="2566080" cy="1355760"/>
            <a:chOff x="4929120" y="2432160"/>
            <a:chExt cx="2566080" cy="1355760"/>
          </a:xfrm>
        </p:grpSpPr>
        <p:sp>
          <p:nvSpPr>
            <p:cNvPr id="119" name=""/>
            <p:cNvSpPr/>
            <p:nvPr/>
          </p:nvSpPr>
          <p:spPr>
            <a:xfrm>
              <a:off x="4929120" y="2432160"/>
              <a:ext cx="876240" cy="1355760"/>
            </a:xfrm>
            <a:custGeom>
              <a:avLst/>
              <a:gdLst/>
              <a:ahLst/>
              <a:rect l="l" t="t" r="r" b="b"/>
              <a:pathLst>
                <a:path w="552" h="854">
                  <a:moveTo>
                    <a:pt x="0" y="0"/>
                  </a:moveTo>
                  <a:cubicBezTo>
                    <a:pt x="28" y="10"/>
                    <a:pt x="111" y="52"/>
                    <a:pt x="169" y="61"/>
                  </a:cubicBezTo>
                  <a:cubicBezTo>
                    <a:pt x="227" y="70"/>
                    <a:pt x="284" y="53"/>
                    <a:pt x="346" y="54"/>
                  </a:cubicBezTo>
                  <a:cubicBezTo>
                    <a:pt x="408" y="55"/>
                    <a:pt x="532" y="31"/>
                    <a:pt x="542" y="68"/>
                  </a:cubicBezTo>
                  <a:cubicBezTo>
                    <a:pt x="552" y="105"/>
                    <a:pt x="452" y="206"/>
                    <a:pt x="407" y="278"/>
                  </a:cubicBezTo>
                  <a:cubicBezTo>
                    <a:pt x="362" y="350"/>
                    <a:pt x="316" y="406"/>
                    <a:pt x="271" y="502"/>
                  </a:cubicBezTo>
                  <a:cubicBezTo>
                    <a:pt x="226" y="598"/>
                    <a:pt x="164" y="781"/>
                    <a:pt x="136" y="854"/>
                  </a:cubicBezTo>
                </a:path>
              </a:pathLst>
            </a:cu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5866920" y="2514600"/>
              <a:ext cx="228600" cy="838080"/>
            </a:xfrm>
            <a:custGeom>
              <a:avLst/>
              <a:gdLst/>
              <a:ahLst/>
              <a:rect l="l" t="t" r="r" b="b"/>
              <a:pathLst>
                <a:path w="144" h="528">
                  <a:moveTo>
                    <a:pt x="144" y="528"/>
                  </a:moveTo>
                  <a:cubicBezTo>
                    <a:pt x="108" y="476"/>
                    <a:pt x="72" y="424"/>
                    <a:pt x="48" y="336"/>
                  </a:cubicBezTo>
                  <a:cubicBezTo>
                    <a:pt x="24" y="248"/>
                    <a:pt x="12" y="124"/>
                    <a:pt x="0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5560" y="2705040"/>
              <a:ext cx="1169640" cy="336240"/>
            </a:xfrm>
            <a:prstGeom prst="rect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ASS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RI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715000" y="4038120"/>
            <a:ext cx="3048120" cy="2318040"/>
            <a:chOff x="5715000" y="4038120"/>
            <a:chExt cx="3048120" cy="2318040"/>
          </a:xfrm>
        </p:grpSpPr>
        <p:sp>
          <p:nvSpPr>
            <p:cNvPr id="123" name=""/>
            <p:cNvSpPr/>
            <p:nvPr/>
          </p:nvSpPr>
          <p:spPr>
            <a:xfrm>
              <a:off x="6670800" y="6019920"/>
              <a:ext cx="1253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ASSO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R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579132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238880" y="40381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69160" y="4667400"/>
              <a:ext cx="2565360" cy="1055520"/>
            </a:xfrm>
            <a:custGeom>
              <a:avLst/>
              <a:gdLst/>
              <a:ahLst/>
              <a:rect l="l" t="t" r="r" b="b"/>
              <a:pathLst>
                <a:path w="1616" h="665">
                  <a:moveTo>
                    <a:pt x="1616" y="601"/>
                  </a:moveTo>
                  <a:cubicBezTo>
                    <a:pt x="1603" y="570"/>
                    <a:pt x="1574" y="463"/>
                    <a:pt x="1540" y="413"/>
                  </a:cubicBezTo>
                  <a:cubicBezTo>
                    <a:pt x="1506" y="363"/>
                    <a:pt x="1450" y="303"/>
                    <a:pt x="1413" y="300"/>
                  </a:cubicBezTo>
                  <a:cubicBezTo>
                    <a:pt x="1376" y="297"/>
                    <a:pt x="1350" y="350"/>
                    <a:pt x="1320" y="393"/>
                  </a:cubicBezTo>
                  <a:cubicBezTo>
                    <a:pt x="1290" y="436"/>
                    <a:pt x="1275" y="519"/>
                    <a:pt x="1233" y="560"/>
                  </a:cubicBezTo>
                  <a:cubicBezTo>
                    <a:pt x="1191" y="601"/>
                    <a:pt x="1116" y="662"/>
                    <a:pt x="1067" y="640"/>
                  </a:cubicBezTo>
                  <a:cubicBezTo>
                    <a:pt x="1018" y="618"/>
                    <a:pt x="969" y="499"/>
                    <a:pt x="936" y="428"/>
                  </a:cubicBezTo>
                  <a:cubicBezTo>
                    <a:pt x="903" y="357"/>
                    <a:pt x="899" y="286"/>
                    <a:pt x="869" y="215"/>
                  </a:cubicBezTo>
                  <a:cubicBezTo>
                    <a:pt x="838" y="144"/>
                    <a:pt x="789" y="0"/>
                    <a:pt x="754" y="1"/>
                  </a:cubicBezTo>
                  <a:cubicBezTo>
                    <a:pt x="720" y="2"/>
                    <a:pt x="686" y="148"/>
                    <a:pt x="660" y="221"/>
                  </a:cubicBezTo>
                  <a:cubicBezTo>
                    <a:pt x="633" y="294"/>
                    <a:pt x="629" y="371"/>
                    <a:pt x="599" y="441"/>
                  </a:cubicBezTo>
                  <a:cubicBezTo>
                    <a:pt x="569" y="511"/>
                    <a:pt x="526" y="617"/>
                    <a:pt x="478" y="641"/>
                  </a:cubicBezTo>
                  <a:cubicBezTo>
                    <a:pt x="430" y="665"/>
                    <a:pt x="367" y="609"/>
                    <a:pt x="313" y="587"/>
                  </a:cubicBezTo>
                  <a:cubicBezTo>
                    <a:pt x="259" y="565"/>
                    <a:pt x="207" y="502"/>
                    <a:pt x="155" y="508"/>
                  </a:cubicBezTo>
                  <a:cubicBezTo>
                    <a:pt x="103" y="514"/>
                    <a:pt x="32" y="598"/>
                    <a:pt x="0" y="62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600" y="4572000"/>
              <a:ext cx="12952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4572000"/>
              <a:ext cx="12956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579132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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05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5410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705720" y="5105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23852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78132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629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2960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8520" y="5410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106-0304-4F59-8663-857F7F8FE5C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5765760"/>
            <a:ext cx="22096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 x (peak, left and right wid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+ 2 x relative height = 11 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5029200" cy="301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29000" y="119160"/>
            <a:ext cx="5029200" cy="30049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80880" y="838080"/>
            <a:ext cx="2010960" cy="2666880"/>
            <a:chOff x="380880" y="838080"/>
            <a:chExt cx="2010960" cy="2666880"/>
          </a:xfrm>
        </p:grpSpPr>
        <p:grpSp>
          <p:nvGrpSpPr>
            <p:cNvPr id="143" name=""/>
            <p:cNvGrpSpPr/>
            <p:nvPr/>
          </p:nvGrpSpPr>
          <p:grpSpPr>
            <a:xfrm>
              <a:off x="380880" y="838080"/>
              <a:ext cx="2010960" cy="2666880"/>
              <a:chOff x="380880" y="838080"/>
              <a:chExt cx="2010960" cy="266688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006200" y="1565280"/>
                <a:ext cx="781200" cy="1332000"/>
                <a:chOff x="1006200" y="1565280"/>
                <a:chExt cx="781200" cy="13320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006200" y="1565280"/>
                  <a:ext cx="781200" cy="1332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80880" y="2219400"/>
                <a:ext cx="2010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08320" y="838080"/>
                <a:ext cx="1080" cy="266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648720" y="1466640"/>
                <a:ext cx="1452240" cy="15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714600" y="1466640"/>
                <a:ext cx="1454400" cy="15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043640" y="1297800"/>
              <a:ext cx="757440" cy="18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22360" y="1810800"/>
              <a:ext cx="1799640" cy="82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5920" y="1811160"/>
              <a:ext cx="1892880" cy="82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043640" y="1194120"/>
              <a:ext cx="757440" cy="20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12640" y="3018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8200" y="28134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2360" y="25549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44720" y="22464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44720" y="19414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72360" y="16657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08200" y="13896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12640" y="12056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9200" y="12056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1080" y="13896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9000" y="166572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3320" y="19414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3320" y="22176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9000" y="24933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1080" y="281340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9200" y="30182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62120" y="3591000"/>
            <a:ext cx="243828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hape(1) = 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shape(2) = f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shape(3) = f</a:t>
            </a:r>
            <a:r>
              <a:rPr b="0" lang="ja-JP" sz="1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shape(4) = f</a:t>
            </a:r>
            <a:r>
              <a:rPr b="0" lang="ja-JP" sz="16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shape(5) = f</a:t>
            </a:r>
            <a:r>
              <a:rPr b="0" lang="ja-JP" sz="16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(x) =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ja-JP" sz="16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shape(6) = f</a:t>
            </a:r>
            <a:r>
              <a:rPr b="0" lang="ja-JP" sz="1600" spc="-1" strike="noStrike" baseline="-25000">
                <a:solidFill>
                  <a:srgbClr val="00ff00"/>
                </a:solidFill>
                <a:latin typeface="Arial"/>
              </a:rPr>
              <a:t>6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(x) =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ja-JP" sz="1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shape(7) = f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(x) =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hape(8) = 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x) = f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-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74720" y="1295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22440" y="105084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7520" y="82224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ff00"/>
                </a:solidFill>
                <a:latin typeface="Times New Roman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3640" y="76212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79440" y="76212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ff"/>
                </a:solidFill>
                <a:latin typeface="Times New Roman"/>
              </a:rPr>
              <a:t>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5200" y="82224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ff00"/>
                </a:solidFill>
                <a:latin typeface="Times New Roman"/>
              </a:rPr>
              <a:t>(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69600" y="10666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Times New Roman"/>
              </a:rPr>
              <a:t>(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17320" y="12952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7617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1680" y="473040"/>
            <a:ext cx="85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rigger 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part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1295280"/>
            <a:ext cx="380880" cy="609840"/>
          </a:xfrm>
          <a:custGeom>
            <a:avLst/>
            <a:gdLst/>
            <a:ahLst/>
            <a:rect l="l" t="t" r="r" b="b"/>
            <a:pathLst>
              <a:path w="240" h="432">
                <a:moveTo>
                  <a:pt x="0" y="0"/>
                </a:moveTo>
                <a:cubicBezTo>
                  <a:pt x="52" y="36"/>
                  <a:pt x="104" y="72"/>
                  <a:pt x="144" y="144"/>
                </a:cubicBezTo>
                <a:cubicBezTo>
                  <a:pt x="184" y="216"/>
                  <a:pt x="212" y="324"/>
                  <a:pt x="240" y="432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914400"/>
            <a:ext cx="685800" cy="22860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432" y="112"/>
                </a:moveTo>
                <a:cubicBezTo>
                  <a:pt x="372" y="72"/>
                  <a:pt x="312" y="32"/>
                  <a:pt x="240" y="16"/>
                </a:cubicBezTo>
                <a:cubicBezTo>
                  <a:pt x="168" y="0"/>
                  <a:pt x="84" y="8"/>
                  <a:pt x="0" y="16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4177200">
            <a:off x="1958040" y="18072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Symbol"/>
                <a:ea typeface="Symbol"/>
              </a:rPr>
              <a:t></a:t>
            </a:r>
            <a:r>
              <a:rPr b="1" lang="en-US" sz="1400" spc="-1" strike="noStrike" baseline="-25000">
                <a:solidFill>
                  <a:srgbClr val="800080"/>
                </a:solidFill>
                <a:latin typeface="Arial"/>
              </a:rPr>
              <a:t>ASSO </a:t>
            </a:r>
            <a:r>
              <a:rPr b="1" lang="en-US" sz="1400" spc="-1" strike="noStrike">
                <a:solidFill>
                  <a:srgbClr val="800080"/>
                </a:solidFill>
                <a:latin typeface="Symbol"/>
                <a:ea typeface="Symbol"/>
              </a:rPr>
              <a:t></a:t>
            </a:r>
            <a:r>
              <a:rPr b="1" lang="en-US" sz="1400" spc="-1" strike="noStrike" baseline="-25000">
                <a:solidFill>
                  <a:srgbClr val="800080"/>
                </a:solidFill>
                <a:latin typeface="Arial"/>
              </a:rPr>
              <a:t>TRIG </a:t>
            </a:r>
            <a:r>
              <a:rPr b="1" lang="en-US" sz="1400" spc="-1" strike="noStrike">
                <a:solidFill>
                  <a:srgbClr val="800080"/>
                </a:solidFill>
                <a:latin typeface="Arial"/>
              </a:rPr>
              <a:t>)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1360" y="53352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Symbol"/>
                <a:ea typeface="Symbol"/>
              </a:rPr>
              <a:t></a:t>
            </a:r>
            <a:r>
              <a:rPr b="1" lang="en-US" sz="1400" spc="-1" strike="noStrike" baseline="-25000">
                <a:solidFill>
                  <a:srgbClr val="800080"/>
                </a:solidFill>
                <a:latin typeface="Arial"/>
              </a:rPr>
              <a:t>ASSO </a:t>
            </a:r>
            <a:r>
              <a:rPr b="1" lang="en-US" sz="1400" spc="-1" strike="noStrike">
                <a:solidFill>
                  <a:srgbClr val="800080"/>
                </a:solidFill>
                <a:latin typeface="Symbol"/>
                <a:ea typeface="Symbol"/>
              </a:rPr>
              <a:t></a:t>
            </a:r>
            <a:r>
              <a:rPr b="1" lang="en-US" sz="1400" spc="-1" strike="noStrike" baseline="-25000">
                <a:solidFill>
                  <a:srgbClr val="800080"/>
                </a:solidFill>
                <a:latin typeface="Arial"/>
              </a:rPr>
              <a:t>TRIG </a:t>
            </a:r>
            <a:r>
              <a:rPr b="1" lang="en-US" sz="1400" spc="-1" strike="noStrike">
                <a:solidFill>
                  <a:srgbClr val="800080"/>
                </a:solidFill>
                <a:latin typeface="Arial"/>
              </a:rPr>
              <a:t>) &g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152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74320" y="44038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22040" y="41590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17120" y="393048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ff00"/>
                </a:solidFill>
                <a:latin typeface="Times New Roman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63240" y="387036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429000" y="3200400"/>
            <a:ext cx="5029200" cy="3011400"/>
            <a:chOff x="3429000" y="3200400"/>
            <a:chExt cx="5029200" cy="3011400"/>
          </a:xfrm>
        </p:grpSpPr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3429000" y="3200400"/>
              <a:ext cx="502920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773120" y="387036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ff"/>
                  </a:solidFill>
                  <a:latin typeface="Times New Roman"/>
                </a:rPr>
                <a:t>(5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19240" y="39304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ff00"/>
                  </a:solidFill>
                  <a:latin typeface="Times New Roman"/>
                </a:rPr>
                <a:t>(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3640" y="41752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Times New Roman"/>
                </a:rPr>
                <a:t>(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11360" y="440388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(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267080" y="304812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6172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473000">
            <a:off x="700200" y="2494800"/>
            <a:ext cx="8136000" cy="183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Assume very strong R.P. dependence on jet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is will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 be a pure non-flow.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nce the assumed modification here always prefer in-plane emission than out-of-plane emission, which could be given by geometry or by elliptic expansion (azimuthal dependence of radial flow). This could also be a strong contribution to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depending on the relative yield and the magnitude of the shape modification. ZYAM level might also be different from left/right averaged 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A1E-0DCE-4230-823D-D94E2C6C452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2849400" cy="5333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895480" y="1143000"/>
            <a:ext cx="609840" cy="3657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285640" y="1143000"/>
            <a:ext cx="609480" cy="3657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8240" y="304920"/>
            <a:ext cx="13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put jet sha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5943600"/>
            <a:ext cx="6400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R.P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trigger angle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election w.r.t. R.P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re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gives the sign of 2nd order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R.P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7240" y="10666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464832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3716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343400" y="523800"/>
            <a:ext cx="2949480" cy="5343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66360" y="38088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jet + f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609480"/>
            <a:ext cx="190476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put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1) Jet shape (11x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2)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3)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4)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Jet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5)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PTY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h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6) 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(sof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7) 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(sof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8) 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Je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 (har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9) 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PTY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t    (har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utput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a)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inc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b)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inc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c) 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  (inc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d) 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e  (inc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e) hard/soft fr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true fra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zyam fra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05760" y="947880"/>
            <a:ext cx="1752480" cy="22096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96040" y="3886200"/>
            <a:ext cx="1828800" cy="16765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632448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640080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22360" y="1143000"/>
            <a:ext cx="177840" cy="83808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112" y="0"/>
                </a:moveTo>
                <a:cubicBezTo>
                  <a:pt x="72" y="4"/>
                  <a:pt x="32" y="8"/>
                  <a:pt x="16" y="48"/>
                </a:cubicBezTo>
                <a:cubicBezTo>
                  <a:pt x="0" y="88"/>
                  <a:pt x="16" y="176"/>
                  <a:pt x="16" y="240"/>
                </a:cubicBezTo>
                <a:cubicBezTo>
                  <a:pt x="16" y="304"/>
                  <a:pt x="0" y="392"/>
                  <a:pt x="16" y="432"/>
                </a:cubicBezTo>
                <a:cubicBezTo>
                  <a:pt x="32" y="472"/>
                  <a:pt x="72" y="476"/>
                  <a:pt x="112" y="48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22360" y="2089080"/>
            <a:ext cx="177840" cy="83844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112" y="0"/>
                </a:moveTo>
                <a:cubicBezTo>
                  <a:pt x="72" y="4"/>
                  <a:pt x="32" y="8"/>
                  <a:pt x="16" y="48"/>
                </a:cubicBezTo>
                <a:cubicBezTo>
                  <a:pt x="0" y="88"/>
                  <a:pt x="16" y="176"/>
                  <a:pt x="16" y="240"/>
                </a:cubicBezTo>
                <a:cubicBezTo>
                  <a:pt x="16" y="304"/>
                  <a:pt x="0" y="392"/>
                  <a:pt x="16" y="432"/>
                </a:cubicBezTo>
                <a:cubicBezTo>
                  <a:pt x="32" y="472"/>
                  <a:pt x="72" y="476"/>
                  <a:pt x="112" y="48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22360" y="3048120"/>
            <a:ext cx="177840" cy="83808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112" y="0"/>
                </a:moveTo>
                <a:cubicBezTo>
                  <a:pt x="72" y="4"/>
                  <a:pt x="32" y="8"/>
                  <a:pt x="16" y="48"/>
                </a:cubicBezTo>
                <a:cubicBezTo>
                  <a:pt x="0" y="88"/>
                  <a:pt x="16" y="176"/>
                  <a:pt x="16" y="240"/>
                </a:cubicBezTo>
                <a:cubicBezTo>
                  <a:pt x="16" y="304"/>
                  <a:pt x="0" y="392"/>
                  <a:pt x="16" y="432"/>
                </a:cubicBezTo>
                <a:cubicBezTo>
                  <a:pt x="32" y="472"/>
                  <a:pt x="72" y="476"/>
                  <a:pt x="112" y="48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22360" y="3994200"/>
            <a:ext cx="177840" cy="83808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112" y="0"/>
                </a:moveTo>
                <a:cubicBezTo>
                  <a:pt x="72" y="4"/>
                  <a:pt x="32" y="8"/>
                  <a:pt x="16" y="48"/>
                </a:cubicBezTo>
                <a:cubicBezTo>
                  <a:pt x="0" y="88"/>
                  <a:pt x="16" y="176"/>
                  <a:pt x="16" y="240"/>
                </a:cubicBezTo>
                <a:cubicBezTo>
                  <a:pt x="16" y="304"/>
                  <a:pt x="0" y="392"/>
                  <a:pt x="16" y="432"/>
                </a:cubicBezTo>
                <a:cubicBezTo>
                  <a:pt x="32" y="472"/>
                  <a:pt x="72" y="476"/>
                  <a:pt x="112" y="48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65D-7199-42CA-B5EC-79B35852AAF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16200000">
            <a:off x="-91440" y="138564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90720" y="912960"/>
            <a:ext cx="746424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44440" y="9889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98892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14156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1880" y="9889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77760" y="4437000"/>
            <a:ext cx="7469280" cy="1600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rot="16200000">
            <a:off x="-91440" y="494028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0200" y="38088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R.P. mixing (total flow + 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77240" y="402264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ed R.P. mixing (reduced flow + 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549440"/>
            <a:ext cx="4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en-US" sz="1600" spc="-1" strike="noStrike">
                <a:solidFill>
                  <a:srgbClr val="000000"/>
                </a:solidFill>
                <a:latin typeface="ヒラギノ角ゴ ProN W3"/>
              </a:rPr>
              <a:t>_x0003__x0016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8320" y="5226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en-US" sz="1600" spc="-1" strike="noStrike">
                <a:solidFill>
                  <a:srgbClr val="000000"/>
                </a:solidFill>
                <a:latin typeface="ヒラギノ角ゴ ProN W3"/>
              </a:rPr>
              <a:t>_x0003__x0016__x0003__x0016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8320" y="46926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895320"/>
            <a:ext cx="4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9436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43828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09480" y="2133720"/>
            <a:ext cx="2562120" cy="2513880"/>
            <a:chOff x="609480" y="2133720"/>
            <a:chExt cx="2562120" cy="2513880"/>
          </a:xfrm>
        </p:grpSpPr>
        <p:grpSp>
          <p:nvGrpSpPr>
            <p:cNvPr id="237" name=""/>
            <p:cNvGrpSpPr/>
            <p:nvPr/>
          </p:nvGrpSpPr>
          <p:grpSpPr>
            <a:xfrm>
              <a:off x="817560" y="2133720"/>
              <a:ext cx="1623960" cy="2513880"/>
              <a:chOff x="817560" y="2133720"/>
              <a:chExt cx="1623960" cy="251388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817560" y="2133720"/>
                <a:ext cx="1623960" cy="2513880"/>
                <a:chOff x="817560" y="2133720"/>
                <a:chExt cx="1623960" cy="251388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1322640" y="2819160"/>
                  <a:ext cx="630720" cy="1255680"/>
                  <a:chOff x="1322640" y="2819160"/>
                  <a:chExt cx="630720" cy="12556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1322640" y="28191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"/>
                <p:cNvSpPr/>
                <p:nvPr/>
              </p:nvSpPr>
              <p:spPr>
                <a:xfrm>
                  <a:off x="817560" y="34358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47360" y="21337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1033920" y="27262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>
                  <a:off x="1087200" y="27262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1352520" y="25668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931680" y="30510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94240" y="30510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352520" y="24696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51320" y="41889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89640" y="399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21040" y="3753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076840" y="3461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076840" y="3174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021040" y="291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89640" y="2653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51320" y="2480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68720" y="2480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65680" y="2653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24560" y="291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54720" y="3174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54720" y="3434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24560" y="3694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65680" y="399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68720" y="41889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09480" y="34340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46920" y="30873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413520" y="3251160"/>
            <a:ext cx="47390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-particle correlation : before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81952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289548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632448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640080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444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45720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47242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91880" y="4572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29F-FA6F-43F0-9736-09F7ED8E794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66960" y="933480"/>
            <a:ext cx="7491240" cy="1600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7491240" cy="1600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rot="16200000">
            <a:off x="-87480" y="14302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4440" y="1008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0080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116064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91880" y="1008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-89280" y="50889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88040" y="399960"/>
            <a:ext cx="52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R.P. mixing (total flow subtracted 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86960" y="4022640"/>
            <a:ext cx="56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ed R.P. mixing (reduced flow subtracted 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771560"/>
            <a:ext cx="4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1600" spc="-1" strike="noStrike">
                <a:solidFill>
                  <a:srgbClr val="000000"/>
                </a:solidFill>
                <a:latin typeface="ヒラギノ角ゴ ProN W3"/>
              </a:rPr>
              <a:t>_x0003__x0016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5257800"/>
            <a:ext cx="4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1600" spc="-1" strike="noStrike">
                <a:solidFill>
                  <a:srgbClr val="000000"/>
                </a:solidFill>
                <a:latin typeface="ヒラギノ角ゴ ProN W3"/>
              </a:rPr>
              <a:t>_x0003__x0016__x0003__x0016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648320"/>
            <a:ext cx="4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162080"/>
            <a:ext cx="4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59436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243828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09480" y="2133720"/>
            <a:ext cx="2562120" cy="2513880"/>
            <a:chOff x="609480" y="2133720"/>
            <a:chExt cx="2562120" cy="2513880"/>
          </a:xfrm>
        </p:grpSpPr>
        <p:grpSp>
          <p:nvGrpSpPr>
            <p:cNvPr id="294" name=""/>
            <p:cNvGrpSpPr/>
            <p:nvPr/>
          </p:nvGrpSpPr>
          <p:grpSpPr>
            <a:xfrm>
              <a:off x="817560" y="2133720"/>
              <a:ext cx="1623960" cy="2513880"/>
              <a:chOff x="817560" y="2133720"/>
              <a:chExt cx="1623960" cy="251388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817560" y="2133720"/>
                <a:ext cx="1623960" cy="2513880"/>
                <a:chOff x="817560" y="2133720"/>
                <a:chExt cx="1623960" cy="251388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1322640" y="2819160"/>
                  <a:ext cx="630720" cy="1255680"/>
                  <a:chOff x="1322640" y="2819160"/>
                  <a:chExt cx="630720" cy="12556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1322640" y="28191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8" name=""/>
                <p:cNvSpPr/>
                <p:nvPr/>
              </p:nvSpPr>
              <p:spPr>
                <a:xfrm>
                  <a:off x="817560" y="34358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47360" y="21337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033920" y="27262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>
                  <a:off x="1087200" y="27262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1352520" y="25668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931680" y="30510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94240" y="30510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352520" y="24696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51320" y="41889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889640" y="399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21040" y="3753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76840" y="3461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076840" y="3174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21040" y="291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89640" y="2653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51320" y="2480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68720" y="2480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ff66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65680" y="2653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024560" y="291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99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54720" y="31741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66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54720" y="34340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66ff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24560" y="3694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ccff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65680" y="399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cc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368720" y="41889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ff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09480" y="34340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46920" y="30873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430080" y="3251160"/>
            <a:ext cx="4525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-particle correlation : after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32448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640080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281952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289548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4444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24360" y="45720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47242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91880" y="4572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8E7-AA97-461A-BE72-D0E2CCAEF7E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04920" y="593640"/>
            <a:ext cx="8610480" cy="1863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04920" y="2479680"/>
            <a:ext cx="10820160" cy="1820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04920" y="4376880"/>
            <a:ext cx="10820160" cy="17953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940880" y="76320"/>
            <a:ext cx="11300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1522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between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15840" y="9144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400880" y="9144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10666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69720" y="2590920"/>
            <a:ext cx="32378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 R.P. resolutio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47440" y="4495680"/>
            <a:ext cx="40348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 R.P. resolutio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0.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87840" y="1252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-170280" y="30895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-140400" y="4963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609588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ASSO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26A-43CC-4915-8250-B0769C94943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athie-Riken workshop on Jet-Correlarion, 26/Feb/2009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5:05:09Z</dcterms:created>
  <dc:creator>Esumi ShinIchi</dc:creator>
  <dc:description/>
  <dc:language>en-US</dc:language>
  <cp:lastModifiedBy>Esumi ShinIchi</cp:lastModifiedBy>
  <cp:lastPrinted>2009-02-25T10:14:18Z</cp:lastPrinted>
  <dcterms:modified xsi:type="dcterms:W3CDTF">2009-02-26T04:34:33Z</dcterms:modified>
  <cp:revision>48</cp:revision>
  <dc:subject/>
  <dc:title>PowerPoint プレゼンテーション</dc:title>
</cp:coreProperties>
</file>