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4.pct" ContentType="image/x-pict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CB4-8617-4A5B-A1F2-0B94CC7D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08F-AA85-49A5-B46A-DB17DFC5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27A-C801-46D1-B8B4-FFE658DD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87-57FF-44A1-9C88-7161AD8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C60-3E65-4A76-A0F6-BEEB857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F71-5B0C-4397-94B0-D1CC17E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9D6-3F20-408C-A834-FC55252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4A5-E370-45DA-9005-9491A66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E89-7BA7-46C0-B25A-E1001D7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B85-D20D-4280-9777-1A317106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CBF-5179-4F20-B685-46B4789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2A6-E2EB-4FD4-9E67-B9E1565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3733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80C1-A28A-4963-BBF9-0C6B195A0F8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0.png"/><Relationship Id="rId6" Type="http://schemas.openxmlformats.org/officeDocument/2006/relationships/image" Target="../media/image80.png"/><Relationship Id="rId7" Type="http://schemas.openxmlformats.org/officeDocument/2006/relationships/image" Target="../media/image80.png"/><Relationship Id="rId8" Type="http://schemas.openxmlformats.org/officeDocument/2006/relationships/image" Target="../media/image80.png"/><Relationship Id="rId9" Type="http://schemas.openxmlformats.org/officeDocument/2006/relationships/image" Target="../media/image80.png"/><Relationship Id="rId10" Type="http://schemas.openxmlformats.org/officeDocument/2006/relationships/image" Target="../media/image80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280" y="762120"/>
            <a:ext cx="4421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- flow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960" y="1981080"/>
            <a:ext cx="468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st. of Physics, Univ.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44355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ydro,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nergy loss, re-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-hadron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h-cone lik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ction plan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ft-right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ward-backward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994-75F4-434B-BFC8-785FECE2B3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5257800" cy="554976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6324480" y="1905120"/>
            <a:ext cx="2562120" cy="2513880"/>
            <a:chOff x="6324480" y="1905120"/>
            <a:chExt cx="2562120" cy="2513880"/>
          </a:xfrm>
        </p:grpSpPr>
        <p:grpSp>
          <p:nvGrpSpPr>
            <p:cNvPr id="859" name=""/>
            <p:cNvGrpSpPr/>
            <p:nvPr/>
          </p:nvGrpSpPr>
          <p:grpSpPr>
            <a:xfrm>
              <a:off x="6532560" y="1905120"/>
              <a:ext cx="1623960" cy="2513880"/>
              <a:chOff x="6532560" y="1905120"/>
              <a:chExt cx="1623960" cy="251388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6532560" y="1905120"/>
                <a:ext cx="1623960" cy="2513880"/>
                <a:chOff x="6532560" y="1905120"/>
                <a:chExt cx="1623960" cy="2513880"/>
              </a:xfrm>
            </p:grpSpPr>
            <p:grpSp>
              <p:nvGrpSpPr>
                <p:cNvPr id="861" name=""/>
                <p:cNvGrpSpPr/>
                <p:nvPr/>
              </p:nvGrpSpPr>
              <p:grpSpPr>
                <a:xfrm>
                  <a:off x="7037640" y="2590560"/>
                  <a:ext cx="630720" cy="1255680"/>
                  <a:chOff x="7037640" y="2590560"/>
                  <a:chExt cx="630720" cy="125568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7037640" y="25905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>
                  <a:off x="6532560" y="32072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362360" y="19051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6748920" y="24976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6802200" y="24976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>
                <a:off x="7067520" y="23382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646680" y="28224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09240" y="28224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7067520" y="22410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3663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464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736040" y="3525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791840" y="323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79184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73604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464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3663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837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88068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3956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6972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69720" y="3205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739560" y="3465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8068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0837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6324480" y="32054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61920" y="2858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5486400" y="9144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88720" y="42069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20120" y="24400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20574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8120" y="17524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352680" y="53308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71800" y="617220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06440" y="4724280"/>
            <a:ext cx="1207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4876920" y="5028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2666520" y="5028840"/>
            <a:ext cx="3124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38880" y="2181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87800" y="3733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7772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00316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652760" y="914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466040" y="3289320"/>
            <a:ext cx="617400" cy="62244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6642000" y="25020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 rot="10800000">
            <a:off x="6634080" y="33084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467480" y="2502000"/>
            <a:ext cx="617760" cy="622080"/>
          </a:xfrm>
          <a:custGeom>
            <a:avLst/>
            <a:gdLst/>
            <a:ahLst/>
            <a:rect l="l" t="t" r="r" b="b"/>
            <a:pathLst>
              <a:path w="389" h="392">
                <a:moveTo>
                  <a:pt x="0" y="0"/>
                </a:moveTo>
                <a:lnTo>
                  <a:pt x="308" y="392"/>
                </a:lnTo>
                <a:lnTo>
                  <a:pt x="389" y="204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-657360" y="169884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66680" y="228600"/>
            <a:ext cx="381024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d-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034-A700-48B2-B550-00F38310F47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41600" cy="670572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3505320" y="38088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568600" y="609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594036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988160" y="114300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29560" y="452592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29560" y="56689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5943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6324480" y="1219320"/>
            <a:ext cx="2562120" cy="2513880"/>
            <a:chOff x="6324480" y="1219320"/>
            <a:chExt cx="2562120" cy="2513880"/>
          </a:xfrm>
        </p:grpSpPr>
        <p:grpSp>
          <p:nvGrpSpPr>
            <p:cNvPr id="919" name=""/>
            <p:cNvGrpSpPr/>
            <p:nvPr/>
          </p:nvGrpSpPr>
          <p:grpSpPr>
            <a:xfrm>
              <a:off x="6532560" y="1219320"/>
              <a:ext cx="1623960" cy="2513880"/>
              <a:chOff x="6532560" y="1219320"/>
              <a:chExt cx="1623960" cy="2513880"/>
            </a:xfrm>
          </p:grpSpPr>
          <p:grpSp>
            <p:nvGrpSpPr>
              <p:cNvPr id="920" name=""/>
              <p:cNvGrpSpPr/>
              <p:nvPr/>
            </p:nvGrpSpPr>
            <p:grpSpPr>
              <a:xfrm>
                <a:off x="6532560" y="1219320"/>
                <a:ext cx="1623960" cy="2513880"/>
                <a:chOff x="6532560" y="1219320"/>
                <a:chExt cx="1623960" cy="25138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7037640" y="1904760"/>
                  <a:ext cx="630720" cy="1255680"/>
                  <a:chOff x="7037640" y="1904760"/>
                  <a:chExt cx="630720" cy="12556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7037640" y="19047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"/>
                <p:cNvSpPr/>
                <p:nvPr/>
              </p:nvSpPr>
              <p:spPr>
                <a:xfrm>
                  <a:off x="6532560" y="25214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362360" y="12193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6748920" y="18118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>
                  <a:off x="6802200" y="18118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7067520" y="16524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646680" y="21366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09240" y="21366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067520" y="15552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366320" y="3274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4640" y="308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36040" y="2839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91840" y="2546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791840" y="2259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36040" y="200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4640" y="1739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66320" y="156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83720" y="156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80680" y="1739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739560" y="200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669720" y="2259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669720" y="251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739560" y="2779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80680" y="308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83720" y="3274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6324480" y="25196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61920" y="217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4952880" y="6324480"/>
            <a:ext cx="198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334120" y="1828800"/>
            <a:ext cx="8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88720" y="35211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867280" y="5486400"/>
            <a:ext cx="2563920" cy="641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rigger angle selected curves are shifted up by constant offsets, dashed average lines are overl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289400" y="1523880"/>
            <a:ext cx="1044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2438280" y="1523880"/>
            <a:ext cx="2895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20120" y="17542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68600" y="1752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568600" y="2895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68600" y="4038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505320" y="152388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527280" y="2743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527280" y="3886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86400" y="2286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rot="16200000">
            <a:off x="-308160" y="212760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1DD-90D5-44FC-8842-3558E87BE9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6973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600200" y="152280"/>
            <a:ext cx="6095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44040" y="6858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: 0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01720" y="6858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664320" y="68580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: 50-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54880" y="6400800"/>
            <a:ext cx="198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rot="16200000">
            <a:off x="3861000" y="3594960"/>
            <a:ext cx="44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verage     out-of-plane                                                  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058080" y="2254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236560" y="41148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247720" y="3276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247720" y="1295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44520" y="41148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855680" y="3276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55680" y="1295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236560" y="2286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844520" y="2286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46080" y="64008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442520" y="5867280"/>
            <a:ext cx="43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 dashed line is same as the bottom a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394200">
            <a:off x="3200400" y="1600200"/>
            <a:ext cx="5856120" cy="177156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A3A-6F26-43D3-9F68-A43300B4890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276440" cy="670572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124080" y="58672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76880" y="121932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600560" y="457200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752840" y="57913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486400" y="2286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1320" y="2743200"/>
            <a:ext cx="297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tting with 3 Gaussi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uss function : F(height, mean,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ea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 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= 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  ,      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340680" y="1294920"/>
            <a:ext cx="1912680" cy="1292040"/>
            <a:chOff x="6340680" y="1294920"/>
            <a:chExt cx="1912680" cy="1292040"/>
          </a:xfrm>
        </p:grpSpPr>
        <p:sp>
          <p:nvSpPr>
            <p:cNvPr id="991" name=""/>
            <p:cNvSpPr/>
            <p:nvPr/>
          </p:nvSpPr>
          <p:spPr>
            <a:xfrm>
              <a:off x="6348240" y="22856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05440" y="1294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00520" y="1676160"/>
              <a:ext cx="609840" cy="6094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881760" y="2057040"/>
              <a:ext cx="106668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567560" y="1523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6320" y="2057040"/>
              <a:ext cx="106704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40680" y="1630080"/>
              <a:ext cx="464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56000" y="1782360"/>
              <a:ext cx="541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61440" y="1782360"/>
              <a:ext cx="508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49200" y="2285640"/>
              <a:ext cx="1269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sso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Trig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(ra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724280" y="6400800"/>
            <a:ext cx="198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05320" y="30492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68600" y="53352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68600" y="167652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568600" y="281952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568600" y="4038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527280" y="14479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527280" y="266688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527280" y="3886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rot="16200000">
            <a:off x="-308160" y="195768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97920" y="66600"/>
            <a:ext cx="155700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itted data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 Gauss fu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662440" y="4316400"/>
            <a:ext cx="998640" cy="1609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345280" y="5121360"/>
            <a:ext cx="163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161040" y="426888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6161040" y="4552560"/>
            <a:ext cx="773280" cy="56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389560" y="5121360"/>
            <a:ext cx="771480" cy="56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5389200" y="4978080"/>
            <a:ext cx="771480" cy="14292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6025680" y="5121360"/>
            <a:ext cx="135000" cy="804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434280" y="4457880"/>
            <a:ext cx="576000" cy="6634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297400" y="4667400"/>
            <a:ext cx="1138320" cy="1352520"/>
          </a:xfrm>
          <a:custGeom>
            <a:avLst/>
            <a:gdLst/>
            <a:ahLst/>
            <a:rect l="l" t="t" r="r" b="b"/>
            <a:pathLst>
              <a:path w="717" h="852">
                <a:moveTo>
                  <a:pt x="271" y="0"/>
                </a:moveTo>
                <a:cubicBezTo>
                  <a:pt x="251" y="13"/>
                  <a:pt x="192" y="45"/>
                  <a:pt x="147" y="76"/>
                </a:cubicBezTo>
                <a:cubicBezTo>
                  <a:pt x="102" y="107"/>
                  <a:pt x="6" y="145"/>
                  <a:pt x="3" y="188"/>
                </a:cubicBezTo>
                <a:cubicBezTo>
                  <a:pt x="0" y="231"/>
                  <a:pt x="92" y="287"/>
                  <a:pt x="127" y="332"/>
                </a:cubicBezTo>
                <a:cubicBezTo>
                  <a:pt x="162" y="377"/>
                  <a:pt x="187" y="411"/>
                  <a:pt x="211" y="456"/>
                </a:cubicBezTo>
                <a:cubicBezTo>
                  <a:pt x="235" y="501"/>
                  <a:pt x="250" y="552"/>
                  <a:pt x="273" y="600"/>
                </a:cubicBezTo>
                <a:cubicBezTo>
                  <a:pt x="297" y="647"/>
                  <a:pt x="323" y="704"/>
                  <a:pt x="353" y="744"/>
                </a:cubicBezTo>
                <a:cubicBezTo>
                  <a:pt x="382" y="784"/>
                  <a:pt x="416" y="827"/>
                  <a:pt x="449" y="840"/>
                </a:cubicBezTo>
                <a:cubicBezTo>
                  <a:pt x="483" y="852"/>
                  <a:pt x="509" y="838"/>
                  <a:pt x="554" y="818"/>
                </a:cubicBezTo>
                <a:cubicBezTo>
                  <a:pt x="598" y="797"/>
                  <a:pt x="683" y="739"/>
                  <a:pt x="717" y="71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67560" y="4316400"/>
            <a:ext cx="998640" cy="1609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250040" y="512136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066160" y="426888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8085240" y="4228560"/>
            <a:ext cx="407880" cy="86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678440" y="5096520"/>
            <a:ext cx="406800" cy="867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7320960" y="5107680"/>
            <a:ext cx="746280" cy="2426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67240" y="5106240"/>
            <a:ext cx="265320" cy="77148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8077320" y="4156200"/>
            <a:ext cx="482400" cy="707760"/>
          </a:xfrm>
          <a:custGeom>
            <a:avLst/>
            <a:gdLst/>
            <a:ahLst/>
            <a:rect l="l" t="t" r="r" b="b"/>
            <a:pathLst>
              <a:path w="304" h="446">
                <a:moveTo>
                  <a:pt x="0" y="84"/>
                </a:moveTo>
                <a:cubicBezTo>
                  <a:pt x="19" y="83"/>
                  <a:pt x="77" y="84"/>
                  <a:pt x="112" y="77"/>
                </a:cubicBezTo>
                <a:cubicBezTo>
                  <a:pt x="147" y="70"/>
                  <a:pt x="182" y="54"/>
                  <a:pt x="211" y="42"/>
                </a:cubicBezTo>
                <a:cubicBezTo>
                  <a:pt x="240" y="30"/>
                  <a:pt x="275" y="0"/>
                  <a:pt x="288" y="7"/>
                </a:cubicBezTo>
                <a:cubicBezTo>
                  <a:pt x="301" y="14"/>
                  <a:pt x="289" y="50"/>
                  <a:pt x="288" y="86"/>
                </a:cubicBezTo>
                <a:cubicBezTo>
                  <a:pt x="287" y="122"/>
                  <a:pt x="284" y="185"/>
                  <a:pt x="284" y="226"/>
                </a:cubicBezTo>
                <a:cubicBezTo>
                  <a:pt x="284" y="267"/>
                  <a:pt x="285" y="293"/>
                  <a:pt x="288" y="330"/>
                </a:cubicBezTo>
                <a:cubicBezTo>
                  <a:pt x="291" y="367"/>
                  <a:pt x="301" y="422"/>
                  <a:pt x="304" y="4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315200" y="4927680"/>
            <a:ext cx="1225440" cy="1214280"/>
          </a:xfrm>
          <a:custGeom>
            <a:avLst/>
            <a:gdLst/>
            <a:ahLst/>
            <a:rect l="l" t="t" r="r" b="b"/>
            <a:pathLst>
              <a:path w="772" h="765">
                <a:moveTo>
                  <a:pt x="148" y="0"/>
                </a:moveTo>
                <a:cubicBezTo>
                  <a:pt x="138" y="21"/>
                  <a:pt x="107" y="83"/>
                  <a:pt x="84" y="128"/>
                </a:cubicBezTo>
                <a:cubicBezTo>
                  <a:pt x="61" y="173"/>
                  <a:pt x="0" y="230"/>
                  <a:pt x="8" y="268"/>
                </a:cubicBezTo>
                <a:cubicBezTo>
                  <a:pt x="16" y="306"/>
                  <a:pt x="93" y="322"/>
                  <a:pt x="132" y="356"/>
                </a:cubicBezTo>
                <a:cubicBezTo>
                  <a:pt x="171" y="390"/>
                  <a:pt x="196" y="425"/>
                  <a:pt x="240" y="472"/>
                </a:cubicBezTo>
                <a:cubicBezTo>
                  <a:pt x="284" y="519"/>
                  <a:pt x="343" y="594"/>
                  <a:pt x="396" y="636"/>
                </a:cubicBezTo>
                <a:cubicBezTo>
                  <a:pt x="449" y="678"/>
                  <a:pt x="504" y="707"/>
                  <a:pt x="556" y="724"/>
                </a:cubicBezTo>
                <a:cubicBezTo>
                  <a:pt x="608" y="741"/>
                  <a:pt x="674" y="765"/>
                  <a:pt x="708" y="740"/>
                </a:cubicBezTo>
                <a:cubicBezTo>
                  <a:pt x="742" y="715"/>
                  <a:pt x="749" y="649"/>
                  <a:pt x="760" y="576"/>
                </a:cubicBezTo>
                <a:cubicBezTo>
                  <a:pt x="771" y="503"/>
                  <a:pt x="770" y="361"/>
                  <a:pt x="772" y="304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978600" y="4368960"/>
            <a:ext cx="184320" cy="279360"/>
          </a:xfrm>
          <a:custGeom>
            <a:avLst/>
            <a:gdLst/>
            <a:ahLst/>
            <a:rect l="l" t="t" r="r" b="b"/>
            <a:pathLst>
              <a:path w="116" h="176">
                <a:moveTo>
                  <a:pt x="0" y="0"/>
                </a:moveTo>
                <a:cubicBezTo>
                  <a:pt x="19" y="29"/>
                  <a:pt x="92" y="139"/>
                  <a:pt x="11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416800" y="4013280"/>
            <a:ext cx="301680" cy="1839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190" y="116"/>
                </a:moveTo>
                <a:cubicBezTo>
                  <a:pt x="159" y="97"/>
                  <a:pt x="40" y="2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67440" y="4648320"/>
            <a:ext cx="471240" cy="679320"/>
          </a:xfrm>
          <a:custGeom>
            <a:avLst/>
            <a:gdLst/>
            <a:ahLst/>
            <a:rect l="l" t="t" r="r" b="b"/>
            <a:pathLst>
              <a:path w="297" h="428">
                <a:moveTo>
                  <a:pt x="297" y="0"/>
                </a:moveTo>
                <a:cubicBezTo>
                  <a:pt x="272" y="13"/>
                  <a:pt x="197" y="48"/>
                  <a:pt x="149" y="80"/>
                </a:cubicBezTo>
                <a:cubicBezTo>
                  <a:pt x="101" y="112"/>
                  <a:pt x="18" y="157"/>
                  <a:pt x="9" y="192"/>
                </a:cubicBezTo>
                <a:cubicBezTo>
                  <a:pt x="0" y="227"/>
                  <a:pt x="58" y="253"/>
                  <a:pt x="93" y="292"/>
                </a:cubicBezTo>
                <a:cubicBezTo>
                  <a:pt x="128" y="331"/>
                  <a:pt x="194" y="400"/>
                  <a:pt x="221" y="42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981920" y="5492880"/>
            <a:ext cx="617400" cy="798480"/>
          </a:xfrm>
          <a:custGeom>
            <a:avLst/>
            <a:gdLst/>
            <a:ahLst/>
            <a:rect l="l" t="t" r="r" b="b"/>
            <a:pathLst>
              <a:path w="389" h="503">
                <a:moveTo>
                  <a:pt x="0" y="344"/>
                </a:moveTo>
                <a:cubicBezTo>
                  <a:pt x="26" y="359"/>
                  <a:pt x="101" y="406"/>
                  <a:pt x="156" y="428"/>
                </a:cubicBezTo>
                <a:cubicBezTo>
                  <a:pt x="211" y="450"/>
                  <a:pt x="291" y="503"/>
                  <a:pt x="328" y="476"/>
                </a:cubicBezTo>
                <a:cubicBezTo>
                  <a:pt x="365" y="449"/>
                  <a:pt x="371" y="347"/>
                  <a:pt x="380" y="268"/>
                </a:cubicBezTo>
                <a:cubicBezTo>
                  <a:pt x="389" y="189"/>
                  <a:pt x="383" y="5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rot="21585000">
            <a:off x="5103720" y="4035600"/>
            <a:ext cx="2286000" cy="221112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rot="21585000">
            <a:off x="836640" y="374400"/>
            <a:ext cx="4343400" cy="2368440"/>
          </a:xfrm>
          <a:prstGeom prst="ellipse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rot="21585000">
            <a:off x="838080" y="2736360"/>
            <a:ext cx="4343400" cy="236880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rot="21585000">
            <a:off x="7237080" y="3882600"/>
            <a:ext cx="1825560" cy="259092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229880" y="6248520"/>
            <a:ext cx="18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significant com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systematic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792040" y="59738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8EF-6F2F-4B6C-A1C5-61E87B1EEB8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Macintosh HD:Users:esumi:run7:test3:temp2:movie3.mov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9E1-CF2F-4023-B72F-4EB82C29735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00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30320" y="1219320"/>
            <a:ext cx="2307960" cy="51814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2260440" cy="510552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2236680" cy="51055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4"/>
          <a:stretch/>
        </p:blipFill>
        <p:spPr>
          <a:xfrm>
            <a:off x="6748560" y="1295280"/>
            <a:ext cx="2243160" cy="502920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751680" y="19051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961360" y="18907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171040" y="18907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304760" y="18907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585720"/>
            <a:ext cx="5029200" cy="368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different jet shape assumptions for MC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9880" y="5378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ar- and awa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 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92360" y="53784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away-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821120" y="53784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near-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164360" y="53341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R.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4920" y="0"/>
            <a:ext cx="1828800" cy="182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28600" y="60480"/>
            <a:ext cx="1981080" cy="1693800"/>
            <a:chOff x="228600" y="60480"/>
            <a:chExt cx="1981080" cy="1693800"/>
          </a:xfrm>
        </p:grpSpPr>
        <p:grpSp>
          <p:nvGrpSpPr>
            <p:cNvPr id="1058" name=""/>
            <p:cNvGrpSpPr/>
            <p:nvPr/>
          </p:nvGrpSpPr>
          <p:grpSpPr>
            <a:xfrm>
              <a:off x="907920" y="374760"/>
              <a:ext cx="615960" cy="1073160"/>
              <a:chOff x="907920" y="374760"/>
              <a:chExt cx="615960" cy="1073160"/>
            </a:xfrm>
          </p:grpSpPr>
          <p:sp>
            <p:nvSpPr>
              <p:cNvPr id="1059" name=""/>
              <p:cNvSpPr/>
              <p:nvPr/>
            </p:nvSpPr>
            <p:spPr>
              <a:xfrm>
                <a:off x="907920" y="374760"/>
                <a:ext cx="615960" cy="10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219320" y="763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09480" y="30492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609120" y="30492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14400" y="7632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80880" y="60948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80880" y="60948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914040" y="7632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93040" y="1508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21640" y="1355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00920" y="11271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26200" y="8985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26200" y="6699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00920" y="4413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21640" y="212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93040" y="60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15120" y="60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6520" y="212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4240" y="4572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0920" y="6699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0920" y="8985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07240" y="11271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6520" y="13557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15120" y="15080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8600" y="9144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78A-8536-4C37-9B9E-183E5301FD9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184320" y="1295280"/>
            <a:ext cx="2253960" cy="510552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2324160" y="1295280"/>
            <a:ext cx="2311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3"/>
          <a:stretch/>
        </p:blipFill>
        <p:spPr>
          <a:xfrm>
            <a:off x="4556160" y="1295280"/>
            <a:ext cx="2301840" cy="51055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4"/>
          <a:stretch/>
        </p:blipFill>
        <p:spPr>
          <a:xfrm>
            <a:off x="6781680" y="1295280"/>
            <a:ext cx="2265480" cy="51055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751680" y="13921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961360" y="13780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171040" y="13780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04760" y="13780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144880" y="228600"/>
            <a:ext cx="2181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2,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13, 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Jet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0.2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PTY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0.15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6320" y="228600"/>
            <a:ext cx="2209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soft) =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(soft)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(hard) =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  (hard) = 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8088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590920" y="5486400"/>
            <a:ext cx="190476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80060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01028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95680" y="152280"/>
            <a:ext cx="3353040" cy="10674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ison with data would tell us that there should be near- and away-side modification in experimental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38080" y="1676520"/>
            <a:ext cx="77724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should also be a strong effect on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much stronger effect on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gives natural explanation to the trigger particle bias on the associat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62704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2480" y="2204640"/>
            <a:ext cx="5650200" cy="2835720"/>
            <a:chOff x="222480" y="2204640"/>
            <a:chExt cx="5650200" cy="2835720"/>
          </a:xfrm>
        </p:grpSpPr>
        <p:sp>
          <p:nvSpPr>
            <p:cNvPr id="1105" name=""/>
            <p:cNvSpPr/>
            <p:nvPr/>
          </p:nvSpPr>
          <p:spPr>
            <a:xfrm rot="21585000">
              <a:off x="228600" y="2209320"/>
              <a:ext cx="2209680" cy="2826000"/>
            </a:xfrm>
            <a:prstGeom prst="ellipse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3427200" y="2661480"/>
              <a:ext cx="2445480" cy="2374560"/>
              <a:chOff x="3427200" y="2661480"/>
              <a:chExt cx="2445480" cy="2374560"/>
            </a:xfrm>
          </p:grpSpPr>
          <p:sp>
            <p:nvSpPr>
              <p:cNvPr id="1107" name=""/>
              <p:cNvSpPr/>
              <p:nvPr/>
            </p:nvSpPr>
            <p:spPr>
              <a:xfrm rot="21585000">
                <a:off x="3432240" y="2666880"/>
                <a:ext cx="2435040" cy="2363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41800" y="3051000"/>
                <a:ext cx="998640" cy="160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24280" y="3855960"/>
                <a:ext cx="163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640040" y="3003480"/>
                <a:ext cx="0" cy="170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4640040" y="3287160"/>
                <a:ext cx="773280" cy="56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3868560" y="3855960"/>
                <a:ext cx="771480" cy="56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 flipV="1">
                <a:off x="3868200" y="3712680"/>
                <a:ext cx="771480" cy="142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4505400" y="3855960"/>
                <a:ext cx="134640" cy="804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913280" y="3192120"/>
                <a:ext cx="576360" cy="663840"/>
              </a:xfrm>
              <a:custGeom>
                <a:avLst/>
                <a:gdLst/>
                <a:ahLst/>
                <a:rect l="l" t="t" r="r" b="b"/>
                <a:pathLst>
                  <a:path w="609" h="672">
                    <a:moveTo>
                      <a:pt x="0" y="0"/>
                    </a:moveTo>
                    <a:cubicBezTo>
                      <a:pt x="35" y="18"/>
                      <a:pt x="134" y="98"/>
                      <a:pt x="211" y="111"/>
                    </a:cubicBezTo>
                    <a:cubicBezTo>
                      <a:pt x="288" y="124"/>
                      <a:pt x="400" y="84"/>
                      <a:pt x="464" y="76"/>
                    </a:cubicBezTo>
                    <a:cubicBezTo>
                      <a:pt x="528" y="68"/>
                      <a:pt x="585" y="46"/>
                      <a:pt x="597" y="62"/>
                    </a:cubicBezTo>
                    <a:cubicBezTo>
                      <a:pt x="609" y="78"/>
                      <a:pt x="569" y="128"/>
                      <a:pt x="534" y="174"/>
                    </a:cubicBezTo>
                    <a:cubicBezTo>
                      <a:pt x="499" y="220"/>
                      <a:pt x="425" y="285"/>
                      <a:pt x="384" y="336"/>
                    </a:cubicBezTo>
                    <a:cubicBezTo>
                      <a:pt x="343" y="387"/>
                      <a:pt x="312" y="424"/>
                      <a:pt x="288" y="480"/>
                    </a:cubicBezTo>
                    <a:cubicBezTo>
                      <a:pt x="264" y="536"/>
                      <a:pt x="252" y="604"/>
                      <a:pt x="240" y="672"/>
                    </a:cubicBezTo>
                  </a:path>
                </a:pathLst>
              </a:cu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76760" y="3402000"/>
                <a:ext cx="1137960" cy="1352520"/>
              </a:xfrm>
              <a:custGeom>
                <a:avLst/>
                <a:gdLst/>
                <a:ahLst/>
                <a:rect l="l" t="t" r="r" b="b"/>
                <a:pathLst>
                  <a:path w="717" h="852">
                    <a:moveTo>
                      <a:pt x="271" y="0"/>
                    </a:moveTo>
                    <a:cubicBezTo>
                      <a:pt x="251" y="13"/>
                      <a:pt x="192" y="45"/>
                      <a:pt x="147" y="76"/>
                    </a:cubicBezTo>
                    <a:cubicBezTo>
                      <a:pt x="102" y="107"/>
                      <a:pt x="6" y="145"/>
                      <a:pt x="3" y="188"/>
                    </a:cubicBezTo>
                    <a:cubicBezTo>
                      <a:pt x="0" y="231"/>
                      <a:pt x="92" y="287"/>
                      <a:pt x="127" y="332"/>
                    </a:cubicBezTo>
                    <a:cubicBezTo>
                      <a:pt x="162" y="377"/>
                      <a:pt x="187" y="411"/>
                      <a:pt x="211" y="456"/>
                    </a:cubicBezTo>
                    <a:cubicBezTo>
                      <a:pt x="235" y="501"/>
                      <a:pt x="250" y="552"/>
                      <a:pt x="273" y="600"/>
                    </a:cubicBezTo>
                    <a:cubicBezTo>
                      <a:pt x="297" y="647"/>
                      <a:pt x="323" y="704"/>
                      <a:pt x="353" y="744"/>
                    </a:cubicBezTo>
                    <a:cubicBezTo>
                      <a:pt x="382" y="784"/>
                      <a:pt x="416" y="827"/>
                      <a:pt x="449" y="840"/>
                    </a:cubicBezTo>
                    <a:cubicBezTo>
                      <a:pt x="483" y="852"/>
                      <a:pt x="509" y="838"/>
                      <a:pt x="554" y="818"/>
                    </a:cubicBezTo>
                    <a:cubicBezTo>
                      <a:pt x="598" y="797"/>
                      <a:pt x="683" y="739"/>
                      <a:pt x="717" y="718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57600" y="310356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116" h="176">
                    <a:moveTo>
                      <a:pt x="0" y="0"/>
                    </a:moveTo>
                    <a:cubicBezTo>
                      <a:pt x="19" y="29"/>
                      <a:pt x="92" y="139"/>
                      <a:pt x="116" y="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646440" y="3382920"/>
                <a:ext cx="471600" cy="679320"/>
              </a:xfrm>
              <a:custGeom>
                <a:avLst/>
                <a:gdLst/>
                <a:ahLst/>
                <a:rect l="l" t="t" r="r" b="b"/>
                <a:pathLst>
                  <a:path w="297" h="428">
                    <a:moveTo>
                      <a:pt x="297" y="0"/>
                    </a:moveTo>
                    <a:cubicBezTo>
                      <a:pt x="272" y="13"/>
                      <a:pt x="197" y="48"/>
                      <a:pt x="149" y="80"/>
                    </a:cubicBezTo>
                    <a:cubicBezTo>
                      <a:pt x="101" y="112"/>
                      <a:pt x="18" y="157"/>
                      <a:pt x="9" y="192"/>
                    </a:cubicBezTo>
                    <a:cubicBezTo>
                      <a:pt x="0" y="227"/>
                      <a:pt x="58" y="253"/>
                      <a:pt x="93" y="292"/>
                    </a:cubicBezTo>
                    <a:cubicBezTo>
                      <a:pt x="128" y="331"/>
                      <a:pt x="194" y="400"/>
                      <a:pt x="221" y="4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BAE-A8B5-4B74-B0A1-30BB041012A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001000" cy="42051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6480000" y="2971800"/>
            <a:ext cx="2664000" cy="312120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7162920" y="152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B. B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26A-83EB-4C5F-9420-41B5125A007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1032120" y="76320"/>
            <a:ext cx="3080520" cy="3411360"/>
            <a:chOff x="1032120" y="76320"/>
            <a:chExt cx="3080520" cy="3411360"/>
          </a:xfrm>
        </p:grpSpPr>
        <p:sp>
          <p:nvSpPr>
            <p:cNvPr id="1123" name="Oval 5"/>
            <p:cNvSpPr/>
            <p:nvPr/>
          </p:nvSpPr>
          <p:spPr>
            <a:xfrm>
              <a:off x="1676520" y="641160"/>
              <a:ext cx="1371600" cy="2666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9"/>
            <p:cNvSpPr/>
            <p:nvPr/>
          </p:nvSpPr>
          <p:spPr>
            <a:xfrm rot="1015200">
              <a:off x="2960280" y="717480"/>
              <a:ext cx="316080" cy="30456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0"/>
            <p:cNvSpPr/>
            <p:nvPr/>
          </p:nvSpPr>
          <p:spPr>
            <a:xfrm rot="6900600">
              <a:off x="2437200" y="3124080"/>
              <a:ext cx="312480" cy="31140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1"/>
            <p:cNvSpPr/>
            <p:nvPr/>
          </p:nvSpPr>
          <p:spPr>
            <a:xfrm rot="13588200">
              <a:off x="1410120" y="1976400"/>
              <a:ext cx="381960" cy="30168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Box 22"/>
            <p:cNvSpPr/>
            <p:nvPr/>
          </p:nvSpPr>
          <p:spPr>
            <a:xfrm rot="2980200">
              <a:off x="2733480" y="5209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ar p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Box 23"/>
            <p:cNvSpPr/>
            <p:nvPr/>
          </p:nvSpPr>
          <p:spPr>
            <a:xfrm>
              <a:off x="2769120" y="293976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Box 24"/>
            <p:cNvSpPr/>
            <p:nvPr/>
          </p:nvSpPr>
          <p:spPr>
            <a:xfrm rot="15789000">
              <a:off x="607680" y="17251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62320" y="488880"/>
              <a:ext cx="838080" cy="1447560"/>
            </a:xfrm>
            <a:custGeom>
              <a:avLst/>
              <a:gdLst/>
              <a:ahLst/>
              <a:rect l="l" t="t" r="r" b="b"/>
              <a:pathLst>
                <a:path w="480" h="866">
                  <a:moveTo>
                    <a:pt x="480" y="866"/>
                  </a:moveTo>
                  <a:cubicBezTo>
                    <a:pt x="472" y="730"/>
                    <a:pt x="460" y="590"/>
                    <a:pt x="432" y="482"/>
                  </a:cubicBezTo>
                  <a:cubicBezTo>
                    <a:pt x="404" y="374"/>
                    <a:pt x="363" y="290"/>
                    <a:pt x="315" y="216"/>
                  </a:cubicBezTo>
                  <a:cubicBezTo>
                    <a:pt x="267" y="142"/>
                    <a:pt x="195" y="72"/>
                    <a:pt x="143" y="36"/>
                  </a:cubicBezTo>
                  <a:cubicBezTo>
                    <a:pt x="91" y="0"/>
                    <a:pt x="30" y="9"/>
                    <a:pt x="0" y="2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23"/>
            <p:cNvSpPr/>
            <p:nvPr/>
          </p:nvSpPr>
          <p:spPr>
            <a:xfrm>
              <a:off x="3240360" y="173988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23"/>
            <p:cNvSpPr/>
            <p:nvPr/>
          </p:nvSpPr>
          <p:spPr>
            <a:xfrm>
              <a:off x="2021040" y="763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2362320" y="1098360"/>
              <a:ext cx="5331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362320" y="1936800"/>
              <a:ext cx="228600" cy="129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1828800" y="1936440"/>
              <a:ext cx="533520" cy="837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76160" y="1936800"/>
              <a:ext cx="685800" cy="151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5334120" y="1981080"/>
            <a:ext cx="2133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e: original jets are generated according to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34120" y="8380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multiplicities reduces with the path length because of absorpt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0373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140" name=""/>
          <p:cNvGrpSpPr/>
          <p:nvPr/>
        </p:nvGrpSpPr>
        <p:grpSpPr>
          <a:xfrm>
            <a:off x="301680" y="3505320"/>
            <a:ext cx="4194000" cy="2895480"/>
            <a:chOff x="301680" y="3505320"/>
            <a:chExt cx="4194000" cy="2895480"/>
          </a:xfrm>
        </p:grpSpPr>
        <p:pic>
          <p:nvPicPr>
            <p:cNvPr id="1141" name="" descr=""/>
            <p:cNvPicPr/>
            <p:nvPr/>
          </p:nvPicPr>
          <p:blipFill>
            <a:blip r:embed="rId2"/>
            <a:stretch/>
          </p:blipFill>
          <p:spPr>
            <a:xfrm>
              <a:off x="301680" y="3505320"/>
              <a:ext cx="4194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2791800" y="3642480"/>
              <a:ext cx="163836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0" lang="ja-JP" sz="1000" spc="-1" strike="noStrike" baseline="-25000">
                  <a:solidFill>
                    <a:srgbClr val="ff0000"/>
                  </a:solidFill>
                  <a:latin typeface="Arial"/>
                </a:rPr>
                <a:t>T </a:t>
              </a: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smearing included,  modified mach-cone by absorption according to E</a:t>
              </a:r>
              <a:r>
                <a:rPr b="0" lang="ja-JP" sz="1000" spc="-1" strike="noStrike" baseline="-25000">
                  <a:solidFill>
                    <a:srgbClr val="ff0000"/>
                  </a:solidFill>
                  <a:latin typeface="Arial"/>
                </a:rPr>
                <a:t>loss</a:t>
              </a:r>
              <a:r>
                <a:rPr b="0" lang="ja-JP" sz="1000" spc="-1" strike="noStrike">
                  <a:solidFill>
                    <a:srgbClr val="ff0000"/>
                  </a:solidFill>
                  <a:latin typeface="Arial"/>
                </a:rPr>
                <a:t>. The asymmetry is now flipp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102200" y="529200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84920" y="5017320"/>
              <a:ext cx="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89120" y="5663160"/>
              <a:ext cx="18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cone1              con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3124080" y="624852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28160" y="4495680"/>
            <a:ext cx="179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unch through jets includ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eared with R.P.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206680" y="120600"/>
            <a:ext cx="37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.Jia, R.Wei, S.Esumi, arXiv:0903.326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8D3-9113-4FFC-AEC5-F3C971984E5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4660920" y="1641600"/>
            <a:ext cx="3657600" cy="3311280"/>
          </a:xfrm>
          <a:prstGeom prst="rect">
            <a:avLst/>
          </a:prstGeom>
          <a:ln w="0">
            <a:noFill/>
          </a:ln>
        </p:spPr>
      </p:pic>
      <p:sp>
        <p:nvSpPr>
          <p:cNvPr id="1150" name=""/>
          <p:cNvSpPr/>
          <p:nvPr/>
        </p:nvSpPr>
        <p:spPr>
          <a:xfrm>
            <a:off x="793800" y="228600"/>
            <a:ext cx="7119360" cy="405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MP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v1.11, parton cascade with string melting v2.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u+Au at sqrt(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=200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16200000">
            <a:off x="-1371600" y="2936880"/>
            <a:ext cx="39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rue) reaction plane aligned correla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553080" y="3276720"/>
            <a:ext cx="83844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019920" y="1146240"/>
            <a:ext cx="182880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rend as seen in 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1676520"/>
            <a:ext cx="2286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876240" y="1641600"/>
            <a:ext cx="3657600" cy="331128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/>
          <p:cNvPicPr/>
          <p:nvPr/>
        </p:nvPicPr>
        <p:blipFill>
          <a:blip r:embed="rId3"/>
          <a:stretch/>
        </p:blipFill>
        <p:spPr>
          <a:xfrm>
            <a:off x="927000" y="5057640"/>
            <a:ext cx="3657600" cy="103824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4"/>
          <a:stretch/>
        </p:blipFill>
        <p:spPr>
          <a:xfrm>
            <a:off x="4699080" y="5029200"/>
            <a:ext cx="3657600" cy="103824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457200" y="5883120"/>
            <a:ext cx="214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ect R.P.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traction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733920" y="579132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trigger angle selected w.r.t. 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3809880"/>
            <a:ext cx="8380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3123720" y="3429000"/>
            <a:ext cx="2286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66880" y="3098880"/>
            <a:ext cx="1600200" cy="30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 is rever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818440" y="464832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~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3.5~7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209680" y="822240"/>
            <a:ext cx="1981080" cy="1693800"/>
            <a:chOff x="2209680" y="822240"/>
            <a:chExt cx="1981080" cy="1693800"/>
          </a:xfrm>
        </p:grpSpPr>
        <p:grpSp>
          <p:nvGrpSpPr>
            <p:cNvPr id="1165" name=""/>
            <p:cNvGrpSpPr/>
            <p:nvPr/>
          </p:nvGrpSpPr>
          <p:grpSpPr>
            <a:xfrm>
              <a:off x="2889000" y="1136520"/>
              <a:ext cx="615960" cy="1073160"/>
              <a:chOff x="2889000" y="1136520"/>
              <a:chExt cx="615960" cy="1073160"/>
            </a:xfrm>
          </p:grpSpPr>
          <p:sp>
            <p:nvSpPr>
              <p:cNvPr id="1166" name=""/>
              <p:cNvSpPr/>
              <p:nvPr/>
            </p:nvSpPr>
            <p:spPr>
              <a:xfrm>
                <a:off x="2889000" y="1136520"/>
                <a:ext cx="615960" cy="10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3200400" y="8380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2590560" y="106668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590200" y="106668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95480" y="83808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361960" y="137124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61960" y="1371240"/>
              <a:ext cx="1676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895120" y="838080"/>
              <a:ext cx="6094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74120" y="22698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02720" y="2117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82000" y="1888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07280" y="1660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07280" y="1431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82000" y="12031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02720" y="974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74120" y="822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896200" y="822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66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67600" y="974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15320" y="12189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12000" y="1431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66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12000" y="16603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66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88320" y="1888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ccff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67600" y="21175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ffcc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96200" y="22698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9680" y="16761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6547320" y="466416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4~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10.5~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62520" y="6172200"/>
            <a:ext cx="403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: 0.5~1.5GeV/c     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: 1.5~5.0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81F-7B48-4949-8D1C-5C95B88EDA4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92600" y="421560"/>
            <a:ext cx="4607280" cy="3957480"/>
            <a:chOff x="192600" y="421560"/>
            <a:chExt cx="4607280" cy="3957480"/>
          </a:xfrm>
        </p:grpSpPr>
        <p:sp>
          <p:nvSpPr>
            <p:cNvPr id="45" name=""/>
            <p:cNvSpPr/>
            <p:nvPr/>
          </p:nvSpPr>
          <p:spPr>
            <a:xfrm>
              <a:off x="3140280" y="3029760"/>
              <a:ext cx="1202400" cy="14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523320" y="421560"/>
              <a:ext cx="662760" cy="89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1267400">
              <a:off x="3757680" y="1285200"/>
              <a:ext cx="473400" cy="44172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30760" y="1501200"/>
              <a:ext cx="991440" cy="118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523880" y="1557000"/>
              <a:ext cx="975960" cy="1162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15200" y="1748160"/>
              <a:ext cx="2681640" cy="367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59960" y="3096360"/>
              <a:ext cx="1889280" cy="258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467400">
              <a:off x="347040" y="1558440"/>
              <a:ext cx="4300200" cy="2540520"/>
            </a:xfrm>
            <a:prstGeom prst="parallelogram">
              <a:avLst>
                <a:gd name="adj" fmla="val 62800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92600" y="3301920"/>
              <a:ext cx="418320" cy="502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672560" y="1605600"/>
              <a:ext cx="1206720" cy="1441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1268000">
              <a:off x="1578240" y="2904840"/>
              <a:ext cx="337680" cy="10180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323360" y="2886120"/>
              <a:ext cx="890280" cy="10576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67400">
              <a:off x="3592800" y="3087360"/>
              <a:ext cx="67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467400">
              <a:off x="3472200" y="5313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818080" y="1379880"/>
              <a:ext cx="1517040" cy="1593360"/>
              <a:chOff x="2818080" y="1379880"/>
              <a:chExt cx="1517040" cy="15933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818080" y="1379880"/>
                <a:ext cx="1517040" cy="1593360"/>
                <a:chOff x="2818080" y="1379880"/>
                <a:chExt cx="1517040" cy="1593360"/>
              </a:xfrm>
            </p:grpSpPr>
            <p:sp>
              <p:nvSpPr>
                <p:cNvPr id="61" name=""/>
                <p:cNvSpPr/>
                <p:nvPr/>
              </p:nvSpPr>
              <p:spPr>
                <a:xfrm rot="467400">
                  <a:off x="2940480" y="1463040"/>
                  <a:ext cx="1305360" cy="140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467400">
                  <a:off x="2940480" y="1461600"/>
                  <a:ext cx="1305360" cy="140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467400">
                  <a:off x="2869560" y="2028600"/>
                  <a:ext cx="1365480" cy="85608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467400">
                  <a:off x="2928600" y="2065680"/>
                  <a:ext cx="1302480" cy="36648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 rot="467400">
                <a:off x="2937960" y="1590480"/>
                <a:ext cx="335160" cy="101988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143440" y="1498680"/>
              <a:ext cx="1106640" cy="15120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06680" y="1827000"/>
              <a:ext cx="793080" cy="108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01360" y="1996200"/>
              <a:ext cx="1573200" cy="215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766960" y="2104920"/>
              <a:ext cx="519120" cy="621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95800" y="2243520"/>
              <a:ext cx="2684880" cy="367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330200" y="1649880"/>
              <a:ext cx="1915920" cy="2289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88080" y="2493720"/>
              <a:ext cx="2684160" cy="367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082240" y="2098080"/>
              <a:ext cx="693000" cy="1425240"/>
              <a:chOff x="2082240" y="2098080"/>
              <a:chExt cx="693000" cy="1425240"/>
            </a:xfrm>
          </p:grpSpPr>
          <p:sp>
            <p:nvSpPr>
              <p:cNvPr id="74" name=""/>
              <p:cNvSpPr/>
              <p:nvPr/>
            </p:nvSpPr>
            <p:spPr>
              <a:xfrm rot="100200">
                <a:off x="2102400" y="2108160"/>
                <a:ext cx="652320" cy="1400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00200">
                <a:off x="2092680" y="2778480"/>
                <a:ext cx="654120" cy="7354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0200">
                <a:off x="2101320" y="2781360"/>
                <a:ext cx="651240" cy="15696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00200">
                <a:off x="2102400" y="2107080"/>
                <a:ext cx="652320" cy="1400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flipH="1">
              <a:off x="2484720" y="2378880"/>
              <a:ext cx="1436760" cy="1721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104920" y="2423160"/>
              <a:ext cx="1354680" cy="162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25040" y="2934360"/>
              <a:ext cx="1235160" cy="169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703160" y="2915640"/>
              <a:ext cx="906840" cy="1086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994400" y="2881800"/>
              <a:ext cx="222120" cy="267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19280" y="2816280"/>
              <a:ext cx="626400" cy="856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3640" y="2578680"/>
              <a:ext cx="1501560" cy="1593000"/>
              <a:chOff x="503640" y="2578680"/>
              <a:chExt cx="1501560" cy="1593000"/>
            </a:xfrm>
          </p:grpSpPr>
          <p:sp>
            <p:nvSpPr>
              <p:cNvPr id="85" name=""/>
              <p:cNvSpPr/>
              <p:nvPr/>
            </p:nvSpPr>
            <p:spPr>
              <a:xfrm rot="467400">
                <a:off x="614520" y="2662200"/>
                <a:ext cx="1301760" cy="139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467400">
                <a:off x="611280" y="2660400"/>
                <a:ext cx="1301400" cy="1397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467400">
                <a:off x="554400" y="3238920"/>
                <a:ext cx="1348560" cy="84528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267400">
                <a:off x="1580400" y="2897280"/>
                <a:ext cx="335160" cy="1019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467400">
                <a:off x="1550160" y="2874240"/>
                <a:ext cx="151200" cy="103752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467400">
                <a:off x="595800" y="3358800"/>
                <a:ext cx="1047960" cy="25380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>
              <a:off x="1684800" y="2603160"/>
              <a:ext cx="361800" cy="430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59240" y="3099240"/>
              <a:ext cx="1663200" cy="227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467400">
              <a:off x="1455840" y="3732840"/>
              <a:ext cx="16851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5600" y="3362760"/>
              <a:ext cx="1756800" cy="240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322280" y="3133080"/>
              <a:ext cx="682560" cy="817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55080" y="3634920"/>
              <a:ext cx="225720" cy="26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4280" y="3524400"/>
              <a:ext cx="264960" cy="320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720" y="3804120"/>
              <a:ext cx="2625480" cy="35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467400">
              <a:off x="644400" y="3601440"/>
              <a:ext cx="473400" cy="44172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68960" y="2313000"/>
              <a:ext cx="1555560" cy="558720"/>
              <a:chOff x="1668960" y="2313000"/>
              <a:chExt cx="1555560" cy="55872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2532960" y="2473200"/>
                <a:ext cx="113040" cy="131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2704680" y="2424240"/>
                <a:ext cx="271080" cy="185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2794680" y="2694600"/>
                <a:ext cx="393480" cy="55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82080" y="2842560"/>
                <a:ext cx="442440" cy="29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1880280" y="2313000"/>
                <a:ext cx="369360" cy="228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1728000" y="2513520"/>
                <a:ext cx="412200" cy="165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1668960" y="2727720"/>
                <a:ext cx="378360" cy="58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2027520" y="2702160"/>
                <a:ext cx="268200" cy="68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2082600" y="2530080"/>
                <a:ext cx="230760" cy="108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338200" y="2464560"/>
                <a:ext cx="74520" cy="123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621520" y="2615760"/>
                <a:ext cx="173520" cy="39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92720" y="2759040"/>
                <a:ext cx="274320" cy="18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2267640" y="2664720"/>
                <a:ext cx="144720" cy="69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638000" y="2953800"/>
              <a:ext cx="1519560" cy="550440"/>
              <a:chOff x="1638000" y="2953800"/>
              <a:chExt cx="1519560" cy="55044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2169360" y="3155040"/>
                <a:ext cx="126360" cy="176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850400" y="3205080"/>
                <a:ext cx="272160" cy="186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38000" y="3066120"/>
                <a:ext cx="394200" cy="55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1753920" y="2953800"/>
                <a:ext cx="291960" cy="18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77240" y="3274560"/>
                <a:ext cx="369720" cy="229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6680" y="3137040"/>
                <a:ext cx="411840" cy="166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79920" y="3026520"/>
                <a:ext cx="377640" cy="58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32240" y="3044520"/>
                <a:ext cx="267480" cy="68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2800" y="3177000"/>
                <a:ext cx="231480" cy="109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15600" y="3227400"/>
                <a:ext cx="74520" cy="124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031480" y="3160080"/>
                <a:ext cx="173520" cy="39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961280" y="3036600"/>
                <a:ext cx="274320" cy="18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13800" y="3078720"/>
                <a:ext cx="144720" cy="70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55040" y="3486960"/>
              <a:ext cx="439560" cy="6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56840" y="2310120"/>
              <a:ext cx="326880" cy="44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44040" y="1800360"/>
              <a:ext cx="160200" cy="19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48280" y="3429000"/>
            <a:ext cx="4690800" cy="2978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29400" y="341316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hys. Rev. Lett. 99, 052301 (2007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57200"/>
            <a:ext cx="396216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3065400" cy="258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67280" y="609480"/>
            <a:ext cx="747720" cy="1981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680" y="9144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34640" y="45720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5000" y="228600"/>
            <a:ext cx="290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 flow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3440" y="4572000"/>
            <a:ext cx="3925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dro-model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ark degree of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uppression from energy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-distribution of the los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308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B41-6C6C-4CB5-A4DE-E3ACC2DBFC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152280" y="3452760"/>
            <a:ext cx="8453520" cy="310032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989640" y="375768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8116920" y="3938760"/>
            <a:ext cx="34128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12240" y="516996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025800" y="380988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06360" y="345924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036800" y="4830840"/>
            <a:ext cx="437328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dge+Mach con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idge+Mach cone (away side ridge) is a source of of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32160" y="4800600"/>
            <a:ext cx="202932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does not depends on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et reduces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0" y="160344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58640" y="12952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9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876920" y="152280"/>
            <a:ext cx="4114800" cy="946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idge/Mach-cone like correlated pairs have been known to show similar properties as bulk in terms of inverse slope (apparent temperature) and particle ratios (Baryon/Me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2280" y="165240"/>
            <a:ext cx="45720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th near/away shapes show a strong v2 (in-plane preference) as well as a strong left/right asymmetry (in-plane prefer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838080" y="3223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772400" y="32238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676520" y="1319040"/>
            <a:ext cx="7086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GeV Au+Au 20-60% 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3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1.5GeV/c,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gt;0.7,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511668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668340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25192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5720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98108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559320" y="2004840"/>
            <a:ext cx="0" cy="106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2440" y="6095880"/>
            <a:ext cx="3675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parallel aligning of several di-jet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R.P. because of almond geometry + E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loss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32C-0EFD-40C0-B331-7DC6CEC53DD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127080" y="762120"/>
            <a:ext cx="3606840" cy="281916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 rot="2700000">
            <a:off x="1141920" y="1391400"/>
            <a:ext cx="1895400" cy="351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 rot="2700000">
            <a:off x="1200240" y="4249080"/>
            <a:ext cx="18655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92360" y="6019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3"/>
          <a:srcRect l="0" t="64996" r="15320" b="0"/>
          <a:stretch/>
        </p:blipFill>
        <p:spPr>
          <a:xfrm>
            <a:off x="3276720" y="609480"/>
            <a:ext cx="2819160" cy="266724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4"/>
          <a:srcRect l="1920" t="68373" r="15320" b="0"/>
          <a:stretch/>
        </p:blipFill>
        <p:spPr>
          <a:xfrm>
            <a:off x="3352680" y="36576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4254120" y="309240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000" y="591192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5"/>
          <a:stretch/>
        </p:blipFill>
        <p:spPr>
          <a:xfrm>
            <a:off x="6172200" y="360360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7023240" y="552852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6"/>
          <a:srcRect l="0" t="0" r="0" b="93032"/>
          <a:stretch/>
        </p:blipFill>
        <p:spPr>
          <a:xfrm rot="16200000">
            <a:off x="5861880" y="4339080"/>
            <a:ext cx="495000" cy="2700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6762600" y="396216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e angle (rad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094520" y="5938560"/>
            <a:ext cx="12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5943600" y="76320"/>
            <a:ext cx="3162240" cy="2590200"/>
            <a:chOff x="5943600" y="76320"/>
            <a:chExt cx="3162240" cy="2590200"/>
          </a:xfrm>
        </p:grpSpPr>
        <p:sp>
          <p:nvSpPr>
            <p:cNvPr id="1231" name=""/>
            <p:cNvSpPr/>
            <p:nvPr/>
          </p:nvSpPr>
          <p:spPr>
            <a:xfrm>
              <a:off x="6172200" y="1218960"/>
              <a:ext cx="268596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553600" y="1218960"/>
              <a:ext cx="552240" cy="143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43600" y="1218960"/>
              <a:ext cx="554040" cy="1447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10600" y="380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7867800" y="45684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7867800" y="76320"/>
              <a:ext cx="6094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7867800" y="76320"/>
              <a:ext cx="1522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91280" y="141264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7775280" y="141264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796240" y="125532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57800" y="127440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7486560" y="68544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57960" y="110772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3560" y="1110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400960" y="1110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2680" y="18284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629560" y="18284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6546960" y="1371600"/>
            <a:ext cx="1834560" cy="1247760"/>
            <a:chOff x="6546960" y="1371600"/>
            <a:chExt cx="1834560" cy="1247760"/>
          </a:xfrm>
        </p:grpSpPr>
        <p:grpSp>
          <p:nvGrpSpPr>
            <p:cNvPr id="1249" name=""/>
            <p:cNvGrpSpPr/>
            <p:nvPr/>
          </p:nvGrpSpPr>
          <p:grpSpPr>
            <a:xfrm>
              <a:off x="6711480" y="1393560"/>
              <a:ext cx="837720" cy="1225440"/>
              <a:chOff x="6711480" y="1393560"/>
              <a:chExt cx="837720" cy="1225440"/>
            </a:xfrm>
          </p:grpSpPr>
          <p:sp>
            <p:nvSpPr>
              <p:cNvPr id="1250" name=""/>
              <p:cNvSpPr/>
              <p:nvPr/>
            </p:nvSpPr>
            <p:spPr>
              <a:xfrm>
                <a:off x="7319520" y="1956960"/>
                <a:ext cx="7776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6863400" y="1904760"/>
                <a:ext cx="43812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6711480" y="190476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7244280" y="1393560"/>
                <a:ext cx="3049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6546960" y="1371600"/>
              <a:ext cx="1834560" cy="1247760"/>
              <a:chOff x="6546960" y="1371600"/>
              <a:chExt cx="1834560" cy="1247760"/>
            </a:xfrm>
          </p:grpSpPr>
          <p:sp>
            <p:nvSpPr>
              <p:cNvPr id="1255" name=""/>
              <p:cNvSpPr/>
              <p:nvPr/>
            </p:nvSpPr>
            <p:spPr>
              <a:xfrm>
                <a:off x="7467480" y="1554120"/>
                <a:ext cx="596520" cy="289080"/>
              </a:xfrm>
              <a:custGeom>
                <a:avLst/>
                <a:gdLst/>
                <a:ahLst/>
                <a:rect l="l" t="t" r="r" b="b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78560" y="1731960"/>
                <a:ext cx="888480" cy="385920"/>
              </a:xfrm>
              <a:custGeom>
                <a:avLst/>
                <a:gdLst/>
                <a:ahLst/>
                <a:rect l="l" t="t" r="r" b="b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105320" y="1995480"/>
                <a:ext cx="1187280" cy="519120"/>
              </a:xfrm>
              <a:custGeom>
                <a:avLst/>
                <a:gdLst/>
                <a:ahLst/>
                <a:rect l="l" t="t" r="r" b="b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80080" y="2216160"/>
                <a:ext cx="901440" cy="403200"/>
              </a:xfrm>
              <a:custGeom>
                <a:avLst/>
                <a:gdLst/>
                <a:ahLst/>
                <a:rect l="l" t="t" r="r" b="b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997320" y="137160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75200" y="1511280"/>
                <a:ext cx="29808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1600200"/>
                <a:ext cx="37440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2" name=""/>
          <p:cNvSpPr/>
          <p:nvPr/>
        </p:nvSpPr>
        <p:spPr>
          <a:xfrm>
            <a:off x="2590920" y="822240"/>
            <a:ext cx="144756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361600" y="3581280"/>
            <a:ext cx="192888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0-12%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52280"/>
            <a:ext cx="510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-particle correlation “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6320" y="76320"/>
            <a:ext cx="6019200" cy="3504960"/>
            <a:chOff x="76320" y="76320"/>
            <a:chExt cx="6019200" cy="3504960"/>
          </a:xfrm>
        </p:grpSpPr>
        <p:sp>
          <p:nvSpPr>
            <p:cNvPr id="1266" name=""/>
            <p:cNvSpPr/>
            <p:nvPr/>
          </p:nvSpPr>
          <p:spPr>
            <a:xfrm>
              <a:off x="76320" y="76320"/>
              <a:ext cx="6010200" cy="3504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7" name="" descr=""/>
            <p:cNvPicPr/>
            <p:nvPr/>
          </p:nvPicPr>
          <p:blipFill>
            <a:blip r:embed="rId7"/>
            <a:srcRect l="0" t="52995" r="0" b="0"/>
            <a:stretch/>
          </p:blipFill>
          <p:spPr>
            <a:xfrm>
              <a:off x="423720" y="76320"/>
              <a:ext cx="5662440" cy="34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6320" y="1589040"/>
              <a:ext cx="847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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89200" y="474840"/>
              <a:ext cx="853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155600" y="3276720"/>
              <a:ext cx="1463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8000" y="309240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2" name="" descr=""/>
            <p:cNvPicPr/>
            <p:nvPr/>
          </p:nvPicPr>
          <p:blipFill>
            <a:blip r:embed="rId8"/>
            <a:srcRect l="6469" t="34194" r="6178" b="2406"/>
            <a:stretch/>
          </p:blipFill>
          <p:spPr>
            <a:xfrm>
              <a:off x="3620880" y="1066680"/>
              <a:ext cx="24746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3" name=""/>
            <p:cNvSpPr/>
            <p:nvPr/>
          </p:nvSpPr>
          <p:spPr>
            <a:xfrm>
              <a:off x="76320" y="76320"/>
              <a:ext cx="6010200" cy="35049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84640" y="3048120"/>
              <a:ext cx="149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3200" y="216360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Cone like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193640" y="182880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ＭＳ ゴシック"/>
                </a:rPr>
                <a:t>Deflected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679440" y="4267080"/>
            <a:ext cx="207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No p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 dependence,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285600" y="2895480"/>
            <a:ext cx="232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oth measurements pre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ch-cone scen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F91-6F9B-45FC-A377-878AEBBBE91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 rot="5400000">
            <a:off x="7313760" y="2532600"/>
            <a:ext cx="517680" cy="513000"/>
          </a:xfrm>
          <a:custGeom>
            <a:avLst/>
            <a:gdLst/>
            <a:ahLst/>
            <a:rect l="l" t="t" r="r" b="b"/>
            <a:pathLst>
              <a:path w="326" h="323">
                <a:moveTo>
                  <a:pt x="65" y="323"/>
                </a:moveTo>
                <a:cubicBezTo>
                  <a:pt x="57" y="294"/>
                  <a:pt x="21" y="198"/>
                  <a:pt x="14" y="147"/>
                </a:cubicBezTo>
                <a:cubicBezTo>
                  <a:pt x="7" y="96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316160" y="1704960"/>
            <a:ext cx="517320" cy="487440"/>
          </a:xfrm>
          <a:custGeom>
            <a:avLst/>
            <a:gdLst/>
            <a:ahLst/>
            <a:rect l="l" t="t" r="r" b="b"/>
            <a:pathLst>
              <a:path w="326" h="307">
                <a:moveTo>
                  <a:pt x="56" y="307"/>
                </a:moveTo>
                <a:cubicBezTo>
                  <a:pt x="49" y="280"/>
                  <a:pt x="19" y="195"/>
                  <a:pt x="14" y="147"/>
                </a:cubicBezTo>
                <a:cubicBezTo>
                  <a:pt x="9" y="99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077840" y="1873080"/>
            <a:ext cx="517680" cy="513000"/>
          </a:xfrm>
          <a:custGeom>
            <a:avLst/>
            <a:gdLst/>
            <a:ahLst/>
            <a:rect l="l" t="t" r="r" b="b"/>
            <a:pathLst>
              <a:path w="326" h="323">
                <a:moveTo>
                  <a:pt x="65" y="323"/>
                </a:moveTo>
                <a:cubicBezTo>
                  <a:pt x="57" y="294"/>
                  <a:pt x="21" y="198"/>
                  <a:pt x="14" y="147"/>
                </a:cubicBezTo>
                <a:cubicBezTo>
                  <a:pt x="7" y="96"/>
                  <a:pt x="0" y="38"/>
                  <a:pt x="24" y="19"/>
                </a:cubicBezTo>
                <a:cubicBezTo>
                  <a:pt x="48" y="0"/>
                  <a:pt x="105" y="16"/>
                  <a:pt x="155" y="35"/>
                </a:cubicBezTo>
                <a:cubicBezTo>
                  <a:pt x="205" y="54"/>
                  <a:pt x="291" y="115"/>
                  <a:pt x="326" y="1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6451560" y="2563200"/>
            <a:ext cx="870120" cy="876600"/>
            <a:chOff x="6451560" y="2563200"/>
            <a:chExt cx="870120" cy="876600"/>
          </a:xfrm>
        </p:grpSpPr>
        <p:sp>
          <p:nvSpPr>
            <p:cNvPr id="1283" name=""/>
            <p:cNvSpPr/>
            <p:nvPr/>
          </p:nvSpPr>
          <p:spPr>
            <a:xfrm rot="13489800">
              <a:off x="6603120" y="2700360"/>
              <a:ext cx="5270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2721600">
              <a:off x="6821280" y="2729160"/>
              <a:ext cx="52704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6556680" y="2737440"/>
            <a:ext cx="859680" cy="773640"/>
            <a:chOff x="6556680" y="2737440"/>
            <a:chExt cx="859680" cy="773640"/>
          </a:xfrm>
        </p:grpSpPr>
        <p:sp>
          <p:nvSpPr>
            <p:cNvPr id="1286" name=""/>
            <p:cNvSpPr/>
            <p:nvPr/>
          </p:nvSpPr>
          <p:spPr>
            <a:xfrm rot="14740200">
              <a:off x="6696720" y="2813760"/>
              <a:ext cx="5266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3972000">
              <a:off x="6980040" y="2935080"/>
              <a:ext cx="52668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 rot="5400000">
            <a:off x="2361960" y="3429000"/>
            <a:ext cx="990360" cy="1143000"/>
          </a:xfrm>
          <a:prstGeom prst="can">
            <a:avLst>
              <a:gd name="adj" fmla="val 34578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66880" y="3505320"/>
            <a:ext cx="38124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447920" y="4000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 flipV="1">
            <a:off x="1371600" y="1981080"/>
            <a:ext cx="147312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2093760" y="2423160"/>
            <a:ext cx="703080" cy="863280"/>
            <a:chOff x="2093760" y="2423160"/>
            <a:chExt cx="703080" cy="863280"/>
          </a:xfrm>
        </p:grpSpPr>
        <p:sp>
          <p:nvSpPr>
            <p:cNvPr id="1293" name=""/>
            <p:cNvSpPr/>
            <p:nvPr/>
          </p:nvSpPr>
          <p:spPr>
            <a:xfrm rot="9526800">
              <a:off x="2230920" y="25408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20392200">
              <a:off x="2106000" y="249696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flipH="1" flipV="1">
            <a:off x="2133360" y="1981080"/>
            <a:ext cx="72396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2653920" y="2197080"/>
            <a:ext cx="463320" cy="758880"/>
            <a:chOff x="2653920" y="2197080"/>
            <a:chExt cx="463320" cy="758880"/>
          </a:xfrm>
        </p:grpSpPr>
        <p:sp>
          <p:nvSpPr>
            <p:cNvPr id="1297" name=""/>
            <p:cNvSpPr/>
            <p:nvPr/>
          </p:nvSpPr>
          <p:spPr>
            <a:xfrm rot="10806000">
              <a:off x="2659320" y="226980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70200">
              <a:off x="2655360" y="220140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"/>
          <p:cNvSpPr/>
          <p:nvPr/>
        </p:nvSpPr>
        <p:spPr>
          <a:xfrm flipV="1">
            <a:off x="287028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1352160" y="2255760"/>
            <a:ext cx="870840" cy="839880"/>
            <a:chOff x="1352160" y="2255760"/>
            <a:chExt cx="870840" cy="839880"/>
          </a:xfrm>
        </p:grpSpPr>
        <p:sp>
          <p:nvSpPr>
            <p:cNvPr id="1301" name=""/>
            <p:cNvSpPr/>
            <p:nvPr/>
          </p:nvSpPr>
          <p:spPr>
            <a:xfrm rot="7924200">
              <a:off x="1586520" y="235296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18789000">
              <a:off x="1335240" y="239832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548000" y="2144520"/>
            <a:ext cx="734040" cy="870480"/>
            <a:chOff x="1548000" y="2144520"/>
            <a:chExt cx="734040" cy="870480"/>
          </a:xfrm>
        </p:grpSpPr>
        <p:sp>
          <p:nvSpPr>
            <p:cNvPr id="1304" name=""/>
            <p:cNvSpPr/>
            <p:nvPr/>
          </p:nvSpPr>
          <p:spPr>
            <a:xfrm rot="9323400">
              <a:off x="1702800" y="226476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20188200">
              <a:off x="1559160" y="222912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 flipV="1">
            <a:off x="1574640" y="1942920"/>
            <a:ext cx="381240" cy="228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143000" y="2209320"/>
            <a:ext cx="380880" cy="30492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990720" y="19051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9092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562720" y="2743200"/>
            <a:ext cx="1066680" cy="18288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879880" y="1879560"/>
            <a:ext cx="463320" cy="758880"/>
            <a:chOff x="5879880" y="1879560"/>
            <a:chExt cx="463320" cy="758880"/>
          </a:xfrm>
        </p:grpSpPr>
        <p:sp>
          <p:nvSpPr>
            <p:cNvPr id="1312" name=""/>
            <p:cNvSpPr/>
            <p:nvPr/>
          </p:nvSpPr>
          <p:spPr>
            <a:xfrm rot="10806000">
              <a:off x="5885280" y="19522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70200">
              <a:off x="5881320" y="188388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 flipV="1">
            <a:off x="6095880" y="16761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425640" y="1800360"/>
            <a:ext cx="751320" cy="885240"/>
            <a:chOff x="6425640" y="1800360"/>
            <a:chExt cx="751320" cy="885240"/>
          </a:xfrm>
        </p:grpSpPr>
        <p:sp>
          <p:nvSpPr>
            <p:cNvPr id="1316" name=""/>
            <p:cNvSpPr/>
            <p:nvPr/>
          </p:nvSpPr>
          <p:spPr>
            <a:xfrm rot="12468000">
              <a:off x="6558840" y="19324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1732800">
              <a:off x="6711120" y="190116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"/>
          <p:cNvSpPr/>
          <p:nvPr/>
        </p:nvSpPr>
        <p:spPr>
          <a:xfrm flipV="1">
            <a:off x="6095880" y="190512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1411200" y="2154960"/>
            <a:ext cx="821160" cy="872640"/>
            <a:chOff x="1411200" y="2154960"/>
            <a:chExt cx="821160" cy="872640"/>
          </a:xfrm>
        </p:grpSpPr>
        <p:sp>
          <p:nvSpPr>
            <p:cNvPr id="1320" name=""/>
            <p:cNvSpPr/>
            <p:nvPr/>
          </p:nvSpPr>
          <p:spPr>
            <a:xfrm rot="8605800">
              <a:off x="1615680" y="2272680"/>
              <a:ext cx="457200" cy="68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9470600">
              <a:off x="1413000" y="2273040"/>
              <a:ext cx="45720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"/>
          <p:cNvSpPr/>
          <p:nvPr/>
        </p:nvSpPr>
        <p:spPr>
          <a:xfrm flipV="1">
            <a:off x="2870280" y="1981080"/>
            <a:ext cx="72396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870280" y="1981080"/>
            <a:ext cx="147312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781360" y="3911760"/>
            <a:ext cx="15228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344480" y="379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6910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94468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6523920" y="2610000"/>
            <a:ext cx="879480" cy="844200"/>
            <a:chOff x="6523920" y="2610000"/>
            <a:chExt cx="879480" cy="844200"/>
          </a:xfrm>
        </p:grpSpPr>
        <p:sp>
          <p:nvSpPr>
            <p:cNvPr id="1329" name=""/>
            <p:cNvSpPr/>
            <p:nvPr/>
          </p:nvSpPr>
          <p:spPr>
            <a:xfrm rot="14053200">
              <a:off x="6676920" y="2727000"/>
              <a:ext cx="5270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3284400">
              <a:off x="6928560" y="2794320"/>
              <a:ext cx="527040" cy="14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 rot="16092000">
            <a:off x="6748200" y="3330360"/>
            <a:ext cx="52704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rot="5356800">
            <a:off x="7047720" y="3575880"/>
            <a:ext cx="52704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095880" y="25905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09588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 flipV="1">
            <a:off x="7340400" y="2781360"/>
            <a:ext cx="228600" cy="3808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010280" y="243828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095880" y="36576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095880" y="365760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204920" y="1784520"/>
            <a:ext cx="504720" cy="487080"/>
          </a:xfrm>
          <a:custGeom>
            <a:avLst/>
            <a:gdLst/>
            <a:ahLst/>
            <a:rect l="l" t="t" r="r" b="b"/>
            <a:pathLst>
              <a:path w="318" h="307">
                <a:moveTo>
                  <a:pt x="64" y="307"/>
                </a:moveTo>
                <a:cubicBezTo>
                  <a:pt x="55" y="279"/>
                  <a:pt x="21" y="184"/>
                  <a:pt x="14" y="136"/>
                </a:cubicBezTo>
                <a:cubicBezTo>
                  <a:pt x="7" y="88"/>
                  <a:pt x="0" y="34"/>
                  <a:pt x="22" y="17"/>
                </a:cubicBezTo>
                <a:cubicBezTo>
                  <a:pt x="44" y="0"/>
                  <a:pt x="99" y="16"/>
                  <a:pt x="148" y="36"/>
                </a:cubicBezTo>
                <a:cubicBezTo>
                  <a:pt x="197" y="56"/>
                  <a:pt x="283" y="116"/>
                  <a:pt x="318" y="1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167600" y="2309760"/>
            <a:ext cx="515880" cy="507960"/>
          </a:xfrm>
          <a:custGeom>
            <a:avLst/>
            <a:gdLst/>
            <a:ahLst/>
            <a:rect l="l" t="t" r="r" b="b"/>
            <a:pathLst>
              <a:path w="325" h="320">
                <a:moveTo>
                  <a:pt x="0" y="76"/>
                </a:moveTo>
                <a:cubicBezTo>
                  <a:pt x="29" y="66"/>
                  <a:pt x="125" y="26"/>
                  <a:pt x="176" y="17"/>
                </a:cubicBezTo>
                <a:cubicBezTo>
                  <a:pt x="227" y="8"/>
                  <a:pt x="287" y="0"/>
                  <a:pt x="306" y="22"/>
                </a:cubicBezTo>
                <a:cubicBezTo>
                  <a:pt x="325" y="44"/>
                  <a:pt x="306" y="100"/>
                  <a:pt x="288" y="150"/>
                </a:cubicBezTo>
                <a:cubicBezTo>
                  <a:pt x="270" y="200"/>
                  <a:pt x="216" y="285"/>
                  <a:pt x="197" y="3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264440" y="2436840"/>
            <a:ext cx="504720" cy="471600"/>
          </a:xfrm>
          <a:custGeom>
            <a:avLst/>
            <a:gdLst/>
            <a:ahLst/>
            <a:rect l="l" t="t" r="r" b="b"/>
            <a:pathLst>
              <a:path w="318" h="297">
                <a:moveTo>
                  <a:pt x="0" y="70"/>
                </a:moveTo>
                <a:cubicBezTo>
                  <a:pt x="29" y="61"/>
                  <a:pt x="128" y="25"/>
                  <a:pt x="178" y="17"/>
                </a:cubicBezTo>
                <a:cubicBezTo>
                  <a:pt x="228" y="9"/>
                  <a:pt x="288" y="0"/>
                  <a:pt x="303" y="22"/>
                </a:cubicBezTo>
                <a:cubicBezTo>
                  <a:pt x="318" y="44"/>
                  <a:pt x="292" y="102"/>
                  <a:pt x="269" y="148"/>
                </a:cubicBezTo>
                <a:cubicBezTo>
                  <a:pt x="246" y="194"/>
                  <a:pt x="188" y="266"/>
                  <a:pt x="167" y="2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661720" y="609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right 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085040" y="60948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-backward 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34A-40C5-4087-8FEF-C3EFE551A0A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3429000" cy="325764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1211400" y="2666880"/>
            <a:ext cx="1981080" cy="320040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543600" y="2226960"/>
            <a:ext cx="2837520" cy="1628280"/>
            <a:chOff x="543600" y="2226960"/>
            <a:chExt cx="2837520" cy="1628280"/>
          </a:xfrm>
        </p:grpSpPr>
        <p:grpSp>
          <p:nvGrpSpPr>
            <p:cNvPr id="1348" name=""/>
            <p:cNvGrpSpPr/>
            <p:nvPr/>
          </p:nvGrpSpPr>
          <p:grpSpPr>
            <a:xfrm>
              <a:off x="1849680" y="2283480"/>
              <a:ext cx="1447920" cy="882720"/>
              <a:chOff x="1849680" y="2283480"/>
              <a:chExt cx="1447920" cy="88272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1849680" y="2984760"/>
                <a:ext cx="224640" cy="181440"/>
                <a:chOff x="1849680" y="2984760"/>
                <a:chExt cx="224640" cy="181440"/>
              </a:xfrm>
            </p:grpSpPr>
            <p:grpSp>
              <p:nvGrpSpPr>
                <p:cNvPr id="1350" name=""/>
                <p:cNvGrpSpPr/>
                <p:nvPr/>
              </p:nvGrpSpPr>
              <p:grpSpPr>
                <a:xfrm>
                  <a:off x="1849680" y="3039120"/>
                  <a:ext cx="139320" cy="127080"/>
                  <a:chOff x="1849680" y="3039120"/>
                  <a:chExt cx="139320" cy="12708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rot="19850400">
                    <a:off x="1863000" y="3062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 rot="19850400">
                    <a:off x="1869120" y="3059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"/>
                <p:cNvGrpSpPr/>
                <p:nvPr/>
              </p:nvGrpSpPr>
              <p:grpSpPr>
                <a:xfrm>
                  <a:off x="1934640" y="2984760"/>
                  <a:ext cx="139680" cy="127440"/>
                  <a:chOff x="1934640" y="2984760"/>
                  <a:chExt cx="139680" cy="12744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 flipV="1" rot="19850400">
                    <a:off x="1947960" y="3008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H="1" flipV="1" rot="19850400">
                    <a:off x="1953360" y="3004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6" name=""/>
              <p:cNvGrpSpPr/>
              <p:nvPr/>
            </p:nvGrpSpPr>
            <p:grpSpPr>
              <a:xfrm>
                <a:off x="2025360" y="2886840"/>
                <a:ext cx="225000" cy="181440"/>
                <a:chOff x="2025360" y="2886840"/>
                <a:chExt cx="225000" cy="181440"/>
              </a:xfrm>
            </p:grpSpPr>
            <p:grpSp>
              <p:nvGrpSpPr>
                <p:cNvPr id="1357" name=""/>
                <p:cNvGrpSpPr/>
                <p:nvPr/>
              </p:nvGrpSpPr>
              <p:grpSpPr>
                <a:xfrm>
                  <a:off x="2025360" y="2941200"/>
                  <a:ext cx="139320" cy="127080"/>
                  <a:chOff x="2025360" y="2941200"/>
                  <a:chExt cx="139320" cy="1270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 rot="19850400">
                    <a:off x="2038680" y="29649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flipH="1" rot="19850400">
                    <a:off x="2044800" y="2961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2110320" y="2886840"/>
                  <a:ext cx="140040" cy="127440"/>
                  <a:chOff x="2110320" y="2886840"/>
                  <a:chExt cx="140040" cy="12744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 flipV="1" rot="19850400">
                    <a:off x="2123640" y="29106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 rot="19850400">
                    <a:off x="2129400" y="29070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3" name=""/>
              <p:cNvGrpSpPr/>
              <p:nvPr/>
            </p:nvGrpSpPr>
            <p:grpSpPr>
              <a:xfrm>
                <a:off x="2198880" y="2783520"/>
                <a:ext cx="224640" cy="181440"/>
                <a:chOff x="2198880" y="2783520"/>
                <a:chExt cx="224640" cy="181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2198880" y="2837880"/>
                  <a:ext cx="138960" cy="127080"/>
                  <a:chOff x="2198880" y="2837880"/>
                  <a:chExt cx="138960" cy="12708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 rot="19850400">
                    <a:off x="2212200" y="2861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 rot="19850400">
                    <a:off x="2217960" y="2858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2283480" y="2783520"/>
                  <a:ext cx="140040" cy="127440"/>
                  <a:chOff x="2283480" y="2783520"/>
                  <a:chExt cx="140040" cy="12744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flipV="1" rot="19850400">
                    <a:off x="2296800" y="28072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 flipV="1" rot="19850400">
                    <a:off x="2302560" y="2803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0" name=""/>
              <p:cNvGrpSpPr/>
              <p:nvPr/>
            </p:nvGrpSpPr>
            <p:grpSpPr>
              <a:xfrm>
                <a:off x="2374560" y="2685240"/>
                <a:ext cx="224640" cy="181800"/>
                <a:chOff x="2374560" y="2685240"/>
                <a:chExt cx="224640" cy="181800"/>
              </a:xfrm>
            </p:grpSpPr>
            <p:grpSp>
              <p:nvGrpSpPr>
                <p:cNvPr id="1371" name=""/>
                <p:cNvGrpSpPr/>
                <p:nvPr/>
              </p:nvGrpSpPr>
              <p:grpSpPr>
                <a:xfrm>
                  <a:off x="2374560" y="2739960"/>
                  <a:ext cx="138960" cy="127080"/>
                  <a:chOff x="2374560" y="2739960"/>
                  <a:chExt cx="138960" cy="12708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 rot="19850400">
                    <a:off x="2387880" y="2763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 flipH="1" rot="19850400">
                    <a:off x="2393640" y="2760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4" name=""/>
                <p:cNvGrpSpPr/>
                <p:nvPr/>
              </p:nvGrpSpPr>
              <p:grpSpPr>
                <a:xfrm>
                  <a:off x="2459160" y="2685240"/>
                  <a:ext cx="140040" cy="127800"/>
                  <a:chOff x="2459160" y="2685240"/>
                  <a:chExt cx="140040" cy="127800"/>
                </a:xfrm>
              </p:grpSpPr>
              <p:sp>
                <p:nvSpPr>
                  <p:cNvPr id="1375" name=""/>
                  <p:cNvSpPr/>
                  <p:nvPr/>
                </p:nvSpPr>
                <p:spPr>
                  <a:xfrm flipV="1" rot="19850400">
                    <a:off x="2472480" y="27093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flipH="1" flipV="1" rot="19850400">
                    <a:off x="2478240" y="2705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7" name=""/>
              <p:cNvGrpSpPr/>
              <p:nvPr/>
            </p:nvGrpSpPr>
            <p:grpSpPr>
              <a:xfrm>
                <a:off x="2547720" y="2582280"/>
                <a:ext cx="225000" cy="181800"/>
                <a:chOff x="2547720" y="2582280"/>
                <a:chExt cx="225000" cy="181800"/>
              </a:xfrm>
            </p:grpSpPr>
            <p:grpSp>
              <p:nvGrpSpPr>
                <p:cNvPr id="1378" name=""/>
                <p:cNvGrpSpPr/>
                <p:nvPr/>
              </p:nvGrpSpPr>
              <p:grpSpPr>
                <a:xfrm>
                  <a:off x="2547720" y="2637000"/>
                  <a:ext cx="139320" cy="127080"/>
                  <a:chOff x="2547720" y="2637000"/>
                  <a:chExt cx="139320" cy="127080"/>
                </a:xfrm>
              </p:grpSpPr>
              <p:sp>
                <p:nvSpPr>
                  <p:cNvPr id="1379" name=""/>
                  <p:cNvSpPr/>
                  <p:nvPr/>
                </p:nvSpPr>
                <p:spPr>
                  <a:xfrm rot="19850400">
                    <a:off x="2561040" y="2660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H="1" rot="19850400">
                    <a:off x="2567160" y="26575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" name=""/>
                <p:cNvGrpSpPr/>
                <p:nvPr/>
              </p:nvGrpSpPr>
              <p:grpSpPr>
                <a:xfrm>
                  <a:off x="2632680" y="2582280"/>
                  <a:ext cx="140040" cy="127800"/>
                  <a:chOff x="2632680" y="2582280"/>
                  <a:chExt cx="140040" cy="127800"/>
                </a:xfrm>
              </p:grpSpPr>
              <p:sp>
                <p:nvSpPr>
                  <p:cNvPr id="1382" name=""/>
                  <p:cNvSpPr/>
                  <p:nvPr/>
                </p:nvSpPr>
                <p:spPr>
                  <a:xfrm flipV="1" rot="19850400">
                    <a:off x="2646000" y="2606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H="1" flipV="1" rot="19850400">
                    <a:off x="2651760" y="2602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4" name=""/>
              <p:cNvGrpSpPr/>
              <p:nvPr/>
            </p:nvGrpSpPr>
            <p:grpSpPr>
              <a:xfrm>
                <a:off x="2723760" y="2484360"/>
                <a:ext cx="224640" cy="181440"/>
                <a:chOff x="2723760" y="2484360"/>
                <a:chExt cx="224640" cy="181440"/>
              </a:xfrm>
            </p:grpSpPr>
            <p:grpSp>
              <p:nvGrpSpPr>
                <p:cNvPr id="1385" name=""/>
                <p:cNvGrpSpPr/>
                <p:nvPr/>
              </p:nvGrpSpPr>
              <p:grpSpPr>
                <a:xfrm>
                  <a:off x="2723760" y="2538720"/>
                  <a:ext cx="138960" cy="127080"/>
                  <a:chOff x="2723760" y="2538720"/>
                  <a:chExt cx="138960" cy="12708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19850400">
                    <a:off x="2737080" y="2562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H="1" rot="19850400">
                    <a:off x="2742840" y="2559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2808360" y="2484360"/>
                  <a:ext cx="140040" cy="127440"/>
                  <a:chOff x="2808360" y="2484360"/>
                  <a:chExt cx="140040" cy="12744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flipV="1" rot="19850400">
                    <a:off x="2821680" y="2508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H="1" flipV="1" rot="19850400">
                    <a:off x="2827440" y="2504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"/>
              <p:cNvGrpSpPr/>
              <p:nvPr/>
            </p:nvGrpSpPr>
            <p:grpSpPr>
              <a:xfrm>
                <a:off x="2896920" y="2381400"/>
                <a:ext cx="224640" cy="181800"/>
                <a:chOff x="2896920" y="2381400"/>
                <a:chExt cx="224640" cy="18180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2896920" y="2435760"/>
                  <a:ext cx="139320" cy="127440"/>
                  <a:chOff x="2896920" y="2435760"/>
                  <a:chExt cx="139320" cy="12744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 rot="19850400">
                    <a:off x="2910240" y="2459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 flipH="1" rot="19850400">
                    <a:off x="2916360" y="2456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2981880" y="2381400"/>
                  <a:ext cx="139680" cy="127440"/>
                  <a:chOff x="2981880" y="2381400"/>
                  <a:chExt cx="139680" cy="12744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 flipV="1" rot="19850400">
                    <a:off x="2995200" y="2405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H="1" flipV="1" rot="19850400">
                    <a:off x="3000600" y="24015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8" name=""/>
              <p:cNvGrpSpPr/>
              <p:nvPr/>
            </p:nvGrpSpPr>
            <p:grpSpPr>
              <a:xfrm>
                <a:off x="3072600" y="2283480"/>
                <a:ext cx="225000" cy="181440"/>
                <a:chOff x="3072600" y="2283480"/>
                <a:chExt cx="225000" cy="181440"/>
              </a:xfrm>
            </p:grpSpPr>
            <p:grpSp>
              <p:nvGrpSpPr>
                <p:cNvPr id="1399" name=""/>
                <p:cNvGrpSpPr/>
                <p:nvPr/>
              </p:nvGrpSpPr>
              <p:grpSpPr>
                <a:xfrm>
                  <a:off x="3072600" y="2337840"/>
                  <a:ext cx="139320" cy="127080"/>
                  <a:chOff x="3072600" y="2337840"/>
                  <a:chExt cx="139320" cy="12708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 rot="19850400">
                    <a:off x="3085920" y="23616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 flipH="1" rot="19850400">
                    <a:off x="3092040" y="23583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"/>
                <p:cNvGrpSpPr/>
                <p:nvPr/>
              </p:nvGrpSpPr>
              <p:grpSpPr>
                <a:xfrm>
                  <a:off x="3157560" y="2283480"/>
                  <a:ext cx="140040" cy="127440"/>
                  <a:chOff x="3157560" y="2283480"/>
                  <a:chExt cx="140040" cy="127440"/>
                </a:xfrm>
              </p:grpSpPr>
              <p:sp>
                <p:nvSpPr>
                  <p:cNvPr id="1403" name=""/>
                  <p:cNvSpPr/>
                  <p:nvPr/>
                </p:nvSpPr>
                <p:spPr>
                  <a:xfrm flipV="1" rot="19850400">
                    <a:off x="3170880" y="23072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H="1" flipV="1" rot="19850400">
                    <a:off x="3176640" y="23036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5" name=""/>
            <p:cNvSpPr/>
            <p:nvPr/>
          </p:nvSpPr>
          <p:spPr>
            <a:xfrm flipV="1">
              <a:off x="3277440" y="2226960"/>
              <a:ext cx="103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43600" y="312840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963360" y="317232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751680" y="3175560"/>
              <a:ext cx="97380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37200" y="3174120"/>
              <a:ext cx="109080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1113120" y="3097440"/>
              <a:ext cx="618840" cy="104760"/>
              <a:chOff x="1113120" y="3097440"/>
              <a:chExt cx="618840" cy="104760"/>
            </a:xfrm>
          </p:grpSpPr>
          <p:grpSp>
            <p:nvGrpSpPr>
              <p:cNvPr id="1411" name=""/>
              <p:cNvGrpSpPr/>
              <p:nvPr/>
            </p:nvGrpSpPr>
            <p:grpSpPr>
              <a:xfrm>
                <a:off x="1362960" y="3103920"/>
                <a:ext cx="119160" cy="95040"/>
                <a:chOff x="1362960" y="3103920"/>
                <a:chExt cx="119160" cy="95040"/>
              </a:xfrm>
            </p:grpSpPr>
            <p:grpSp>
              <p:nvGrpSpPr>
                <p:cNvPr id="1412" name=""/>
                <p:cNvGrpSpPr/>
                <p:nvPr/>
              </p:nvGrpSpPr>
              <p:grpSpPr>
                <a:xfrm>
                  <a:off x="1368000" y="3132360"/>
                  <a:ext cx="47160" cy="37800"/>
                  <a:chOff x="1368000" y="3132360"/>
                  <a:chExt cx="47160" cy="3780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 flipH="1" rot="10813800">
                    <a:off x="136800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 rot="10813800">
                    <a:off x="137052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1362960" y="3103920"/>
                  <a:ext cx="119160" cy="95040"/>
                  <a:chOff x="1362960" y="3103920"/>
                  <a:chExt cx="119160" cy="9504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 flipH="1" flipV="1" rot="10813800">
                    <a:off x="136260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flipV="1" rot="10813800">
                    <a:off x="137016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8" name=""/>
              <p:cNvGrpSpPr/>
              <p:nvPr/>
            </p:nvGrpSpPr>
            <p:grpSpPr>
              <a:xfrm>
                <a:off x="1300320" y="3101040"/>
                <a:ext cx="119160" cy="95040"/>
                <a:chOff x="1300320" y="3101040"/>
                <a:chExt cx="119160" cy="95040"/>
              </a:xfrm>
            </p:grpSpPr>
            <p:grpSp>
              <p:nvGrpSpPr>
                <p:cNvPr id="1419" name=""/>
                <p:cNvGrpSpPr/>
                <p:nvPr/>
              </p:nvGrpSpPr>
              <p:grpSpPr>
                <a:xfrm>
                  <a:off x="1305360" y="3129840"/>
                  <a:ext cx="47160" cy="37800"/>
                  <a:chOff x="1305360" y="3129840"/>
                  <a:chExt cx="47160" cy="3780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 flipH="1" rot="10813800">
                    <a:off x="130536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rot="10813800">
                    <a:off x="130788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" name=""/>
                <p:cNvGrpSpPr/>
                <p:nvPr/>
              </p:nvGrpSpPr>
              <p:grpSpPr>
                <a:xfrm>
                  <a:off x="1300320" y="3101040"/>
                  <a:ext cx="119160" cy="95040"/>
                  <a:chOff x="1300320" y="3101040"/>
                  <a:chExt cx="119160" cy="9504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flipH="1" flipV="1" rot="10813800">
                    <a:off x="129996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V="1" rot="10813800">
                    <a:off x="130752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5" name=""/>
              <p:cNvGrpSpPr/>
              <p:nvPr/>
            </p:nvGrpSpPr>
            <p:grpSpPr>
              <a:xfrm>
                <a:off x="1238040" y="3100680"/>
                <a:ext cx="119160" cy="95040"/>
                <a:chOff x="1238040" y="3100680"/>
                <a:chExt cx="119160" cy="95040"/>
              </a:xfrm>
            </p:grpSpPr>
            <p:grpSp>
              <p:nvGrpSpPr>
                <p:cNvPr id="1426" name=""/>
                <p:cNvGrpSpPr/>
                <p:nvPr/>
              </p:nvGrpSpPr>
              <p:grpSpPr>
                <a:xfrm>
                  <a:off x="1243080" y="3129480"/>
                  <a:ext cx="47160" cy="37800"/>
                  <a:chOff x="1243080" y="3129480"/>
                  <a:chExt cx="47160" cy="3780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 flipH="1" rot="10813800">
                    <a:off x="124308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 rot="10813800">
                    <a:off x="124560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1238040" y="3100680"/>
                  <a:ext cx="119160" cy="95040"/>
                  <a:chOff x="1238040" y="3100680"/>
                  <a:chExt cx="119160" cy="9504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 flipH="1" flipV="1" rot="10813800">
                    <a:off x="123768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V="1" rot="10813800">
                    <a:off x="124524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2" name=""/>
              <p:cNvGrpSpPr/>
              <p:nvPr/>
            </p:nvGrpSpPr>
            <p:grpSpPr>
              <a:xfrm>
                <a:off x="1175400" y="3097800"/>
                <a:ext cx="119160" cy="95400"/>
                <a:chOff x="1175400" y="3097800"/>
                <a:chExt cx="119160" cy="95400"/>
              </a:xfrm>
            </p:grpSpPr>
            <p:grpSp>
              <p:nvGrpSpPr>
                <p:cNvPr id="1433" name=""/>
                <p:cNvGrpSpPr/>
                <p:nvPr/>
              </p:nvGrpSpPr>
              <p:grpSpPr>
                <a:xfrm>
                  <a:off x="1180440" y="3126600"/>
                  <a:ext cx="47160" cy="37800"/>
                  <a:chOff x="1180440" y="3126600"/>
                  <a:chExt cx="47160" cy="37800"/>
                </a:xfrm>
              </p:grpSpPr>
              <p:sp>
                <p:nvSpPr>
                  <p:cNvPr id="1434" name=""/>
                  <p:cNvSpPr/>
                  <p:nvPr/>
                </p:nvSpPr>
                <p:spPr>
                  <a:xfrm flipH="1" rot="10813800">
                    <a:off x="118044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rot="10813800">
                    <a:off x="118296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1175400" y="3097800"/>
                  <a:ext cx="119160" cy="95400"/>
                  <a:chOff x="1175400" y="3097800"/>
                  <a:chExt cx="119160" cy="9540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 flipH="1" flipV="1" rot="10813800">
                    <a:off x="1175040" y="3097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V="1" rot="10813800">
                    <a:off x="1182600" y="3098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1612800" y="3107160"/>
                <a:ext cx="119160" cy="95040"/>
                <a:chOff x="1612800" y="3107160"/>
                <a:chExt cx="119160" cy="9504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1617840" y="3135960"/>
                  <a:ext cx="47160" cy="37800"/>
                  <a:chOff x="1617840" y="3135960"/>
                  <a:chExt cx="47160" cy="3780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 flipH="1" rot="10813800">
                    <a:off x="161784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rot="10813800">
                    <a:off x="162036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1612800" y="3107160"/>
                  <a:ext cx="119160" cy="95040"/>
                  <a:chOff x="1612800" y="3107160"/>
                  <a:chExt cx="119160" cy="9504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 flipH="1" flipV="1" rot="10813800">
                    <a:off x="161244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V="1" rot="10813800">
                    <a:off x="162000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"/>
              <p:cNvGrpSpPr/>
              <p:nvPr/>
            </p:nvGrpSpPr>
            <p:grpSpPr>
              <a:xfrm>
                <a:off x="1550520" y="3104640"/>
                <a:ext cx="119160" cy="95040"/>
                <a:chOff x="1550520" y="3104640"/>
                <a:chExt cx="119160" cy="95040"/>
              </a:xfrm>
            </p:grpSpPr>
            <p:grpSp>
              <p:nvGrpSpPr>
                <p:cNvPr id="1447" name=""/>
                <p:cNvGrpSpPr/>
                <p:nvPr/>
              </p:nvGrpSpPr>
              <p:grpSpPr>
                <a:xfrm>
                  <a:off x="1555560" y="3133080"/>
                  <a:ext cx="47160" cy="38160"/>
                  <a:chOff x="1555560" y="3133080"/>
                  <a:chExt cx="47160" cy="381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 flipH="1" rot="10813800">
                    <a:off x="155556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rot="10813800">
                    <a:off x="1558080" y="3133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1550520" y="3104640"/>
                  <a:ext cx="119160" cy="95040"/>
                  <a:chOff x="1550520" y="3104640"/>
                  <a:chExt cx="119160" cy="950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 flipH="1" flipV="1" rot="10813800">
                    <a:off x="155016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V="1" rot="10813800">
                    <a:off x="155772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3" name=""/>
              <p:cNvGrpSpPr/>
              <p:nvPr/>
            </p:nvGrpSpPr>
            <p:grpSpPr>
              <a:xfrm>
                <a:off x="1487880" y="3104280"/>
                <a:ext cx="119160" cy="95040"/>
                <a:chOff x="1487880" y="3104280"/>
                <a:chExt cx="119160" cy="9504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1492920" y="3133080"/>
                  <a:ext cx="47160" cy="37800"/>
                  <a:chOff x="1492920" y="3133080"/>
                  <a:chExt cx="47160" cy="37800"/>
                </a:xfrm>
              </p:grpSpPr>
              <p:sp>
                <p:nvSpPr>
                  <p:cNvPr id="1455" name=""/>
                  <p:cNvSpPr/>
                  <p:nvPr/>
                </p:nvSpPr>
                <p:spPr>
                  <a:xfrm flipH="1" rot="10813800">
                    <a:off x="149292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rot="10813800">
                    <a:off x="149544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7" name=""/>
                <p:cNvGrpSpPr/>
                <p:nvPr/>
              </p:nvGrpSpPr>
              <p:grpSpPr>
                <a:xfrm>
                  <a:off x="1487880" y="3104280"/>
                  <a:ext cx="119160" cy="95040"/>
                  <a:chOff x="1487880" y="3104280"/>
                  <a:chExt cx="119160" cy="9504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 flipH="1" flipV="1" rot="10813800">
                    <a:off x="148752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V="1" rot="10813800">
                    <a:off x="149508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0" name=""/>
              <p:cNvGrpSpPr/>
              <p:nvPr/>
            </p:nvGrpSpPr>
            <p:grpSpPr>
              <a:xfrm>
                <a:off x="1425240" y="3101400"/>
                <a:ext cx="119160" cy="95040"/>
                <a:chOff x="1425240" y="3101400"/>
                <a:chExt cx="119160" cy="95040"/>
              </a:xfrm>
            </p:grpSpPr>
            <p:grpSp>
              <p:nvGrpSpPr>
                <p:cNvPr id="1461" name=""/>
                <p:cNvGrpSpPr/>
                <p:nvPr/>
              </p:nvGrpSpPr>
              <p:grpSpPr>
                <a:xfrm>
                  <a:off x="1430280" y="3130200"/>
                  <a:ext cx="47160" cy="37800"/>
                  <a:chOff x="1430280" y="3130200"/>
                  <a:chExt cx="47160" cy="37800"/>
                </a:xfrm>
              </p:grpSpPr>
              <p:sp>
                <p:nvSpPr>
                  <p:cNvPr id="1462" name=""/>
                  <p:cNvSpPr/>
                  <p:nvPr/>
                </p:nvSpPr>
                <p:spPr>
                  <a:xfrm flipH="1" rot="10813800">
                    <a:off x="143028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rot="10813800">
                    <a:off x="143280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4" name=""/>
                <p:cNvGrpSpPr/>
                <p:nvPr/>
              </p:nvGrpSpPr>
              <p:grpSpPr>
                <a:xfrm>
                  <a:off x="1425240" y="3101400"/>
                  <a:ext cx="119160" cy="95040"/>
                  <a:chOff x="1425240" y="3101400"/>
                  <a:chExt cx="119160" cy="95040"/>
                </a:xfrm>
              </p:grpSpPr>
              <p:sp>
                <p:nvSpPr>
                  <p:cNvPr id="1465" name=""/>
                  <p:cNvSpPr/>
                  <p:nvPr/>
                </p:nvSpPr>
                <p:spPr>
                  <a:xfrm flipH="1" flipV="1" rot="10813800">
                    <a:off x="142488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V="1" rot="10813800">
                    <a:off x="143244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7" name=""/>
              <p:cNvGrpSpPr/>
              <p:nvPr/>
            </p:nvGrpSpPr>
            <p:grpSpPr>
              <a:xfrm>
                <a:off x="1113120" y="3097440"/>
                <a:ext cx="119160" cy="95040"/>
                <a:chOff x="1113120" y="3097440"/>
                <a:chExt cx="119160" cy="95040"/>
              </a:xfrm>
            </p:grpSpPr>
            <p:sp>
              <p:nvSpPr>
                <p:cNvPr id="1468" name=""/>
                <p:cNvSpPr/>
                <p:nvPr/>
              </p:nvSpPr>
              <p:spPr>
                <a:xfrm flipH="1" flipV="1" rot="10813800">
                  <a:off x="111276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 rot="10813800">
                  <a:off x="112032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"/>
            <p:cNvSpPr/>
            <p:nvPr/>
          </p:nvSpPr>
          <p:spPr>
            <a:xfrm flipV="1">
              <a:off x="1727280" y="308628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692360" y="2997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1458000" y="4389120"/>
            <a:ext cx="2882880" cy="1576080"/>
            <a:chOff x="1458000" y="4389120"/>
            <a:chExt cx="2882880" cy="1576080"/>
          </a:xfrm>
        </p:grpSpPr>
        <p:sp>
          <p:nvSpPr>
            <p:cNvPr id="1473" name=""/>
            <p:cNvSpPr/>
            <p:nvPr/>
          </p:nvSpPr>
          <p:spPr>
            <a:xfrm flipV="1">
              <a:off x="4161600" y="438912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1458000" y="52380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1877760" y="528228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1666080" y="52855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1551600" y="5284080"/>
              <a:ext cx="109080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2027520" y="5207760"/>
              <a:ext cx="618840" cy="105120"/>
              <a:chOff x="2027520" y="5207760"/>
              <a:chExt cx="618840" cy="105120"/>
            </a:xfrm>
          </p:grpSpPr>
          <p:grpSp>
            <p:nvGrpSpPr>
              <p:cNvPr id="1479" name=""/>
              <p:cNvGrpSpPr/>
              <p:nvPr/>
            </p:nvGrpSpPr>
            <p:grpSpPr>
              <a:xfrm>
                <a:off x="2277360" y="5213880"/>
                <a:ext cx="119160" cy="95760"/>
                <a:chOff x="2277360" y="5213880"/>
                <a:chExt cx="119160" cy="95760"/>
              </a:xfrm>
            </p:grpSpPr>
            <p:grpSp>
              <p:nvGrpSpPr>
                <p:cNvPr id="1480" name=""/>
                <p:cNvGrpSpPr/>
                <p:nvPr/>
              </p:nvGrpSpPr>
              <p:grpSpPr>
                <a:xfrm>
                  <a:off x="2282400" y="5241960"/>
                  <a:ext cx="47160" cy="38520"/>
                  <a:chOff x="2282400" y="5241960"/>
                  <a:chExt cx="47160" cy="38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 flipH="1" rot="10813800">
                    <a:off x="228240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rot="10813800">
                    <a:off x="228492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3" name=""/>
                <p:cNvGrpSpPr/>
                <p:nvPr/>
              </p:nvGrpSpPr>
              <p:grpSpPr>
                <a:xfrm>
                  <a:off x="2277360" y="5213880"/>
                  <a:ext cx="119160" cy="95760"/>
                  <a:chOff x="2277360" y="5213880"/>
                  <a:chExt cx="119160" cy="9576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 flipH="1" flipV="1" rot="10813800">
                    <a:off x="227700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V="1" rot="10813800">
                    <a:off x="228456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6" name=""/>
              <p:cNvGrpSpPr/>
              <p:nvPr/>
            </p:nvGrpSpPr>
            <p:grpSpPr>
              <a:xfrm>
                <a:off x="2214720" y="5211000"/>
                <a:ext cx="119160" cy="95760"/>
                <a:chOff x="2214720" y="5211000"/>
                <a:chExt cx="119160" cy="95760"/>
              </a:xfrm>
            </p:grpSpPr>
            <p:grpSp>
              <p:nvGrpSpPr>
                <p:cNvPr id="1487" name=""/>
                <p:cNvGrpSpPr/>
                <p:nvPr/>
              </p:nvGrpSpPr>
              <p:grpSpPr>
                <a:xfrm>
                  <a:off x="2219760" y="5239440"/>
                  <a:ext cx="47160" cy="38520"/>
                  <a:chOff x="2219760" y="5239440"/>
                  <a:chExt cx="47160" cy="3852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 flipH="1" rot="10813800">
                    <a:off x="221976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rot="10813800">
                    <a:off x="222228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0" name=""/>
                <p:cNvGrpSpPr/>
                <p:nvPr/>
              </p:nvGrpSpPr>
              <p:grpSpPr>
                <a:xfrm>
                  <a:off x="2214720" y="5211000"/>
                  <a:ext cx="119160" cy="95760"/>
                  <a:chOff x="2214720" y="5211000"/>
                  <a:chExt cx="119160" cy="9576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 flipH="1" flipV="1" rot="10813800">
                    <a:off x="221436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V="1" rot="10813800">
                    <a:off x="222192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"/>
              <p:cNvGrpSpPr/>
              <p:nvPr/>
            </p:nvGrpSpPr>
            <p:grpSpPr>
              <a:xfrm>
                <a:off x="2152440" y="5210640"/>
                <a:ext cx="119160" cy="95760"/>
                <a:chOff x="2152440" y="5210640"/>
                <a:chExt cx="119160" cy="9576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2157480" y="5239080"/>
                  <a:ext cx="47160" cy="38520"/>
                  <a:chOff x="2157480" y="5239080"/>
                  <a:chExt cx="47160" cy="38520"/>
                </a:xfrm>
              </p:grpSpPr>
              <p:sp>
                <p:nvSpPr>
                  <p:cNvPr id="1495" name=""/>
                  <p:cNvSpPr/>
                  <p:nvPr/>
                </p:nvSpPr>
                <p:spPr>
                  <a:xfrm flipH="1" rot="10813800">
                    <a:off x="215748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rot="10813800">
                    <a:off x="216000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2152440" y="5210640"/>
                  <a:ext cx="119160" cy="95760"/>
                  <a:chOff x="2152440" y="5210640"/>
                  <a:chExt cx="119160" cy="957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 flipH="1" flipV="1" rot="10813800">
                    <a:off x="215208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V="1" rot="10813800">
                    <a:off x="215964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2089800" y="5207760"/>
                <a:ext cx="119160" cy="96120"/>
                <a:chOff x="2089800" y="5207760"/>
                <a:chExt cx="119160" cy="96120"/>
              </a:xfrm>
            </p:grpSpPr>
            <p:grpSp>
              <p:nvGrpSpPr>
                <p:cNvPr id="1501" name=""/>
                <p:cNvGrpSpPr/>
                <p:nvPr/>
              </p:nvGrpSpPr>
              <p:grpSpPr>
                <a:xfrm>
                  <a:off x="2094840" y="5236200"/>
                  <a:ext cx="47160" cy="38520"/>
                  <a:chOff x="2094840" y="5236200"/>
                  <a:chExt cx="47160" cy="3852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 flipH="1" rot="10813800">
                    <a:off x="209484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rot="10813800">
                    <a:off x="209736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4" name=""/>
                <p:cNvGrpSpPr/>
                <p:nvPr/>
              </p:nvGrpSpPr>
              <p:grpSpPr>
                <a:xfrm>
                  <a:off x="2089800" y="5207760"/>
                  <a:ext cx="119160" cy="96120"/>
                  <a:chOff x="2089800" y="5207760"/>
                  <a:chExt cx="119160" cy="9612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 flipH="1" flipV="1" rot="10813800">
                    <a:off x="2089440" y="52077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V="1" rot="10813800">
                    <a:off x="2097000" y="5208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7" name=""/>
              <p:cNvGrpSpPr/>
              <p:nvPr/>
            </p:nvGrpSpPr>
            <p:grpSpPr>
              <a:xfrm>
                <a:off x="2527200" y="5217120"/>
                <a:ext cx="119160" cy="95760"/>
                <a:chOff x="2527200" y="5217120"/>
                <a:chExt cx="119160" cy="95760"/>
              </a:xfrm>
            </p:grpSpPr>
            <p:grpSp>
              <p:nvGrpSpPr>
                <p:cNvPr id="1508" name=""/>
                <p:cNvGrpSpPr/>
                <p:nvPr/>
              </p:nvGrpSpPr>
              <p:grpSpPr>
                <a:xfrm>
                  <a:off x="2532240" y="5245560"/>
                  <a:ext cx="47160" cy="38520"/>
                  <a:chOff x="2532240" y="5245560"/>
                  <a:chExt cx="47160" cy="3852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 flipH="1" rot="10813800">
                    <a:off x="253224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rot="10813800">
                    <a:off x="253476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1" name=""/>
                <p:cNvGrpSpPr/>
                <p:nvPr/>
              </p:nvGrpSpPr>
              <p:grpSpPr>
                <a:xfrm>
                  <a:off x="2527200" y="5217120"/>
                  <a:ext cx="119160" cy="95760"/>
                  <a:chOff x="2527200" y="5217120"/>
                  <a:chExt cx="119160" cy="9576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 flipH="1" flipV="1" rot="10813800">
                    <a:off x="252684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flipV="1" rot="10813800">
                    <a:off x="253440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2464920" y="5214600"/>
                <a:ext cx="119160" cy="95760"/>
                <a:chOff x="2464920" y="5214600"/>
                <a:chExt cx="119160" cy="95760"/>
              </a:xfrm>
            </p:grpSpPr>
            <p:grpSp>
              <p:nvGrpSpPr>
                <p:cNvPr id="1515" name=""/>
                <p:cNvGrpSpPr/>
                <p:nvPr/>
              </p:nvGrpSpPr>
              <p:grpSpPr>
                <a:xfrm>
                  <a:off x="2469960" y="5242680"/>
                  <a:ext cx="47160" cy="38880"/>
                  <a:chOff x="2469960" y="5242680"/>
                  <a:chExt cx="47160" cy="38880"/>
                </a:xfrm>
              </p:grpSpPr>
              <p:sp>
                <p:nvSpPr>
                  <p:cNvPr id="1516" name=""/>
                  <p:cNvSpPr/>
                  <p:nvPr/>
                </p:nvSpPr>
                <p:spPr>
                  <a:xfrm flipH="1" rot="10813800">
                    <a:off x="246996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rot="10813800">
                    <a:off x="2472480" y="52430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"/>
                <p:cNvGrpSpPr/>
                <p:nvPr/>
              </p:nvGrpSpPr>
              <p:grpSpPr>
                <a:xfrm>
                  <a:off x="2464920" y="5214600"/>
                  <a:ext cx="119160" cy="95760"/>
                  <a:chOff x="2464920" y="5214600"/>
                  <a:chExt cx="119160" cy="9576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 flipV="1" rot="10813800">
                    <a:off x="246456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 rot="10813800">
                    <a:off x="247212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2402280" y="5214240"/>
                <a:ext cx="119160" cy="95760"/>
                <a:chOff x="2402280" y="5214240"/>
                <a:chExt cx="119160" cy="95760"/>
              </a:xfrm>
            </p:grpSpPr>
            <p:grpSp>
              <p:nvGrpSpPr>
                <p:cNvPr id="1522" name=""/>
                <p:cNvGrpSpPr/>
                <p:nvPr/>
              </p:nvGrpSpPr>
              <p:grpSpPr>
                <a:xfrm>
                  <a:off x="2407320" y="5242680"/>
                  <a:ext cx="47160" cy="38520"/>
                  <a:chOff x="2407320" y="5242680"/>
                  <a:chExt cx="47160" cy="38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 rot="10813800">
                    <a:off x="240732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rot="10813800">
                    <a:off x="240984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2402280" y="5214240"/>
                  <a:ext cx="119160" cy="95760"/>
                  <a:chOff x="2402280" y="5214240"/>
                  <a:chExt cx="119160" cy="9576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 flipH="1" flipV="1" rot="10813800">
                    <a:off x="240192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V="1" rot="10813800">
                    <a:off x="240948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8" name=""/>
              <p:cNvGrpSpPr/>
              <p:nvPr/>
            </p:nvGrpSpPr>
            <p:grpSpPr>
              <a:xfrm>
                <a:off x="2339640" y="5211360"/>
                <a:ext cx="119160" cy="95760"/>
                <a:chOff x="2339640" y="5211360"/>
                <a:chExt cx="119160" cy="95760"/>
              </a:xfrm>
            </p:grpSpPr>
            <p:grpSp>
              <p:nvGrpSpPr>
                <p:cNvPr id="1529" name=""/>
                <p:cNvGrpSpPr/>
                <p:nvPr/>
              </p:nvGrpSpPr>
              <p:grpSpPr>
                <a:xfrm>
                  <a:off x="2344680" y="5239800"/>
                  <a:ext cx="47160" cy="38520"/>
                  <a:chOff x="2344680" y="5239800"/>
                  <a:chExt cx="47160" cy="38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 flipH="1" rot="10813800">
                    <a:off x="234468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rot="10813800">
                    <a:off x="234720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2" name=""/>
                <p:cNvGrpSpPr/>
                <p:nvPr/>
              </p:nvGrpSpPr>
              <p:grpSpPr>
                <a:xfrm>
                  <a:off x="2339640" y="5211360"/>
                  <a:ext cx="119160" cy="95760"/>
                  <a:chOff x="2339640" y="5211360"/>
                  <a:chExt cx="119160" cy="9576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 flipH="1" flipV="1" rot="10813800">
                    <a:off x="233928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flipV="1" rot="10813800">
                    <a:off x="234684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5" name=""/>
              <p:cNvGrpSpPr/>
              <p:nvPr/>
            </p:nvGrpSpPr>
            <p:grpSpPr>
              <a:xfrm>
                <a:off x="2027520" y="5207760"/>
                <a:ext cx="119160" cy="95760"/>
                <a:chOff x="2027520" y="5207760"/>
                <a:chExt cx="119160" cy="95760"/>
              </a:xfrm>
            </p:grpSpPr>
            <p:sp>
              <p:nvSpPr>
                <p:cNvPr id="1536" name=""/>
                <p:cNvSpPr/>
                <p:nvPr/>
              </p:nvSpPr>
              <p:spPr>
                <a:xfrm flipH="1" flipV="1" rot="10813800">
                  <a:off x="202716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 rot="10813800">
                  <a:off x="203472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8" name=""/>
            <p:cNvSpPr/>
            <p:nvPr/>
          </p:nvSpPr>
          <p:spPr>
            <a:xfrm flipV="1">
              <a:off x="2641680" y="519624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2751120" y="445896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598840" y="51134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848520" y="2817720"/>
            <a:ext cx="2882880" cy="1699560"/>
            <a:chOff x="848520" y="2817720"/>
            <a:chExt cx="2882880" cy="1699560"/>
          </a:xfrm>
        </p:grpSpPr>
        <p:sp>
          <p:nvSpPr>
            <p:cNvPr id="1542" name=""/>
            <p:cNvSpPr/>
            <p:nvPr/>
          </p:nvSpPr>
          <p:spPr>
            <a:xfrm flipV="1">
              <a:off x="3552120" y="294120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848520" y="379044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267920" y="3834720"/>
              <a:ext cx="76356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1056600" y="383796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941400" y="3836160"/>
              <a:ext cx="1091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1418040" y="3759480"/>
              <a:ext cx="618840" cy="104760"/>
              <a:chOff x="1418040" y="3759480"/>
              <a:chExt cx="618840" cy="10476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1667880" y="3765960"/>
                <a:ext cx="119160" cy="95040"/>
                <a:chOff x="1667880" y="3765960"/>
                <a:chExt cx="119160" cy="95040"/>
              </a:xfrm>
            </p:grpSpPr>
            <p:grpSp>
              <p:nvGrpSpPr>
                <p:cNvPr id="1549" name=""/>
                <p:cNvGrpSpPr/>
                <p:nvPr/>
              </p:nvGrpSpPr>
              <p:grpSpPr>
                <a:xfrm>
                  <a:off x="1672920" y="3794400"/>
                  <a:ext cx="47160" cy="37800"/>
                  <a:chOff x="1672920" y="3794400"/>
                  <a:chExt cx="47160" cy="3780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 flipH="1" rot="10813800">
                    <a:off x="167292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rot="10813800">
                    <a:off x="167544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1667880" y="3765960"/>
                  <a:ext cx="119160" cy="95040"/>
                  <a:chOff x="1667880" y="3765960"/>
                  <a:chExt cx="119160" cy="9504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 flipH="1" flipV="1" rot="10813800">
                    <a:off x="166752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V="1" rot="10813800">
                    <a:off x="167508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5" name=""/>
              <p:cNvGrpSpPr/>
              <p:nvPr/>
            </p:nvGrpSpPr>
            <p:grpSpPr>
              <a:xfrm>
                <a:off x="1605240" y="3763080"/>
                <a:ext cx="119160" cy="95040"/>
                <a:chOff x="1605240" y="3763080"/>
                <a:chExt cx="119160" cy="95040"/>
              </a:xfrm>
            </p:grpSpPr>
            <p:grpSp>
              <p:nvGrpSpPr>
                <p:cNvPr id="1556" name=""/>
                <p:cNvGrpSpPr/>
                <p:nvPr/>
              </p:nvGrpSpPr>
              <p:grpSpPr>
                <a:xfrm>
                  <a:off x="1610280" y="3791880"/>
                  <a:ext cx="47160" cy="37800"/>
                  <a:chOff x="1610280" y="3791880"/>
                  <a:chExt cx="47160" cy="3780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 flipH="1" rot="10813800">
                    <a:off x="161028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rot="10813800">
                    <a:off x="161280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9" name=""/>
                <p:cNvGrpSpPr/>
                <p:nvPr/>
              </p:nvGrpSpPr>
              <p:grpSpPr>
                <a:xfrm>
                  <a:off x="1605240" y="3763080"/>
                  <a:ext cx="119160" cy="95040"/>
                  <a:chOff x="1605240" y="3763080"/>
                  <a:chExt cx="119160" cy="9504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flipH="1" flipV="1" rot="10813800">
                    <a:off x="160488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 rot="10813800">
                    <a:off x="161244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2" name=""/>
              <p:cNvGrpSpPr/>
              <p:nvPr/>
            </p:nvGrpSpPr>
            <p:grpSpPr>
              <a:xfrm>
                <a:off x="1542960" y="3762720"/>
                <a:ext cx="119160" cy="95040"/>
                <a:chOff x="1542960" y="3762720"/>
                <a:chExt cx="119160" cy="95040"/>
              </a:xfrm>
            </p:grpSpPr>
            <p:grpSp>
              <p:nvGrpSpPr>
                <p:cNvPr id="1563" name=""/>
                <p:cNvGrpSpPr/>
                <p:nvPr/>
              </p:nvGrpSpPr>
              <p:grpSpPr>
                <a:xfrm>
                  <a:off x="1548000" y="3791520"/>
                  <a:ext cx="47160" cy="37800"/>
                  <a:chOff x="1548000" y="3791520"/>
                  <a:chExt cx="47160" cy="3780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 flipH="1" rot="10813800">
                    <a:off x="154800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rot="10813800">
                    <a:off x="155052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1542960" y="3762720"/>
                  <a:ext cx="119160" cy="95040"/>
                  <a:chOff x="1542960" y="3762720"/>
                  <a:chExt cx="119160" cy="9504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 flipV="1" rot="10813800">
                    <a:off x="154260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V="1" rot="10813800">
                    <a:off x="155016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9" name=""/>
              <p:cNvGrpSpPr/>
              <p:nvPr/>
            </p:nvGrpSpPr>
            <p:grpSpPr>
              <a:xfrm>
                <a:off x="1480320" y="3759840"/>
                <a:ext cx="119160" cy="95400"/>
                <a:chOff x="1480320" y="3759840"/>
                <a:chExt cx="119160" cy="95400"/>
              </a:xfrm>
            </p:grpSpPr>
            <p:grpSp>
              <p:nvGrpSpPr>
                <p:cNvPr id="1570" name=""/>
                <p:cNvGrpSpPr/>
                <p:nvPr/>
              </p:nvGrpSpPr>
              <p:grpSpPr>
                <a:xfrm>
                  <a:off x="1485360" y="3788640"/>
                  <a:ext cx="47160" cy="37800"/>
                  <a:chOff x="1485360" y="3788640"/>
                  <a:chExt cx="47160" cy="3780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 flipH="1" rot="10813800">
                    <a:off x="148536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rot="10813800">
                    <a:off x="148788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3" name=""/>
                <p:cNvGrpSpPr/>
                <p:nvPr/>
              </p:nvGrpSpPr>
              <p:grpSpPr>
                <a:xfrm>
                  <a:off x="1480320" y="3759840"/>
                  <a:ext cx="119160" cy="95400"/>
                  <a:chOff x="1480320" y="3759840"/>
                  <a:chExt cx="119160" cy="9540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 flipH="1" flipV="1" rot="10813800">
                    <a:off x="1479960" y="3759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V="1" rot="10813800">
                    <a:off x="1487520" y="3760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6" name=""/>
              <p:cNvGrpSpPr/>
              <p:nvPr/>
            </p:nvGrpSpPr>
            <p:grpSpPr>
              <a:xfrm>
                <a:off x="1917720" y="3769200"/>
                <a:ext cx="119160" cy="95040"/>
                <a:chOff x="1917720" y="3769200"/>
                <a:chExt cx="119160" cy="95040"/>
              </a:xfrm>
            </p:grpSpPr>
            <p:grpSp>
              <p:nvGrpSpPr>
                <p:cNvPr id="1577" name=""/>
                <p:cNvGrpSpPr/>
                <p:nvPr/>
              </p:nvGrpSpPr>
              <p:grpSpPr>
                <a:xfrm>
                  <a:off x="1922760" y="3798000"/>
                  <a:ext cx="47160" cy="37800"/>
                  <a:chOff x="1922760" y="3798000"/>
                  <a:chExt cx="47160" cy="3780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 flipH="1" rot="10813800">
                    <a:off x="192276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rot="10813800">
                    <a:off x="192528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17720" y="3769200"/>
                  <a:ext cx="119160" cy="95040"/>
                  <a:chOff x="1917720" y="3769200"/>
                  <a:chExt cx="119160" cy="9504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 flipH="1" flipV="1" rot="10813800">
                    <a:off x="191736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V="1" rot="10813800">
                    <a:off x="192492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3" name=""/>
              <p:cNvGrpSpPr/>
              <p:nvPr/>
            </p:nvGrpSpPr>
            <p:grpSpPr>
              <a:xfrm>
                <a:off x="1855440" y="3766680"/>
                <a:ext cx="119160" cy="95040"/>
                <a:chOff x="1855440" y="3766680"/>
                <a:chExt cx="119160" cy="9504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1860480" y="3795120"/>
                  <a:ext cx="47160" cy="38160"/>
                  <a:chOff x="1860480" y="3795120"/>
                  <a:chExt cx="47160" cy="3816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 flipH="1" rot="10813800">
                    <a:off x="186048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rot="10813800">
                    <a:off x="1863000" y="3795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7" name=""/>
                <p:cNvGrpSpPr/>
                <p:nvPr/>
              </p:nvGrpSpPr>
              <p:grpSpPr>
                <a:xfrm>
                  <a:off x="1855440" y="3766680"/>
                  <a:ext cx="119160" cy="95040"/>
                  <a:chOff x="1855440" y="3766680"/>
                  <a:chExt cx="119160" cy="95040"/>
                </a:xfrm>
              </p:grpSpPr>
              <p:sp>
                <p:nvSpPr>
                  <p:cNvPr id="1588" name=""/>
                  <p:cNvSpPr/>
                  <p:nvPr/>
                </p:nvSpPr>
                <p:spPr>
                  <a:xfrm flipH="1" flipV="1" rot="10813800">
                    <a:off x="185508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 rot="10813800">
                    <a:off x="186264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0" name=""/>
              <p:cNvGrpSpPr/>
              <p:nvPr/>
            </p:nvGrpSpPr>
            <p:grpSpPr>
              <a:xfrm>
                <a:off x="1792800" y="3766320"/>
                <a:ext cx="119160" cy="95040"/>
                <a:chOff x="1792800" y="3766320"/>
                <a:chExt cx="119160" cy="95040"/>
              </a:xfrm>
            </p:grpSpPr>
            <p:grpSp>
              <p:nvGrpSpPr>
                <p:cNvPr id="1591" name=""/>
                <p:cNvGrpSpPr/>
                <p:nvPr/>
              </p:nvGrpSpPr>
              <p:grpSpPr>
                <a:xfrm>
                  <a:off x="1797840" y="3795120"/>
                  <a:ext cx="47160" cy="37800"/>
                  <a:chOff x="1797840" y="3795120"/>
                  <a:chExt cx="47160" cy="3780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 flipH="1" rot="10813800">
                    <a:off x="179784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 rot="10813800">
                    <a:off x="180036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1792800" y="3766320"/>
                  <a:ext cx="119160" cy="95040"/>
                  <a:chOff x="1792800" y="3766320"/>
                  <a:chExt cx="119160" cy="9504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 flipH="1" flipV="1" rot="10813800">
                    <a:off x="179244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 rot="10813800">
                    <a:off x="180000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7" name=""/>
              <p:cNvGrpSpPr/>
              <p:nvPr/>
            </p:nvGrpSpPr>
            <p:grpSpPr>
              <a:xfrm>
                <a:off x="1730160" y="3763440"/>
                <a:ext cx="119160" cy="95040"/>
                <a:chOff x="1730160" y="3763440"/>
                <a:chExt cx="119160" cy="95040"/>
              </a:xfrm>
            </p:grpSpPr>
            <p:grpSp>
              <p:nvGrpSpPr>
                <p:cNvPr id="1598" name=""/>
                <p:cNvGrpSpPr/>
                <p:nvPr/>
              </p:nvGrpSpPr>
              <p:grpSpPr>
                <a:xfrm>
                  <a:off x="1735200" y="3792240"/>
                  <a:ext cx="47160" cy="37800"/>
                  <a:chOff x="1735200" y="3792240"/>
                  <a:chExt cx="47160" cy="3780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 flipH="1" rot="10813800">
                    <a:off x="173520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rot="10813800">
                    <a:off x="173772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"/>
                <p:cNvGrpSpPr/>
                <p:nvPr/>
              </p:nvGrpSpPr>
              <p:grpSpPr>
                <a:xfrm>
                  <a:off x="1730160" y="3763440"/>
                  <a:ext cx="119160" cy="95040"/>
                  <a:chOff x="1730160" y="3763440"/>
                  <a:chExt cx="119160" cy="95040"/>
                </a:xfrm>
              </p:grpSpPr>
              <p:sp>
                <p:nvSpPr>
                  <p:cNvPr id="1602" name=""/>
                  <p:cNvSpPr/>
                  <p:nvPr/>
                </p:nvSpPr>
                <p:spPr>
                  <a:xfrm flipH="1" flipV="1" rot="10813800">
                    <a:off x="172980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V="1" rot="10813800">
                    <a:off x="173736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4" name=""/>
              <p:cNvGrpSpPr/>
              <p:nvPr/>
            </p:nvGrpSpPr>
            <p:grpSpPr>
              <a:xfrm>
                <a:off x="1418040" y="3759480"/>
                <a:ext cx="119160" cy="95040"/>
                <a:chOff x="1418040" y="3759480"/>
                <a:chExt cx="119160" cy="95040"/>
              </a:xfrm>
            </p:grpSpPr>
            <p:sp>
              <p:nvSpPr>
                <p:cNvPr id="1605" name=""/>
                <p:cNvSpPr/>
                <p:nvPr/>
              </p:nvSpPr>
              <p:spPr>
                <a:xfrm flipH="1" flipV="1" rot="10813800">
                  <a:off x="141768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V="1" rot="10813800">
                  <a:off x="142524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"/>
            <p:cNvSpPr/>
            <p:nvPr/>
          </p:nvSpPr>
          <p:spPr>
            <a:xfrm flipV="1">
              <a:off x="2031840" y="3748680"/>
              <a:ext cx="14616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2141280" y="301104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89000" y="3665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133360" y="2906280"/>
              <a:ext cx="609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33360" y="38210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20179800">
              <a:off x="2775960" y="2852280"/>
              <a:ext cx="38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1153440" y="3692160"/>
            <a:ext cx="2912760" cy="1587240"/>
            <a:chOff x="1153440" y="3692160"/>
            <a:chExt cx="2912760" cy="1587240"/>
          </a:xfrm>
        </p:grpSpPr>
        <p:sp>
          <p:nvSpPr>
            <p:cNvPr id="1614" name=""/>
            <p:cNvSpPr/>
            <p:nvPr/>
          </p:nvSpPr>
          <p:spPr>
            <a:xfrm flipV="1">
              <a:off x="3886920" y="369216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1153440" y="45522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1572840" y="4596480"/>
              <a:ext cx="76356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1361520" y="45997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246680" y="4598280"/>
              <a:ext cx="109080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1722960" y="4521960"/>
              <a:ext cx="618840" cy="105120"/>
              <a:chOff x="1722960" y="4521960"/>
              <a:chExt cx="618840" cy="10512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1972800" y="4528080"/>
                <a:ext cx="119160" cy="95760"/>
                <a:chOff x="1972800" y="4528080"/>
                <a:chExt cx="119160" cy="95760"/>
              </a:xfrm>
            </p:grpSpPr>
            <p:grpSp>
              <p:nvGrpSpPr>
                <p:cNvPr id="1621" name=""/>
                <p:cNvGrpSpPr/>
                <p:nvPr/>
              </p:nvGrpSpPr>
              <p:grpSpPr>
                <a:xfrm>
                  <a:off x="1977840" y="4556160"/>
                  <a:ext cx="47160" cy="38520"/>
                  <a:chOff x="1977840" y="4556160"/>
                  <a:chExt cx="47160" cy="3852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 flipH="1" rot="10813800">
                    <a:off x="197784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rot="10813800">
                    <a:off x="198036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1972800" y="4528080"/>
                  <a:ext cx="119160" cy="95760"/>
                  <a:chOff x="1972800" y="4528080"/>
                  <a:chExt cx="119160" cy="9576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 flipH="1" flipV="1" rot="10813800">
                    <a:off x="197244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flipV="1" rot="10813800">
                    <a:off x="198000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7" name=""/>
              <p:cNvGrpSpPr/>
              <p:nvPr/>
            </p:nvGrpSpPr>
            <p:grpSpPr>
              <a:xfrm>
                <a:off x="1910160" y="4525200"/>
                <a:ext cx="119160" cy="95760"/>
                <a:chOff x="1910160" y="4525200"/>
                <a:chExt cx="119160" cy="95760"/>
              </a:xfrm>
            </p:grpSpPr>
            <p:grpSp>
              <p:nvGrpSpPr>
                <p:cNvPr id="1628" name=""/>
                <p:cNvGrpSpPr/>
                <p:nvPr/>
              </p:nvGrpSpPr>
              <p:grpSpPr>
                <a:xfrm>
                  <a:off x="1915200" y="4553640"/>
                  <a:ext cx="47160" cy="38520"/>
                  <a:chOff x="1915200" y="4553640"/>
                  <a:chExt cx="47160" cy="3852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 flipH="1" rot="10813800">
                    <a:off x="191520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 rot="10813800">
                    <a:off x="191772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1" name=""/>
                <p:cNvGrpSpPr/>
                <p:nvPr/>
              </p:nvGrpSpPr>
              <p:grpSpPr>
                <a:xfrm>
                  <a:off x="1910160" y="4525200"/>
                  <a:ext cx="119160" cy="95760"/>
                  <a:chOff x="1910160" y="4525200"/>
                  <a:chExt cx="119160" cy="9576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 flipH="1" flipV="1" rot="10813800">
                    <a:off x="190980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V="1" rot="10813800">
                    <a:off x="191736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4" name=""/>
              <p:cNvGrpSpPr/>
              <p:nvPr/>
            </p:nvGrpSpPr>
            <p:grpSpPr>
              <a:xfrm>
                <a:off x="1847880" y="4524840"/>
                <a:ext cx="119160" cy="95760"/>
                <a:chOff x="1847880" y="4524840"/>
                <a:chExt cx="119160" cy="9576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1852920" y="4553280"/>
                  <a:ext cx="47160" cy="38520"/>
                  <a:chOff x="1852920" y="4553280"/>
                  <a:chExt cx="47160" cy="3852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flipH="1" rot="10813800">
                    <a:off x="185292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rot="10813800">
                    <a:off x="185544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1847880" y="4524840"/>
                  <a:ext cx="119160" cy="95760"/>
                  <a:chOff x="1847880" y="4524840"/>
                  <a:chExt cx="119160" cy="9576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 flipH="1" flipV="1" rot="10813800">
                    <a:off x="184752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V="1" rot="10813800">
                    <a:off x="185508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1785240" y="4521960"/>
                <a:ext cx="119160" cy="96120"/>
                <a:chOff x="1785240" y="4521960"/>
                <a:chExt cx="119160" cy="961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1790280" y="4550400"/>
                  <a:ext cx="47160" cy="38520"/>
                  <a:chOff x="1790280" y="4550400"/>
                  <a:chExt cx="47160" cy="3852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 flipH="1" rot="10813800">
                    <a:off x="179028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rot="10813800">
                    <a:off x="179280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1785240" y="4521960"/>
                  <a:ext cx="119160" cy="96120"/>
                  <a:chOff x="1785240" y="4521960"/>
                  <a:chExt cx="119160" cy="9612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 flipH="1" flipV="1" rot="10813800">
                    <a:off x="1784880" y="45219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V="1" rot="10813800">
                    <a:off x="1792440" y="4522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8" name=""/>
              <p:cNvGrpSpPr/>
              <p:nvPr/>
            </p:nvGrpSpPr>
            <p:grpSpPr>
              <a:xfrm>
                <a:off x="2222640" y="4531320"/>
                <a:ext cx="119160" cy="95760"/>
                <a:chOff x="2222640" y="4531320"/>
                <a:chExt cx="119160" cy="9576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2227680" y="4559760"/>
                  <a:ext cx="47160" cy="38520"/>
                  <a:chOff x="2227680" y="4559760"/>
                  <a:chExt cx="47160" cy="3852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 flipH="1" rot="10813800">
                    <a:off x="222768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rot="10813800">
                    <a:off x="223020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2222640" y="4531320"/>
                  <a:ext cx="119160" cy="95760"/>
                  <a:chOff x="2222640" y="4531320"/>
                  <a:chExt cx="119160" cy="9576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 flipH="1" flipV="1" rot="10813800">
                    <a:off x="222228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V="1" rot="10813800">
                    <a:off x="222984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55" name=""/>
              <p:cNvGrpSpPr/>
              <p:nvPr/>
            </p:nvGrpSpPr>
            <p:grpSpPr>
              <a:xfrm>
                <a:off x="2160360" y="4528800"/>
                <a:ext cx="119160" cy="95760"/>
                <a:chOff x="2160360" y="4528800"/>
                <a:chExt cx="119160" cy="95760"/>
              </a:xfrm>
            </p:grpSpPr>
            <p:grpSp>
              <p:nvGrpSpPr>
                <p:cNvPr id="1656" name=""/>
                <p:cNvGrpSpPr/>
                <p:nvPr/>
              </p:nvGrpSpPr>
              <p:grpSpPr>
                <a:xfrm>
                  <a:off x="2165400" y="4556880"/>
                  <a:ext cx="47160" cy="38880"/>
                  <a:chOff x="2165400" y="4556880"/>
                  <a:chExt cx="47160" cy="3888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 flipH="1" rot="10813800">
                    <a:off x="216540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10813800">
                    <a:off x="2167920" y="45572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2160360" y="4528800"/>
                  <a:ext cx="119160" cy="95760"/>
                  <a:chOff x="2160360" y="4528800"/>
                  <a:chExt cx="119160" cy="9576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flipH="1" flipV="1" rot="10813800">
                    <a:off x="216000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V="1" rot="10813800">
                    <a:off x="216756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2" name=""/>
              <p:cNvGrpSpPr/>
              <p:nvPr/>
            </p:nvGrpSpPr>
            <p:grpSpPr>
              <a:xfrm>
                <a:off x="2097720" y="4528440"/>
                <a:ext cx="119160" cy="95760"/>
                <a:chOff x="2097720" y="4528440"/>
                <a:chExt cx="119160" cy="95760"/>
              </a:xfrm>
            </p:grpSpPr>
            <p:grpSp>
              <p:nvGrpSpPr>
                <p:cNvPr id="1663" name=""/>
                <p:cNvGrpSpPr/>
                <p:nvPr/>
              </p:nvGrpSpPr>
              <p:grpSpPr>
                <a:xfrm>
                  <a:off x="2102760" y="4556880"/>
                  <a:ext cx="47160" cy="38520"/>
                  <a:chOff x="2102760" y="4556880"/>
                  <a:chExt cx="47160" cy="3852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 flipH="1" rot="10813800">
                    <a:off x="210276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rot="10813800">
                    <a:off x="210528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2097720" y="4528440"/>
                  <a:ext cx="119160" cy="95760"/>
                  <a:chOff x="2097720" y="4528440"/>
                  <a:chExt cx="119160" cy="95760"/>
                </a:xfrm>
              </p:grpSpPr>
              <p:sp>
                <p:nvSpPr>
                  <p:cNvPr id="1667" name=""/>
                  <p:cNvSpPr/>
                  <p:nvPr/>
                </p:nvSpPr>
                <p:spPr>
                  <a:xfrm flipH="1" flipV="1" rot="10813800">
                    <a:off x="209736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V="1" rot="10813800">
                    <a:off x="210492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9" name=""/>
              <p:cNvGrpSpPr/>
              <p:nvPr/>
            </p:nvGrpSpPr>
            <p:grpSpPr>
              <a:xfrm>
                <a:off x="2035080" y="4525560"/>
                <a:ext cx="119160" cy="95760"/>
                <a:chOff x="2035080" y="4525560"/>
                <a:chExt cx="119160" cy="95760"/>
              </a:xfrm>
            </p:grpSpPr>
            <p:grpSp>
              <p:nvGrpSpPr>
                <p:cNvPr id="1670" name=""/>
                <p:cNvGrpSpPr/>
                <p:nvPr/>
              </p:nvGrpSpPr>
              <p:grpSpPr>
                <a:xfrm>
                  <a:off x="2040120" y="4554000"/>
                  <a:ext cx="47160" cy="38520"/>
                  <a:chOff x="2040120" y="4554000"/>
                  <a:chExt cx="47160" cy="385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 flipH="1" rot="10813800">
                    <a:off x="204012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rot="10813800">
                    <a:off x="204264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3" name=""/>
                <p:cNvGrpSpPr/>
                <p:nvPr/>
              </p:nvGrpSpPr>
              <p:grpSpPr>
                <a:xfrm>
                  <a:off x="2035080" y="4525560"/>
                  <a:ext cx="119160" cy="95760"/>
                  <a:chOff x="2035080" y="4525560"/>
                  <a:chExt cx="119160" cy="9576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 flipH="1" flipV="1" rot="10813800">
                    <a:off x="203472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V="1" rot="10813800">
                    <a:off x="204228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6" name=""/>
              <p:cNvGrpSpPr/>
              <p:nvPr/>
            </p:nvGrpSpPr>
            <p:grpSpPr>
              <a:xfrm>
                <a:off x="1722960" y="4521960"/>
                <a:ext cx="119160" cy="95760"/>
                <a:chOff x="1722960" y="4521960"/>
                <a:chExt cx="119160" cy="95760"/>
              </a:xfrm>
            </p:grpSpPr>
            <p:sp>
              <p:nvSpPr>
                <p:cNvPr id="1677" name=""/>
                <p:cNvSpPr/>
                <p:nvPr/>
              </p:nvSpPr>
              <p:spPr>
                <a:xfrm flipH="1" flipV="1" rot="10813800">
                  <a:off x="172260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V="1" rot="10813800">
                  <a:off x="173016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9" name=""/>
            <p:cNvSpPr/>
            <p:nvPr/>
          </p:nvSpPr>
          <p:spPr>
            <a:xfrm flipV="1">
              <a:off x="2336760" y="4510440"/>
              <a:ext cx="14616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2476440" y="376200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93920" y="44276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2438280" y="42667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438280" y="3962520"/>
              <a:ext cx="7621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rot="20198400">
              <a:off x="3200400" y="3962160"/>
              <a:ext cx="1522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"/>
          <p:cNvSpPr/>
          <p:nvPr/>
        </p:nvSpPr>
        <p:spPr>
          <a:xfrm rot="19919400">
            <a:off x="3708720" y="439236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dron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rot="19919400">
            <a:off x="3279600" y="365724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small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rot="19919400">
            <a:off x="3069720" y="28242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large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rot="19919400">
            <a:off x="2862720" y="220788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ma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657600" y="1752480"/>
            <a:ext cx="144792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rot="19980000">
            <a:off x="1445760" y="1543320"/>
            <a:ext cx="24177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loser and clos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initial part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rot="19969200">
            <a:off x="2977560" y="5029560"/>
            <a:ext cx="27075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re and more surface 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ven by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280512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4952880" y="228600"/>
            <a:ext cx="3810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986440" y="327672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STAR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023880" y="541008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+Au 0~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12760" y="152280"/>
            <a:ext cx="24177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Jet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ha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arison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most importa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248520" y="152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HIC-AGS’09, Y. S.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867280" y="5943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QM09, M. Plosk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4F6-E635-4EC4-95D7-420E9F7B166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0048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2"/>
          <a:stretch/>
        </p:blipFill>
        <p:spPr>
          <a:xfrm>
            <a:off x="5716440" y="1219320"/>
            <a:ext cx="3059280" cy="3657600"/>
          </a:xfrm>
          <a:prstGeom prst="rect">
            <a:avLst/>
          </a:prstGeom>
          <a:ln w="0">
            <a:noFill/>
          </a:ln>
        </p:spPr>
      </p:pic>
      <p:sp>
        <p:nvSpPr>
          <p:cNvPr id="1701" name=""/>
          <p:cNvSpPr/>
          <p:nvPr/>
        </p:nvSpPr>
        <p:spPr>
          <a:xfrm>
            <a:off x="4419720" y="228600"/>
            <a:ext cx="45878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-cal for LHC-ALIC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back-to-back jets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71B-00A1-4C89-876E-782D8EA521A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457200" y="304920"/>
            <a:ext cx="823752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Gamm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J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hadr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triggered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rrel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entra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R.P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pend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ives us the QGP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tomograph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Mach-c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Rid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like shape w.r.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  geometrical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suppress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rom energy lo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re-distribu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the lost energ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  connection with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flow/expa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  transverse, longitudinal and radial(surface)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) Low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an be biased by the triggered j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sociated particl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hard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nclusiv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a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thermal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) Global understanding of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0" lang="ja-JP" sz="2400" spc="-1" strike="noStrike" baseline="-25000">
                <a:solidFill>
                  <a:srgbClr val="008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low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flo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suppression), especially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soft-hard interplay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middle p</a:t>
            </a:r>
            <a:r>
              <a:rPr b="0" lang="ja-JP" sz="2400" spc="-1" strike="noStrike" baseline="-25000">
                <a:solidFill>
                  <a:srgbClr val="008000"/>
                </a:solidFill>
                <a:latin typeface="Arial"/>
              </a:rPr>
              <a:t>T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gion (jet without any flow subtraction?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4572000"/>
            <a:ext cx="1904760" cy="380880"/>
          </a:xfrm>
          <a:prstGeom prst="rect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248520" y="46483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BCE-EB38-4455-B6D9-7F7ED9D76F6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1600200" y="152280"/>
            <a:ext cx="6095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44040" y="6858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: 0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501720" y="6858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664320" y="68580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: 50-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905640" y="6400800"/>
            <a:ext cx="146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rot="16200000">
            <a:off x="3861000" y="3594960"/>
            <a:ext cx="44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verage     out-of-plane                                                  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058080" y="2254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236560" y="41148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247720" y="3276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247720" y="1295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844520" y="41148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855680" y="32767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855680" y="1295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36560" y="2286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844520" y="2286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828800" y="64008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06F-817C-4096-9383-B80779436D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6781680" cy="232740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457200" y="403848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(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3232440" y="5410080"/>
            <a:ext cx="1186920" cy="508680"/>
            <a:chOff x="3232440" y="5410080"/>
            <a:chExt cx="1186920" cy="508680"/>
          </a:xfrm>
        </p:grpSpPr>
        <p:sp>
          <p:nvSpPr>
            <p:cNvPr id="1726" name=""/>
            <p:cNvSpPr/>
            <p:nvPr/>
          </p:nvSpPr>
          <p:spPr>
            <a:xfrm>
              <a:off x="3536640" y="5410080"/>
              <a:ext cx="882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232440" y="55166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568680" y="5638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5703120" y="548640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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732440" y="4068720"/>
            <a:ext cx="38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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91560" y="160020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739680" y="304812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376240" y="156996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450040" y="2743200"/>
            <a:ext cx="8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 ~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20 ~ 5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~ 9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244800" y="182160"/>
            <a:ext cx="1912680" cy="1292040"/>
            <a:chOff x="244800" y="182160"/>
            <a:chExt cx="1912680" cy="1292040"/>
          </a:xfrm>
        </p:grpSpPr>
        <p:sp>
          <p:nvSpPr>
            <p:cNvPr id="1736" name=""/>
            <p:cNvSpPr/>
            <p:nvPr/>
          </p:nvSpPr>
          <p:spPr>
            <a:xfrm>
              <a:off x="252360" y="1172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709560" y="1821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4640" y="563400"/>
              <a:ext cx="609840" cy="6094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85880" y="944280"/>
              <a:ext cx="106668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1471680" y="411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90440" y="944280"/>
              <a:ext cx="1067040" cy="2286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384"/>
                  </a:moveTo>
                  <a:cubicBezTo>
                    <a:pt x="36" y="384"/>
                    <a:pt x="71" y="381"/>
                    <a:pt x="96" y="336"/>
                  </a:cubicBezTo>
                  <a:cubicBezTo>
                    <a:pt x="121" y="291"/>
                    <a:pt x="132" y="172"/>
                    <a:pt x="148" y="116"/>
                  </a:cubicBezTo>
                  <a:cubicBezTo>
                    <a:pt x="164" y="60"/>
                    <a:pt x="177" y="0"/>
                    <a:pt x="192" y="0"/>
                  </a:cubicBezTo>
                  <a:cubicBezTo>
                    <a:pt x="207" y="0"/>
                    <a:pt x="221" y="60"/>
                    <a:pt x="237" y="116"/>
                  </a:cubicBezTo>
                  <a:cubicBezTo>
                    <a:pt x="253" y="172"/>
                    <a:pt x="264" y="291"/>
                    <a:pt x="288" y="336"/>
                  </a:cubicBezTo>
                  <a:cubicBezTo>
                    <a:pt x="312" y="381"/>
                    <a:pt x="348" y="380"/>
                    <a:pt x="384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44800" y="517320"/>
              <a:ext cx="464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960120" y="669600"/>
              <a:ext cx="541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65560" y="669600"/>
              <a:ext cx="508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way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53320" y="1172880"/>
              <a:ext cx="1269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Asso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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Arial"/>
                </a:rPr>
                <a:t>Trig.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(ra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4038480" y="5943600"/>
            <a:ext cx="13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553080" y="457200"/>
            <a:ext cx="2562120" cy="2513880"/>
            <a:chOff x="6553080" y="457200"/>
            <a:chExt cx="2562120" cy="2513880"/>
          </a:xfrm>
        </p:grpSpPr>
        <p:grpSp>
          <p:nvGrpSpPr>
            <p:cNvPr id="1748" name=""/>
            <p:cNvGrpSpPr/>
            <p:nvPr/>
          </p:nvGrpSpPr>
          <p:grpSpPr>
            <a:xfrm>
              <a:off x="6761160" y="457200"/>
              <a:ext cx="1623960" cy="2513880"/>
              <a:chOff x="6761160" y="457200"/>
              <a:chExt cx="1623960" cy="251388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6761160" y="457200"/>
                <a:ext cx="1623960" cy="2513880"/>
                <a:chOff x="6761160" y="457200"/>
                <a:chExt cx="1623960" cy="2513880"/>
              </a:xfrm>
            </p:grpSpPr>
            <p:grpSp>
              <p:nvGrpSpPr>
                <p:cNvPr id="1750" name=""/>
                <p:cNvGrpSpPr/>
                <p:nvPr/>
              </p:nvGrpSpPr>
              <p:grpSpPr>
                <a:xfrm>
                  <a:off x="7266240" y="1142640"/>
                  <a:ext cx="630720" cy="1255680"/>
                  <a:chOff x="7266240" y="1142640"/>
                  <a:chExt cx="630720" cy="125568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>
                    <a:off x="7266240" y="114264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2" name=""/>
                <p:cNvSpPr/>
                <p:nvPr/>
              </p:nvSpPr>
              <p:spPr>
                <a:xfrm>
                  <a:off x="6761160" y="175932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7590960" y="45720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6977520" y="104976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 flipV="1">
                  <a:off x="7030800" y="104976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6" name=""/>
              <p:cNvSpPr/>
              <p:nvPr/>
            </p:nvSpPr>
            <p:spPr>
              <a:xfrm>
                <a:off x="7296120" y="89028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875280" y="137448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837840" y="137448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7296120" y="79308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594920" y="251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833240" y="2319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64640" y="20772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020440" y="1784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8020440" y="149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64640" y="1239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833240" y="9774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94920" y="80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312320" y="803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109280" y="9774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968160" y="1239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898320" y="14976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898320" y="1757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968160" y="201780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09280" y="2319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312320" y="251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6553080" y="175752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90520" y="14108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7995600" y="2606760"/>
            <a:ext cx="878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362320" y="685800"/>
            <a:ext cx="4419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uss function : F(height, mean,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ea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way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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= | D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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|   ,      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7848720" y="99216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601992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596680" y="3809880"/>
            <a:ext cx="167580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way side shoulder h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eft/right asymme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671200" y="1432080"/>
            <a:ext cx="147924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ar side peak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/right asymme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09840" y="3809880"/>
            <a:ext cx="129780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way side shoul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eak posi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95440" y="114480"/>
            <a:ext cx="406080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n fitting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ADA-0BBE-466C-B773-A4D757B2775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" descr=""/>
          <p:cNvPicPr/>
          <p:nvPr/>
        </p:nvPicPr>
        <p:blipFill>
          <a:blip r:embed="rId1"/>
          <a:stretch/>
        </p:blipFill>
        <p:spPr>
          <a:xfrm>
            <a:off x="152280" y="1271520"/>
            <a:ext cx="2295720" cy="5129280"/>
          </a:xfrm>
          <a:prstGeom prst="rect">
            <a:avLst/>
          </a:prstGeom>
          <a:ln w="0">
            <a:noFill/>
          </a:ln>
        </p:spPr>
      </p:pic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2354400" y="1271520"/>
            <a:ext cx="2271600" cy="5097600"/>
          </a:xfrm>
          <a:prstGeom prst="rect">
            <a:avLst/>
          </a:prstGeom>
          <a:ln w="0">
            <a:noFill/>
          </a:ln>
        </p:spPr>
      </p:pic>
      <p:pic>
        <p:nvPicPr>
          <p:cNvPr id="1788" name="" descr=""/>
          <p:cNvPicPr/>
          <p:nvPr/>
        </p:nvPicPr>
        <p:blipFill>
          <a:blip r:embed="rId3"/>
          <a:stretch/>
        </p:blipFill>
        <p:spPr>
          <a:xfrm>
            <a:off x="4564080" y="1271520"/>
            <a:ext cx="2286000" cy="5129280"/>
          </a:xfrm>
          <a:prstGeom prst="rect">
            <a:avLst/>
          </a:prstGeom>
          <a:ln w="0">
            <a:noFill/>
          </a:ln>
        </p:spPr>
      </p:pic>
      <p:pic>
        <p:nvPicPr>
          <p:cNvPr id="1789" name="" descr=""/>
          <p:cNvPicPr/>
          <p:nvPr/>
        </p:nvPicPr>
        <p:blipFill>
          <a:blip r:embed="rId4"/>
          <a:stretch/>
        </p:blipFill>
        <p:spPr>
          <a:xfrm>
            <a:off x="6773760" y="1271520"/>
            <a:ext cx="2281320" cy="5106960"/>
          </a:xfrm>
          <a:prstGeom prst="rect">
            <a:avLst/>
          </a:prstGeom>
          <a:ln w="0">
            <a:noFill/>
          </a:ln>
        </p:spPr>
      </p:pic>
      <p:sp>
        <p:nvSpPr>
          <p:cNvPr id="1790" name=""/>
          <p:cNvSpPr/>
          <p:nvPr/>
        </p:nvSpPr>
        <p:spPr>
          <a:xfrm>
            <a:off x="751680" y="16146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9613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17104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304760" y="160020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hap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597480" y="228600"/>
            <a:ext cx="2181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2,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 = 0.13, 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Jet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0.0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PTY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 =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0.0,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533520" y="228600"/>
            <a:ext cx="2209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soft) =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(soft)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(hard) =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  (hard) = 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0880" y="5486400"/>
            <a:ext cx="19004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590920" y="5486400"/>
            <a:ext cx="190476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800600" y="5486400"/>
            <a:ext cx="1905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7015320" y="5486400"/>
            <a:ext cx="190008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20 ---&gt; 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)=0.029 ---&gt; 0.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13 ---&gt; 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)=0.010 ---&gt; 0.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809880" y="62485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80880" y="6270480"/>
            <a:ext cx="8458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8B1-60BC-4512-A8FD-9E82503BDAD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887720"/>
          </a:xfrm>
          <a:prstGeom prst="rect">
            <a:avLst/>
          </a:prstGeom>
          <a:ln w="0">
            <a:noFill/>
          </a:ln>
        </p:spPr>
      </p:pic>
      <p:sp>
        <p:nvSpPr>
          <p:cNvPr id="1805" name=""/>
          <p:cNvSpPr/>
          <p:nvPr/>
        </p:nvSpPr>
        <p:spPr>
          <a:xfrm>
            <a:off x="793800" y="228600"/>
            <a:ext cx="7119360" cy="405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MP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v1.11, parton cascade with string melting v2.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u+Au at sqrt(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=200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08400" y="495288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~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0~3.5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889720" y="495288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~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3.5~7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028480" y="4968720"/>
            <a:ext cx="140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8~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7~10.5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233120" y="4968720"/>
            <a:ext cx="130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4~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 = 10.5~ (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730440" y="76212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392240" y="7621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447920" y="914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733920" y="586908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trigger angle selected w.r.t. 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rot="16200000">
            <a:off x="2462040" y="3241080"/>
            <a:ext cx="42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verage   out-of-plane                                 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573440" y="2313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523880" y="996840"/>
            <a:ext cx="2667240" cy="5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&gt; 0 (open symb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&lt; 0 (filled symb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rot="16200000">
            <a:off x="-1752480" y="2795760"/>
            <a:ext cx="39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rue) reaction plane aligned correla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5883120"/>
            <a:ext cx="214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ect R.P.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traction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316000" y="76320"/>
            <a:ext cx="7444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962520" y="6172200"/>
            <a:ext cx="403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: 0.5~1.5GeV/c     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: 1.5~5.0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D57-3D15-4F79-A9F4-D72A7FB8D5D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raa_pi0etaphoton"/>
          <p:cNvPicPr/>
          <p:nvPr/>
        </p:nvPicPr>
        <p:blipFill>
          <a:blip r:embed="rId1"/>
          <a:stretch/>
        </p:blipFill>
        <p:spPr>
          <a:xfrm>
            <a:off x="2666880" y="2233440"/>
            <a:ext cx="6172200" cy="409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6760" y="380880"/>
            <a:ext cx="483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adron large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NO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514600"/>
            <a:ext cx="1981440" cy="312408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65960" y="2939400"/>
            <a:ext cx="1475640" cy="1046880"/>
            <a:chOff x="1065960" y="2939400"/>
            <a:chExt cx="1475640" cy="1046880"/>
          </a:xfrm>
        </p:grpSpPr>
        <p:grpSp>
          <p:nvGrpSpPr>
            <p:cNvPr id="145" name=""/>
            <p:cNvGrpSpPr/>
            <p:nvPr/>
          </p:nvGrpSpPr>
          <p:grpSpPr>
            <a:xfrm>
              <a:off x="1065960" y="3792600"/>
              <a:ext cx="229680" cy="193680"/>
              <a:chOff x="1065960" y="3792600"/>
              <a:chExt cx="229680" cy="1936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065960" y="3857040"/>
                <a:ext cx="142560" cy="129240"/>
                <a:chOff x="1065960" y="3857040"/>
                <a:chExt cx="142560" cy="129240"/>
              </a:xfrm>
            </p:grpSpPr>
            <p:sp>
              <p:nvSpPr>
                <p:cNvPr id="147" name=""/>
                <p:cNvSpPr/>
                <p:nvPr/>
              </p:nvSpPr>
              <p:spPr>
                <a:xfrm rot="19569600">
                  <a:off x="1076760" y="388692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rot="19569000">
                  <a:off x="1082880" y="388260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152720" y="3792600"/>
                <a:ext cx="142920" cy="129600"/>
                <a:chOff x="1152720" y="3792600"/>
                <a:chExt cx="142920" cy="129600"/>
              </a:xfrm>
            </p:grpSpPr>
            <p:sp>
              <p:nvSpPr>
                <p:cNvPr id="150" name=""/>
                <p:cNvSpPr/>
                <p:nvPr/>
              </p:nvSpPr>
              <p:spPr>
                <a:xfrm flipV="1" rot="19569000">
                  <a:off x="1163160" y="382248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 rot="19569600">
                  <a:off x="1169280" y="381816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1245240" y="3672720"/>
              <a:ext cx="229680" cy="193320"/>
              <a:chOff x="1245240" y="3672720"/>
              <a:chExt cx="229680" cy="1933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245240" y="3737160"/>
                <a:ext cx="142200" cy="128880"/>
                <a:chOff x="1245240" y="3737160"/>
                <a:chExt cx="142200" cy="128880"/>
              </a:xfrm>
            </p:grpSpPr>
            <p:sp>
              <p:nvSpPr>
                <p:cNvPr id="154" name=""/>
                <p:cNvSpPr/>
                <p:nvPr/>
              </p:nvSpPr>
              <p:spPr>
                <a:xfrm rot="19569600">
                  <a:off x="1256040" y="376668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rot="19569000">
                  <a:off x="1261800" y="376272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331640" y="3672720"/>
                <a:ext cx="143280" cy="129240"/>
                <a:chOff x="1331640" y="3672720"/>
                <a:chExt cx="143280" cy="129240"/>
              </a:xfrm>
            </p:grpSpPr>
            <p:sp>
              <p:nvSpPr>
                <p:cNvPr id="157" name=""/>
                <p:cNvSpPr/>
                <p:nvPr/>
              </p:nvSpPr>
              <p:spPr>
                <a:xfrm flipV="1" rot="19569000">
                  <a:off x="1342080" y="370224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 rot="19569600">
                  <a:off x="1348560" y="369828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1421280" y="3548160"/>
              <a:ext cx="229680" cy="193680"/>
              <a:chOff x="1421280" y="3548160"/>
              <a:chExt cx="229680" cy="1936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421280" y="3612600"/>
                <a:ext cx="142560" cy="129240"/>
                <a:chOff x="1421280" y="3612600"/>
                <a:chExt cx="142560" cy="129240"/>
              </a:xfrm>
            </p:grpSpPr>
            <p:sp>
              <p:nvSpPr>
                <p:cNvPr id="161" name=""/>
                <p:cNvSpPr/>
                <p:nvPr/>
              </p:nvSpPr>
              <p:spPr>
                <a:xfrm rot="19569600">
                  <a:off x="1432080" y="364248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9569000">
                  <a:off x="1438200" y="363816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508040" y="3548160"/>
                <a:ext cx="142920" cy="129600"/>
                <a:chOff x="1508040" y="3548160"/>
                <a:chExt cx="142920" cy="129600"/>
              </a:xfrm>
            </p:grpSpPr>
            <p:sp>
              <p:nvSpPr>
                <p:cNvPr id="164" name=""/>
                <p:cNvSpPr/>
                <p:nvPr/>
              </p:nvSpPr>
              <p:spPr>
                <a:xfrm flipV="1" rot="19569000">
                  <a:off x="1518480" y="357804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 rot="19569600">
                  <a:off x="1524600" y="357372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1600560" y="3428280"/>
              <a:ext cx="229680" cy="193680"/>
              <a:chOff x="1600560" y="3428280"/>
              <a:chExt cx="229680" cy="193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600560" y="3492720"/>
                <a:ext cx="142200" cy="129240"/>
                <a:chOff x="1600560" y="3492720"/>
                <a:chExt cx="142200" cy="129240"/>
              </a:xfrm>
            </p:grpSpPr>
            <p:sp>
              <p:nvSpPr>
                <p:cNvPr id="168" name=""/>
                <p:cNvSpPr/>
                <p:nvPr/>
              </p:nvSpPr>
              <p:spPr>
                <a:xfrm rot="19569600">
                  <a:off x="1611360" y="352260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rot="19569000">
                  <a:off x="1617120" y="351828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686960" y="3428280"/>
                <a:ext cx="143280" cy="129240"/>
                <a:chOff x="1686960" y="3428280"/>
                <a:chExt cx="143280" cy="129240"/>
              </a:xfrm>
            </p:grpSpPr>
            <p:sp>
              <p:nvSpPr>
                <p:cNvPr id="171" name=""/>
                <p:cNvSpPr/>
                <p:nvPr/>
              </p:nvSpPr>
              <p:spPr>
                <a:xfrm flipV="1" rot="19569000">
                  <a:off x="1697400" y="345780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 rot="19569600">
                  <a:off x="1703880" y="345384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1776960" y="3303720"/>
              <a:ext cx="229680" cy="193680"/>
              <a:chOff x="1776960" y="3303720"/>
              <a:chExt cx="229680" cy="1936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776960" y="3368160"/>
                <a:ext cx="142560" cy="129240"/>
                <a:chOff x="1776960" y="3368160"/>
                <a:chExt cx="142560" cy="129240"/>
              </a:xfrm>
            </p:grpSpPr>
            <p:sp>
              <p:nvSpPr>
                <p:cNvPr id="175" name=""/>
                <p:cNvSpPr/>
                <p:nvPr/>
              </p:nvSpPr>
              <p:spPr>
                <a:xfrm rot="19569600">
                  <a:off x="1787760" y="339804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19569000">
                  <a:off x="1793880" y="339372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863720" y="3303720"/>
                <a:ext cx="142920" cy="129600"/>
                <a:chOff x="1863720" y="3303720"/>
                <a:chExt cx="142920" cy="129600"/>
              </a:xfrm>
            </p:grpSpPr>
            <p:sp>
              <p:nvSpPr>
                <p:cNvPr id="178" name=""/>
                <p:cNvSpPr/>
                <p:nvPr/>
              </p:nvSpPr>
              <p:spPr>
                <a:xfrm flipV="1" rot="19569000">
                  <a:off x="1874160" y="333360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 rot="19569600">
                  <a:off x="1880280" y="332928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1956240" y="3183480"/>
              <a:ext cx="229680" cy="193680"/>
              <a:chOff x="1956240" y="3183480"/>
              <a:chExt cx="229680" cy="1936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956240" y="3247920"/>
                <a:ext cx="142200" cy="129240"/>
                <a:chOff x="1956240" y="3247920"/>
                <a:chExt cx="142200" cy="129240"/>
              </a:xfrm>
            </p:grpSpPr>
            <p:sp>
              <p:nvSpPr>
                <p:cNvPr id="182" name=""/>
                <p:cNvSpPr/>
                <p:nvPr/>
              </p:nvSpPr>
              <p:spPr>
                <a:xfrm rot="19569600">
                  <a:off x="1967040" y="327780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rot="19569000">
                  <a:off x="1972800" y="327348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043000" y="3183480"/>
                <a:ext cx="142920" cy="129600"/>
                <a:chOff x="2043000" y="3183480"/>
                <a:chExt cx="142920" cy="129600"/>
              </a:xfrm>
            </p:grpSpPr>
            <p:sp>
              <p:nvSpPr>
                <p:cNvPr id="185" name=""/>
                <p:cNvSpPr/>
                <p:nvPr/>
              </p:nvSpPr>
              <p:spPr>
                <a:xfrm flipV="1" rot="19569000">
                  <a:off x="2053440" y="321336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19569600">
                  <a:off x="2059560" y="320904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2132640" y="3059640"/>
              <a:ext cx="229680" cy="193680"/>
              <a:chOff x="2132640" y="3059640"/>
              <a:chExt cx="229680" cy="1936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132640" y="3124080"/>
                <a:ext cx="142560" cy="129240"/>
                <a:chOff x="2132640" y="3124080"/>
                <a:chExt cx="142560" cy="129240"/>
              </a:xfrm>
            </p:grpSpPr>
            <p:sp>
              <p:nvSpPr>
                <p:cNvPr id="189" name=""/>
                <p:cNvSpPr/>
                <p:nvPr/>
              </p:nvSpPr>
              <p:spPr>
                <a:xfrm rot="19569600">
                  <a:off x="2143440" y="315396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19569000">
                  <a:off x="2149560" y="314964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219400" y="3059640"/>
                <a:ext cx="142920" cy="129600"/>
                <a:chOff x="2219400" y="3059640"/>
                <a:chExt cx="142920" cy="129600"/>
              </a:xfrm>
            </p:grpSpPr>
            <p:sp>
              <p:nvSpPr>
                <p:cNvPr id="192" name=""/>
                <p:cNvSpPr/>
                <p:nvPr/>
              </p:nvSpPr>
              <p:spPr>
                <a:xfrm flipV="1" rot="19569000">
                  <a:off x="2229840" y="308952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 rot="19569600">
                  <a:off x="2235960" y="308520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2311920" y="2939400"/>
              <a:ext cx="229680" cy="193680"/>
              <a:chOff x="2311920" y="2939400"/>
              <a:chExt cx="229680" cy="1936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311920" y="3004200"/>
                <a:ext cx="142200" cy="128880"/>
                <a:chOff x="2311920" y="3004200"/>
                <a:chExt cx="142200" cy="128880"/>
              </a:xfrm>
            </p:grpSpPr>
            <p:sp>
              <p:nvSpPr>
                <p:cNvPr id="196" name=""/>
                <p:cNvSpPr/>
                <p:nvPr/>
              </p:nvSpPr>
              <p:spPr>
                <a:xfrm rot="19569600">
                  <a:off x="2322720" y="303372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rot="19569000">
                  <a:off x="2328480" y="3029760"/>
                  <a:ext cx="11448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98320" y="2939400"/>
                <a:ext cx="143280" cy="129600"/>
                <a:chOff x="2398320" y="2939400"/>
                <a:chExt cx="143280" cy="129600"/>
              </a:xfrm>
            </p:grpSpPr>
            <p:sp>
              <p:nvSpPr>
                <p:cNvPr id="199" name=""/>
                <p:cNvSpPr/>
                <p:nvPr/>
              </p:nvSpPr>
              <p:spPr>
                <a:xfrm flipV="1" rot="19569000">
                  <a:off x="2408760" y="296928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 rot="19569600">
                  <a:off x="2415240" y="2964960"/>
                  <a:ext cx="115200" cy="7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1" name=""/>
          <p:cNvSpPr/>
          <p:nvPr/>
        </p:nvSpPr>
        <p:spPr>
          <a:xfrm flipV="1">
            <a:off x="2485800" y="2915640"/>
            <a:ext cx="108720" cy="92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0120" y="3375360"/>
            <a:ext cx="1212480" cy="940320"/>
            <a:chOff x="60120" y="3375360"/>
            <a:chExt cx="1212480" cy="940320"/>
          </a:xfrm>
        </p:grpSpPr>
        <p:sp>
          <p:nvSpPr>
            <p:cNvPr id="203" name=""/>
            <p:cNvSpPr/>
            <p:nvPr/>
          </p:nvSpPr>
          <p:spPr>
            <a:xfrm flipH="1">
              <a:off x="60120" y="3424320"/>
              <a:ext cx="1163160" cy="89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74840" y="3480840"/>
              <a:ext cx="66348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22840" y="3483000"/>
              <a:ext cx="914400" cy="4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6360" y="3481920"/>
              <a:ext cx="1014120" cy="6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20920" y="3415680"/>
              <a:ext cx="626400" cy="168120"/>
              <a:chOff x="520920" y="3415680"/>
              <a:chExt cx="626400" cy="1681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68960" y="3446640"/>
                <a:ext cx="130320" cy="109800"/>
                <a:chOff x="768960" y="3446640"/>
                <a:chExt cx="130320" cy="1098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777960" y="3484080"/>
                  <a:ext cx="51840" cy="43200"/>
                  <a:chOff x="777960" y="3484080"/>
                  <a:chExt cx="51840" cy="432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10343400">
                    <a:off x="779760" y="348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343400">
                    <a:off x="782640" y="348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68960" y="3446640"/>
                  <a:ext cx="130320" cy="109800"/>
                  <a:chOff x="768960" y="3446640"/>
                  <a:chExt cx="130320" cy="1098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flipV="1" rot="10343400">
                    <a:off x="774360" y="34545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V="1" rot="10343400">
                    <a:off x="781560" y="34534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706680" y="3452040"/>
                <a:ext cx="130320" cy="109800"/>
                <a:chOff x="706680" y="3452040"/>
                <a:chExt cx="130320" cy="10980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15320" y="3489480"/>
                  <a:ext cx="51840" cy="43560"/>
                  <a:chOff x="715320" y="3489480"/>
                  <a:chExt cx="51840" cy="43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0343400">
                    <a:off x="717120" y="349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343400">
                    <a:off x="720000" y="3492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06680" y="3452040"/>
                  <a:ext cx="130320" cy="109800"/>
                  <a:chOff x="706680" y="3452040"/>
                  <a:chExt cx="130320" cy="109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 rot="10343400">
                    <a:off x="712080" y="3459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 rot="10343400">
                    <a:off x="719280" y="34588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645120" y="3460680"/>
                <a:ext cx="129960" cy="109440"/>
                <a:chOff x="645120" y="3460680"/>
                <a:chExt cx="129960" cy="1094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653760" y="3497760"/>
                  <a:ext cx="51840" cy="43560"/>
                  <a:chOff x="653760" y="3497760"/>
                  <a:chExt cx="51840" cy="435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10343400">
                    <a:off x="655560" y="3500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0343400">
                    <a:off x="658440" y="3500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45120" y="3460680"/>
                  <a:ext cx="129960" cy="109440"/>
                  <a:chOff x="645120" y="3460680"/>
                  <a:chExt cx="129960" cy="1094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flipV="1" rot="10343400">
                    <a:off x="650520" y="3468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V="1" rot="10343400">
                    <a:off x="657360" y="3467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"/>
              <p:cNvGrpSpPr/>
              <p:nvPr/>
            </p:nvGrpSpPr>
            <p:grpSpPr>
              <a:xfrm>
                <a:off x="582480" y="3466440"/>
                <a:ext cx="130320" cy="109440"/>
                <a:chOff x="582480" y="3466440"/>
                <a:chExt cx="130320" cy="10944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591480" y="3503520"/>
                  <a:ext cx="51480" cy="43560"/>
                  <a:chOff x="591480" y="3503520"/>
                  <a:chExt cx="51480" cy="435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0343400">
                    <a:off x="593280" y="3506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0343400">
                    <a:off x="595800" y="3506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582480" y="3466440"/>
                  <a:ext cx="130320" cy="109440"/>
                  <a:chOff x="582480" y="3466440"/>
                  <a:chExt cx="130320" cy="1094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flipV="1" rot="10343400">
                    <a:off x="587880" y="34740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 rot="10343400">
                    <a:off x="595080" y="3473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1017000" y="3415680"/>
                <a:ext cx="130320" cy="109800"/>
                <a:chOff x="1017000" y="3415680"/>
                <a:chExt cx="130320" cy="1098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1026000" y="3453120"/>
                  <a:ext cx="51840" cy="43560"/>
                  <a:chOff x="1026000" y="3453120"/>
                  <a:chExt cx="51840" cy="4356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10343400">
                    <a:off x="1027800" y="3456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10343400">
                    <a:off x="1030680" y="3455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017000" y="3415680"/>
                  <a:ext cx="130320" cy="109800"/>
                  <a:chOff x="1017000" y="3415680"/>
                  <a:chExt cx="130320" cy="10980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flipV="1" rot="10343400">
                    <a:off x="1022400" y="34236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 rot="10343400">
                    <a:off x="1029600" y="3422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955080" y="3421800"/>
                <a:ext cx="130320" cy="109800"/>
                <a:chOff x="955080" y="3421800"/>
                <a:chExt cx="130320" cy="10980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963720" y="3459240"/>
                  <a:ext cx="51480" cy="43200"/>
                  <a:chOff x="963720" y="3459240"/>
                  <a:chExt cx="51480" cy="432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10343400">
                    <a:off x="965520" y="34617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0343400">
                    <a:off x="968040" y="34617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955080" y="3421800"/>
                  <a:ext cx="130320" cy="109800"/>
                  <a:chOff x="955080" y="3421800"/>
                  <a:chExt cx="130320" cy="109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flipV="1" rot="10343400">
                    <a:off x="960480" y="3429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 rot="10343400">
                    <a:off x="967680" y="3428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893160" y="3430080"/>
                <a:ext cx="130320" cy="109440"/>
                <a:chOff x="893160" y="3430080"/>
                <a:chExt cx="130320" cy="10944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901800" y="3467160"/>
                  <a:ext cx="51840" cy="43920"/>
                  <a:chOff x="901800" y="3467160"/>
                  <a:chExt cx="51840" cy="439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10343400">
                    <a:off x="903600" y="3470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0343400">
                    <a:off x="906480" y="34696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893160" y="3430080"/>
                  <a:ext cx="130320" cy="109440"/>
                  <a:chOff x="893160" y="3430080"/>
                  <a:chExt cx="130320" cy="109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flipV="1" rot="10343400">
                    <a:off x="898560" y="3437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 rot="10343400">
                    <a:off x="905760" y="3436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830520" y="3435840"/>
                <a:ext cx="130320" cy="109440"/>
                <a:chOff x="830520" y="3435840"/>
                <a:chExt cx="130320" cy="1094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839160" y="3472920"/>
                  <a:ext cx="51840" cy="43560"/>
                  <a:chOff x="839160" y="3472920"/>
                  <a:chExt cx="51840" cy="43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0343400">
                    <a:off x="840960" y="3475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0343400">
                    <a:off x="843840" y="3475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830520" y="3435840"/>
                  <a:ext cx="130320" cy="109440"/>
                  <a:chOff x="830520" y="3435840"/>
                  <a:chExt cx="130320" cy="1094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flipV="1" rot="10343400">
                    <a:off x="835920" y="3443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 rot="10343400">
                    <a:off x="843120" y="3442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520920" y="3474000"/>
                <a:ext cx="129960" cy="109800"/>
                <a:chOff x="520920" y="3474000"/>
                <a:chExt cx="129960" cy="109800"/>
              </a:xfrm>
            </p:grpSpPr>
            <p:sp>
              <p:nvSpPr>
                <p:cNvPr id="265" name=""/>
                <p:cNvSpPr/>
                <p:nvPr/>
              </p:nvSpPr>
              <p:spPr>
                <a:xfrm flipH="1" flipV="1" rot="10343400">
                  <a:off x="526320" y="348192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 rot="10343400">
                  <a:off x="533160" y="34808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 flipV="1">
              <a:off x="1139760" y="3375360"/>
              <a:ext cx="132840" cy="1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252520" y="5631840"/>
            <a:ext cx="85680" cy="114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45840" y="4093200"/>
            <a:ext cx="757440" cy="1595520"/>
            <a:chOff x="1545840" y="4093200"/>
            <a:chExt cx="757440" cy="1595520"/>
          </a:xfrm>
        </p:grpSpPr>
        <p:grpSp>
          <p:nvGrpSpPr>
            <p:cNvPr id="270" name=""/>
            <p:cNvGrpSpPr/>
            <p:nvPr/>
          </p:nvGrpSpPr>
          <p:grpSpPr>
            <a:xfrm>
              <a:off x="1545840" y="4093200"/>
              <a:ext cx="174960" cy="240120"/>
              <a:chOff x="1545840" y="4093200"/>
              <a:chExt cx="174960" cy="2401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545840" y="4093200"/>
                <a:ext cx="129240" cy="144720"/>
                <a:chOff x="1545840" y="4093200"/>
                <a:chExt cx="129240" cy="144720"/>
              </a:xfrm>
            </p:grpSpPr>
            <p:sp>
              <p:nvSpPr>
                <p:cNvPr id="272" name=""/>
                <p:cNvSpPr/>
                <p:nvPr/>
              </p:nvSpPr>
              <p:spPr>
                <a:xfrm rot="4047600">
                  <a:off x="1553040" y="41166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rot="4047000">
                  <a:off x="1555560" y="41234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591200" y="4188240"/>
                <a:ext cx="129600" cy="145080"/>
                <a:chOff x="1591200" y="4188240"/>
                <a:chExt cx="129600" cy="145080"/>
              </a:xfrm>
            </p:grpSpPr>
            <p:sp>
              <p:nvSpPr>
                <p:cNvPr id="275" name=""/>
                <p:cNvSpPr/>
                <p:nvPr/>
              </p:nvSpPr>
              <p:spPr>
                <a:xfrm flipV="1" rot="4047000">
                  <a:off x="1598040" y="42120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4047600">
                  <a:off x="1600920" y="42188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1626480" y="4287600"/>
              <a:ext cx="174960" cy="240120"/>
              <a:chOff x="1626480" y="4287600"/>
              <a:chExt cx="174960" cy="2401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626480" y="4287600"/>
                <a:ext cx="129240" cy="144720"/>
                <a:chOff x="1626480" y="4287600"/>
                <a:chExt cx="129240" cy="144720"/>
              </a:xfrm>
            </p:grpSpPr>
            <p:sp>
              <p:nvSpPr>
                <p:cNvPr id="279" name=""/>
                <p:cNvSpPr/>
                <p:nvPr/>
              </p:nvSpPr>
              <p:spPr>
                <a:xfrm rot="4047600">
                  <a:off x="1633680" y="43110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rot="4047000">
                  <a:off x="1636200" y="43178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672200" y="4382640"/>
                <a:ext cx="129240" cy="145080"/>
                <a:chOff x="1672200" y="4382640"/>
                <a:chExt cx="129240" cy="145080"/>
              </a:xfrm>
            </p:grpSpPr>
            <p:sp>
              <p:nvSpPr>
                <p:cNvPr id="282" name=""/>
                <p:cNvSpPr/>
                <p:nvPr/>
              </p:nvSpPr>
              <p:spPr>
                <a:xfrm flipV="1" rot="4047000">
                  <a:off x="1679040" y="44064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 rot="4047600">
                  <a:off x="1681560" y="44132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1712880" y="4479840"/>
              <a:ext cx="174960" cy="240120"/>
              <a:chOff x="1712880" y="4479840"/>
              <a:chExt cx="174960" cy="24012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712880" y="4479840"/>
                <a:ext cx="129240" cy="144720"/>
                <a:chOff x="1712880" y="4479840"/>
                <a:chExt cx="129240" cy="144720"/>
              </a:xfrm>
            </p:grpSpPr>
            <p:sp>
              <p:nvSpPr>
                <p:cNvPr id="286" name=""/>
                <p:cNvSpPr/>
                <p:nvPr/>
              </p:nvSpPr>
              <p:spPr>
                <a:xfrm rot="4047600">
                  <a:off x="1720080" y="45032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rot="4047000">
                  <a:off x="1722600" y="45100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758600" y="4574880"/>
                <a:ext cx="129240" cy="145080"/>
                <a:chOff x="1758600" y="4574880"/>
                <a:chExt cx="129240" cy="145080"/>
              </a:xfrm>
            </p:grpSpPr>
            <p:sp>
              <p:nvSpPr>
                <p:cNvPr id="289" name=""/>
                <p:cNvSpPr/>
                <p:nvPr/>
              </p:nvSpPr>
              <p:spPr>
                <a:xfrm flipV="1" rot="4047000">
                  <a:off x="1765440" y="45986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4047600">
                  <a:off x="1767960" y="46054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1793880" y="4674600"/>
              <a:ext cx="174960" cy="240120"/>
              <a:chOff x="1793880" y="4674600"/>
              <a:chExt cx="174960" cy="24012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793880" y="4674600"/>
                <a:ext cx="128880" cy="144720"/>
                <a:chOff x="1793880" y="4674600"/>
                <a:chExt cx="128880" cy="144720"/>
              </a:xfrm>
            </p:grpSpPr>
            <p:sp>
              <p:nvSpPr>
                <p:cNvPr id="293" name=""/>
                <p:cNvSpPr/>
                <p:nvPr/>
              </p:nvSpPr>
              <p:spPr>
                <a:xfrm rot="4047600">
                  <a:off x="1801080" y="46980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4047000">
                  <a:off x="1803240" y="47048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839240" y="4769640"/>
                <a:ext cx="129600" cy="145080"/>
                <a:chOff x="1839240" y="4769640"/>
                <a:chExt cx="129600" cy="145080"/>
              </a:xfrm>
            </p:grpSpPr>
            <p:sp>
              <p:nvSpPr>
                <p:cNvPr id="296" name=""/>
                <p:cNvSpPr/>
                <p:nvPr/>
              </p:nvSpPr>
              <p:spPr>
                <a:xfrm flipV="1" rot="4047000">
                  <a:off x="1846080" y="47934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4047600">
                  <a:off x="1848960" y="48002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1880280" y="4867200"/>
              <a:ext cx="174960" cy="240120"/>
              <a:chOff x="1880280" y="4867200"/>
              <a:chExt cx="174960" cy="24012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1880280" y="4867200"/>
                <a:ext cx="129240" cy="144720"/>
                <a:chOff x="1880280" y="4867200"/>
                <a:chExt cx="129240" cy="144720"/>
              </a:xfrm>
            </p:grpSpPr>
            <p:sp>
              <p:nvSpPr>
                <p:cNvPr id="300" name=""/>
                <p:cNvSpPr/>
                <p:nvPr/>
              </p:nvSpPr>
              <p:spPr>
                <a:xfrm rot="4047600">
                  <a:off x="1887480" y="48906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rot="4047000">
                  <a:off x="1890000" y="48974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926000" y="4962240"/>
                <a:ext cx="129240" cy="145080"/>
                <a:chOff x="1926000" y="4962240"/>
                <a:chExt cx="129240" cy="145080"/>
              </a:xfrm>
            </p:grpSpPr>
            <p:sp>
              <p:nvSpPr>
                <p:cNvPr id="303" name=""/>
                <p:cNvSpPr/>
                <p:nvPr/>
              </p:nvSpPr>
              <p:spPr>
                <a:xfrm flipV="1" rot="4047000">
                  <a:off x="1932840" y="49860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 rot="4047600">
                  <a:off x="1935360" y="49928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1960920" y="5061600"/>
              <a:ext cx="174960" cy="240120"/>
              <a:chOff x="1960920" y="5061600"/>
              <a:chExt cx="174960" cy="2401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1960920" y="5061600"/>
                <a:ext cx="129240" cy="144720"/>
                <a:chOff x="1960920" y="5061600"/>
                <a:chExt cx="129240" cy="144720"/>
              </a:xfrm>
            </p:grpSpPr>
            <p:sp>
              <p:nvSpPr>
                <p:cNvPr id="307" name=""/>
                <p:cNvSpPr/>
                <p:nvPr/>
              </p:nvSpPr>
              <p:spPr>
                <a:xfrm rot="4047600">
                  <a:off x="1968120" y="50850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rot="4047000">
                  <a:off x="1970640" y="50918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006640" y="5156640"/>
                <a:ext cx="129240" cy="145080"/>
                <a:chOff x="2006640" y="5156640"/>
                <a:chExt cx="129240" cy="145080"/>
              </a:xfrm>
            </p:grpSpPr>
            <p:sp>
              <p:nvSpPr>
                <p:cNvPr id="310" name=""/>
                <p:cNvSpPr/>
                <p:nvPr/>
              </p:nvSpPr>
              <p:spPr>
                <a:xfrm flipV="1" rot="4047000">
                  <a:off x="2013480" y="51804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4047600">
                  <a:off x="2016000" y="51872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2047320" y="5253840"/>
              <a:ext cx="174960" cy="240120"/>
              <a:chOff x="2047320" y="5253840"/>
              <a:chExt cx="174960" cy="240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47320" y="5253840"/>
                <a:ext cx="129240" cy="144720"/>
                <a:chOff x="2047320" y="5253840"/>
                <a:chExt cx="129240" cy="144720"/>
              </a:xfrm>
            </p:grpSpPr>
            <p:sp>
              <p:nvSpPr>
                <p:cNvPr id="314" name=""/>
                <p:cNvSpPr/>
                <p:nvPr/>
              </p:nvSpPr>
              <p:spPr>
                <a:xfrm rot="4047600">
                  <a:off x="2054520" y="52772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rot="4047000">
                  <a:off x="2057040" y="52840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093040" y="5348880"/>
                <a:ext cx="129240" cy="145080"/>
                <a:chOff x="2093040" y="5348880"/>
                <a:chExt cx="129240" cy="145080"/>
              </a:xfrm>
            </p:grpSpPr>
            <p:sp>
              <p:nvSpPr>
                <p:cNvPr id="317" name=""/>
                <p:cNvSpPr/>
                <p:nvPr/>
              </p:nvSpPr>
              <p:spPr>
                <a:xfrm flipV="1" rot="4047000">
                  <a:off x="2099880" y="53726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4047600">
                  <a:off x="2102400" y="53794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128320" y="5448600"/>
              <a:ext cx="174960" cy="240120"/>
              <a:chOff x="2128320" y="5448600"/>
              <a:chExt cx="174960" cy="2401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2128320" y="5448600"/>
                <a:ext cx="129240" cy="144720"/>
                <a:chOff x="2128320" y="5448600"/>
                <a:chExt cx="129240" cy="144720"/>
              </a:xfrm>
            </p:grpSpPr>
            <p:sp>
              <p:nvSpPr>
                <p:cNvPr id="321" name=""/>
                <p:cNvSpPr/>
                <p:nvPr/>
              </p:nvSpPr>
              <p:spPr>
                <a:xfrm rot="4047600">
                  <a:off x="2135520" y="547200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rot="4047000">
                  <a:off x="2138040" y="547884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173680" y="5543640"/>
                <a:ext cx="129600" cy="145080"/>
                <a:chOff x="2173680" y="5543640"/>
                <a:chExt cx="129600" cy="145080"/>
              </a:xfrm>
            </p:grpSpPr>
            <p:sp>
              <p:nvSpPr>
                <p:cNvPr id="324" name=""/>
                <p:cNvSpPr/>
                <p:nvPr/>
              </p:nvSpPr>
              <p:spPr>
                <a:xfrm flipV="1" rot="4047000">
                  <a:off x="2180520" y="55674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4047600">
                  <a:off x="2183400" y="557424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6" name=""/>
          <p:cNvGrpSpPr/>
          <p:nvPr/>
        </p:nvGrpSpPr>
        <p:grpSpPr>
          <a:xfrm>
            <a:off x="1710720" y="3556800"/>
            <a:ext cx="630000" cy="987480"/>
            <a:chOff x="1710720" y="3556800"/>
            <a:chExt cx="630000" cy="987480"/>
          </a:xfrm>
        </p:grpSpPr>
        <p:grpSp>
          <p:nvGrpSpPr>
            <p:cNvPr id="327" name=""/>
            <p:cNvGrpSpPr/>
            <p:nvPr/>
          </p:nvGrpSpPr>
          <p:grpSpPr>
            <a:xfrm>
              <a:off x="1710720" y="3984840"/>
              <a:ext cx="552600" cy="445320"/>
              <a:chOff x="1710720" y="3984840"/>
              <a:chExt cx="552600" cy="4453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911600" y="4132440"/>
                <a:ext cx="151920" cy="147240"/>
                <a:chOff x="1911600" y="4132440"/>
                <a:chExt cx="151920" cy="14724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932840" y="4157640"/>
                  <a:ext cx="60480" cy="58680"/>
                  <a:chOff x="1932840" y="4157640"/>
                  <a:chExt cx="60480" cy="586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flipV="1" rot="13051800">
                    <a:off x="1939680" y="4167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 rot="13051200">
                    <a:off x="1941480" y="4168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1911600" y="4132440"/>
                  <a:ext cx="151920" cy="147240"/>
                  <a:chOff x="1911600" y="4132440"/>
                  <a:chExt cx="151920" cy="147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3051200">
                    <a:off x="1928880" y="41565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13051800">
                    <a:off x="1934280" y="41608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1860840" y="4096440"/>
                <a:ext cx="151560" cy="147600"/>
                <a:chOff x="1860840" y="4096440"/>
                <a:chExt cx="151560" cy="1476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1882080" y="4121640"/>
                  <a:ext cx="60120" cy="58680"/>
                  <a:chOff x="1882080" y="4121640"/>
                  <a:chExt cx="60120" cy="586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13051800">
                    <a:off x="1888920" y="4131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 rot="13051200">
                    <a:off x="1890360" y="4132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860840" y="4096440"/>
                  <a:ext cx="151560" cy="147600"/>
                  <a:chOff x="1860840" y="4096440"/>
                  <a:chExt cx="151560" cy="1476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13051200">
                    <a:off x="1878120" y="41205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3051800">
                    <a:off x="1883160" y="41252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1811160" y="4058640"/>
                <a:ext cx="151560" cy="147240"/>
                <a:chOff x="1811160" y="4058640"/>
                <a:chExt cx="151560" cy="1472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1832400" y="4083480"/>
                  <a:ext cx="60120" cy="58680"/>
                  <a:chOff x="1832400" y="4083480"/>
                  <a:chExt cx="60120" cy="586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flipV="1" rot="13051800">
                    <a:off x="1839240" y="4092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 rot="13051200">
                    <a:off x="1840680" y="4094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1811160" y="4058640"/>
                  <a:ext cx="151560" cy="147240"/>
                  <a:chOff x="1811160" y="4058640"/>
                  <a:chExt cx="151560" cy="147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3051200">
                    <a:off x="1828440" y="40827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3051800">
                    <a:off x="1833480" y="40870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1760040" y="4022640"/>
                <a:ext cx="151920" cy="147240"/>
                <a:chOff x="1760040" y="4022640"/>
                <a:chExt cx="151920" cy="14724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1781280" y="4047480"/>
                  <a:ext cx="60480" cy="58680"/>
                  <a:chOff x="1781280" y="4047480"/>
                  <a:chExt cx="60480" cy="586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flipV="1" rot="13051800">
                    <a:off x="1788120" y="4056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 rot="13051200">
                    <a:off x="1789920" y="40582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1760040" y="4022640"/>
                  <a:ext cx="151920" cy="147240"/>
                  <a:chOff x="1760040" y="4022640"/>
                  <a:chExt cx="151920" cy="147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13051200">
                    <a:off x="1777320" y="40467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3051800">
                    <a:off x="1782720" y="40510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2111400" y="4282560"/>
                <a:ext cx="151920" cy="147600"/>
                <a:chOff x="2111400" y="4282560"/>
                <a:chExt cx="151920" cy="14760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2132640" y="4307760"/>
                  <a:ext cx="60120" cy="58680"/>
                  <a:chOff x="2132640" y="4307760"/>
                  <a:chExt cx="60120" cy="586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flipV="1" rot="13051800">
                    <a:off x="2139480" y="4317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 rot="13051200">
                    <a:off x="2140920" y="4318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2111400" y="4282560"/>
                  <a:ext cx="151920" cy="147600"/>
                  <a:chOff x="2111400" y="4282560"/>
                  <a:chExt cx="151920" cy="1476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13051200">
                    <a:off x="2128680" y="43066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3051800">
                    <a:off x="2134080" y="43113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2060280" y="4246920"/>
                <a:ext cx="151920" cy="147240"/>
                <a:chOff x="2060280" y="4246920"/>
                <a:chExt cx="151920" cy="14724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2081520" y="4271760"/>
                  <a:ext cx="60480" cy="58680"/>
                  <a:chOff x="2081520" y="4271760"/>
                  <a:chExt cx="60480" cy="586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flipV="1" rot="13051800">
                    <a:off x="2088360" y="4281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V="1" rot="13051200">
                    <a:off x="2090160" y="4282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060280" y="4246920"/>
                  <a:ext cx="151920" cy="147240"/>
                  <a:chOff x="2060280" y="4246920"/>
                  <a:chExt cx="151920" cy="1472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3051200">
                    <a:off x="2077560" y="42710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13051800">
                    <a:off x="2082960" y="42753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2010600" y="4208760"/>
                <a:ext cx="151920" cy="147240"/>
                <a:chOff x="2010600" y="4208760"/>
                <a:chExt cx="151920" cy="1472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2031840" y="4233600"/>
                  <a:ext cx="60480" cy="58680"/>
                  <a:chOff x="2031840" y="4233600"/>
                  <a:chExt cx="60480" cy="58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flipV="1" rot="13051800">
                    <a:off x="2038680" y="4242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V="1" rot="13051200">
                    <a:off x="2040480" y="424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2010600" y="4208760"/>
                  <a:ext cx="151920" cy="147240"/>
                  <a:chOff x="2010600" y="4208760"/>
                  <a:chExt cx="151920" cy="1472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13051200">
                    <a:off x="2027880" y="42328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3051800">
                    <a:off x="2033280" y="423720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1959840" y="4172760"/>
                <a:ext cx="151920" cy="147240"/>
                <a:chOff x="1959840" y="4172760"/>
                <a:chExt cx="151920" cy="14724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1981080" y="4197600"/>
                  <a:ext cx="60120" cy="58680"/>
                  <a:chOff x="1981080" y="4197600"/>
                  <a:chExt cx="60120" cy="586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flipV="1" rot="13051800">
                    <a:off x="1987920" y="4206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V="1" rot="13051200">
                    <a:off x="1989360" y="4208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1959840" y="4172760"/>
                  <a:ext cx="151920" cy="147240"/>
                  <a:chOff x="1959840" y="4172760"/>
                  <a:chExt cx="151920" cy="1472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rot="13051200">
                    <a:off x="1977120" y="41968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13051800">
                    <a:off x="1982520" y="420120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"/>
              <p:cNvGrpSpPr/>
              <p:nvPr/>
            </p:nvGrpSpPr>
            <p:grpSpPr>
              <a:xfrm>
                <a:off x="1710720" y="3984840"/>
                <a:ext cx="151560" cy="146880"/>
                <a:chOff x="1710720" y="3984840"/>
                <a:chExt cx="151560" cy="146880"/>
              </a:xfrm>
            </p:grpSpPr>
            <p:sp>
              <p:nvSpPr>
                <p:cNvPr id="385" name=""/>
                <p:cNvSpPr/>
                <p:nvPr/>
              </p:nvSpPr>
              <p:spPr>
                <a:xfrm flipH="1" rot="13051200">
                  <a:off x="1727280" y="400896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3051800">
                  <a:off x="1733400" y="401328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2165760" y="3556800"/>
              <a:ext cx="174960" cy="624600"/>
              <a:chOff x="2165760" y="3556800"/>
              <a:chExt cx="174960" cy="62460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198160" y="3804480"/>
                <a:ext cx="108000" cy="128880"/>
                <a:chOff x="2198160" y="3804480"/>
                <a:chExt cx="108000" cy="12888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2233800" y="3812400"/>
                  <a:ext cx="43200" cy="51480"/>
                  <a:chOff x="2233800" y="3812400"/>
                  <a:chExt cx="43200" cy="514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16611000">
                    <a:off x="2232720" y="3817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611600">
                    <a:off x="2232720" y="38203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198160" y="3804480"/>
                  <a:ext cx="108000" cy="128880"/>
                  <a:chOff x="2198160" y="3804480"/>
                  <a:chExt cx="108000" cy="1288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 rot="16611600">
                    <a:off x="2196720" y="3817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 rot="16611000">
                    <a:off x="2195640" y="382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2208240" y="3742560"/>
                <a:ext cx="108000" cy="129240"/>
                <a:chOff x="2208240" y="3742560"/>
                <a:chExt cx="108000" cy="12924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2243880" y="3750480"/>
                  <a:ext cx="43200" cy="51480"/>
                  <a:chOff x="2243880" y="3750480"/>
                  <a:chExt cx="43200" cy="5148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H="1" rot="16611000">
                    <a:off x="2242800" y="3755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16611600">
                    <a:off x="2242800" y="3758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2208240" y="3742560"/>
                  <a:ext cx="108000" cy="129240"/>
                  <a:chOff x="2208240" y="3742560"/>
                  <a:chExt cx="108000" cy="129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flipV="1" rot="16611600">
                    <a:off x="2206800" y="37558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V="1" rot="16611000">
                    <a:off x="220572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2215440" y="3680640"/>
                <a:ext cx="108360" cy="129240"/>
                <a:chOff x="2215440" y="3680640"/>
                <a:chExt cx="108360" cy="12924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2251080" y="3688560"/>
                  <a:ext cx="43200" cy="51480"/>
                  <a:chOff x="2251080" y="3688560"/>
                  <a:chExt cx="43200" cy="514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flipH="1" rot="16611000">
                    <a:off x="2250000" y="3693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6611600">
                    <a:off x="2250000" y="3696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2215440" y="3680640"/>
                  <a:ext cx="108360" cy="129240"/>
                  <a:chOff x="2215440" y="3680640"/>
                  <a:chExt cx="108360" cy="1292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flipV="1" rot="16611600">
                    <a:off x="2214360" y="3693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V="1" rot="16611000">
                    <a:off x="2212920" y="3701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225520" y="3618720"/>
                <a:ext cx="108000" cy="129240"/>
                <a:chOff x="2225520" y="3618720"/>
                <a:chExt cx="108000" cy="12924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261160" y="3626640"/>
                  <a:ext cx="43200" cy="51480"/>
                  <a:chOff x="2261160" y="3626640"/>
                  <a:chExt cx="43200" cy="514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16611000">
                    <a:off x="2260080" y="3632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611600">
                    <a:off x="2260080" y="3634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2225520" y="3618720"/>
                  <a:ext cx="108000" cy="129240"/>
                  <a:chOff x="2225520" y="3618720"/>
                  <a:chExt cx="108000" cy="12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flipV="1" rot="16611600">
                    <a:off x="2224080" y="3632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16611000">
                    <a:off x="2223000" y="3639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65760" y="4052160"/>
                <a:ext cx="108000" cy="129240"/>
                <a:chOff x="2165760" y="4052160"/>
                <a:chExt cx="108000" cy="12924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201400" y="4060080"/>
                  <a:ext cx="43200" cy="51480"/>
                  <a:chOff x="2201400" y="4060080"/>
                  <a:chExt cx="43200" cy="514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6611000">
                    <a:off x="2200320" y="4065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6611600">
                    <a:off x="2200320" y="406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165760" y="4052160"/>
                  <a:ext cx="108000" cy="129240"/>
                  <a:chOff x="2165760" y="4052160"/>
                  <a:chExt cx="108000" cy="1292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flipV="1" rot="16611600">
                    <a:off x="2164320" y="40654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 rot="16611000">
                    <a:off x="2163240" y="4072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3" name=""/>
              <p:cNvGrpSpPr/>
              <p:nvPr/>
            </p:nvGrpSpPr>
            <p:grpSpPr>
              <a:xfrm>
                <a:off x="2175840" y="3990600"/>
                <a:ext cx="108000" cy="129240"/>
                <a:chOff x="2175840" y="3990600"/>
                <a:chExt cx="108000" cy="12924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2211480" y="3998520"/>
                  <a:ext cx="43200" cy="51480"/>
                  <a:chOff x="2211480" y="3998520"/>
                  <a:chExt cx="43200" cy="514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6611000">
                    <a:off x="2210400" y="40039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611600">
                    <a:off x="2210400" y="4006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175840" y="3990600"/>
                  <a:ext cx="108000" cy="129240"/>
                  <a:chOff x="2175840" y="3990600"/>
                  <a:chExt cx="108000" cy="1292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 rot="16611600">
                    <a:off x="2174400" y="40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 rot="16611000">
                    <a:off x="2173320" y="40111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2183040" y="3928320"/>
                <a:ext cx="108360" cy="129240"/>
                <a:chOff x="2183040" y="3928320"/>
                <a:chExt cx="108360" cy="12924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219040" y="3936240"/>
                  <a:ext cx="43200" cy="51480"/>
                  <a:chOff x="2219040" y="3936240"/>
                  <a:chExt cx="43200" cy="514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16611000">
                    <a:off x="2217960" y="3941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6611600">
                    <a:off x="2217960" y="39441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2183040" y="3928320"/>
                  <a:ext cx="108360" cy="129240"/>
                  <a:chOff x="2183040" y="3928320"/>
                  <a:chExt cx="108360" cy="1292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flipV="1" rot="16611600">
                    <a:off x="2181960" y="3941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 rot="16611000">
                    <a:off x="2180520" y="3948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193120" y="3866400"/>
                <a:ext cx="108360" cy="129240"/>
                <a:chOff x="2193120" y="3866400"/>
                <a:chExt cx="108360" cy="12924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228760" y="3874320"/>
                  <a:ext cx="43200" cy="51480"/>
                  <a:chOff x="2228760" y="3874320"/>
                  <a:chExt cx="43200" cy="51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rot="16611000">
                    <a:off x="2227680" y="38797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16611600">
                    <a:off x="2227680" y="388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193120" y="3866400"/>
                  <a:ext cx="108360" cy="129240"/>
                  <a:chOff x="2193120" y="3866400"/>
                  <a:chExt cx="108360" cy="1292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flipH="1" flipV="1" rot="16611600">
                    <a:off x="2192040" y="3879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 rot="16611000">
                    <a:off x="2190600" y="3886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2233080" y="3556800"/>
                <a:ext cx="107640" cy="129240"/>
                <a:chOff x="2233080" y="3556800"/>
                <a:chExt cx="107640" cy="129240"/>
              </a:xfrm>
            </p:grpSpPr>
            <p:sp>
              <p:nvSpPr>
                <p:cNvPr id="445" name=""/>
                <p:cNvSpPr/>
                <p:nvPr/>
              </p:nvSpPr>
              <p:spPr>
                <a:xfrm flipH="1" flipV="1" rot="16611600">
                  <a:off x="2231640" y="357048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 rot="16611000">
                  <a:off x="2230200" y="357732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2230560" y="4373640"/>
              <a:ext cx="9432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29480" y="4169520"/>
              <a:ext cx="5760" cy="21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1814040" y="3832200"/>
              <a:ext cx="41868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69880" y="2635560"/>
            <a:ext cx="1460160" cy="1026000"/>
            <a:chOff x="569880" y="2635560"/>
            <a:chExt cx="1460160" cy="1026000"/>
          </a:xfrm>
        </p:grpSpPr>
        <p:grpSp>
          <p:nvGrpSpPr>
            <p:cNvPr id="451" name=""/>
            <p:cNvGrpSpPr/>
            <p:nvPr/>
          </p:nvGrpSpPr>
          <p:grpSpPr>
            <a:xfrm>
              <a:off x="569880" y="2635560"/>
              <a:ext cx="239400" cy="197640"/>
              <a:chOff x="569880" y="2635560"/>
              <a:chExt cx="239400" cy="1976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569880" y="2635560"/>
                <a:ext cx="149040" cy="141840"/>
                <a:chOff x="569880" y="2635560"/>
                <a:chExt cx="149040" cy="141840"/>
              </a:xfrm>
            </p:grpSpPr>
            <p:sp>
              <p:nvSpPr>
                <p:cNvPr id="453" name=""/>
                <p:cNvSpPr/>
                <p:nvPr/>
              </p:nvSpPr>
              <p:spPr>
                <a:xfrm rot="2092200">
                  <a:off x="585720" y="26593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rot="2092200">
                  <a:off x="591120" y="26629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59520" y="2691000"/>
                <a:ext cx="149760" cy="142200"/>
                <a:chOff x="659520" y="2691000"/>
                <a:chExt cx="149760" cy="142200"/>
              </a:xfrm>
            </p:grpSpPr>
            <p:sp>
              <p:nvSpPr>
                <p:cNvPr id="456" name=""/>
                <p:cNvSpPr/>
                <p:nvPr/>
              </p:nvSpPr>
              <p:spPr>
                <a:xfrm flipV="1" rot="2092200">
                  <a:off x="675000" y="271476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 rot="2092200">
                  <a:off x="681120" y="27187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742320" y="2755800"/>
              <a:ext cx="239760" cy="198000"/>
              <a:chOff x="742320" y="2755800"/>
              <a:chExt cx="239760" cy="19800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742320" y="2755800"/>
                <a:ext cx="149400" cy="142200"/>
                <a:chOff x="742320" y="2755800"/>
                <a:chExt cx="149400" cy="142200"/>
              </a:xfrm>
            </p:grpSpPr>
            <p:sp>
              <p:nvSpPr>
                <p:cNvPr id="460" name=""/>
                <p:cNvSpPr/>
                <p:nvPr/>
              </p:nvSpPr>
              <p:spPr>
                <a:xfrm rot="2092200">
                  <a:off x="758160" y="277956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rot="2092200">
                  <a:off x="763920" y="27835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832320" y="2811240"/>
                <a:ext cx="149760" cy="142560"/>
                <a:chOff x="832320" y="2811240"/>
                <a:chExt cx="149760" cy="142560"/>
              </a:xfrm>
            </p:grpSpPr>
            <p:sp>
              <p:nvSpPr>
                <p:cNvPr id="463" name=""/>
                <p:cNvSpPr/>
                <p:nvPr/>
              </p:nvSpPr>
              <p:spPr>
                <a:xfrm flipV="1" rot="2092200">
                  <a:off x="847800" y="283500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 rot="2092200">
                  <a:off x="853920" y="28393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918720" y="2871360"/>
              <a:ext cx="239760" cy="197640"/>
              <a:chOff x="918720" y="2871360"/>
              <a:chExt cx="239760" cy="1976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918720" y="2871360"/>
                <a:ext cx="149400" cy="141840"/>
                <a:chOff x="918720" y="2871360"/>
                <a:chExt cx="149400" cy="141840"/>
              </a:xfrm>
            </p:grpSpPr>
            <p:sp>
              <p:nvSpPr>
                <p:cNvPr id="467" name=""/>
                <p:cNvSpPr/>
                <p:nvPr/>
              </p:nvSpPr>
              <p:spPr>
                <a:xfrm rot="2092200">
                  <a:off x="934560" y="28951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2092200">
                  <a:off x="940320" y="28987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008360" y="2926800"/>
                <a:ext cx="150120" cy="142200"/>
                <a:chOff x="1008360" y="2926800"/>
                <a:chExt cx="150120" cy="142200"/>
              </a:xfrm>
            </p:grpSpPr>
            <p:sp>
              <p:nvSpPr>
                <p:cNvPr id="470" name=""/>
                <p:cNvSpPr/>
                <p:nvPr/>
              </p:nvSpPr>
              <p:spPr>
                <a:xfrm flipV="1" rot="2092200">
                  <a:off x="1023840" y="295056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flipV="1" rot="2092200">
                  <a:off x="1030320" y="29545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1091880" y="2991960"/>
              <a:ext cx="239760" cy="197640"/>
              <a:chOff x="1091880" y="2991960"/>
              <a:chExt cx="239760" cy="19764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1091880" y="2991960"/>
                <a:ext cx="149040" cy="141840"/>
                <a:chOff x="1091880" y="2991960"/>
                <a:chExt cx="149040" cy="141840"/>
              </a:xfrm>
            </p:grpSpPr>
            <p:sp>
              <p:nvSpPr>
                <p:cNvPr id="474" name=""/>
                <p:cNvSpPr/>
                <p:nvPr/>
              </p:nvSpPr>
              <p:spPr>
                <a:xfrm rot="2092200">
                  <a:off x="1107720" y="30157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2092200">
                  <a:off x="1113120" y="30193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181520" y="3047400"/>
                <a:ext cx="150120" cy="142200"/>
                <a:chOff x="1181520" y="3047400"/>
                <a:chExt cx="150120" cy="142200"/>
              </a:xfrm>
            </p:grpSpPr>
            <p:sp>
              <p:nvSpPr>
                <p:cNvPr id="477" name=""/>
                <p:cNvSpPr/>
                <p:nvPr/>
              </p:nvSpPr>
              <p:spPr>
                <a:xfrm flipV="1" rot="2092200">
                  <a:off x="1197000" y="307116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 rot="2092200">
                  <a:off x="1203480" y="30751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1268280" y="3107520"/>
              <a:ext cx="239760" cy="197640"/>
              <a:chOff x="1268280" y="3107520"/>
              <a:chExt cx="239760" cy="1976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268280" y="3107520"/>
                <a:ext cx="149400" cy="141840"/>
                <a:chOff x="1268280" y="3107520"/>
                <a:chExt cx="149400" cy="141840"/>
              </a:xfrm>
            </p:grpSpPr>
            <p:sp>
              <p:nvSpPr>
                <p:cNvPr id="481" name=""/>
                <p:cNvSpPr/>
                <p:nvPr/>
              </p:nvSpPr>
              <p:spPr>
                <a:xfrm rot="2092200">
                  <a:off x="1284120" y="31312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rot="2092200">
                  <a:off x="1289880" y="31348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358280" y="3162960"/>
                <a:ext cx="149760" cy="142200"/>
                <a:chOff x="1358280" y="3162960"/>
                <a:chExt cx="149760" cy="142200"/>
              </a:xfrm>
            </p:grpSpPr>
            <p:sp>
              <p:nvSpPr>
                <p:cNvPr id="484" name=""/>
                <p:cNvSpPr/>
                <p:nvPr/>
              </p:nvSpPr>
              <p:spPr>
                <a:xfrm flipV="1" rot="2092200">
                  <a:off x="1373760" y="31867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 rot="2092200">
                  <a:off x="1379880" y="31906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1441080" y="3227760"/>
              <a:ext cx="239760" cy="198000"/>
              <a:chOff x="1441080" y="3227760"/>
              <a:chExt cx="239760" cy="19800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1441080" y="3227760"/>
                <a:ext cx="149400" cy="142200"/>
                <a:chOff x="1441080" y="3227760"/>
                <a:chExt cx="149400" cy="142200"/>
              </a:xfrm>
            </p:grpSpPr>
            <p:sp>
              <p:nvSpPr>
                <p:cNvPr id="488" name=""/>
                <p:cNvSpPr/>
                <p:nvPr/>
              </p:nvSpPr>
              <p:spPr>
                <a:xfrm rot="2092200">
                  <a:off x="1456920" y="325152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2092200">
                  <a:off x="1462680" y="32554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531080" y="3283200"/>
                <a:ext cx="149760" cy="142560"/>
                <a:chOff x="1531080" y="3283200"/>
                <a:chExt cx="149760" cy="142560"/>
              </a:xfrm>
            </p:grpSpPr>
            <p:sp>
              <p:nvSpPr>
                <p:cNvPr id="491" name=""/>
                <p:cNvSpPr/>
                <p:nvPr/>
              </p:nvSpPr>
              <p:spPr>
                <a:xfrm flipV="1" rot="2092200">
                  <a:off x="1546560" y="330696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 rot="2092200">
                  <a:off x="1552680" y="33112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1617480" y="3343320"/>
              <a:ext cx="239760" cy="197640"/>
              <a:chOff x="1617480" y="3343320"/>
              <a:chExt cx="239760" cy="19764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1617480" y="3343320"/>
                <a:ext cx="149400" cy="141840"/>
                <a:chOff x="1617480" y="3343320"/>
                <a:chExt cx="149400" cy="141840"/>
              </a:xfrm>
            </p:grpSpPr>
            <p:sp>
              <p:nvSpPr>
                <p:cNvPr id="495" name=""/>
                <p:cNvSpPr/>
                <p:nvPr/>
              </p:nvSpPr>
              <p:spPr>
                <a:xfrm rot="2092200">
                  <a:off x="1633320" y="33670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rot="2092200">
                  <a:off x="1639080" y="33706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707120" y="3398760"/>
                <a:ext cx="150120" cy="142200"/>
                <a:chOff x="1707120" y="3398760"/>
                <a:chExt cx="150120" cy="142200"/>
              </a:xfrm>
            </p:grpSpPr>
            <p:sp>
              <p:nvSpPr>
                <p:cNvPr id="498" name=""/>
                <p:cNvSpPr/>
                <p:nvPr/>
              </p:nvSpPr>
              <p:spPr>
                <a:xfrm flipV="1" rot="2092200">
                  <a:off x="1722600" y="34225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 rot="2092200">
                  <a:off x="1729080" y="34264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1790640" y="3463920"/>
              <a:ext cx="239400" cy="197640"/>
              <a:chOff x="1790640" y="3463920"/>
              <a:chExt cx="239400" cy="1976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90640" y="3463920"/>
                <a:ext cx="149040" cy="141840"/>
                <a:chOff x="1790640" y="3463920"/>
                <a:chExt cx="149040" cy="141840"/>
              </a:xfrm>
            </p:grpSpPr>
            <p:sp>
              <p:nvSpPr>
                <p:cNvPr id="502" name=""/>
                <p:cNvSpPr/>
                <p:nvPr/>
              </p:nvSpPr>
              <p:spPr>
                <a:xfrm rot="2092200">
                  <a:off x="1806480" y="34876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rot="2092200">
                  <a:off x="1811880" y="3491280"/>
                  <a:ext cx="11160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880280" y="3519360"/>
                <a:ext cx="149760" cy="142200"/>
                <a:chOff x="1880280" y="3519360"/>
                <a:chExt cx="149760" cy="142200"/>
              </a:xfrm>
            </p:grpSpPr>
            <p:sp>
              <p:nvSpPr>
                <p:cNvPr id="505" name=""/>
                <p:cNvSpPr/>
                <p:nvPr/>
              </p:nvSpPr>
              <p:spPr>
                <a:xfrm flipV="1" rot="2092200">
                  <a:off x="1895760" y="354312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 rot="2092200">
                  <a:off x="1901880" y="3547080"/>
                  <a:ext cx="11232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7" name=""/>
          <p:cNvSpPr/>
          <p:nvPr/>
        </p:nvSpPr>
        <p:spPr>
          <a:xfrm flipH="1" flipV="1">
            <a:off x="556200" y="2557800"/>
            <a:ext cx="106200" cy="123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159920" y="4243320"/>
            <a:ext cx="779040" cy="846360"/>
            <a:chOff x="1159920" y="4243320"/>
            <a:chExt cx="779040" cy="846360"/>
          </a:xfrm>
        </p:grpSpPr>
        <p:grpSp>
          <p:nvGrpSpPr>
            <p:cNvPr id="509" name=""/>
            <p:cNvGrpSpPr/>
            <p:nvPr/>
          </p:nvGrpSpPr>
          <p:grpSpPr>
            <a:xfrm>
              <a:off x="1159920" y="4303800"/>
              <a:ext cx="120240" cy="621000"/>
              <a:chOff x="1159920" y="4303800"/>
              <a:chExt cx="120240" cy="6210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1172160" y="4553280"/>
                <a:ext cx="97920" cy="121680"/>
                <a:chOff x="1172160" y="4553280"/>
                <a:chExt cx="97920" cy="12168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1200600" y="4558680"/>
                  <a:ext cx="39600" cy="48600"/>
                  <a:chOff x="1200600" y="4558680"/>
                  <a:chExt cx="39600" cy="486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flipV="1" rot="16095000">
                    <a:off x="1197360" y="45619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 rot="16095000">
                    <a:off x="1198080" y="4564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1172160" y="4553280"/>
                  <a:ext cx="97920" cy="121680"/>
                  <a:chOff x="1172160" y="4553280"/>
                  <a:chExt cx="97920" cy="1216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6095000">
                    <a:off x="1164600" y="456300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095000">
                    <a:off x="1165320" y="45705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1167840" y="4490640"/>
                <a:ext cx="97560" cy="121680"/>
                <a:chOff x="1167840" y="4490640"/>
                <a:chExt cx="97560" cy="12168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1196280" y="4496400"/>
                  <a:ext cx="39600" cy="48240"/>
                  <a:chOff x="1196280" y="4496400"/>
                  <a:chExt cx="39600" cy="482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flipV="1" rot="16095000">
                    <a:off x="1193400" y="4499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 rot="16095000">
                    <a:off x="1193400" y="45021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1167840" y="4490640"/>
                  <a:ext cx="97560" cy="121680"/>
                  <a:chOff x="1167840" y="4490640"/>
                  <a:chExt cx="97560" cy="12168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16095000">
                    <a:off x="1160280" y="45003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16095000">
                    <a:off x="1160640" y="450792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4" name=""/>
              <p:cNvGrpSpPr/>
              <p:nvPr/>
            </p:nvGrpSpPr>
            <p:grpSpPr>
              <a:xfrm>
                <a:off x="1165680" y="4428720"/>
                <a:ext cx="97560" cy="121320"/>
                <a:chOff x="1165680" y="4428720"/>
                <a:chExt cx="97560" cy="12132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1194480" y="4434120"/>
                  <a:ext cx="39240" cy="47880"/>
                  <a:chOff x="1194480" y="4434120"/>
                  <a:chExt cx="39240" cy="4788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flipH="1" flipV="1" rot="16095000">
                    <a:off x="1191240" y="4437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 rot="16095000">
                    <a:off x="1191600" y="4439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1165680" y="4428720"/>
                  <a:ext cx="97560" cy="121320"/>
                  <a:chOff x="1165680" y="4428720"/>
                  <a:chExt cx="97560" cy="1213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16095000">
                    <a:off x="1158120" y="44384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095000">
                    <a:off x="1158480" y="44456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1161360" y="4365720"/>
                <a:ext cx="97920" cy="121680"/>
                <a:chOff x="1161360" y="4365720"/>
                <a:chExt cx="97920" cy="1216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190160" y="4371120"/>
                  <a:ext cx="39240" cy="48600"/>
                  <a:chOff x="1190160" y="4371120"/>
                  <a:chExt cx="39240" cy="486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flipV="1" rot="16095000">
                    <a:off x="1186920" y="4374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 rot="16095000">
                    <a:off x="1187280" y="4377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1161360" y="4365720"/>
                  <a:ext cx="97920" cy="121680"/>
                  <a:chOff x="1161360" y="4365720"/>
                  <a:chExt cx="97920" cy="12168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16095000">
                    <a:off x="1153800" y="43754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6095000">
                    <a:off x="1154520" y="438300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1182600" y="4802760"/>
                <a:ext cx="97560" cy="122040"/>
                <a:chOff x="1182600" y="4802760"/>
                <a:chExt cx="97560" cy="12204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1211040" y="4808520"/>
                  <a:ext cx="39240" cy="47880"/>
                  <a:chOff x="1211040" y="4808520"/>
                  <a:chExt cx="39240" cy="478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 rot="16095000">
                    <a:off x="1207800" y="48117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V="1" rot="16095000">
                    <a:off x="1208160" y="48139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1182600" y="4802760"/>
                  <a:ext cx="97560" cy="122040"/>
                  <a:chOff x="1182600" y="4802760"/>
                  <a:chExt cx="97560" cy="1220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16095000">
                    <a:off x="1175040" y="48124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6095000">
                    <a:off x="1175400" y="482040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1177560" y="4740840"/>
                <a:ext cx="97920" cy="121680"/>
                <a:chOff x="1177560" y="4740840"/>
                <a:chExt cx="97920" cy="12168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1206360" y="4746240"/>
                  <a:ext cx="39600" cy="48240"/>
                  <a:chOff x="1206360" y="4746240"/>
                  <a:chExt cx="39600" cy="482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flipV="1" rot="16095000">
                    <a:off x="1203120" y="474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V="1" rot="16095000">
                    <a:off x="1203840" y="4752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1177560" y="4740840"/>
                  <a:ext cx="97920" cy="121680"/>
                  <a:chOff x="1177560" y="4740840"/>
                  <a:chExt cx="97920" cy="1216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16095000">
                    <a:off x="1170000" y="475056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6095000">
                    <a:off x="1170720" y="475812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1175760" y="4678200"/>
                <a:ext cx="97920" cy="121680"/>
                <a:chOff x="1175760" y="4678200"/>
                <a:chExt cx="97920" cy="12168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1204560" y="4683600"/>
                  <a:ext cx="39600" cy="48240"/>
                  <a:chOff x="1204560" y="4683600"/>
                  <a:chExt cx="39600" cy="48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flipH="1" flipV="1" rot="16095000">
                    <a:off x="1201320" y="4686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 rot="16095000">
                    <a:off x="1202040" y="4689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1175760" y="4678200"/>
                  <a:ext cx="97920" cy="121680"/>
                  <a:chOff x="1175760" y="4678200"/>
                  <a:chExt cx="97920" cy="1216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flipH="1" rot="16095000">
                    <a:off x="1168200" y="468792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16095000">
                    <a:off x="1168920" y="46954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1171440" y="4615560"/>
                <a:ext cx="97920" cy="121680"/>
                <a:chOff x="1171440" y="4615560"/>
                <a:chExt cx="97920" cy="12168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1200240" y="4621320"/>
                  <a:ext cx="39240" cy="48240"/>
                  <a:chOff x="1200240" y="4621320"/>
                  <a:chExt cx="39240" cy="482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flipV="1" rot="16095000">
                    <a:off x="1197000" y="4624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 rot="16095000">
                    <a:off x="1197360" y="4627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1171440" y="4615560"/>
                  <a:ext cx="97920" cy="121680"/>
                  <a:chOff x="1171440" y="4615560"/>
                  <a:chExt cx="97920" cy="12168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6095000">
                    <a:off x="1163880" y="462528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095000">
                    <a:off x="1164600" y="4632840"/>
                    <a:ext cx="111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159920" y="4303800"/>
                <a:ext cx="97560" cy="121680"/>
                <a:chOff x="1159920" y="4303800"/>
                <a:chExt cx="97560" cy="121680"/>
              </a:xfrm>
            </p:grpSpPr>
            <p:sp>
              <p:nvSpPr>
                <p:cNvPr id="567" name=""/>
                <p:cNvSpPr/>
                <p:nvPr/>
              </p:nvSpPr>
              <p:spPr>
                <a:xfrm flipH="1" rot="16095000">
                  <a:off x="1152360" y="431388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6095000">
                  <a:off x="1152720" y="4321080"/>
                  <a:ext cx="11160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" name=""/>
            <p:cNvGrpSpPr/>
            <p:nvPr/>
          </p:nvGrpSpPr>
          <p:grpSpPr>
            <a:xfrm>
              <a:off x="1361520" y="4404240"/>
              <a:ext cx="577440" cy="404640"/>
              <a:chOff x="1361520" y="4404240"/>
              <a:chExt cx="577440" cy="40464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574280" y="4533480"/>
                <a:ext cx="150840" cy="143640"/>
                <a:chOff x="1574280" y="4533480"/>
                <a:chExt cx="150840" cy="14364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1645560" y="4560120"/>
                  <a:ext cx="60120" cy="56880"/>
                  <a:chOff x="1645560" y="4560120"/>
                  <a:chExt cx="60120" cy="56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19654800">
                    <a:off x="1653840" y="4569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19655400">
                    <a:off x="1652040" y="456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1574280" y="4533480"/>
                  <a:ext cx="150840" cy="143640"/>
                  <a:chOff x="1574280" y="4533480"/>
                  <a:chExt cx="150840" cy="14364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flipV="1" rot="19655400">
                    <a:off x="1596240" y="4555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V="1" rot="19654800">
                    <a:off x="1590840" y="45597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1628280" y="4502160"/>
                <a:ext cx="151200" cy="143640"/>
                <a:chOff x="1628280" y="4502160"/>
                <a:chExt cx="151200" cy="14364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699920" y="4528800"/>
                  <a:ext cx="60120" cy="56880"/>
                  <a:chOff x="1699920" y="4528800"/>
                  <a:chExt cx="60120" cy="56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19654800">
                    <a:off x="1708200" y="4537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9655400">
                    <a:off x="1706400" y="4538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1628280" y="4502160"/>
                  <a:ext cx="151200" cy="143640"/>
                  <a:chOff x="1628280" y="4502160"/>
                  <a:chExt cx="151200" cy="14364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flipH="1" flipV="1" rot="19655400">
                    <a:off x="1650600" y="45244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V="1" rot="19654800">
                    <a:off x="1644840" y="4528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1680840" y="4469040"/>
                <a:ext cx="151200" cy="143280"/>
                <a:chOff x="1680840" y="4469040"/>
                <a:chExt cx="151200" cy="14328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1752120" y="4494960"/>
                  <a:ext cx="60480" cy="57240"/>
                  <a:chOff x="1752120" y="4494960"/>
                  <a:chExt cx="60480" cy="5724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 rot="19654800">
                    <a:off x="1760760" y="4503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9655400">
                    <a:off x="1758600" y="4505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1680840" y="4469040"/>
                  <a:ext cx="151200" cy="143280"/>
                  <a:chOff x="1680840" y="4469040"/>
                  <a:chExt cx="151200" cy="14328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flipV="1" rot="19655400">
                    <a:off x="1703160" y="44913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 rot="19654800">
                    <a:off x="1697400" y="4494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1735200" y="4437360"/>
                <a:ext cx="150840" cy="143640"/>
                <a:chOff x="1735200" y="4437360"/>
                <a:chExt cx="150840" cy="14364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1806480" y="4463640"/>
                  <a:ext cx="60120" cy="57240"/>
                  <a:chOff x="1806480" y="4463640"/>
                  <a:chExt cx="60120" cy="572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rot="19654800">
                    <a:off x="1814760" y="4472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rot="19655400">
                    <a:off x="1812960" y="44737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1735200" y="4437360"/>
                  <a:ext cx="150840" cy="143640"/>
                  <a:chOff x="1735200" y="4437360"/>
                  <a:chExt cx="150840" cy="1436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H="1" flipV="1" rot="19655400">
                    <a:off x="1757160" y="4459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V="1" rot="19654800">
                    <a:off x="1751760" y="4463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8" name=""/>
              <p:cNvGrpSpPr/>
              <p:nvPr/>
            </p:nvGrpSpPr>
            <p:grpSpPr>
              <a:xfrm>
                <a:off x="1361520" y="4665240"/>
                <a:ext cx="151200" cy="143640"/>
                <a:chOff x="1361520" y="4665240"/>
                <a:chExt cx="151200" cy="14364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1433160" y="4691880"/>
                  <a:ext cx="60120" cy="56880"/>
                  <a:chOff x="1433160" y="4691880"/>
                  <a:chExt cx="60120" cy="568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rot="19654800">
                    <a:off x="1441440" y="4700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9655400">
                    <a:off x="1439640" y="4701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1361520" y="4665240"/>
                  <a:ext cx="151200" cy="143640"/>
                  <a:chOff x="1361520" y="4665240"/>
                  <a:chExt cx="151200" cy="143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 rot="19655400">
                    <a:off x="1383840" y="46875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 rot="19654800">
                    <a:off x="1378080" y="4691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1415520" y="4634280"/>
                <a:ext cx="151200" cy="143640"/>
                <a:chOff x="1415520" y="4634280"/>
                <a:chExt cx="151200" cy="14364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487160" y="4660560"/>
                  <a:ext cx="60120" cy="57240"/>
                  <a:chOff x="1487160" y="4660560"/>
                  <a:chExt cx="60120" cy="572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9654800">
                    <a:off x="1495440" y="4669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19655400">
                    <a:off x="1493640" y="4670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1415520" y="4634280"/>
                  <a:ext cx="151200" cy="143640"/>
                  <a:chOff x="1415520" y="4634280"/>
                  <a:chExt cx="151200" cy="1436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flipV="1" rot="19655400">
                    <a:off x="1437840" y="46566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 rot="19654800">
                    <a:off x="1432080" y="46605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1468440" y="4600440"/>
                <a:ext cx="151200" cy="143640"/>
                <a:chOff x="1468440" y="4600440"/>
                <a:chExt cx="151200" cy="14364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540440" y="4627080"/>
                  <a:ext cx="60120" cy="56880"/>
                  <a:chOff x="1540440" y="4627080"/>
                  <a:chExt cx="60120" cy="5688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 rot="19654800">
                    <a:off x="1548720" y="4636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9655400">
                    <a:off x="1546920" y="4636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1468440" y="4600440"/>
                  <a:ext cx="151200" cy="143640"/>
                  <a:chOff x="1468440" y="4600440"/>
                  <a:chExt cx="151200" cy="1436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flipH="1" flipV="1" rot="19655400">
                    <a:off x="1490760" y="46227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V="1" rot="19654800">
                    <a:off x="1485000" y="4626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1522800" y="4569120"/>
                <a:ext cx="151200" cy="143640"/>
                <a:chOff x="1522800" y="4569120"/>
                <a:chExt cx="151200" cy="14364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1594440" y="4595400"/>
                  <a:ext cx="60120" cy="56880"/>
                  <a:chOff x="1594440" y="4595400"/>
                  <a:chExt cx="60120" cy="5688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19654800">
                    <a:off x="1602720" y="460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19655400">
                    <a:off x="1600920" y="460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1522800" y="4569120"/>
                  <a:ext cx="151200" cy="143640"/>
                  <a:chOff x="1522800" y="4569120"/>
                  <a:chExt cx="151200" cy="1436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flipV="1" rot="19655400">
                    <a:off x="1545120" y="4591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V="1" rot="19654800">
                    <a:off x="1539360" y="4595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1787760" y="4404240"/>
                <a:ext cx="151200" cy="143280"/>
                <a:chOff x="1787760" y="4404240"/>
                <a:chExt cx="151200" cy="143280"/>
              </a:xfrm>
            </p:grpSpPr>
            <p:sp>
              <p:nvSpPr>
                <p:cNvPr id="627" name=""/>
                <p:cNvSpPr/>
                <p:nvPr/>
              </p:nvSpPr>
              <p:spPr>
                <a:xfrm flipH="1" flipV="1" rot="19655400">
                  <a:off x="1810080" y="442656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 rot="19654800">
                  <a:off x="1804320" y="443016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9" name=""/>
            <p:cNvSpPr/>
            <p:nvPr/>
          </p:nvSpPr>
          <p:spPr>
            <a:xfrm flipH="1">
              <a:off x="1172880" y="4908240"/>
              <a:ext cx="72000" cy="1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238760" y="4777560"/>
              <a:ext cx="164520" cy="14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1401120" y="4243320"/>
              <a:ext cx="324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387800" y="5382000"/>
            <a:ext cx="545400" cy="1000080"/>
            <a:chOff x="1387800" y="5382000"/>
            <a:chExt cx="545400" cy="1000080"/>
          </a:xfrm>
        </p:grpSpPr>
        <p:sp>
          <p:nvSpPr>
            <p:cNvPr id="633" name=""/>
            <p:cNvSpPr/>
            <p:nvPr/>
          </p:nvSpPr>
          <p:spPr>
            <a:xfrm>
              <a:off x="1492200" y="5382000"/>
              <a:ext cx="396360" cy="10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24600" y="5460840"/>
              <a:ext cx="40860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11640" y="5464440"/>
              <a:ext cx="17568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12000" y="5456520"/>
              <a:ext cx="24552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387800" y="5485680"/>
              <a:ext cx="162360" cy="384120"/>
              <a:chOff x="1387800" y="5485680"/>
              <a:chExt cx="162360" cy="38412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1426680" y="5634360"/>
                <a:ext cx="86760" cy="87480"/>
                <a:chOff x="1426680" y="5634360"/>
                <a:chExt cx="86760" cy="8748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1448280" y="5679360"/>
                  <a:ext cx="34920" cy="34200"/>
                  <a:chOff x="1448280" y="5679360"/>
                  <a:chExt cx="34920" cy="34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6188400">
                    <a:off x="1451520" y="568224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88400">
                    <a:off x="1451880" y="568116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1426680" y="5634360"/>
                  <a:ext cx="86760" cy="87480"/>
                  <a:chOff x="1426680" y="5634360"/>
                  <a:chExt cx="86760" cy="8748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flipH="1" flipV="1" rot="6188400">
                    <a:off x="1434960" y="564372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 rot="6188400">
                    <a:off x="1436040" y="563940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5" name=""/>
              <p:cNvGrpSpPr/>
              <p:nvPr/>
            </p:nvGrpSpPr>
            <p:grpSpPr>
              <a:xfrm>
                <a:off x="1415880" y="5671080"/>
                <a:ext cx="86760" cy="87480"/>
                <a:chOff x="1415880" y="5671080"/>
                <a:chExt cx="86760" cy="8748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1437840" y="5715720"/>
                  <a:ext cx="34560" cy="34560"/>
                  <a:chOff x="1437840" y="5715720"/>
                  <a:chExt cx="34560" cy="345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6188400">
                    <a:off x="1441080" y="571896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6188400">
                    <a:off x="1441080" y="571752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1415880" y="5671080"/>
                  <a:ext cx="86760" cy="87480"/>
                  <a:chOff x="1415880" y="5671080"/>
                  <a:chExt cx="86760" cy="874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flipV="1" rot="6188400">
                    <a:off x="1424160" y="568044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 rot="6188400">
                    <a:off x="1425240" y="567612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"/>
              <p:cNvGrpSpPr/>
              <p:nvPr/>
            </p:nvGrpSpPr>
            <p:grpSpPr>
              <a:xfrm>
                <a:off x="1407240" y="5708520"/>
                <a:ext cx="86760" cy="87480"/>
                <a:chOff x="1407240" y="5708520"/>
                <a:chExt cx="86760" cy="8748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1428840" y="5753160"/>
                  <a:ext cx="34560" cy="34920"/>
                  <a:chOff x="1428840" y="5753160"/>
                  <a:chExt cx="34560" cy="349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rot="6188400">
                    <a:off x="1432080" y="575676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6188400">
                    <a:off x="1432080" y="575496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1407240" y="5708520"/>
                  <a:ext cx="86760" cy="87480"/>
                  <a:chOff x="1407240" y="5708520"/>
                  <a:chExt cx="86760" cy="8748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flipH="1" flipV="1" rot="6188400">
                    <a:off x="1415520" y="571788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V="1" rot="6188400">
                    <a:off x="1416600" y="571356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1396800" y="5745240"/>
                <a:ext cx="86760" cy="87480"/>
                <a:chOff x="1396800" y="5745240"/>
                <a:chExt cx="86760" cy="8748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1418400" y="5790240"/>
                  <a:ext cx="34920" cy="34560"/>
                  <a:chOff x="1418400" y="5790240"/>
                  <a:chExt cx="34920" cy="345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H="1" rot="6188400">
                    <a:off x="1421640" y="579348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6188400">
                    <a:off x="1422000" y="579204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1396800" y="5745240"/>
                  <a:ext cx="86760" cy="87480"/>
                  <a:chOff x="1396800" y="5745240"/>
                  <a:chExt cx="86760" cy="8748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H="1" flipV="1" rot="6188400">
                    <a:off x="1405080" y="575460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V="1" rot="6188400">
                    <a:off x="1406160" y="575028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1463040" y="5485680"/>
                <a:ext cx="87120" cy="87480"/>
                <a:chOff x="1463040" y="5485680"/>
                <a:chExt cx="87120" cy="8748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1485000" y="5530680"/>
                  <a:ext cx="34920" cy="34560"/>
                  <a:chOff x="1485000" y="5530680"/>
                  <a:chExt cx="34920" cy="3456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6188400">
                    <a:off x="1488240" y="553392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rot="6188400">
                    <a:off x="1488600" y="553248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1463040" y="5485680"/>
                  <a:ext cx="87120" cy="87480"/>
                  <a:chOff x="1463040" y="5485680"/>
                  <a:chExt cx="87120" cy="8748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flipV="1" rot="6188400">
                    <a:off x="1471320" y="549504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 rot="6188400">
                    <a:off x="1472760" y="549072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1452600" y="5522400"/>
                <a:ext cx="87120" cy="87480"/>
                <a:chOff x="1452600" y="5522400"/>
                <a:chExt cx="87120" cy="874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1474560" y="5567400"/>
                  <a:ext cx="34920" cy="34560"/>
                  <a:chOff x="1474560" y="5567400"/>
                  <a:chExt cx="34920" cy="345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 rot="6188400">
                    <a:off x="1477800" y="557064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6188400">
                    <a:off x="1478160" y="556920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1452600" y="5522400"/>
                  <a:ext cx="87120" cy="87480"/>
                  <a:chOff x="1452600" y="5522400"/>
                  <a:chExt cx="87120" cy="8748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flipH="1" flipV="1" rot="6188400">
                    <a:off x="1460880" y="553176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 rot="6188400">
                    <a:off x="1462320" y="552744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0" name=""/>
              <p:cNvGrpSpPr/>
              <p:nvPr/>
            </p:nvGrpSpPr>
            <p:grpSpPr>
              <a:xfrm>
                <a:off x="1443960" y="5559840"/>
                <a:ext cx="87120" cy="87120"/>
                <a:chOff x="1443960" y="5559840"/>
                <a:chExt cx="87120" cy="8712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465560" y="5604480"/>
                  <a:ext cx="34920" cy="34560"/>
                  <a:chOff x="1465560" y="5604480"/>
                  <a:chExt cx="34920" cy="3456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rot="6188400">
                    <a:off x="1468800" y="560772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6188400">
                    <a:off x="1469160" y="560628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1443960" y="5559840"/>
                  <a:ext cx="87120" cy="87120"/>
                  <a:chOff x="1443960" y="5559840"/>
                  <a:chExt cx="87120" cy="871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flipV="1" rot="6188400">
                    <a:off x="1452240" y="556884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 rot="6188400">
                    <a:off x="1453680" y="556488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1433160" y="5596560"/>
                <a:ext cx="86760" cy="87480"/>
                <a:chOff x="1433160" y="5596560"/>
                <a:chExt cx="86760" cy="87480"/>
              </a:xfrm>
            </p:grpSpPr>
            <p:grpSp>
              <p:nvGrpSpPr>
                <p:cNvPr id="688" name=""/>
                <p:cNvGrpSpPr/>
                <p:nvPr/>
              </p:nvGrpSpPr>
              <p:grpSpPr>
                <a:xfrm>
                  <a:off x="1454760" y="5641560"/>
                  <a:ext cx="34920" cy="34200"/>
                  <a:chOff x="1454760" y="5641560"/>
                  <a:chExt cx="34920" cy="3420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flipH="1" rot="6188400">
                    <a:off x="1458000" y="564444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6188400">
                    <a:off x="1458360" y="5643360"/>
                    <a:ext cx="273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1433160" y="5596560"/>
                  <a:ext cx="86760" cy="87480"/>
                  <a:chOff x="1433160" y="5596560"/>
                  <a:chExt cx="86760" cy="8748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 rot="6188400">
                    <a:off x="1441440" y="560592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V="1" rot="6188400">
                    <a:off x="1442520" y="5601600"/>
                    <a:ext cx="684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4" name=""/>
              <p:cNvGrpSpPr/>
              <p:nvPr/>
            </p:nvGrpSpPr>
            <p:grpSpPr>
              <a:xfrm>
                <a:off x="1387800" y="5782320"/>
                <a:ext cx="87120" cy="87480"/>
                <a:chOff x="1387800" y="5782320"/>
                <a:chExt cx="87120" cy="87480"/>
              </a:xfrm>
            </p:grpSpPr>
            <p:sp>
              <p:nvSpPr>
                <p:cNvPr id="695" name=""/>
                <p:cNvSpPr/>
                <p:nvPr/>
              </p:nvSpPr>
              <p:spPr>
                <a:xfrm flipH="1" flipV="1" rot="6188400">
                  <a:off x="1396080" y="5791680"/>
                  <a:ext cx="68400" cy="7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 rot="6188400">
                  <a:off x="1397520" y="5787360"/>
                  <a:ext cx="68400" cy="7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 flipH="1" flipV="1">
              <a:off x="1478880" y="5390280"/>
              <a:ext cx="48600" cy="11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3"/>
          <p:cNvGrpSpPr/>
          <p:nvPr/>
        </p:nvGrpSpPr>
        <p:grpSpPr>
          <a:xfrm>
            <a:off x="5562720" y="0"/>
            <a:ext cx="3581280" cy="2438280"/>
            <a:chOff x="5562720" y="0"/>
            <a:chExt cx="3581280" cy="2438280"/>
          </a:xfrm>
        </p:grpSpPr>
        <p:pic>
          <p:nvPicPr>
            <p:cNvPr id="699" name="Picture 14" descr="dir1"/>
            <p:cNvPicPr/>
            <p:nvPr/>
          </p:nvPicPr>
          <p:blipFill>
            <a:blip r:embed="rId2"/>
            <a:stretch/>
          </p:blipFill>
          <p:spPr>
            <a:xfrm>
              <a:off x="5562720" y="0"/>
              <a:ext cx="3581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Rectangle 15"/>
            <p:cNvSpPr/>
            <p:nvPr/>
          </p:nvSpPr>
          <p:spPr>
            <a:xfrm>
              <a:off x="5910840" y="240120"/>
              <a:ext cx="893520" cy="196848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19F-8E5E-4F58-93E1-4AC5045FC4A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544680" y="685800"/>
            <a:ext cx="1817640" cy="259092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2222640" y="685800"/>
            <a:ext cx="1815840" cy="259092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3875040" y="685800"/>
            <a:ext cx="1839960" cy="25909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5572080" y="685800"/>
            <a:ext cx="1819440" cy="259092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>
            <a:off x="7245360" y="685800"/>
            <a:ext cx="1822320" cy="259092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447840" y="3352680"/>
            <a:ext cx="1761840" cy="259092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>
            <a:off x="2133720" y="3352680"/>
            <a:ext cx="1785960" cy="2590920"/>
          </a:xfrm>
          <a:prstGeom prst="rect">
            <a:avLst/>
          </a:prstGeom>
          <a:ln w="0">
            <a:noFill/>
          </a:ln>
        </p:spPr>
      </p:pic>
      <p:pic>
        <p:nvPicPr>
          <p:cNvPr id="1828" name="" descr=""/>
          <p:cNvPicPr/>
          <p:nvPr/>
        </p:nvPicPr>
        <p:blipFill>
          <a:blip r:embed="rId8"/>
          <a:stretch/>
        </p:blipFill>
        <p:spPr>
          <a:xfrm>
            <a:off x="3809880" y="3352680"/>
            <a:ext cx="1779840" cy="2590920"/>
          </a:xfrm>
          <a:prstGeom prst="rect">
            <a:avLst/>
          </a:prstGeom>
          <a:ln w="0">
            <a:noFill/>
          </a:ln>
        </p:spPr>
      </p:pic>
      <p:pic>
        <p:nvPicPr>
          <p:cNvPr id="1829" name="" descr=""/>
          <p:cNvPicPr/>
          <p:nvPr/>
        </p:nvPicPr>
        <p:blipFill>
          <a:blip r:embed="rId9"/>
          <a:stretch/>
        </p:blipFill>
        <p:spPr>
          <a:xfrm>
            <a:off x="5486400" y="3311640"/>
            <a:ext cx="1801800" cy="2631960"/>
          </a:xfrm>
          <a:prstGeom prst="rect">
            <a:avLst/>
          </a:prstGeom>
          <a:ln w="0">
            <a:noFill/>
          </a:ln>
        </p:spPr>
      </p:pic>
      <p:pic>
        <p:nvPicPr>
          <p:cNvPr id="1830" name="" descr=""/>
          <p:cNvPicPr/>
          <p:nvPr/>
        </p:nvPicPr>
        <p:blipFill>
          <a:blip r:embed="rId10"/>
          <a:stretch/>
        </p:blipFill>
        <p:spPr>
          <a:xfrm>
            <a:off x="7162920" y="3276720"/>
            <a:ext cx="1849320" cy="266688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2819520" y="33526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743200" y="3733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4495680" y="33526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4724280" y="34286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172200" y="33526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172200" y="35053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924680" y="33526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924680" y="35053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3070080" y="4190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4746600" y="4190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6434280" y="4190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8142120" y="4190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57680" y="152280"/>
            <a:ext cx="76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MPT(v1.25/v2.25 string melting) : Au+Au 200GeV b=7fm (with embedding op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46640" y="838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mbe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423880" y="83808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838080"/>
            <a:ext cx="113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788440" y="838080"/>
            <a:ext cx="102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486560" y="83808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752480" y="6019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events with the same triggered (embedded)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7918920" y="46080"/>
            <a:ext cx="114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.W.Lin, J.J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Mohapatr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. Esu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805-131C-4B89-B440-FC351FFD0CE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1" name="" descr=""/>
          <p:cNvPicPr/>
          <p:nvPr/>
        </p:nvPicPr>
        <p:blipFill>
          <a:blip r:embed="rId1"/>
          <a:stretch/>
        </p:blipFill>
        <p:spPr>
          <a:xfrm>
            <a:off x="447840" y="3390840"/>
            <a:ext cx="1761840" cy="2590920"/>
          </a:xfrm>
          <a:prstGeom prst="rect">
            <a:avLst/>
          </a:prstGeom>
          <a:ln w="0">
            <a:noFill/>
          </a:ln>
        </p:spPr>
      </p:pic>
      <p:pic>
        <p:nvPicPr>
          <p:cNvPr id="1852" name="" descr=""/>
          <p:cNvPicPr/>
          <p:nvPr/>
        </p:nvPicPr>
        <p:blipFill>
          <a:blip r:embed="rId2"/>
          <a:stretch/>
        </p:blipFill>
        <p:spPr>
          <a:xfrm>
            <a:off x="2135160" y="3352680"/>
            <a:ext cx="1789200" cy="2667240"/>
          </a:xfrm>
          <a:prstGeom prst="rect">
            <a:avLst/>
          </a:prstGeom>
          <a:ln w="0">
            <a:noFill/>
          </a:ln>
        </p:spPr>
      </p:pic>
      <p:pic>
        <p:nvPicPr>
          <p:cNvPr id="1853" name="" descr=""/>
          <p:cNvPicPr/>
          <p:nvPr/>
        </p:nvPicPr>
        <p:blipFill>
          <a:blip r:embed="rId3"/>
          <a:stretch/>
        </p:blipFill>
        <p:spPr>
          <a:xfrm>
            <a:off x="3792600" y="3352680"/>
            <a:ext cx="1820880" cy="2667240"/>
          </a:xfrm>
          <a:prstGeom prst="rect">
            <a:avLst/>
          </a:prstGeom>
          <a:ln w="0">
            <a:noFill/>
          </a:ln>
        </p:spPr>
      </p:pic>
      <p:pic>
        <p:nvPicPr>
          <p:cNvPr id="1854" name="" descr=""/>
          <p:cNvPicPr/>
          <p:nvPr/>
        </p:nvPicPr>
        <p:blipFill>
          <a:blip r:embed="rId4"/>
          <a:stretch/>
        </p:blipFill>
        <p:spPr>
          <a:xfrm>
            <a:off x="5491080" y="3352680"/>
            <a:ext cx="1824120" cy="266724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5"/>
          <a:stretch/>
        </p:blipFill>
        <p:spPr>
          <a:xfrm>
            <a:off x="7162920" y="33526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2857680" y="31240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781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546440" y="31240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4775040" y="32000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248520" y="31240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6248520" y="32767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924680" y="312408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924680" y="32767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8131320" y="4038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6443640" y="4038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741920" y="4038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063960" y="4038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46640" y="36576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mbe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325600" y="365760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000680" y="3657600"/>
            <a:ext cx="113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712120" y="3657600"/>
            <a:ext cx="102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426440" y="365760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d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828800" y="5486400"/>
            <a:ext cx="5889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events without the triggered (embedded)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mixed events from min.bias events 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4" name="" descr=""/>
          <p:cNvPicPr/>
          <p:nvPr/>
        </p:nvPicPr>
        <p:blipFill>
          <a:blip r:embed="rId6"/>
          <a:stretch/>
        </p:blipFill>
        <p:spPr>
          <a:xfrm>
            <a:off x="447840" y="457200"/>
            <a:ext cx="1761840" cy="259092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7"/>
          <a:stretch/>
        </p:blipFill>
        <p:spPr>
          <a:xfrm>
            <a:off x="2133720" y="457200"/>
            <a:ext cx="1785960" cy="2590920"/>
          </a:xfrm>
          <a:prstGeom prst="rect">
            <a:avLst/>
          </a:prstGeom>
          <a:ln w="0">
            <a:noFill/>
          </a:ln>
        </p:spPr>
      </p:pic>
      <p:pic>
        <p:nvPicPr>
          <p:cNvPr id="1876" name="" descr=""/>
          <p:cNvPicPr/>
          <p:nvPr/>
        </p:nvPicPr>
        <p:blipFill>
          <a:blip r:embed="rId8"/>
          <a:stretch/>
        </p:blipFill>
        <p:spPr>
          <a:xfrm>
            <a:off x="3809880" y="457200"/>
            <a:ext cx="1779840" cy="2590920"/>
          </a:xfrm>
          <a:prstGeom prst="rect">
            <a:avLst/>
          </a:prstGeom>
          <a:ln w="0">
            <a:noFill/>
          </a:ln>
        </p:spPr>
      </p:pic>
      <p:pic>
        <p:nvPicPr>
          <p:cNvPr id="1877" name="" descr=""/>
          <p:cNvPicPr/>
          <p:nvPr/>
        </p:nvPicPr>
        <p:blipFill>
          <a:blip r:embed="rId9"/>
          <a:stretch/>
        </p:blipFill>
        <p:spPr>
          <a:xfrm>
            <a:off x="5486400" y="415800"/>
            <a:ext cx="1801800" cy="2632320"/>
          </a:xfrm>
          <a:prstGeom prst="rect">
            <a:avLst/>
          </a:prstGeom>
          <a:ln w="0">
            <a:noFill/>
          </a:ln>
        </p:spPr>
      </p:pic>
      <p:pic>
        <p:nvPicPr>
          <p:cNvPr id="1878" name="" descr=""/>
          <p:cNvPicPr/>
          <p:nvPr/>
        </p:nvPicPr>
        <p:blipFill>
          <a:blip r:embed="rId10"/>
          <a:stretch/>
        </p:blipFill>
        <p:spPr>
          <a:xfrm>
            <a:off x="7162920" y="380880"/>
            <a:ext cx="1849320" cy="2667240"/>
          </a:xfrm>
          <a:prstGeom prst="rect">
            <a:avLst/>
          </a:prstGeom>
          <a:ln w="0">
            <a:noFill/>
          </a:ln>
        </p:spPr>
      </p:pic>
      <p:sp>
        <p:nvSpPr>
          <p:cNvPr id="1879" name=""/>
          <p:cNvSpPr/>
          <p:nvPr/>
        </p:nvSpPr>
        <p:spPr>
          <a:xfrm>
            <a:off x="2819520" y="45720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743200" y="838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495680" y="45720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4724280" y="533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6172200" y="45720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6172200" y="609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7924680" y="457200"/>
            <a:ext cx="457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7924680" y="609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0700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474660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64342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814212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676520" y="2367000"/>
            <a:ext cx="6172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events with the same triggered (embedded)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D89-13E3-4828-86C4-CAED1839979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4114800" y="1066680"/>
            <a:ext cx="5000760" cy="4419360"/>
            <a:chOff x="4114800" y="1066680"/>
            <a:chExt cx="5000760" cy="4419360"/>
          </a:xfrm>
        </p:grpSpPr>
        <p:pic>
          <p:nvPicPr>
            <p:cNvPr id="1893" name="" descr=""/>
            <p:cNvPicPr/>
            <p:nvPr/>
          </p:nvPicPr>
          <p:blipFill>
            <a:blip r:embed="rId1"/>
            <a:srcRect l="2324" t="8544" r="8455" b="0"/>
            <a:stretch/>
          </p:blipFill>
          <p:spPr>
            <a:xfrm>
              <a:off x="4114800" y="1066680"/>
              <a:ext cx="500076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" descr=""/>
            <p:cNvPicPr/>
            <p:nvPr/>
          </p:nvPicPr>
          <p:blipFill>
            <a:blip r:embed="rId2"/>
            <a:srcRect l="64975" t="73136" r="23991" b="18620"/>
            <a:stretch/>
          </p:blipFill>
          <p:spPr>
            <a:xfrm>
              <a:off x="8216280" y="4431240"/>
              <a:ext cx="68148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" descr=""/>
            <p:cNvPicPr/>
            <p:nvPr/>
          </p:nvPicPr>
          <p:blipFill>
            <a:blip r:embed="rId3"/>
            <a:srcRect l="12968" t="54083" r="71512" b="40286"/>
            <a:stretch/>
          </p:blipFill>
          <p:spPr>
            <a:xfrm>
              <a:off x="5463360" y="3781440"/>
              <a:ext cx="115956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" descr=""/>
            <p:cNvPicPr/>
            <p:nvPr/>
          </p:nvPicPr>
          <p:blipFill>
            <a:blip r:embed="rId4"/>
            <a:srcRect l="24659" t="54290" r="62845" b="34257"/>
            <a:stretch/>
          </p:blipFill>
          <p:spPr>
            <a:xfrm>
              <a:off x="7589520" y="1629720"/>
              <a:ext cx="1224000" cy="9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5"/>
            <a:srcRect l="48880" t="43880" r="37063" b="43628"/>
            <a:stretch/>
          </p:blipFill>
          <p:spPr>
            <a:xfrm>
              <a:off x="7631280" y="3029040"/>
              <a:ext cx="111780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6"/>
            <a:srcRect l="24659" t="54290" r="62845" b="34257"/>
            <a:stretch/>
          </p:blipFill>
          <p:spPr>
            <a:xfrm>
              <a:off x="5846040" y="1344600"/>
              <a:ext cx="129096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7"/>
            <a:srcRect l="44191" t="20963" r="34719" b="69666"/>
            <a:stretch/>
          </p:blipFill>
          <p:spPr>
            <a:xfrm>
              <a:off x="7138800" y="1384200"/>
              <a:ext cx="173916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8"/>
            <a:srcRect l="17417" t="22006" r="57374" b="75917"/>
            <a:stretch/>
          </p:blipFill>
          <p:spPr>
            <a:xfrm>
              <a:off x="5164200" y="1263240"/>
              <a:ext cx="2078640" cy="1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9"/>
            <a:srcRect l="24659" t="54290" r="62845" b="34257"/>
            <a:stretch/>
          </p:blipFill>
          <p:spPr>
            <a:xfrm>
              <a:off x="7372080" y="1293480"/>
              <a:ext cx="77760" cy="2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" descr=""/>
            <p:cNvPicPr/>
            <p:nvPr/>
          </p:nvPicPr>
          <p:blipFill>
            <a:blip r:embed="rId10"/>
            <a:srcRect l="24659" t="54290" r="62845" b="34257"/>
            <a:stretch/>
          </p:blipFill>
          <p:spPr>
            <a:xfrm>
              <a:off x="8041680" y="1211760"/>
              <a:ext cx="7776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3" name="" descr=""/>
            <p:cNvPicPr/>
            <p:nvPr/>
          </p:nvPicPr>
          <p:blipFill>
            <a:blip r:embed="rId11"/>
            <a:srcRect l="24659" t="54290" r="62845" b="34257"/>
            <a:stretch/>
          </p:blipFill>
          <p:spPr>
            <a:xfrm>
              <a:off x="8670960" y="1293480"/>
              <a:ext cx="77760" cy="24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4" name=""/>
          <p:cNvSpPr/>
          <p:nvPr/>
        </p:nvSpPr>
        <p:spPr>
          <a:xfrm>
            <a:off x="1905120" y="990720"/>
            <a:ext cx="1981080" cy="312408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050120" y="1554120"/>
            <a:ext cx="2836080" cy="1629720"/>
            <a:chOff x="1050120" y="1554120"/>
            <a:chExt cx="2836080" cy="1629720"/>
          </a:xfrm>
        </p:grpSpPr>
        <p:grpSp>
          <p:nvGrpSpPr>
            <p:cNvPr id="1906" name=""/>
            <p:cNvGrpSpPr/>
            <p:nvPr/>
          </p:nvGrpSpPr>
          <p:grpSpPr>
            <a:xfrm>
              <a:off x="2354760" y="1611000"/>
              <a:ext cx="1447920" cy="882720"/>
              <a:chOff x="2354760" y="1611000"/>
              <a:chExt cx="1447920" cy="882720"/>
            </a:xfrm>
          </p:grpSpPr>
          <p:grpSp>
            <p:nvGrpSpPr>
              <p:cNvPr id="1907" name=""/>
              <p:cNvGrpSpPr/>
              <p:nvPr/>
            </p:nvGrpSpPr>
            <p:grpSpPr>
              <a:xfrm>
                <a:off x="2354760" y="2312280"/>
                <a:ext cx="225000" cy="181440"/>
                <a:chOff x="2354760" y="2312280"/>
                <a:chExt cx="225000" cy="181440"/>
              </a:xfrm>
            </p:grpSpPr>
            <p:grpSp>
              <p:nvGrpSpPr>
                <p:cNvPr id="1908" name=""/>
                <p:cNvGrpSpPr/>
                <p:nvPr/>
              </p:nvGrpSpPr>
              <p:grpSpPr>
                <a:xfrm>
                  <a:off x="2354760" y="2366280"/>
                  <a:ext cx="138960" cy="127440"/>
                  <a:chOff x="2354760" y="2366280"/>
                  <a:chExt cx="138960" cy="127440"/>
                </a:xfrm>
              </p:grpSpPr>
              <p:sp>
                <p:nvSpPr>
                  <p:cNvPr id="1909" name=""/>
                  <p:cNvSpPr/>
                  <p:nvPr/>
                </p:nvSpPr>
                <p:spPr>
                  <a:xfrm rot="19851000">
                    <a:off x="2368080" y="2390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 flipH="1" rot="19850400">
                    <a:off x="2373840" y="23868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1" name=""/>
                <p:cNvGrpSpPr/>
                <p:nvPr/>
              </p:nvGrpSpPr>
              <p:grpSpPr>
                <a:xfrm>
                  <a:off x="2439720" y="2312280"/>
                  <a:ext cx="140040" cy="127440"/>
                  <a:chOff x="2439720" y="2312280"/>
                  <a:chExt cx="140040" cy="127440"/>
                </a:xfrm>
              </p:grpSpPr>
              <p:sp>
                <p:nvSpPr>
                  <p:cNvPr id="1912" name=""/>
                  <p:cNvSpPr/>
                  <p:nvPr/>
                </p:nvSpPr>
                <p:spPr>
                  <a:xfrm flipV="1" rot="19850400">
                    <a:off x="2453040" y="23360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 flipH="1" flipV="1" rot="19851000">
                    <a:off x="2458800" y="2332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4" name=""/>
              <p:cNvGrpSpPr/>
              <p:nvPr/>
            </p:nvGrpSpPr>
            <p:grpSpPr>
              <a:xfrm>
                <a:off x="2530440" y="2214000"/>
                <a:ext cx="225000" cy="181800"/>
                <a:chOff x="2530440" y="2214000"/>
                <a:chExt cx="225000" cy="181800"/>
              </a:xfrm>
            </p:grpSpPr>
            <p:grpSp>
              <p:nvGrpSpPr>
                <p:cNvPr id="1915" name=""/>
                <p:cNvGrpSpPr/>
                <p:nvPr/>
              </p:nvGrpSpPr>
              <p:grpSpPr>
                <a:xfrm>
                  <a:off x="2530440" y="2268720"/>
                  <a:ext cx="139320" cy="127080"/>
                  <a:chOff x="2530440" y="2268720"/>
                  <a:chExt cx="139320" cy="127080"/>
                </a:xfrm>
              </p:grpSpPr>
              <p:sp>
                <p:nvSpPr>
                  <p:cNvPr id="1916" name=""/>
                  <p:cNvSpPr/>
                  <p:nvPr/>
                </p:nvSpPr>
                <p:spPr>
                  <a:xfrm rot="19851000">
                    <a:off x="2543760" y="2292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 flipH="1" rot="19850400">
                    <a:off x="2549880" y="2289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8" name=""/>
                <p:cNvGrpSpPr/>
                <p:nvPr/>
              </p:nvGrpSpPr>
              <p:grpSpPr>
                <a:xfrm>
                  <a:off x="2615760" y="2214000"/>
                  <a:ext cx="139680" cy="127800"/>
                  <a:chOff x="2615760" y="2214000"/>
                  <a:chExt cx="139680" cy="127800"/>
                </a:xfrm>
              </p:grpSpPr>
              <p:sp>
                <p:nvSpPr>
                  <p:cNvPr id="1919" name=""/>
                  <p:cNvSpPr/>
                  <p:nvPr/>
                </p:nvSpPr>
                <p:spPr>
                  <a:xfrm flipV="1" rot="19850400">
                    <a:off x="2629080" y="2238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 flipH="1" flipV="1" rot="19851000">
                    <a:off x="2634480" y="2234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1" name=""/>
              <p:cNvGrpSpPr/>
              <p:nvPr/>
            </p:nvGrpSpPr>
            <p:grpSpPr>
              <a:xfrm>
                <a:off x="2703600" y="2110680"/>
                <a:ext cx="224640" cy="181800"/>
                <a:chOff x="2703600" y="2110680"/>
                <a:chExt cx="224640" cy="181800"/>
              </a:xfrm>
            </p:grpSpPr>
            <p:grpSp>
              <p:nvGrpSpPr>
                <p:cNvPr id="1922" name=""/>
                <p:cNvGrpSpPr/>
                <p:nvPr/>
              </p:nvGrpSpPr>
              <p:grpSpPr>
                <a:xfrm>
                  <a:off x="2703600" y="2165400"/>
                  <a:ext cx="139320" cy="127080"/>
                  <a:chOff x="2703600" y="2165400"/>
                  <a:chExt cx="139320" cy="127080"/>
                </a:xfrm>
              </p:grpSpPr>
              <p:sp>
                <p:nvSpPr>
                  <p:cNvPr id="1923" name=""/>
                  <p:cNvSpPr/>
                  <p:nvPr/>
                </p:nvSpPr>
                <p:spPr>
                  <a:xfrm rot="19851000">
                    <a:off x="2716920" y="21891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 flipH="1" rot="19850400">
                    <a:off x="2723040" y="21859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5" name=""/>
                <p:cNvGrpSpPr/>
                <p:nvPr/>
              </p:nvGrpSpPr>
              <p:grpSpPr>
                <a:xfrm>
                  <a:off x="2788560" y="2110680"/>
                  <a:ext cx="139680" cy="127800"/>
                  <a:chOff x="2788560" y="2110680"/>
                  <a:chExt cx="139680" cy="127800"/>
                </a:xfrm>
              </p:grpSpPr>
              <p:sp>
                <p:nvSpPr>
                  <p:cNvPr id="1926" name=""/>
                  <p:cNvSpPr/>
                  <p:nvPr/>
                </p:nvSpPr>
                <p:spPr>
                  <a:xfrm flipV="1" rot="19850400">
                    <a:off x="2801880" y="21348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 flipH="1" flipV="1" rot="19851000">
                    <a:off x="2807280" y="21308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8" name=""/>
              <p:cNvGrpSpPr/>
              <p:nvPr/>
            </p:nvGrpSpPr>
            <p:grpSpPr>
              <a:xfrm>
                <a:off x="2879280" y="2012760"/>
                <a:ext cx="225000" cy="181440"/>
                <a:chOff x="2879280" y="2012760"/>
                <a:chExt cx="225000" cy="181440"/>
              </a:xfrm>
            </p:grpSpPr>
            <p:grpSp>
              <p:nvGrpSpPr>
                <p:cNvPr id="1929" name=""/>
                <p:cNvGrpSpPr/>
                <p:nvPr/>
              </p:nvGrpSpPr>
              <p:grpSpPr>
                <a:xfrm>
                  <a:off x="2879280" y="2067120"/>
                  <a:ext cx="139680" cy="127080"/>
                  <a:chOff x="2879280" y="2067120"/>
                  <a:chExt cx="139680" cy="127080"/>
                </a:xfrm>
              </p:grpSpPr>
              <p:sp>
                <p:nvSpPr>
                  <p:cNvPr id="1930" name=""/>
                  <p:cNvSpPr/>
                  <p:nvPr/>
                </p:nvSpPr>
                <p:spPr>
                  <a:xfrm rot="19851000">
                    <a:off x="2892600" y="2090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H="1" rot="19850400">
                    <a:off x="2899080" y="2087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2" name=""/>
                <p:cNvGrpSpPr/>
                <p:nvPr/>
              </p:nvGrpSpPr>
              <p:grpSpPr>
                <a:xfrm>
                  <a:off x="2964240" y="2012760"/>
                  <a:ext cx="140040" cy="127440"/>
                  <a:chOff x="2964240" y="2012760"/>
                  <a:chExt cx="140040" cy="127440"/>
                </a:xfrm>
              </p:grpSpPr>
              <p:sp>
                <p:nvSpPr>
                  <p:cNvPr id="1933" name=""/>
                  <p:cNvSpPr/>
                  <p:nvPr/>
                </p:nvSpPr>
                <p:spPr>
                  <a:xfrm flipV="1" rot="19850400">
                    <a:off x="2977560" y="2036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 flipH="1" flipV="1" rot="19851000">
                    <a:off x="2983320" y="2032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5" name=""/>
              <p:cNvGrpSpPr/>
              <p:nvPr/>
            </p:nvGrpSpPr>
            <p:grpSpPr>
              <a:xfrm>
                <a:off x="3053160" y="1909800"/>
                <a:ext cx="224640" cy="181800"/>
                <a:chOff x="3053160" y="1909800"/>
                <a:chExt cx="224640" cy="181800"/>
              </a:xfrm>
            </p:grpSpPr>
            <p:grpSp>
              <p:nvGrpSpPr>
                <p:cNvPr id="1936" name=""/>
                <p:cNvGrpSpPr/>
                <p:nvPr/>
              </p:nvGrpSpPr>
              <p:grpSpPr>
                <a:xfrm>
                  <a:off x="3053160" y="1964160"/>
                  <a:ext cx="138960" cy="127440"/>
                  <a:chOff x="3053160" y="1964160"/>
                  <a:chExt cx="138960" cy="127440"/>
                </a:xfrm>
              </p:grpSpPr>
              <p:sp>
                <p:nvSpPr>
                  <p:cNvPr id="1937" name=""/>
                  <p:cNvSpPr/>
                  <p:nvPr/>
                </p:nvSpPr>
                <p:spPr>
                  <a:xfrm rot="19851000">
                    <a:off x="3066480" y="1988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H="1" rot="19850400">
                    <a:off x="3072240" y="19846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9" name=""/>
                <p:cNvGrpSpPr/>
                <p:nvPr/>
              </p:nvGrpSpPr>
              <p:grpSpPr>
                <a:xfrm>
                  <a:off x="3138120" y="1909800"/>
                  <a:ext cx="139680" cy="127440"/>
                  <a:chOff x="3138120" y="1909800"/>
                  <a:chExt cx="139680" cy="127440"/>
                </a:xfrm>
              </p:grpSpPr>
              <p:sp>
                <p:nvSpPr>
                  <p:cNvPr id="1940" name=""/>
                  <p:cNvSpPr/>
                  <p:nvPr/>
                </p:nvSpPr>
                <p:spPr>
                  <a:xfrm flipV="1" rot="19850400">
                    <a:off x="3151440" y="19335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H="1" flipV="1" rot="19851000">
                    <a:off x="3156840" y="19299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2" name=""/>
              <p:cNvGrpSpPr/>
              <p:nvPr/>
            </p:nvGrpSpPr>
            <p:grpSpPr>
              <a:xfrm>
                <a:off x="3228840" y="1811880"/>
                <a:ext cx="224640" cy="181440"/>
                <a:chOff x="3228840" y="1811880"/>
                <a:chExt cx="224640" cy="18144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3228840" y="1866240"/>
                  <a:ext cx="138960" cy="127080"/>
                  <a:chOff x="3228840" y="1866240"/>
                  <a:chExt cx="138960" cy="12708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 rot="19851000">
                    <a:off x="3242160" y="18900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H="1" rot="19850400">
                    <a:off x="3247920" y="1886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6" name=""/>
                <p:cNvGrpSpPr/>
                <p:nvPr/>
              </p:nvGrpSpPr>
              <p:grpSpPr>
                <a:xfrm>
                  <a:off x="3313440" y="1811880"/>
                  <a:ext cx="140040" cy="127440"/>
                  <a:chOff x="3313440" y="1811880"/>
                  <a:chExt cx="140040" cy="127440"/>
                </a:xfrm>
              </p:grpSpPr>
              <p:sp>
                <p:nvSpPr>
                  <p:cNvPr id="1947" name=""/>
                  <p:cNvSpPr/>
                  <p:nvPr/>
                </p:nvSpPr>
                <p:spPr>
                  <a:xfrm flipV="1" rot="19850400">
                    <a:off x="3326760" y="18356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 flipV="1" rot="19851000">
                    <a:off x="3332520" y="18320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9" name=""/>
              <p:cNvGrpSpPr/>
              <p:nvPr/>
            </p:nvGrpSpPr>
            <p:grpSpPr>
              <a:xfrm>
                <a:off x="3402000" y="1708920"/>
                <a:ext cx="224640" cy="181440"/>
                <a:chOff x="3402000" y="1708920"/>
                <a:chExt cx="224640" cy="181440"/>
              </a:xfrm>
            </p:grpSpPr>
            <p:grpSp>
              <p:nvGrpSpPr>
                <p:cNvPr id="1950" name=""/>
                <p:cNvGrpSpPr/>
                <p:nvPr/>
              </p:nvGrpSpPr>
              <p:grpSpPr>
                <a:xfrm>
                  <a:off x="3402000" y="1763280"/>
                  <a:ext cx="139320" cy="127080"/>
                  <a:chOff x="3402000" y="1763280"/>
                  <a:chExt cx="139320" cy="12708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 rot="19851000">
                    <a:off x="3415320" y="17870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 flipH="1" rot="19850400">
                    <a:off x="3421440" y="17838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3486960" y="1708920"/>
                  <a:ext cx="139680" cy="127440"/>
                  <a:chOff x="3486960" y="1708920"/>
                  <a:chExt cx="139680" cy="1274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 flipV="1" rot="19850400">
                    <a:off x="3500280" y="1732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 flipH="1" flipV="1" rot="19851000">
                    <a:off x="3505680" y="17290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6" name=""/>
              <p:cNvGrpSpPr/>
              <p:nvPr/>
            </p:nvGrpSpPr>
            <p:grpSpPr>
              <a:xfrm>
                <a:off x="3577680" y="1611000"/>
                <a:ext cx="225000" cy="181080"/>
                <a:chOff x="3577680" y="1611000"/>
                <a:chExt cx="225000" cy="181080"/>
              </a:xfrm>
            </p:grpSpPr>
            <p:grpSp>
              <p:nvGrpSpPr>
                <p:cNvPr id="1957" name=""/>
                <p:cNvGrpSpPr/>
                <p:nvPr/>
              </p:nvGrpSpPr>
              <p:grpSpPr>
                <a:xfrm>
                  <a:off x="3577680" y="1665360"/>
                  <a:ext cx="139320" cy="126720"/>
                  <a:chOff x="3577680" y="1665360"/>
                  <a:chExt cx="139320" cy="12672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 rot="19851000">
                    <a:off x="3591000" y="1688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H="1" rot="19850400">
                    <a:off x="3597120" y="1685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0" name=""/>
                <p:cNvGrpSpPr/>
                <p:nvPr/>
              </p:nvGrpSpPr>
              <p:grpSpPr>
                <a:xfrm>
                  <a:off x="3662640" y="1611000"/>
                  <a:ext cx="140040" cy="127440"/>
                  <a:chOff x="3662640" y="1611000"/>
                  <a:chExt cx="140040" cy="12744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 flipV="1" rot="19850400">
                    <a:off x="3675960" y="16347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H="1" flipV="1" rot="19851000">
                    <a:off x="3681720" y="1631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3" name=""/>
            <p:cNvSpPr/>
            <p:nvPr/>
          </p:nvSpPr>
          <p:spPr>
            <a:xfrm flipV="1">
              <a:off x="3782520" y="1554120"/>
              <a:ext cx="10368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1050120" y="2456640"/>
              <a:ext cx="1274040" cy="72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1468800" y="2501280"/>
              <a:ext cx="7639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1257120" y="25027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1143720" y="2502360"/>
              <a:ext cx="109044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1618920" y="2425680"/>
              <a:ext cx="618840" cy="105120"/>
              <a:chOff x="1618920" y="2425680"/>
              <a:chExt cx="618840" cy="105120"/>
            </a:xfrm>
          </p:grpSpPr>
          <p:grpSp>
            <p:nvGrpSpPr>
              <p:cNvPr id="1969" name=""/>
              <p:cNvGrpSpPr/>
              <p:nvPr/>
            </p:nvGrpSpPr>
            <p:grpSpPr>
              <a:xfrm>
                <a:off x="1868760" y="2432520"/>
                <a:ext cx="119160" cy="95040"/>
                <a:chOff x="1868760" y="2432520"/>
                <a:chExt cx="119160" cy="95040"/>
              </a:xfrm>
            </p:grpSpPr>
            <p:grpSp>
              <p:nvGrpSpPr>
                <p:cNvPr id="1970" name=""/>
                <p:cNvGrpSpPr/>
                <p:nvPr/>
              </p:nvGrpSpPr>
              <p:grpSpPr>
                <a:xfrm>
                  <a:off x="1873800" y="2461320"/>
                  <a:ext cx="47160" cy="37800"/>
                  <a:chOff x="1873800" y="2461320"/>
                  <a:chExt cx="47160" cy="3780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 flipH="1" rot="10813800">
                    <a:off x="1873440" y="24613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rot="10813800">
                    <a:off x="1876320" y="2460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"/>
                <p:cNvGrpSpPr/>
                <p:nvPr/>
              </p:nvGrpSpPr>
              <p:grpSpPr>
                <a:xfrm>
                  <a:off x="1868760" y="2432520"/>
                  <a:ext cx="119160" cy="95040"/>
                  <a:chOff x="1868760" y="2432520"/>
                  <a:chExt cx="119160" cy="9504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 flipH="1" flipV="1" rot="10813800">
                    <a:off x="1868400" y="2432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V="1" rot="10813800">
                    <a:off x="1875960" y="2432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6" name=""/>
              <p:cNvGrpSpPr/>
              <p:nvPr/>
            </p:nvGrpSpPr>
            <p:grpSpPr>
              <a:xfrm>
                <a:off x="1806120" y="2429280"/>
                <a:ext cx="119160" cy="95040"/>
                <a:chOff x="1806120" y="2429280"/>
                <a:chExt cx="119160" cy="95040"/>
              </a:xfrm>
            </p:grpSpPr>
            <p:grpSp>
              <p:nvGrpSpPr>
                <p:cNvPr id="1977" name=""/>
                <p:cNvGrpSpPr/>
                <p:nvPr/>
              </p:nvGrpSpPr>
              <p:grpSpPr>
                <a:xfrm>
                  <a:off x="1811160" y="2458080"/>
                  <a:ext cx="47160" cy="38160"/>
                  <a:chOff x="1811160" y="2458080"/>
                  <a:chExt cx="47160" cy="3816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 flipH="1" rot="10813800">
                    <a:off x="1810800" y="2458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rot="10813800">
                    <a:off x="1813680" y="2458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0" name=""/>
                <p:cNvGrpSpPr/>
                <p:nvPr/>
              </p:nvGrpSpPr>
              <p:grpSpPr>
                <a:xfrm>
                  <a:off x="1806120" y="2429280"/>
                  <a:ext cx="119160" cy="95040"/>
                  <a:chOff x="1806120" y="2429280"/>
                  <a:chExt cx="119160" cy="95040"/>
                </a:xfrm>
              </p:grpSpPr>
              <p:sp>
                <p:nvSpPr>
                  <p:cNvPr id="1981" name=""/>
                  <p:cNvSpPr/>
                  <p:nvPr/>
                </p:nvSpPr>
                <p:spPr>
                  <a:xfrm flipH="1" flipV="1" rot="10813800">
                    <a:off x="1805760" y="2429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V="1" rot="10813800">
                    <a:off x="1813320" y="2429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3" name=""/>
              <p:cNvGrpSpPr/>
              <p:nvPr/>
            </p:nvGrpSpPr>
            <p:grpSpPr>
              <a:xfrm>
                <a:off x="1743840" y="2429280"/>
                <a:ext cx="119160" cy="95040"/>
                <a:chOff x="1743840" y="2429280"/>
                <a:chExt cx="119160" cy="95040"/>
              </a:xfrm>
            </p:grpSpPr>
            <p:grpSp>
              <p:nvGrpSpPr>
                <p:cNvPr id="1984" name=""/>
                <p:cNvGrpSpPr/>
                <p:nvPr/>
              </p:nvGrpSpPr>
              <p:grpSpPr>
                <a:xfrm>
                  <a:off x="1748880" y="2458080"/>
                  <a:ext cx="47160" cy="37800"/>
                  <a:chOff x="1748880" y="2458080"/>
                  <a:chExt cx="47160" cy="3780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 flipH="1" rot="10813800">
                    <a:off x="1748520" y="2458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rot="10813800">
                    <a:off x="1751400" y="24577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7" name=""/>
                <p:cNvGrpSpPr/>
                <p:nvPr/>
              </p:nvGrpSpPr>
              <p:grpSpPr>
                <a:xfrm>
                  <a:off x="1743840" y="2429280"/>
                  <a:ext cx="119160" cy="95040"/>
                  <a:chOff x="1743840" y="2429280"/>
                  <a:chExt cx="119160" cy="9504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 flipH="1" flipV="1" rot="10813800">
                    <a:off x="1743480" y="2429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V="1" rot="10813800">
                    <a:off x="1751040" y="2429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0" name=""/>
              <p:cNvGrpSpPr/>
              <p:nvPr/>
            </p:nvGrpSpPr>
            <p:grpSpPr>
              <a:xfrm>
                <a:off x="1681200" y="2426400"/>
                <a:ext cx="119160" cy="95400"/>
                <a:chOff x="1681200" y="2426400"/>
                <a:chExt cx="119160" cy="95400"/>
              </a:xfrm>
            </p:grpSpPr>
            <p:grpSp>
              <p:nvGrpSpPr>
                <p:cNvPr id="1991" name=""/>
                <p:cNvGrpSpPr/>
                <p:nvPr/>
              </p:nvGrpSpPr>
              <p:grpSpPr>
                <a:xfrm>
                  <a:off x="1686240" y="2455200"/>
                  <a:ext cx="47160" cy="38160"/>
                  <a:chOff x="1686240" y="2455200"/>
                  <a:chExt cx="47160" cy="3816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 flipH="1" rot="10813800">
                    <a:off x="1685880" y="2455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 rot="10813800">
                    <a:off x="1688760" y="2454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4" name=""/>
                <p:cNvGrpSpPr/>
                <p:nvPr/>
              </p:nvGrpSpPr>
              <p:grpSpPr>
                <a:xfrm>
                  <a:off x="1681200" y="2426400"/>
                  <a:ext cx="119160" cy="95400"/>
                  <a:chOff x="1681200" y="2426400"/>
                  <a:chExt cx="119160" cy="954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 flipH="1" flipV="1" rot="10813800">
                    <a:off x="1680840" y="2426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V="1" rot="10813800">
                    <a:off x="1688400" y="24267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2118600" y="2435760"/>
                <a:ext cx="119160" cy="95040"/>
                <a:chOff x="2118600" y="2435760"/>
                <a:chExt cx="119160" cy="95040"/>
              </a:xfrm>
            </p:grpSpPr>
            <p:grpSp>
              <p:nvGrpSpPr>
                <p:cNvPr id="1998" name=""/>
                <p:cNvGrpSpPr/>
                <p:nvPr/>
              </p:nvGrpSpPr>
              <p:grpSpPr>
                <a:xfrm>
                  <a:off x="2123640" y="2464560"/>
                  <a:ext cx="47160" cy="37800"/>
                  <a:chOff x="2123640" y="2464560"/>
                  <a:chExt cx="47160" cy="3780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 flipH="1" rot="10813800">
                    <a:off x="2123280" y="24645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rot="10813800">
                    <a:off x="2126160" y="2464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1" name=""/>
                <p:cNvGrpSpPr/>
                <p:nvPr/>
              </p:nvGrpSpPr>
              <p:grpSpPr>
                <a:xfrm>
                  <a:off x="2118600" y="2435760"/>
                  <a:ext cx="119160" cy="95040"/>
                  <a:chOff x="2118600" y="2435760"/>
                  <a:chExt cx="119160" cy="9504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 flipH="1" flipV="1" rot="10813800">
                    <a:off x="2118240" y="24357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V="1" rot="10813800">
                    <a:off x="2125800" y="24357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4" name=""/>
              <p:cNvGrpSpPr/>
              <p:nvPr/>
            </p:nvGrpSpPr>
            <p:grpSpPr>
              <a:xfrm>
                <a:off x="2056320" y="2433240"/>
                <a:ext cx="119160" cy="95040"/>
                <a:chOff x="2056320" y="2433240"/>
                <a:chExt cx="119160" cy="95040"/>
              </a:xfrm>
            </p:grpSpPr>
            <p:grpSp>
              <p:nvGrpSpPr>
                <p:cNvPr id="2005" name=""/>
                <p:cNvGrpSpPr/>
                <p:nvPr/>
              </p:nvGrpSpPr>
              <p:grpSpPr>
                <a:xfrm>
                  <a:off x="2061000" y="2462040"/>
                  <a:ext cx="47160" cy="37800"/>
                  <a:chOff x="2061000" y="2462040"/>
                  <a:chExt cx="47160" cy="3780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 flipH="1" rot="10813800">
                    <a:off x="2060640" y="24620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rot="10813800">
                    <a:off x="2063520" y="24616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2056320" y="2433240"/>
                  <a:ext cx="119160" cy="95040"/>
                  <a:chOff x="2056320" y="2433240"/>
                  <a:chExt cx="119160" cy="9504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 flipH="1" flipV="1" rot="10813800">
                    <a:off x="2055960" y="2433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 rot="10813800">
                    <a:off x="2063520" y="24332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1" name=""/>
              <p:cNvGrpSpPr/>
              <p:nvPr/>
            </p:nvGrpSpPr>
            <p:grpSpPr>
              <a:xfrm>
                <a:off x="1993680" y="2432520"/>
                <a:ext cx="119160" cy="95400"/>
                <a:chOff x="1993680" y="2432520"/>
                <a:chExt cx="119160" cy="95400"/>
              </a:xfrm>
            </p:grpSpPr>
            <p:grpSp>
              <p:nvGrpSpPr>
                <p:cNvPr id="2012" name=""/>
                <p:cNvGrpSpPr/>
                <p:nvPr/>
              </p:nvGrpSpPr>
              <p:grpSpPr>
                <a:xfrm>
                  <a:off x="1998720" y="2461680"/>
                  <a:ext cx="47160" cy="37800"/>
                  <a:chOff x="1998720" y="2461680"/>
                  <a:chExt cx="47160" cy="3780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 flipH="1" rot="10813800">
                    <a:off x="1998360" y="24616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rot="10813800">
                    <a:off x="2001240" y="24613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5" name=""/>
                <p:cNvGrpSpPr/>
                <p:nvPr/>
              </p:nvGrpSpPr>
              <p:grpSpPr>
                <a:xfrm>
                  <a:off x="1993680" y="2432520"/>
                  <a:ext cx="119160" cy="95400"/>
                  <a:chOff x="1993680" y="2432520"/>
                  <a:chExt cx="119160" cy="9540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 flipH="1" flipV="1" rot="10813800">
                    <a:off x="1993320" y="24325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 rot="10813800">
                    <a:off x="2000880" y="24328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8" name=""/>
              <p:cNvGrpSpPr/>
              <p:nvPr/>
            </p:nvGrpSpPr>
            <p:grpSpPr>
              <a:xfrm>
                <a:off x="1931040" y="2430000"/>
                <a:ext cx="119160" cy="95040"/>
                <a:chOff x="1931040" y="2430000"/>
                <a:chExt cx="119160" cy="95040"/>
              </a:xfrm>
            </p:grpSpPr>
            <p:grpSp>
              <p:nvGrpSpPr>
                <p:cNvPr id="2019" name=""/>
                <p:cNvGrpSpPr/>
                <p:nvPr/>
              </p:nvGrpSpPr>
              <p:grpSpPr>
                <a:xfrm>
                  <a:off x="1935720" y="2458800"/>
                  <a:ext cx="47160" cy="37800"/>
                  <a:chOff x="1935720" y="2458800"/>
                  <a:chExt cx="47160" cy="3780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 flipH="1" rot="10813800">
                    <a:off x="1935360" y="24588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rot="10813800">
                    <a:off x="1938240" y="2458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1931040" y="2430000"/>
                  <a:ext cx="119160" cy="95040"/>
                  <a:chOff x="1931040" y="2430000"/>
                  <a:chExt cx="119160" cy="9504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 flipH="1" flipV="1" rot="10813800">
                    <a:off x="1930680" y="24300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V="1" rot="10813800">
                    <a:off x="1938240" y="24300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5" name=""/>
              <p:cNvGrpSpPr/>
              <p:nvPr/>
            </p:nvGrpSpPr>
            <p:grpSpPr>
              <a:xfrm>
                <a:off x="1618920" y="2425680"/>
                <a:ext cx="119160" cy="95040"/>
                <a:chOff x="1618920" y="2425680"/>
                <a:chExt cx="119160" cy="95040"/>
              </a:xfrm>
            </p:grpSpPr>
            <p:sp>
              <p:nvSpPr>
                <p:cNvPr id="2026" name=""/>
                <p:cNvSpPr/>
                <p:nvPr/>
              </p:nvSpPr>
              <p:spPr>
                <a:xfrm flipH="1" flipV="1" rot="10813800">
                  <a:off x="1618560" y="24256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 rot="10813800">
                  <a:off x="1626120" y="24256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8" name=""/>
            <p:cNvSpPr/>
            <p:nvPr/>
          </p:nvSpPr>
          <p:spPr>
            <a:xfrm flipV="1">
              <a:off x="2233440" y="2414880"/>
              <a:ext cx="14616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2712240" y="2285280"/>
            <a:ext cx="1372320" cy="2367000"/>
            <a:chOff x="2712240" y="2285280"/>
            <a:chExt cx="1372320" cy="2367000"/>
          </a:xfrm>
        </p:grpSpPr>
        <p:sp>
          <p:nvSpPr>
            <p:cNvPr id="2030" name=""/>
            <p:cNvSpPr/>
            <p:nvPr/>
          </p:nvSpPr>
          <p:spPr>
            <a:xfrm>
              <a:off x="3996360" y="4552560"/>
              <a:ext cx="88200" cy="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2712240" y="2285280"/>
              <a:ext cx="1338840" cy="2287080"/>
              <a:chOff x="2712240" y="2285280"/>
              <a:chExt cx="1338840" cy="2287080"/>
            </a:xfrm>
          </p:grpSpPr>
          <p:grpSp>
            <p:nvGrpSpPr>
              <p:cNvPr id="2032" name=""/>
              <p:cNvGrpSpPr/>
              <p:nvPr/>
            </p:nvGrpSpPr>
            <p:grpSpPr>
              <a:xfrm>
                <a:off x="2712240" y="2731680"/>
                <a:ext cx="537840" cy="381600"/>
                <a:chOff x="2712240" y="2731680"/>
                <a:chExt cx="537840" cy="381600"/>
              </a:xfrm>
            </p:grpSpPr>
            <p:grpSp>
              <p:nvGrpSpPr>
                <p:cNvPr id="2033" name=""/>
                <p:cNvGrpSpPr/>
                <p:nvPr/>
              </p:nvGrpSpPr>
              <p:grpSpPr>
                <a:xfrm>
                  <a:off x="2910960" y="2853360"/>
                  <a:ext cx="141840" cy="135000"/>
                  <a:chOff x="2910960" y="2853360"/>
                  <a:chExt cx="141840" cy="135000"/>
                </a:xfrm>
              </p:grpSpPr>
              <p:grpSp>
                <p:nvGrpSpPr>
                  <p:cNvPr id="2034" name=""/>
                  <p:cNvGrpSpPr/>
                  <p:nvPr/>
                </p:nvGrpSpPr>
                <p:grpSpPr>
                  <a:xfrm>
                    <a:off x="2928960" y="2877840"/>
                    <a:ext cx="56880" cy="54000"/>
                    <a:chOff x="2928960" y="2877840"/>
                    <a:chExt cx="56880" cy="54000"/>
                  </a:xfrm>
                </p:grpSpPr>
                <p:sp>
                  <p:nvSpPr>
                    <p:cNvPr id="2035" name=""/>
                    <p:cNvSpPr/>
                    <p:nvPr/>
                  </p:nvSpPr>
                  <p:spPr>
                    <a:xfrm flipH="1" flipV="1" rot="12766200">
                      <a:off x="2935440" y="28861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 flipV="1" rot="12766200">
                      <a:off x="2937600" y="288756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7" name=""/>
                  <p:cNvGrpSpPr/>
                  <p:nvPr/>
                </p:nvGrpSpPr>
                <p:grpSpPr>
                  <a:xfrm>
                    <a:off x="2910960" y="2853360"/>
                    <a:ext cx="141840" cy="135000"/>
                    <a:chOff x="2910960" y="2853360"/>
                    <a:chExt cx="141840" cy="135000"/>
                  </a:xfrm>
                </p:grpSpPr>
                <p:sp>
                  <p:nvSpPr>
                    <p:cNvPr id="2038" name=""/>
                    <p:cNvSpPr/>
                    <p:nvPr/>
                  </p:nvSpPr>
                  <p:spPr>
                    <a:xfrm flipH="1" rot="12766200">
                      <a:off x="2926800" y="287460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"/>
                    <p:cNvSpPr/>
                    <p:nvPr/>
                  </p:nvSpPr>
                  <p:spPr>
                    <a:xfrm rot="12766200">
                      <a:off x="2932200" y="287820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2860560" y="2824200"/>
                  <a:ext cx="141840" cy="135000"/>
                  <a:chOff x="2860560" y="2824200"/>
                  <a:chExt cx="141840" cy="135000"/>
                </a:xfrm>
              </p:grpSpPr>
              <p:grpSp>
                <p:nvGrpSpPr>
                  <p:cNvPr id="2041" name=""/>
                  <p:cNvGrpSpPr/>
                  <p:nvPr/>
                </p:nvGrpSpPr>
                <p:grpSpPr>
                  <a:xfrm>
                    <a:off x="2878920" y="2848680"/>
                    <a:ext cx="56520" cy="54000"/>
                    <a:chOff x="2878920" y="2848680"/>
                    <a:chExt cx="56520" cy="54000"/>
                  </a:xfrm>
                </p:grpSpPr>
                <p:sp>
                  <p:nvSpPr>
                    <p:cNvPr id="2042" name=""/>
                    <p:cNvSpPr/>
                    <p:nvPr/>
                  </p:nvSpPr>
                  <p:spPr>
                    <a:xfrm flipH="1" flipV="1" rot="12766200">
                      <a:off x="2885400" y="285696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"/>
                    <p:cNvSpPr/>
                    <p:nvPr/>
                  </p:nvSpPr>
                  <p:spPr>
                    <a:xfrm flipV="1" rot="12766200">
                      <a:off x="2887200" y="285840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4" name=""/>
                  <p:cNvGrpSpPr/>
                  <p:nvPr/>
                </p:nvGrpSpPr>
                <p:grpSpPr>
                  <a:xfrm>
                    <a:off x="2860560" y="2824200"/>
                    <a:ext cx="141840" cy="135000"/>
                    <a:chOff x="2860560" y="2824200"/>
                    <a:chExt cx="141840" cy="135000"/>
                  </a:xfrm>
                </p:grpSpPr>
                <p:sp>
                  <p:nvSpPr>
                    <p:cNvPr id="2045" name=""/>
                    <p:cNvSpPr/>
                    <p:nvPr/>
                  </p:nvSpPr>
                  <p:spPr>
                    <a:xfrm flipH="1" rot="12766200">
                      <a:off x="2876400" y="28454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 rot="12766200">
                      <a:off x="2881800" y="28490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7" name=""/>
                <p:cNvGrpSpPr/>
                <p:nvPr/>
              </p:nvGrpSpPr>
              <p:grpSpPr>
                <a:xfrm>
                  <a:off x="2811600" y="2792520"/>
                  <a:ext cx="141840" cy="135000"/>
                  <a:chOff x="2811600" y="2792520"/>
                  <a:chExt cx="141840" cy="135000"/>
                </a:xfrm>
              </p:grpSpPr>
              <p:grpSp>
                <p:nvGrpSpPr>
                  <p:cNvPr id="2048" name=""/>
                  <p:cNvGrpSpPr/>
                  <p:nvPr/>
                </p:nvGrpSpPr>
                <p:grpSpPr>
                  <a:xfrm>
                    <a:off x="2829960" y="2817000"/>
                    <a:ext cx="56520" cy="54000"/>
                    <a:chOff x="2829960" y="2817000"/>
                    <a:chExt cx="56520" cy="54000"/>
                  </a:xfrm>
                </p:grpSpPr>
                <p:sp>
                  <p:nvSpPr>
                    <p:cNvPr id="2049" name=""/>
                    <p:cNvSpPr/>
                    <p:nvPr/>
                  </p:nvSpPr>
                  <p:spPr>
                    <a:xfrm flipH="1" flipV="1" rot="12766200">
                      <a:off x="2836440" y="282528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"/>
                    <p:cNvSpPr/>
                    <p:nvPr/>
                  </p:nvSpPr>
                  <p:spPr>
                    <a:xfrm flipV="1" rot="12766200">
                      <a:off x="2838240" y="28267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2811600" y="2792520"/>
                    <a:ext cx="141840" cy="135000"/>
                    <a:chOff x="2811600" y="2792520"/>
                    <a:chExt cx="141840" cy="135000"/>
                  </a:xfrm>
                </p:grpSpPr>
                <p:sp>
                  <p:nvSpPr>
                    <p:cNvPr id="2052" name=""/>
                    <p:cNvSpPr/>
                    <p:nvPr/>
                  </p:nvSpPr>
                  <p:spPr>
                    <a:xfrm flipH="1" rot="12766200">
                      <a:off x="2827440" y="281376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"/>
                    <p:cNvSpPr/>
                    <p:nvPr/>
                  </p:nvSpPr>
                  <p:spPr>
                    <a:xfrm rot="12766200">
                      <a:off x="2832840" y="281736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54" name=""/>
                <p:cNvGrpSpPr/>
                <p:nvPr/>
              </p:nvGrpSpPr>
              <p:grpSpPr>
                <a:xfrm>
                  <a:off x="2761200" y="2763000"/>
                  <a:ext cx="141840" cy="135000"/>
                  <a:chOff x="2761200" y="2763000"/>
                  <a:chExt cx="141840" cy="135000"/>
                </a:xfrm>
              </p:grpSpPr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2779200" y="2787840"/>
                    <a:ext cx="56880" cy="53640"/>
                    <a:chOff x="2779200" y="2787840"/>
                    <a:chExt cx="56880" cy="5364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 flipH="1" flipV="1" rot="12766200">
                      <a:off x="2785680" y="27961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 flipV="1" rot="12766200">
                      <a:off x="2787840" y="279720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8" name=""/>
                  <p:cNvGrpSpPr/>
                  <p:nvPr/>
                </p:nvGrpSpPr>
                <p:grpSpPr>
                  <a:xfrm>
                    <a:off x="2761200" y="2763000"/>
                    <a:ext cx="141840" cy="135000"/>
                    <a:chOff x="2761200" y="2763000"/>
                    <a:chExt cx="141840" cy="135000"/>
                  </a:xfrm>
                </p:grpSpPr>
                <p:sp>
                  <p:nvSpPr>
                    <p:cNvPr id="2059" name=""/>
                    <p:cNvSpPr/>
                    <p:nvPr/>
                  </p:nvSpPr>
                  <p:spPr>
                    <a:xfrm flipH="1" rot="12766200">
                      <a:off x="2777040" y="27842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 rot="12766200">
                      <a:off x="2782440" y="27878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1" name=""/>
                <p:cNvGrpSpPr/>
                <p:nvPr/>
              </p:nvGrpSpPr>
              <p:grpSpPr>
                <a:xfrm>
                  <a:off x="3108240" y="2977920"/>
                  <a:ext cx="141840" cy="135360"/>
                  <a:chOff x="3108240" y="2977920"/>
                  <a:chExt cx="141840" cy="135360"/>
                </a:xfrm>
              </p:grpSpPr>
              <p:grpSp>
                <p:nvGrpSpPr>
                  <p:cNvPr id="2062" name=""/>
                  <p:cNvGrpSpPr/>
                  <p:nvPr/>
                </p:nvGrpSpPr>
                <p:grpSpPr>
                  <a:xfrm>
                    <a:off x="3126600" y="3002400"/>
                    <a:ext cx="56880" cy="54000"/>
                    <a:chOff x="3126600" y="3002400"/>
                    <a:chExt cx="56880" cy="54000"/>
                  </a:xfrm>
                </p:grpSpPr>
                <p:sp>
                  <p:nvSpPr>
                    <p:cNvPr id="2063" name=""/>
                    <p:cNvSpPr/>
                    <p:nvPr/>
                  </p:nvSpPr>
                  <p:spPr>
                    <a:xfrm flipH="1" flipV="1" rot="12766200">
                      <a:off x="3133080" y="301068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"/>
                    <p:cNvSpPr/>
                    <p:nvPr/>
                  </p:nvSpPr>
                  <p:spPr>
                    <a:xfrm flipV="1" rot="12766200">
                      <a:off x="3135240" y="30121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5" name=""/>
                  <p:cNvGrpSpPr/>
                  <p:nvPr/>
                </p:nvGrpSpPr>
                <p:grpSpPr>
                  <a:xfrm>
                    <a:off x="3108240" y="2977920"/>
                    <a:ext cx="141840" cy="135360"/>
                    <a:chOff x="3108240" y="2977920"/>
                    <a:chExt cx="141840" cy="135360"/>
                  </a:xfrm>
                </p:grpSpPr>
                <p:sp>
                  <p:nvSpPr>
                    <p:cNvPr id="2066" name=""/>
                    <p:cNvSpPr/>
                    <p:nvPr/>
                  </p:nvSpPr>
                  <p:spPr>
                    <a:xfrm flipH="1" rot="12766200">
                      <a:off x="3124080" y="299916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"/>
                    <p:cNvSpPr/>
                    <p:nvPr/>
                  </p:nvSpPr>
                  <p:spPr>
                    <a:xfrm rot="12766200">
                      <a:off x="3129480" y="300312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8" name=""/>
                <p:cNvGrpSpPr/>
                <p:nvPr/>
              </p:nvGrpSpPr>
              <p:grpSpPr>
                <a:xfrm>
                  <a:off x="3058200" y="2948040"/>
                  <a:ext cx="141480" cy="135000"/>
                  <a:chOff x="3058200" y="2948040"/>
                  <a:chExt cx="141480" cy="135000"/>
                </a:xfrm>
              </p:grpSpPr>
              <p:grpSp>
                <p:nvGrpSpPr>
                  <p:cNvPr id="2069" name=""/>
                  <p:cNvGrpSpPr/>
                  <p:nvPr/>
                </p:nvGrpSpPr>
                <p:grpSpPr>
                  <a:xfrm>
                    <a:off x="3076200" y="2972880"/>
                    <a:ext cx="56880" cy="53640"/>
                    <a:chOff x="3076200" y="2972880"/>
                    <a:chExt cx="56880" cy="53640"/>
                  </a:xfrm>
                </p:grpSpPr>
                <p:sp>
                  <p:nvSpPr>
                    <p:cNvPr id="2070" name=""/>
                    <p:cNvSpPr/>
                    <p:nvPr/>
                  </p:nvSpPr>
                  <p:spPr>
                    <a:xfrm flipH="1" flipV="1" rot="12766200">
                      <a:off x="3082680" y="298116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"/>
                    <p:cNvSpPr/>
                    <p:nvPr/>
                  </p:nvSpPr>
                  <p:spPr>
                    <a:xfrm flipV="1" rot="12766200">
                      <a:off x="3084840" y="298224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2" name=""/>
                  <p:cNvGrpSpPr/>
                  <p:nvPr/>
                </p:nvGrpSpPr>
                <p:grpSpPr>
                  <a:xfrm>
                    <a:off x="3058200" y="2948040"/>
                    <a:ext cx="141480" cy="135000"/>
                    <a:chOff x="3058200" y="2948040"/>
                    <a:chExt cx="141480" cy="135000"/>
                  </a:xfrm>
                </p:grpSpPr>
                <p:sp>
                  <p:nvSpPr>
                    <p:cNvPr id="2073" name=""/>
                    <p:cNvSpPr/>
                    <p:nvPr/>
                  </p:nvSpPr>
                  <p:spPr>
                    <a:xfrm flipH="1" rot="12766200">
                      <a:off x="3074040" y="296928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 rot="12766200">
                      <a:off x="3079080" y="297288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5" name=""/>
                <p:cNvGrpSpPr/>
                <p:nvPr/>
              </p:nvGrpSpPr>
              <p:grpSpPr>
                <a:xfrm>
                  <a:off x="3008880" y="2916720"/>
                  <a:ext cx="142200" cy="135000"/>
                  <a:chOff x="3008880" y="2916720"/>
                  <a:chExt cx="142200" cy="135000"/>
                </a:xfrm>
              </p:grpSpPr>
              <p:grpSp>
                <p:nvGrpSpPr>
                  <p:cNvPr id="2076" name=""/>
                  <p:cNvGrpSpPr/>
                  <p:nvPr/>
                </p:nvGrpSpPr>
                <p:grpSpPr>
                  <a:xfrm>
                    <a:off x="3027240" y="2941200"/>
                    <a:ext cx="56880" cy="54000"/>
                    <a:chOff x="3027240" y="2941200"/>
                    <a:chExt cx="56880" cy="54000"/>
                  </a:xfrm>
                </p:grpSpPr>
                <p:sp>
                  <p:nvSpPr>
                    <p:cNvPr id="2077" name=""/>
                    <p:cNvSpPr/>
                    <p:nvPr/>
                  </p:nvSpPr>
                  <p:spPr>
                    <a:xfrm flipH="1" flipV="1" rot="12766200">
                      <a:off x="3033720" y="294948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V="1" rot="12766200">
                      <a:off x="3035880" y="29509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9" name=""/>
                  <p:cNvGrpSpPr/>
                  <p:nvPr/>
                </p:nvGrpSpPr>
                <p:grpSpPr>
                  <a:xfrm>
                    <a:off x="3008880" y="2916720"/>
                    <a:ext cx="142200" cy="135000"/>
                    <a:chOff x="3008880" y="2916720"/>
                    <a:chExt cx="142200" cy="135000"/>
                  </a:xfrm>
                </p:grpSpPr>
                <p:sp>
                  <p:nvSpPr>
                    <p:cNvPr id="2080" name=""/>
                    <p:cNvSpPr/>
                    <p:nvPr/>
                  </p:nvSpPr>
                  <p:spPr>
                    <a:xfrm flipH="1" rot="12766200">
                      <a:off x="3024720" y="293796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rot="12766200">
                      <a:off x="3030480" y="294156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2958480" y="2887200"/>
                  <a:ext cx="142200" cy="135000"/>
                  <a:chOff x="2958480" y="2887200"/>
                  <a:chExt cx="142200" cy="135000"/>
                </a:xfrm>
              </p:grpSpPr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2976840" y="2911680"/>
                    <a:ext cx="56880" cy="54000"/>
                    <a:chOff x="2976840" y="2911680"/>
                    <a:chExt cx="56880" cy="5400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 flipH="1" flipV="1" rot="12766200">
                      <a:off x="2983320" y="291996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 flipV="1" rot="12766200">
                      <a:off x="2985480" y="292140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2958480" y="2887200"/>
                    <a:ext cx="142200" cy="135000"/>
                    <a:chOff x="2958480" y="2887200"/>
                    <a:chExt cx="142200" cy="135000"/>
                  </a:xfrm>
                </p:grpSpPr>
                <p:sp>
                  <p:nvSpPr>
                    <p:cNvPr id="2087" name=""/>
                    <p:cNvSpPr/>
                    <p:nvPr/>
                  </p:nvSpPr>
                  <p:spPr>
                    <a:xfrm flipH="1" rot="12766200">
                      <a:off x="2974320" y="29084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 rot="12766200">
                      <a:off x="2980080" y="2912040"/>
                      <a:ext cx="1044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2712240" y="2731680"/>
                  <a:ext cx="141480" cy="135000"/>
                  <a:chOff x="2712240" y="2731680"/>
                  <a:chExt cx="141480" cy="13500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 rot="12766200">
                    <a:off x="2728080" y="2752920"/>
                    <a:ext cx="1044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rot="12766200">
                    <a:off x="2733120" y="2756520"/>
                    <a:ext cx="1044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2" name=""/>
              <p:cNvGrpSpPr/>
              <p:nvPr/>
            </p:nvGrpSpPr>
            <p:grpSpPr>
              <a:xfrm>
                <a:off x="3144240" y="2285280"/>
                <a:ext cx="906840" cy="2287080"/>
                <a:chOff x="3144240" y="2285280"/>
                <a:chExt cx="906840" cy="2287080"/>
              </a:xfrm>
            </p:grpSpPr>
            <p:grpSp>
              <p:nvGrpSpPr>
                <p:cNvPr id="2093" name=""/>
                <p:cNvGrpSpPr/>
                <p:nvPr/>
              </p:nvGrpSpPr>
              <p:grpSpPr>
                <a:xfrm>
                  <a:off x="3263760" y="3188160"/>
                  <a:ext cx="787320" cy="1384200"/>
                  <a:chOff x="3263760" y="3188160"/>
                  <a:chExt cx="787320" cy="1384200"/>
                </a:xfrm>
              </p:grpSpPr>
              <p:grpSp>
                <p:nvGrpSpPr>
                  <p:cNvPr id="2094" name=""/>
                  <p:cNvGrpSpPr/>
                  <p:nvPr/>
                </p:nvGrpSpPr>
                <p:grpSpPr>
                  <a:xfrm>
                    <a:off x="3263760" y="3188160"/>
                    <a:ext cx="165600" cy="212040"/>
                    <a:chOff x="3263760" y="3188160"/>
                    <a:chExt cx="165600" cy="212040"/>
                  </a:xfrm>
                </p:grpSpPr>
                <p:grpSp>
                  <p:nvGrpSpPr>
                    <p:cNvPr id="2095" name=""/>
                    <p:cNvGrpSpPr/>
                    <p:nvPr/>
                  </p:nvGrpSpPr>
                  <p:grpSpPr>
                    <a:xfrm>
                      <a:off x="3263760" y="3188160"/>
                      <a:ext cx="117000" cy="129960"/>
                      <a:chOff x="3263760" y="3188160"/>
                      <a:chExt cx="117000" cy="129960"/>
                    </a:xfrm>
                  </p:grpSpPr>
                  <p:sp>
                    <p:nvSpPr>
                      <p:cNvPr id="2096" name=""/>
                      <p:cNvSpPr/>
                      <p:nvPr/>
                    </p:nvSpPr>
                    <p:spPr>
                      <a:xfrm rot="3762600">
                        <a:off x="3270240" y="32119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7" name=""/>
                      <p:cNvSpPr/>
                      <p:nvPr/>
                    </p:nvSpPr>
                    <p:spPr>
                      <a:xfrm flipH="1" rot="3762000">
                        <a:off x="3272760" y="32173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98" name=""/>
                    <p:cNvGrpSpPr/>
                    <p:nvPr/>
                  </p:nvGrpSpPr>
                  <p:grpSpPr>
                    <a:xfrm>
                      <a:off x="3312000" y="3269880"/>
                      <a:ext cx="117360" cy="130320"/>
                      <a:chOff x="3312000" y="3269880"/>
                      <a:chExt cx="117360" cy="130320"/>
                    </a:xfrm>
                  </p:grpSpPr>
                  <p:sp>
                    <p:nvSpPr>
                      <p:cNvPr id="2099" name=""/>
                      <p:cNvSpPr/>
                      <p:nvPr/>
                    </p:nvSpPr>
                    <p:spPr>
                      <a:xfrm flipV="1" rot="3762000">
                        <a:off x="3318480" y="32936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0" name=""/>
                      <p:cNvSpPr/>
                      <p:nvPr/>
                    </p:nvSpPr>
                    <p:spPr>
                      <a:xfrm flipH="1" flipV="1" rot="3762600">
                        <a:off x="3321360" y="32994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01" name=""/>
                  <p:cNvGrpSpPr/>
                  <p:nvPr/>
                </p:nvGrpSpPr>
                <p:grpSpPr>
                  <a:xfrm>
                    <a:off x="3350520" y="3356640"/>
                    <a:ext cx="165600" cy="212040"/>
                    <a:chOff x="3350520" y="3356640"/>
                    <a:chExt cx="165600" cy="212040"/>
                  </a:xfrm>
                </p:grpSpPr>
                <p:grpSp>
                  <p:nvGrpSpPr>
                    <p:cNvPr id="2102" name=""/>
                    <p:cNvGrpSpPr/>
                    <p:nvPr/>
                  </p:nvGrpSpPr>
                  <p:grpSpPr>
                    <a:xfrm>
                      <a:off x="3350520" y="3356640"/>
                      <a:ext cx="117360" cy="129960"/>
                      <a:chOff x="3350520" y="3356640"/>
                      <a:chExt cx="117360" cy="129960"/>
                    </a:xfrm>
                  </p:grpSpPr>
                  <p:sp>
                    <p:nvSpPr>
                      <p:cNvPr id="2103" name=""/>
                      <p:cNvSpPr/>
                      <p:nvPr/>
                    </p:nvSpPr>
                    <p:spPr>
                      <a:xfrm rot="3762600">
                        <a:off x="3357000" y="33804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4" name=""/>
                      <p:cNvSpPr/>
                      <p:nvPr/>
                    </p:nvSpPr>
                    <p:spPr>
                      <a:xfrm flipH="1" rot="3762000">
                        <a:off x="3359880" y="33858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05" name=""/>
                    <p:cNvGrpSpPr/>
                    <p:nvPr/>
                  </p:nvGrpSpPr>
                  <p:grpSpPr>
                    <a:xfrm>
                      <a:off x="3399120" y="3438000"/>
                      <a:ext cx="117000" cy="130680"/>
                      <a:chOff x="3399120" y="3438000"/>
                      <a:chExt cx="117000" cy="130680"/>
                    </a:xfrm>
                  </p:grpSpPr>
                  <p:sp>
                    <p:nvSpPr>
                      <p:cNvPr id="2106" name=""/>
                      <p:cNvSpPr/>
                      <p:nvPr/>
                    </p:nvSpPr>
                    <p:spPr>
                      <a:xfrm flipV="1" rot="3762000">
                        <a:off x="3405600" y="34617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7" name=""/>
                      <p:cNvSpPr/>
                      <p:nvPr/>
                    </p:nvSpPr>
                    <p:spPr>
                      <a:xfrm flipH="1" flipV="1" rot="3762600">
                        <a:off x="3408120" y="346788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08" name=""/>
                  <p:cNvGrpSpPr/>
                  <p:nvPr/>
                </p:nvGrpSpPr>
                <p:grpSpPr>
                  <a:xfrm>
                    <a:off x="3442320" y="3522600"/>
                    <a:ext cx="165600" cy="212040"/>
                    <a:chOff x="3442320" y="3522600"/>
                    <a:chExt cx="165600" cy="212040"/>
                  </a:xfrm>
                </p:grpSpPr>
                <p:grpSp>
                  <p:nvGrpSpPr>
                    <p:cNvPr id="2109" name=""/>
                    <p:cNvGrpSpPr/>
                    <p:nvPr/>
                  </p:nvGrpSpPr>
                  <p:grpSpPr>
                    <a:xfrm>
                      <a:off x="3442320" y="3522600"/>
                      <a:ext cx="117000" cy="130320"/>
                      <a:chOff x="3442320" y="3522600"/>
                      <a:chExt cx="117000" cy="130320"/>
                    </a:xfrm>
                  </p:grpSpPr>
                  <p:sp>
                    <p:nvSpPr>
                      <p:cNvPr id="2110" name=""/>
                      <p:cNvSpPr/>
                      <p:nvPr/>
                    </p:nvSpPr>
                    <p:spPr>
                      <a:xfrm rot="3762600">
                        <a:off x="3448800" y="35463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1" name=""/>
                      <p:cNvSpPr/>
                      <p:nvPr/>
                    </p:nvSpPr>
                    <p:spPr>
                      <a:xfrm flipH="1" rot="3762000">
                        <a:off x="3451320" y="35521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12" name=""/>
                    <p:cNvGrpSpPr/>
                    <p:nvPr/>
                  </p:nvGrpSpPr>
                  <p:grpSpPr>
                    <a:xfrm>
                      <a:off x="3490920" y="3603960"/>
                      <a:ext cx="117000" cy="130680"/>
                      <a:chOff x="3490920" y="3603960"/>
                      <a:chExt cx="117000" cy="130680"/>
                    </a:xfrm>
                  </p:grpSpPr>
                  <p:sp>
                    <p:nvSpPr>
                      <p:cNvPr id="2113" name=""/>
                      <p:cNvSpPr/>
                      <p:nvPr/>
                    </p:nvSpPr>
                    <p:spPr>
                      <a:xfrm flipV="1" rot="3762000">
                        <a:off x="3497400" y="36277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4" name=""/>
                      <p:cNvSpPr/>
                      <p:nvPr/>
                    </p:nvSpPr>
                    <p:spPr>
                      <a:xfrm flipH="1" flipV="1" rot="3762600">
                        <a:off x="3499920" y="36338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15" name=""/>
                  <p:cNvGrpSpPr/>
                  <p:nvPr/>
                </p:nvGrpSpPr>
                <p:grpSpPr>
                  <a:xfrm>
                    <a:off x="3529440" y="3691080"/>
                    <a:ext cx="165240" cy="212040"/>
                    <a:chOff x="3529440" y="3691080"/>
                    <a:chExt cx="165240" cy="212040"/>
                  </a:xfrm>
                </p:grpSpPr>
                <p:grpSp>
                  <p:nvGrpSpPr>
                    <p:cNvPr id="2116" name=""/>
                    <p:cNvGrpSpPr/>
                    <p:nvPr/>
                  </p:nvGrpSpPr>
                  <p:grpSpPr>
                    <a:xfrm>
                      <a:off x="3529440" y="3691080"/>
                      <a:ext cx="117000" cy="130320"/>
                      <a:chOff x="3529440" y="3691080"/>
                      <a:chExt cx="117000" cy="130320"/>
                    </a:xfrm>
                  </p:grpSpPr>
                  <p:sp>
                    <p:nvSpPr>
                      <p:cNvPr id="2117" name=""/>
                      <p:cNvSpPr/>
                      <p:nvPr/>
                    </p:nvSpPr>
                    <p:spPr>
                      <a:xfrm rot="3762600">
                        <a:off x="3535920" y="37148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8" name=""/>
                      <p:cNvSpPr/>
                      <p:nvPr/>
                    </p:nvSpPr>
                    <p:spPr>
                      <a:xfrm flipH="1" rot="3762000">
                        <a:off x="3538440" y="37206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19" name=""/>
                    <p:cNvGrpSpPr/>
                    <p:nvPr/>
                  </p:nvGrpSpPr>
                  <p:grpSpPr>
                    <a:xfrm>
                      <a:off x="3577680" y="3772800"/>
                      <a:ext cx="117000" cy="130320"/>
                      <a:chOff x="3577680" y="3772800"/>
                      <a:chExt cx="117000" cy="130320"/>
                    </a:xfrm>
                  </p:grpSpPr>
                  <p:sp>
                    <p:nvSpPr>
                      <p:cNvPr id="2120" name=""/>
                      <p:cNvSpPr/>
                      <p:nvPr/>
                    </p:nvSpPr>
                    <p:spPr>
                      <a:xfrm flipV="1" rot="3762000">
                        <a:off x="3584160" y="37965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1" name=""/>
                      <p:cNvSpPr/>
                      <p:nvPr/>
                    </p:nvSpPr>
                    <p:spPr>
                      <a:xfrm flipH="1" flipV="1" rot="3762600">
                        <a:off x="3586680" y="38023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22" name=""/>
                  <p:cNvGrpSpPr/>
                  <p:nvPr/>
                </p:nvGrpSpPr>
                <p:grpSpPr>
                  <a:xfrm>
                    <a:off x="3620880" y="3857040"/>
                    <a:ext cx="165240" cy="212400"/>
                    <a:chOff x="3620880" y="3857040"/>
                    <a:chExt cx="165240" cy="212400"/>
                  </a:xfrm>
                </p:grpSpPr>
                <p:grpSp>
                  <p:nvGrpSpPr>
                    <p:cNvPr id="2123" name=""/>
                    <p:cNvGrpSpPr/>
                    <p:nvPr/>
                  </p:nvGrpSpPr>
                  <p:grpSpPr>
                    <a:xfrm>
                      <a:off x="3620880" y="3857040"/>
                      <a:ext cx="117000" cy="130680"/>
                      <a:chOff x="3620880" y="3857040"/>
                      <a:chExt cx="117000" cy="130680"/>
                    </a:xfrm>
                  </p:grpSpPr>
                  <p:sp>
                    <p:nvSpPr>
                      <p:cNvPr id="2124" name=""/>
                      <p:cNvSpPr/>
                      <p:nvPr/>
                    </p:nvSpPr>
                    <p:spPr>
                      <a:xfrm rot="3762600">
                        <a:off x="3627360" y="38808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5" name=""/>
                      <p:cNvSpPr/>
                      <p:nvPr/>
                    </p:nvSpPr>
                    <p:spPr>
                      <a:xfrm flipH="1" rot="3762000">
                        <a:off x="3629880" y="38869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26" name=""/>
                    <p:cNvGrpSpPr/>
                    <p:nvPr/>
                  </p:nvGrpSpPr>
                  <p:grpSpPr>
                    <a:xfrm>
                      <a:off x="3669120" y="3939120"/>
                      <a:ext cx="117000" cy="130320"/>
                      <a:chOff x="3669120" y="3939120"/>
                      <a:chExt cx="117000" cy="130320"/>
                    </a:xfrm>
                  </p:grpSpPr>
                  <p:sp>
                    <p:nvSpPr>
                      <p:cNvPr id="2127" name=""/>
                      <p:cNvSpPr/>
                      <p:nvPr/>
                    </p:nvSpPr>
                    <p:spPr>
                      <a:xfrm flipV="1" rot="3762000">
                        <a:off x="3675600" y="396288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8" name=""/>
                      <p:cNvSpPr/>
                      <p:nvPr/>
                    </p:nvSpPr>
                    <p:spPr>
                      <a:xfrm flipH="1" flipV="1" rot="3762600">
                        <a:off x="3678120" y="39686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29" name=""/>
                  <p:cNvGrpSpPr/>
                  <p:nvPr/>
                </p:nvGrpSpPr>
                <p:grpSpPr>
                  <a:xfrm>
                    <a:off x="3707640" y="4025880"/>
                    <a:ext cx="165240" cy="212040"/>
                    <a:chOff x="3707640" y="4025880"/>
                    <a:chExt cx="165240" cy="212040"/>
                  </a:xfrm>
                </p:grpSpPr>
                <p:grpSp>
                  <p:nvGrpSpPr>
                    <p:cNvPr id="2130" name=""/>
                    <p:cNvGrpSpPr/>
                    <p:nvPr/>
                  </p:nvGrpSpPr>
                  <p:grpSpPr>
                    <a:xfrm>
                      <a:off x="3707640" y="4025880"/>
                      <a:ext cx="117000" cy="129960"/>
                      <a:chOff x="3707640" y="4025880"/>
                      <a:chExt cx="117000" cy="129960"/>
                    </a:xfrm>
                  </p:grpSpPr>
                  <p:sp>
                    <p:nvSpPr>
                      <p:cNvPr id="2131" name=""/>
                      <p:cNvSpPr/>
                      <p:nvPr/>
                    </p:nvSpPr>
                    <p:spPr>
                      <a:xfrm rot="3762600">
                        <a:off x="3714120" y="40496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2" name=""/>
                      <p:cNvSpPr/>
                      <p:nvPr/>
                    </p:nvSpPr>
                    <p:spPr>
                      <a:xfrm flipH="1" rot="3762000">
                        <a:off x="3716640" y="40550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33" name=""/>
                    <p:cNvGrpSpPr/>
                    <p:nvPr/>
                  </p:nvGrpSpPr>
                  <p:grpSpPr>
                    <a:xfrm>
                      <a:off x="3755880" y="4107600"/>
                      <a:ext cx="117000" cy="130320"/>
                      <a:chOff x="3755880" y="4107600"/>
                      <a:chExt cx="117000" cy="130320"/>
                    </a:xfrm>
                  </p:grpSpPr>
                  <p:sp>
                    <p:nvSpPr>
                      <p:cNvPr id="2134" name=""/>
                      <p:cNvSpPr/>
                      <p:nvPr/>
                    </p:nvSpPr>
                    <p:spPr>
                      <a:xfrm flipV="1" rot="3762000">
                        <a:off x="3762360" y="41313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5" name=""/>
                      <p:cNvSpPr/>
                      <p:nvPr/>
                    </p:nvSpPr>
                    <p:spPr>
                      <a:xfrm flipH="1" flipV="1" rot="3762600">
                        <a:off x="3764880" y="413712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36" name=""/>
                  <p:cNvGrpSpPr/>
                  <p:nvPr/>
                </p:nvGrpSpPr>
                <p:grpSpPr>
                  <a:xfrm>
                    <a:off x="3799080" y="4191840"/>
                    <a:ext cx="165240" cy="212040"/>
                    <a:chOff x="3799080" y="4191840"/>
                    <a:chExt cx="165240" cy="212040"/>
                  </a:xfrm>
                </p:grpSpPr>
                <p:grpSp>
                  <p:nvGrpSpPr>
                    <p:cNvPr id="2137" name=""/>
                    <p:cNvGrpSpPr/>
                    <p:nvPr/>
                  </p:nvGrpSpPr>
                  <p:grpSpPr>
                    <a:xfrm>
                      <a:off x="3799080" y="4191840"/>
                      <a:ext cx="117000" cy="130320"/>
                      <a:chOff x="3799080" y="4191840"/>
                      <a:chExt cx="117000" cy="130320"/>
                    </a:xfrm>
                  </p:grpSpPr>
                  <p:sp>
                    <p:nvSpPr>
                      <p:cNvPr id="2138" name=""/>
                      <p:cNvSpPr/>
                      <p:nvPr/>
                    </p:nvSpPr>
                    <p:spPr>
                      <a:xfrm rot="3762600">
                        <a:off x="3805560" y="42156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9" name=""/>
                      <p:cNvSpPr/>
                      <p:nvPr/>
                    </p:nvSpPr>
                    <p:spPr>
                      <a:xfrm flipH="1" rot="3762000">
                        <a:off x="3808080" y="42213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0" name=""/>
                    <p:cNvGrpSpPr/>
                    <p:nvPr/>
                  </p:nvGrpSpPr>
                  <p:grpSpPr>
                    <a:xfrm>
                      <a:off x="3847320" y="4273920"/>
                      <a:ext cx="117000" cy="129960"/>
                      <a:chOff x="3847320" y="4273920"/>
                      <a:chExt cx="117000" cy="129960"/>
                    </a:xfrm>
                  </p:grpSpPr>
                  <p:sp>
                    <p:nvSpPr>
                      <p:cNvPr id="2141" name=""/>
                      <p:cNvSpPr/>
                      <p:nvPr/>
                    </p:nvSpPr>
                    <p:spPr>
                      <a:xfrm flipV="1" rot="3762000">
                        <a:off x="3853800" y="429768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2" name=""/>
                      <p:cNvSpPr/>
                      <p:nvPr/>
                    </p:nvSpPr>
                    <p:spPr>
                      <a:xfrm flipH="1" flipV="1" rot="3762600">
                        <a:off x="3856320" y="430308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43" name=""/>
                  <p:cNvGrpSpPr/>
                  <p:nvPr/>
                </p:nvGrpSpPr>
                <p:grpSpPr>
                  <a:xfrm>
                    <a:off x="3885840" y="4360320"/>
                    <a:ext cx="165240" cy="212040"/>
                    <a:chOff x="3885840" y="4360320"/>
                    <a:chExt cx="165240" cy="212040"/>
                  </a:xfrm>
                </p:grpSpPr>
                <p:grpSp>
                  <p:nvGrpSpPr>
                    <p:cNvPr id="2144" name=""/>
                    <p:cNvGrpSpPr/>
                    <p:nvPr/>
                  </p:nvGrpSpPr>
                  <p:grpSpPr>
                    <a:xfrm>
                      <a:off x="3885840" y="4360320"/>
                      <a:ext cx="117000" cy="130320"/>
                      <a:chOff x="3885840" y="4360320"/>
                      <a:chExt cx="117000" cy="130320"/>
                    </a:xfrm>
                  </p:grpSpPr>
                  <p:sp>
                    <p:nvSpPr>
                      <p:cNvPr id="2145" name=""/>
                      <p:cNvSpPr/>
                      <p:nvPr/>
                    </p:nvSpPr>
                    <p:spPr>
                      <a:xfrm rot="3762600">
                        <a:off x="3892320" y="438408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6" name=""/>
                      <p:cNvSpPr/>
                      <p:nvPr/>
                    </p:nvSpPr>
                    <p:spPr>
                      <a:xfrm flipH="1" rot="3762000">
                        <a:off x="3894840" y="438984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7" name=""/>
                    <p:cNvGrpSpPr/>
                    <p:nvPr/>
                  </p:nvGrpSpPr>
                  <p:grpSpPr>
                    <a:xfrm>
                      <a:off x="3934080" y="4442040"/>
                      <a:ext cx="117000" cy="130320"/>
                      <a:chOff x="3934080" y="4442040"/>
                      <a:chExt cx="117000" cy="130320"/>
                    </a:xfrm>
                  </p:grpSpPr>
                  <p:sp>
                    <p:nvSpPr>
                      <p:cNvPr id="2148" name=""/>
                      <p:cNvSpPr/>
                      <p:nvPr/>
                    </p:nvSpPr>
                    <p:spPr>
                      <a:xfrm flipV="1" rot="3762000">
                        <a:off x="3940560" y="446580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9" name=""/>
                      <p:cNvSpPr/>
                      <p:nvPr/>
                    </p:nvSpPr>
                    <p:spPr>
                      <a:xfrm flipH="1" flipV="1" rot="3762600">
                        <a:off x="3943080" y="4471560"/>
                        <a:ext cx="10080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880" bIns="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50" name=""/>
                <p:cNvGrpSpPr/>
                <p:nvPr/>
              </p:nvGrpSpPr>
              <p:grpSpPr>
                <a:xfrm>
                  <a:off x="3144240" y="2285280"/>
                  <a:ext cx="116640" cy="584640"/>
                  <a:chOff x="3144240" y="2285280"/>
                  <a:chExt cx="116640" cy="584640"/>
                </a:xfrm>
              </p:grpSpPr>
              <p:grpSp>
                <p:nvGrpSpPr>
                  <p:cNvPr id="2151" name=""/>
                  <p:cNvGrpSpPr/>
                  <p:nvPr/>
                </p:nvGrpSpPr>
                <p:grpSpPr>
                  <a:xfrm>
                    <a:off x="3154680" y="2520000"/>
                    <a:ext cx="92520" cy="114840"/>
                    <a:chOff x="3154680" y="2520000"/>
                    <a:chExt cx="92520" cy="114840"/>
                  </a:xfrm>
                </p:grpSpPr>
                <p:grpSp>
                  <p:nvGrpSpPr>
                    <p:cNvPr id="2152" name=""/>
                    <p:cNvGrpSpPr/>
                    <p:nvPr/>
                  </p:nvGrpSpPr>
                  <p:grpSpPr>
                    <a:xfrm>
                      <a:off x="3183480" y="2525400"/>
                      <a:ext cx="37080" cy="45360"/>
                      <a:chOff x="3183480" y="2525400"/>
                      <a:chExt cx="37080" cy="45360"/>
                    </a:xfrm>
                  </p:grpSpPr>
                  <p:sp>
                    <p:nvSpPr>
                      <p:cNvPr id="2153" name=""/>
                      <p:cNvSpPr/>
                      <p:nvPr/>
                    </p:nvSpPr>
                    <p:spPr>
                      <a:xfrm flipH="1" rot="16326000">
                        <a:off x="3180600" y="252900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4" name=""/>
                      <p:cNvSpPr/>
                      <p:nvPr/>
                    </p:nvSpPr>
                    <p:spPr>
                      <a:xfrm rot="16326600">
                        <a:off x="3180960" y="253116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55" name=""/>
                    <p:cNvGrpSpPr/>
                    <p:nvPr/>
                  </p:nvGrpSpPr>
                  <p:grpSpPr>
                    <a:xfrm>
                      <a:off x="3154680" y="2520000"/>
                      <a:ext cx="92520" cy="114840"/>
                      <a:chOff x="3154680" y="2520000"/>
                      <a:chExt cx="92520" cy="114840"/>
                    </a:xfrm>
                  </p:grpSpPr>
                  <p:sp>
                    <p:nvSpPr>
                      <p:cNvPr id="2156" name=""/>
                      <p:cNvSpPr/>
                      <p:nvPr/>
                    </p:nvSpPr>
                    <p:spPr>
                      <a:xfrm flipH="1" flipV="1" rot="16326600">
                        <a:off x="3148200" y="252972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7" name=""/>
                      <p:cNvSpPr/>
                      <p:nvPr/>
                    </p:nvSpPr>
                    <p:spPr>
                      <a:xfrm flipV="1" rot="16326000">
                        <a:off x="3147840" y="253584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58" name=""/>
                  <p:cNvGrpSpPr/>
                  <p:nvPr/>
                </p:nvGrpSpPr>
                <p:grpSpPr>
                  <a:xfrm>
                    <a:off x="3159360" y="2461680"/>
                    <a:ext cx="92520" cy="114840"/>
                    <a:chOff x="3159360" y="2461680"/>
                    <a:chExt cx="92520" cy="114840"/>
                  </a:xfrm>
                </p:grpSpPr>
                <p:grpSp>
                  <p:nvGrpSpPr>
                    <p:cNvPr id="2159" name=""/>
                    <p:cNvGrpSpPr/>
                    <p:nvPr/>
                  </p:nvGrpSpPr>
                  <p:grpSpPr>
                    <a:xfrm>
                      <a:off x="3188160" y="2466720"/>
                      <a:ext cx="37440" cy="45720"/>
                      <a:chOff x="3188160" y="2466720"/>
                      <a:chExt cx="37440" cy="45720"/>
                    </a:xfrm>
                  </p:grpSpPr>
                  <p:sp>
                    <p:nvSpPr>
                      <p:cNvPr id="2160" name=""/>
                      <p:cNvSpPr/>
                      <p:nvPr/>
                    </p:nvSpPr>
                    <p:spPr>
                      <a:xfrm flipH="1" rot="16326000">
                        <a:off x="3185640" y="247032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1" name=""/>
                      <p:cNvSpPr/>
                      <p:nvPr/>
                    </p:nvSpPr>
                    <p:spPr>
                      <a:xfrm rot="16326600">
                        <a:off x="3185640" y="247284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62" name=""/>
                    <p:cNvGrpSpPr/>
                    <p:nvPr/>
                  </p:nvGrpSpPr>
                  <p:grpSpPr>
                    <a:xfrm>
                      <a:off x="3159360" y="2461680"/>
                      <a:ext cx="92520" cy="114840"/>
                      <a:chOff x="3159360" y="2461680"/>
                      <a:chExt cx="92520" cy="114840"/>
                    </a:xfrm>
                  </p:grpSpPr>
                  <p:sp>
                    <p:nvSpPr>
                      <p:cNvPr id="2163" name=""/>
                      <p:cNvSpPr/>
                      <p:nvPr/>
                    </p:nvSpPr>
                    <p:spPr>
                      <a:xfrm flipH="1" flipV="1" rot="16326600">
                        <a:off x="3152880" y="247140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4" name=""/>
                      <p:cNvSpPr/>
                      <p:nvPr/>
                    </p:nvSpPr>
                    <p:spPr>
                      <a:xfrm flipV="1" rot="16326000">
                        <a:off x="3152520" y="247752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65" name=""/>
                  <p:cNvGrpSpPr/>
                  <p:nvPr/>
                </p:nvGrpSpPr>
                <p:grpSpPr>
                  <a:xfrm>
                    <a:off x="3161520" y="2402640"/>
                    <a:ext cx="92160" cy="114840"/>
                    <a:chOff x="3161520" y="2402640"/>
                    <a:chExt cx="92160" cy="114840"/>
                  </a:xfrm>
                </p:grpSpPr>
                <p:grpSp>
                  <p:nvGrpSpPr>
                    <p:cNvPr id="2166" name=""/>
                    <p:cNvGrpSpPr/>
                    <p:nvPr/>
                  </p:nvGrpSpPr>
                  <p:grpSpPr>
                    <a:xfrm>
                      <a:off x="3190320" y="2407680"/>
                      <a:ext cx="37080" cy="45720"/>
                      <a:chOff x="3190320" y="2407680"/>
                      <a:chExt cx="37080" cy="45720"/>
                    </a:xfrm>
                  </p:grpSpPr>
                  <p:sp>
                    <p:nvSpPr>
                      <p:cNvPr id="2167" name=""/>
                      <p:cNvSpPr/>
                      <p:nvPr/>
                    </p:nvSpPr>
                    <p:spPr>
                      <a:xfrm flipH="1" rot="16326000">
                        <a:off x="3187440" y="241128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8" name=""/>
                      <p:cNvSpPr/>
                      <p:nvPr/>
                    </p:nvSpPr>
                    <p:spPr>
                      <a:xfrm rot="16326600">
                        <a:off x="3187800" y="241380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69" name=""/>
                    <p:cNvGrpSpPr/>
                    <p:nvPr/>
                  </p:nvGrpSpPr>
                  <p:grpSpPr>
                    <a:xfrm>
                      <a:off x="3161520" y="2402640"/>
                      <a:ext cx="92160" cy="114840"/>
                      <a:chOff x="3161520" y="2402640"/>
                      <a:chExt cx="92160" cy="114840"/>
                    </a:xfrm>
                  </p:grpSpPr>
                  <p:sp>
                    <p:nvSpPr>
                      <p:cNvPr id="2170" name=""/>
                      <p:cNvSpPr/>
                      <p:nvPr/>
                    </p:nvSpPr>
                    <p:spPr>
                      <a:xfrm flipH="1" flipV="1" rot="16326600">
                        <a:off x="3154680" y="241236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1" name=""/>
                      <p:cNvSpPr/>
                      <p:nvPr/>
                    </p:nvSpPr>
                    <p:spPr>
                      <a:xfrm flipV="1" rot="16326000">
                        <a:off x="3154680" y="241848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72" name=""/>
                  <p:cNvGrpSpPr/>
                  <p:nvPr/>
                </p:nvGrpSpPr>
                <p:grpSpPr>
                  <a:xfrm>
                    <a:off x="3166200" y="2343600"/>
                    <a:ext cx="92520" cy="115560"/>
                    <a:chOff x="3166200" y="2343600"/>
                    <a:chExt cx="92520" cy="115560"/>
                  </a:xfrm>
                </p:grpSpPr>
                <p:grpSp>
                  <p:nvGrpSpPr>
                    <p:cNvPr id="2173" name=""/>
                    <p:cNvGrpSpPr/>
                    <p:nvPr/>
                  </p:nvGrpSpPr>
                  <p:grpSpPr>
                    <a:xfrm>
                      <a:off x="3195000" y="2349000"/>
                      <a:ext cx="37440" cy="46080"/>
                      <a:chOff x="3195000" y="2349000"/>
                      <a:chExt cx="37440" cy="46080"/>
                    </a:xfrm>
                  </p:grpSpPr>
                  <p:sp>
                    <p:nvSpPr>
                      <p:cNvPr id="2174" name=""/>
                      <p:cNvSpPr/>
                      <p:nvPr/>
                    </p:nvSpPr>
                    <p:spPr>
                      <a:xfrm flipH="1" rot="16326000">
                        <a:off x="3192480" y="235260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5" name=""/>
                      <p:cNvSpPr/>
                      <p:nvPr/>
                    </p:nvSpPr>
                    <p:spPr>
                      <a:xfrm rot="16326600">
                        <a:off x="3192480" y="235548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6" name=""/>
                    <p:cNvGrpSpPr/>
                    <p:nvPr/>
                  </p:nvGrpSpPr>
                  <p:grpSpPr>
                    <a:xfrm>
                      <a:off x="3166200" y="2343600"/>
                      <a:ext cx="92520" cy="115560"/>
                      <a:chOff x="3166200" y="2343600"/>
                      <a:chExt cx="92520" cy="115560"/>
                    </a:xfrm>
                  </p:grpSpPr>
                  <p:sp>
                    <p:nvSpPr>
                      <p:cNvPr id="2177" name=""/>
                      <p:cNvSpPr/>
                      <p:nvPr/>
                    </p:nvSpPr>
                    <p:spPr>
                      <a:xfrm flipH="1" flipV="1" rot="16326600">
                        <a:off x="3159720" y="235332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8" name=""/>
                      <p:cNvSpPr/>
                      <p:nvPr/>
                    </p:nvSpPr>
                    <p:spPr>
                      <a:xfrm flipV="1" rot="16326000">
                        <a:off x="3159360" y="236016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3144240" y="2754720"/>
                    <a:ext cx="92160" cy="115200"/>
                    <a:chOff x="3144240" y="2754720"/>
                    <a:chExt cx="92160" cy="115200"/>
                  </a:xfrm>
                </p:grpSpPr>
                <p:grpSp>
                  <p:nvGrpSpPr>
                    <p:cNvPr id="2180" name=""/>
                    <p:cNvGrpSpPr/>
                    <p:nvPr/>
                  </p:nvGrpSpPr>
                  <p:grpSpPr>
                    <a:xfrm>
                      <a:off x="3172680" y="2760120"/>
                      <a:ext cx="37440" cy="46080"/>
                      <a:chOff x="3172680" y="2760120"/>
                      <a:chExt cx="37440" cy="46080"/>
                    </a:xfrm>
                  </p:grpSpPr>
                  <p:sp>
                    <p:nvSpPr>
                      <p:cNvPr id="2181" name=""/>
                      <p:cNvSpPr/>
                      <p:nvPr/>
                    </p:nvSpPr>
                    <p:spPr>
                      <a:xfrm flipH="1" rot="16326000">
                        <a:off x="3170160" y="276372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2" name=""/>
                      <p:cNvSpPr/>
                      <p:nvPr/>
                    </p:nvSpPr>
                    <p:spPr>
                      <a:xfrm rot="16326600">
                        <a:off x="3170160" y="276660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83" name=""/>
                    <p:cNvGrpSpPr/>
                    <p:nvPr/>
                  </p:nvGrpSpPr>
                  <p:grpSpPr>
                    <a:xfrm>
                      <a:off x="3144240" y="2754720"/>
                      <a:ext cx="92160" cy="115200"/>
                      <a:chOff x="3144240" y="2754720"/>
                      <a:chExt cx="92160" cy="115200"/>
                    </a:xfrm>
                  </p:grpSpPr>
                  <p:sp>
                    <p:nvSpPr>
                      <p:cNvPr id="2184" name=""/>
                      <p:cNvSpPr/>
                      <p:nvPr/>
                    </p:nvSpPr>
                    <p:spPr>
                      <a:xfrm flipH="1" flipV="1" rot="16326600">
                        <a:off x="3137400" y="276444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5" name=""/>
                      <p:cNvSpPr/>
                      <p:nvPr/>
                    </p:nvSpPr>
                    <p:spPr>
                      <a:xfrm flipV="1" rot="16326000">
                        <a:off x="3137400" y="277092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3148200" y="2696040"/>
                    <a:ext cx="92520" cy="115200"/>
                    <a:chOff x="3148200" y="2696040"/>
                    <a:chExt cx="92520" cy="115200"/>
                  </a:xfrm>
                </p:grpSpPr>
                <p:grpSp>
                  <p:nvGrpSpPr>
                    <p:cNvPr id="2187" name=""/>
                    <p:cNvGrpSpPr/>
                    <p:nvPr/>
                  </p:nvGrpSpPr>
                  <p:grpSpPr>
                    <a:xfrm>
                      <a:off x="3177000" y="2701440"/>
                      <a:ext cx="37080" cy="45720"/>
                      <a:chOff x="3177000" y="2701440"/>
                      <a:chExt cx="37080" cy="45720"/>
                    </a:xfrm>
                  </p:grpSpPr>
                  <p:sp>
                    <p:nvSpPr>
                      <p:cNvPr id="2188" name=""/>
                      <p:cNvSpPr/>
                      <p:nvPr/>
                    </p:nvSpPr>
                    <p:spPr>
                      <a:xfrm flipH="1" rot="16326000">
                        <a:off x="3174120" y="270504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9" name=""/>
                      <p:cNvSpPr/>
                      <p:nvPr/>
                    </p:nvSpPr>
                    <p:spPr>
                      <a:xfrm rot="16326600">
                        <a:off x="3174480" y="270756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0" name=""/>
                    <p:cNvGrpSpPr/>
                    <p:nvPr/>
                  </p:nvGrpSpPr>
                  <p:grpSpPr>
                    <a:xfrm>
                      <a:off x="3148200" y="2696040"/>
                      <a:ext cx="92520" cy="115200"/>
                      <a:chOff x="3148200" y="2696040"/>
                      <a:chExt cx="92520" cy="115200"/>
                    </a:xfrm>
                  </p:grpSpPr>
                  <p:sp>
                    <p:nvSpPr>
                      <p:cNvPr id="2191" name=""/>
                      <p:cNvSpPr/>
                      <p:nvPr/>
                    </p:nvSpPr>
                    <p:spPr>
                      <a:xfrm flipH="1" flipV="1" rot="16326600">
                        <a:off x="3141720" y="270576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2" name=""/>
                      <p:cNvSpPr/>
                      <p:nvPr/>
                    </p:nvSpPr>
                    <p:spPr>
                      <a:xfrm flipV="1" rot="16326000">
                        <a:off x="3141360" y="271224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93" name=""/>
                  <p:cNvGrpSpPr/>
                  <p:nvPr/>
                </p:nvGrpSpPr>
                <p:grpSpPr>
                  <a:xfrm>
                    <a:off x="3150360" y="2637720"/>
                    <a:ext cx="92160" cy="114840"/>
                    <a:chOff x="3150360" y="2637720"/>
                    <a:chExt cx="92160" cy="114840"/>
                  </a:xfrm>
                </p:grpSpPr>
                <p:grpSp>
                  <p:nvGrpSpPr>
                    <p:cNvPr id="2194" name=""/>
                    <p:cNvGrpSpPr/>
                    <p:nvPr/>
                  </p:nvGrpSpPr>
                  <p:grpSpPr>
                    <a:xfrm>
                      <a:off x="3179160" y="2642760"/>
                      <a:ext cx="37080" cy="45720"/>
                      <a:chOff x="3179160" y="2642760"/>
                      <a:chExt cx="37080" cy="45720"/>
                    </a:xfrm>
                  </p:grpSpPr>
                  <p:sp>
                    <p:nvSpPr>
                      <p:cNvPr id="2195" name=""/>
                      <p:cNvSpPr/>
                      <p:nvPr/>
                    </p:nvSpPr>
                    <p:spPr>
                      <a:xfrm flipH="1" rot="16326000">
                        <a:off x="3176280" y="264636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6" name=""/>
                      <p:cNvSpPr/>
                      <p:nvPr/>
                    </p:nvSpPr>
                    <p:spPr>
                      <a:xfrm rot="16326600">
                        <a:off x="3176640" y="264888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7" name=""/>
                    <p:cNvGrpSpPr/>
                    <p:nvPr/>
                  </p:nvGrpSpPr>
                  <p:grpSpPr>
                    <a:xfrm>
                      <a:off x="3150360" y="2637720"/>
                      <a:ext cx="92160" cy="114840"/>
                      <a:chOff x="3150360" y="2637720"/>
                      <a:chExt cx="92160" cy="114840"/>
                    </a:xfrm>
                  </p:grpSpPr>
                  <p:sp>
                    <p:nvSpPr>
                      <p:cNvPr id="2198" name=""/>
                      <p:cNvSpPr/>
                      <p:nvPr/>
                    </p:nvSpPr>
                    <p:spPr>
                      <a:xfrm flipH="1" flipV="1" rot="16326600">
                        <a:off x="3143520" y="264744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9" name=""/>
                      <p:cNvSpPr/>
                      <p:nvPr/>
                    </p:nvSpPr>
                    <p:spPr>
                      <a:xfrm flipV="1" rot="16326000">
                        <a:off x="3143520" y="265356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0" name=""/>
                  <p:cNvGrpSpPr/>
                  <p:nvPr/>
                </p:nvGrpSpPr>
                <p:grpSpPr>
                  <a:xfrm>
                    <a:off x="3155040" y="2578680"/>
                    <a:ext cx="92520" cy="115200"/>
                    <a:chOff x="3155040" y="2578680"/>
                    <a:chExt cx="92520" cy="115200"/>
                  </a:xfrm>
                </p:grpSpPr>
                <p:grpSp>
                  <p:nvGrpSpPr>
                    <p:cNvPr id="2201" name=""/>
                    <p:cNvGrpSpPr/>
                    <p:nvPr/>
                  </p:nvGrpSpPr>
                  <p:grpSpPr>
                    <a:xfrm>
                      <a:off x="3183840" y="2584080"/>
                      <a:ext cx="37440" cy="45720"/>
                      <a:chOff x="3183840" y="2584080"/>
                      <a:chExt cx="37440" cy="45720"/>
                    </a:xfrm>
                  </p:grpSpPr>
                  <p:sp>
                    <p:nvSpPr>
                      <p:cNvPr id="2202" name=""/>
                      <p:cNvSpPr/>
                      <p:nvPr/>
                    </p:nvSpPr>
                    <p:spPr>
                      <a:xfrm flipH="1" rot="16326000">
                        <a:off x="3181320" y="258768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3" name=""/>
                      <p:cNvSpPr/>
                      <p:nvPr/>
                    </p:nvSpPr>
                    <p:spPr>
                      <a:xfrm rot="16326600">
                        <a:off x="3181320" y="2590200"/>
                        <a:ext cx="417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04" name=""/>
                    <p:cNvGrpSpPr/>
                    <p:nvPr/>
                  </p:nvGrpSpPr>
                  <p:grpSpPr>
                    <a:xfrm>
                      <a:off x="3155040" y="2578680"/>
                      <a:ext cx="92520" cy="115200"/>
                      <a:chOff x="3155040" y="2578680"/>
                      <a:chExt cx="92520" cy="115200"/>
                    </a:xfrm>
                  </p:grpSpPr>
                  <p:sp>
                    <p:nvSpPr>
                      <p:cNvPr id="2205" name=""/>
                      <p:cNvSpPr/>
                      <p:nvPr/>
                    </p:nvSpPr>
                    <p:spPr>
                      <a:xfrm flipH="1" flipV="1" rot="16326600">
                        <a:off x="3148560" y="258840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6" name=""/>
                      <p:cNvSpPr/>
                      <p:nvPr/>
                    </p:nvSpPr>
                    <p:spPr>
                      <a:xfrm flipV="1" rot="16326000">
                        <a:off x="3148200" y="2594880"/>
                        <a:ext cx="1051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936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400" bIns="41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7" name=""/>
                  <p:cNvGrpSpPr/>
                  <p:nvPr/>
                </p:nvGrpSpPr>
                <p:grpSpPr>
                  <a:xfrm>
                    <a:off x="3168360" y="2285280"/>
                    <a:ext cx="92520" cy="115200"/>
                    <a:chOff x="3168360" y="2285280"/>
                    <a:chExt cx="92520" cy="115200"/>
                  </a:xfrm>
                </p:grpSpPr>
                <p:sp>
                  <p:nvSpPr>
                    <p:cNvPr id="2208" name=""/>
                    <p:cNvSpPr/>
                    <p:nvPr/>
                  </p:nvSpPr>
                  <p:spPr>
                    <a:xfrm flipH="1" flipV="1" rot="16326600">
                      <a:off x="3161880" y="2295000"/>
                      <a:ext cx="10512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1400" bIns="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9" name=""/>
                    <p:cNvSpPr/>
                    <p:nvPr/>
                  </p:nvSpPr>
                  <p:spPr>
                    <a:xfrm flipV="1" rot="16326000">
                      <a:off x="3161520" y="2301480"/>
                      <a:ext cx="10512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1400" bIns="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210" name=""/>
                <p:cNvSpPr/>
                <p:nvPr/>
              </p:nvSpPr>
              <p:spPr>
                <a:xfrm>
                  <a:off x="3219480" y="3054240"/>
                  <a:ext cx="1022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3202560" y="2861280"/>
                  <a:ext cx="23040" cy="20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 flipH="1" flipV="1">
                <a:off x="2790360" y="2584440"/>
                <a:ext cx="41688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3" name=""/>
          <p:cNvSpPr/>
          <p:nvPr/>
        </p:nvSpPr>
        <p:spPr>
          <a:xfrm>
            <a:off x="529560" y="33480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- hadron coinc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111480" y="28954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197080" y="236232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629400" y="685800"/>
            <a:ext cx="23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09, M. Con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" descr=""/>
          <p:cNvPicPr/>
          <p:nvPr/>
        </p:nvPicPr>
        <p:blipFill>
          <a:blip r:embed="rId12"/>
          <a:srcRect l="20315" t="9376" r="27343" b="43131"/>
          <a:stretch/>
        </p:blipFill>
        <p:spPr>
          <a:xfrm>
            <a:off x="152280" y="4035600"/>
            <a:ext cx="3429000" cy="2331720"/>
          </a:xfrm>
          <a:prstGeom prst="rect">
            <a:avLst/>
          </a:prstGeom>
          <a:ln w="0">
            <a:noFill/>
          </a:ln>
        </p:spPr>
      </p:pic>
      <p:sp>
        <p:nvSpPr>
          <p:cNvPr id="2218" name=""/>
          <p:cNvSpPr/>
          <p:nvPr/>
        </p:nvSpPr>
        <p:spPr>
          <a:xfrm>
            <a:off x="2971800" y="5105520"/>
            <a:ext cx="542880" cy="91440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3352680" y="5715000"/>
            <a:ext cx="457200" cy="304920"/>
          </a:xfrm>
          <a:prstGeom prst="line">
            <a:avLst/>
          </a:prstGeom>
          <a:ln w="38160">
            <a:solidFill>
              <a:srgbClr val="212a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3733920" y="5911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a39"/>
                </a:solidFill>
                <a:latin typeface="Arial"/>
              </a:rPr>
              <a:t>Head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540-3840-4024-815A-220546113F9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3000" cy="2819520"/>
          </a:xfrm>
          <a:prstGeom prst="rect">
            <a:avLst/>
          </a:prstGeom>
          <a:ln w="0">
            <a:noFill/>
          </a:ln>
        </p:spPr>
      </p:pic>
      <p:pic>
        <p:nvPicPr>
          <p:cNvPr id="2222" name="" descr=""/>
          <p:cNvPicPr/>
          <p:nvPr/>
        </p:nvPicPr>
        <p:blipFill>
          <a:blip r:embed="rId2"/>
          <a:stretch/>
        </p:blipFill>
        <p:spPr>
          <a:xfrm>
            <a:off x="304920" y="2860560"/>
            <a:ext cx="5715000" cy="2836800"/>
          </a:xfrm>
          <a:prstGeom prst="rect">
            <a:avLst/>
          </a:prstGeom>
          <a:ln w="0">
            <a:noFill/>
          </a:ln>
        </p:spPr>
      </p:pic>
      <p:pic>
        <p:nvPicPr>
          <p:cNvPr id="2223" name="" descr=""/>
          <p:cNvPicPr/>
          <p:nvPr/>
        </p:nvPicPr>
        <p:blipFill>
          <a:blip r:embed="rId3"/>
          <a:stretch/>
        </p:blipFill>
        <p:spPr>
          <a:xfrm>
            <a:off x="6140520" y="2874960"/>
            <a:ext cx="2774880" cy="2763720"/>
          </a:xfrm>
          <a:prstGeom prst="rect">
            <a:avLst/>
          </a:prstGeom>
          <a:ln w="0">
            <a:noFill/>
          </a:ln>
        </p:spPr>
      </p:pic>
      <p:sp>
        <p:nvSpPr>
          <p:cNvPr id="2224" name=""/>
          <p:cNvSpPr/>
          <p:nvPr/>
        </p:nvSpPr>
        <p:spPr>
          <a:xfrm>
            <a:off x="2006640" y="2438280"/>
            <a:ext cx="553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igh Tower Trigger (HT) : (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=(0.05x0.05)  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5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007800" y="68580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et - hadron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638680" y="19051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HIC-AGS’09, J. Putsch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84D-E2C1-460C-BB37-48F041C26B36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" descr=""/>
          <p:cNvPicPr/>
          <p:nvPr/>
        </p:nvPicPr>
        <p:blipFill>
          <a:blip r:embed="rId1"/>
          <a:stretch/>
        </p:blipFill>
        <p:spPr>
          <a:xfrm>
            <a:off x="3738600" y="0"/>
            <a:ext cx="2922480" cy="2922480"/>
          </a:xfrm>
          <a:prstGeom prst="rect">
            <a:avLst/>
          </a:prstGeom>
          <a:ln w="0">
            <a:noFill/>
          </a:ln>
        </p:spPr>
      </p:pic>
      <p:pic>
        <p:nvPicPr>
          <p:cNvPr id="2228" name="" descr=""/>
          <p:cNvPicPr/>
          <p:nvPr/>
        </p:nvPicPr>
        <p:blipFill>
          <a:blip r:embed="rId2"/>
          <a:stretch/>
        </p:blipFill>
        <p:spPr>
          <a:xfrm>
            <a:off x="614520" y="0"/>
            <a:ext cx="3074760" cy="2976480"/>
          </a:xfrm>
          <a:prstGeom prst="rect">
            <a:avLst/>
          </a:prstGeom>
          <a:ln w="0">
            <a:noFill/>
          </a:ln>
        </p:spPr>
      </p:pic>
      <p:pic>
        <p:nvPicPr>
          <p:cNvPr id="2229" name="" descr=""/>
          <p:cNvPicPr/>
          <p:nvPr/>
        </p:nvPicPr>
        <p:blipFill>
          <a:blip r:embed="rId3"/>
          <a:stretch/>
        </p:blipFill>
        <p:spPr>
          <a:xfrm>
            <a:off x="3689280" y="1676520"/>
            <a:ext cx="2967120" cy="2931840"/>
          </a:xfrm>
          <a:prstGeom prst="rect">
            <a:avLst/>
          </a:prstGeom>
          <a:ln w="0">
            <a:noFill/>
          </a:ln>
        </p:spPr>
      </p:pic>
      <p:pic>
        <p:nvPicPr>
          <p:cNvPr id="2230" name="" descr=""/>
          <p:cNvPicPr/>
          <p:nvPr/>
        </p:nvPicPr>
        <p:blipFill>
          <a:blip r:embed="rId4"/>
          <a:stretch/>
        </p:blipFill>
        <p:spPr>
          <a:xfrm>
            <a:off x="600120" y="1649520"/>
            <a:ext cx="3013200" cy="2976480"/>
          </a:xfrm>
          <a:prstGeom prst="rect">
            <a:avLst/>
          </a:prstGeom>
          <a:ln w="0">
            <a:noFill/>
          </a:ln>
        </p:spPr>
      </p:pic>
      <p:pic>
        <p:nvPicPr>
          <p:cNvPr id="2231" name="" descr=""/>
          <p:cNvPicPr/>
          <p:nvPr/>
        </p:nvPicPr>
        <p:blipFill>
          <a:blip r:embed="rId5"/>
          <a:stretch/>
        </p:blipFill>
        <p:spPr>
          <a:xfrm>
            <a:off x="3613320" y="3657600"/>
            <a:ext cx="3092400" cy="2959200"/>
          </a:xfrm>
          <a:prstGeom prst="rect">
            <a:avLst/>
          </a:prstGeom>
          <a:ln w="0">
            <a:noFill/>
          </a:ln>
        </p:spPr>
      </p:pic>
      <p:pic>
        <p:nvPicPr>
          <p:cNvPr id="2232" name="" descr=""/>
          <p:cNvPicPr/>
          <p:nvPr/>
        </p:nvPicPr>
        <p:blipFill>
          <a:blip r:embed="rId6"/>
          <a:stretch/>
        </p:blipFill>
        <p:spPr>
          <a:xfrm>
            <a:off x="533520" y="3657600"/>
            <a:ext cx="3119400" cy="2967120"/>
          </a:xfrm>
          <a:prstGeom prst="rect">
            <a:avLst/>
          </a:prstGeom>
          <a:ln w="0">
            <a:noFill/>
          </a:ln>
        </p:spPr>
      </p:pic>
      <p:sp>
        <p:nvSpPr>
          <p:cNvPr id="2233" name=""/>
          <p:cNvSpPr/>
          <p:nvPr/>
        </p:nvSpPr>
        <p:spPr>
          <a:xfrm>
            <a:off x="1023840" y="2286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ythia (p+p)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070520" y="228600"/>
            <a:ext cx="141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yquen jet</a:t>
            </a:r>
            <a:r>
              <a:rPr b="0" lang="ja-JP" sz="16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quenched) </a:t>
            </a:r>
            <a:r>
              <a:rPr b="0" lang="ja-JP" sz="1600" spc="-1" strike="noStrike">
                <a:solidFill>
                  <a:srgbClr val="000000"/>
                </a:solidFill>
                <a:latin typeface="ヒラギノ角ゴ ProN W3"/>
              </a:rPr>
              <a:t>_x0018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850760" y="1447920"/>
            <a:ext cx="1492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0~4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850760" y="3352680"/>
            <a:ext cx="1492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0~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003040" y="5791320"/>
            <a:ext cx="1234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8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6477120" y="624852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rot="16200000">
            <a:off x="-282960" y="2509560"/>
            <a:ext cx="151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AS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0" name=""/>
          <p:cNvGrpSpPr/>
          <p:nvPr/>
        </p:nvGrpSpPr>
        <p:grpSpPr>
          <a:xfrm>
            <a:off x="7130880" y="3429000"/>
            <a:ext cx="1406160" cy="1673280"/>
            <a:chOff x="7130880" y="3429000"/>
            <a:chExt cx="1406160" cy="1673280"/>
          </a:xfrm>
        </p:grpSpPr>
        <p:grpSp>
          <p:nvGrpSpPr>
            <p:cNvPr id="2241" name=""/>
            <p:cNvGrpSpPr/>
            <p:nvPr/>
          </p:nvGrpSpPr>
          <p:grpSpPr>
            <a:xfrm>
              <a:off x="7130880" y="3730320"/>
              <a:ext cx="1066680" cy="1371960"/>
              <a:chOff x="7130880" y="3730320"/>
              <a:chExt cx="1066680" cy="1371960"/>
            </a:xfrm>
          </p:grpSpPr>
          <p:sp>
            <p:nvSpPr>
              <p:cNvPr id="2242" name=""/>
              <p:cNvSpPr/>
              <p:nvPr/>
            </p:nvSpPr>
            <p:spPr>
              <a:xfrm>
                <a:off x="7130880" y="3807000"/>
                <a:ext cx="1066680" cy="12952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7893000" y="3730320"/>
                <a:ext cx="3045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7588080" y="4111920"/>
                <a:ext cx="304920" cy="38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842240" y="40989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7210440" y="3429000"/>
              <a:ext cx="13266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out-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in-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4876200" y="32767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ward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ward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990720" y="72396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990720" y="2151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99072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867280" y="533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867280" y="584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867280" y="4343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867280" y="42926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642000" y="530280"/>
            <a:ext cx="23464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-je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5.5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ythia (p+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yqu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quench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702480" y="542592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. Sak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d. Student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9E6-8F18-438D-8017-31B862CC1A2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7" name="" descr=""/>
          <p:cNvPicPr/>
          <p:nvPr/>
        </p:nvPicPr>
        <p:blipFill>
          <a:blip r:embed="rId1"/>
          <a:stretch/>
        </p:blipFill>
        <p:spPr>
          <a:xfrm>
            <a:off x="174600" y="2362320"/>
            <a:ext cx="2568600" cy="3657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258" name="" descr=""/>
          <p:cNvPicPr/>
          <p:nvPr/>
        </p:nvPicPr>
        <p:blipFill>
          <a:blip r:embed="rId2"/>
          <a:stretch/>
        </p:blipFill>
        <p:spPr>
          <a:xfrm>
            <a:off x="6404040" y="2362320"/>
            <a:ext cx="2587680" cy="3657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259" name="" descr=""/>
          <p:cNvPicPr/>
          <p:nvPr/>
        </p:nvPicPr>
        <p:blipFill>
          <a:blip r:embed="rId3"/>
          <a:stretch/>
        </p:blipFill>
        <p:spPr>
          <a:xfrm>
            <a:off x="2921040" y="152280"/>
            <a:ext cx="3327480" cy="4419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2260" name=""/>
          <p:cNvSpPr/>
          <p:nvPr/>
        </p:nvSpPr>
        <p:spPr>
          <a:xfrm>
            <a:off x="2895480" y="152280"/>
            <a:ext cx="3353040" cy="37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coil Di-jet 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jet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70GeV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400800" y="2362320"/>
            <a:ext cx="2590920" cy="37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i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jet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3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52280" y="2362320"/>
            <a:ext cx="2590920" cy="37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coil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jet 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3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500400" y="671400"/>
            <a:ext cx="1334880" cy="1390680"/>
            <a:chOff x="500400" y="671400"/>
            <a:chExt cx="1334880" cy="1390680"/>
          </a:xfrm>
        </p:grpSpPr>
        <p:sp>
          <p:nvSpPr>
            <p:cNvPr id="2264" name=""/>
            <p:cNvSpPr/>
            <p:nvPr/>
          </p:nvSpPr>
          <p:spPr>
            <a:xfrm>
              <a:off x="984240" y="760320"/>
              <a:ext cx="68580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52520" y="671400"/>
              <a:ext cx="482760" cy="470160"/>
            </a:xfrm>
            <a:custGeom>
              <a:avLst/>
              <a:gdLst/>
              <a:ahLst/>
              <a:rect l="l" t="t" r="r" b="b"/>
              <a:pathLst>
                <a:path w="304" h="296">
                  <a:moveTo>
                    <a:pt x="8" y="296"/>
                  </a:moveTo>
                  <a:cubicBezTo>
                    <a:pt x="4" y="276"/>
                    <a:pt x="0" y="256"/>
                    <a:pt x="8" y="248"/>
                  </a:cubicBezTo>
                  <a:cubicBezTo>
                    <a:pt x="16" y="240"/>
                    <a:pt x="48" y="256"/>
                    <a:pt x="56" y="248"/>
                  </a:cubicBezTo>
                  <a:cubicBezTo>
                    <a:pt x="64" y="240"/>
                    <a:pt x="48" y="208"/>
                    <a:pt x="56" y="200"/>
                  </a:cubicBezTo>
                  <a:cubicBezTo>
                    <a:pt x="64" y="192"/>
                    <a:pt x="96" y="208"/>
                    <a:pt x="104" y="200"/>
                  </a:cubicBezTo>
                  <a:cubicBezTo>
                    <a:pt x="112" y="192"/>
                    <a:pt x="94" y="159"/>
                    <a:pt x="104" y="152"/>
                  </a:cubicBezTo>
                  <a:cubicBezTo>
                    <a:pt x="114" y="145"/>
                    <a:pt x="155" y="164"/>
                    <a:pt x="164" y="156"/>
                  </a:cubicBezTo>
                  <a:cubicBezTo>
                    <a:pt x="173" y="148"/>
                    <a:pt x="148" y="112"/>
                    <a:pt x="156" y="104"/>
                  </a:cubicBezTo>
                  <a:cubicBezTo>
                    <a:pt x="164" y="96"/>
                    <a:pt x="204" y="117"/>
                    <a:pt x="212" y="108"/>
                  </a:cubicBezTo>
                  <a:cubicBezTo>
                    <a:pt x="220" y="99"/>
                    <a:pt x="197" y="61"/>
                    <a:pt x="204" y="52"/>
                  </a:cubicBezTo>
                  <a:cubicBezTo>
                    <a:pt x="211" y="43"/>
                    <a:pt x="239" y="65"/>
                    <a:pt x="256" y="56"/>
                  </a:cubicBezTo>
                  <a:cubicBezTo>
                    <a:pt x="273" y="47"/>
                    <a:pt x="294" y="12"/>
                    <a:pt x="304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907560" y="129384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1136520" y="129384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831960" y="129384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831960" y="129384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212840" y="11415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8" y="83"/>
                    <a:pt x="29" y="32"/>
                    <a:pt x="45" y="16"/>
                  </a:cubicBezTo>
                  <a:cubicBezTo>
                    <a:pt x="61" y="0"/>
                    <a:pt x="86" y="3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212840" y="11415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72" y="51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212840" y="11415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7" y="87"/>
                    <a:pt x="24" y="56"/>
                    <a:pt x="40" y="40"/>
                  </a:cubicBezTo>
                  <a:cubicBezTo>
                    <a:pt x="56" y="24"/>
                    <a:pt x="84" y="8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212840" y="11415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9" y="88"/>
                    <a:pt x="35" y="64"/>
                    <a:pt x="51" y="48"/>
                  </a:cubicBezTo>
                  <a:cubicBezTo>
                    <a:pt x="67" y="32"/>
                    <a:pt x="87" y="10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052000">
              <a:off x="533160" y="1585800"/>
              <a:ext cx="65700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rot="2052000">
              <a:off x="657000" y="1653840"/>
              <a:ext cx="431640" cy="18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rot="2052000">
              <a:off x="755280" y="1692000"/>
              <a:ext cx="25092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3259800" y="4789800"/>
            <a:ext cx="1568520" cy="1559880"/>
            <a:chOff x="3259800" y="4789800"/>
            <a:chExt cx="1568520" cy="1559880"/>
          </a:xfrm>
        </p:grpSpPr>
        <p:sp>
          <p:nvSpPr>
            <p:cNvPr id="2278" name=""/>
            <p:cNvSpPr/>
            <p:nvPr/>
          </p:nvSpPr>
          <p:spPr>
            <a:xfrm>
              <a:off x="3797280" y="5111640"/>
              <a:ext cx="685800" cy="914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3645000" y="5645160"/>
              <a:ext cx="380880" cy="609120"/>
              <a:chOff x="3645000" y="5645160"/>
              <a:chExt cx="380880" cy="609120"/>
            </a:xfrm>
          </p:grpSpPr>
          <p:sp>
            <p:nvSpPr>
              <p:cNvPr id="2280" name=""/>
              <p:cNvSpPr/>
              <p:nvPr/>
            </p:nvSpPr>
            <p:spPr>
              <a:xfrm flipH="1">
                <a:off x="3721320" y="5645160"/>
                <a:ext cx="304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3949560" y="564516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H="1">
                <a:off x="3645000" y="564516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>
                <a:off x="3645000" y="5645160"/>
                <a:ext cx="3808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4178160" y="4883040"/>
              <a:ext cx="380880" cy="609120"/>
              <a:chOff x="4178160" y="4883040"/>
              <a:chExt cx="380880" cy="609120"/>
            </a:xfrm>
          </p:grpSpPr>
          <p:sp>
            <p:nvSpPr>
              <p:cNvPr id="2285" name=""/>
              <p:cNvSpPr/>
              <p:nvPr/>
            </p:nvSpPr>
            <p:spPr>
              <a:xfrm flipV="1">
                <a:off x="4178160" y="5416200"/>
                <a:ext cx="304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4178520" y="518760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4178160" y="518760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4178160" y="4883040"/>
                <a:ext cx="3808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9" name=""/>
            <p:cNvSpPr/>
            <p:nvPr/>
          </p:nvSpPr>
          <p:spPr>
            <a:xfrm>
              <a:off x="4025880" y="54925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8" y="83"/>
                    <a:pt x="29" y="32"/>
                    <a:pt x="45" y="16"/>
                  </a:cubicBezTo>
                  <a:cubicBezTo>
                    <a:pt x="61" y="0"/>
                    <a:pt x="86" y="3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025880" y="54925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72" y="51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025880" y="54925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7" y="87"/>
                    <a:pt x="24" y="56"/>
                    <a:pt x="40" y="40"/>
                  </a:cubicBezTo>
                  <a:cubicBezTo>
                    <a:pt x="56" y="24"/>
                    <a:pt x="84" y="8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025880" y="54925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9" y="88"/>
                    <a:pt x="35" y="64"/>
                    <a:pt x="51" y="48"/>
                  </a:cubicBezTo>
                  <a:cubicBezTo>
                    <a:pt x="67" y="32"/>
                    <a:pt x="87" y="10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rot="2010000">
              <a:off x="4460760" y="4905360"/>
              <a:ext cx="304920" cy="15192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2010000">
              <a:off x="4419360" y="4876920"/>
              <a:ext cx="380880" cy="215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2010000">
              <a:off x="4501800" y="4935600"/>
              <a:ext cx="210960" cy="8820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rot="2052000">
              <a:off x="3292200" y="5873760"/>
              <a:ext cx="657000" cy="31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2052000">
              <a:off x="3416040" y="5941440"/>
              <a:ext cx="431640" cy="18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rot="2052000">
              <a:off x="3514320" y="5979960"/>
              <a:ext cx="25092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1459800" y="23652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/J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33720" y="190512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802040" y="4800600"/>
            <a:ext cx="9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et (R&lt;0.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049920" y="624852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6701400" y="380880"/>
            <a:ext cx="1299600" cy="1466640"/>
            <a:chOff x="6701400" y="380880"/>
            <a:chExt cx="1299600" cy="1466640"/>
          </a:xfrm>
        </p:grpSpPr>
        <p:sp>
          <p:nvSpPr>
            <p:cNvPr id="2304" name=""/>
            <p:cNvSpPr/>
            <p:nvPr/>
          </p:nvSpPr>
          <p:spPr>
            <a:xfrm>
              <a:off x="7238880" y="609480"/>
              <a:ext cx="68580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5" name=""/>
            <p:cNvGrpSpPr/>
            <p:nvPr/>
          </p:nvGrpSpPr>
          <p:grpSpPr>
            <a:xfrm>
              <a:off x="7086600" y="1143000"/>
              <a:ext cx="380880" cy="609480"/>
              <a:chOff x="7086600" y="1143000"/>
              <a:chExt cx="380880" cy="609480"/>
            </a:xfrm>
          </p:grpSpPr>
          <p:sp>
            <p:nvSpPr>
              <p:cNvPr id="2306" name=""/>
              <p:cNvSpPr/>
              <p:nvPr/>
            </p:nvSpPr>
            <p:spPr>
              <a:xfrm flipH="1">
                <a:off x="7162920" y="1143000"/>
                <a:ext cx="304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>
                <a:off x="7391160" y="114300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7086600" y="114300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7086600" y="1143000"/>
                <a:ext cx="380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0" name=""/>
            <p:cNvSpPr/>
            <p:nvPr/>
          </p:nvSpPr>
          <p:spPr>
            <a:xfrm flipV="1">
              <a:off x="7617600" y="914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7618320" y="68544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7617600" y="68544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7620120" y="380880"/>
              <a:ext cx="38088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467480" y="9907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8" y="83"/>
                    <a:pt x="29" y="32"/>
                    <a:pt x="45" y="16"/>
                  </a:cubicBezTo>
                  <a:cubicBezTo>
                    <a:pt x="61" y="0"/>
                    <a:pt x="86" y="3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467480" y="9907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72" y="51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467480" y="9907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7" y="87"/>
                    <a:pt x="24" y="56"/>
                    <a:pt x="40" y="40"/>
                  </a:cubicBezTo>
                  <a:cubicBezTo>
                    <a:pt x="56" y="24"/>
                    <a:pt x="84" y="8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467480" y="9907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9" y="88"/>
                    <a:pt x="35" y="64"/>
                    <a:pt x="51" y="48"/>
                  </a:cubicBezTo>
                  <a:cubicBezTo>
                    <a:pt x="67" y="32"/>
                    <a:pt x="87" y="10"/>
                    <a:pt x="9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52000">
              <a:off x="6734160" y="1371240"/>
              <a:ext cx="65736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2052000">
              <a:off x="6857640" y="1439640"/>
              <a:ext cx="431640" cy="18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2052000">
              <a:off x="6955920" y="1477440"/>
              <a:ext cx="25092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8001720" y="16020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/J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6554880" y="178272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721400" y="5638680"/>
            <a:ext cx="222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. San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. Yokoyam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d. Student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08F-A0F0-4947-89BC-448A68A2D55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4" name="" descr=""/>
          <p:cNvPicPr/>
          <p:nvPr/>
        </p:nvPicPr>
        <p:blipFill>
          <a:blip r:embed="rId1"/>
          <a:stretch/>
        </p:blipFill>
        <p:spPr>
          <a:xfrm>
            <a:off x="0" y="1725480"/>
            <a:ext cx="5334120" cy="3380040"/>
          </a:xfrm>
          <a:prstGeom prst="rect">
            <a:avLst/>
          </a:prstGeom>
          <a:ln w="0">
            <a:noFill/>
          </a:ln>
        </p:spPr>
      </p:pic>
      <p:pic>
        <p:nvPicPr>
          <p:cNvPr id="2325" name="" descr=""/>
          <p:cNvPicPr/>
          <p:nvPr/>
        </p:nvPicPr>
        <p:blipFill>
          <a:blip r:embed="rId2"/>
          <a:stretch/>
        </p:blipFill>
        <p:spPr>
          <a:xfrm>
            <a:off x="5310360" y="1663560"/>
            <a:ext cx="3833640" cy="3670560"/>
          </a:xfrm>
          <a:prstGeom prst="rect">
            <a:avLst/>
          </a:prstGeom>
          <a:ln w="0">
            <a:noFill/>
          </a:ln>
        </p:spPr>
      </p:pic>
      <p:sp>
        <p:nvSpPr>
          <p:cNvPr id="2326" name=""/>
          <p:cNvSpPr/>
          <p:nvPr/>
        </p:nvSpPr>
        <p:spPr>
          <a:xfrm>
            <a:off x="2049840" y="9144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jet energy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90F-024F-4697-BBD0-55A0BDE8073D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457200" y="109368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9621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03" name=""/>
          <p:cNvGrpSpPr/>
          <p:nvPr/>
        </p:nvGrpSpPr>
        <p:grpSpPr>
          <a:xfrm>
            <a:off x="152280" y="3870360"/>
            <a:ext cx="8848800" cy="2606760"/>
            <a:chOff x="152280" y="3870360"/>
            <a:chExt cx="8848800" cy="2606760"/>
          </a:xfrm>
        </p:grpSpPr>
        <p:sp>
          <p:nvSpPr>
            <p:cNvPr id="704" name=""/>
            <p:cNvSpPr/>
            <p:nvPr/>
          </p:nvSpPr>
          <p:spPr>
            <a:xfrm>
              <a:off x="152280" y="3914640"/>
              <a:ext cx="8848800" cy="25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3"/>
            <a:srcRect l="68546" t="0" r="0" b="0"/>
            <a:stretch/>
          </p:blipFill>
          <p:spPr>
            <a:xfrm>
              <a:off x="6323040" y="4159080"/>
              <a:ext cx="2592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4"/>
            <a:stretch/>
          </p:blipFill>
          <p:spPr>
            <a:xfrm>
              <a:off x="250920" y="4221000"/>
              <a:ext cx="270036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5"/>
            <a:srcRect l="0" t="88996" r="64788" b="0"/>
            <a:stretch/>
          </p:blipFill>
          <p:spPr>
            <a:xfrm>
              <a:off x="250920" y="5992920"/>
              <a:ext cx="27367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6"/>
            <a:srcRect l="0" t="44471" r="65258" b="0"/>
            <a:stretch/>
          </p:blipFill>
          <p:spPr>
            <a:xfrm>
              <a:off x="3220920" y="4233960"/>
              <a:ext cx="27003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836280" y="387036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200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11160" y="387036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PS 17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89360" y="38703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62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49120" y="4637160"/>
              <a:ext cx="141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PHEN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nucl-ex/0611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86280" y="6156360"/>
              <a:ext cx="139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.Kniege, ISMD 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226080" y="1731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uppression    modificatio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2-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09680" y="333360"/>
            <a:ext cx="228600" cy="184320"/>
          </a:xfrm>
          <a:prstGeom prst="rightArrow">
            <a:avLst>
              <a:gd name="adj1" fmla="val 36204"/>
              <a:gd name="adj2" fmla="val 51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339-20FA-4C61-A407-8BD52DC24FC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534520" cy="56149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762120" y="1364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-h correlation at “p+p 200GeV” vs “Au+Au 200GeV central 0-20%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229760" y="457200"/>
            <a:ext cx="2323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associate p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581280" y="685800"/>
            <a:ext cx="5257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-685440" y="1476360"/>
            <a:ext cx="2006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rigger p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windo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298296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0F4-40DA-4F18-B09A-6543ABFB43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rcRect l="8294" t="0" r="0" b="0"/>
          <a:stretch/>
        </p:blipFill>
        <p:spPr>
          <a:xfrm>
            <a:off x="76320" y="914400"/>
            <a:ext cx="3617640" cy="23241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76320" y="101520"/>
            <a:ext cx="7238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 dependent 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rcRect l="8669" t="3160" r="8288" b="0"/>
          <a:stretch/>
        </p:blipFill>
        <p:spPr>
          <a:xfrm>
            <a:off x="152280" y="3505320"/>
            <a:ext cx="3505320" cy="29937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439360" y="361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3"/>
          <a:srcRect l="0" t="0" r="5026" b="0"/>
          <a:stretch/>
        </p:blipFill>
        <p:spPr>
          <a:xfrm>
            <a:off x="3962520" y="1116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701028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C. H.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400800" y="2666880"/>
            <a:ext cx="2522880" cy="3835440"/>
            <a:chOff x="6400800" y="2666880"/>
            <a:chExt cx="2522880" cy="3835440"/>
          </a:xfrm>
        </p:grpSpPr>
        <p:pic>
          <p:nvPicPr>
            <p:cNvPr id="729" name="" descr=""/>
            <p:cNvPicPr/>
            <p:nvPr/>
          </p:nvPicPr>
          <p:blipFill>
            <a:blip r:embed="rId4"/>
            <a:srcRect l="0" t="0" r="6706" b="0"/>
            <a:stretch/>
          </p:blipFill>
          <p:spPr>
            <a:xfrm>
              <a:off x="6400800" y="4572000"/>
              <a:ext cx="2509920" cy="19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7772400" y="2743200"/>
              <a:ext cx="685800" cy="1295280"/>
            </a:xfrm>
            <a:prstGeom prst="ellipse">
              <a:avLst/>
            </a:pr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772040" y="3962520"/>
              <a:ext cx="152280" cy="12189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627000">
              <a:off x="6843240" y="5028840"/>
              <a:ext cx="20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out-of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77440" y="5106960"/>
              <a:ext cx="19454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4680" y="266688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away-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09880" y="1447920"/>
            <a:ext cx="2514600" cy="5105160"/>
            <a:chOff x="3809880" y="1447920"/>
            <a:chExt cx="2514600" cy="5105160"/>
          </a:xfrm>
        </p:grpSpPr>
        <p:pic>
          <p:nvPicPr>
            <p:cNvPr id="736" name="" descr=""/>
            <p:cNvPicPr/>
            <p:nvPr/>
          </p:nvPicPr>
          <p:blipFill>
            <a:blip r:embed="rId5"/>
            <a:srcRect l="0" t="0" r="5966" b="0"/>
            <a:stretch/>
          </p:blipFill>
          <p:spPr>
            <a:xfrm>
              <a:off x="3809880" y="4576680"/>
              <a:ext cx="25146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4419720" y="1447920"/>
              <a:ext cx="685800" cy="2590560"/>
            </a:xfrm>
            <a:prstGeom prst="ellipse">
              <a:avLst/>
            </a:pr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76920" y="3962520"/>
              <a:ext cx="228600" cy="137160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74920" y="5600880"/>
              <a:ext cx="20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out-of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91120" y="5867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6240" y="266688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near-si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916-A783-475A-BC08-5C40885D323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rcRect l="0" t="0" r="7248" b="6102"/>
          <a:stretch/>
        </p:blipFill>
        <p:spPr>
          <a:xfrm>
            <a:off x="38160" y="609480"/>
            <a:ext cx="4876920" cy="390996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28600" y="4800600"/>
            <a:ext cx="522612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ead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22a36"/>
                </a:solidFill>
                <a:latin typeface="Arial"/>
              </a:rPr>
              <a:t>yield confirms simple picture of energy loss vs. path length; in- and out-of-plane show similar away-side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22a36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houlder:</a:t>
            </a:r>
            <a:r>
              <a:rPr b="1" lang="en-US" sz="2000" spc="-1" strike="noStrike">
                <a:solidFill>
                  <a:srgbClr val="222a3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22a36"/>
                </a:solidFill>
                <a:latin typeface="Arial"/>
              </a:rPr>
              <a:t>geometry effects harder to disen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2489040"/>
            <a:ext cx="1676520" cy="1473480"/>
          </a:xfrm>
          <a:prstGeom prst="rect">
            <a:avLst/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704400">
            <a:off x="3733920" y="4191120"/>
            <a:ext cx="1936800" cy="341280"/>
          </a:xfrm>
          <a:prstGeom prst="rightArrow">
            <a:avLst>
              <a:gd name="adj1" fmla="val 44583"/>
              <a:gd name="adj2" fmla="val 83918"/>
            </a:avLst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5676840" y="3222720"/>
            <a:ext cx="3454560" cy="32655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4877640" y="3784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2489040"/>
            <a:ext cx="812520" cy="147348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5676840" y="0"/>
            <a:ext cx="3413160" cy="322596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5183640" y="2666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1522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M09, W. G. Holz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908600" y="2336760"/>
            <a:ext cx="762120" cy="289080"/>
          </a:xfrm>
          <a:prstGeom prst="rightArrow">
            <a:avLst>
              <a:gd name="adj1" fmla="val 50000"/>
              <a:gd name="adj2" fmla="val 65909"/>
            </a:avLst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2880" y="4800600"/>
            <a:ext cx="5181840" cy="91440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2880" y="5791320"/>
            <a:ext cx="5181840" cy="457200"/>
          </a:xfrm>
          <a:prstGeom prst="rect">
            <a:avLst/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18D-3638-41E8-AF3E-2797FF7840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048120" y="974880"/>
            <a:ext cx="2590560" cy="259056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898560"/>
            <a:ext cx="2743200" cy="2743200"/>
          </a:xfrm>
          <a:prstGeom prst="ellipse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05320" y="974880"/>
            <a:ext cx="167616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71800" y="22701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8985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352680" y="1279440"/>
            <a:ext cx="1981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352680" y="1279440"/>
            <a:ext cx="1981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048120" y="1736640"/>
            <a:ext cx="25905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809880" y="974880"/>
            <a:ext cx="10670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1736640"/>
            <a:ext cx="25905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809880" y="974880"/>
            <a:ext cx="10670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343400" y="135576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048120" y="227016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3048120" y="204120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114440" y="2270160"/>
            <a:ext cx="228600" cy="129528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343400" y="1736640"/>
            <a:ext cx="1295280" cy="5335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4343400" y="1279440"/>
            <a:ext cx="990720" cy="9907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736400">
            <a:off x="5637960" y="60876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ar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rigger dir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19736400">
            <a:off x="1739520" y="333648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way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hea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00600" y="1203480"/>
            <a:ext cx="966960" cy="10666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54160" y="1568520"/>
            <a:ext cx="1847880" cy="2147760"/>
          </a:xfrm>
          <a:custGeom>
            <a:avLst/>
            <a:gdLst/>
            <a:ahLst/>
            <a:rect l="l" t="t" r="r" b="b"/>
            <a:pathLst>
              <a:path w="1164" h="1353">
                <a:moveTo>
                  <a:pt x="434" y="0"/>
                </a:moveTo>
                <a:cubicBezTo>
                  <a:pt x="405" y="26"/>
                  <a:pt x="321" y="106"/>
                  <a:pt x="251" y="154"/>
                </a:cubicBezTo>
                <a:cubicBezTo>
                  <a:pt x="181" y="202"/>
                  <a:pt x="26" y="232"/>
                  <a:pt x="13" y="288"/>
                </a:cubicBezTo>
                <a:cubicBezTo>
                  <a:pt x="0" y="344"/>
                  <a:pt x="124" y="420"/>
                  <a:pt x="174" y="491"/>
                </a:cubicBezTo>
                <a:cubicBezTo>
                  <a:pt x="224" y="562"/>
                  <a:pt x="274" y="640"/>
                  <a:pt x="315" y="716"/>
                </a:cubicBezTo>
                <a:cubicBezTo>
                  <a:pt x="356" y="792"/>
                  <a:pt x="380" y="870"/>
                  <a:pt x="420" y="947"/>
                </a:cubicBezTo>
                <a:cubicBezTo>
                  <a:pt x="460" y="1024"/>
                  <a:pt x="504" y="1115"/>
                  <a:pt x="553" y="1179"/>
                </a:cubicBezTo>
                <a:cubicBezTo>
                  <a:pt x="602" y="1243"/>
                  <a:pt x="659" y="1313"/>
                  <a:pt x="715" y="1333"/>
                </a:cubicBezTo>
                <a:cubicBezTo>
                  <a:pt x="771" y="1353"/>
                  <a:pt x="815" y="1331"/>
                  <a:pt x="890" y="1298"/>
                </a:cubicBezTo>
                <a:cubicBezTo>
                  <a:pt x="965" y="1265"/>
                  <a:pt x="1107" y="1171"/>
                  <a:pt x="1164" y="1137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475200">
            <a:off x="1247400" y="150768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g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7080" y="379404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l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29120" y="1349280"/>
            <a:ext cx="2566080" cy="1355760"/>
            <a:chOff x="4929120" y="1349280"/>
            <a:chExt cx="2566080" cy="1355760"/>
          </a:xfrm>
        </p:grpSpPr>
        <p:sp>
          <p:nvSpPr>
            <p:cNvPr id="779" name=""/>
            <p:cNvSpPr/>
            <p:nvPr/>
          </p:nvSpPr>
          <p:spPr>
            <a:xfrm>
              <a:off x="4929120" y="1349280"/>
              <a:ext cx="876240" cy="1355760"/>
            </a:xfrm>
            <a:custGeom>
              <a:avLst/>
              <a:gdLst/>
              <a:ahLst/>
              <a:rect l="l" t="t" r="r" b="b"/>
              <a:pathLst>
                <a:path w="552" h="854">
                  <a:moveTo>
                    <a:pt x="0" y="0"/>
                  </a:moveTo>
                  <a:cubicBezTo>
                    <a:pt x="28" y="10"/>
                    <a:pt x="111" y="52"/>
                    <a:pt x="169" y="61"/>
                  </a:cubicBezTo>
                  <a:cubicBezTo>
                    <a:pt x="227" y="70"/>
                    <a:pt x="284" y="53"/>
                    <a:pt x="346" y="54"/>
                  </a:cubicBezTo>
                  <a:cubicBezTo>
                    <a:pt x="408" y="55"/>
                    <a:pt x="532" y="31"/>
                    <a:pt x="542" y="68"/>
                  </a:cubicBezTo>
                  <a:cubicBezTo>
                    <a:pt x="552" y="105"/>
                    <a:pt x="452" y="206"/>
                    <a:pt x="407" y="278"/>
                  </a:cubicBezTo>
                  <a:cubicBezTo>
                    <a:pt x="362" y="350"/>
                    <a:pt x="316" y="406"/>
                    <a:pt x="271" y="502"/>
                  </a:cubicBezTo>
                  <a:cubicBezTo>
                    <a:pt x="226" y="598"/>
                    <a:pt x="164" y="781"/>
                    <a:pt x="136" y="854"/>
                  </a:cubicBezTo>
                </a:path>
              </a:pathLst>
            </a:cu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00000">
              <a:off x="5866920" y="1431720"/>
              <a:ext cx="228600" cy="838080"/>
            </a:xfrm>
            <a:custGeom>
              <a:avLst/>
              <a:gdLst/>
              <a:ahLst/>
              <a:rect l="l" t="t" r="r" b="b"/>
              <a:pathLst>
                <a:path w="144" h="528">
                  <a:moveTo>
                    <a:pt x="144" y="528"/>
                  </a:moveTo>
                  <a:cubicBezTo>
                    <a:pt x="108" y="476"/>
                    <a:pt x="72" y="424"/>
                    <a:pt x="48" y="336"/>
                  </a:cubicBezTo>
                  <a:cubicBezTo>
                    <a:pt x="24" y="248"/>
                    <a:pt x="12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25560" y="1622160"/>
              <a:ext cx="1169640" cy="33624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638680" y="4038120"/>
            <a:ext cx="3048120" cy="2318040"/>
            <a:chOff x="5638680" y="4038120"/>
            <a:chExt cx="3048120" cy="2318040"/>
          </a:xfrm>
        </p:grpSpPr>
        <p:sp>
          <p:nvSpPr>
            <p:cNvPr id="783" name=""/>
            <p:cNvSpPr/>
            <p:nvPr/>
          </p:nvSpPr>
          <p:spPr>
            <a:xfrm>
              <a:off x="6594480" y="6019920"/>
              <a:ext cx="1253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8680" y="57913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162560" y="40381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92840" y="4667400"/>
              <a:ext cx="2565360" cy="1055520"/>
            </a:xfrm>
            <a:custGeom>
              <a:avLst/>
              <a:gdLst/>
              <a:ahLst/>
              <a:rect l="l" t="t" r="r" b="b"/>
              <a:pathLst>
                <a:path w="1616" h="665">
                  <a:moveTo>
                    <a:pt x="1616" y="601"/>
                  </a:moveTo>
                  <a:cubicBezTo>
                    <a:pt x="1603" y="570"/>
                    <a:pt x="1574" y="463"/>
                    <a:pt x="1540" y="413"/>
                  </a:cubicBezTo>
                  <a:cubicBezTo>
                    <a:pt x="1506" y="363"/>
                    <a:pt x="1450" y="303"/>
                    <a:pt x="1413" y="300"/>
                  </a:cubicBezTo>
                  <a:cubicBezTo>
                    <a:pt x="1376" y="297"/>
                    <a:pt x="1350" y="350"/>
                    <a:pt x="1320" y="393"/>
                  </a:cubicBezTo>
                  <a:cubicBezTo>
                    <a:pt x="1290" y="436"/>
                    <a:pt x="1275" y="519"/>
                    <a:pt x="1233" y="560"/>
                  </a:cubicBezTo>
                  <a:cubicBezTo>
                    <a:pt x="1191" y="601"/>
                    <a:pt x="1116" y="662"/>
                    <a:pt x="1067" y="640"/>
                  </a:cubicBezTo>
                  <a:cubicBezTo>
                    <a:pt x="1018" y="618"/>
                    <a:pt x="969" y="499"/>
                    <a:pt x="936" y="428"/>
                  </a:cubicBezTo>
                  <a:cubicBezTo>
                    <a:pt x="903" y="357"/>
                    <a:pt x="899" y="286"/>
                    <a:pt x="869" y="215"/>
                  </a:cubicBezTo>
                  <a:cubicBezTo>
                    <a:pt x="838" y="144"/>
                    <a:pt x="789" y="0"/>
                    <a:pt x="754" y="1"/>
                  </a:cubicBezTo>
                  <a:cubicBezTo>
                    <a:pt x="720" y="2"/>
                    <a:pt x="686" y="148"/>
                    <a:pt x="660" y="221"/>
                  </a:cubicBezTo>
                  <a:cubicBezTo>
                    <a:pt x="633" y="294"/>
                    <a:pt x="629" y="371"/>
                    <a:pt x="599" y="441"/>
                  </a:cubicBezTo>
                  <a:cubicBezTo>
                    <a:pt x="569" y="511"/>
                    <a:pt x="526" y="617"/>
                    <a:pt x="478" y="641"/>
                  </a:cubicBezTo>
                  <a:cubicBezTo>
                    <a:pt x="430" y="665"/>
                    <a:pt x="367" y="609"/>
                    <a:pt x="313" y="587"/>
                  </a:cubicBezTo>
                  <a:cubicBezTo>
                    <a:pt x="259" y="565"/>
                    <a:pt x="207" y="502"/>
                    <a:pt x="155" y="508"/>
                  </a:cubicBezTo>
                  <a:cubicBezTo>
                    <a:pt x="103" y="514"/>
                    <a:pt x="32" y="598"/>
                    <a:pt x="0" y="6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67280" y="45720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62560" y="4572000"/>
              <a:ext cx="12956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15000" y="579132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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6256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62940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7676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16220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70500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15328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72200" y="5410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 rot="523200">
            <a:off x="1439640" y="1155240"/>
            <a:ext cx="1074600" cy="35244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"/>
                <a:ea typeface="ＭＳ 明朝"/>
              </a:rPr>
              <a:t>thin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351240" y="4584600"/>
            <a:ext cx="1220760" cy="35244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"/>
                <a:ea typeface="ＭＳ 明朝"/>
              </a:rPr>
              <a:t>thick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3600" y="2590920"/>
            <a:ext cx="304812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angle selected with respect to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nd moment event pla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] to probe the participant 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2280" y="5181480"/>
            <a:ext cx="5410440" cy="10674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igger angle is fixed arou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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4), the associate particles emitted left or right w.r.t. trigger direction would feel the different thickness of the almond. It is because the almond shaped medium is asymmetric w.r.t. jet ax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62920" y="152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09, S. Es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A1B-A78E-4C1D-A920-4D8E5824F7B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04920" y="708120"/>
            <a:ext cx="5333760" cy="5540400"/>
          </a:xfrm>
          <a:prstGeom prst="rect">
            <a:avLst/>
          </a:prstGeom>
          <a:ln w="0">
            <a:noFill/>
          </a:ln>
        </p:spPr>
      </p:pic>
      <p:grpSp>
        <p:nvGrpSpPr>
          <p:cNvPr id="805" name=""/>
          <p:cNvGrpSpPr/>
          <p:nvPr/>
        </p:nvGrpSpPr>
        <p:grpSpPr>
          <a:xfrm>
            <a:off x="6324480" y="1905120"/>
            <a:ext cx="2562120" cy="2513880"/>
            <a:chOff x="6324480" y="1905120"/>
            <a:chExt cx="2562120" cy="2513880"/>
          </a:xfrm>
        </p:grpSpPr>
        <p:grpSp>
          <p:nvGrpSpPr>
            <p:cNvPr id="806" name=""/>
            <p:cNvGrpSpPr/>
            <p:nvPr/>
          </p:nvGrpSpPr>
          <p:grpSpPr>
            <a:xfrm>
              <a:off x="6532560" y="1905120"/>
              <a:ext cx="1623960" cy="2513880"/>
              <a:chOff x="6532560" y="1905120"/>
              <a:chExt cx="1623960" cy="251388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6532560" y="1905120"/>
                <a:ext cx="1623960" cy="2513880"/>
                <a:chOff x="6532560" y="1905120"/>
                <a:chExt cx="1623960" cy="251388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7037640" y="2590560"/>
                  <a:ext cx="630720" cy="1255680"/>
                  <a:chOff x="7037640" y="2590560"/>
                  <a:chExt cx="630720" cy="125568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7037640" y="25905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0" name=""/>
                <p:cNvSpPr/>
                <p:nvPr/>
              </p:nvSpPr>
              <p:spPr>
                <a:xfrm>
                  <a:off x="6532560" y="32072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362360" y="19051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>
                  <a:off x="6748920" y="24976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flipV="1">
                  <a:off x="6802200" y="24976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7067520" y="23382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6646680" y="28224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609240" y="28224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067520" y="22410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3663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0464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736040" y="3525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791840" y="3232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79184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73604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0464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3663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83720" y="2251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80680" y="2425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39560" y="268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69720" y="2945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69720" y="32054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739560" y="3465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80680" y="3767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83720" y="39603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6324480" y="32054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61920" y="2858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486400" y="914400"/>
            <a:ext cx="3311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GeV Au+Au -&gt; h-h (run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488720" y="42069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20120" y="24400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8120" y="20574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048120" y="17524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52680" y="53308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71800" y="617220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473960" y="2863800"/>
            <a:ext cx="64152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rot="10800000">
            <a:off x="6597360" y="325080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 rot="10800000">
            <a:off x="6597360" y="286272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480440" y="3243960"/>
            <a:ext cx="641160" cy="304920"/>
          </a:xfrm>
          <a:custGeom>
            <a:avLst/>
            <a:gdLst/>
            <a:ahLst/>
            <a:rect l="l" t="t" r="r" b="b"/>
            <a:pathLst>
              <a:path w="404" h="192">
                <a:moveTo>
                  <a:pt x="0" y="192"/>
                </a:moveTo>
                <a:lnTo>
                  <a:pt x="396" y="0"/>
                </a:lnTo>
                <a:lnTo>
                  <a:pt x="404" y="192"/>
                </a:lnTo>
                <a:lnTo>
                  <a:pt x="0" y="192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06440" y="4724280"/>
            <a:ext cx="1207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4571640" y="4846680"/>
            <a:ext cx="121932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2361960" y="4846680"/>
            <a:ext cx="342900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-657360" y="172440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138880" y="2181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887800" y="3733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7772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00316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52760" y="9144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66680" y="228600"/>
            <a:ext cx="381024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d-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3A9-A797-41D0-982D-1F1D4E67CC2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/Sep/15, flow workshop, ECT* Tre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5:51:31Z</dcterms:created>
  <dc:creator>Esumi ShinIchi</dc:creator>
  <dc:description/>
  <dc:language>en-US</dc:language>
  <cp:lastModifiedBy>Esumi ShinIchi</cp:lastModifiedBy>
  <cp:lastPrinted>2009-09-15T01:18:58Z</cp:lastPrinted>
  <dcterms:modified xsi:type="dcterms:W3CDTF">2009-09-15T05:05:27Z</dcterms:modified>
  <cp:revision>34</cp:revision>
  <dc:subject/>
  <dc:title>PowerPoint プレゼンテーション</dc:title>
</cp:coreProperties>
</file>