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8.png" ContentType="image/png"/>
  <Override PartName="/ppt/media/image16.pct" ContentType="image/x-pict"/>
  <Override PartName="/ppt/media/image61.png" ContentType="image/png"/>
  <Override PartName="/ppt/media/image24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A207-3001-4E92-BEEE-906B61A7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DDF-2349-41EB-811C-93F9F433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C5B-E5BF-4314-B3B1-206BBC4C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87A-51EA-4E9F-910A-7F71644F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996-F175-4796-9CE4-BDC681D3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B6B-792A-42DC-A1CD-161AE49D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628-7FC2-49AD-A7EC-2F882231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DA1-EA61-44D9-85A4-F495D4FE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70A-EE57-496F-A113-4C1A5943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AC37-1669-4BC8-8B70-79C080AD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3FD-8B5D-47AA-82DE-3368F661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3B5C-D951-45ED-AC75-A097B29A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160" y="65527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DFFF-091C-4FA0-B52A-BB5D516023DB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880" y="1143000"/>
            <a:ext cx="83462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et related results from R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hinIchi Es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st. of Physics, Univ. of Tsuk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ets, di-Je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amma-Je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ch-cone, Ridg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…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stly shown at QM09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C24-0E68-43CD-AF6A-AA0846F790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0" y="0"/>
            <a:ext cx="5979600" cy="4965840"/>
            <a:chOff x="0" y="0"/>
            <a:chExt cx="5979600" cy="4965840"/>
          </a:xfrm>
        </p:grpSpPr>
        <p:grpSp>
          <p:nvGrpSpPr>
            <p:cNvPr id="388" name=""/>
            <p:cNvGrpSpPr/>
            <p:nvPr/>
          </p:nvGrpSpPr>
          <p:grpSpPr>
            <a:xfrm>
              <a:off x="0" y="0"/>
              <a:ext cx="5979600" cy="4241520"/>
              <a:chOff x="0" y="0"/>
              <a:chExt cx="5979600" cy="4241520"/>
            </a:xfrm>
          </p:grpSpPr>
          <p:pic>
            <p:nvPicPr>
              <p:cNvPr id="389" name="" descr=""/>
              <p:cNvPicPr/>
              <p:nvPr/>
            </p:nvPicPr>
            <p:blipFill>
              <a:blip r:embed="rId1"/>
              <a:srcRect l="3141" t="9460" r="33076" b="30059"/>
              <a:stretch/>
            </p:blipFill>
            <p:spPr>
              <a:xfrm>
                <a:off x="0" y="0"/>
                <a:ext cx="5979600" cy="424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" descr=""/>
              <p:cNvPicPr/>
              <p:nvPr/>
            </p:nvPicPr>
            <p:blipFill>
              <a:blip r:embed="rId2"/>
              <a:srcRect l="64975" t="73136" r="23991" b="18620"/>
              <a:stretch/>
            </p:blipFill>
            <p:spPr>
              <a:xfrm>
                <a:off x="4801680" y="2216520"/>
                <a:ext cx="855000" cy="4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0" y="4241880"/>
              <a:ext cx="2795760" cy="72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2" name="" descr=""/>
          <p:cNvPicPr/>
          <p:nvPr/>
        </p:nvPicPr>
        <p:blipFill>
          <a:blip r:embed="rId4"/>
          <a:srcRect l="3175" t="9450" r="35033" b="30566"/>
          <a:stretch/>
        </p:blipFill>
        <p:spPr>
          <a:xfrm>
            <a:off x="3049560" y="2057400"/>
            <a:ext cx="5880240" cy="4281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762120" y="5257800"/>
                <a:ext cx="1815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adron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rigger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E16-F5B9-465D-BF07-F4FBFFB7B1F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04920" y="457200"/>
            <a:ext cx="8577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tion function in p+p and Au+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6080" y="1467000"/>
            <a:ext cx="6006960" cy="42130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6446880" y="2141640"/>
            <a:ext cx="245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222a36"/>
                </a:solidFill>
                <a:latin typeface="Arial"/>
              </a:rPr>
              <a:t>p+p slo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Arial"/>
              </a:rPr>
              <a:t>6.89 </a:t>
            </a:r>
            <a:r>
              <a:rPr b="1" lang="ja-JP" sz="2400" spc="-1" strike="noStrike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1" lang="ja-JP" sz="2400" spc="-1" strike="noStrike">
                <a:solidFill>
                  <a:srgbClr val="0000ff"/>
                </a:solidFill>
                <a:latin typeface="Arial"/>
              </a:rPr>
              <a:t> 0.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222a36"/>
                </a:solidFill>
                <a:latin typeface="Arial"/>
              </a:rPr>
              <a:t>Au+Au slo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b0000"/>
                </a:solidFill>
                <a:latin typeface="Arial"/>
              </a:rPr>
              <a:t>9.49 </a:t>
            </a:r>
            <a:r>
              <a:rPr b="1" lang="ja-JP" sz="2400" spc="-1" strike="noStrike">
                <a:solidFill>
                  <a:srgbClr val="fb0000"/>
                </a:solidFill>
                <a:latin typeface="Symbol"/>
                <a:ea typeface="Symbol"/>
              </a:rPr>
              <a:t></a:t>
            </a:r>
            <a:r>
              <a:rPr b="1" lang="ja-JP" sz="2400" spc="-1" strike="noStrike">
                <a:solidFill>
                  <a:srgbClr val="fb0000"/>
                </a:solidFill>
                <a:latin typeface="Arial"/>
              </a:rPr>
              <a:t> 1.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B40-D3BE-46F0-BC87-F3713C3A768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5388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6095880" y="45720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QM09, A. Ha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39C-A0EB-4D4F-9AEA-7924B7729B1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rcRect l="0" t="56253" r="10210" b="0"/>
          <a:stretch/>
        </p:blipFill>
        <p:spPr>
          <a:xfrm>
            <a:off x="457200" y="1093680"/>
            <a:ext cx="3809880" cy="27925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648320" y="762120"/>
            <a:ext cx="3962160" cy="320040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152280" y="3870360"/>
            <a:ext cx="8848800" cy="2606760"/>
            <a:chOff x="152280" y="3870360"/>
            <a:chExt cx="8848800" cy="2606760"/>
          </a:xfrm>
        </p:grpSpPr>
        <p:sp>
          <p:nvSpPr>
            <p:cNvPr id="402" name=""/>
            <p:cNvSpPr/>
            <p:nvPr/>
          </p:nvSpPr>
          <p:spPr>
            <a:xfrm>
              <a:off x="152280" y="3914640"/>
              <a:ext cx="8848800" cy="256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" descr=""/>
            <p:cNvPicPr/>
            <p:nvPr/>
          </p:nvPicPr>
          <p:blipFill>
            <a:blip r:embed="rId3"/>
            <a:srcRect l="68546" t="0" r="0" b="0"/>
            <a:stretch/>
          </p:blipFill>
          <p:spPr>
            <a:xfrm>
              <a:off x="6323040" y="4159080"/>
              <a:ext cx="2592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4"/>
            <a:stretch/>
          </p:blipFill>
          <p:spPr>
            <a:xfrm>
              <a:off x="250920" y="4221000"/>
              <a:ext cx="2700360" cy="18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5"/>
            <a:srcRect l="0" t="88996" r="64788" b="0"/>
            <a:stretch/>
          </p:blipFill>
          <p:spPr>
            <a:xfrm>
              <a:off x="250920" y="5992920"/>
              <a:ext cx="273672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6"/>
            <a:srcRect l="0" t="44471" r="65258" b="0"/>
            <a:stretch/>
          </p:blipFill>
          <p:spPr>
            <a:xfrm>
              <a:off x="3220920" y="4233960"/>
              <a:ext cx="270036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36280" y="3870360"/>
              <a:ext cx="178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RHIC 200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11160" y="3870360"/>
              <a:ext cx="143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SPS 17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89360" y="38703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RHIC 62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49120" y="4637160"/>
              <a:ext cx="1416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PHENI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nucl-ex/06110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86280" y="6156360"/>
              <a:ext cx="139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.Kniege, ISMD 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26080" y="17316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Jet suppression    modification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ith 2-particl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333360"/>
            <a:ext cx="228600" cy="184320"/>
          </a:xfrm>
          <a:prstGeom prst="rightArrow">
            <a:avLst>
              <a:gd name="adj1" fmla="val 36204"/>
              <a:gd name="adj2" fmla="val 516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633-A003-4C7A-BE13-9705DA25A56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6152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2894040" y="30492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+p vs Au+Au cent 0-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07D-A2D4-422B-A6E7-C69CCB9C286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88920"/>
            <a:ext cx="77724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 dependent cor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rcRect l="0" t="0" r="3703" b="0"/>
          <a:stretch/>
        </p:blipFill>
        <p:spPr>
          <a:xfrm>
            <a:off x="3656160" y="1430280"/>
            <a:ext cx="5487840" cy="45133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rcRect l="0" t="0" r="3703" b="0"/>
          <a:stretch/>
        </p:blipFill>
        <p:spPr>
          <a:xfrm>
            <a:off x="3656160" y="1430280"/>
            <a:ext cx="5487840" cy="45133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rcRect l="0" t="0" r="3703" b="0"/>
          <a:stretch/>
        </p:blipFill>
        <p:spPr>
          <a:xfrm>
            <a:off x="3656160" y="1430280"/>
            <a:ext cx="5487840" cy="45133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rcRect l="0" t="0" r="3703" b="0"/>
          <a:stretch/>
        </p:blipFill>
        <p:spPr>
          <a:xfrm>
            <a:off x="3656160" y="1430280"/>
            <a:ext cx="5487840" cy="45133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5"/>
          <a:srcRect l="0" t="0" r="3703" b="0"/>
          <a:stretch/>
        </p:blipFill>
        <p:spPr>
          <a:xfrm>
            <a:off x="3656160" y="1428840"/>
            <a:ext cx="5487840" cy="45147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6"/>
          <a:srcRect l="8294" t="0" r="0" b="0"/>
          <a:stretch/>
        </p:blipFill>
        <p:spPr>
          <a:xfrm>
            <a:off x="38160" y="952560"/>
            <a:ext cx="3618000" cy="19051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279360" y="2857680"/>
            <a:ext cx="3368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212a39"/>
                </a:solidFill>
                <a:latin typeface="Arial"/>
              </a:rPr>
              <a:t>Measure in 18 |</a:t>
            </a:r>
            <a:r>
              <a:rPr b="1" lang="ja-JP" sz="2000" spc="-1" strike="noStrike">
                <a:solidFill>
                  <a:srgbClr val="212a39"/>
                </a:solidFill>
                <a:latin typeface="Symbol"/>
                <a:ea typeface="Symbol"/>
              </a:rPr>
              <a:t></a:t>
            </a:r>
            <a:r>
              <a:rPr b="1" lang="ja-JP" sz="2000" spc="-1" strike="noStrike" baseline="-25000">
                <a:solidFill>
                  <a:srgbClr val="212a39"/>
                </a:solidFill>
                <a:latin typeface="Arial"/>
              </a:rPr>
              <a:t>trig</a:t>
            </a:r>
            <a:r>
              <a:rPr b="1" lang="ja-JP" sz="2000" spc="-1" strike="noStrike">
                <a:solidFill>
                  <a:srgbClr val="212a39"/>
                </a:solidFill>
                <a:latin typeface="Arial"/>
              </a:rPr>
              <a:t> - </a:t>
            </a:r>
            <a:r>
              <a:rPr b="1" lang="ja-JP" sz="2000" spc="-1" strike="noStrike">
                <a:solidFill>
                  <a:srgbClr val="212a39"/>
                </a:solidFill>
                <a:latin typeface="Symbol"/>
                <a:ea typeface="Symbol"/>
              </a:rPr>
              <a:t></a:t>
            </a:r>
            <a:r>
              <a:rPr b="1" lang="ja-JP" sz="2000" spc="-1" strike="noStrike">
                <a:solidFill>
                  <a:srgbClr val="212a39"/>
                </a:solidFill>
                <a:latin typeface="Arial"/>
              </a:rPr>
              <a:t>| angle bins of 5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212a39"/>
                </a:solidFill>
                <a:latin typeface="Arial"/>
              </a:rPr>
              <a:t>folded into 0-90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72200" y="99072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QM09, W. G. Holz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AB9-1E21-4C39-A2D4-AC15C722264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rcRect l="0" t="0" r="7248" b="6102"/>
          <a:stretch/>
        </p:blipFill>
        <p:spPr>
          <a:xfrm>
            <a:off x="38160" y="863640"/>
            <a:ext cx="4876920" cy="39099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482760" y="50760"/>
            <a:ext cx="4660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8000" y="4876920"/>
            <a:ext cx="5073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ad:</a:t>
            </a:r>
            <a:r>
              <a:rPr b="1" lang="en-US" sz="2000" spc="-1" strike="noStrike">
                <a:solidFill>
                  <a:srgbClr val="222a36"/>
                </a:solidFill>
                <a:latin typeface="Arial"/>
              </a:rPr>
              <a:t> yield confirms simple picture of energy loss vs. path length; in- and out-of-plane show similar away-side width</a:t>
            </a:r>
            <a:br>
              <a:rPr sz="2000"/>
            </a:br>
            <a:r>
              <a:rPr b="1" lang="en-US" sz="2000" spc="-1" strike="noStrike">
                <a:solidFill>
                  <a:srgbClr val="005d00"/>
                </a:solidFill>
                <a:latin typeface="Arial"/>
              </a:rPr>
              <a:t>shoulder:</a:t>
            </a:r>
            <a:r>
              <a:rPr b="1" lang="en-US" sz="2000" spc="-1" strike="noStrike">
                <a:solidFill>
                  <a:srgbClr val="222a36"/>
                </a:solidFill>
                <a:latin typeface="Arial"/>
              </a:rPr>
              <a:t> geometry effects harder to</a:t>
            </a:r>
            <a:r>
              <a:rPr b="1" lang="zh-CN" sz="2000" spc="-1" strike="noStrike">
                <a:solidFill>
                  <a:srgbClr val="222a36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222a36"/>
                </a:solidFill>
                <a:latin typeface="Arial"/>
              </a:rPr>
              <a:t>disent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184480" y="1244520"/>
            <a:ext cx="6946920" cy="5243760"/>
            <a:chOff x="2184480" y="1244520"/>
            <a:chExt cx="6946920" cy="5243760"/>
          </a:xfrm>
        </p:grpSpPr>
        <p:grpSp>
          <p:nvGrpSpPr>
            <p:cNvPr id="429" name=""/>
            <p:cNvGrpSpPr/>
            <p:nvPr/>
          </p:nvGrpSpPr>
          <p:grpSpPr>
            <a:xfrm>
              <a:off x="2184480" y="1244520"/>
              <a:ext cx="3500640" cy="3678480"/>
              <a:chOff x="2184480" y="1244520"/>
              <a:chExt cx="3500640" cy="3678480"/>
            </a:xfrm>
          </p:grpSpPr>
          <p:sp>
            <p:nvSpPr>
              <p:cNvPr id="430" name=""/>
              <p:cNvSpPr/>
              <p:nvPr/>
            </p:nvSpPr>
            <p:spPr>
              <a:xfrm>
                <a:off x="2184480" y="1244520"/>
                <a:ext cx="1752480" cy="2971800"/>
              </a:xfrm>
              <a:prstGeom prst="rect">
                <a:avLst/>
              </a:prstGeom>
              <a:solidFill>
                <a:srgbClr val="008000">
                  <a:alpha val="3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704400">
                <a:off x="3733920" y="4387680"/>
                <a:ext cx="1936800" cy="341640"/>
              </a:xfrm>
              <a:prstGeom prst="rightArrow">
                <a:avLst>
                  <a:gd name="adj1" fmla="val 44583"/>
                  <a:gd name="adj2" fmla="val 83829"/>
                </a:avLst>
              </a:prstGeom>
              <a:solidFill>
                <a:srgbClr val="9cce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5144400" y="3222720"/>
              <a:ext cx="3987000" cy="3265560"/>
              <a:chOff x="5144400" y="3222720"/>
              <a:chExt cx="3987000" cy="3265560"/>
            </a:xfrm>
          </p:grpSpPr>
          <p:pic>
            <p:nvPicPr>
              <p:cNvPr id="4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76840" y="3222720"/>
                <a:ext cx="3454560" cy="326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5144400" y="3648240"/>
                <a:ext cx="117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40"/>
                    </a:solidFill>
                    <a:latin typeface="Arial"/>
                  </a:rPr>
                  <a:t>Should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3936960" y="0"/>
            <a:ext cx="5153040" cy="4216320"/>
            <a:chOff x="3936960" y="0"/>
            <a:chExt cx="5153040" cy="4216320"/>
          </a:xfrm>
        </p:grpSpPr>
        <p:grpSp>
          <p:nvGrpSpPr>
            <p:cNvPr id="436" name=""/>
            <p:cNvGrpSpPr/>
            <p:nvPr/>
          </p:nvGrpSpPr>
          <p:grpSpPr>
            <a:xfrm>
              <a:off x="3936960" y="1244520"/>
              <a:ext cx="1733760" cy="2971800"/>
              <a:chOff x="3936960" y="1244520"/>
              <a:chExt cx="1733760" cy="2971800"/>
            </a:xfrm>
          </p:grpSpPr>
          <p:sp>
            <p:nvSpPr>
              <p:cNvPr id="437" name=""/>
              <p:cNvSpPr/>
              <p:nvPr/>
            </p:nvSpPr>
            <p:spPr>
              <a:xfrm>
                <a:off x="3936960" y="1244520"/>
                <a:ext cx="838080" cy="2971800"/>
              </a:xfrm>
              <a:prstGeom prst="rect">
                <a:avLst/>
              </a:prstGeom>
              <a:solidFill>
                <a:srgbClr val="ff0000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908600" y="1549440"/>
                <a:ext cx="762120" cy="279360"/>
              </a:xfrm>
              <a:prstGeom prst="rightArrow">
                <a:avLst>
                  <a:gd name="adj1" fmla="val 50000"/>
                  <a:gd name="adj2" fmla="val 68202"/>
                </a:avLst>
              </a:prstGeom>
              <a:solidFill>
                <a:srgbClr val="ffb5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307480" y="0"/>
              <a:ext cx="3782520" cy="3225960"/>
              <a:chOff x="5307480" y="0"/>
              <a:chExt cx="3782520" cy="3225960"/>
            </a:xfrm>
          </p:grpSpPr>
          <p:pic>
            <p:nvPicPr>
              <p:cNvPr id="4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6840" y="0"/>
                <a:ext cx="3413160" cy="322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5307480" y="219240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H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F5A-25C3-44D4-923E-ADFD2DF8E35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048120" y="974880"/>
            <a:ext cx="2590560" cy="2590560"/>
          </a:xfrm>
          <a:prstGeom prst="rect">
            <a:avLst/>
          </a:prstGeom>
          <a:noFill/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971800" y="898560"/>
            <a:ext cx="2743200" cy="2743200"/>
          </a:xfrm>
          <a:prstGeom prst="ellipse">
            <a:avLst/>
          </a:prstGeom>
          <a:noFill/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505320" y="974880"/>
            <a:ext cx="167616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71800" y="22701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343400" y="8985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352680" y="1279440"/>
            <a:ext cx="198144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1279440"/>
            <a:ext cx="198144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048120" y="1736640"/>
            <a:ext cx="25905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809880" y="974880"/>
            <a:ext cx="106704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048120" y="1736640"/>
            <a:ext cx="25905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09880" y="974880"/>
            <a:ext cx="106704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343400" y="1355760"/>
            <a:ext cx="1295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048120" y="2270160"/>
            <a:ext cx="12952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3048120" y="2041200"/>
            <a:ext cx="1295280" cy="22860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114440" y="2270160"/>
            <a:ext cx="228600" cy="129528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343400" y="1736640"/>
            <a:ext cx="1295280" cy="533520"/>
          </a:xfrm>
          <a:prstGeom prst="line">
            <a:avLst/>
          </a:prstGeom>
          <a:ln w="38160">
            <a:solidFill>
              <a:srgbClr val="00ff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343400" y="1279440"/>
            <a:ext cx="990720" cy="990720"/>
          </a:xfrm>
          <a:prstGeom prst="line">
            <a:avLst/>
          </a:prstGeom>
          <a:ln w="38160">
            <a:solidFill>
              <a:srgbClr val="00ff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9736400">
            <a:off x="5637960" y="608760"/>
            <a:ext cx="166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ear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trigger dire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9736400">
            <a:off x="1739520" y="3336480"/>
            <a:ext cx="13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way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head reg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1203480"/>
            <a:ext cx="966960" cy="1066680"/>
          </a:xfrm>
          <a:custGeom>
            <a:avLst/>
            <a:gdLst/>
            <a:ahLst/>
            <a:rect l="l" t="t" r="r" b="b"/>
            <a:pathLst>
              <a:path w="609" h="672">
                <a:moveTo>
                  <a:pt x="0" y="0"/>
                </a:moveTo>
                <a:cubicBezTo>
                  <a:pt x="35" y="18"/>
                  <a:pt x="134" y="98"/>
                  <a:pt x="211" y="111"/>
                </a:cubicBezTo>
                <a:cubicBezTo>
                  <a:pt x="288" y="124"/>
                  <a:pt x="400" y="84"/>
                  <a:pt x="464" y="76"/>
                </a:cubicBezTo>
                <a:cubicBezTo>
                  <a:pt x="528" y="68"/>
                  <a:pt x="585" y="46"/>
                  <a:pt x="597" y="62"/>
                </a:cubicBezTo>
                <a:cubicBezTo>
                  <a:pt x="609" y="78"/>
                  <a:pt x="569" y="128"/>
                  <a:pt x="534" y="174"/>
                </a:cubicBezTo>
                <a:cubicBezTo>
                  <a:pt x="499" y="220"/>
                  <a:pt x="425" y="285"/>
                  <a:pt x="384" y="336"/>
                </a:cubicBezTo>
                <a:cubicBezTo>
                  <a:pt x="343" y="387"/>
                  <a:pt x="312" y="424"/>
                  <a:pt x="288" y="480"/>
                </a:cubicBezTo>
                <a:cubicBezTo>
                  <a:pt x="264" y="536"/>
                  <a:pt x="252" y="604"/>
                  <a:pt x="240" y="6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954160" y="1568520"/>
            <a:ext cx="1847880" cy="2147760"/>
          </a:xfrm>
          <a:custGeom>
            <a:avLst/>
            <a:gdLst/>
            <a:ahLst/>
            <a:rect l="l" t="t" r="r" b="b"/>
            <a:pathLst>
              <a:path w="1164" h="1353">
                <a:moveTo>
                  <a:pt x="434" y="0"/>
                </a:moveTo>
                <a:cubicBezTo>
                  <a:pt x="405" y="26"/>
                  <a:pt x="321" y="106"/>
                  <a:pt x="251" y="154"/>
                </a:cubicBezTo>
                <a:cubicBezTo>
                  <a:pt x="181" y="202"/>
                  <a:pt x="26" y="232"/>
                  <a:pt x="13" y="288"/>
                </a:cubicBezTo>
                <a:cubicBezTo>
                  <a:pt x="0" y="344"/>
                  <a:pt x="124" y="420"/>
                  <a:pt x="174" y="491"/>
                </a:cubicBezTo>
                <a:cubicBezTo>
                  <a:pt x="224" y="562"/>
                  <a:pt x="274" y="640"/>
                  <a:pt x="315" y="716"/>
                </a:cubicBezTo>
                <a:cubicBezTo>
                  <a:pt x="356" y="792"/>
                  <a:pt x="380" y="870"/>
                  <a:pt x="420" y="947"/>
                </a:cubicBezTo>
                <a:cubicBezTo>
                  <a:pt x="460" y="1024"/>
                  <a:pt x="504" y="1115"/>
                  <a:pt x="553" y="1179"/>
                </a:cubicBezTo>
                <a:cubicBezTo>
                  <a:pt x="602" y="1243"/>
                  <a:pt x="659" y="1313"/>
                  <a:pt x="715" y="1333"/>
                </a:cubicBezTo>
                <a:cubicBezTo>
                  <a:pt x="771" y="1353"/>
                  <a:pt x="815" y="1331"/>
                  <a:pt x="890" y="1298"/>
                </a:cubicBezTo>
                <a:cubicBezTo>
                  <a:pt x="965" y="1265"/>
                  <a:pt x="1107" y="1171"/>
                  <a:pt x="1164" y="1137"/>
                </a:cubicBez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475200">
            <a:off x="1247400" y="1507680"/>
            <a:ext cx="16452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mach-c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(shoulder reg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Arial"/>
              </a:rPr>
              <a:t>ASSO</a:t>
            </a: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Arial"/>
              </a:rPr>
              <a:t>TRIG</a:t>
            </a: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&gt;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77080" y="3794040"/>
            <a:ext cx="16452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mach-c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(shoulder reg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Arial"/>
              </a:rPr>
              <a:t>ASSO</a:t>
            </a: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Arial"/>
              </a:rPr>
              <a:t>TRIG</a:t>
            </a: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&lt;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929120" y="1349280"/>
            <a:ext cx="2566080" cy="1355760"/>
            <a:chOff x="4929120" y="1349280"/>
            <a:chExt cx="2566080" cy="1355760"/>
          </a:xfrm>
        </p:grpSpPr>
        <p:sp>
          <p:nvSpPr>
            <p:cNvPr id="466" name=""/>
            <p:cNvSpPr/>
            <p:nvPr/>
          </p:nvSpPr>
          <p:spPr>
            <a:xfrm>
              <a:off x="4929120" y="1349280"/>
              <a:ext cx="876240" cy="1355760"/>
            </a:xfrm>
            <a:custGeom>
              <a:avLst/>
              <a:gdLst/>
              <a:ahLst/>
              <a:rect l="l" t="t" r="r" b="b"/>
              <a:pathLst>
                <a:path w="552" h="854">
                  <a:moveTo>
                    <a:pt x="0" y="0"/>
                  </a:moveTo>
                  <a:cubicBezTo>
                    <a:pt x="28" y="10"/>
                    <a:pt x="111" y="52"/>
                    <a:pt x="169" y="61"/>
                  </a:cubicBezTo>
                  <a:cubicBezTo>
                    <a:pt x="227" y="70"/>
                    <a:pt x="284" y="53"/>
                    <a:pt x="346" y="54"/>
                  </a:cubicBezTo>
                  <a:cubicBezTo>
                    <a:pt x="408" y="55"/>
                    <a:pt x="532" y="31"/>
                    <a:pt x="542" y="68"/>
                  </a:cubicBezTo>
                  <a:cubicBezTo>
                    <a:pt x="552" y="105"/>
                    <a:pt x="452" y="206"/>
                    <a:pt x="407" y="278"/>
                  </a:cubicBezTo>
                  <a:cubicBezTo>
                    <a:pt x="362" y="350"/>
                    <a:pt x="316" y="406"/>
                    <a:pt x="271" y="502"/>
                  </a:cubicBezTo>
                  <a:cubicBezTo>
                    <a:pt x="226" y="598"/>
                    <a:pt x="164" y="781"/>
                    <a:pt x="136" y="854"/>
                  </a:cubicBezTo>
                </a:path>
              </a:pathLst>
            </a:custGeom>
            <a:noFill/>
            <a:ln cap="rnd" w="38160">
              <a:solidFill>
                <a:srgbClr val="800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0800000">
              <a:off x="5866920" y="1431720"/>
              <a:ext cx="228600" cy="838080"/>
            </a:xfrm>
            <a:custGeom>
              <a:avLst/>
              <a:gdLst/>
              <a:ahLst/>
              <a:rect l="l" t="t" r="r" b="b"/>
              <a:pathLst>
                <a:path w="144" h="528">
                  <a:moveTo>
                    <a:pt x="144" y="528"/>
                  </a:moveTo>
                  <a:cubicBezTo>
                    <a:pt x="108" y="476"/>
                    <a:pt x="72" y="424"/>
                    <a:pt x="48" y="336"/>
                  </a:cubicBezTo>
                  <a:cubicBezTo>
                    <a:pt x="24" y="248"/>
                    <a:pt x="12" y="124"/>
                    <a:pt x="0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25560" y="1622160"/>
              <a:ext cx="1169640" cy="336240"/>
            </a:xfrm>
            <a:prstGeom prst="rect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ASS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TRIG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638680" y="4038120"/>
            <a:ext cx="3048120" cy="2318040"/>
            <a:chOff x="5638680" y="4038120"/>
            <a:chExt cx="3048120" cy="2318040"/>
          </a:xfrm>
        </p:grpSpPr>
        <p:sp>
          <p:nvSpPr>
            <p:cNvPr id="470" name=""/>
            <p:cNvSpPr/>
            <p:nvPr/>
          </p:nvSpPr>
          <p:spPr>
            <a:xfrm>
              <a:off x="6594480" y="6019920"/>
              <a:ext cx="1253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ASSO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TR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38680" y="5791320"/>
              <a:ext cx="304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162560" y="403812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92840" y="4667400"/>
              <a:ext cx="2565360" cy="1055520"/>
            </a:xfrm>
            <a:custGeom>
              <a:avLst/>
              <a:gdLst/>
              <a:ahLst/>
              <a:rect l="l" t="t" r="r" b="b"/>
              <a:pathLst>
                <a:path w="1616" h="665">
                  <a:moveTo>
                    <a:pt x="1616" y="601"/>
                  </a:moveTo>
                  <a:cubicBezTo>
                    <a:pt x="1603" y="570"/>
                    <a:pt x="1574" y="463"/>
                    <a:pt x="1540" y="413"/>
                  </a:cubicBezTo>
                  <a:cubicBezTo>
                    <a:pt x="1506" y="363"/>
                    <a:pt x="1450" y="303"/>
                    <a:pt x="1413" y="300"/>
                  </a:cubicBezTo>
                  <a:cubicBezTo>
                    <a:pt x="1376" y="297"/>
                    <a:pt x="1350" y="350"/>
                    <a:pt x="1320" y="393"/>
                  </a:cubicBezTo>
                  <a:cubicBezTo>
                    <a:pt x="1290" y="436"/>
                    <a:pt x="1275" y="519"/>
                    <a:pt x="1233" y="560"/>
                  </a:cubicBezTo>
                  <a:cubicBezTo>
                    <a:pt x="1191" y="601"/>
                    <a:pt x="1116" y="662"/>
                    <a:pt x="1067" y="640"/>
                  </a:cubicBezTo>
                  <a:cubicBezTo>
                    <a:pt x="1018" y="618"/>
                    <a:pt x="969" y="499"/>
                    <a:pt x="936" y="428"/>
                  </a:cubicBezTo>
                  <a:cubicBezTo>
                    <a:pt x="903" y="357"/>
                    <a:pt x="899" y="286"/>
                    <a:pt x="869" y="215"/>
                  </a:cubicBezTo>
                  <a:cubicBezTo>
                    <a:pt x="838" y="144"/>
                    <a:pt x="789" y="0"/>
                    <a:pt x="754" y="1"/>
                  </a:cubicBezTo>
                  <a:cubicBezTo>
                    <a:pt x="720" y="2"/>
                    <a:pt x="686" y="148"/>
                    <a:pt x="660" y="221"/>
                  </a:cubicBezTo>
                  <a:cubicBezTo>
                    <a:pt x="633" y="294"/>
                    <a:pt x="629" y="371"/>
                    <a:pt x="599" y="441"/>
                  </a:cubicBezTo>
                  <a:cubicBezTo>
                    <a:pt x="569" y="511"/>
                    <a:pt x="526" y="617"/>
                    <a:pt x="478" y="641"/>
                  </a:cubicBezTo>
                  <a:cubicBezTo>
                    <a:pt x="430" y="665"/>
                    <a:pt x="367" y="609"/>
                    <a:pt x="313" y="587"/>
                  </a:cubicBezTo>
                  <a:cubicBezTo>
                    <a:pt x="259" y="565"/>
                    <a:pt x="207" y="502"/>
                    <a:pt x="155" y="508"/>
                  </a:cubicBezTo>
                  <a:cubicBezTo>
                    <a:pt x="103" y="514"/>
                    <a:pt x="32" y="598"/>
                    <a:pt x="0" y="621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67280" y="4572000"/>
              <a:ext cx="129528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62560" y="4572000"/>
              <a:ext cx="129564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15000" y="5791320"/>
              <a:ext cx="289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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62560" y="5105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6629400" y="5105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76760" y="5105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7162200" y="4343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705000" y="4343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153280" y="510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172200" y="5410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 rot="523200">
            <a:off x="1439640" y="1155240"/>
            <a:ext cx="1074600" cy="35244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entury"/>
                <a:ea typeface="ＭＳ 明朝"/>
              </a:rPr>
              <a:t>thin 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351240" y="4584600"/>
            <a:ext cx="1220760" cy="35244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entury"/>
                <a:ea typeface="ＭＳ 明朝"/>
              </a:rPr>
              <a:t>thick 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943600" y="2590920"/>
            <a:ext cx="3048120" cy="106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angle selected with respect to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nd moment event pla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,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] to probe the participant ge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5181480"/>
            <a:ext cx="5410440" cy="10674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igger angle is fixed arou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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4), the associate particles emitted left or right w.r.t. trigger direction would feel the different thickness of the almond. It is because the almond shaped medium is asymmetric w.r.t. jet ax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162920" y="152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M09, S. Esu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FF7-CB3D-430A-BACB-EF361B9DD8D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304920" y="708120"/>
            <a:ext cx="5333760" cy="5540400"/>
          </a:xfrm>
          <a:prstGeom prst="rect">
            <a:avLst/>
          </a:prstGeom>
          <a:ln w="0">
            <a:noFill/>
          </a:ln>
        </p:spPr>
      </p:pic>
      <p:grpSp>
        <p:nvGrpSpPr>
          <p:cNvPr id="492" name=""/>
          <p:cNvGrpSpPr/>
          <p:nvPr/>
        </p:nvGrpSpPr>
        <p:grpSpPr>
          <a:xfrm>
            <a:off x="6324480" y="1905120"/>
            <a:ext cx="2562120" cy="2513880"/>
            <a:chOff x="6324480" y="1905120"/>
            <a:chExt cx="2562120" cy="2513880"/>
          </a:xfrm>
        </p:grpSpPr>
        <p:grpSp>
          <p:nvGrpSpPr>
            <p:cNvPr id="493" name=""/>
            <p:cNvGrpSpPr/>
            <p:nvPr/>
          </p:nvGrpSpPr>
          <p:grpSpPr>
            <a:xfrm>
              <a:off x="6532560" y="1905120"/>
              <a:ext cx="1623960" cy="2513880"/>
              <a:chOff x="6532560" y="1905120"/>
              <a:chExt cx="1623960" cy="2513880"/>
            </a:xfrm>
          </p:grpSpPr>
          <p:grpSp>
            <p:nvGrpSpPr>
              <p:cNvPr id="494" name=""/>
              <p:cNvGrpSpPr/>
              <p:nvPr/>
            </p:nvGrpSpPr>
            <p:grpSpPr>
              <a:xfrm>
                <a:off x="6532560" y="1905120"/>
                <a:ext cx="1623960" cy="2513880"/>
                <a:chOff x="6532560" y="1905120"/>
                <a:chExt cx="1623960" cy="2513880"/>
              </a:xfrm>
            </p:grpSpPr>
            <p:grpSp>
              <p:nvGrpSpPr>
                <p:cNvPr id="495" name=""/>
                <p:cNvGrpSpPr/>
                <p:nvPr/>
              </p:nvGrpSpPr>
              <p:grpSpPr>
                <a:xfrm>
                  <a:off x="7037640" y="2590560"/>
                  <a:ext cx="630720" cy="1255680"/>
                  <a:chOff x="7037640" y="2590560"/>
                  <a:chExt cx="630720" cy="125568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>
                    <a:off x="7037640" y="2590560"/>
                    <a:ext cx="630720" cy="1255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7" name=""/>
                <p:cNvSpPr/>
                <p:nvPr/>
              </p:nvSpPr>
              <p:spPr>
                <a:xfrm>
                  <a:off x="6532560" y="3207240"/>
                  <a:ext cx="16239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362360" y="1905120"/>
                  <a:ext cx="720" cy="251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6748920" y="2497680"/>
                  <a:ext cx="117288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 flipV="1">
                  <a:off x="6802200" y="2497680"/>
                  <a:ext cx="117432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7067520" y="2338200"/>
                <a:ext cx="611280" cy="178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6646680" y="2822400"/>
                <a:ext cx="145296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609240" y="2822400"/>
                <a:ext cx="152820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067520" y="2241000"/>
                <a:ext cx="611280" cy="18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366320" y="39603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04640" y="376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736040" y="3525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91840" y="3232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791840" y="2945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736040" y="268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604640" y="2425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366320" y="2251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83720" y="2251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880680" y="2425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39560" y="268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69720" y="2945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669720" y="3205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739560" y="3465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880680" y="376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083720" y="39603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324480" y="3205440"/>
              <a:ext cx="20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161920" y="285876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5486400" y="914400"/>
            <a:ext cx="33116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GeV Au+Au -&gt; h-h (run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488720" y="4206960"/>
            <a:ext cx="1346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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620120" y="2440080"/>
            <a:ext cx="538200" cy="1751040"/>
          </a:xfrm>
          <a:custGeom>
            <a:avLst/>
            <a:gdLst/>
            <a:ahLst/>
            <a:rect l="l" t="t" r="r" b="b"/>
            <a:pathLst>
              <a:path w="339" h="1103">
                <a:moveTo>
                  <a:pt x="0" y="1103"/>
                </a:moveTo>
                <a:cubicBezTo>
                  <a:pt x="30" y="1087"/>
                  <a:pt x="126" y="1056"/>
                  <a:pt x="177" y="1000"/>
                </a:cubicBezTo>
                <a:cubicBezTo>
                  <a:pt x="228" y="944"/>
                  <a:pt x="283" y="846"/>
                  <a:pt x="309" y="763"/>
                </a:cubicBezTo>
                <a:cubicBezTo>
                  <a:pt x="335" y="680"/>
                  <a:pt x="334" y="593"/>
                  <a:pt x="335" y="500"/>
                </a:cubicBezTo>
                <a:cubicBezTo>
                  <a:pt x="336" y="407"/>
                  <a:pt x="339" y="287"/>
                  <a:pt x="313" y="204"/>
                </a:cubicBezTo>
                <a:cubicBezTo>
                  <a:pt x="287" y="121"/>
                  <a:pt x="209" y="43"/>
                  <a:pt x="182" y="0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2057400"/>
            <a:ext cx="2133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4)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=[-1,0]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1752480"/>
            <a:ext cx="19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5)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=[0,1]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352680" y="533088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971800" y="617220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473960" y="2863800"/>
            <a:ext cx="641520" cy="304920"/>
          </a:xfrm>
          <a:custGeom>
            <a:avLst/>
            <a:gdLst/>
            <a:ahLst/>
            <a:rect l="l" t="t" r="r" b="b"/>
            <a:pathLst>
              <a:path w="404" h="192">
                <a:moveTo>
                  <a:pt x="0" y="192"/>
                </a:moveTo>
                <a:lnTo>
                  <a:pt x="396" y="0"/>
                </a:lnTo>
                <a:lnTo>
                  <a:pt x="404" y="192"/>
                </a:lnTo>
                <a:lnTo>
                  <a:pt x="0" y="192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0800000">
            <a:off x="6597360" y="3250800"/>
            <a:ext cx="641160" cy="304920"/>
          </a:xfrm>
          <a:custGeom>
            <a:avLst/>
            <a:gdLst/>
            <a:ahLst/>
            <a:rect l="l" t="t" r="r" b="b"/>
            <a:pathLst>
              <a:path w="404" h="192">
                <a:moveTo>
                  <a:pt x="0" y="192"/>
                </a:moveTo>
                <a:lnTo>
                  <a:pt x="396" y="0"/>
                </a:lnTo>
                <a:lnTo>
                  <a:pt x="404" y="192"/>
                </a:lnTo>
                <a:lnTo>
                  <a:pt x="0" y="192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 rot="10800000">
            <a:off x="6597360" y="2862720"/>
            <a:ext cx="641160" cy="304920"/>
          </a:xfrm>
          <a:custGeom>
            <a:avLst/>
            <a:gdLst/>
            <a:ahLst/>
            <a:rect l="l" t="t" r="r" b="b"/>
            <a:pathLst>
              <a:path w="404" h="192">
                <a:moveTo>
                  <a:pt x="0" y="192"/>
                </a:moveTo>
                <a:lnTo>
                  <a:pt x="396" y="0"/>
                </a:lnTo>
                <a:lnTo>
                  <a:pt x="404" y="192"/>
                </a:lnTo>
                <a:lnTo>
                  <a:pt x="0" y="192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7480440" y="3243960"/>
            <a:ext cx="641160" cy="304920"/>
          </a:xfrm>
          <a:custGeom>
            <a:avLst/>
            <a:gdLst/>
            <a:ahLst/>
            <a:rect l="l" t="t" r="r" b="b"/>
            <a:pathLst>
              <a:path w="404" h="192">
                <a:moveTo>
                  <a:pt x="0" y="192"/>
                </a:moveTo>
                <a:lnTo>
                  <a:pt x="396" y="0"/>
                </a:lnTo>
                <a:lnTo>
                  <a:pt x="404" y="192"/>
                </a:lnTo>
                <a:lnTo>
                  <a:pt x="0" y="192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806440" y="4724280"/>
            <a:ext cx="1207800" cy="916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-p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ssoc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571640" y="4846680"/>
            <a:ext cx="121932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2361960" y="4846680"/>
            <a:ext cx="342900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16200000">
            <a:off x="-657360" y="1972080"/>
            <a:ext cx="199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ata) -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138880" y="21812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887800" y="37339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77280" y="220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003160" y="3733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52760" y="9144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066680" y="228600"/>
            <a:ext cx="3810240" cy="459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id-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3DA-A93D-4BB5-894B-2419106A7EA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5257800" cy="5549760"/>
          </a:xfrm>
          <a:prstGeom prst="rect">
            <a:avLst/>
          </a:prstGeom>
          <a:ln w="0">
            <a:noFill/>
          </a:ln>
        </p:spPr>
      </p:pic>
      <p:grpSp>
        <p:nvGrpSpPr>
          <p:cNvPr id="545" name=""/>
          <p:cNvGrpSpPr/>
          <p:nvPr/>
        </p:nvGrpSpPr>
        <p:grpSpPr>
          <a:xfrm>
            <a:off x="6324480" y="1905120"/>
            <a:ext cx="2562120" cy="2513880"/>
            <a:chOff x="6324480" y="1905120"/>
            <a:chExt cx="2562120" cy="2513880"/>
          </a:xfrm>
        </p:grpSpPr>
        <p:grpSp>
          <p:nvGrpSpPr>
            <p:cNvPr id="546" name=""/>
            <p:cNvGrpSpPr/>
            <p:nvPr/>
          </p:nvGrpSpPr>
          <p:grpSpPr>
            <a:xfrm>
              <a:off x="6532560" y="1905120"/>
              <a:ext cx="1623960" cy="2513880"/>
              <a:chOff x="6532560" y="1905120"/>
              <a:chExt cx="1623960" cy="2513880"/>
            </a:xfrm>
          </p:grpSpPr>
          <p:grpSp>
            <p:nvGrpSpPr>
              <p:cNvPr id="547" name=""/>
              <p:cNvGrpSpPr/>
              <p:nvPr/>
            </p:nvGrpSpPr>
            <p:grpSpPr>
              <a:xfrm>
                <a:off x="6532560" y="1905120"/>
                <a:ext cx="1623960" cy="2513880"/>
                <a:chOff x="6532560" y="1905120"/>
                <a:chExt cx="1623960" cy="2513880"/>
              </a:xfrm>
            </p:grpSpPr>
            <p:grpSp>
              <p:nvGrpSpPr>
                <p:cNvPr id="548" name=""/>
                <p:cNvGrpSpPr/>
                <p:nvPr/>
              </p:nvGrpSpPr>
              <p:grpSpPr>
                <a:xfrm>
                  <a:off x="7037640" y="2590560"/>
                  <a:ext cx="630720" cy="1255680"/>
                  <a:chOff x="7037640" y="2590560"/>
                  <a:chExt cx="630720" cy="125568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7037640" y="2590560"/>
                    <a:ext cx="630720" cy="1255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0" name=""/>
                <p:cNvSpPr/>
                <p:nvPr/>
              </p:nvSpPr>
              <p:spPr>
                <a:xfrm>
                  <a:off x="6532560" y="3207240"/>
                  <a:ext cx="16239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362360" y="1905120"/>
                  <a:ext cx="720" cy="251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V="1">
                  <a:off x="6748920" y="2497680"/>
                  <a:ext cx="117288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H="1" flipV="1">
                  <a:off x="6802200" y="2497680"/>
                  <a:ext cx="117432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7067520" y="2338200"/>
                <a:ext cx="611280" cy="178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6646680" y="2822400"/>
                <a:ext cx="145296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609240" y="2822400"/>
                <a:ext cx="152820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7067520" y="2241000"/>
                <a:ext cx="611280" cy="18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66320" y="39603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604640" y="376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736040" y="3525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791840" y="3232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91840" y="2945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736040" y="268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604640" y="2425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66320" y="2251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83720" y="2251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880680" y="2425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739560" y="268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669720" y="2945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669720" y="3205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739560" y="3465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880680" y="376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083720" y="39603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6324480" y="3205440"/>
              <a:ext cx="20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161920" y="285876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5486400" y="914400"/>
            <a:ext cx="33116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GeV Au+Au -&gt; h-h (run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488720" y="4206960"/>
            <a:ext cx="1346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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620120" y="2440080"/>
            <a:ext cx="538200" cy="1751040"/>
          </a:xfrm>
          <a:custGeom>
            <a:avLst/>
            <a:gdLst/>
            <a:ahLst/>
            <a:rect l="l" t="t" r="r" b="b"/>
            <a:pathLst>
              <a:path w="339" h="1103">
                <a:moveTo>
                  <a:pt x="0" y="1103"/>
                </a:moveTo>
                <a:cubicBezTo>
                  <a:pt x="30" y="1087"/>
                  <a:pt x="126" y="1056"/>
                  <a:pt x="177" y="1000"/>
                </a:cubicBezTo>
                <a:cubicBezTo>
                  <a:pt x="228" y="944"/>
                  <a:pt x="283" y="846"/>
                  <a:pt x="309" y="763"/>
                </a:cubicBezTo>
                <a:cubicBezTo>
                  <a:pt x="335" y="680"/>
                  <a:pt x="334" y="593"/>
                  <a:pt x="335" y="500"/>
                </a:cubicBezTo>
                <a:cubicBezTo>
                  <a:pt x="336" y="407"/>
                  <a:pt x="339" y="287"/>
                  <a:pt x="313" y="204"/>
                </a:cubicBezTo>
                <a:cubicBezTo>
                  <a:pt x="287" y="121"/>
                  <a:pt x="209" y="43"/>
                  <a:pt x="182" y="0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2057400"/>
            <a:ext cx="2133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3)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=[-2,-1]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048120" y="1752480"/>
            <a:ext cx="19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6)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=[1,2]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352680" y="533088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971800" y="617220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06440" y="4724280"/>
            <a:ext cx="1207800" cy="916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-p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ssoc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4876920" y="50288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 flipV="1">
            <a:off x="2666520" y="5028840"/>
            <a:ext cx="3124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138880" y="21812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87800" y="37339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777280" y="220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003160" y="3733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652760" y="9144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466040" y="3289320"/>
            <a:ext cx="617400" cy="622440"/>
          </a:xfrm>
          <a:custGeom>
            <a:avLst/>
            <a:gdLst/>
            <a:ahLst/>
            <a:rect l="l" t="t" r="r" b="b"/>
            <a:pathLst>
              <a:path w="389" h="392">
                <a:moveTo>
                  <a:pt x="0" y="0"/>
                </a:moveTo>
                <a:lnTo>
                  <a:pt x="308" y="392"/>
                </a:lnTo>
                <a:lnTo>
                  <a:pt x="389" y="204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0800000">
            <a:off x="6642000" y="2502000"/>
            <a:ext cx="617760" cy="622080"/>
          </a:xfrm>
          <a:custGeom>
            <a:avLst/>
            <a:gdLst/>
            <a:ahLst/>
            <a:rect l="l" t="t" r="r" b="b"/>
            <a:pathLst>
              <a:path w="389" h="392">
                <a:moveTo>
                  <a:pt x="0" y="0"/>
                </a:moveTo>
                <a:lnTo>
                  <a:pt x="308" y="392"/>
                </a:lnTo>
                <a:lnTo>
                  <a:pt x="389" y="204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 rot="10800000">
            <a:off x="6634080" y="3308400"/>
            <a:ext cx="617760" cy="622080"/>
          </a:xfrm>
          <a:custGeom>
            <a:avLst/>
            <a:gdLst/>
            <a:ahLst/>
            <a:rect l="l" t="t" r="r" b="b"/>
            <a:pathLst>
              <a:path w="389" h="392">
                <a:moveTo>
                  <a:pt x="0" y="0"/>
                </a:moveTo>
                <a:lnTo>
                  <a:pt x="308" y="392"/>
                </a:lnTo>
                <a:lnTo>
                  <a:pt x="389" y="204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467480" y="2502000"/>
            <a:ext cx="617760" cy="622080"/>
          </a:xfrm>
          <a:custGeom>
            <a:avLst/>
            <a:gdLst/>
            <a:ahLst/>
            <a:rect l="l" t="t" r="r" b="b"/>
            <a:pathLst>
              <a:path w="389" h="392">
                <a:moveTo>
                  <a:pt x="0" y="0"/>
                </a:moveTo>
                <a:lnTo>
                  <a:pt x="308" y="392"/>
                </a:lnTo>
                <a:lnTo>
                  <a:pt x="389" y="204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16200000">
            <a:off x="-657360" y="1948320"/>
            <a:ext cx="199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ata) -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66680" y="228600"/>
            <a:ext cx="3810240" cy="459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id-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22D-3A14-449B-A6D4-B51D05263C3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8686800" cy="4654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62320" y="320040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QM09, A. Majum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77840" y="2514600"/>
            <a:ext cx="8813880" cy="3886200"/>
            <a:chOff x="177840" y="2514600"/>
            <a:chExt cx="8813880" cy="388620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177840" y="2514600"/>
              <a:ext cx="4114800" cy="388620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4292640" y="2514600"/>
              <a:ext cx="4699080" cy="386856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793-76DC-46FF-930B-54FBB3E27F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5410080" cy="5594400"/>
          </a:xfrm>
          <a:prstGeom prst="rect">
            <a:avLst/>
          </a:prstGeom>
          <a:ln w="0">
            <a:noFill/>
          </a:ln>
        </p:spPr>
      </p:pic>
      <p:grpSp>
        <p:nvGrpSpPr>
          <p:cNvPr id="598" name=""/>
          <p:cNvGrpSpPr/>
          <p:nvPr/>
        </p:nvGrpSpPr>
        <p:grpSpPr>
          <a:xfrm>
            <a:off x="6324480" y="1905120"/>
            <a:ext cx="2562120" cy="2513880"/>
            <a:chOff x="6324480" y="1905120"/>
            <a:chExt cx="2562120" cy="2513880"/>
          </a:xfrm>
        </p:grpSpPr>
        <p:grpSp>
          <p:nvGrpSpPr>
            <p:cNvPr id="599" name=""/>
            <p:cNvGrpSpPr/>
            <p:nvPr/>
          </p:nvGrpSpPr>
          <p:grpSpPr>
            <a:xfrm>
              <a:off x="6532560" y="1905120"/>
              <a:ext cx="1623960" cy="2513880"/>
              <a:chOff x="6532560" y="1905120"/>
              <a:chExt cx="1623960" cy="251388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6532560" y="1905120"/>
                <a:ext cx="1623960" cy="2513880"/>
                <a:chOff x="6532560" y="1905120"/>
                <a:chExt cx="1623960" cy="2513880"/>
              </a:xfrm>
            </p:grpSpPr>
            <p:grpSp>
              <p:nvGrpSpPr>
                <p:cNvPr id="601" name=""/>
                <p:cNvGrpSpPr/>
                <p:nvPr/>
              </p:nvGrpSpPr>
              <p:grpSpPr>
                <a:xfrm>
                  <a:off x="7037640" y="2590560"/>
                  <a:ext cx="630720" cy="1255680"/>
                  <a:chOff x="7037640" y="2590560"/>
                  <a:chExt cx="630720" cy="12556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7037640" y="2590560"/>
                    <a:ext cx="630720" cy="1255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>
                  <a:off x="6532560" y="3207240"/>
                  <a:ext cx="16239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362360" y="1905120"/>
                  <a:ext cx="720" cy="251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V="1">
                  <a:off x="6748920" y="2497680"/>
                  <a:ext cx="117288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H="1" flipV="1">
                  <a:off x="6802200" y="2497680"/>
                  <a:ext cx="117432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7067520" y="2338200"/>
                <a:ext cx="611280" cy="178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6646680" y="2822400"/>
                <a:ext cx="145296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609240" y="2822400"/>
                <a:ext cx="152820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7067520" y="2241000"/>
                <a:ext cx="611280" cy="18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366320" y="39603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604640" y="376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36040" y="3525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791840" y="3232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91840" y="2945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36040" y="268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04640" y="2425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366320" y="2251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083720" y="2251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80680" y="2425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739560" y="268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669720" y="2945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669720" y="3205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739560" y="3465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80680" y="376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083720" y="39603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6324480" y="3205440"/>
              <a:ext cx="20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161920" y="285876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5486400" y="914400"/>
            <a:ext cx="33116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GeV Au+Au -&gt; h-h (run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488720" y="4206960"/>
            <a:ext cx="1346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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620120" y="2440080"/>
            <a:ext cx="538200" cy="1751040"/>
          </a:xfrm>
          <a:custGeom>
            <a:avLst/>
            <a:gdLst/>
            <a:ahLst/>
            <a:rect l="l" t="t" r="r" b="b"/>
            <a:pathLst>
              <a:path w="339" h="1103">
                <a:moveTo>
                  <a:pt x="0" y="1103"/>
                </a:moveTo>
                <a:cubicBezTo>
                  <a:pt x="30" y="1087"/>
                  <a:pt x="126" y="1056"/>
                  <a:pt x="177" y="1000"/>
                </a:cubicBezTo>
                <a:cubicBezTo>
                  <a:pt x="228" y="944"/>
                  <a:pt x="283" y="846"/>
                  <a:pt x="309" y="763"/>
                </a:cubicBezTo>
                <a:cubicBezTo>
                  <a:pt x="335" y="680"/>
                  <a:pt x="334" y="593"/>
                  <a:pt x="335" y="500"/>
                </a:cubicBezTo>
                <a:cubicBezTo>
                  <a:pt x="336" y="407"/>
                  <a:pt x="339" y="287"/>
                  <a:pt x="313" y="204"/>
                </a:cubicBezTo>
                <a:cubicBezTo>
                  <a:pt x="287" y="121"/>
                  <a:pt x="209" y="43"/>
                  <a:pt x="182" y="0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048120" y="2057400"/>
            <a:ext cx="2133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1)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=[-4,-3]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1752480"/>
            <a:ext cx="19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8)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=[3,4]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352680" y="533088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971800" y="617220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806440" y="4724280"/>
            <a:ext cx="1207800" cy="916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-p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ssoc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5105160" y="48006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971800" y="4800600"/>
            <a:ext cx="2819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138880" y="21812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887800" y="37339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777280" y="220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003160" y="3733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652760" y="9144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-657360" y="2027520"/>
            <a:ext cx="199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ata) -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089840" y="2255760"/>
            <a:ext cx="245880" cy="752400"/>
          </a:xfrm>
          <a:custGeom>
            <a:avLst/>
            <a:gdLst/>
            <a:ahLst/>
            <a:rect l="l" t="t" r="r" b="b"/>
            <a:pathLst>
              <a:path w="155" h="474">
                <a:moveTo>
                  <a:pt x="155" y="474"/>
                </a:moveTo>
                <a:lnTo>
                  <a:pt x="147" y="0"/>
                </a:lnTo>
                <a:lnTo>
                  <a:pt x="0" y="31"/>
                </a:lnTo>
                <a:lnTo>
                  <a:pt x="155" y="474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066680" y="228600"/>
            <a:ext cx="3810240" cy="459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8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id-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rot="10800000">
            <a:off x="7403760" y="3429000"/>
            <a:ext cx="245880" cy="752400"/>
          </a:xfrm>
          <a:custGeom>
            <a:avLst/>
            <a:gdLst/>
            <a:ahLst/>
            <a:rect l="l" t="t" r="r" b="b"/>
            <a:pathLst>
              <a:path w="155" h="474">
                <a:moveTo>
                  <a:pt x="155" y="474"/>
                </a:moveTo>
                <a:lnTo>
                  <a:pt x="147" y="0"/>
                </a:lnTo>
                <a:lnTo>
                  <a:pt x="0" y="31"/>
                </a:lnTo>
                <a:lnTo>
                  <a:pt x="155" y="474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7403400" y="2260440"/>
            <a:ext cx="245880" cy="752760"/>
          </a:xfrm>
          <a:custGeom>
            <a:avLst/>
            <a:gdLst/>
            <a:ahLst/>
            <a:rect l="l" t="t" r="r" b="b"/>
            <a:pathLst>
              <a:path w="155" h="474">
                <a:moveTo>
                  <a:pt x="155" y="474"/>
                </a:moveTo>
                <a:lnTo>
                  <a:pt x="147" y="0"/>
                </a:lnTo>
                <a:lnTo>
                  <a:pt x="0" y="31"/>
                </a:lnTo>
                <a:lnTo>
                  <a:pt x="155" y="474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rot="10800000">
            <a:off x="7099200" y="3438000"/>
            <a:ext cx="246240" cy="752760"/>
          </a:xfrm>
          <a:custGeom>
            <a:avLst/>
            <a:gdLst/>
            <a:ahLst/>
            <a:rect l="l" t="t" r="r" b="b"/>
            <a:pathLst>
              <a:path w="155" h="474">
                <a:moveTo>
                  <a:pt x="155" y="474"/>
                </a:moveTo>
                <a:lnTo>
                  <a:pt x="147" y="0"/>
                </a:lnTo>
                <a:lnTo>
                  <a:pt x="0" y="31"/>
                </a:lnTo>
                <a:lnTo>
                  <a:pt x="155" y="474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5C4-CFCA-470E-B2C2-D05F78E886E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437184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3124080" y="594036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988160" y="1143000"/>
            <a:ext cx="12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029560" y="4525920"/>
            <a:ext cx="12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029560" y="566892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486400" y="228600"/>
            <a:ext cx="33116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GeV Au+Au -&gt; h-h (run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791320" y="2743200"/>
            <a:ext cx="2971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tting with 3 Gaussi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uss function : F(height, mean,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Nea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  + F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Away+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Away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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 = |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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   ,      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340680" y="1294920"/>
            <a:ext cx="1912680" cy="1292040"/>
            <a:chOff x="6340680" y="1294920"/>
            <a:chExt cx="1912680" cy="1292040"/>
          </a:xfrm>
        </p:grpSpPr>
        <p:sp>
          <p:nvSpPr>
            <p:cNvPr id="658" name=""/>
            <p:cNvSpPr/>
            <p:nvPr/>
          </p:nvSpPr>
          <p:spPr>
            <a:xfrm>
              <a:off x="6348240" y="228564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6805440" y="1294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00520" y="1676160"/>
              <a:ext cx="609840" cy="60948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384"/>
                  </a:moveTo>
                  <a:cubicBezTo>
                    <a:pt x="36" y="384"/>
                    <a:pt x="71" y="381"/>
                    <a:pt x="96" y="336"/>
                  </a:cubicBezTo>
                  <a:cubicBezTo>
                    <a:pt x="121" y="291"/>
                    <a:pt x="132" y="172"/>
                    <a:pt x="148" y="116"/>
                  </a:cubicBezTo>
                  <a:cubicBezTo>
                    <a:pt x="164" y="60"/>
                    <a:pt x="177" y="0"/>
                    <a:pt x="192" y="0"/>
                  </a:cubicBezTo>
                  <a:cubicBezTo>
                    <a:pt x="207" y="0"/>
                    <a:pt x="221" y="60"/>
                    <a:pt x="237" y="116"/>
                  </a:cubicBezTo>
                  <a:cubicBezTo>
                    <a:pt x="253" y="172"/>
                    <a:pt x="264" y="291"/>
                    <a:pt x="288" y="336"/>
                  </a:cubicBezTo>
                  <a:cubicBezTo>
                    <a:pt x="312" y="381"/>
                    <a:pt x="348" y="380"/>
                    <a:pt x="384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81760" y="2057040"/>
              <a:ext cx="1066680" cy="2286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384"/>
                  </a:moveTo>
                  <a:cubicBezTo>
                    <a:pt x="36" y="384"/>
                    <a:pt x="71" y="381"/>
                    <a:pt x="96" y="336"/>
                  </a:cubicBezTo>
                  <a:cubicBezTo>
                    <a:pt x="121" y="291"/>
                    <a:pt x="132" y="172"/>
                    <a:pt x="148" y="116"/>
                  </a:cubicBezTo>
                  <a:cubicBezTo>
                    <a:pt x="164" y="60"/>
                    <a:pt x="177" y="0"/>
                    <a:pt x="192" y="0"/>
                  </a:cubicBezTo>
                  <a:cubicBezTo>
                    <a:pt x="207" y="0"/>
                    <a:pt x="221" y="60"/>
                    <a:pt x="237" y="116"/>
                  </a:cubicBezTo>
                  <a:cubicBezTo>
                    <a:pt x="253" y="172"/>
                    <a:pt x="264" y="291"/>
                    <a:pt x="288" y="336"/>
                  </a:cubicBezTo>
                  <a:cubicBezTo>
                    <a:pt x="312" y="381"/>
                    <a:pt x="348" y="380"/>
                    <a:pt x="384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67560" y="15238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86320" y="2057040"/>
              <a:ext cx="1067040" cy="2286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384"/>
                  </a:moveTo>
                  <a:cubicBezTo>
                    <a:pt x="36" y="384"/>
                    <a:pt x="71" y="381"/>
                    <a:pt x="96" y="336"/>
                  </a:cubicBezTo>
                  <a:cubicBezTo>
                    <a:pt x="121" y="291"/>
                    <a:pt x="132" y="172"/>
                    <a:pt x="148" y="116"/>
                  </a:cubicBezTo>
                  <a:cubicBezTo>
                    <a:pt x="164" y="60"/>
                    <a:pt x="177" y="0"/>
                    <a:pt x="192" y="0"/>
                  </a:cubicBezTo>
                  <a:cubicBezTo>
                    <a:pt x="207" y="0"/>
                    <a:pt x="221" y="60"/>
                    <a:pt x="237" y="116"/>
                  </a:cubicBezTo>
                  <a:cubicBezTo>
                    <a:pt x="253" y="172"/>
                    <a:pt x="264" y="291"/>
                    <a:pt x="288" y="336"/>
                  </a:cubicBezTo>
                  <a:cubicBezTo>
                    <a:pt x="312" y="381"/>
                    <a:pt x="348" y="380"/>
                    <a:pt x="384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340680" y="1630080"/>
              <a:ext cx="464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N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056000" y="1782360"/>
              <a:ext cx="541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Away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61440" y="1782360"/>
              <a:ext cx="508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away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649200" y="2285640"/>
              <a:ext cx="1269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Asso.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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Trig.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 (ra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800600" y="6477120"/>
            <a:ext cx="1981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505320" y="380880"/>
            <a:ext cx="1622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4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1,0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568600" y="609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5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0,1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68600" y="1752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6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1,2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568600" y="2895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7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2,3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568600" y="411480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8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3,4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527280" y="152388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3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2,-1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527280" y="274320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2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3,-2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527280" y="396252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1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4,-3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16200000">
            <a:off x="-308160" y="2221200"/>
            <a:ext cx="199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ata) -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193080" y="5181480"/>
            <a:ext cx="2247120" cy="8254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itted data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 Gauss fu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E7E-CFF5-43F9-8A71-E06D8933786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6365880" cy="320040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3038400" cy="312408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609480" y="4343400"/>
            <a:ext cx="508680" cy="1186920"/>
            <a:chOff x="609480" y="4343400"/>
            <a:chExt cx="508680" cy="1186920"/>
          </a:xfrm>
        </p:grpSpPr>
        <p:sp>
          <p:nvSpPr>
            <p:cNvPr id="682" name=""/>
            <p:cNvSpPr/>
            <p:nvPr/>
          </p:nvSpPr>
          <p:spPr>
            <a:xfrm rot="16200000">
              <a:off x="422280" y="4530240"/>
              <a:ext cx="8827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 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6200000">
              <a:off x="657000" y="51948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838080" y="4508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 rot="16200000">
            <a:off x="3838320" y="4638960"/>
            <a:ext cx="121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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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 (r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16200000">
            <a:off x="474120" y="1599120"/>
            <a:ext cx="734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rad)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59480" y="2471760"/>
            <a:ext cx="87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0 ~ 5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52680" y="640080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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4335840" y="867960"/>
            <a:ext cx="1912680" cy="1292040"/>
            <a:chOff x="4335840" y="867960"/>
            <a:chExt cx="1912680" cy="1292040"/>
          </a:xfrm>
        </p:grpSpPr>
        <p:sp>
          <p:nvSpPr>
            <p:cNvPr id="690" name=""/>
            <p:cNvSpPr/>
            <p:nvPr/>
          </p:nvSpPr>
          <p:spPr>
            <a:xfrm>
              <a:off x="4343400" y="18586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4800600" y="86796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95680" y="1249200"/>
              <a:ext cx="609840" cy="60948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384"/>
                  </a:moveTo>
                  <a:cubicBezTo>
                    <a:pt x="36" y="384"/>
                    <a:pt x="71" y="381"/>
                    <a:pt x="96" y="336"/>
                  </a:cubicBezTo>
                  <a:cubicBezTo>
                    <a:pt x="121" y="291"/>
                    <a:pt x="132" y="172"/>
                    <a:pt x="148" y="116"/>
                  </a:cubicBezTo>
                  <a:cubicBezTo>
                    <a:pt x="164" y="60"/>
                    <a:pt x="177" y="0"/>
                    <a:pt x="192" y="0"/>
                  </a:cubicBezTo>
                  <a:cubicBezTo>
                    <a:pt x="207" y="0"/>
                    <a:pt x="221" y="60"/>
                    <a:pt x="237" y="116"/>
                  </a:cubicBezTo>
                  <a:cubicBezTo>
                    <a:pt x="253" y="172"/>
                    <a:pt x="264" y="291"/>
                    <a:pt x="288" y="336"/>
                  </a:cubicBezTo>
                  <a:cubicBezTo>
                    <a:pt x="312" y="381"/>
                    <a:pt x="348" y="380"/>
                    <a:pt x="384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876920" y="1630080"/>
              <a:ext cx="1066680" cy="2286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384"/>
                  </a:moveTo>
                  <a:cubicBezTo>
                    <a:pt x="36" y="384"/>
                    <a:pt x="71" y="381"/>
                    <a:pt x="96" y="336"/>
                  </a:cubicBezTo>
                  <a:cubicBezTo>
                    <a:pt x="121" y="291"/>
                    <a:pt x="132" y="172"/>
                    <a:pt x="148" y="116"/>
                  </a:cubicBezTo>
                  <a:cubicBezTo>
                    <a:pt x="164" y="60"/>
                    <a:pt x="177" y="0"/>
                    <a:pt x="192" y="0"/>
                  </a:cubicBezTo>
                  <a:cubicBezTo>
                    <a:pt x="207" y="0"/>
                    <a:pt x="221" y="60"/>
                    <a:pt x="237" y="116"/>
                  </a:cubicBezTo>
                  <a:cubicBezTo>
                    <a:pt x="253" y="172"/>
                    <a:pt x="264" y="291"/>
                    <a:pt x="288" y="336"/>
                  </a:cubicBezTo>
                  <a:cubicBezTo>
                    <a:pt x="312" y="381"/>
                    <a:pt x="348" y="380"/>
                    <a:pt x="384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562720" y="1096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81480" y="1630080"/>
              <a:ext cx="1067040" cy="2286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384"/>
                  </a:moveTo>
                  <a:cubicBezTo>
                    <a:pt x="36" y="384"/>
                    <a:pt x="71" y="381"/>
                    <a:pt x="96" y="336"/>
                  </a:cubicBezTo>
                  <a:cubicBezTo>
                    <a:pt x="121" y="291"/>
                    <a:pt x="132" y="172"/>
                    <a:pt x="148" y="116"/>
                  </a:cubicBezTo>
                  <a:cubicBezTo>
                    <a:pt x="164" y="60"/>
                    <a:pt x="177" y="0"/>
                    <a:pt x="192" y="0"/>
                  </a:cubicBezTo>
                  <a:cubicBezTo>
                    <a:pt x="207" y="0"/>
                    <a:pt x="221" y="60"/>
                    <a:pt x="237" y="116"/>
                  </a:cubicBezTo>
                  <a:cubicBezTo>
                    <a:pt x="253" y="172"/>
                    <a:pt x="264" y="291"/>
                    <a:pt x="288" y="336"/>
                  </a:cubicBezTo>
                  <a:cubicBezTo>
                    <a:pt x="312" y="381"/>
                    <a:pt x="348" y="380"/>
                    <a:pt x="384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35840" y="1203120"/>
              <a:ext cx="464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N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51160" y="1355400"/>
              <a:ext cx="541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Away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56600" y="1355400"/>
              <a:ext cx="508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away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44360" y="1858680"/>
              <a:ext cx="1269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Asso.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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Trig.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 (ra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4114800" y="2241720"/>
            <a:ext cx="2971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tting with 3 Gaussi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uss function : F(height, mean,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Nea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  + F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Away+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Away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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 = |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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   ,      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6427800" y="152280"/>
            <a:ext cx="2562120" cy="2513880"/>
            <a:chOff x="6427800" y="152280"/>
            <a:chExt cx="2562120" cy="2513880"/>
          </a:xfrm>
        </p:grpSpPr>
        <p:grpSp>
          <p:nvGrpSpPr>
            <p:cNvPr id="702" name=""/>
            <p:cNvGrpSpPr/>
            <p:nvPr/>
          </p:nvGrpSpPr>
          <p:grpSpPr>
            <a:xfrm>
              <a:off x="6635880" y="152280"/>
              <a:ext cx="1623960" cy="2513880"/>
              <a:chOff x="6635880" y="152280"/>
              <a:chExt cx="1623960" cy="2513880"/>
            </a:xfrm>
          </p:grpSpPr>
          <p:grpSp>
            <p:nvGrpSpPr>
              <p:cNvPr id="703" name=""/>
              <p:cNvGrpSpPr/>
              <p:nvPr/>
            </p:nvGrpSpPr>
            <p:grpSpPr>
              <a:xfrm>
                <a:off x="6635880" y="152280"/>
                <a:ext cx="1623960" cy="2513880"/>
                <a:chOff x="6635880" y="152280"/>
                <a:chExt cx="1623960" cy="2513880"/>
              </a:xfrm>
            </p:grpSpPr>
            <p:grpSp>
              <p:nvGrpSpPr>
                <p:cNvPr id="704" name=""/>
                <p:cNvGrpSpPr/>
                <p:nvPr/>
              </p:nvGrpSpPr>
              <p:grpSpPr>
                <a:xfrm>
                  <a:off x="7140960" y="837720"/>
                  <a:ext cx="630720" cy="1255680"/>
                  <a:chOff x="7140960" y="837720"/>
                  <a:chExt cx="630720" cy="1255680"/>
                </a:xfrm>
              </p:grpSpPr>
              <p:sp>
                <p:nvSpPr>
                  <p:cNvPr id="705" name=""/>
                  <p:cNvSpPr/>
                  <p:nvPr/>
                </p:nvSpPr>
                <p:spPr>
                  <a:xfrm>
                    <a:off x="7140960" y="837720"/>
                    <a:ext cx="630720" cy="1255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6" name=""/>
                <p:cNvSpPr/>
                <p:nvPr/>
              </p:nvSpPr>
              <p:spPr>
                <a:xfrm>
                  <a:off x="6635880" y="1454400"/>
                  <a:ext cx="16239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465680" y="152280"/>
                  <a:ext cx="720" cy="251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V="1">
                  <a:off x="6852240" y="744840"/>
                  <a:ext cx="117288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 flipV="1">
                  <a:off x="6905520" y="744840"/>
                  <a:ext cx="117432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7170840" y="585360"/>
                <a:ext cx="611280" cy="178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750000" y="1069560"/>
                <a:ext cx="145296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712560" y="1069560"/>
                <a:ext cx="152820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7170840" y="488160"/>
                <a:ext cx="611280" cy="18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69640" y="2207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707960" y="20142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839360" y="17722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95160" y="1479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895160" y="11926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839360" y="9342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07960" y="6724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469640" y="498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187040" y="498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84000" y="6724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42880" y="9342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773040" y="11926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773040" y="1452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842880" y="171288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984000" y="20142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87040" y="2207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6427800" y="1452600"/>
              <a:ext cx="20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265240" y="110592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7723080" y="687240"/>
            <a:ext cx="538200" cy="1751040"/>
          </a:xfrm>
          <a:custGeom>
            <a:avLst/>
            <a:gdLst/>
            <a:ahLst/>
            <a:rect l="l" t="t" r="r" b="b"/>
            <a:pathLst>
              <a:path w="339" h="1103">
                <a:moveTo>
                  <a:pt x="0" y="1103"/>
                </a:moveTo>
                <a:cubicBezTo>
                  <a:pt x="30" y="1087"/>
                  <a:pt x="126" y="1056"/>
                  <a:pt x="177" y="1000"/>
                </a:cubicBezTo>
                <a:cubicBezTo>
                  <a:pt x="228" y="944"/>
                  <a:pt x="283" y="846"/>
                  <a:pt x="309" y="763"/>
                </a:cubicBezTo>
                <a:cubicBezTo>
                  <a:pt x="335" y="680"/>
                  <a:pt x="334" y="593"/>
                  <a:pt x="335" y="500"/>
                </a:cubicBezTo>
                <a:cubicBezTo>
                  <a:pt x="336" y="407"/>
                  <a:pt x="339" y="287"/>
                  <a:pt x="313" y="204"/>
                </a:cubicBezTo>
                <a:cubicBezTo>
                  <a:pt x="287" y="121"/>
                  <a:pt x="209" y="43"/>
                  <a:pt x="182" y="0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391520" y="57150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ENI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085520" y="4724280"/>
            <a:ext cx="1950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GeV Au+Au (run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adron-had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565040" y="2514600"/>
            <a:ext cx="1346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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395440" y="114480"/>
            <a:ext cx="4060800" cy="459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n fitting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487880" y="714240"/>
            <a:ext cx="201852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ar side peak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ft/right asymme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444320" y="3673440"/>
            <a:ext cx="229608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way side shoulder heigh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eft/right asymme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028840" y="3673440"/>
            <a:ext cx="175968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way side shoul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eak posi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234160" y="5638680"/>
            <a:ext cx="1232640" cy="520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+ve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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438280" y="4267080"/>
            <a:ext cx="91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19520" y="472428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38280" y="1981080"/>
            <a:ext cx="91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133720" y="2437920"/>
            <a:ext cx="60948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598760" y="2657520"/>
            <a:ext cx="1179000" cy="520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-ve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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hif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6320" y="3587760"/>
            <a:ext cx="1143000" cy="733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stent with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1143000" y="2971440"/>
            <a:ext cx="457200" cy="6094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43000" y="4343400"/>
            <a:ext cx="1066680" cy="1523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FDB-6725-4EA1-A56F-5E8B04E1C87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98124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644040" y="123336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: 0-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501720" y="123336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664320" y="12333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pheral : 50-9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24280" y="563400"/>
            <a:ext cx="331164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GeV Au+Au -&gt; h-h (run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009440" y="228600"/>
            <a:ext cx="2945160" cy="8254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Data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/right a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219320" y="5365800"/>
            <a:ext cx="3200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in-plane         (5) :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=[0,1]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middle           (6) : 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=[1,2]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out-of-plane  (8) : 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=[3,4]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066680" y="57150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066680" y="5943600"/>
            <a:ext cx="76320" cy="76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06668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809040" y="5410080"/>
            <a:ext cx="1985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114800" y="555948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rot="16200000">
            <a:off x="2009520" y="2791080"/>
            <a:ext cx="199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ata) -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2E9-7A2F-445A-A98E-30AB0110251E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76320" y="623880"/>
            <a:ext cx="8991360" cy="585324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3124080" y="320040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QM09, A. Majum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3D3-7641-41F8-9C55-4A26B991BA10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908000" y="1171440"/>
            <a:ext cx="55314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GP tomography has sta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sing Jets and di-Jets, Gamma-Je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ch-cone, Ridge, an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 will continue in RHIC-PHENIX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nd prepare for LHC-ALIC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ditional J-cal opposite side of EM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304-426C-4137-9BBD-C41060EF329D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4660920" y="1641600"/>
            <a:ext cx="3657600" cy="331128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793800" y="228600"/>
            <a:ext cx="7119360" cy="405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MPT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v1.11, parton cascade with string melting v2.11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u+Au at sqrt(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=200G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rot="16200000">
            <a:off x="-1371960" y="3116520"/>
            <a:ext cx="396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true) reaction plane aligned correlation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553080" y="3276720"/>
            <a:ext cx="838440" cy="1218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19920" y="1146240"/>
            <a:ext cx="1828800" cy="520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trend as seen in exper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629400" y="1676520"/>
            <a:ext cx="2286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876240" y="1641600"/>
            <a:ext cx="3657600" cy="33112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927000" y="5057640"/>
            <a:ext cx="3657600" cy="103824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4"/>
          <a:stretch/>
        </p:blipFill>
        <p:spPr>
          <a:xfrm>
            <a:off x="4699080" y="5029200"/>
            <a:ext cx="3657600" cy="103824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457200" y="5883120"/>
            <a:ext cx="2146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ect R.P.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btraction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33920" y="579132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rad)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trigger angle selected w.r.t. R.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3809880"/>
            <a:ext cx="83808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3123720" y="3429000"/>
            <a:ext cx="22860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666880" y="3098880"/>
            <a:ext cx="1600200" cy="307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nd is rever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818440" y="4648320"/>
            <a:ext cx="130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~1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 = 3.5~7 (f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209680" y="822240"/>
            <a:ext cx="1981080" cy="1693800"/>
            <a:chOff x="2209680" y="822240"/>
            <a:chExt cx="1981080" cy="1693800"/>
          </a:xfrm>
        </p:grpSpPr>
        <p:grpSp>
          <p:nvGrpSpPr>
            <p:cNvPr id="781" name=""/>
            <p:cNvGrpSpPr/>
            <p:nvPr/>
          </p:nvGrpSpPr>
          <p:grpSpPr>
            <a:xfrm>
              <a:off x="2889000" y="1136520"/>
              <a:ext cx="615960" cy="1073160"/>
              <a:chOff x="2889000" y="1136520"/>
              <a:chExt cx="615960" cy="1073160"/>
            </a:xfrm>
          </p:grpSpPr>
          <p:sp>
            <p:nvSpPr>
              <p:cNvPr id="782" name=""/>
              <p:cNvSpPr/>
              <p:nvPr/>
            </p:nvSpPr>
            <p:spPr>
              <a:xfrm>
                <a:off x="2889000" y="1136520"/>
                <a:ext cx="615960" cy="107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200400" y="83808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590560" y="1066680"/>
              <a:ext cx="12193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 flipV="1">
              <a:off x="2590200" y="1066680"/>
              <a:ext cx="12193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95480" y="838080"/>
              <a:ext cx="6094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361960" y="1371240"/>
              <a:ext cx="16765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61960" y="1371240"/>
              <a:ext cx="16765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2895120" y="838080"/>
              <a:ext cx="6094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74120" y="22698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66"/>
                  </a:solidFill>
                  <a:latin typeface="Times New Roman"/>
                </a:rPr>
                <a:t>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402720" y="21175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Times New Roman"/>
                </a:rPr>
                <a:t>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582000" y="18889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99"/>
                  </a:solidFill>
                  <a:latin typeface="Times New Roman"/>
                </a:rPr>
                <a:t>(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707280" y="16603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66"/>
                  </a:solidFill>
                  <a:latin typeface="Times New Roman"/>
                </a:rPr>
                <a:t>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707280" y="14317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66ff"/>
                  </a:solidFill>
                  <a:latin typeface="Times New Roman"/>
                </a:rPr>
                <a:t>(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582000" y="12031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ccff"/>
                  </a:solidFill>
                  <a:latin typeface="Times New Roman"/>
                </a:rPr>
                <a:t>(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02720" y="9745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ffcc"/>
                  </a:solidFill>
                  <a:latin typeface="Times New Roman"/>
                </a:rPr>
                <a:t>(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74120" y="8222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00"/>
                  </a:solidFill>
                  <a:latin typeface="Times New Roman"/>
                </a:rPr>
                <a:t>(8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96200" y="8222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66"/>
                  </a:solidFill>
                  <a:latin typeface="Times New Roman"/>
                </a:rPr>
                <a:t>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67600" y="9745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Times New Roman"/>
                </a:rPr>
                <a:t>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515320" y="12189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99"/>
                  </a:solidFill>
                  <a:latin typeface="Times New Roman"/>
                </a:rPr>
                <a:t>(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12000" y="14317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66"/>
                  </a:solidFill>
                  <a:latin typeface="Times New Roman"/>
                </a:rPr>
                <a:t>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412000" y="16603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66ff"/>
                  </a:solidFill>
                  <a:latin typeface="Times New Roman"/>
                </a:rPr>
                <a:t>(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488320" y="18889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ccff"/>
                  </a:solidFill>
                  <a:latin typeface="Times New Roman"/>
                </a:rPr>
                <a:t>(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667600" y="21175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ffcc"/>
                  </a:solidFill>
                  <a:latin typeface="Times New Roman"/>
                </a:rPr>
                <a:t>(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96200" y="22698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00"/>
                  </a:solidFill>
                  <a:latin typeface="Times New Roman"/>
                </a:rPr>
                <a:t>(8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209680" y="167616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6547320" y="4664160"/>
            <a:ext cx="130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4~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 = 10.5~ (f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AEE-1F83-4852-A925-7F59286813D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"/>
          <p:cNvGrpSpPr/>
          <p:nvPr/>
        </p:nvGrpSpPr>
        <p:grpSpPr>
          <a:xfrm>
            <a:off x="1032120" y="76320"/>
            <a:ext cx="3080520" cy="3411360"/>
            <a:chOff x="1032120" y="76320"/>
            <a:chExt cx="3080520" cy="3411360"/>
          </a:xfrm>
        </p:grpSpPr>
        <p:sp>
          <p:nvSpPr>
            <p:cNvPr id="809" name="Oval 5"/>
            <p:cNvSpPr/>
            <p:nvPr/>
          </p:nvSpPr>
          <p:spPr>
            <a:xfrm>
              <a:off x="1676520" y="641160"/>
              <a:ext cx="1371600" cy="26668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9"/>
            <p:cNvSpPr/>
            <p:nvPr/>
          </p:nvSpPr>
          <p:spPr>
            <a:xfrm rot="1015200">
              <a:off x="2960280" y="717480"/>
              <a:ext cx="316080" cy="304560"/>
            </a:xfrm>
            <a:prstGeom prst="pie">
              <a:avLst/>
            </a:prstGeom>
            <a:noFill/>
            <a:ln w="25560">
              <a:solidFill>
                <a:srgbClr val="ff0000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 rot="6900600">
              <a:off x="2437200" y="3124080"/>
              <a:ext cx="312480" cy="311400"/>
            </a:xfrm>
            <a:prstGeom prst="pie">
              <a:avLst/>
            </a:prstGeom>
            <a:noFill/>
            <a:ln w="25560">
              <a:solidFill>
                <a:srgbClr val="ff0000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1"/>
            <p:cNvSpPr/>
            <p:nvPr/>
          </p:nvSpPr>
          <p:spPr>
            <a:xfrm rot="13588200">
              <a:off x="1410120" y="1976400"/>
              <a:ext cx="381960" cy="301680"/>
            </a:xfrm>
            <a:prstGeom prst="pie">
              <a:avLst/>
            </a:prstGeom>
            <a:noFill/>
            <a:ln w="25560">
              <a:solidFill>
                <a:srgbClr val="ff0000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Box 22"/>
            <p:cNvSpPr/>
            <p:nvPr/>
          </p:nvSpPr>
          <p:spPr>
            <a:xfrm rot="2980200">
              <a:off x="2733480" y="52092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ar pea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23"/>
            <p:cNvSpPr/>
            <p:nvPr/>
          </p:nvSpPr>
          <p:spPr>
            <a:xfrm>
              <a:off x="2769120" y="293976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ch cone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Box 24"/>
            <p:cNvSpPr/>
            <p:nvPr/>
          </p:nvSpPr>
          <p:spPr>
            <a:xfrm rot="15789000">
              <a:off x="607680" y="172512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ch cone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362320" y="488880"/>
              <a:ext cx="838080" cy="1447560"/>
            </a:xfrm>
            <a:custGeom>
              <a:avLst/>
              <a:gdLst/>
              <a:ahLst/>
              <a:rect l="l" t="t" r="r" b="b"/>
              <a:pathLst>
                <a:path w="480" h="866">
                  <a:moveTo>
                    <a:pt x="480" y="866"/>
                  </a:moveTo>
                  <a:cubicBezTo>
                    <a:pt x="472" y="730"/>
                    <a:pt x="460" y="590"/>
                    <a:pt x="432" y="482"/>
                  </a:cubicBezTo>
                  <a:cubicBezTo>
                    <a:pt x="404" y="374"/>
                    <a:pt x="363" y="290"/>
                    <a:pt x="315" y="216"/>
                  </a:cubicBezTo>
                  <a:cubicBezTo>
                    <a:pt x="267" y="142"/>
                    <a:pt x="195" y="72"/>
                    <a:pt x="143" y="36"/>
                  </a:cubicBezTo>
                  <a:cubicBezTo>
                    <a:pt x="91" y="0"/>
                    <a:pt x="30" y="9"/>
                    <a:pt x="0" y="2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Box 23"/>
            <p:cNvSpPr/>
            <p:nvPr/>
          </p:nvSpPr>
          <p:spPr>
            <a:xfrm>
              <a:off x="3240360" y="173988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Bin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23"/>
            <p:cNvSpPr/>
            <p:nvPr/>
          </p:nvSpPr>
          <p:spPr>
            <a:xfrm>
              <a:off x="2021040" y="7632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Bin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362320" y="1098360"/>
              <a:ext cx="53316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362320" y="1936800"/>
              <a:ext cx="228600" cy="129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828800" y="1936440"/>
              <a:ext cx="533520" cy="837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1676160" y="1936800"/>
              <a:ext cx="685800" cy="151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5334120" y="1981080"/>
            <a:ext cx="21333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ote: original jets are generated according to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34120" y="83808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multiplicities reduces with the path length because of absorptio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8037360" cy="2928960"/>
          </a:xfrm>
          <a:prstGeom prst="rect">
            <a:avLst/>
          </a:prstGeom>
          <a:ln w="0">
            <a:noFill/>
          </a:ln>
        </p:spPr>
      </p:pic>
      <p:grpSp>
        <p:nvGrpSpPr>
          <p:cNvPr id="826" name=""/>
          <p:cNvGrpSpPr/>
          <p:nvPr/>
        </p:nvGrpSpPr>
        <p:grpSpPr>
          <a:xfrm>
            <a:off x="301680" y="3505320"/>
            <a:ext cx="4194000" cy="2895480"/>
            <a:chOff x="301680" y="3505320"/>
            <a:chExt cx="4194000" cy="2895480"/>
          </a:xfrm>
        </p:grpSpPr>
        <p:pic>
          <p:nvPicPr>
            <p:cNvPr id="827" name="" descr=""/>
            <p:cNvPicPr/>
            <p:nvPr/>
          </p:nvPicPr>
          <p:blipFill>
            <a:blip r:embed="rId2"/>
            <a:stretch/>
          </p:blipFill>
          <p:spPr>
            <a:xfrm>
              <a:off x="301680" y="3505320"/>
              <a:ext cx="41940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2791800" y="3642480"/>
              <a:ext cx="163836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0000"/>
                  </a:solidFill>
                  <a:latin typeface="Arial"/>
                </a:rPr>
                <a:t>k</a:t>
              </a:r>
              <a:r>
                <a:rPr b="0" lang="ja-JP" sz="1000" spc="-1" strike="noStrike" baseline="-25000">
                  <a:solidFill>
                    <a:srgbClr val="ff0000"/>
                  </a:solidFill>
                  <a:latin typeface="Arial"/>
                </a:rPr>
                <a:t>T </a:t>
              </a:r>
              <a:r>
                <a:rPr b="0" lang="ja-JP" sz="1000" spc="-1" strike="noStrike">
                  <a:solidFill>
                    <a:srgbClr val="ff0000"/>
                  </a:solidFill>
                  <a:latin typeface="Arial"/>
                </a:rPr>
                <a:t>smearing included,  modified mach-cone by absorption according to E</a:t>
              </a:r>
              <a:r>
                <a:rPr b="0" lang="ja-JP" sz="1000" spc="-1" strike="noStrike" baseline="-25000">
                  <a:solidFill>
                    <a:srgbClr val="ff0000"/>
                  </a:solidFill>
                  <a:latin typeface="Arial"/>
                </a:rPr>
                <a:t>loss</a:t>
              </a:r>
              <a:r>
                <a:rPr b="0" lang="ja-JP" sz="1000" spc="-1" strike="noStrike">
                  <a:solidFill>
                    <a:srgbClr val="ff0000"/>
                  </a:solidFill>
                  <a:latin typeface="Arial"/>
                </a:rPr>
                <a:t>. The asymmetry is now flipped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102200" y="5292000"/>
              <a:ext cx="0" cy="1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184920" y="5017320"/>
              <a:ext cx="0" cy="2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589120" y="5663160"/>
              <a:ext cx="185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cone1              cone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3124080" y="624852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 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28160" y="4495680"/>
            <a:ext cx="179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unch through jets include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eared with R.P.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640480" y="120600"/>
            <a:ext cx="33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.Jia, R.Wei, S.E, arXiv:0903.326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8E0F-5BA4-4385-AA87-87FADA3B9FA1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130320" y="1219320"/>
            <a:ext cx="2307960" cy="518148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2"/>
          <a:stretch/>
        </p:blipFill>
        <p:spPr>
          <a:xfrm>
            <a:off x="2362320" y="1295280"/>
            <a:ext cx="2260440" cy="51055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3"/>
          <a:stretch/>
        </p:blipFill>
        <p:spPr>
          <a:xfrm>
            <a:off x="4572000" y="1295280"/>
            <a:ext cx="2236680" cy="510552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4"/>
          <a:stretch/>
        </p:blipFill>
        <p:spPr>
          <a:xfrm>
            <a:off x="6748560" y="1295280"/>
            <a:ext cx="2243160" cy="502920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751680" y="16146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61360" y="16002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171040" y="16002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304760" y="16002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57400" y="585720"/>
            <a:ext cx="5029200" cy="368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different jet shape assumptions for MC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99880" y="53784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ar- and awa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 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592360" y="537840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ly away-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821120" y="537840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ly near-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164360" y="533412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R.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809880" y="624852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B26-A734-427B-9B13-68C8B9567D0D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184320" y="1295280"/>
            <a:ext cx="2253960" cy="510552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2324160" y="1295280"/>
            <a:ext cx="2311200" cy="510552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3"/>
          <a:stretch/>
        </p:blipFill>
        <p:spPr>
          <a:xfrm>
            <a:off x="4556160" y="1295280"/>
            <a:ext cx="2301840" cy="510552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4"/>
          <a:stretch/>
        </p:blipFill>
        <p:spPr>
          <a:xfrm>
            <a:off x="6781680" y="1295280"/>
            <a:ext cx="2265480" cy="510552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751680" y="16146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961360" y="16002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171040" y="16002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304760" y="16002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144880" y="228600"/>
            <a:ext cx="21819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soft) = 0.2, 0.0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soft) = 0.13, 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Jet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hard) = 0.2,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PTY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hard) = 0.15,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228600"/>
            <a:ext cx="22096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 (soft) =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(soft) =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Je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  (hard) =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Y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et   (hard) = 1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80880" y="5486400"/>
            <a:ext cx="190512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20 ---&gt; 0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029 ---&gt; 0.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13 ---&gt; 0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010 ---&gt; 0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590920" y="5486400"/>
            <a:ext cx="190476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20 ---&gt; 0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029 ---&gt; 0.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13 ---&gt; 0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010 ---&gt; 0.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00600" y="5486400"/>
            <a:ext cx="190512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20 ---&gt; 0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029 ---&gt; 0.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13 ---&gt; 0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010 ---&gt; 0.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10280" y="5486400"/>
            <a:ext cx="190512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20 ---&gt; 0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029 ---&gt; 0.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13 ---&gt; 0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010 ---&gt; 0.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809880" y="624852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80880" y="6095880"/>
            <a:ext cx="8458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495680" y="152280"/>
            <a:ext cx="3353040" cy="10674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ison with data would tell us that there should be near- and away-side modification in experimental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143000" y="1905120"/>
            <a:ext cx="7086600" cy="370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should also be a strong effect on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, much stronger effect on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80880" y="6270480"/>
            <a:ext cx="8458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D32-3F68-4EC4-BF5C-320120516618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293840"/>
            <a:ext cx="8915400" cy="4954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5880" y="45720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QM09, M. Plosk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4600" y="76320"/>
            <a:ext cx="47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clusive Jet cross section in p+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nd in central Au+Au at R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ABC-2087-4F7C-A4B2-0C0F6C17755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152280" y="1271520"/>
            <a:ext cx="2295720" cy="512928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2354400" y="1271520"/>
            <a:ext cx="2271600" cy="509760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3"/>
          <a:stretch/>
        </p:blipFill>
        <p:spPr>
          <a:xfrm>
            <a:off x="4564080" y="1271520"/>
            <a:ext cx="2286000" cy="512928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4"/>
          <a:stretch/>
        </p:blipFill>
        <p:spPr>
          <a:xfrm>
            <a:off x="6773760" y="1271520"/>
            <a:ext cx="2281320" cy="51069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751680" y="16146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961360" y="16002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171040" y="16002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304760" y="16002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597480" y="228600"/>
            <a:ext cx="21819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soft) = 0.2, 0.0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soft) = 0.13, 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Jet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hard) =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0.0,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PTY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hard) =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0.0,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"/>
            <a:ext cx="22096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 (soft) =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(soft) =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Je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  (hard) =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Y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et   (hard) = 1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80880" y="5486400"/>
            <a:ext cx="190044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20 ---&gt; 0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029 ---&gt; 0.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13 ---&gt; 0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010 ---&gt; 0.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590920" y="5486400"/>
            <a:ext cx="190476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20 ---&gt; 0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029 ---&gt; 0.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13 ---&gt; 0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010 ---&gt; 0.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800600" y="5486400"/>
            <a:ext cx="190512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20 ---&gt; 0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029 ---&gt; 0.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13 ---&gt; 0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010 ---&gt; 0.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015320" y="5486400"/>
            <a:ext cx="190008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20 ---&gt; 0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029 ---&gt; 0.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13 ---&gt; 0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010 ---&gt; 0.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809880" y="624852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80880" y="6095880"/>
            <a:ext cx="8458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80880" y="6270480"/>
            <a:ext cx="8458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7C4-3AFC-4AB9-988B-B1589D440C1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" descr=""/>
          <p:cNvPicPr/>
          <p:nvPr/>
        </p:nvPicPr>
        <p:blipFill>
          <a:blip r:embed="rId1"/>
          <a:stretch/>
        </p:blipFill>
        <p:spPr>
          <a:xfrm>
            <a:off x="76320" y="733320"/>
            <a:ext cx="9067680" cy="559116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1600200" y="152280"/>
            <a:ext cx="6095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GeV Au+Au -&gt; h-h (run7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44040" y="53352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: 0-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501720" y="53352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664320" y="5335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pheral : 50-9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886200" y="6248520"/>
            <a:ext cx="1981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rot="16200000">
            <a:off x="3861000" y="3442680"/>
            <a:ext cx="444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verage     out-of-plane                                                  in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058080" y="2101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844520" y="39625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855680" y="31240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855680" y="11430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844520" y="21337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28800" y="624852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134960" y="838080"/>
            <a:ext cx="3015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lue data points are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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flipp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B78-983A-427D-B0F1-17BF255696DF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1600200" y="152280"/>
            <a:ext cx="6095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GeV Au+Au -&gt; h-h (run7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44040" y="53352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: 0-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501720" y="53352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664320" y="5335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pheral : 50-9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886200" y="6248520"/>
            <a:ext cx="1981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rot="16200000">
            <a:off x="3861000" y="3442680"/>
            <a:ext cx="444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verage     out-of-plane                                                  in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058080" y="2101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36560" y="39625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247720" y="31240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247720" y="11430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844520" y="39625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855680" y="31240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855680" y="11430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36560" y="21337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844520" y="21337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28800" y="624852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7C8B-E5E7-4DEE-8146-EDA5969037B2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696080" cy="598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4191120" cy="4023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7BC-23EF-4BD9-87EC-BDD21A5417F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817560"/>
            <a:ext cx="8686800" cy="543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626-3DFC-4487-9588-07A0F2A0454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5952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4120" y="3456000"/>
            <a:ext cx="3531960" cy="2868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209320" y="297180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nti-kt R=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EB8-AA26-4257-A416-6DF96EAC01B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5783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43600" y="15228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QM09, E. Br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88C-E44A-4B32-8D52-4E9614F81CA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7696080" cy="4425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90720" y="1905120"/>
            <a:ext cx="3886200" cy="1981080"/>
          </a:xfrm>
          <a:custGeom>
            <a:avLst/>
            <a:gdLst/>
            <a:ahLst/>
            <a:rect l="l" t="t" r="r" b="b"/>
            <a:pathLst>
              <a:path w="2448" h="1248">
                <a:moveTo>
                  <a:pt x="2448" y="1248"/>
                </a:moveTo>
                <a:cubicBezTo>
                  <a:pt x="2252" y="1148"/>
                  <a:pt x="2056" y="1048"/>
                  <a:pt x="1872" y="960"/>
                </a:cubicBezTo>
                <a:cubicBezTo>
                  <a:pt x="1688" y="872"/>
                  <a:pt x="1512" y="792"/>
                  <a:pt x="1344" y="720"/>
                </a:cubicBezTo>
                <a:cubicBezTo>
                  <a:pt x="1176" y="648"/>
                  <a:pt x="992" y="584"/>
                  <a:pt x="864" y="528"/>
                </a:cubicBezTo>
                <a:cubicBezTo>
                  <a:pt x="736" y="472"/>
                  <a:pt x="664" y="432"/>
                  <a:pt x="576" y="384"/>
                </a:cubicBezTo>
                <a:cubicBezTo>
                  <a:pt x="488" y="336"/>
                  <a:pt x="432" y="304"/>
                  <a:pt x="336" y="240"/>
                </a:cubicBezTo>
                <a:cubicBezTo>
                  <a:pt x="240" y="176"/>
                  <a:pt x="120" y="88"/>
                  <a:pt x="0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447920"/>
            <a:ext cx="3886200" cy="2514600"/>
          </a:xfrm>
          <a:custGeom>
            <a:avLst/>
            <a:gdLst/>
            <a:ahLst/>
            <a:rect l="l" t="t" r="r" b="b"/>
            <a:pathLst>
              <a:path w="2448" h="1584">
                <a:moveTo>
                  <a:pt x="2448" y="1584"/>
                </a:moveTo>
                <a:cubicBezTo>
                  <a:pt x="2252" y="1484"/>
                  <a:pt x="2056" y="1384"/>
                  <a:pt x="1872" y="1296"/>
                </a:cubicBezTo>
                <a:cubicBezTo>
                  <a:pt x="1688" y="1208"/>
                  <a:pt x="1512" y="1128"/>
                  <a:pt x="1344" y="1056"/>
                </a:cubicBezTo>
                <a:cubicBezTo>
                  <a:pt x="1176" y="984"/>
                  <a:pt x="993" y="925"/>
                  <a:pt x="864" y="864"/>
                </a:cubicBezTo>
                <a:cubicBezTo>
                  <a:pt x="735" y="803"/>
                  <a:pt x="665" y="772"/>
                  <a:pt x="569" y="692"/>
                </a:cubicBezTo>
                <a:cubicBezTo>
                  <a:pt x="473" y="612"/>
                  <a:pt x="383" y="499"/>
                  <a:pt x="288" y="384"/>
                </a:cubicBezTo>
                <a:cubicBezTo>
                  <a:pt x="193" y="269"/>
                  <a:pt x="96" y="132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091040" y="2819520"/>
            <a:ext cx="4900680" cy="36147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grpSp>
        <p:nvGrpSpPr>
          <p:cNvPr id="62" name=""/>
          <p:cNvGrpSpPr/>
          <p:nvPr/>
        </p:nvGrpSpPr>
        <p:grpSpPr>
          <a:xfrm>
            <a:off x="152280" y="685800"/>
            <a:ext cx="5410080" cy="4343400"/>
            <a:chOff x="152280" y="685800"/>
            <a:chExt cx="5410080" cy="4343400"/>
          </a:xfrm>
        </p:grpSpPr>
        <p:sp>
          <p:nvSpPr>
            <p:cNvPr id="63" name=""/>
            <p:cNvSpPr/>
            <p:nvPr/>
          </p:nvSpPr>
          <p:spPr>
            <a:xfrm>
              <a:off x="152280" y="685800"/>
              <a:ext cx="5410080" cy="4343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22" descr="ratio_recoil_ff_20_25_NEW2.gif"/>
            <p:cNvPicPr/>
            <p:nvPr/>
          </p:nvPicPr>
          <p:blipFill>
            <a:blip r:embed="rId3"/>
            <a:stretch/>
          </p:blipFill>
          <p:spPr>
            <a:xfrm>
              <a:off x="338040" y="1189080"/>
              <a:ext cx="4995720" cy="35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8"/>
            <p:cNvSpPr/>
            <p:nvPr/>
          </p:nvSpPr>
          <p:spPr>
            <a:xfrm>
              <a:off x="957240" y="3101760"/>
              <a:ext cx="159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 Prelimin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338040" y="990360"/>
              <a:ext cx="4995720" cy="2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Group 21" descr=""/>
            <p:cNvPicPr/>
            <p:nvPr/>
          </p:nvPicPr>
          <p:blipFill>
            <a:blip r:embed="rId4"/>
            <a:stretch/>
          </p:blipFill>
          <p:spPr>
            <a:xfrm>
              <a:off x="723600" y="1017360"/>
              <a:ext cx="45291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19"/>
            <p:cNvSpPr/>
            <p:nvPr/>
          </p:nvSpPr>
          <p:spPr>
            <a:xfrm>
              <a:off x="2286000" y="1657080"/>
              <a:ext cx="28400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5000" tIns="0" bIns="0" anchor="t">
              <a:noAutofit/>
            </a:bodyPr>
            <a:p>
              <a:pPr marL="4428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&lt;p</a:t>
              </a:r>
              <a:r>
                <a:rPr b="1" lang="ja-JP" sz="1600" spc="-1" strike="noStrike" baseline="-6000">
                  <a:solidFill>
                    <a:srgbClr val="000000"/>
                  </a:solidFill>
                  <a:latin typeface="Arial"/>
                  <a:ea typeface="Arial"/>
                </a:rPr>
                <a:t>t,rec</a:t>
              </a:r>
              <a:r>
                <a:rPr b="1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uAu)&lt;25 Ge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428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  <a:ea typeface="ヒラギノ角ゴ ProN W3"/>
                </a:rPr>
                <a:t>⇒</a:t>
              </a:r>
              <a:r>
                <a:rPr b="1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p</a:t>
              </a:r>
              <a:r>
                <a:rPr b="1" lang="ja-JP" sz="1600" spc="-1" strike="noStrike" baseline="-6000">
                  <a:solidFill>
                    <a:srgbClr val="000000"/>
                  </a:solidFill>
                  <a:latin typeface="Arial"/>
                  <a:ea typeface="Arial"/>
                </a:rPr>
                <a:t>t,rec</a:t>
              </a:r>
              <a:r>
                <a:rPr b="1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pp)&gt; ~ 18 Ge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63F-810C-4824-80B7-1FC8D35C2FA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0315" t="9376" r="27343" b="43131"/>
          <a:stretch/>
        </p:blipFill>
        <p:spPr>
          <a:xfrm>
            <a:off x="4340160" y="1606680"/>
            <a:ext cx="4572000" cy="311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599000" y="4987800"/>
          <a:ext cx="2612880" cy="87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99000" y="4987800"/>
                    <a:ext cx="2612880" cy="871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72" name=""/>
          <p:cNvGrpSpPr/>
          <p:nvPr/>
        </p:nvGrpSpPr>
        <p:grpSpPr>
          <a:xfrm>
            <a:off x="7954920" y="1647720"/>
            <a:ext cx="1184400" cy="4362480"/>
            <a:chOff x="7954920" y="1647720"/>
            <a:chExt cx="1184400" cy="4362480"/>
          </a:xfrm>
        </p:grpSpPr>
        <p:sp>
          <p:nvSpPr>
            <p:cNvPr id="73" name=""/>
            <p:cNvSpPr/>
            <p:nvPr/>
          </p:nvSpPr>
          <p:spPr>
            <a:xfrm>
              <a:off x="8085240" y="1647720"/>
              <a:ext cx="763560" cy="2619360"/>
            </a:xfrm>
            <a:prstGeom prst="rect">
              <a:avLst/>
            </a:prstGeom>
            <a:solidFill>
              <a:srgbClr val="4c5b79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453520" y="4346640"/>
              <a:ext cx="0" cy="838080"/>
            </a:xfrm>
            <a:prstGeom prst="line">
              <a:avLst/>
            </a:prstGeom>
            <a:ln w="38160">
              <a:solidFill>
                <a:srgbClr val="212a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54920" y="5184720"/>
              <a:ext cx="118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12a39"/>
                  </a:solidFill>
                  <a:latin typeface="Arial"/>
                </a:rPr>
                <a:t>Head reg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8520" y="1841040"/>
            <a:ext cx="3585240" cy="3264120"/>
            <a:chOff x="488520" y="1841040"/>
            <a:chExt cx="3585240" cy="3264120"/>
          </a:xfrm>
        </p:grpSpPr>
        <p:sp>
          <p:nvSpPr>
            <p:cNvPr id="77" name=""/>
            <p:cNvSpPr/>
            <p:nvPr/>
          </p:nvSpPr>
          <p:spPr>
            <a:xfrm>
              <a:off x="1218960" y="1981080"/>
              <a:ext cx="1980720" cy="3124080"/>
            </a:xfrm>
            <a:prstGeom prst="ellipse">
              <a:avLst/>
            </a:prstGeom>
            <a:gradFill rotWithShape="0">
              <a:gsLst>
                <a:gs pos="0">
                  <a:srgbClr val="ff0000">
                    <a:alpha val="82352"/>
                  </a:srgbClr>
                </a:gs>
                <a:gs pos="100000">
                  <a:srgbClr val="ff8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759320" y="1902240"/>
              <a:ext cx="1415160" cy="939960"/>
              <a:chOff x="1759320" y="1902240"/>
              <a:chExt cx="1415160" cy="93996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1759320" y="2654640"/>
                <a:ext cx="222840" cy="187560"/>
                <a:chOff x="1759320" y="2654640"/>
                <a:chExt cx="222840" cy="187560"/>
              </a:xfrm>
            </p:grpSpPr>
            <p:grpSp>
              <p:nvGrpSpPr>
                <p:cNvPr id="80" name=""/>
                <p:cNvGrpSpPr/>
                <p:nvPr/>
              </p:nvGrpSpPr>
              <p:grpSpPr>
                <a:xfrm>
                  <a:off x="1759320" y="2712600"/>
                  <a:ext cx="139680" cy="129600"/>
                  <a:chOff x="1759320" y="2712600"/>
                  <a:chExt cx="139680" cy="1296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9705200">
                    <a:off x="1773000" y="27378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705200">
                    <a:off x="1778760" y="27342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841760" y="2654640"/>
                  <a:ext cx="140400" cy="129960"/>
                  <a:chOff x="1841760" y="2654640"/>
                  <a:chExt cx="140400" cy="129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V="1" rot="19705200">
                    <a:off x="1855080" y="26798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flipV="1" rot="19705200">
                    <a:off x="1860840" y="26762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" name=""/>
              <p:cNvGrpSpPr/>
              <p:nvPr/>
            </p:nvGrpSpPr>
            <p:grpSpPr>
              <a:xfrm>
                <a:off x="1930680" y="2549160"/>
                <a:ext cx="223200" cy="187560"/>
                <a:chOff x="1930680" y="2549160"/>
                <a:chExt cx="223200" cy="18756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1930680" y="2607120"/>
                  <a:ext cx="140040" cy="129600"/>
                  <a:chOff x="1930680" y="2607120"/>
                  <a:chExt cx="140040" cy="12960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 rot="19705200">
                    <a:off x="1944360" y="263232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flipH="1" rot="19705200">
                    <a:off x="1950480" y="262872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"/>
                <p:cNvGrpSpPr/>
                <p:nvPr/>
              </p:nvGrpSpPr>
              <p:grpSpPr>
                <a:xfrm>
                  <a:off x="2013120" y="2549160"/>
                  <a:ext cx="140760" cy="129960"/>
                  <a:chOff x="2013120" y="2549160"/>
                  <a:chExt cx="140760" cy="12996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 flipV="1" rot="19705200">
                    <a:off x="2026440" y="25743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H="1" flipV="1" rot="19705200">
                    <a:off x="2032560" y="25707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" name=""/>
              <p:cNvGrpSpPr/>
              <p:nvPr/>
            </p:nvGrpSpPr>
            <p:grpSpPr>
              <a:xfrm>
                <a:off x="2099160" y="2439000"/>
                <a:ext cx="222840" cy="187560"/>
                <a:chOff x="2099160" y="2439000"/>
                <a:chExt cx="222840" cy="187560"/>
              </a:xfrm>
            </p:grpSpPr>
            <p:grpSp>
              <p:nvGrpSpPr>
                <p:cNvPr id="94" name=""/>
                <p:cNvGrpSpPr/>
                <p:nvPr/>
              </p:nvGrpSpPr>
              <p:grpSpPr>
                <a:xfrm>
                  <a:off x="2099160" y="2496960"/>
                  <a:ext cx="139680" cy="129600"/>
                  <a:chOff x="2099160" y="2496960"/>
                  <a:chExt cx="139680" cy="12960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 rot="19705200">
                    <a:off x="2112840" y="25221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H="1" rot="19705200">
                    <a:off x="2118600" y="25185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2181600" y="2439000"/>
                  <a:ext cx="140400" cy="129960"/>
                  <a:chOff x="2181600" y="2439000"/>
                  <a:chExt cx="140400" cy="12996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 flipV="1" rot="19705200">
                    <a:off x="2194920" y="24642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H="1" flipV="1" rot="19705200">
                    <a:off x="2200680" y="24606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2270880" y="2333520"/>
                <a:ext cx="223200" cy="187560"/>
                <a:chOff x="2270880" y="2333520"/>
                <a:chExt cx="223200" cy="18756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2270880" y="2391480"/>
                  <a:ext cx="139680" cy="129600"/>
                  <a:chOff x="2270880" y="2391480"/>
                  <a:chExt cx="139680" cy="1296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19705200">
                    <a:off x="2284560" y="24166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19705200">
                    <a:off x="2290320" y="24130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2353320" y="2333520"/>
                  <a:ext cx="140760" cy="129960"/>
                  <a:chOff x="2353320" y="2333520"/>
                  <a:chExt cx="140760" cy="1299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V="1" rot="19705200">
                    <a:off x="2366640" y="23587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 rot="19705200">
                    <a:off x="2372760" y="23551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"/>
              <p:cNvGrpSpPr/>
              <p:nvPr/>
            </p:nvGrpSpPr>
            <p:grpSpPr>
              <a:xfrm>
                <a:off x="2439720" y="2223360"/>
                <a:ext cx="223200" cy="187200"/>
                <a:chOff x="2439720" y="2223360"/>
                <a:chExt cx="223200" cy="18720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2439720" y="2281320"/>
                  <a:ext cx="140040" cy="129240"/>
                  <a:chOff x="2439720" y="2281320"/>
                  <a:chExt cx="140040" cy="12924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 rot="19705200">
                    <a:off x="2453400" y="23061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H="1" rot="19705200">
                    <a:off x="2459520" y="230292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2522520" y="2223360"/>
                  <a:ext cx="140400" cy="129960"/>
                  <a:chOff x="2522520" y="2223360"/>
                  <a:chExt cx="140400" cy="12996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 flipV="1" rot="19705200">
                    <a:off x="2535840" y="22485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H="1" flipV="1" rot="19705200">
                    <a:off x="2541600" y="22449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" name=""/>
              <p:cNvGrpSpPr/>
              <p:nvPr/>
            </p:nvGrpSpPr>
            <p:grpSpPr>
              <a:xfrm>
                <a:off x="2611440" y="2117880"/>
                <a:ext cx="222840" cy="187560"/>
                <a:chOff x="2611440" y="2117880"/>
                <a:chExt cx="222840" cy="187560"/>
              </a:xfrm>
            </p:grpSpPr>
            <p:grpSp>
              <p:nvGrpSpPr>
                <p:cNvPr id="115" name=""/>
                <p:cNvGrpSpPr/>
                <p:nvPr/>
              </p:nvGrpSpPr>
              <p:grpSpPr>
                <a:xfrm>
                  <a:off x="2611440" y="2175840"/>
                  <a:ext cx="139680" cy="129600"/>
                  <a:chOff x="2611440" y="2175840"/>
                  <a:chExt cx="139680" cy="12960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19705200">
                    <a:off x="2625120" y="22010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 rot="19705200">
                    <a:off x="2630880" y="21974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2693880" y="2117880"/>
                  <a:ext cx="140400" cy="129960"/>
                  <a:chOff x="2693880" y="2117880"/>
                  <a:chExt cx="140400" cy="12996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V="1" rot="19705200">
                    <a:off x="2707200" y="214308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 flipV="1" rot="19705200">
                    <a:off x="2712960" y="213948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"/>
              <p:cNvGrpSpPr/>
              <p:nvPr/>
            </p:nvGrpSpPr>
            <p:grpSpPr>
              <a:xfrm>
                <a:off x="2779920" y="2008080"/>
                <a:ext cx="222840" cy="187200"/>
                <a:chOff x="2779920" y="2008080"/>
                <a:chExt cx="222840" cy="187200"/>
              </a:xfrm>
            </p:grpSpPr>
            <p:grpSp>
              <p:nvGrpSpPr>
                <p:cNvPr id="122" name=""/>
                <p:cNvGrpSpPr/>
                <p:nvPr/>
              </p:nvGrpSpPr>
              <p:grpSpPr>
                <a:xfrm>
                  <a:off x="2779920" y="2065680"/>
                  <a:ext cx="139680" cy="129600"/>
                  <a:chOff x="2779920" y="2065680"/>
                  <a:chExt cx="139680" cy="12960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 rot="19705200">
                    <a:off x="2793600" y="20908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H="1" rot="19705200">
                    <a:off x="2799360" y="20872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2862360" y="2008080"/>
                  <a:ext cx="140400" cy="129600"/>
                  <a:chOff x="2862360" y="2008080"/>
                  <a:chExt cx="140400" cy="12960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 flipV="1" rot="19705200">
                    <a:off x="2875680" y="20329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 flipV="1" rot="19705200">
                    <a:off x="2881440" y="202968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" name=""/>
              <p:cNvGrpSpPr/>
              <p:nvPr/>
            </p:nvGrpSpPr>
            <p:grpSpPr>
              <a:xfrm>
                <a:off x="2951640" y="1902240"/>
                <a:ext cx="222840" cy="187560"/>
                <a:chOff x="2951640" y="1902240"/>
                <a:chExt cx="222840" cy="18756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2951640" y="1960200"/>
                  <a:ext cx="139680" cy="129600"/>
                  <a:chOff x="2951640" y="1960200"/>
                  <a:chExt cx="139680" cy="12960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 rot="19705200">
                    <a:off x="2965320" y="19854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H="1" rot="19705200">
                    <a:off x="2971080" y="19818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3034080" y="1902240"/>
                  <a:ext cx="140400" cy="129960"/>
                  <a:chOff x="3034080" y="1902240"/>
                  <a:chExt cx="140400" cy="1299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 flipV="1" rot="19705200">
                    <a:off x="3047400" y="19274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H="1" flipV="1" rot="19705200">
                    <a:off x="3053160" y="19238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5" name=""/>
            <p:cNvSpPr/>
            <p:nvPr/>
          </p:nvSpPr>
          <p:spPr>
            <a:xfrm flipV="1">
              <a:off x="3153960" y="1841040"/>
              <a:ext cx="98640" cy="10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88520" y="2808360"/>
              <a:ext cx="1242000" cy="77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906120" y="2856600"/>
              <a:ext cx="73404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82560" y="2858400"/>
              <a:ext cx="95688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73120" y="2857680"/>
              <a:ext cx="1069200" cy="52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024560" y="2791080"/>
              <a:ext cx="621720" cy="110520"/>
              <a:chOff x="1024560" y="2791080"/>
              <a:chExt cx="621720" cy="1105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1274040" y="2798280"/>
                <a:ext cx="122400" cy="99360"/>
                <a:chOff x="1274040" y="2798280"/>
                <a:chExt cx="122400" cy="99360"/>
              </a:xfrm>
            </p:grpSpPr>
            <p:grpSp>
              <p:nvGrpSpPr>
                <p:cNvPr id="142" name=""/>
                <p:cNvGrpSpPr/>
                <p:nvPr/>
              </p:nvGrpSpPr>
              <p:grpSpPr>
                <a:xfrm>
                  <a:off x="1280160" y="2829600"/>
                  <a:ext cx="48600" cy="39600"/>
                  <a:chOff x="1280160" y="2829600"/>
                  <a:chExt cx="48600" cy="396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10668600">
                    <a:off x="1280880" y="28303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0668600">
                    <a:off x="1283040" y="28303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1274040" y="2798280"/>
                  <a:ext cx="122400" cy="99360"/>
                  <a:chOff x="1274040" y="2798280"/>
                  <a:chExt cx="122400" cy="993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flipV="1" rot="10668600">
                    <a:off x="1275840" y="28004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V="1" rot="10668600">
                    <a:off x="1283040" y="28000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1211760" y="2797920"/>
                <a:ext cx="122400" cy="99360"/>
                <a:chOff x="1211760" y="2797920"/>
                <a:chExt cx="122400" cy="9936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1217880" y="2829240"/>
                  <a:ext cx="48600" cy="39600"/>
                  <a:chOff x="1217880" y="2829240"/>
                  <a:chExt cx="48600" cy="396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H="1" rot="10668600">
                    <a:off x="1218600" y="28299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0668600">
                    <a:off x="1220760" y="28299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1211760" y="2797920"/>
                  <a:ext cx="122400" cy="99360"/>
                  <a:chOff x="1211760" y="2797920"/>
                  <a:chExt cx="122400" cy="9936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flipH="1" flipV="1" rot="10668600">
                    <a:off x="1213560" y="28000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V="1" rot="10668600">
                    <a:off x="1220760" y="27997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" name=""/>
              <p:cNvGrpSpPr/>
              <p:nvPr/>
            </p:nvGrpSpPr>
            <p:grpSpPr>
              <a:xfrm>
                <a:off x="1149120" y="2800440"/>
                <a:ext cx="122400" cy="99360"/>
                <a:chOff x="1149120" y="2800440"/>
                <a:chExt cx="122400" cy="9936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1155240" y="2831760"/>
                  <a:ext cx="48600" cy="39600"/>
                  <a:chOff x="1155240" y="2831760"/>
                  <a:chExt cx="48600" cy="396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flipH="1" rot="10668600">
                    <a:off x="1155960" y="2832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0668600">
                    <a:off x="1158120" y="2832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1149120" y="2800440"/>
                  <a:ext cx="122400" cy="99360"/>
                  <a:chOff x="1149120" y="2800440"/>
                  <a:chExt cx="122400" cy="993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flipH="1" flipV="1" rot="10668600">
                    <a:off x="1150920" y="28026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V="1" rot="10668600">
                    <a:off x="1158120" y="28022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1086840" y="2800440"/>
                <a:ext cx="122400" cy="99000"/>
                <a:chOff x="1086840" y="2800440"/>
                <a:chExt cx="122400" cy="9900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1092960" y="2831400"/>
                  <a:ext cx="48600" cy="39960"/>
                  <a:chOff x="1092960" y="2831400"/>
                  <a:chExt cx="48600" cy="399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10668600">
                    <a:off x="1093680" y="2832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rot="10668600">
                    <a:off x="1095840" y="2832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1086840" y="2800440"/>
                  <a:ext cx="122400" cy="99000"/>
                  <a:chOff x="1086840" y="2800440"/>
                  <a:chExt cx="122400" cy="990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flipV="1" rot="10668600">
                    <a:off x="1088640" y="28022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V="1" rot="10668600">
                    <a:off x="1095840" y="28022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"/>
              <p:cNvGrpSpPr/>
              <p:nvPr/>
            </p:nvGrpSpPr>
            <p:grpSpPr>
              <a:xfrm>
                <a:off x="1523880" y="2791080"/>
                <a:ext cx="122400" cy="99360"/>
                <a:chOff x="1523880" y="2791080"/>
                <a:chExt cx="122400" cy="9936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530000" y="2822400"/>
                  <a:ext cx="48600" cy="39600"/>
                  <a:chOff x="1530000" y="2822400"/>
                  <a:chExt cx="48600" cy="3960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flipH="1" rot="10668600">
                    <a:off x="1530720" y="2823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10668600">
                    <a:off x="1532880" y="2823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1523880" y="2791080"/>
                  <a:ext cx="122400" cy="99360"/>
                  <a:chOff x="1523880" y="2791080"/>
                  <a:chExt cx="122400" cy="993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 flipV="1" rot="10668600">
                    <a:off x="1525680" y="27932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V="1" rot="10668600">
                    <a:off x="1532880" y="27928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" name=""/>
              <p:cNvGrpSpPr/>
              <p:nvPr/>
            </p:nvGrpSpPr>
            <p:grpSpPr>
              <a:xfrm>
                <a:off x="1461600" y="2791080"/>
                <a:ext cx="122400" cy="99360"/>
                <a:chOff x="1461600" y="2791080"/>
                <a:chExt cx="122400" cy="9936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1467360" y="2822400"/>
                  <a:ext cx="48600" cy="39600"/>
                  <a:chOff x="1467360" y="2822400"/>
                  <a:chExt cx="48600" cy="396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0668600">
                    <a:off x="1468080" y="2823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10668600">
                    <a:off x="1470240" y="2823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1461600" y="2791080"/>
                  <a:ext cx="122400" cy="99360"/>
                  <a:chOff x="1461600" y="2791080"/>
                  <a:chExt cx="122400" cy="9936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flipV="1" rot="10668600">
                    <a:off x="1463400" y="27932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V="1" rot="10668600">
                    <a:off x="1470600" y="27928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1398960" y="2793600"/>
                <a:ext cx="122400" cy="99000"/>
                <a:chOff x="1398960" y="2793600"/>
                <a:chExt cx="122400" cy="9900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1405080" y="2824560"/>
                  <a:ext cx="48600" cy="39960"/>
                  <a:chOff x="1405080" y="2824560"/>
                  <a:chExt cx="48600" cy="399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H="1" rot="10668600">
                    <a:off x="1405800" y="28256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10668600">
                    <a:off x="1407960" y="28252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1398960" y="2793600"/>
                  <a:ext cx="122400" cy="99000"/>
                  <a:chOff x="1398960" y="2793600"/>
                  <a:chExt cx="122400" cy="990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 flipV="1" rot="10668600">
                    <a:off x="1400760" y="27954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V="1" rot="10668600">
                    <a:off x="1407960" y="27954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0" name=""/>
              <p:cNvGrpSpPr/>
              <p:nvPr/>
            </p:nvGrpSpPr>
            <p:grpSpPr>
              <a:xfrm>
                <a:off x="1336680" y="2793240"/>
                <a:ext cx="122400" cy="99360"/>
                <a:chOff x="1336680" y="2793240"/>
                <a:chExt cx="122400" cy="9936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1342440" y="2824560"/>
                  <a:ext cx="48600" cy="39600"/>
                  <a:chOff x="1342440" y="2824560"/>
                  <a:chExt cx="48600" cy="396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10668600">
                    <a:off x="1343160" y="28252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0668600">
                    <a:off x="1345320" y="28252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336680" y="2793240"/>
                  <a:ext cx="122400" cy="99360"/>
                  <a:chOff x="1336680" y="2793240"/>
                  <a:chExt cx="122400" cy="993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flipV="1" rot="10668600">
                    <a:off x="1338480" y="27954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V="1" rot="10668600">
                    <a:off x="1345680" y="27950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1024560" y="2802240"/>
                <a:ext cx="122400" cy="99360"/>
                <a:chOff x="1024560" y="2802240"/>
                <a:chExt cx="122400" cy="99360"/>
              </a:xfrm>
            </p:grpSpPr>
            <p:sp>
              <p:nvSpPr>
                <p:cNvPr id="198" name=""/>
                <p:cNvSpPr/>
                <p:nvPr/>
              </p:nvSpPr>
              <p:spPr>
                <a:xfrm flipH="1" flipV="1" rot="10668600">
                  <a:off x="1026360" y="280440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 rot="10668600">
                  <a:off x="1033560" y="280404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"/>
            <p:cNvSpPr/>
            <p:nvPr/>
          </p:nvSpPr>
          <p:spPr>
            <a:xfrm flipV="1">
              <a:off x="1641600" y="2764080"/>
              <a:ext cx="141840" cy="9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422720" y="3369960"/>
              <a:ext cx="2651040" cy="1072440"/>
              <a:chOff x="1422720" y="3369960"/>
              <a:chExt cx="2651040" cy="107244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3951360" y="3369960"/>
                <a:ext cx="122400" cy="7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1422720" y="3383640"/>
                <a:ext cx="2548080" cy="1058760"/>
                <a:chOff x="1422720" y="3383640"/>
                <a:chExt cx="2548080" cy="1058760"/>
              </a:xfrm>
            </p:grpSpPr>
            <p:grpSp>
              <p:nvGrpSpPr>
                <p:cNvPr id="204" name=""/>
                <p:cNvGrpSpPr/>
                <p:nvPr/>
              </p:nvGrpSpPr>
              <p:grpSpPr>
                <a:xfrm>
                  <a:off x="1804680" y="3924000"/>
                  <a:ext cx="489240" cy="518400"/>
                  <a:chOff x="1804680" y="3924000"/>
                  <a:chExt cx="489240" cy="518400"/>
                </a:xfrm>
              </p:grpSpPr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1972800" y="4106880"/>
                    <a:ext cx="150840" cy="151200"/>
                    <a:chOff x="1972800" y="4106880"/>
                    <a:chExt cx="150840" cy="151200"/>
                  </a:xfrm>
                </p:grpSpPr>
                <p:grpSp>
                  <p:nvGrpSpPr>
                    <p:cNvPr id="206" name=""/>
                    <p:cNvGrpSpPr/>
                    <p:nvPr/>
                  </p:nvGrpSpPr>
                  <p:grpSpPr>
                    <a:xfrm>
                      <a:off x="1996560" y="4174560"/>
                      <a:ext cx="60120" cy="60480"/>
                      <a:chOff x="1996560" y="4174560"/>
                      <a:chExt cx="60120" cy="60480"/>
                    </a:xfrm>
                  </p:grpSpPr>
                  <p:sp>
                    <p:nvSpPr>
                      <p:cNvPr id="207" name=""/>
                      <p:cNvSpPr/>
                      <p:nvPr/>
                    </p:nvSpPr>
                    <p:spPr>
                      <a:xfrm flipH="1" flipV="1" rot="8014800">
                        <a:off x="2003040" y="4186080"/>
                        <a:ext cx="44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"/>
                      <p:cNvSpPr/>
                      <p:nvPr/>
                    </p:nvSpPr>
                    <p:spPr>
                      <a:xfrm flipV="1" rot="8014800">
                        <a:off x="2004840" y="4184280"/>
                        <a:ext cx="44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9" name=""/>
                    <p:cNvGrpSpPr/>
                    <p:nvPr/>
                  </p:nvGrpSpPr>
                  <p:grpSpPr>
                    <a:xfrm>
                      <a:off x="1972800" y="4106880"/>
                      <a:ext cx="150840" cy="151200"/>
                      <a:chOff x="1972800" y="4106880"/>
                      <a:chExt cx="150840" cy="151200"/>
                    </a:xfrm>
                  </p:grpSpPr>
                  <p:sp>
                    <p:nvSpPr>
                      <p:cNvPr id="210" name=""/>
                      <p:cNvSpPr/>
                      <p:nvPr/>
                    </p:nvSpPr>
                    <p:spPr>
                      <a:xfrm flipH="1" rot="8014800">
                        <a:off x="1989000" y="4137480"/>
                        <a:ext cx="11196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 rot="8014800">
                        <a:off x="1994760" y="4132440"/>
                        <a:ext cx="11196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1931760" y="4153680"/>
                    <a:ext cx="150480" cy="151200"/>
                    <a:chOff x="1931760" y="4153680"/>
                    <a:chExt cx="150480" cy="151200"/>
                  </a:xfrm>
                </p:grpSpPr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1955520" y="4221360"/>
                      <a:ext cx="60120" cy="60480"/>
                      <a:chOff x="1955520" y="4221360"/>
                      <a:chExt cx="60120" cy="6048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 flipH="1" flipV="1" rot="8014800">
                        <a:off x="1962000" y="4232880"/>
                        <a:ext cx="44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 flipV="1" rot="8014800">
                        <a:off x="1963800" y="4231080"/>
                        <a:ext cx="44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1931760" y="4153680"/>
                      <a:ext cx="150480" cy="151200"/>
                      <a:chOff x="1931760" y="4153680"/>
                      <a:chExt cx="150480" cy="15120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 flipH="1" rot="8014800">
                        <a:off x="1947960" y="4184280"/>
                        <a:ext cx="11196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 rot="8014800">
                        <a:off x="1953360" y="4179240"/>
                        <a:ext cx="11196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1888560" y="4199040"/>
                    <a:ext cx="150480" cy="151200"/>
                    <a:chOff x="1888560" y="4199040"/>
                    <a:chExt cx="150480" cy="15120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1912320" y="4266720"/>
                      <a:ext cx="60120" cy="60480"/>
                      <a:chOff x="1912320" y="4266720"/>
                      <a:chExt cx="60120" cy="6048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 flipH="1" flipV="1" rot="8014800">
                        <a:off x="1918800" y="4278240"/>
                        <a:ext cx="44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 flipV="1" rot="8014800">
                        <a:off x="1920600" y="4276440"/>
                        <a:ext cx="44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3" name=""/>
                    <p:cNvGrpSpPr/>
                    <p:nvPr/>
                  </p:nvGrpSpPr>
                  <p:grpSpPr>
                    <a:xfrm>
                      <a:off x="1888560" y="4199040"/>
                      <a:ext cx="150480" cy="151200"/>
                      <a:chOff x="1888560" y="4199040"/>
                      <a:chExt cx="150480" cy="151200"/>
                    </a:xfrm>
                  </p:grpSpPr>
                  <p:sp>
                    <p:nvSpPr>
                      <p:cNvPr id="224" name=""/>
                      <p:cNvSpPr/>
                      <p:nvPr/>
                    </p:nvSpPr>
                    <p:spPr>
                      <a:xfrm flipH="1" rot="8014800">
                        <a:off x="1904760" y="4229640"/>
                        <a:ext cx="11196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 rot="8014800">
                        <a:off x="1910160" y="4224600"/>
                        <a:ext cx="11196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1847160" y="4245840"/>
                    <a:ext cx="150840" cy="151200"/>
                    <a:chOff x="1847160" y="4245840"/>
                    <a:chExt cx="150840" cy="151200"/>
                  </a:xfrm>
                </p:grpSpPr>
                <p:grpSp>
                  <p:nvGrpSpPr>
                    <p:cNvPr id="227" name=""/>
                    <p:cNvGrpSpPr/>
                    <p:nvPr/>
                  </p:nvGrpSpPr>
                  <p:grpSpPr>
                    <a:xfrm>
                      <a:off x="1871280" y="4313520"/>
                      <a:ext cx="59760" cy="60480"/>
                      <a:chOff x="1871280" y="4313520"/>
                      <a:chExt cx="59760" cy="60480"/>
                    </a:xfrm>
                  </p:grpSpPr>
                  <p:sp>
                    <p:nvSpPr>
                      <p:cNvPr id="228" name=""/>
                      <p:cNvSpPr/>
                      <p:nvPr/>
                    </p:nvSpPr>
                    <p:spPr>
                      <a:xfrm flipH="1" flipV="1" rot="8014800">
                        <a:off x="1877760" y="4325040"/>
                        <a:ext cx="44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9" name=""/>
                      <p:cNvSpPr/>
                      <p:nvPr/>
                    </p:nvSpPr>
                    <p:spPr>
                      <a:xfrm flipV="1" rot="8014800">
                        <a:off x="1879200" y="4323240"/>
                        <a:ext cx="44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0" name=""/>
                    <p:cNvGrpSpPr/>
                    <p:nvPr/>
                  </p:nvGrpSpPr>
                  <p:grpSpPr>
                    <a:xfrm>
                      <a:off x="1847160" y="4245840"/>
                      <a:ext cx="150840" cy="151200"/>
                      <a:chOff x="1847160" y="4245840"/>
                      <a:chExt cx="150840" cy="151200"/>
                    </a:xfrm>
                  </p:grpSpPr>
                  <p:sp>
                    <p:nvSpPr>
                      <p:cNvPr id="231" name=""/>
                      <p:cNvSpPr/>
                      <p:nvPr/>
                    </p:nvSpPr>
                    <p:spPr>
                      <a:xfrm flipH="1" rot="8014800">
                        <a:off x="1863360" y="4276440"/>
                        <a:ext cx="11196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2" name=""/>
                      <p:cNvSpPr/>
                      <p:nvPr/>
                    </p:nvSpPr>
                    <p:spPr>
                      <a:xfrm rot="8014800">
                        <a:off x="1869120" y="4271400"/>
                        <a:ext cx="11196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2143080" y="3924000"/>
                    <a:ext cx="150840" cy="151200"/>
                    <a:chOff x="2143080" y="3924000"/>
                    <a:chExt cx="150840" cy="151200"/>
                  </a:xfrm>
                </p:grpSpPr>
                <p:grpSp>
                  <p:nvGrpSpPr>
                    <p:cNvPr id="234" name=""/>
                    <p:cNvGrpSpPr/>
                    <p:nvPr/>
                  </p:nvGrpSpPr>
                  <p:grpSpPr>
                    <a:xfrm>
                      <a:off x="2166840" y="3991680"/>
                      <a:ext cx="60120" cy="60480"/>
                      <a:chOff x="2166840" y="3991680"/>
                      <a:chExt cx="60120" cy="60480"/>
                    </a:xfrm>
                  </p:grpSpPr>
                  <p:sp>
                    <p:nvSpPr>
                      <p:cNvPr id="235" name=""/>
                      <p:cNvSpPr/>
                      <p:nvPr/>
                    </p:nvSpPr>
                    <p:spPr>
                      <a:xfrm flipH="1" flipV="1" rot="8014800">
                        <a:off x="2173320" y="4003200"/>
                        <a:ext cx="44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 flipV="1" rot="8014800">
                        <a:off x="2175120" y="4001400"/>
                        <a:ext cx="44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7" name=""/>
                    <p:cNvGrpSpPr/>
                    <p:nvPr/>
                  </p:nvGrpSpPr>
                  <p:grpSpPr>
                    <a:xfrm>
                      <a:off x="2143080" y="3924000"/>
                      <a:ext cx="150840" cy="151200"/>
                      <a:chOff x="2143080" y="3924000"/>
                      <a:chExt cx="150840" cy="151200"/>
                    </a:xfrm>
                  </p:grpSpPr>
                  <p:sp>
                    <p:nvSpPr>
                      <p:cNvPr id="238" name=""/>
                      <p:cNvSpPr/>
                      <p:nvPr/>
                    </p:nvSpPr>
                    <p:spPr>
                      <a:xfrm flipH="1" rot="8014800">
                        <a:off x="2159280" y="3954600"/>
                        <a:ext cx="11196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 rot="8014800">
                        <a:off x="2165040" y="3949560"/>
                        <a:ext cx="11196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2102040" y="3970800"/>
                    <a:ext cx="150840" cy="151560"/>
                    <a:chOff x="2102040" y="3970800"/>
                    <a:chExt cx="150840" cy="15156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2125800" y="4038480"/>
                      <a:ext cx="60120" cy="60480"/>
                      <a:chOff x="2125800" y="4038480"/>
                      <a:chExt cx="60120" cy="6048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 flipH="1" flipV="1" rot="8014800">
                        <a:off x="2132280" y="4050000"/>
                        <a:ext cx="44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 flipV="1" rot="8014800">
                        <a:off x="2134080" y="4048200"/>
                        <a:ext cx="44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4" name=""/>
                    <p:cNvGrpSpPr/>
                    <p:nvPr/>
                  </p:nvGrpSpPr>
                  <p:grpSpPr>
                    <a:xfrm>
                      <a:off x="2102040" y="3970800"/>
                      <a:ext cx="150840" cy="151560"/>
                      <a:chOff x="2102040" y="3970800"/>
                      <a:chExt cx="150840" cy="151560"/>
                    </a:xfrm>
                  </p:grpSpPr>
                  <p:sp>
                    <p:nvSpPr>
                      <p:cNvPr id="245" name=""/>
                      <p:cNvSpPr/>
                      <p:nvPr/>
                    </p:nvSpPr>
                    <p:spPr>
                      <a:xfrm flipH="1" rot="8014800">
                        <a:off x="2118240" y="4001760"/>
                        <a:ext cx="11196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 rot="8014800">
                        <a:off x="2124000" y="3996360"/>
                        <a:ext cx="11196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2058840" y="4016160"/>
                    <a:ext cx="150840" cy="151560"/>
                    <a:chOff x="2058840" y="4016160"/>
                    <a:chExt cx="150840" cy="151560"/>
                  </a:xfrm>
                </p:grpSpPr>
                <p:grpSp>
                  <p:nvGrpSpPr>
                    <p:cNvPr id="248" name=""/>
                    <p:cNvGrpSpPr/>
                    <p:nvPr/>
                  </p:nvGrpSpPr>
                  <p:grpSpPr>
                    <a:xfrm>
                      <a:off x="2082600" y="4083840"/>
                      <a:ext cx="60120" cy="60480"/>
                      <a:chOff x="2082600" y="4083840"/>
                      <a:chExt cx="60120" cy="60480"/>
                    </a:xfrm>
                  </p:grpSpPr>
                  <p:sp>
                    <p:nvSpPr>
                      <p:cNvPr id="249" name=""/>
                      <p:cNvSpPr/>
                      <p:nvPr/>
                    </p:nvSpPr>
                    <p:spPr>
                      <a:xfrm flipH="1" flipV="1" rot="8014800">
                        <a:off x="2089080" y="4095360"/>
                        <a:ext cx="44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 flipV="1" rot="8014800">
                        <a:off x="2090880" y="4093560"/>
                        <a:ext cx="44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1" name=""/>
                    <p:cNvGrpSpPr/>
                    <p:nvPr/>
                  </p:nvGrpSpPr>
                  <p:grpSpPr>
                    <a:xfrm>
                      <a:off x="2058840" y="4016160"/>
                      <a:ext cx="150840" cy="151560"/>
                      <a:chOff x="2058840" y="4016160"/>
                      <a:chExt cx="150840" cy="151560"/>
                    </a:xfrm>
                  </p:grpSpPr>
                  <p:sp>
                    <p:nvSpPr>
                      <p:cNvPr id="252" name=""/>
                      <p:cNvSpPr/>
                      <p:nvPr/>
                    </p:nvSpPr>
                    <p:spPr>
                      <a:xfrm flipH="1" rot="8014800">
                        <a:off x="2075040" y="4047120"/>
                        <a:ext cx="11196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 rot="8014800">
                        <a:off x="2080800" y="4041720"/>
                        <a:ext cx="11196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17800" y="4062960"/>
                    <a:ext cx="150840" cy="151560"/>
                    <a:chOff x="2017800" y="4062960"/>
                    <a:chExt cx="150840" cy="151560"/>
                  </a:xfrm>
                </p:grpSpPr>
                <p:grpSp>
                  <p:nvGrpSpPr>
                    <p:cNvPr id="255" name=""/>
                    <p:cNvGrpSpPr/>
                    <p:nvPr/>
                  </p:nvGrpSpPr>
                  <p:grpSpPr>
                    <a:xfrm>
                      <a:off x="2041560" y="4130640"/>
                      <a:ext cx="60120" cy="60480"/>
                      <a:chOff x="2041560" y="4130640"/>
                      <a:chExt cx="60120" cy="60480"/>
                    </a:xfrm>
                  </p:grpSpPr>
                  <p:sp>
                    <p:nvSpPr>
                      <p:cNvPr id="256" name=""/>
                      <p:cNvSpPr/>
                      <p:nvPr/>
                    </p:nvSpPr>
                    <p:spPr>
                      <a:xfrm flipH="1" flipV="1" rot="8014800">
                        <a:off x="2048040" y="4142160"/>
                        <a:ext cx="44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 flipV="1" rot="8014800">
                        <a:off x="2049840" y="4140360"/>
                        <a:ext cx="44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2017800" y="4062960"/>
                      <a:ext cx="150840" cy="151560"/>
                      <a:chOff x="2017800" y="4062960"/>
                      <a:chExt cx="150840" cy="15156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 flipH="1" rot="8014800">
                        <a:off x="2034000" y="4093920"/>
                        <a:ext cx="11196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 rot="8014800">
                        <a:off x="2039760" y="4088520"/>
                        <a:ext cx="11196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1804680" y="4291200"/>
                    <a:ext cx="150840" cy="151200"/>
                    <a:chOff x="1804680" y="4291200"/>
                    <a:chExt cx="150840" cy="15120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 flipH="1" rot="8014800">
                      <a:off x="1820880" y="4321800"/>
                      <a:ext cx="111960" cy="9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 rot="8014800">
                      <a:off x="1826640" y="4316760"/>
                      <a:ext cx="111960" cy="9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1422720" y="3383640"/>
                  <a:ext cx="2548080" cy="616320"/>
                  <a:chOff x="1422720" y="3383640"/>
                  <a:chExt cx="2548080" cy="616320"/>
                </a:xfrm>
              </p:grpSpPr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2396160" y="3383640"/>
                    <a:ext cx="1574640" cy="561240"/>
                    <a:chOff x="2396160" y="3383640"/>
                    <a:chExt cx="1574640" cy="561240"/>
                  </a:xfrm>
                </p:grpSpPr>
                <p:grpSp>
                  <p:nvGrpSpPr>
                    <p:cNvPr id="266" name=""/>
                    <p:cNvGrpSpPr/>
                    <p:nvPr/>
                  </p:nvGrpSpPr>
                  <p:grpSpPr>
                    <a:xfrm>
                      <a:off x="2396160" y="3799440"/>
                      <a:ext cx="227520" cy="145440"/>
                      <a:chOff x="2396160" y="3799440"/>
                      <a:chExt cx="227520" cy="145440"/>
                    </a:xfrm>
                  </p:grpSpPr>
                  <p:grpSp>
                    <p:nvGrpSpPr>
                      <p:cNvPr id="267" name=""/>
                      <p:cNvGrpSpPr/>
                      <p:nvPr/>
                    </p:nvGrpSpPr>
                    <p:grpSpPr>
                      <a:xfrm>
                        <a:off x="2396160" y="3833640"/>
                        <a:ext cx="132120" cy="111240"/>
                        <a:chOff x="2396160" y="3833640"/>
                        <a:chExt cx="132120" cy="111240"/>
                      </a:xfrm>
                    </p:grpSpPr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 rot="20611200">
                          <a:off x="2405520" y="3848760"/>
                          <a:ext cx="10656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 flipH="1" rot="20611200">
                          <a:off x="2411640" y="3846960"/>
                          <a:ext cx="10656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0" name=""/>
                      <p:cNvGrpSpPr/>
                      <p:nvPr/>
                    </p:nvGrpSpPr>
                    <p:grpSpPr>
                      <a:xfrm>
                        <a:off x="2490840" y="3799440"/>
                        <a:ext cx="132840" cy="111600"/>
                        <a:chOff x="2490840" y="3799440"/>
                        <a:chExt cx="132840" cy="111600"/>
                      </a:xfrm>
                    </p:grpSpPr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 flipV="1" rot="20611200">
                          <a:off x="2500200" y="3814200"/>
                          <a:ext cx="1072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 flipH="1" flipV="1" rot="20611200">
                          <a:off x="2506320" y="3813480"/>
                          <a:ext cx="1072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73" name=""/>
                    <p:cNvGrpSpPr/>
                    <p:nvPr/>
                  </p:nvGrpSpPr>
                  <p:grpSpPr>
                    <a:xfrm>
                      <a:off x="2589120" y="3742200"/>
                      <a:ext cx="227520" cy="145800"/>
                      <a:chOff x="2589120" y="3742200"/>
                      <a:chExt cx="227520" cy="145800"/>
                    </a:xfrm>
                  </p:grpSpPr>
                  <p:grpSp>
                    <p:nvGrpSpPr>
                      <p:cNvPr id="274" name=""/>
                      <p:cNvGrpSpPr/>
                      <p:nvPr/>
                    </p:nvGrpSpPr>
                    <p:grpSpPr>
                      <a:xfrm>
                        <a:off x="2589120" y="3776400"/>
                        <a:ext cx="132120" cy="111600"/>
                        <a:chOff x="2589120" y="3776400"/>
                        <a:chExt cx="132120" cy="111600"/>
                      </a:xfrm>
                    </p:grpSpPr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rot="20611200">
                          <a:off x="2598480" y="3791880"/>
                          <a:ext cx="10656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H="1" rot="20611200">
                          <a:off x="2604600" y="3789720"/>
                          <a:ext cx="10656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7" name=""/>
                      <p:cNvGrpSpPr/>
                      <p:nvPr/>
                    </p:nvGrpSpPr>
                    <p:grpSpPr>
                      <a:xfrm>
                        <a:off x="2683800" y="3742200"/>
                        <a:ext cx="132840" cy="111600"/>
                        <a:chOff x="2683800" y="3742200"/>
                        <a:chExt cx="132840" cy="111600"/>
                      </a:xfrm>
                    </p:grpSpPr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 flipV="1" rot="20611200">
                          <a:off x="2693160" y="3756960"/>
                          <a:ext cx="1072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 flipH="1" flipV="1" rot="20611200">
                          <a:off x="2699280" y="3756240"/>
                          <a:ext cx="1072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80" name=""/>
                    <p:cNvGrpSpPr/>
                    <p:nvPr/>
                  </p:nvGrpSpPr>
                  <p:grpSpPr>
                    <a:xfrm>
                      <a:off x="2780280" y="3679560"/>
                      <a:ext cx="227520" cy="145800"/>
                      <a:chOff x="2780280" y="3679560"/>
                      <a:chExt cx="227520" cy="145800"/>
                    </a:xfrm>
                  </p:grpSpPr>
                  <p:grpSp>
                    <p:nvGrpSpPr>
                      <p:cNvPr id="281" name=""/>
                      <p:cNvGrpSpPr/>
                      <p:nvPr/>
                    </p:nvGrpSpPr>
                    <p:grpSpPr>
                      <a:xfrm>
                        <a:off x="2780280" y="3714120"/>
                        <a:ext cx="132480" cy="111240"/>
                        <a:chOff x="2780280" y="3714120"/>
                        <a:chExt cx="132480" cy="111240"/>
                      </a:xfrm>
                    </p:grpSpPr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rot="20611200">
                          <a:off x="2789640" y="3729240"/>
                          <a:ext cx="10656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 flipH="1" rot="20611200">
                          <a:off x="2796120" y="3727440"/>
                          <a:ext cx="10656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4" name=""/>
                      <p:cNvGrpSpPr/>
                      <p:nvPr/>
                    </p:nvGrpSpPr>
                    <p:grpSpPr>
                      <a:xfrm>
                        <a:off x="2874960" y="3679560"/>
                        <a:ext cx="132840" cy="111960"/>
                        <a:chOff x="2874960" y="3679560"/>
                        <a:chExt cx="132840" cy="111960"/>
                      </a:xfrm>
                    </p:grpSpPr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 flipV="1" rot="20611200">
                          <a:off x="2884320" y="3694680"/>
                          <a:ext cx="1072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 flipH="1" flipV="1" rot="20611200">
                          <a:off x="2890440" y="3693600"/>
                          <a:ext cx="1072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87" name=""/>
                    <p:cNvGrpSpPr/>
                    <p:nvPr/>
                  </p:nvGrpSpPr>
                  <p:grpSpPr>
                    <a:xfrm>
                      <a:off x="2973600" y="3622320"/>
                      <a:ext cx="227520" cy="145800"/>
                      <a:chOff x="2973600" y="3622320"/>
                      <a:chExt cx="227520" cy="145800"/>
                    </a:xfrm>
                  </p:grpSpPr>
                  <p:grpSp>
                    <p:nvGrpSpPr>
                      <p:cNvPr id="288" name=""/>
                      <p:cNvGrpSpPr/>
                      <p:nvPr/>
                    </p:nvGrpSpPr>
                    <p:grpSpPr>
                      <a:xfrm>
                        <a:off x="2973600" y="3656880"/>
                        <a:ext cx="132480" cy="111240"/>
                        <a:chOff x="2973600" y="3656880"/>
                        <a:chExt cx="132480" cy="111240"/>
                      </a:xfrm>
                    </p:grpSpPr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 rot="20611200">
                          <a:off x="2982960" y="3672000"/>
                          <a:ext cx="10656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 flipH="1" rot="20611200">
                          <a:off x="2989440" y="3670200"/>
                          <a:ext cx="10656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1" name=""/>
                      <p:cNvGrpSpPr/>
                      <p:nvPr/>
                    </p:nvGrpSpPr>
                    <p:grpSpPr>
                      <a:xfrm>
                        <a:off x="3068280" y="3622320"/>
                        <a:ext cx="132840" cy="111960"/>
                        <a:chOff x="3068280" y="3622320"/>
                        <a:chExt cx="132840" cy="111960"/>
                      </a:xfrm>
                    </p:grpSpPr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 flipV="1" rot="20611200">
                          <a:off x="3077640" y="3637440"/>
                          <a:ext cx="1072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 flipH="1" flipV="1" rot="20611200">
                          <a:off x="3083760" y="3636360"/>
                          <a:ext cx="1072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4" name=""/>
                    <p:cNvGrpSpPr/>
                    <p:nvPr/>
                  </p:nvGrpSpPr>
                  <p:grpSpPr>
                    <a:xfrm>
                      <a:off x="3165480" y="3560040"/>
                      <a:ext cx="227520" cy="145800"/>
                      <a:chOff x="3165480" y="3560040"/>
                      <a:chExt cx="227520" cy="145800"/>
                    </a:xfrm>
                  </p:grpSpPr>
                  <p:grpSp>
                    <p:nvGrpSpPr>
                      <p:cNvPr id="295" name=""/>
                      <p:cNvGrpSpPr/>
                      <p:nvPr/>
                    </p:nvGrpSpPr>
                    <p:grpSpPr>
                      <a:xfrm>
                        <a:off x="3165480" y="3594240"/>
                        <a:ext cx="132120" cy="111600"/>
                        <a:chOff x="3165480" y="3594240"/>
                        <a:chExt cx="132120" cy="111600"/>
                      </a:xfrm>
                    </p:grpSpPr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 rot="20611200">
                          <a:off x="3174840" y="3609720"/>
                          <a:ext cx="10656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 flipH="1" rot="20611200">
                          <a:off x="3180960" y="3607560"/>
                          <a:ext cx="10656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8" name=""/>
                      <p:cNvGrpSpPr/>
                      <p:nvPr/>
                    </p:nvGrpSpPr>
                    <p:grpSpPr>
                      <a:xfrm>
                        <a:off x="3260160" y="3560040"/>
                        <a:ext cx="132840" cy="111600"/>
                        <a:chOff x="3260160" y="3560040"/>
                        <a:chExt cx="132840" cy="111600"/>
                      </a:xfrm>
                    </p:grpSpPr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 flipV="1" rot="20611200">
                          <a:off x="3269520" y="3574800"/>
                          <a:ext cx="1072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 flipH="1" flipV="1" rot="20611200">
                          <a:off x="3275640" y="3574080"/>
                          <a:ext cx="1072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01" name=""/>
                    <p:cNvGrpSpPr/>
                    <p:nvPr/>
                  </p:nvGrpSpPr>
                  <p:grpSpPr>
                    <a:xfrm>
                      <a:off x="3358440" y="3502800"/>
                      <a:ext cx="227520" cy="145800"/>
                      <a:chOff x="3358440" y="3502800"/>
                      <a:chExt cx="227520" cy="145800"/>
                    </a:xfrm>
                  </p:grpSpPr>
                  <p:grpSp>
                    <p:nvGrpSpPr>
                      <p:cNvPr id="302" name=""/>
                      <p:cNvGrpSpPr/>
                      <p:nvPr/>
                    </p:nvGrpSpPr>
                    <p:grpSpPr>
                      <a:xfrm>
                        <a:off x="3358440" y="3537360"/>
                        <a:ext cx="132120" cy="111240"/>
                        <a:chOff x="3358440" y="3537360"/>
                        <a:chExt cx="132120" cy="111240"/>
                      </a:xfrm>
                    </p:grpSpPr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 rot="20611200">
                          <a:off x="3367800" y="3552480"/>
                          <a:ext cx="10656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 flipH="1" rot="20611200">
                          <a:off x="3373920" y="3550680"/>
                          <a:ext cx="10656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5" name=""/>
                      <p:cNvGrpSpPr/>
                      <p:nvPr/>
                    </p:nvGrpSpPr>
                    <p:grpSpPr>
                      <a:xfrm>
                        <a:off x="3453120" y="3502800"/>
                        <a:ext cx="132840" cy="111960"/>
                        <a:chOff x="3453120" y="3502800"/>
                        <a:chExt cx="132840" cy="111960"/>
                      </a:xfrm>
                    </p:grpSpPr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 flipV="1" rot="20611200">
                          <a:off x="3462480" y="3517920"/>
                          <a:ext cx="1072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 flipH="1" flipV="1" rot="20611200">
                          <a:off x="3468600" y="3516840"/>
                          <a:ext cx="1072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3549960" y="3440520"/>
                      <a:ext cx="227520" cy="145800"/>
                      <a:chOff x="3549960" y="3440520"/>
                      <a:chExt cx="227520" cy="145800"/>
                    </a:xfrm>
                  </p:grpSpPr>
                  <p:grpSp>
                    <p:nvGrpSpPr>
                      <p:cNvPr id="309" name=""/>
                      <p:cNvGrpSpPr/>
                      <p:nvPr/>
                    </p:nvGrpSpPr>
                    <p:grpSpPr>
                      <a:xfrm>
                        <a:off x="3549960" y="3475080"/>
                        <a:ext cx="132120" cy="111240"/>
                        <a:chOff x="3549960" y="3475080"/>
                        <a:chExt cx="132120" cy="111240"/>
                      </a:xfrm>
                    </p:grpSpPr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 rot="20611200">
                          <a:off x="3559320" y="3490200"/>
                          <a:ext cx="10656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 flipH="1" rot="20611200">
                          <a:off x="3565440" y="3488400"/>
                          <a:ext cx="10656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2" name=""/>
                      <p:cNvGrpSpPr/>
                      <p:nvPr/>
                    </p:nvGrpSpPr>
                    <p:grpSpPr>
                      <a:xfrm>
                        <a:off x="3644640" y="3440520"/>
                        <a:ext cx="132840" cy="111960"/>
                        <a:chOff x="3644640" y="3440520"/>
                        <a:chExt cx="132840" cy="111960"/>
                      </a:xfrm>
                    </p:grpSpPr>
                    <p:sp>
                      <p:nvSpPr>
                        <p:cNvPr id="313" name=""/>
                        <p:cNvSpPr/>
                        <p:nvPr/>
                      </p:nvSpPr>
                      <p:spPr>
                        <a:xfrm flipV="1" rot="20611200">
                          <a:off x="3654000" y="3455640"/>
                          <a:ext cx="1072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" name=""/>
                        <p:cNvSpPr/>
                        <p:nvPr/>
                      </p:nvSpPr>
                      <p:spPr>
                        <a:xfrm flipH="1" flipV="1" rot="20611200">
                          <a:off x="3660120" y="3454560"/>
                          <a:ext cx="1072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15" name=""/>
                    <p:cNvGrpSpPr/>
                    <p:nvPr/>
                  </p:nvGrpSpPr>
                  <p:grpSpPr>
                    <a:xfrm>
                      <a:off x="3743280" y="3383640"/>
                      <a:ext cx="227520" cy="145440"/>
                      <a:chOff x="3743280" y="3383640"/>
                      <a:chExt cx="227520" cy="145440"/>
                    </a:xfrm>
                  </p:grpSpPr>
                  <p:grpSp>
                    <p:nvGrpSpPr>
                      <p:cNvPr id="316" name=""/>
                      <p:cNvGrpSpPr/>
                      <p:nvPr/>
                    </p:nvGrpSpPr>
                    <p:grpSpPr>
                      <a:xfrm>
                        <a:off x="3743280" y="3417840"/>
                        <a:ext cx="132120" cy="111240"/>
                        <a:chOff x="3743280" y="3417840"/>
                        <a:chExt cx="132120" cy="111240"/>
                      </a:xfrm>
                    </p:grpSpPr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 rot="20611200">
                          <a:off x="3752640" y="3432960"/>
                          <a:ext cx="10656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 flipH="1" rot="20611200">
                          <a:off x="3758760" y="3431160"/>
                          <a:ext cx="10656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9" name=""/>
                      <p:cNvGrpSpPr/>
                      <p:nvPr/>
                    </p:nvGrpSpPr>
                    <p:grpSpPr>
                      <a:xfrm>
                        <a:off x="3837960" y="3383640"/>
                        <a:ext cx="132840" cy="111600"/>
                        <a:chOff x="3837960" y="3383640"/>
                        <a:chExt cx="132840" cy="111600"/>
                      </a:xfrm>
                    </p:grpSpPr>
                    <p:sp>
                      <p:nvSpPr>
                        <p:cNvPr id="320" name=""/>
                        <p:cNvSpPr/>
                        <p:nvPr/>
                      </p:nvSpPr>
                      <p:spPr>
                        <a:xfrm flipV="1" rot="20611200">
                          <a:off x="3847320" y="3398400"/>
                          <a:ext cx="1072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1" name=""/>
                        <p:cNvSpPr/>
                        <p:nvPr/>
                      </p:nvSpPr>
                      <p:spPr>
                        <a:xfrm flipH="1" flipV="1" rot="20611200">
                          <a:off x="3853440" y="3397680"/>
                          <a:ext cx="1072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5640" bIns="35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1422720" y="3762000"/>
                    <a:ext cx="622440" cy="237960"/>
                    <a:chOff x="1422720" y="3762000"/>
                    <a:chExt cx="622440" cy="237960"/>
                  </a:xfrm>
                </p:grpSpPr>
                <p:grpSp>
                  <p:nvGrpSpPr>
                    <p:cNvPr id="323" name=""/>
                    <p:cNvGrpSpPr/>
                    <p:nvPr/>
                  </p:nvGrpSpPr>
                  <p:grpSpPr>
                    <a:xfrm>
                      <a:off x="1665000" y="3822840"/>
                      <a:ext cx="137160" cy="118800"/>
                      <a:chOff x="1665000" y="3822840"/>
                      <a:chExt cx="137160" cy="118800"/>
                    </a:xfrm>
                  </p:grpSpPr>
                  <p:grpSp>
                    <p:nvGrpSpPr>
                      <p:cNvPr id="324" name=""/>
                      <p:cNvGrpSpPr/>
                      <p:nvPr/>
                    </p:nvGrpSpPr>
                    <p:grpSpPr>
                      <a:xfrm>
                        <a:off x="1675800" y="3851640"/>
                        <a:ext cx="54720" cy="47880"/>
                        <a:chOff x="1675800" y="3851640"/>
                        <a:chExt cx="54720" cy="47880"/>
                      </a:xfrm>
                    </p:grpSpPr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 flipH="1" rot="11574600">
                          <a:off x="1679040" y="385596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 rot="11574600">
                          <a:off x="1681920" y="385668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7" name=""/>
                      <p:cNvGrpSpPr/>
                      <p:nvPr/>
                    </p:nvGrpSpPr>
                    <p:grpSpPr>
                      <a:xfrm>
                        <a:off x="1665000" y="3822840"/>
                        <a:ext cx="137160" cy="118800"/>
                        <a:chOff x="1665000" y="3822840"/>
                        <a:chExt cx="137160" cy="118800"/>
                      </a:xfrm>
                    </p:grpSpPr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 flipH="1" flipV="1" rot="11574600">
                          <a:off x="1673640" y="3833280"/>
                          <a:ext cx="11160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 flipV="1" rot="11574600">
                          <a:off x="1681200" y="3835080"/>
                          <a:ext cx="11160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30" name=""/>
                    <p:cNvGrpSpPr/>
                    <p:nvPr/>
                  </p:nvGrpSpPr>
                  <p:grpSpPr>
                    <a:xfrm>
                      <a:off x="1604520" y="3806640"/>
                      <a:ext cx="137160" cy="118440"/>
                      <a:chOff x="1604520" y="3806640"/>
                      <a:chExt cx="137160" cy="118440"/>
                    </a:xfrm>
                  </p:grpSpPr>
                  <p:grpSp>
                    <p:nvGrpSpPr>
                      <p:cNvPr id="331" name=""/>
                      <p:cNvGrpSpPr/>
                      <p:nvPr/>
                    </p:nvGrpSpPr>
                    <p:grpSpPr>
                      <a:xfrm>
                        <a:off x="1615320" y="3835440"/>
                        <a:ext cx="54720" cy="47520"/>
                        <a:chOff x="1615320" y="3835440"/>
                        <a:chExt cx="54720" cy="47520"/>
                      </a:xfrm>
                    </p:grpSpPr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 flipH="1" rot="11574600">
                          <a:off x="1618560" y="383976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 rot="11574600">
                          <a:off x="1621440" y="384012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4" name=""/>
                      <p:cNvGrpSpPr/>
                      <p:nvPr/>
                    </p:nvGrpSpPr>
                    <p:grpSpPr>
                      <a:xfrm>
                        <a:off x="1604520" y="3806640"/>
                        <a:ext cx="137160" cy="118440"/>
                        <a:chOff x="1604520" y="3806640"/>
                        <a:chExt cx="137160" cy="118440"/>
                      </a:xfrm>
                    </p:grpSpPr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 flipH="1" flipV="1" rot="11574600">
                          <a:off x="1613160" y="3817080"/>
                          <a:ext cx="11160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 flipV="1" rot="11574600">
                          <a:off x="1620720" y="3818520"/>
                          <a:ext cx="11160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1544040" y="3792600"/>
                      <a:ext cx="136800" cy="118800"/>
                      <a:chOff x="1544040" y="3792600"/>
                      <a:chExt cx="136800" cy="118800"/>
                    </a:xfrm>
                  </p:grpSpPr>
                  <p:grpSp>
                    <p:nvGrpSpPr>
                      <p:cNvPr id="338" name=""/>
                      <p:cNvGrpSpPr/>
                      <p:nvPr/>
                    </p:nvGrpSpPr>
                    <p:grpSpPr>
                      <a:xfrm>
                        <a:off x="1554840" y="3821400"/>
                        <a:ext cx="54720" cy="47880"/>
                        <a:chOff x="1554840" y="3821400"/>
                        <a:chExt cx="54720" cy="47880"/>
                      </a:xfrm>
                    </p:grpSpPr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 flipH="1" rot="11574600">
                          <a:off x="1558080" y="382572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 rot="11574600">
                          <a:off x="1560960" y="382644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1" name=""/>
                      <p:cNvGrpSpPr/>
                      <p:nvPr/>
                    </p:nvGrpSpPr>
                    <p:grpSpPr>
                      <a:xfrm>
                        <a:off x="1544040" y="3792600"/>
                        <a:ext cx="136800" cy="118800"/>
                        <a:chOff x="1544040" y="3792600"/>
                        <a:chExt cx="136800" cy="118800"/>
                      </a:xfrm>
                    </p:grpSpPr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 flipH="1" flipV="1" rot="11574600">
                          <a:off x="1552680" y="3803040"/>
                          <a:ext cx="11160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 flipV="1" rot="11574600">
                          <a:off x="1559880" y="3804840"/>
                          <a:ext cx="11160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44" name=""/>
                    <p:cNvGrpSpPr/>
                    <p:nvPr/>
                  </p:nvGrpSpPr>
                  <p:grpSpPr>
                    <a:xfrm>
                      <a:off x="1483560" y="3776040"/>
                      <a:ext cx="136800" cy="118800"/>
                      <a:chOff x="1483560" y="3776040"/>
                      <a:chExt cx="136800" cy="118800"/>
                    </a:xfrm>
                  </p:grpSpPr>
                  <p:grpSp>
                    <p:nvGrpSpPr>
                      <p:cNvPr id="345" name=""/>
                      <p:cNvGrpSpPr/>
                      <p:nvPr/>
                    </p:nvGrpSpPr>
                    <p:grpSpPr>
                      <a:xfrm>
                        <a:off x="1494360" y="3804840"/>
                        <a:ext cx="54720" cy="47880"/>
                        <a:chOff x="1494360" y="3804840"/>
                        <a:chExt cx="54720" cy="47880"/>
                      </a:xfrm>
                    </p:grpSpPr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 flipH="1" rot="11574600">
                          <a:off x="1497600" y="380916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 rot="11574600">
                          <a:off x="1500480" y="380988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8" name=""/>
                      <p:cNvGrpSpPr/>
                      <p:nvPr/>
                    </p:nvGrpSpPr>
                    <p:grpSpPr>
                      <a:xfrm>
                        <a:off x="1483560" y="3776040"/>
                        <a:ext cx="136800" cy="118800"/>
                        <a:chOff x="1483560" y="3776040"/>
                        <a:chExt cx="136800" cy="118800"/>
                      </a:xfrm>
                    </p:grpSpPr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 flipH="1" flipV="1" rot="11574600">
                          <a:off x="1492200" y="3786480"/>
                          <a:ext cx="11160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 flipV="1" rot="11574600">
                          <a:off x="1499400" y="3788280"/>
                          <a:ext cx="11160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1" name=""/>
                    <p:cNvGrpSpPr/>
                    <p:nvPr/>
                  </p:nvGrpSpPr>
                  <p:grpSpPr>
                    <a:xfrm>
                      <a:off x="1908000" y="3881160"/>
                      <a:ext cx="137160" cy="118800"/>
                      <a:chOff x="1908000" y="3881160"/>
                      <a:chExt cx="137160" cy="118800"/>
                    </a:xfrm>
                  </p:grpSpPr>
                  <p:grpSp>
                    <p:nvGrpSpPr>
                      <p:cNvPr id="352" name=""/>
                      <p:cNvGrpSpPr/>
                      <p:nvPr/>
                    </p:nvGrpSpPr>
                    <p:grpSpPr>
                      <a:xfrm>
                        <a:off x="1918800" y="3909960"/>
                        <a:ext cx="54720" cy="47880"/>
                        <a:chOff x="1918800" y="3909960"/>
                        <a:chExt cx="54720" cy="47880"/>
                      </a:xfrm>
                    </p:grpSpPr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 flipH="1" rot="11574600">
                          <a:off x="1922040" y="391428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 rot="11574600">
                          <a:off x="1924920" y="391500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5" name=""/>
                      <p:cNvGrpSpPr/>
                      <p:nvPr/>
                    </p:nvGrpSpPr>
                    <p:grpSpPr>
                      <a:xfrm>
                        <a:off x="1908000" y="3881160"/>
                        <a:ext cx="137160" cy="118800"/>
                        <a:chOff x="1908000" y="3881160"/>
                        <a:chExt cx="137160" cy="118800"/>
                      </a:xfrm>
                    </p:grpSpPr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 flipH="1" flipV="1" rot="11574600">
                          <a:off x="1916640" y="3891600"/>
                          <a:ext cx="11160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 flipV="1" rot="11574600">
                          <a:off x="1924200" y="3893400"/>
                          <a:ext cx="11160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8" name=""/>
                    <p:cNvGrpSpPr/>
                    <p:nvPr/>
                  </p:nvGrpSpPr>
                  <p:grpSpPr>
                    <a:xfrm>
                      <a:off x="1847880" y="3864960"/>
                      <a:ext cx="137160" cy="118440"/>
                      <a:chOff x="1847880" y="3864960"/>
                      <a:chExt cx="137160" cy="118440"/>
                    </a:xfrm>
                  </p:grpSpPr>
                  <p:grpSp>
                    <p:nvGrpSpPr>
                      <p:cNvPr id="359" name=""/>
                      <p:cNvGrpSpPr/>
                      <p:nvPr/>
                    </p:nvGrpSpPr>
                    <p:grpSpPr>
                      <a:xfrm>
                        <a:off x="1858680" y="3893760"/>
                        <a:ext cx="54720" cy="47520"/>
                        <a:chOff x="1858680" y="3893760"/>
                        <a:chExt cx="54720" cy="47520"/>
                      </a:xfrm>
                    </p:grpSpPr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 flipH="1" rot="11574600">
                          <a:off x="1861920" y="389808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"/>
                        <p:cNvSpPr/>
                        <p:nvPr/>
                      </p:nvSpPr>
                      <p:spPr>
                        <a:xfrm rot="11574600">
                          <a:off x="1864800" y="389844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2" name=""/>
                      <p:cNvGrpSpPr/>
                      <p:nvPr/>
                    </p:nvGrpSpPr>
                    <p:grpSpPr>
                      <a:xfrm>
                        <a:off x="1847880" y="3864960"/>
                        <a:ext cx="137160" cy="118440"/>
                        <a:chOff x="1847880" y="3864960"/>
                        <a:chExt cx="137160" cy="118440"/>
                      </a:xfrm>
                    </p:grpSpPr>
                    <p:sp>
                      <p:nvSpPr>
                        <p:cNvPr id="363" name=""/>
                        <p:cNvSpPr/>
                        <p:nvPr/>
                      </p:nvSpPr>
                      <p:spPr>
                        <a:xfrm flipH="1" flipV="1" rot="11574600">
                          <a:off x="1856520" y="3875400"/>
                          <a:ext cx="11160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4" name=""/>
                        <p:cNvSpPr/>
                        <p:nvPr/>
                      </p:nvSpPr>
                      <p:spPr>
                        <a:xfrm flipV="1" rot="11574600">
                          <a:off x="1864080" y="3876840"/>
                          <a:ext cx="11160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5" name=""/>
                    <p:cNvGrpSpPr/>
                    <p:nvPr/>
                  </p:nvGrpSpPr>
                  <p:grpSpPr>
                    <a:xfrm>
                      <a:off x="1786680" y="3850920"/>
                      <a:ext cx="137160" cy="118440"/>
                      <a:chOff x="1786680" y="3850920"/>
                      <a:chExt cx="137160" cy="118440"/>
                    </a:xfrm>
                  </p:grpSpPr>
                  <p:grpSp>
                    <p:nvGrpSpPr>
                      <p:cNvPr id="366" name=""/>
                      <p:cNvGrpSpPr/>
                      <p:nvPr/>
                    </p:nvGrpSpPr>
                    <p:grpSpPr>
                      <a:xfrm>
                        <a:off x="1797840" y="3879720"/>
                        <a:ext cx="54360" cy="47520"/>
                        <a:chOff x="1797840" y="3879720"/>
                        <a:chExt cx="54360" cy="47520"/>
                      </a:xfrm>
                    </p:grpSpPr>
                    <p:sp>
                      <p:nvSpPr>
                        <p:cNvPr id="367" name=""/>
                        <p:cNvSpPr/>
                        <p:nvPr/>
                      </p:nvSpPr>
                      <p:spPr>
                        <a:xfrm flipH="1" rot="11574600">
                          <a:off x="1801080" y="388404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 rot="11574600">
                          <a:off x="1803600" y="388440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9" name=""/>
                      <p:cNvGrpSpPr/>
                      <p:nvPr/>
                    </p:nvGrpSpPr>
                    <p:grpSpPr>
                      <a:xfrm>
                        <a:off x="1786680" y="3850920"/>
                        <a:ext cx="137160" cy="118440"/>
                        <a:chOff x="1786680" y="3850920"/>
                        <a:chExt cx="137160" cy="118440"/>
                      </a:xfrm>
                    </p:grpSpPr>
                    <p:sp>
                      <p:nvSpPr>
                        <p:cNvPr id="370" name=""/>
                        <p:cNvSpPr/>
                        <p:nvPr/>
                      </p:nvSpPr>
                      <p:spPr>
                        <a:xfrm flipH="1" flipV="1" rot="11574600">
                          <a:off x="1795320" y="3861360"/>
                          <a:ext cx="11160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"/>
                        <p:cNvSpPr/>
                        <p:nvPr/>
                      </p:nvSpPr>
                      <p:spPr>
                        <a:xfrm flipV="1" rot="11574600">
                          <a:off x="1802880" y="3862800"/>
                          <a:ext cx="11160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2" name=""/>
                    <p:cNvGrpSpPr/>
                    <p:nvPr/>
                  </p:nvGrpSpPr>
                  <p:grpSpPr>
                    <a:xfrm>
                      <a:off x="1726200" y="3834360"/>
                      <a:ext cx="137160" cy="118800"/>
                      <a:chOff x="1726200" y="3834360"/>
                      <a:chExt cx="137160" cy="118800"/>
                    </a:xfrm>
                  </p:grpSpPr>
                  <p:grpSp>
                    <p:nvGrpSpPr>
                      <p:cNvPr id="373" name=""/>
                      <p:cNvGrpSpPr/>
                      <p:nvPr/>
                    </p:nvGrpSpPr>
                    <p:grpSpPr>
                      <a:xfrm>
                        <a:off x="1737360" y="3863160"/>
                        <a:ext cx="54360" cy="47880"/>
                        <a:chOff x="1737360" y="3863160"/>
                        <a:chExt cx="54360" cy="47880"/>
                      </a:xfrm>
                    </p:grpSpPr>
                    <p:sp>
                      <p:nvSpPr>
                        <p:cNvPr id="374" name=""/>
                        <p:cNvSpPr/>
                        <p:nvPr/>
                      </p:nvSpPr>
                      <p:spPr>
                        <a:xfrm flipH="1" rot="11574600">
                          <a:off x="1740600" y="386748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"/>
                        <p:cNvSpPr/>
                        <p:nvPr/>
                      </p:nvSpPr>
                      <p:spPr>
                        <a:xfrm rot="11574600">
                          <a:off x="1743120" y="386820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6" name=""/>
                      <p:cNvGrpSpPr/>
                      <p:nvPr/>
                    </p:nvGrpSpPr>
                    <p:grpSpPr>
                      <a:xfrm>
                        <a:off x="1726200" y="3834360"/>
                        <a:ext cx="137160" cy="118800"/>
                        <a:chOff x="1726200" y="3834360"/>
                        <a:chExt cx="137160" cy="118800"/>
                      </a:xfrm>
                    </p:grpSpPr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 flipH="1" flipV="1" rot="11574600">
                          <a:off x="1734840" y="3844800"/>
                          <a:ext cx="11160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 flipV="1" rot="11574600">
                          <a:off x="1742400" y="3846600"/>
                          <a:ext cx="11160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9" name=""/>
                    <p:cNvGrpSpPr/>
                    <p:nvPr/>
                  </p:nvGrpSpPr>
                  <p:grpSpPr>
                    <a:xfrm>
                      <a:off x="1422720" y="3762000"/>
                      <a:ext cx="137160" cy="118440"/>
                      <a:chOff x="1422720" y="3762000"/>
                      <a:chExt cx="137160" cy="118440"/>
                    </a:xfrm>
                  </p:grpSpPr>
                  <p:sp>
                    <p:nvSpPr>
                      <p:cNvPr id="380" name=""/>
                      <p:cNvSpPr/>
                      <p:nvPr/>
                    </p:nvSpPr>
                    <p:spPr>
                      <a:xfrm flipH="1" flipV="1" rot="11574600">
                        <a:off x="1431360" y="3772440"/>
                        <a:ext cx="11160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 flipV="1" rot="11574600">
                        <a:off x="1438920" y="3773880"/>
                        <a:ext cx="111600" cy="9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82" name=""/>
                  <p:cNvSpPr/>
                  <p:nvPr/>
                </p:nvSpPr>
                <p:spPr>
                  <a:xfrm flipV="1">
                    <a:off x="2234160" y="3882960"/>
                    <a:ext cx="180000" cy="75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029320" y="3937320"/>
                    <a:ext cx="216720" cy="17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"/>
                <p:cNvSpPr/>
                <p:nvPr/>
              </p:nvSpPr>
              <p:spPr>
                <a:xfrm flipH="1">
                  <a:off x="1658880" y="3934800"/>
                  <a:ext cx="38088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5" name=""/>
          <p:cNvSpPr/>
          <p:nvPr/>
        </p:nvSpPr>
        <p:spPr>
          <a:xfrm>
            <a:off x="916920" y="457200"/>
            <a:ext cx="32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gamma-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24480" y="990720"/>
            <a:ext cx="23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M09, M. Conn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50E-A18C-4492-8CD8-95D94CDCDE0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Ion Cafe, 09/May/2009, Toky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03:24:10Z</dcterms:created>
  <dc:creator>Esumi ShinIchi</dc:creator>
  <dc:description/>
  <dc:language>en-US</dc:language>
  <cp:lastModifiedBy>Esumi ShinIchi</cp:lastModifiedBy>
  <dcterms:modified xsi:type="dcterms:W3CDTF">2009-05-09T11:55:11Z</dcterms:modified>
  <cp:revision>35</cp:revision>
  <dc:subject/>
  <dc:title>PowerPoint プレゼンテーション</dc:title>
</cp:coreProperties>
</file>