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CECD-706B-47F9-9C53-724703B5FD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F134-154C-4E3E-AF33-32150BBEE5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377-3A10-4B4F-A957-78142A2C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421-5E40-4325-9FC0-46520AAC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FEC-82ED-4F3A-8D77-FD97FEDD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FE7-7FF4-4EE8-961A-9BBFABA6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17E-0101-4228-BA28-A5D67F8A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A18-24D3-4EE5-A6F1-770BDE2E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6E9-5912-4789-9BBC-D60F7AFB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7BF-B91C-458E-AC5F-8035BBB4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7C1-CD01-4839-B095-42B5F9E8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71C-C85B-4782-AA51-870227B6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560-F247-4F60-9D3F-541785F5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5E9-213D-4AA9-9532-25F7CFE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3886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8680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00E0-97DC-4BAA-826A-7CF13CC8578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lay between jet and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hinIchi Esu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st. of Physics, Univ. of Tsuk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measuremen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B31-872C-4133-AECE-6A088A75CD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914400" y="914400"/>
            <a:ext cx="74674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HIC 200GeV Au+Au,  mid-central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t mid-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region (1-4 GeV/c) with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0.1 ~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Significant semi-hard (mini-jet)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ative to soft-thermal contribution                           ~ several*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Significant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effect from the semi-hard compon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ative to soft-thermal particl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       ~ several*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Significant smearing on jet shape even with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~ 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ut it’s not really because of poor accuracy of E.P. ang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t’s more because mini-jets push up the inclusiv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ich is subtra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RHIC data analysis is in progre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E.P. can also be biased by correlated pair even with large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gap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8080" y="1981080"/>
            <a:ext cx="723924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2819520"/>
            <a:ext cx="723924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38080" y="3657600"/>
            <a:ext cx="7239240" cy="12193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C10-F862-4309-AB7E-5500F95AECA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25909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8076960" cy="1905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04920" y="3300480"/>
            <a:ext cx="8453160" cy="31003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964680" y="472428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SimSun"/>
              </a:rPr>
              <a:t>STAR Prelim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275680" y="3838680"/>
            <a:ext cx="341280" cy="81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71000" y="5070240"/>
            <a:ext cx="341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Jet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97200" y="3657600"/>
            <a:ext cx="38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SimSun"/>
              </a:rPr>
              <a:t>3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4, 1.5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2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11120" y="304812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QM08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39160" y="9907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200000">
            <a:off x="839520" y="2452680"/>
            <a:ext cx="94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9800000">
            <a:off x="2664000" y="240984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23880" y="1136520"/>
            <a:ext cx="1359000" cy="1111320"/>
          </a:xfrm>
          <a:custGeom>
            <a:avLst/>
            <a:gdLst/>
            <a:ahLst/>
            <a:rect l="l" t="t" r="r" b="b"/>
            <a:pathLst>
              <a:path w="856" h="700">
                <a:moveTo>
                  <a:pt x="0" y="300"/>
                </a:moveTo>
                <a:lnTo>
                  <a:pt x="101" y="700"/>
                </a:lnTo>
                <a:lnTo>
                  <a:pt x="856" y="320"/>
                </a:lnTo>
                <a:lnTo>
                  <a:pt x="696" y="0"/>
                </a:lnTo>
                <a:lnTo>
                  <a:pt x="0" y="3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33360" y="1619280"/>
            <a:ext cx="443160" cy="622440"/>
          </a:xfrm>
          <a:custGeom>
            <a:avLst/>
            <a:gdLst/>
            <a:ahLst/>
            <a:rect l="l" t="t" r="r" b="b"/>
            <a:pathLst>
              <a:path w="279" h="392">
                <a:moveTo>
                  <a:pt x="279" y="392"/>
                </a:moveTo>
                <a:lnTo>
                  <a:pt x="183" y="0"/>
                </a:lnTo>
                <a:lnTo>
                  <a:pt x="0" y="283"/>
                </a:lnTo>
                <a:lnTo>
                  <a:pt x="279" y="392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20100000">
            <a:off x="1679040" y="14475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219320" y="3917880"/>
            <a:ext cx="6172200" cy="1567800"/>
            <a:chOff x="1219320" y="3917880"/>
            <a:chExt cx="6172200" cy="1567800"/>
          </a:xfrm>
        </p:grpSpPr>
        <p:grpSp>
          <p:nvGrpSpPr>
            <p:cNvPr id="508" name=""/>
            <p:cNvGrpSpPr/>
            <p:nvPr/>
          </p:nvGrpSpPr>
          <p:grpSpPr>
            <a:xfrm>
              <a:off x="1219320" y="3917880"/>
              <a:ext cx="6172200" cy="637560"/>
              <a:chOff x="1219320" y="3917880"/>
              <a:chExt cx="6172200" cy="637560"/>
            </a:xfrm>
          </p:grpSpPr>
          <p:sp>
            <p:nvSpPr>
              <p:cNvPr id="509" name=""/>
              <p:cNvSpPr/>
              <p:nvPr/>
            </p:nvSpPr>
            <p:spPr>
              <a:xfrm>
                <a:off x="1295280" y="4466880"/>
                <a:ext cx="609624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295280" y="4006440"/>
                <a:ext cx="3276720" cy="4568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219320" y="391788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38280" y="40701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581280" y="426672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68920" y="432720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87880" y="43113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30880" y="431460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219320" y="5181480"/>
              <a:ext cx="6172200" cy="304200"/>
              <a:chOff x="1219320" y="5181480"/>
              <a:chExt cx="6172200" cy="304200"/>
            </a:xfrm>
          </p:grpSpPr>
          <p:sp>
            <p:nvSpPr>
              <p:cNvPr id="518" name=""/>
              <p:cNvSpPr/>
              <p:nvPr/>
            </p:nvSpPr>
            <p:spPr>
              <a:xfrm>
                <a:off x="1295280" y="5333760"/>
                <a:ext cx="609624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115040" y="522900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943600" y="518148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68920" y="52131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581280" y="52131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406600" y="52257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19320" y="525744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Text Box 39"/>
          <p:cNvSpPr/>
          <p:nvPr/>
        </p:nvSpPr>
        <p:spPr>
          <a:xfrm>
            <a:off x="2990880" y="36504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j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3"/>
          <p:cNvSpPr/>
          <p:nvPr/>
        </p:nvSpPr>
        <p:spPr>
          <a:xfrm flipH="1">
            <a:off x="2209320" y="609480"/>
            <a:ext cx="838440" cy="3812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ovéPole 30"/>
          <p:cNvSpPr/>
          <p:nvPr/>
        </p:nvSpPr>
        <p:spPr>
          <a:xfrm>
            <a:off x="1142640" y="2286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u+Au, 200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42720" y="4664160"/>
            <a:ext cx="2745720" cy="54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dge shape depends on R.P. ang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idge is a source of of v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08480" y="4648320"/>
            <a:ext cx="2029320" cy="54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t does not depends on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Jet reduces v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809880" y="304920"/>
            <a:ext cx="1752480" cy="2133360"/>
            <a:chOff x="3809880" y="304920"/>
            <a:chExt cx="1752480" cy="2133360"/>
          </a:xfrm>
        </p:grpSpPr>
        <p:sp>
          <p:nvSpPr>
            <p:cNvPr id="531" name=""/>
            <p:cNvSpPr/>
            <p:nvPr/>
          </p:nvSpPr>
          <p:spPr>
            <a:xfrm>
              <a:off x="4190760" y="533160"/>
              <a:ext cx="990720" cy="167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3809880" y="990360"/>
              <a:ext cx="15238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09880" y="1218960"/>
              <a:ext cx="17524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495680" y="304920"/>
              <a:ext cx="38088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4572000" y="380880"/>
              <a:ext cx="380880" cy="19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62160" y="1066680"/>
              <a:ext cx="1524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62160" y="137124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809880" y="1142640"/>
              <a:ext cx="1752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3962160" y="1599480"/>
              <a:ext cx="1447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4800" y="685440"/>
              <a:ext cx="12189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038480" y="761760"/>
              <a:ext cx="121932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962160" y="609120"/>
              <a:ext cx="12956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114800" y="1752120"/>
              <a:ext cx="12952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5943600" y="228600"/>
            <a:ext cx="2984400" cy="23493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 rot="20953800">
            <a:off x="7659720" y="2376360"/>
            <a:ext cx="95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2032800">
            <a:off x="6249600" y="222372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20878800">
            <a:off x="6629400" y="4568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YTHIA p+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2514600"/>
            <a:ext cx="207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way side (in d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 of one di-jet can be near side (in d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 of another di-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D7F-25B8-4B06-889A-D8F9C31B78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984400" cy="23497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 rot="20953800">
            <a:off x="7736040" y="2300400"/>
            <a:ext cx="95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2032800">
            <a:off x="6325920" y="214740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20878800">
            <a:off x="6705720" y="380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YTHIA p+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238400" y="0"/>
            <a:ext cx="3941280" cy="1882800"/>
            <a:chOff x="1238400" y="0"/>
            <a:chExt cx="3941280" cy="1882800"/>
          </a:xfrm>
        </p:grpSpPr>
        <p:sp>
          <p:nvSpPr>
            <p:cNvPr id="554" name=""/>
            <p:cNvSpPr/>
            <p:nvPr/>
          </p:nvSpPr>
          <p:spPr>
            <a:xfrm flipH="1" flipV="1">
              <a:off x="2286000" y="6634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3047760" y="739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2590560" y="104436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2819520" y="1197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2971440" y="51084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33920" y="119700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1752480" y="358200"/>
              <a:ext cx="19814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733920" y="119700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733920" y="112068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33920" y="1197000"/>
              <a:ext cx="1218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33920" y="1197000"/>
              <a:ext cx="1371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33920" y="119700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33920" y="119700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32080" y="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rig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87800" y="1244520"/>
              <a:ext cx="90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ar 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92920" y="78408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way 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1238400" y="882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38400" y="15681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58560" y="6537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49320" y="1263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41560" y="615960"/>
              <a:ext cx="157320" cy="231480"/>
            </a:xfrm>
            <a:custGeom>
              <a:avLst/>
              <a:gdLst/>
              <a:ahLst/>
              <a:rect l="l" t="t" r="r" b="b"/>
              <a:pathLst>
                <a:path w="99" h="146">
                  <a:moveTo>
                    <a:pt x="99" y="0"/>
                  </a:moveTo>
                  <a:cubicBezTo>
                    <a:pt x="85" y="9"/>
                    <a:pt x="32" y="32"/>
                    <a:pt x="16" y="56"/>
                  </a:cubicBezTo>
                  <a:cubicBezTo>
                    <a:pt x="0" y="80"/>
                    <a:pt x="6" y="127"/>
                    <a:pt x="3" y="14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05320" y="1038240"/>
              <a:ext cx="457200" cy="133200"/>
            </a:xfrm>
            <a:custGeom>
              <a:avLst/>
              <a:gdLst/>
              <a:ahLst/>
              <a:rect l="l" t="t" r="r" b="b"/>
              <a:pathLst>
                <a:path w="288" h="84">
                  <a:moveTo>
                    <a:pt x="0" y="40"/>
                  </a:moveTo>
                  <a:cubicBezTo>
                    <a:pt x="16" y="33"/>
                    <a:pt x="61" y="8"/>
                    <a:pt x="96" y="4"/>
                  </a:cubicBezTo>
                  <a:cubicBezTo>
                    <a:pt x="131" y="0"/>
                    <a:pt x="176" y="3"/>
                    <a:pt x="208" y="16"/>
                  </a:cubicBezTo>
                  <a:cubicBezTo>
                    <a:pt x="240" y="29"/>
                    <a:pt x="271" y="70"/>
                    <a:pt x="288" y="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82720" y="67788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23623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7467480" y="4876920"/>
            <a:ext cx="901800" cy="609120"/>
            <a:chOff x="7467480" y="4876920"/>
            <a:chExt cx="901800" cy="609120"/>
          </a:xfrm>
        </p:grpSpPr>
        <p:sp>
          <p:nvSpPr>
            <p:cNvPr id="579" name=""/>
            <p:cNvSpPr/>
            <p:nvPr/>
          </p:nvSpPr>
          <p:spPr>
            <a:xfrm>
              <a:off x="7467480" y="4876920"/>
              <a:ext cx="533520" cy="60912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0"/>
                  </a:moveTo>
                  <a:cubicBezTo>
                    <a:pt x="17" y="19"/>
                    <a:pt x="65" y="77"/>
                    <a:pt x="100" y="116"/>
                  </a:cubicBezTo>
                  <a:cubicBezTo>
                    <a:pt x="135" y="155"/>
                    <a:pt x="169" y="203"/>
                    <a:pt x="208" y="232"/>
                  </a:cubicBezTo>
                  <a:cubicBezTo>
                    <a:pt x="247" y="261"/>
                    <a:pt x="309" y="276"/>
                    <a:pt x="336" y="288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20120" y="5113800"/>
              <a:ext cx="749160" cy="279000"/>
            </a:xfrm>
            <a:custGeom>
              <a:avLst/>
              <a:gdLst/>
              <a:ahLst/>
              <a:rect l="l" t="t" r="r" b="b"/>
              <a:pathLst>
                <a:path w="472" h="132">
                  <a:moveTo>
                    <a:pt x="472" y="0"/>
                  </a:moveTo>
                  <a:cubicBezTo>
                    <a:pt x="451" y="2"/>
                    <a:pt x="389" y="1"/>
                    <a:pt x="348" y="12"/>
                  </a:cubicBezTo>
                  <a:cubicBezTo>
                    <a:pt x="307" y="23"/>
                    <a:pt x="263" y="50"/>
                    <a:pt x="228" y="64"/>
                  </a:cubicBezTo>
                  <a:cubicBezTo>
                    <a:pt x="193" y="78"/>
                    <a:pt x="174" y="85"/>
                    <a:pt x="136" y="96"/>
                  </a:cubicBezTo>
                  <a:cubicBezTo>
                    <a:pt x="98" y="107"/>
                    <a:pt x="28" y="124"/>
                    <a:pt x="0" y="13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20120" y="5105520"/>
              <a:ext cx="425160" cy="145800"/>
            </a:xfrm>
            <a:custGeom>
              <a:avLst/>
              <a:gdLst/>
              <a:ahLst/>
              <a:rect l="l" t="t" r="r" b="b"/>
              <a:pathLst>
                <a:path w="268" h="69">
                  <a:moveTo>
                    <a:pt x="0" y="0"/>
                  </a:moveTo>
                  <a:cubicBezTo>
                    <a:pt x="6" y="6"/>
                    <a:pt x="18" y="25"/>
                    <a:pt x="36" y="36"/>
                  </a:cubicBezTo>
                  <a:cubicBezTo>
                    <a:pt x="54" y="47"/>
                    <a:pt x="84" y="59"/>
                    <a:pt x="108" y="64"/>
                  </a:cubicBezTo>
                  <a:cubicBezTo>
                    <a:pt x="132" y="69"/>
                    <a:pt x="153" y="67"/>
                    <a:pt x="180" y="64"/>
                  </a:cubicBezTo>
                  <a:cubicBezTo>
                    <a:pt x="207" y="61"/>
                    <a:pt x="250" y="51"/>
                    <a:pt x="268" y="4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437600" y="5133960"/>
            <a:ext cx="933120" cy="155520"/>
          </a:xfrm>
          <a:custGeom>
            <a:avLst/>
            <a:gdLst/>
            <a:ahLst/>
            <a:rect l="l" t="t" r="r" b="b"/>
            <a:pathLst>
              <a:path w="588" h="82">
                <a:moveTo>
                  <a:pt x="0" y="0"/>
                </a:moveTo>
                <a:cubicBezTo>
                  <a:pt x="21" y="3"/>
                  <a:pt x="88" y="14"/>
                  <a:pt x="124" y="24"/>
                </a:cubicBezTo>
                <a:cubicBezTo>
                  <a:pt x="160" y="34"/>
                  <a:pt x="179" y="51"/>
                  <a:pt x="216" y="60"/>
                </a:cubicBezTo>
                <a:cubicBezTo>
                  <a:pt x="253" y="69"/>
                  <a:pt x="301" y="82"/>
                  <a:pt x="344" y="76"/>
                </a:cubicBezTo>
                <a:cubicBezTo>
                  <a:pt x="387" y="70"/>
                  <a:pt x="435" y="37"/>
                  <a:pt x="476" y="24"/>
                </a:cubicBezTo>
                <a:cubicBezTo>
                  <a:pt x="517" y="11"/>
                  <a:pt x="565" y="5"/>
                  <a:pt x="588" y="0"/>
                </a:cubicBezTo>
              </a:path>
            </a:pathLst>
          </a:custGeom>
          <a:noFill/>
          <a:ln w="255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2280" y="1905120"/>
            <a:ext cx="617220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way side of a back-to-back(b-t-b) jet is wider in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than in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If there are two parallel b-t-b jets, away side of one b-t-b jet can be near side of the another b-t-b 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uppression as well as modification of b-t-b jet would depend on relative angle w.r.t. almond geometry, we know this from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measurement and believe this is the major source of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t high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Therefore, there should be inter b-t-b jets correlation give by the geometry from (3), this could make near side ridge like effect, especially if the effect (3) has shaper dependence than v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(=cos2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We always measure inclusive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, which includes the effect (3). </a:t>
            </a: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Therefore any modification which could generates the elliptic anisotropy would be included in the measured v</a:t>
            </a:r>
            <a:r>
              <a:rPr b="0" lang="ja-JP" sz="1600" spc="-1" strike="noStrike" baseline="-25000">
                <a:solidFill>
                  <a:srgbClr val="333399"/>
                </a:solidFill>
                <a:latin typeface="Times New Roman"/>
              </a:rPr>
              <a:t>2 </a:t>
            </a: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We subtract BG contribution with this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from (5) by maximizing BG contribution assuming zero jet yield at minimum at any d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If near and away side jets overlap each other, this subtraction underestimates the jet yield and can change the extracted jet sh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If you extract angular dependence of jet w.r.t. R.P., the results will easily be affected by the choice of v</a:t>
            </a:r>
            <a:r>
              <a:rPr b="0" lang="ja-JP" sz="1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 from (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477120" y="2590920"/>
            <a:ext cx="1752480" cy="2133360"/>
            <a:chOff x="6477120" y="2590920"/>
            <a:chExt cx="1752480" cy="2133360"/>
          </a:xfrm>
        </p:grpSpPr>
        <p:sp>
          <p:nvSpPr>
            <p:cNvPr id="585" name=""/>
            <p:cNvSpPr/>
            <p:nvPr/>
          </p:nvSpPr>
          <p:spPr>
            <a:xfrm>
              <a:off x="6858000" y="2819160"/>
              <a:ext cx="990720" cy="167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6477120" y="3276360"/>
              <a:ext cx="15238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77120" y="3504960"/>
              <a:ext cx="17524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162920" y="2590920"/>
              <a:ext cx="38088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>
              <a:off x="7239240" y="2666880"/>
              <a:ext cx="380880" cy="19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29400" y="3352680"/>
              <a:ext cx="1524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29400" y="365724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477120" y="3428640"/>
              <a:ext cx="1752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629400" y="3885480"/>
              <a:ext cx="1447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82040" y="2971440"/>
              <a:ext cx="12189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05720" y="3047760"/>
              <a:ext cx="121932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6629400" y="2895120"/>
              <a:ext cx="12956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6782040" y="4038120"/>
              <a:ext cx="12952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657-EC2A-4212-AF6B-5C3888E235E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56253" r="10210" b="0"/>
          <a:stretch/>
        </p:blipFill>
        <p:spPr>
          <a:xfrm>
            <a:off x="457200" y="1093680"/>
            <a:ext cx="3809880" cy="279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762120"/>
            <a:ext cx="39621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52280" y="3870360"/>
            <a:ext cx="8848800" cy="2606760"/>
            <a:chOff x="152280" y="3870360"/>
            <a:chExt cx="8848800" cy="2606760"/>
          </a:xfrm>
        </p:grpSpPr>
        <p:sp>
          <p:nvSpPr>
            <p:cNvPr id="53" name=""/>
            <p:cNvSpPr/>
            <p:nvPr/>
          </p:nvSpPr>
          <p:spPr>
            <a:xfrm>
              <a:off x="152280" y="3914640"/>
              <a:ext cx="8848800" cy="256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rcRect l="68546" t="0" r="0" b="0"/>
            <a:stretch/>
          </p:blipFill>
          <p:spPr>
            <a:xfrm>
              <a:off x="6323040" y="4159080"/>
              <a:ext cx="2592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250920" y="4221000"/>
              <a:ext cx="2700360" cy="18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rcRect l="0" t="88996" r="64788" b="0"/>
            <a:stretch/>
          </p:blipFill>
          <p:spPr>
            <a:xfrm>
              <a:off x="250920" y="5992920"/>
              <a:ext cx="273672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rcRect l="0" t="44471" r="65258" b="0"/>
            <a:stretch/>
          </p:blipFill>
          <p:spPr>
            <a:xfrm>
              <a:off x="3220920" y="4233960"/>
              <a:ext cx="270036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36280" y="3870360"/>
              <a:ext cx="178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RHIC 200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11160" y="3870360"/>
              <a:ext cx="14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SPS 17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89360" y="38703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RHIC 62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9120" y="4637160"/>
              <a:ext cx="141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PHENI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nucl-ex/06110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86280" y="6156360"/>
              <a:ext cx="139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.Kniege, ISMD 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933640" y="2133720"/>
            <a:ext cx="3162240" cy="2590200"/>
            <a:chOff x="2933640" y="2133720"/>
            <a:chExt cx="3162240" cy="2590200"/>
          </a:xfrm>
        </p:grpSpPr>
        <p:sp>
          <p:nvSpPr>
            <p:cNvPr id="64" name=""/>
            <p:cNvSpPr/>
            <p:nvPr/>
          </p:nvSpPr>
          <p:spPr>
            <a:xfrm>
              <a:off x="3162240" y="3276360"/>
              <a:ext cx="2685960" cy="14331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43640" y="3276360"/>
              <a:ext cx="552240" cy="1431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33640" y="3276360"/>
              <a:ext cx="554040" cy="144756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640" y="2438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857840" y="2514240"/>
              <a:ext cx="685800" cy="3808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857840" y="2133720"/>
              <a:ext cx="60948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857840" y="2133720"/>
              <a:ext cx="15228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81320" y="3470040"/>
              <a:ext cx="108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765320" y="3470040"/>
              <a:ext cx="1158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86280" y="3312720"/>
              <a:ext cx="1526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47840" y="3331800"/>
              <a:ext cx="1526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76600" y="2742840"/>
              <a:ext cx="457200" cy="7617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48000" y="3165120"/>
              <a:ext cx="541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33600" y="31683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91000" y="31683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52720" y="38858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19600" y="38858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701880" y="3454560"/>
            <a:ext cx="837720" cy="1225440"/>
            <a:chOff x="3701880" y="3454560"/>
            <a:chExt cx="837720" cy="1225440"/>
          </a:xfrm>
        </p:grpSpPr>
        <p:sp>
          <p:nvSpPr>
            <p:cNvPr id="82" name=""/>
            <p:cNvSpPr/>
            <p:nvPr/>
          </p:nvSpPr>
          <p:spPr>
            <a:xfrm>
              <a:off x="4309920" y="4017960"/>
              <a:ext cx="77760" cy="35712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853800" y="3965760"/>
              <a:ext cx="438120" cy="71424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701880" y="3965760"/>
              <a:ext cx="590400" cy="40932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234680" y="3454560"/>
              <a:ext cx="304920" cy="663480"/>
            </a:xfrm>
            <a:prstGeom prst="line">
              <a:avLst/>
            </a:prstGeom>
            <a:ln w="38160">
              <a:solidFill>
                <a:srgbClr val="3366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257280" y="3441600"/>
            <a:ext cx="1909080" cy="1321200"/>
            <a:chOff x="3257280" y="3441600"/>
            <a:chExt cx="1909080" cy="1321200"/>
          </a:xfrm>
        </p:grpSpPr>
        <p:sp>
          <p:nvSpPr>
            <p:cNvPr id="87" name=""/>
            <p:cNvSpPr/>
            <p:nvPr/>
          </p:nvSpPr>
          <p:spPr>
            <a:xfrm flipH="1">
              <a:off x="3597480" y="3668760"/>
              <a:ext cx="370800" cy="368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257280" y="3620160"/>
              <a:ext cx="743760" cy="2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576960" y="3556800"/>
              <a:ext cx="419400" cy="622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46600" y="3441600"/>
              <a:ext cx="703080" cy="231840"/>
            </a:xfrm>
            <a:custGeom>
              <a:avLst/>
              <a:gdLst/>
              <a:ahLst/>
              <a:rect l="l" t="t" r="r" b="b"/>
              <a:pathLst>
                <a:path w="443" h="146">
                  <a:moveTo>
                    <a:pt x="443" y="25"/>
                  </a:moveTo>
                  <a:lnTo>
                    <a:pt x="341" y="0"/>
                  </a:lnTo>
                  <a:lnTo>
                    <a:pt x="261" y="104"/>
                  </a:lnTo>
                  <a:lnTo>
                    <a:pt x="153" y="76"/>
                  </a:lnTo>
                  <a:lnTo>
                    <a:pt x="0" y="14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43080" y="3987720"/>
              <a:ext cx="323280" cy="169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91600" y="3968280"/>
              <a:ext cx="265320" cy="7945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724640" y="3967920"/>
              <a:ext cx="65880" cy="716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21240" y="3441600"/>
              <a:ext cx="355680" cy="685800"/>
            </a:xfrm>
            <a:custGeom>
              <a:avLst/>
              <a:gdLst/>
              <a:ahLst/>
              <a:rect l="l" t="t" r="r" b="b"/>
              <a:pathLst>
                <a:path w="224" h="432">
                  <a:moveTo>
                    <a:pt x="32" y="0"/>
                  </a:moveTo>
                  <a:cubicBezTo>
                    <a:pt x="30" y="26"/>
                    <a:pt x="0" y="122"/>
                    <a:pt x="22" y="154"/>
                  </a:cubicBezTo>
                  <a:cubicBezTo>
                    <a:pt x="44" y="186"/>
                    <a:pt x="148" y="165"/>
                    <a:pt x="166" y="192"/>
                  </a:cubicBezTo>
                  <a:cubicBezTo>
                    <a:pt x="184" y="219"/>
                    <a:pt x="118" y="277"/>
                    <a:pt x="128" y="317"/>
                  </a:cubicBezTo>
                  <a:cubicBezTo>
                    <a:pt x="138" y="357"/>
                    <a:pt x="204" y="408"/>
                    <a:pt x="224" y="432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537000" y="3429000"/>
            <a:ext cx="1835280" cy="1247760"/>
            <a:chOff x="3537000" y="3429000"/>
            <a:chExt cx="1835280" cy="1247760"/>
          </a:xfrm>
        </p:grpSpPr>
        <p:grpSp>
          <p:nvGrpSpPr>
            <p:cNvPr id="96" name=""/>
            <p:cNvGrpSpPr/>
            <p:nvPr/>
          </p:nvGrpSpPr>
          <p:grpSpPr>
            <a:xfrm>
              <a:off x="3701880" y="3450960"/>
              <a:ext cx="837720" cy="1225440"/>
              <a:chOff x="3701880" y="3450960"/>
              <a:chExt cx="837720" cy="1225440"/>
            </a:xfrm>
          </p:grpSpPr>
          <p:sp>
            <p:nvSpPr>
              <p:cNvPr id="97" name=""/>
              <p:cNvSpPr/>
              <p:nvPr/>
            </p:nvSpPr>
            <p:spPr>
              <a:xfrm>
                <a:off x="4309920" y="4014360"/>
                <a:ext cx="77760" cy="3571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3853800" y="3962160"/>
                <a:ext cx="438120" cy="714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701880" y="3962160"/>
                <a:ext cx="590400" cy="4093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4234680" y="3450960"/>
                <a:ext cx="304920" cy="66348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3537000" y="3429000"/>
              <a:ext cx="1835280" cy="1247760"/>
              <a:chOff x="3537000" y="3429000"/>
              <a:chExt cx="1835280" cy="1247760"/>
            </a:xfrm>
          </p:grpSpPr>
          <p:sp>
            <p:nvSpPr>
              <p:cNvPr id="102" name=""/>
              <p:cNvSpPr/>
              <p:nvPr/>
            </p:nvSpPr>
            <p:spPr>
              <a:xfrm>
                <a:off x="4457880" y="3611520"/>
                <a:ext cx="596880" cy="289080"/>
              </a:xfrm>
              <a:custGeom>
                <a:avLst/>
                <a:gdLst/>
                <a:ahLst/>
                <a:rect l="l" t="t" r="r" b="b"/>
                <a:pathLst>
                  <a:path w="376" h="182">
                    <a:moveTo>
                      <a:pt x="0" y="129"/>
                    </a:moveTo>
                    <a:cubicBezTo>
                      <a:pt x="15" y="137"/>
                      <a:pt x="65" y="182"/>
                      <a:pt x="88" y="173"/>
                    </a:cubicBezTo>
                    <a:cubicBezTo>
                      <a:pt x="111" y="164"/>
                      <a:pt x="112" y="85"/>
                      <a:pt x="136" y="77"/>
                    </a:cubicBezTo>
                    <a:cubicBezTo>
                      <a:pt x="160" y="69"/>
                      <a:pt x="210" y="136"/>
                      <a:pt x="232" y="125"/>
                    </a:cubicBezTo>
                    <a:cubicBezTo>
                      <a:pt x="254" y="114"/>
                      <a:pt x="244" y="26"/>
                      <a:pt x="268" y="13"/>
                    </a:cubicBezTo>
                    <a:cubicBezTo>
                      <a:pt x="292" y="0"/>
                      <a:pt x="354" y="42"/>
                      <a:pt x="376" y="49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368960" y="3789360"/>
                <a:ext cx="888840" cy="385920"/>
              </a:xfrm>
              <a:custGeom>
                <a:avLst/>
                <a:gdLst/>
                <a:ahLst/>
                <a:rect l="l" t="t" r="r" b="b"/>
                <a:pathLst>
                  <a:path w="560" h="243">
                    <a:moveTo>
                      <a:pt x="0" y="190"/>
                    </a:moveTo>
                    <a:cubicBezTo>
                      <a:pt x="15" y="198"/>
                      <a:pt x="65" y="243"/>
                      <a:pt x="88" y="234"/>
                    </a:cubicBezTo>
                    <a:cubicBezTo>
                      <a:pt x="111" y="225"/>
                      <a:pt x="112" y="146"/>
                      <a:pt x="136" y="138"/>
                    </a:cubicBezTo>
                    <a:cubicBezTo>
                      <a:pt x="160" y="130"/>
                      <a:pt x="208" y="195"/>
                      <a:pt x="232" y="186"/>
                    </a:cubicBezTo>
                    <a:cubicBezTo>
                      <a:pt x="256" y="177"/>
                      <a:pt x="251" y="92"/>
                      <a:pt x="280" y="81"/>
                    </a:cubicBezTo>
                    <a:cubicBezTo>
                      <a:pt x="309" y="70"/>
                      <a:pt x="377" y="133"/>
                      <a:pt x="404" y="121"/>
                    </a:cubicBezTo>
                    <a:cubicBezTo>
                      <a:pt x="431" y="109"/>
                      <a:pt x="414" y="18"/>
                      <a:pt x="440" y="9"/>
                    </a:cubicBezTo>
                    <a:cubicBezTo>
                      <a:pt x="466" y="0"/>
                      <a:pt x="535" y="53"/>
                      <a:pt x="560" y="65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95720" y="4052880"/>
                <a:ext cx="1187640" cy="519120"/>
              </a:xfrm>
              <a:custGeom>
                <a:avLst/>
                <a:gdLst/>
                <a:ahLst/>
                <a:rect l="l" t="t" r="r" b="b"/>
                <a:pathLst>
                  <a:path w="748" h="327">
                    <a:moveTo>
                      <a:pt x="0" y="274"/>
                    </a:moveTo>
                    <a:cubicBezTo>
                      <a:pt x="15" y="282"/>
                      <a:pt x="65" y="327"/>
                      <a:pt x="88" y="318"/>
                    </a:cubicBezTo>
                    <a:cubicBezTo>
                      <a:pt x="111" y="309"/>
                      <a:pt x="112" y="230"/>
                      <a:pt x="136" y="222"/>
                    </a:cubicBezTo>
                    <a:cubicBezTo>
                      <a:pt x="160" y="214"/>
                      <a:pt x="208" y="279"/>
                      <a:pt x="232" y="270"/>
                    </a:cubicBezTo>
                    <a:cubicBezTo>
                      <a:pt x="256" y="261"/>
                      <a:pt x="251" y="177"/>
                      <a:pt x="280" y="165"/>
                    </a:cubicBezTo>
                    <a:cubicBezTo>
                      <a:pt x="309" y="153"/>
                      <a:pt x="378" y="210"/>
                      <a:pt x="404" y="197"/>
                    </a:cubicBezTo>
                    <a:cubicBezTo>
                      <a:pt x="430" y="184"/>
                      <a:pt x="409" y="100"/>
                      <a:pt x="436" y="89"/>
                    </a:cubicBezTo>
                    <a:cubicBezTo>
                      <a:pt x="463" y="78"/>
                      <a:pt x="535" y="143"/>
                      <a:pt x="564" y="131"/>
                    </a:cubicBezTo>
                    <a:cubicBezTo>
                      <a:pt x="593" y="119"/>
                      <a:pt x="581" y="30"/>
                      <a:pt x="612" y="15"/>
                    </a:cubicBezTo>
                    <a:cubicBezTo>
                      <a:pt x="643" y="0"/>
                      <a:pt x="720" y="37"/>
                      <a:pt x="748" y="43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70480" y="4273560"/>
                <a:ext cx="901800" cy="403200"/>
              </a:xfrm>
              <a:custGeom>
                <a:avLst/>
                <a:gdLst/>
                <a:ahLst/>
                <a:rect l="l" t="t" r="r" b="b"/>
                <a:pathLst>
                  <a:path w="568" h="254">
                    <a:moveTo>
                      <a:pt x="0" y="200"/>
                    </a:moveTo>
                    <a:cubicBezTo>
                      <a:pt x="15" y="207"/>
                      <a:pt x="68" y="254"/>
                      <a:pt x="92" y="244"/>
                    </a:cubicBezTo>
                    <a:cubicBezTo>
                      <a:pt x="116" y="234"/>
                      <a:pt x="119" y="148"/>
                      <a:pt x="144" y="139"/>
                    </a:cubicBezTo>
                    <a:cubicBezTo>
                      <a:pt x="169" y="130"/>
                      <a:pt x="216" y="196"/>
                      <a:pt x="240" y="187"/>
                    </a:cubicBezTo>
                    <a:cubicBezTo>
                      <a:pt x="264" y="178"/>
                      <a:pt x="260" y="93"/>
                      <a:pt x="288" y="82"/>
                    </a:cubicBezTo>
                    <a:cubicBezTo>
                      <a:pt x="316" y="71"/>
                      <a:pt x="381" y="132"/>
                      <a:pt x="408" y="120"/>
                    </a:cubicBezTo>
                    <a:cubicBezTo>
                      <a:pt x="435" y="108"/>
                      <a:pt x="421" y="24"/>
                      <a:pt x="448" y="12"/>
                    </a:cubicBezTo>
                    <a:cubicBezTo>
                      <a:pt x="475" y="0"/>
                      <a:pt x="543" y="41"/>
                      <a:pt x="568" y="4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87720" y="3429000"/>
                <a:ext cx="268560" cy="42552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65600" y="3568680"/>
                <a:ext cx="298440" cy="62244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37000" y="3657600"/>
                <a:ext cx="374760" cy="70488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226080" y="17316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 suppression    modification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ith 2-particl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33360"/>
            <a:ext cx="228600" cy="184320"/>
          </a:xfrm>
          <a:prstGeom prst="rightArrow">
            <a:avLst>
              <a:gd name="adj1" fmla="val 36204"/>
              <a:gd name="adj2" fmla="val 516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8CE-FA7E-4AB3-8824-DD082C14BA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08000" y="3168720"/>
            <a:ext cx="9001080" cy="3384360"/>
            <a:chOff x="108000" y="3168720"/>
            <a:chExt cx="9001080" cy="33843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rcRect l="4106" t="6755" r="5375" b="0"/>
            <a:stretch/>
          </p:blipFill>
          <p:spPr>
            <a:xfrm>
              <a:off x="108000" y="3168720"/>
              <a:ext cx="9001080" cy="197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324000" y="4608720"/>
              <a:ext cx="8784720" cy="1871280"/>
              <a:chOff x="324000" y="4608720"/>
              <a:chExt cx="8784720" cy="187128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rcRect l="9191" t="48951" r="7955" b="0"/>
              <a:stretch/>
            </p:blipFill>
            <p:spPr>
              <a:xfrm>
                <a:off x="4915080" y="4608720"/>
                <a:ext cx="4193640" cy="187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" name=""/>
              <p:cNvGrpSpPr/>
              <p:nvPr/>
            </p:nvGrpSpPr>
            <p:grpSpPr>
              <a:xfrm>
                <a:off x="324000" y="4608720"/>
                <a:ext cx="4658760" cy="1841040"/>
                <a:chOff x="324000" y="4608720"/>
                <a:chExt cx="4658760" cy="1841040"/>
              </a:xfrm>
            </p:grpSpPr>
            <p:pic>
              <p:nvPicPr>
                <p:cNvPr id="116" name="" descr=""/>
                <p:cNvPicPr/>
                <p:nvPr/>
              </p:nvPicPr>
              <p:blipFill>
                <a:blip r:embed="rId3"/>
                <a:srcRect l="0" t="12380" r="7955" b="50392"/>
                <a:stretch/>
              </p:blipFill>
              <p:spPr>
                <a:xfrm>
                  <a:off x="324000" y="4608720"/>
                  <a:ext cx="4658760" cy="136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4"/>
                <a:srcRect l="8605" t="87012" r="7955" b="0"/>
                <a:stretch/>
              </p:blipFill>
              <p:spPr>
                <a:xfrm>
                  <a:off x="759240" y="5973480"/>
                  <a:ext cx="422316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18" name="" descr=""/>
            <p:cNvPicPr/>
            <p:nvPr/>
          </p:nvPicPr>
          <p:blipFill>
            <a:blip r:embed="rId5"/>
            <a:srcRect l="13502" t="0" r="15316" b="90711"/>
            <a:stretch/>
          </p:blipFill>
          <p:spPr>
            <a:xfrm>
              <a:off x="2484360" y="6265800"/>
              <a:ext cx="417672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1960560" y="3357720"/>
            <a:ext cx="3068640" cy="26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3&lt;p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&lt;4GeV/c &amp; 1.0&lt;p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ass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&lt;1.5GeV/c 20-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56480" y="3321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8240" y="6095880"/>
            <a:ext cx="5325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associ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rig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rad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066680" y="990720"/>
            <a:ext cx="3962520" cy="2212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rcRect l="8669" t="3160" r="8288" b="0"/>
          <a:stretch/>
        </p:blipFill>
        <p:spPr>
          <a:xfrm>
            <a:off x="5181480" y="206280"/>
            <a:ext cx="3505320" cy="2994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0040" y="228600"/>
            <a:ext cx="2382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t mod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680" y="289548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QM08: STAR, PHEN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68560" y="330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QM04: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523880" y="3809880"/>
            <a:ext cx="7391520" cy="2086200"/>
            <a:chOff x="1523880" y="3809880"/>
            <a:chExt cx="7391520" cy="2086200"/>
          </a:xfrm>
        </p:grpSpPr>
        <p:grpSp>
          <p:nvGrpSpPr>
            <p:cNvPr id="128" name=""/>
            <p:cNvGrpSpPr/>
            <p:nvPr/>
          </p:nvGrpSpPr>
          <p:grpSpPr>
            <a:xfrm>
              <a:off x="1523880" y="3809880"/>
              <a:ext cx="7162920" cy="654120"/>
              <a:chOff x="1523880" y="3809880"/>
              <a:chExt cx="7162920" cy="654120"/>
            </a:xfrm>
          </p:grpSpPr>
          <p:sp>
            <p:nvSpPr>
              <p:cNvPr id="129" name=""/>
              <p:cNvSpPr/>
              <p:nvPr/>
            </p:nvSpPr>
            <p:spPr>
              <a:xfrm>
                <a:off x="1523880" y="4343400"/>
                <a:ext cx="71629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23880" y="3886200"/>
                <a:ext cx="3353040" cy="4572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00200" y="38098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71800" y="396252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19720" y="419112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15000" y="42354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86600" y="421956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458200" y="420696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600200" y="5410080"/>
              <a:ext cx="7315200" cy="486000"/>
              <a:chOff x="1600200" y="5410080"/>
              <a:chExt cx="7315200" cy="486000"/>
            </a:xfrm>
          </p:grpSpPr>
          <p:sp>
            <p:nvSpPr>
              <p:cNvPr id="138" name=""/>
              <p:cNvSpPr/>
              <p:nvPr/>
            </p:nvSpPr>
            <p:spPr>
              <a:xfrm>
                <a:off x="1600200" y="5791320"/>
                <a:ext cx="731520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00200" y="5486400"/>
                <a:ext cx="3352680" cy="3049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38840" y="56674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10440" y="565164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582040" y="56386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76520" y="54100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63960" y="55306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79840" y="565452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1371600" y="4114800"/>
            <a:ext cx="7635960" cy="1584360"/>
            <a:chOff x="1371600" y="4114800"/>
            <a:chExt cx="7635960" cy="1584360"/>
          </a:xfrm>
        </p:grpSpPr>
        <p:grpSp>
          <p:nvGrpSpPr>
            <p:cNvPr id="147" name=""/>
            <p:cNvGrpSpPr/>
            <p:nvPr/>
          </p:nvGrpSpPr>
          <p:grpSpPr>
            <a:xfrm>
              <a:off x="1371600" y="4114800"/>
              <a:ext cx="7543800" cy="304920"/>
              <a:chOff x="1371600" y="4114800"/>
              <a:chExt cx="75438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1371600" y="4270320"/>
                <a:ext cx="754380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0228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05920" y="4114800"/>
                <a:ext cx="60948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1808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5908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9072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0004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463760" y="5394240"/>
              <a:ext cx="7543800" cy="304920"/>
              <a:chOff x="1463760" y="5394240"/>
              <a:chExt cx="7543800" cy="304920"/>
            </a:xfrm>
          </p:grpSpPr>
          <p:sp>
            <p:nvSpPr>
              <p:cNvPr id="156" name=""/>
              <p:cNvSpPr/>
              <p:nvPr/>
            </p:nvSpPr>
            <p:spPr>
              <a:xfrm>
                <a:off x="1463760" y="5549760"/>
                <a:ext cx="754380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9444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98080" y="5394240"/>
                <a:ext cx="60948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1024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5124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8288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9220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739520" y="374400"/>
            <a:ext cx="2540880" cy="2517840"/>
            <a:chOff x="1739520" y="374400"/>
            <a:chExt cx="2540880" cy="2517840"/>
          </a:xfrm>
        </p:grpSpPr>
        <p:grpSp>
          <p:nvGrpSpPr>
            <p:cNvPr id="164" name=""/>
            <p:cNvGrpSpPr/>
            <p:nvPr/>
          </p:nvGrpSpPr>
          <p:grpSpPr>
            <a:xfrm>
              <a:off x="1739520" y="374400"/>
              <a:ext cx="2465280" cy="2501640"/>
              <a:chOff x="1739520" y="374400"/>
              <a:chExt cx="2465280" cy="2501640"/>
            </a:xfrm>
          </p:grpSpPr>
          <p:sp>
            <p:nvSpPr>
              <p:cNvPr id="165" name=""/>
              <p:cNvSpPr/>
              <p:nvPr/>
            </p:nvSpPr>
            <p:spPr>
              <a:xfrm flipH="1" flipV="1">
                <a:off x="2821680" y="902520"/>
                <a:ext cx="219600" cy="3758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3076920" y="374400"/>
                <a:ext cx="118440" cy="955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076560" y="666360"/>
                <a:ext cx="387360" cy="6624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053880" y="1140120"/>
                <a:ext cx="13680" cy="85320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359440" y="2291400"/>
                <a:ext cx="187560" cy="344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1739520" y="2235240"/>
                <a:ext cx="829440" cy="307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>
                <a:off x="1832760" y="2193840"/>
                <a:ext cx="735120" cy="424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420640" y="1973520"/>
                <a:ext cx="692640" cy="3510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3575520" y="2299320"/>
                <a:ext cx="629280" cy="1886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15760" y="2311200"/>
                <a:ext cx="680400" cy="5648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14320" y="2310120"/>
                <a:ext cx="115200" cy="4766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15720" y="1970280"/>
                <a:ext cx="650520" cy="42444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300000">
                <a:off x="2854080" y="1812600"/>
                <a:ext cx="380880" cy="3812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057400" y="1947960"/>
              <a:ext cx="844560" cy="738000"/>
              <a:chOff x="2057400" y="1947960"/>
              <a:chExt cx="844560" cy="738000"/>
            </a:xfrm>
          </p:grpSpPr>
          <p:sp>
            <p:nvSpPr>
              <p:cNvPr id="179" name=""/>
              <p:cNvSpPr/>
              <p:nvPr/>
            </p:nvSpPr>
            <p:spPr>
              <a:xfrm>
                <a:off x="2633760" y="1947960"/>
                <a:ext cx="268200" cy="42552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68440" y="1981080"/>
                <a:ext cx="298440" cy="62244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57400" y="1981080"/>
                <a:ext cx="374760" cy="70488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228480" y="2123280"/>
              <a:ext cx="1051920" cy="768960"/>
              <a:chOff x="3228480" y="2123280"/>
              <a:chExt cx="1051920" cy="768960"/>
            </a:xfrm>
          </p:grpSpPr>
          <p:sp>
            <p:nvSpPr>
              <p:cNvPr id="183" name=""/>
              <p:cNvSpPr/>
              <p:nvPr/>
            </p:nvSpPr>
            <p:spPr>
              <a:xfrm rot="15000000">
                <a:off x="3340080" y="2108880"/>
                <a:ext cx="268200" cy="42552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5000000">
                <a:off x="3548160" y="2149920"/>
                <a:ext cx="298440" cy="62208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5000000">
                <a:off x="3697560" y="2243160"/>
                <a:ext cx="374760" cy="70488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12160" y="1159920"/>
            <a:ext cx="2960280" cy="1650600"/>
            <a:chOff x="1712160" y="1159920"/>
            <a:chExt cx="2960280" cy="1650600"/>
          </a:xfrm>
        </p:grpSpPr>
        <p:grpSp>
          <p:nvGrpSpPr>
            <p:cNvPr id="187" name=""/>
            <p:cNvGrpSpPr/>
            <p:nvPr/>
          </p:nvGrpSpPr>
          <p:grpSpPr>
            <a:xfrm>
              <a:off x="3055320" y="1764720"/>
              <a:ext cx="1617120" cy="640800"/>
              <a:chOff x="3055320" y="1764720"/>
              <a:chExt cx="1617120" cy="64080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3770280" y="1764720"/>
                <a:ext cx="376200" cy="2199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717000" y="2020320"/>
                <a:ext cx="955440" cy="1184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18440" y="2018520"/>
                <a:ext cx="663120" cy="3870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55320" y="1997640"/>
                <a:ext cx="853200" cy="1404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829520" y="1159920"/>
              <a:ext cx="1318320" cy="934560"/>
              <a:chOff x="1829520" y="1159920"/>
              <a:chExt cx="1318320" cy="934560"/>
            </a:xfrm>
          </p:grpSpPr>
          <p:sp>
            <p:nvSpPr>
              <p:cNvPr id="193" name=""/>
              <p:cNvSpPr/>
              <p:nvPr/>
            </p:nvSpPr>
            <p:spPr>
              <a:xfrm flipH="1">
                <a:off x="2156400" y="1770840"/>
                <a:ext cx="384120" cy="777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>
                <a:off x="1829520" y="1313640"/>
                <a:ext cx="768240" cy="43812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2154960" y="1159920"/>
                <a:ext cx="439560" cy="5904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2433600" y="1695960"/>
                <a:ext cx="714240" cy="3045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925280" y="1195560"/>
                <a:ext cx="1108440" cy="898920"/>
                <a:chOff x="1925280" y="1195560"/>
                <a:chExt cx="1108440" cy="898920"/>
              </a:xfrm>
            </p:grpSpPr>
            <p:sp>
              <p:nvSpPr>
                <p:cNvPr id="198" name=""/>
                <p:cNvSpPr/>
                <p:nvPr/>
              </p:nvSpPr>
              <p:spPr>
                <a:xfrm rot="3000000">
                  <a:off x="2650320" y="1642320"/>
                  <a:ext cx="268200" cy="425520"/>
                </a:xfrm>
                <a:custGeom>
                  <a:avLst/>
                  <a:gdLst/>
                  <a:ahLst/>
                  <a:rect l="l" t="t" r="r" b="b"/>
                  <a:pathLst>
                    <a:path w="169" h="268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6" y="210"/>
                        <a:pt x="57" y="232"/>
                      </a:cubicBezTo>
                      <a:cubicBezTo>
                        <a:pt x="68" y="254"/>
                        <a:pt x="150" y="262"/>
                        <a:pt x="169" y="268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3000000">
                  <a:off x="2373840" y="1436400"/>
                  <a:ext cx="298440" cy="622440"/>
                </a:xfrm>
                <a:custGeom>
                  <a:avLst/>
                  <a:gdLst/>
                  <a:ahLst/>
                  <a:rect l="l" t="t" r="r" b="b"/>
                  <a:pathLst>
                    <a:path w="188" h="392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61"/>
                        <a:pt x="177" y="288"/>
                      </a:cubicBezTo>
                      <a:cubicBezTo>
                        <a:pt x="188" y="315"/>
                        <a:pt x="136" y="370"/>
                        <a:pt x="125" y="392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3000000">
                  <a:off x="2128320" y="1213200"/>
                  <a:ext cx="374760" cy="704880"/>
                </a:xfrm>
                <a:custGeom>
                  <a:avLst/>
                  <a:gdLst/>
                  <a:ahLst/>
                  <a:rect l="l" t="t" r="r" b="b"/>
                  <a:pathLst>
                    <a:path w="236" h="444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59"/>
                        <a:pt x="177" y="288"/>
                      </a:cubicBezTo>
                      <a:cubicBezTo>
                        <a:pt x="188" y="317"/>
                        <a:pt x="114" y="378"/>
                        <a:pt x="124" y="404"/>
                      </a:cubicBezTo>
                      <a:cubicBezTo>
                        <a:pt x="134" y="430"/>
                        <a:pt x="213" y="436"/>
                        <a:pt x="236" y="444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1712160" y="1979640"/>
              <a:ext cx="1374480" cy="830880"/>
              <a:chOff x="1712160" y="1979640"/>
              <a:chExt cx="1374480" cy="83088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044080" y="2310120"/>
                <a:ext cx="477360" cy="45072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712160" y="2252520"/>
                <a:ext cx="829440" cy="307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2073960" y="2112120"/>
                <a:ext cx="470520" cy="137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393640" y="1991160"/>
                <a:ext cx="693000" cy="351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1866600" y="1979640"/>
                <a:ext cx="857160" cy="830880"/>
                <a:chOff x="1866600" y="1979640"/>
                <a:chExt cx="857160" cy="830880"/>
              </a:xfrm>
            </p:grpSpPr>
            <p:sp>
              <p:nvSpPr>
                <p:cNvPr id="207" name=""/>
                <p:cNvSpPr/>
                <p:nvPr/>
              </p:nvSpPr>
              <p:spPr>
                <a:xfrm rot="600000">
                  <a:off x="2420280" y="1999440"/>
                  <a:ext cx="268200" cy="425160"/>
                </a:xfrm>
                <a:custGeom>
                  <a:avLst/>
                  <a:gdLst/>
                  <a:ahLst/>
                  <a:rect l="l" t="t" r="r" b="b"/>
                  <a:pathLst>
                    <a:path w="169" h="268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6" y="210"/>
                        <a:pt x="57" y="232"/>
                      </a:cubicBezTo>
                      <a:cubicBezTo>
                        <a:pt x="68" y="254"/>
                        <a:pt x="150" y="262"/>
                        <a:pt x="169" y="268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600000">
                  <a:off x="2173320" y="2025000"/>
                  <a:ext cx="298440" cy="621720"/>
                </a:xfrm>
                <a:custGeom>
                  <a:avLst/>
                  <a:gdLst/>
                  <a:ahLst/>
                  <a:rect l="l" t="t" r="r" b="b"/>
                  <a:pathLst>
                    <a:path w="188" h="392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61"/>
                        <a:pt x="177" y="288"/>
                      </a:cubicBezTo>
                      <a:cubicBezTo>
                        <a:pt x="188" y="315"/>
                        <a:pt x="136" y="370"/>
                        <a:pt x="125" y="392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600000">
                  <a:off x="1924920" y="2078640"/>
                  <a:ext cx="374760" cy="704520"/>
                </a:xfrm>
                <a:custGeom>
                  <a:avLst/>
                  <a:gdLst/>
                  <a:ahLst/>
                  <a:rect l="l" t="t" r="r" b="b"/>
                  <a:pathLst>
                    <a:path w="236" h="444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59"/>
                        <a:pt x="177" y="288"/>
                      </a:cubicBezTo>
                      <a:cubicBezTo>
                        <a:pt x="188" y="317"/>
                        <a:pt x="114" y="378"/>
                        <a:pt x="124" y="404"/>
                      </a:cubicBezTo>
                      <a:cubicBezTo>
                        <a:pt x="134" y="430"/>
                        <a:pt x="213" y="436"/>
                        <a:pt x="236" y="444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 rot="5700000">
              <a:off x="2854080" y="1797840"/>
              <a:ext cx="380880" cy="380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473120" y="672480"/>
            <a:ext cx="3224160" cy="2540520"/>
            <a:chOff x="1473120" y="672480"/>
            <a:chExt cx="3224160" cy="2540520"/>
          </a:xfrm>
        </p:grpSpPr>
        <p:grpSp>
          <p:nvGrpSpPr>
            <p:cNvPr id="212" name=""/>
            <p:cNvGrpSpPr/>
            <p:nvPr/>
          </p:nvGrpSpPr>
          <p:grpSpPr>
            <a:xfrm>
              <a:off x="1473120" y="1562400"/>
              <a:ext cx="1618920" cy="642240"/>
              <a:chOff x="1473120" y="1562400"/>
              <a:chExt cx="1618920" cy="642240"/>
            </a:xfrm>
          </p:grpSpPr>
          <p:sp>
            <p:nvSpPr>
              <p:cNvPr id="213" name=""/>
              <p:cNvSpPr/>
              <p:nvPr/>
            </p:nvSpPr>
            <p:spPr>
              <a:xfrm flipH="1">
                <a:off x="2000520" y="1985040"/>
                <a:ext cx="376200" cy="21960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1473120" y="1829880"/>
                <a:ext cx="955440" cy="118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1764000" y="1562400"/>
                <a:ext cx="663120" cy="387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2238840" y="1959120"/>
                <a:ext cx="853200" cy="14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195640" y="672480"/>
              <a:ext cx="2501640" cy="2465280"/>
              <a:chOff x="2195640" y="672480"/>
              <a:chExt cx="2501640" cy="246528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3793320" y="1754640"/>
                <a:ext cx="375840" cy="2196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742200" y="2009880"/>
                <a:ext cx="955080" cy="1184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42920" y="2009520"/>
                <a:ext cx="662400" cy="387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078360" y="1986840"/>
                <a:ext cx="853200" cy="1368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2436120" y="1292400"/>
                <a:ext cx="344160" cy="1875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flipV="1">
                <a:off x="2529360" y="672480"/>
                <a:ext cx="307080" cy="8294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835360" y="765720"/>
                <a:ext cx="42480" cy="73512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2747160" y="1353600"/>
                <a:ext cx="351000" cy="69264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2583720" y="2508480"/>
                <a:ext cx="188640" cy="6292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195640" y="2448720"/>
                <a:ext cx="564840" cy="6804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284920" y="2447280"/>
                <a:ext cx="476640" cy="1152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676960" y="1948680"/>
                <a:ext cx="424440" cy="65052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700000">
                <a:off x="2877840" y="1787040"/>
                <a:ext cx="380880" cy="3812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rot="5400000">
              <a:off x="2778840" y="1446840"/>
              <a:ext cx="268200" cy="425520"/>
            </a:xfrm>
            <a:custGeom>
              <a:avLst/>
              <a:gdLst/>
              <a:ahLst/>
              <a:rect l="l" t="t" r="r" b="b"/>
              <a:pathLst>
                <a:path w="169" h="268">
                  <a:moveTo>
                    <a:pt x="53" y="0"/>
                  </a:moveTo>
                  <a:cubicBezTo>
                    <a:pt x="45" y="15"/>
                    <a:pt x="0" y="65"/>
                    <a:pt x="9" y="88"/>
                  </a:cubicBezTo>
                  <a:cubicBezTo>
                    <a:pt x="18" y="111"/>
                    <a:pt x="97" y="112"/>
                    <a:pt x="105" y="136"/>
                  </a:cubicBezTo>
                  <a:cubicBezTo>
                    <a:pt x="113" y="160"/>
                    <a:pt x="46" y="210"/>
                    <a:pt x="57" y="232"/>
                  </a:cubicBezTo>
                  <a:cubicBezTo>
                    <a:pt x="68" y="254"/>
                    <a:pt x="150" y="262"/>
                    <a:pt x="169" y="268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665080" y="1058760"/>
              <a:ext cx="298440" cy="622440"/>
            </a:xfrm>
            <a:custGeom>
              <a:avLst/>
              <a:gdLst/>
              <a:ahLst/>
              <a:rect l="l" t="t" r="r" b="b"/>
              <a:pathLst>
                <a:path w="188" h="392">
                  <a:moveTo>
                    <a:pt x="53" y="0"/>
                  </a:moveTo>
                  <a:cubicBezTo>
                    <a:pt x="45" y="15"/>
                    <a:pt x="0" y="65"/>
                    <a:pt x="9" y="88"/>
                  </a:cubicBezTo>
                  <a:cubicBezTo>
                    <a:pt x="18" y="111"/>
                    <a:pt x="97" y="112"/>
                    <a:pt x="105" y="136"/>
                  </a:cubicBezTo>
                  <a:cubicBezTo>
                    <a:pt x="113" y="160"/>
                    <a:pt x="45" y="207"/>
                    <a:pt x="57" y="232"/>
                  </a:cubicBezTo>
                  <a:cubicBezTo>
                    <a:pt x="69" y="257"/>
                    <a:pt x="166" y="261"/>
                    <a:pt x="177" y="288"/>
                  </a:cubicBezTo>
                  <a:cubicBezTo>
                    <a:pt x="188" y="315"/>
                    <a:pt x="136" y="370"/>
                    <a:pt x="125" y="392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509560" y="750600"/>
              <a:ext cx="374760" cy="704880"/>
            </a:xfrm>
            <a:custGeom>
              <a:avLst/>
              <a:gdLst/>
              <a:ahLst/>
              <a:rect l="l" t="t" r="r" b="b"/>
              <a:pathLst>
                <a:path w="236" h="444">
                  <a:moveTo>
                    <a:pt x="53" y="0"/>
                  </a:moveTo>
                  <a:cubicBezTo>
                    <a:pt x="45" y="15"/>
                    <a:pt x="0" y="65"/>
                    <a:pt x="9" y="88"/>
                  </a:cubicBezTo>
                  <a:cubicBezTo>
                    <a:pt x="18" y="111"/>
                    <a:pt x="97" y="112"/>
                    <a:pt x="105" y="136"/>
                  </a:cubicBezTo>
                  <a:cubicBezTo>
                    <a:pt x="113" y="160"/>
                    <a:pt x="45" y="207"/>
                    <a:pt x="57" y="232"/>
                  </a:cubicBezTo>
                  <a:cubicBezTo>
                    <a:pt x="69" y="257"/>
                    <a:pt x="166" y="259"/>
                    <a:pt x="177" y="288"/>
                  </a:cubicBezTo>
                  <a:cubicBezTo>
                    <a:pt x="188" y="317"/>
                    <a:pt x="114" y="378"/>
                    <a:pt x="124" y="404"/>
                  </a:cubicBezTo>
                  <a:cubicBezTo>
                    <a:pt x="134" y="430"/>
                    <a:pt x="213" y="436"/>
                    <a:pt x="236" y="444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2179800" y="2161800"/>
              <a:ext cx="769320" cy="1051200"/>
              <a:chOff x="2179800" y="2161800"/>
              <a:chExt cx="769320" cy="1051200"/>
            </a:xfrm>
          </p:grpSpPr>
          <p:sp>
            <p:nvSpPr>
              <p:cNvPr id="235" name=""/>
              <p:cNvSpPr/>
              <p:nvPr/>
            </p:nvSpPr>
            <p:spPr>
              <a:xfrm rot="20400000">
                <a:off x="2616120" y="2194560"/>
                <a:ext cx="268200" cy="42516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0400000">
                <a:off x="2461320" y="2319480"/>
                <a:ext cx="298440" cy="62172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20400000">
                <a:off x="2288880" y="2465280"/>
                <a:ext cx="374760" cy="70452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5802480" y="3352680"/>
            <a:ext cx="3121920" cy="54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h-cone shape depends on R.P. ang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Mach-cone is a source of of v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776-16EE-449D-A049-07186E39BA0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5621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rot="2668800">
            <a:off x="1399680" y="3857760"/>
            <a:ext cx="838440" cy="13716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4572000"/>
            <a:ext cx="990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7891800">
            <a:off x="6972480" y="1104840"/>
            <a:ext cx="838080" cy="1371600"/>
          </a:xfrm>
          <a:prstGeom prst="ellips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389000" y="1763280"/>
            <a:ext cx="992520" cy="468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1828800"/>
            <a:ext cx="914400" cy="762120"/>
          </a:xfrm>
          <a:custGeom>
            <a:avLst/>
            <a:gdLst/>
            <a:ahLst/>
            <a:rect l="l" t="t" r="r" b="b"/>
            <a:pathLst>
              <a:path w="720" h="528">
                <a:moveTo>
                  <a:pt x="192" y="0"/>
                </a:moveTo>
                <a:lnTo>
                  <a:pt x="0" y="0"/>
                </a:lnTo>
                <a:lnTo>
                  <a:pt x="192" y="96"/>
                </a:lnTo>
                <a:lnTo>
                  <a:pt x="48" y="240"/>
                </a:lnTo>
                <a:lnTo>
                  <a:pt x="288" y="192"/>
                </a:lnTo>
                <a:lnTo>
                  <a:pt x="240" y="480"/>
                </a:lnTo>
                <a:lnTo>
                  <a:pt x="384" y="336"/>
                </a:lnTo>
                <a:lnTo>
                  <a:pt x="432" y="528"/>
                </a:lnTo>
                <a:lnTo>
                  <a:pt x="576" y="432"/>
                </a:lnTo>
                <a:lnTo>
                  <a:pt x="672" y="528"/>
                </a:lnTo>
                <a:lnTo>
                  <a:pt x="720" y="384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990000" y="3809880"/>
            <a:ext cx="914400" cy="762120"/>
          </a:xfrm>
          <a:custGeom>
            <a:avLst/>
            <a:gdLst/>
            <a:ahLst/>
            <a:rect l="l" t="t" r="r" b="b"/>
            <a:pathLst>
              <a:path w="720" h="528">
                <a:moveTo>
                  <a:pt x="192" y="0"/>
                </a:moveTo>
                <a:lnTo>
                  <a:pt x="0" y="0"/>
                </a:lnTo>
                <a:lnTo>
                  <a:pt x="192" y="96"/>
                </a:lnTo>
                <a:lnTo>
                  <a:pt x="48" y="240"/>
                </a:lnTo>
                <a:lnTo>
                  <a:pt x="288" y="192"/>
                </a:lnTo>
                <a:lnTo>
                  <a:pt x="240" y="480"/>
                </a:lnTo>
                <a:lnTo>
                  <a:pt x="384" y="336"/>
                </a:lnTo>
                <a:lnTo>
                  <a:pt x="432" y="528"/>
                </a:lnTo>
                <a:lnTo>
                  <a:pt x="576" y="432"/>
                </a:lnTo>
                <a:lnTo>
                  <a:pt x="672" y="528"/>
                </a:lnTo>
                <a:lnTo>
                  <a:pt x="720" y="3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2778120"/>
            <a:ext cx="16765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3235320"/>
            <a:ext cx="16765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505320" y="1752480"/>
            <a:ext cx="2235600" cy="2895840"/>
            <a:chOff x="3505320" y="1752480"/>
            <a:chExt cx="2235600" cy="2895840"/>
          </a:xfrm>
        </p:grpSpPr>
        <p:sp>
          <p:nvSpPr>
            <p:cNvPr id="249" name=""/>
            <p:cNvSpPr/>
            <p:nvPr/>
          </p:nvSpPr>
          <p:spPr>
            <a:xfrm>
              <a:off x="3505320" y="1752480"/>
              <a:ext cx="2205360" cy="2895840"/>
            </a:xfrm>
            <a:custGeom>
              <a:avLst/>
              <a:gdLst>
                <a:gd name="textAreaLeft" fmla="*/ 107640 w 2205360"/>
                <a:gd name="textAreaRight" fmla="*/ 2097720 w 2205360"/>
                <a:gd name="textAreaTop" fmla="*/ 107640 h 2895840"/>
                <a:gd name="textAreaBottom" fmla="*/ 2788200 h 2895840"/>
              </a:gdLst>
              <a:ahLst/>
              <a:rect l="textAreaLeft" t="textAreaTop" r="textAreaRight" b="textAreaBottom"/>
              <a:pathLst>
                <a:path w="21600" h="28362">
                  <a:moveTo>
                    <a:pt x="3600" y="0"/>
                  </a:moveTo>
                  <a:arcTo wR="3600" hR="3600" stAng="16200000" swAng="-5400000"/>
                  <a:lnTo>
                    <a:pt x="0" y="24762"/>
                  </a:lnTo>
                  <a:arcTo wR="3600" hR="3600" stAng="10800000" swAng="-5400000"/>
                  <a:lnTo>
                    <a:pt x="18000" y="283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571560" y="1828800"/>
              <a:ext cx="2057400" cy="2763720"/>
              <a:chOff x="3571560" y="1828800"/>
              <a:chExt cx="2057400" cy="27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4211280" y="2582280"/>
                <a:ext cx="799200" cy="1380600"/>
                <a:chOff x="4211280" y="2582280"/>
                <a:chExt cx="799200" cy="13806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211280" y="2582280"/>
                  <a:ext cx="799200" cy="1380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3571560" y="3260160"/>
                <a:ext cx="20574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22760" y="1828800"/>
                <a:ext cx="720" cy="27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3845520" y="2480040"/>
                <a:ext cx="1485720" cy="16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3912840" y="2480040"/>
                <a:ext cx="1487880" cy="16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V="1">
              <a:off x="4730400" y="2361960"/>
              <a:ext cx="24480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893840" y="2895120"/>
              <a:ext cx="57168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4730400" y="3657600"/>
              <a:ext cx="244800" cy="5335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4893840" y="3352320"/>
              <a:ext cx="571680" cy="228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59080" y="26049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66280" y="35193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69120" y="41148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-of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69120" y="1995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-of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6F0-F7F2-4A5D-B2BA-F8C35AFF023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483000" y="469800"/>
            <a:ext cx="4952880" cy="250200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380880" y="838080"/>
            <a:ext cx="2010960" cy="2666880"/>
            <a:chOff x="380880" y="838080"/>
            <a:chExt cx="2010960" cy="2666880"/>
          </a:xfrm>
        </p:grpSpPr>
        <p:grpSp>
          <p:nvGrpSpPr>
            <p:cNvPr id="267" name=""/>
            <p:cNvGrpSpPr/>
            <p:nvPr/>
          </p:nvGrpSpPr>
          <p:grpSpPr>
            <a:xfrm>
              <a:off x="380880" y="838080"/>
              <a:ext cx="2010960" cy="2666880"/>
              <a:chOff x="380880" y="838080"/>
              <a:chExt cx="2010960" cy="266688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1006200" y="1565280"/>
                <a:ext cx="781200" cy="1332000"/>
                <a:chOff x="1006200" y="1565280"/>
                <a:chExt cx="781200" cy="13320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006200" y="1565280"/>
                  <a:ext cx="781200" cy="1332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80880" y="2219400"/>
                <a:ext cx="2010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08320" y="838080"/>
                <a:ext cx="1080" cy="266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648720" y="1466640"/>
                <a:ext cx="1452240" cy="157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714600" y="1466640"/>
                <a:ext cx="1454400" cy="157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043640" y="1297800"/>
              <a:ext cx="757440" cy="18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22360" y="1810800"/>
              <a:ext cx="1799640" cy="82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5920" y="1811160"/>
              <a:ext cx="1892880" cy="82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043640" y="1194120"/>
              <a:ext cx="757440" cy="20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12640" y="30182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08200" y="28134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72360" y="25549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44720" y="22464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44720" y="19414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72360" y="16657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08200" y="13896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12640" y="12056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9200" y="12056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1080" y="13896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9000" y="16657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3320" y="19414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3320" y="22176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9000" y="24933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1080" y="28134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69200" y="30182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90720" y="3819600"/>
            <a:ext cx="243828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hape(1) = f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shape(2) = f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shape(3) = f</a:t>
            </a:r>
            <a:r>
              <a:rPr b="0" lang="ja-JP" sz="16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shape(4) = f</a:t>
            </a:r>
            <a:r>
              <a:rPr b="0" lang="ja-JP" sz="16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shape(5) = f</a:t>
            </a:r>
            <a:r>
              <a:rPr b="0" lang="ja-JP" sz="16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(x) =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ja-JP" sz="16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shape(6) = f</a:t>
            </a:r>
            <a:r>
              <a:rPr b="0" lang="ja-JP" sz="1600" spc="-1" strike="noStrike" baseline="-25000">
                <a:solidFill>
                  <a:srgbClr val="00ff00"/>
                </a:solidFill>
                <a:latin typeface="Arial"/>
              </a:rPr>
              <a:t>6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(x) =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ja-JP" sz="16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shape(7) = f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Arial"/>
              </a:rPr>
              <a:t>7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(x) =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hape(8) = f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x) = f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-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98400" y="1295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746120" y="112716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17520" y="91440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ff00"/>
                </a:solidFill>
                <a:latin typeface="Times New Roman"/>
              </a:rPr>
              <a:t>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3640" y="76212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ff"/>
                </a:solidFill>
                <a:latin typeface="Times New Roman"/>
              </a:rPr>
              <a:t>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9440" y="76212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ff"/>
                </a:solidFill>
                <a:latin typeface="Times New Roman"/>
              </a:rPr>
              <a:t>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25200" y="91440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ff00"/>
                </a:solidFill>
                <a:latin typeface="Times New Roman"/>
              </a:rPr>
              <a:t>(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9600" y="112716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Times New Roman"/>
              </a:rPr>
              <a:t>(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17320" y="1295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905120" y="7617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91680" y="473040"/>
            <a:ext cx="85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rigger 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part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1295280"/>
            <a:ext cx="380880" cy="609840"/>
          </a:xfrm>
          <a:custGeom>
            <a:avLst/>
            <a:gdLst/>
            <a:ahLst/>
            <a:rect l="l" t="t" r="r" b="b"/>
            <a:pathLst>
              <a:path w="240" h="432">
                <a:moveTo>
                  <a:pt x="0" y="0"/>
                </a:moveTo>
                <a:cubicBezTo>
                  <a:pt x="52" y="36"/>
                  <a:pt x="104" y="72"/>
                  <a:pt x="144" y="144"/>
                </a:cubicBezTo>
                <a:cubicBezTo>
                  <a:pt x="184" y="216"/>
                  <a:pt x="212" y="324"/>
                  <a:pt x="240" y="432"/>
                </a:cubicBez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914400"/>
            <a:ext cx="685800" cy="22860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432" y="112"/>
                </a:moveTo>
                <a:cubicBezTo>
                  <a:pt x="372" y="72"/>
                  <a:pt x="312" y="32"/>
                  <a:pt x="240" y="16"/>
                </a:cubicBezTo>
                <a:cubicBezTo>
                  <a:pt x="168" y="0"/>
                  <a:pt x="84" y="8"/>
                  <a:pt x="0" y="16"/>
                </a:cubicBez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4177200">
            <a:off x="1958040" y="18072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Symbol"/>
                <a:ea typeface="Symbol"/>
              </a:rPr>
              <a:t></a:t>
            </a:r>
            <a:r>
              <a:rPr b="1" lang="en-US" sz="1400" spc="-1" strike="noStrike" baseline="-25000">
                <a:solidFill>
                  <a:srgbClr val="800080"/>
                </a:solidFill>
                <a:latin typeface="Arial"/>
              </a:rPr>
              <a:t>ASSO </a:t>
            </a:r>
            <a:r>
              <a:rPr b="1" lang="en-US" sz="1400" spc="-1" strike="noStrike">
                <a:solidFill>
                  <a:srgbClr val="800080"/>
                </a:solidFill>
                <a:latin typeface="Symbol"/>
                <a:ea typeface="Symbol"/>
              </a:rPr>
              <a:t></a:t>
            </a:r>
            <a:r>
              <a:rPr b="1" lang="en-US" sz="1400" spc="-1" strike="noStrike" baseline="-25000">
                <a:solidFill>
                  <a:srgbClr val="800080"/>
                </a:solidFill>
                <a:latin typeface="Arial"/>
              </a:rPr>
              <a:t>TRIG </a:t>
            </a:r>
            <a:r>
              <a:rPr b="1" lang="en-US" sz="1400" spc="-1" strike="noStrike">
                <a:solidFill>
                  <a:srgbClr val="800080"/>
                </a:solidFill>
                <a:latin typeface="Arial"/>
              </a:rPr>
              <a:t>)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1360" y="53352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Symbol"/>
                <a:ea typeface="Symbol"/>
              </a:rPr>
              <a:t></a:t>
            </a:r>
            <a:r>
              <a:rPr b="1" lang="en-US" sz="1400" spc="-1" strike="noStrike" baseline="-25000">
                <a:solidFill>
                  <a:srgbClr val="800080"/>
                </a:solidFill>
                <a:latin typeface="Arial"/>
              </a:rPr>
              <a:t>ASSO </a:t>
            </a:r>
            <a:r>
              <a:rPr b="1" lang="en-US" sz="1400" spc="-1" strike="noStrike">
                <a:solidFill>
                  <a:srgbClr val="800080"/>
                </a:solidFill>
                <a:latin typeface="Symbol"/>
                <a:ea typeface="Symbol"/>
              </a:rPr>
              <a:t></a:t>
            </a:r>
            <a:r>
              <a:rPr b="1" lang="en-US" sz="1400" spc="-1" strike="noStrike" baseline="-25000">
                <a:solidFill>
                  <a:srgbClr val="800080"/>
                </a:solidFill>
                <a:latin typeface="Arial"/>
              </a:rPr>
              <a:t>TRIG </a:t>
            </a:r>
            <a:r>
              <a:rPr b="1" lang="en-US" sz="1400" spc="-1" strike="noStrike">
                <a:solidFill>
                  <a:srgbClr val="800080"/>
                </a:solidFill>
                <a:latin typeface="Arial"/>
              </a:rPr>
              <a:t>) &g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304812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657600" y="3468600"/>
            <a:ext cx="4635360" cy="2475000"/>
            <a:chOff x="3657600" y="3468600"/>
            <a:chExt cx="4635360" cy="2475000"/>
          </a:xfrm>
        </p:grpSpPr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3657600" y="3468600"/>
              <a:ext cx="46353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877640" y="42829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25000" y="41148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96400" y="39020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ff00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42520" y="37497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ff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618080" y="152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601992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657600" y="3505320"/>
            <a:ext cx="4644720" cy="2474640"/>
            <a:chOff x="3657600" y="3505320"/>
            <a:chExt cx="4644720" cy="2474640"/>
          </a:xfrm>
        </p:grpSpPr>
        <p:pic>
          <p:nvPicPr>
            <p:cNvPr id="319" name="" descr=""/>
            <p:cNvPicPr/>
            <p:nvPr/>
          </p:nvPicPr>
          <p:blipFill>
            <a:blip r:embed="rId3"/>
            <a:stretch/>
          </p:blipFill>
          <p:spPr>
            <a:xfrm>
              <a:off x="3657600" y="3505320"/>
              <a:ext cx="4644720" cy="24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657200" y="37339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02960" y="38862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ff00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47360" y="40989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95080" y="42670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B97-92C0-45A9-BA19-5D937FB32D0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153280" cy="1641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447920" y="76320"/>
            <a:ext cx="2741760" cy="2209680"/>
            <a:chOff x="1447920" y="76320"/>
            <a:chExt cx="2741760" cy="2209680"/>
          </a:xfrm>
        </p:grpSpPr>
        <p:grpSp>
          <p:nvGrpSpPr>
            <p:cNvPr id="327" name=""/>
            <p:cNvGrpSpPr/>
            <p:nvPr/>
          </p:nvGrpSpPr>
          <p:grpSpPr>
            <a:xfrm>
              <a:off x="1676520" y="76320"/>
              <a:ext cx="1782720" cy="2209680"/>
              <a:chOff x="1676520" y="76320"/>
              <a:chExt cx="1782720" cy="220968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676520" y="76320"/>
                <a:ext cx="1782720" cy="2209680"/>
                <a:chOff x="1676520" y="76320"/>
                <a:chExt cx="1782720" cy="220968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2230920" y="678600"/>
                  <a:ext cx="692640" cy="1103760"/>
                  <a:chOff x="2230920" y="678600"/>
                  <a:chExt cx="692640" cy="11037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2230920" y="678600"/>
                    <a:ext cx="692640" cy="1103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1676520" y="1220760"/>
                  <a:ext cx="17827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587320" y="76320"/>
                  <a:ext cx="720" cy="220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14120" y="597240"/>
                  <a:ext cx="1287360" cy="130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>
                  <a:off x="1972080" y="597240"/>
                  <a:ext cx="1289160" cy="130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2264040" y="457200"/>
                <a:ext cx="671400" cy="15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1802160" y="882720"/>
                <a:ext cx="159516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60760" y="882720"/>
                <a:ext cx="167796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263680" y="371520"/>
                <a:ext cx="671400" cy="165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91640" y="1882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ff66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853720" y="1712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66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98080" y="14986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99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63240" y="12430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66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063240" y="99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66ff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98080" y="762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ccff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853720" y="533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ffcc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91640" y="380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ff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287080" y="380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ff66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058480" y="533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66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905840" y="762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99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29880" y="99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66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29880" y="1219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66ff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905840" y="14479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ccff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58480" y="1712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ffcc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7080" y="1882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ff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1447920" y="121896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65000" y="91440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19304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66ff"/>
                </a:solidFill>
                <a:latin typeface="Times New Roman"/>
              </a:rPr>
              <a:t>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2460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66"/>
                </a:solidFill>
                <a:latin typeface="Times New Roman"/>
              </a:rPr>
              <a:t>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658320" y="249876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999999"/>
                </a:solidFill>
                <a:latin typeface="Times New Roman"/>
              </a:rPr>
              <a:t>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50440" y="249876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Times New Roman"/>
              </a:rPr>
              <a:t>(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2040" y="25750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cc66"/>
                </a:solidFill>
                <a:latin typeface="Times New Roman"/>
              </a:rPr>
              <a:t>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83800" y="25750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66ffcc"/>
                </a:solidFill>
                <a:latin typeface="Times New Roman"/>
              </a:rPr>
              <a:t>(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468200" y="25750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Times New Roman"/>
              </a:rPr>
              <a:t>(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25400" y="25750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ccff66"/>
                </a:solidFill>
                <a:latin typeface="Times New Roman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-821880" y="378072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particle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30000" y="24444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rigger angle se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mong (1) - (8) reg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617220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428080" y="749160"/>
            <a:ext cx="3342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 two different ways of mix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top: r.p. random, bottom: r.p. align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 flow sub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two components flow+jet mod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ith inclusive flow measure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ith zyam-like normaliza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8120" y="40384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00880" y="40384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05120" y="4191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33520" y="4384800"/>
            <a:ext cx="8153280" cy="163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9FB-9CA9-41A2-ADBB-A4002EF0AB9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33520" y="4363920"/>
            <a:ext cx="8229600" cy="1656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33520" y="2324160"/>
            <a:ext cx="8153280" cy="1638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0584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66ff"/>
                </a:solidFill>
                <a:latin typeface="Times New Roman"/>
              </a:rPr>
              <a:t>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7724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66"/>
                </a:solidFill>
                <a:latin typeface="Times New Roman"/>
              </a:rPr>
              <a:t>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10600" y="242244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999999"/>
                </a:solidFill>
                <a:latin typeface="Times New Roman"/>
              </a:rPr>
              <a:t>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39200" y="242244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Times New Roman"/>
              </a:rPr>
              <a:t>(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1732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cc66"/>
                </a:solidFill>
                <a:latin typeface="Times New Roman"/>
              </a:rPr>
              <a:t>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4592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66ffcc"/>
                </a:solidFill>
                <a:latin typeface="Times New Roman"/>
              </a:rPr>
              <a:t>(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23032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Times New Roman"/>
              </a:rPr>
              <a:t>(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97472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ccff66"/>
                </a:solidFill>
                <a:latin typeface="Times New Roman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0560" y="455616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66ff"/>
                </a:solidFill>
                <a:latin typeface="Times New Roman"/>
              </a:rPr>
              <a:t>(4) +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734280" y="454032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Times New Roman"/>
              </a:rPr>
              <a:t>(3) + (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7640" y="455616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66ffcc"/>
                </a:solidFill>
                <a:latin typeface="Times New Roman"/>
              </a:rPr>
              <a:t>(2) + (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001360" y="455616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Times New Roman"/>
              </a:rPr>
              <a:t>(1) + (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447920" y="76320"/>
            <a:ext cx="2741760" cy="2209680"/>
            <a:chOff x="1447920" y="76320"/>
            <a:chExt cx="2741760" cy="2209680"/>
          </a:xfrm>
        </p:grpSpPr>
        <p:grpSp>
          <p:nvGrpSpPr>
            <p:cNvPr id="389" name=""/>
            <p:cNvGrpSpPr/>
            <p:nvPr/>
          </p:nvGrpSpPr>
          <p:grpSpPr>
            <a:xfrm>
              <a:off x="1676520" y="76320"/>
              <a:ext cx="1782720" cy="2209680"/>
              <a:chOff x="1676520" y="76320"/>
              <a:chExt cx="1782720" cy="220968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676520" y="76320"/>
                <a:ext cx="1782720" cy="2209680"/>
                <a:chOff x="1676520" y="76320"/>
                <a:chExt cx="1782720" cy="220968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2230920" y="678600"/>
                  <a:ext cx="692640" cy="1103760"/>
                  <a:chOff x="2230920" y="678600"/>
                  <a:chExt cx="692640" cy="11037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2230920" y="678600"/>
                    <a:ext cx="692640" cy="1103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3" name=""/>
                <p:cNvSpPr/>
                <p:nvPr/>
              </p:nvSpPr>
              <p:spPr>
                <a:xfrm>
                  <a:off x="1676520" y="1220760"/>
                  <a:ext cx="17827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587320" y="76320"/>
                  <a:ext cx="720" cy="220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1914120" y="597240"/>
                  <a:ext cx="1287360" cy="130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>
                  <a:off x="1972080" y="597240"/>
                  <a:ext cx="1289160" cy="130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2264040" y="457200"/>
                <a:ext cx="671400" cy="15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1802160" y="882720"/>
                <a:ext cx="159516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60760" y="882720"/>
                <a:ext cx="167796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263680" y="371520"/>
                <a:ext cx="671400" cy="165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591640" y="1882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ff66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853720" y="1712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66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98080" y="14986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99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063240" y="12430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66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063240" y="99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66ff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98080" y="762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ccff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53720" y="533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ffcc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591640" y="380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ff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87080" y="380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ff66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058480" y="533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66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05840" y="762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99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29880" y="99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66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829880" y="1219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66ff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05840" y="14479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ccff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58480" y="1712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ffcc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7080" y="1882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ff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1447920" y="121896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65000" y="91440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809880" y="617220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30000" y="24444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rigger angle se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mong (1) - (8) reg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72120" y="838080"/>
            <a:ext cx="3463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op : left-right separated trigger w.r.t. 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ottom : left-right non-sepa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e : average of all (1) -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ith experimental E.P. resolution ~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68120" y="40384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00880" y="40384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05120" y="4191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-959400" y="386568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-subtracted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C4E-A39D-4752-BB21-A4C5A513C48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533520" y="4344840"/>
            <a:ext cx="8229600" cy="1675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68440" y="2305080"/>
            <a:ext cx="8118360" cy="1657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0584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66ff"/>
                </a:solidFill>
                <a:latin typeface="Times New Roman"/>
              </a:rPr>
              <a:t>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7724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66"/>
                </a:solidFill>
                <a:latin typeface="Times New Roman"/>
              </a:rPr>
              <a:t>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10600" y="242244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999999"/>
                </a:solidFill>
                <a:latin typeface="Times New Roman"/>
              </a:rPr>
              <a:t>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39200" y="242244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Times New Roman"/>
              </a:rPr>
              <a:t>(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1732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cc66"/>
                </a:solidFill>
                <a:latin typeface="Times New Roman"/>
              </a:rPr>
              <a:t>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4592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66ffcc"/>
                </a:solidFill>
                <a:latin typeface="Times New Roman"/>
              </a:rPr>
              <a:t>(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23032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Times New Roman"/>
              </a:rPr>
              <a:t>(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974720" y="2438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ccff66"/>
                </a:solidFill>
                <a:latin typeface="Times New Roman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00560" y="455616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66ff"/>
                </a:solidFill>
                <a:latin typeface="Times New Roman"/>
              </a:rPr>
              <a:t>(4) +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34280" y="454032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Times New Roman"/>
              </a:rPr>
              <a:t>(3) + (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640" y="455616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66ffcc"/>
                </a:solidFill>
                <a:latin typeface="Times New Roman"/>
              </a:rPr>
              <a:t>(2) + (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01360" y="455616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Times New Roman"/>
              </a:rPr>
              <a:t>(1) + (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447920" y="76320"/>
            <a:ext cx="2741760" cy="2209680"/>
            <a:chOff x="1447920" y="76320"/>
            <a:chExt cx="2741760" cy="2209680"/>
          </a:xfrm>
        </p:grpSpPr>
        <p:grpSp>
          <p:nvGrpSpPr>
            <p:cNvPr id="442" name=""/>
            <p:cNvGrpSpPr/>
            <p:nvPr/>
          </p:nvGrpSpPr>
          <p:grpSpPr>
            <a:xfrm>
              <a:off x="1676520" y="76320"/>
              <a:ext cx="1782720" cy="2209680"/>
              <a:chOff x="1676520" y="76320"/>
              <a:chExt cx="1782720" cy="220968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1676520" y="76320"/>
                <a:ext cx="1782720" cy="2209680"/>
                <a:chOff x="1676520" y="76320"/>
                <a:chExt cx="1782720" cy="220968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2230920" y="678600"/>
                  <a:ext cx="692640" cy="1103760"/>
                  <a:chOff x="2230920" y="678600"/>
                  <a:chExt cx="692640" cy="110376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2230920" y="678600"/>
                    <a:ext cx="692640" cy="1103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6" name=""/>
                <p:cNvSpPr/>
                <p:nvPr/>
              </p:nvSpPr>
              <p:spPr>
                <a:xfrm>
                  <a:off x="1676520" y="1220760"/>
                  <a:ext cx="17827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587320" y="76320"/>
                  <a:ext cx="720" cy="220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1914120" y="597240"/>
                  <a:ext cx="1287360" cy="130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flipV="1">
                  <a:off x="1972080" y="597240"/>
                  <a:ext cx="1289160" cy="130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2264040" y="457200"/>
                <a:ext cx="671400" cy="15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1802160" y="882720"/>
                <a:ext cx="159516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60760" y="882720"/>
                <a:ext cx="167796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2263680" y="371520"/>
                <a:ext cx="671400" cy="165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591640" y="1882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ff66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853720" y="1712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66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98080" y="14986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99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3240" y="12430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66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3240" y="99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66ff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98080" y="762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ccff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53720" y="533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ffcc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91640" y="380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ff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7080" y="380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ff66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058480" y="533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66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05840" y="762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99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829880" y="990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66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829880" y="1219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66ff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905840" y="14479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ccff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058480" y="1712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ffcc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287080" y="1882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ff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1447920" y="121896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65000" y="91440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 rot="16200000">
            <a:off x="-959400" y="386712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-subtracted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09880" y="617220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30000" y="24444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rigger angle se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mong (1) - (8) reg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68120" y="40384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00880" y="40384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05120" y="4191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72120" y="838080"/>
            <a:ext cx="3463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op : left-right separated trigger w.r.t. 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ottom : left-right non-sepa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e : average of all (1) -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with true R.P.  (resolution = 1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A18-3244-4964-B7A5-FB5B7F92731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533520" y="636480"/>
            <a:ext cx="8305560" cy="18781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8305560" cy="18748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533520" y="4525920"/>
            <a:ext cx="8315280" cy="18748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92160" y="3808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324560" y="3808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28800" y="5335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-1035360" y="314640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-subtracted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09880" y="640080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19473000">
            <a:off x="2472480" y="3318840"/>
            <a:ext cx="495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no R.P. dependence on je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(This will be a pure non-flow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47C-6BF6-4506-A708-8F42E2C62F0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Feb/2009 High pT Physics, Pragu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3:22:20Z</dcterms:created>
  <dc:creator>Esumi ShinIchi</dc:creator>
  <dc:description/>
  <dc:language>en-US</dc:language>
  <cp:lastModifiedBy>Esumi ShinIchi</cp:lastModifiedBy>
  <dcterms:modified xsi:type="dcterms:W3CDTF">2009-02-06T05:10:53Z</dcterms:modified>
  <cp:revision>22</cp:revision>
  <dc:subject/>
  <dc:title>PowerPoint プレゼンテーション</dc:title>
</cp:coreProperties>
</file>