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4ACA7-076B-461D-B1DF-5757D77F8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7488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4824-ED77-41E2-89D5-CC104EFF691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D7C68A-F802-473B-BA39-6DA488CB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1FA05E-B392-4E04-9CDA-ADB6BCA6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3960" y="1141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7FDFEB-441F-4E63-BEEA-38701B2C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4F0647-2EBA-4C0B-AB76-65CCD155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F471E3-A264-45AE-A7D0-DBB686D4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E986D0-C0B7-42EB-AB4E-33EE57CB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67488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B30872-E837-46C3-87D5-E2C43AF2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CBB858-F189-406C-BD24-8036104D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B589D5-03C7-4574-9A06-04DEE079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C7797B-CC64-4A57-A730-42996947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9F36-9676-49A3-83A9-B463CFC95D1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622E27-8E49-448B-AA46-D7E1A04A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DF2F68-975F-4830-971E-0ED0EF75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593BF7-9365-459C-AE1B-BAD6B34B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354C88-E687-47DD-99C8-6B5BA0BE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3960" y="1141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BA0394-9860-49DB-97F5-F4BDC033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C34DA0-55CC-4C64-9901-DF58826C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B0E3AD-CDCD-40DE-810D-5C5CABB5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C8DF86-40B1-44B0-AF0B-262A1F59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7488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4B8298-FCEE-4E22-836A-6AF0CD13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45009B-F5CD-44B6-99C4-96CCFB0E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D4C4-9FA4-4C63-A055-022AD942824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DE761-3509-4DD9-9C68-1D3D497C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80875E-8012-4D4D-8DA2-902B6CAE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E4F9F8-B5DA-46B2-9128-49CED63C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F61A29-46A5-4C66-ABF3-83B782BF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7A2406-62A7-4DC8-AA60-6342F8CD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8E6DC-CF84-47D1-BEDA-2A56EB6D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3960" y="1141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DCA7EF-0C4D-46BA-8A99-F0482710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479084-59A0-486D-9952-4919A3E9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89AD3-6574-4386-ACB7-A812C92E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3ED2CD-468E-4793-AF60-5212DCAA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7488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0E0C4F-4E08-4EF9-ADD2-C059ABB5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BADA07-C1B6-4542-BE35-7BAE6A00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08AB78-9BC2-4205-8736-61210D8B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0E20AC-8C49-4EF7-9B29-6D18FD15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E31180-A0EA-499B-9798-6BABFD13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A61AA2-76D1-4ED3-BA0C-140EA9A4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935A93-3527-468E-80CC-C153731E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5A256F-AB0B-4D15-9278-8DDB39D8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3960" y="1141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787552-6462-4789-AB39-3C412E11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23A27C-2421-4B01-91EA-AF969BCF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E47EEC-7CBA-4CAA-8E3E-370264B2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586B82-5209-4A9C-8D1E-22CD8EE0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67488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000A922-98E2-4B8A-9B61-F8A3D9AD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D3CD4C-008E-400A-932A-5C2D65BB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C92489-D594-4DC5-989B-06BD797E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3960" y="1141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6126-DB20-4854-8703-9DD9CADBF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7488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C4908-7B3C-4743-9E98-0F1A87B5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2A02A-AC8C-419A-9749-59C1089B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1D19E-48EB-43FF-97CF-CFEA0FC7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9EAF7-79CE-43D7-896B-9B58961A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3DEF9-A671-4E9C-AF3F-07A6C165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405AF-3373-4EA7-977B-5AE52FC0ED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3960" y="1141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34870-C712-4BC1-8925-1D936AB3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1EC4A-2AD9-4611-9C9F-33905686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8BA7B-C710-4EAB-A849-4C8FC46D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9C7AF-275D-451B-9F38-85FA7837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7488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491D1-F1A9-4AC8-A93A-8D3301F4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DC972-DC48-4D6C-B192-51BA8AE3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C7FED-2288-4495-8B6B-BC9AC2C2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D777B0-F20D-4B5B-82C1-50F845E3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642374-6539-453E-BF00-0B457B77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662E06-CE76-49B6-9770-20B0A515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65018-78FD-45E1-88A3-C71AAA5C7D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14E1B7-AD57-45DF-BF65-3BA56BB6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860FF9-8700-4171-B756-94299FD1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3960" y="1141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B16EFE-37FE-4FC6-BADA-6C590292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7EE371-30E1-4782-8378-6B583DC9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A217FE-70AE-42DB-82BA-0EB190D1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FE592D-1ECC-4CA6-8C76-C951F654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7488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76D421-43AC-4242-9D53-59119BF1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0D20F3-B4E7-4EE6-A230-D7DEB996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20E882-E838-4CFA-8BCC-D02ADE7D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72F75E-5340-462A-A23E-FF9E7A49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66A0-5915-4688-A5F9-4CB5ABB156E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9C8D1F-B541-4B50-B0DB-28583915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3259AD-16D4-4AD0-9790-797C3941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C9E571-446A-42C2-960A-86C6BABF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59F594-12BB-46E1-AB8A-A9A46390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3960" y="1141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C1B804-CA93-4BA4-8610-AEDA8CED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85DB7B-845C-462A-B626-60AFBD82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E26815-91CB-47C6-B8C4-6A08D09D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20C4E4-2FCF-4D49-9B59-4E4B3DEF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7488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070CAA-04F8-41EE-9583-B4F463BE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CA910B-6AAD-41DF-AD76-9A1784DB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3960" y="1141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1DD6F-B099-4412-9316-6952897A4A1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450EAC-91E8-41C6-964C-F6D63D20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E3FDCE-861E-4308-97B8-A0B430CE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A40C1B-738E-40C4-9842-9613ED77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9A2027-6A4B-4CE2-8ADC-04EEBE1E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C5F2E2-70D6-45D2-AA57-D420DAE0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05472B-B866-4E3E-86AB-528A091C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3960" y="1141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12A5A6-4999-4695-B7DA-60F948DF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2142DF-7BC3-4FC5-84F0-D5C91ED5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B4548C-98C1-4AA2-B734-3C87D7B5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7064F7-83CF-40BE-B658-D37EEFA7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AB72D-A845-44CB-818A-652ADD214DA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7488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04FC7B-B737-4896-9F0E-548C16D9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EF3318-5567-46F4-B6B6-BC0A6847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E17CB1-1CF1-47F1-BC40-8E111DD7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52E577-97BE-4B43-A355-506C1FC2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3757ED-AFAC-4266-9D3E-09730561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AFDB8F-8F4C-47A7-BAD0-505AEC1C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263E44-9B5B-4037-B60B-889237A9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38CBC9-8CEF-46D3-82E1-ED6283ED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3960" y="1141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8F20B0-6692-4769-849B-AE1F8166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DBB6A1-1723-43CC-BC7C-82F4EC0A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9CD01-CF61-457C-AA2D-D55B22FD2FB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8EE620-63BC-4568-A371-B9CB782B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8F9FFD-1F8A-4EE4-9B13-C5B116F6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7488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6687B4-29D8-499E-9C01-1F7B4ECE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FEF03F-E3BD-4A79-9B22-692C00DC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E43510-16E1-4EE0-B107-BCCB37AA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073A3C-9DC6-4945-BE97-B1660022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41644C-0BB2-4365-91B4-65D74FE9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3EBB05-00DA-4648-8D0D-19B6D594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180ECF-9DD2-4842-AC3D-484B3427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878477-2CA7-4212-8107-07550648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082F-1D51-4222-8ABE-F076CD73C82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3960" y="1141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5C65F7-34D6-462A-9E70-13922350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4CEE46-AA63-47BD-B3EF-7EC6ECA9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26B83C-84F9-4514-9444-6AC8344B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BDA9C6-13E9-4DBB-90EE-3A23D3A8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67488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CD9AFF-CBA6-4372-A723-38C2B1FE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67488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3CCEAC-D73E-4845-AF09-6782E69B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67488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69EA9D-8A92-4590-9D68-FCEFDE5F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6BB987-C655-4DD3-A4FA-9D5F10FB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4A1ADB-A0CC-4053-9D64-2272C327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AC15D4-B820-4AE6-AB3E-8E0A9D58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0969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AB6E0-38D8-40C3-BB80-A371EAAD243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直線コネクタ 5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二等辺三角形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正方形/長方形 7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54756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822240" indent="-228600">
              <a:spcBef>
                <a:spcPts val="601"/>
              </a:spcBef>
              <a:buClr>
                <a:srgbClr val="ffffff"/>
              </a:buClr>
              <a:buSzPct val="7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09692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1303B-A92D-4B8A-9DED-11FEAA2E2CDF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0969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56D52-9E02-470F-A19F-34FF784C43C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直線コネクタ 5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二等辺三角形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線コネクタ 7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0969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2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711CA-6141-48A8-9EFA-133F98DB0AD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正方形/長方形 5"/>
          <p:cNvSpPr/>
          <p:nvPr/>
        </p:nvSpPr>
        <p:spPr>
          <a:xfrm>
            <a:off x="914400" y="1219320"/>
            <a:ext cx="7315200" cy="162216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正方形/長方形 6"/>
          <p:cNvSpPr/>
          <p:nvPr/>
        </p:nvSpPr>
        <p:spPr>
          <a:xfrm>
            <a:off x="923760" y="296244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正方形/長方形 7"/>
          <p:cNvSpPr/>
          <p:nvPr/>
        </p:nvSpPr>
        <p:spPr>
          <a:xfrm>
            <a:off x="923760" y="1371600"/>
            <a:ext cx="228600" cy="1461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正方形/長方形 8"/>
          <p:cNvSpPr/>
          <p:nvPr/>
        </p:nvSpPr>
        <p:spPr>
          <a:xfrm>
            <a:off x="923760" y="2962440"/>
            <a:ext cx="228600" cy="68580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11700000"/>
          </a:gradFill>
          <a:ln w="9360">
            <a:solidFill>
              <a:srgbClr val="9fb8cd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0969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0969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397EF-E016-4357-8FDA-5422C5895D4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正方形/長方形 5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正方形/長方形 6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54756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822240" indent="-228600">
              <a:spcBef>
                <a:spcPts val="601"/>
              </a:spcBef>
              <a:buClr>
                <a:srgbClr val="ffffff"/>
              </a:buClr>
              <a:buSzPct val="7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09692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7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30ADB0-F82A-4322-86D0-28C3122A9DD5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0969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36A88-2132-442C-8670-5FAB1BE0133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0969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0DAFF-F66D-4A78-9AA2-D9C3BFAC66B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0969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98882-6629-4BFE-947E-75FFF4DA0B5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直線コネクタ 5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二等辺三角形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0969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B43CD-D3DA-4749-9D93-A892B7CE3EA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直線コネクタ 5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直線コネクタ 6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0969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2FEEC-A113-4232-9380-7D012A220AB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28680" y="1371600"/>
            <a:ext cx="6858000" cy="14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Reaction plane and pseudo rapidity dependence of inclusive photon - hadron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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 correlatio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 in Au+Au √S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Gill Sans MT"/>
              </a:rPr>
              <a:t>NN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=200 GeV collision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at RHIC-PHENIX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228680" y="30384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ookman Old Style"/>
                <a:ea typeface="ＭＳ 明朝"/>
              </a:rPr>
              <a:t>Third DNP/JPS Joint Meeting, 14</a:t>
            </a:r>
            <a:r>
              <a:rPr b="0" lang="en-US" sz="2000" spc="-1" strike="noStrike" baseline="30000">
                <a:solidFill>
                  <a:srgbClr val="ff0000"/>
                </a:solidFill>
                <a:latin typeface="Bookman Old Style"/>
                <a:ea typeface="ＭＳ 明朝"/>
              </a:rPr>
              <a:t>th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  <a:ea typeface="ＭＳ 明朝"/>
              </a:rPr>
              <a:t> October 2009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3" name="TextBox 6"/>
          <p:cNvSpPr/>
          <p:nvPr/>
        </p:nvSpPr>
        <p:spPr>
          <a:xfrm>
            <a:off x="1219320" y="4210200"/>
            <a:ext cx="648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kahito Todoroki, for the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PHENI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versity of  Tsuk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gh Energy Nuclear Physics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図 5" descr="h_logo.gif"/>
          <p:cNvPicPr/>
          <p:nvPr/>
        </p:nvPicPr>
        <p:blipFill>
          <a:blip r:embed="rId1"/>
          <a:stretch/>
        </p:blipFill>
        <p:spPr>
          <a:xfrm>
            <a:off x="2133720" y="5729400"/>
            <a:ext cx="2395440" cy="519120"/>
          </a:xfrm>
          <a:prstGeom prst="rect">
            <a:avLst/>
          </a:prstGeom>
          <a:ln w="0">
            <a:noFill/>
          </a:ln>
        </p:spPr>
      </p:pic>
      <p:pic>
        <p:nvPicPr>
          <p:cNvPr id="515" name="図 8" descr=""/>
          <p:cNvPicPr/>
          <p:nvPr/>
        </p:nvPicPr>
        <p:blipFill>
          <a:blip r:embed="rId2"/>
          <a:stretch/>
        </p:blipFill>
        <p:spPr>
          <a:xfrm>
            <a:off x="5148360" y="5614920"/>
            <a:ext cx="1938240" cy="6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ummary &amp; Outlook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1" name="スライド番号プレースホルダ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F5F5F-AE04-4203-9A7D-8AFB1119643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spcBef>
                <a:spcPts val="499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We observed right/left asymmetry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  <a:ea typeface="Symbol"/>
              </a:rPr>
              <a:t> correlation w.r.t. R.P.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spcBef>
                <a:spcPts val="499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  <a:ea typeface="Symbol"/>
              </a:rPr>
              <a:t>We checked the consistency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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 correlation between Run7 and Run4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  <a:ea typeface="Symbo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  <a:ea typeface="Symbol"/>
              </a:rPr>
              <a:t>Outlook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spcBef>
                <a:spcPts val="499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We started the trigger selecte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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  <a:ea typeface="Symbol"/>
              </a:rPr>
              <a:t> correlation analysis w.r.t. R.P.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ＭＳ Ｐゴシック"/>
                <a:ea typeface="Symbol"/>
              </a:rPr>
              <a:t>trig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  <a:ea typeface="Symbo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3960" y="2895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BACK UP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4" name="スライド番号プレースホルダ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7D9EE2-B344-43E8-8371-8298D901488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Symbo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Symbol"/>
              </a:rPr>
              <a:t>correlation shap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6" name="スライド番号プレースホルダ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3AA2A-3CA1-4199-8A60-FB7E430D9F3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図形グループ 55"/>
          <p:cNvGrpSpPr/>
          <p:nvPr/>
        </p:nvGrpSpPr>
        <p:grpSpPr>
          <a:xfrm>
            <a:off x="4876920" y="1599480"/>
            <a:ext cx="4038480" cy="4268160"/>
            <a:chOff x="4876920" y="1599480"/>
            <a:chExt cx="4038480" cy="4268160"/>
          </a:xfrm>
        </p:grpSpPr>
        <p:grpSp>
          <p:nvGrpSpPr>
            <p:cNvPr id="798" name="図形グループ 14"/>
            <p:cNvGrpSpPr/>
            <p:nvPr/>
          </p:nvGrpSpPr>
          <p:grpSpPr>
            <a:xfrm>
              <a:off x="4876920" y="1599480"/>
              <a:ext cx="3657960" cy="4268160"/>
              <a:chOff x="4876920" y="1599480"/>
              <a:chExt cx="3657960" cy="4268160"/>
            </a:xfrm>
          </p:grpSpPr>
          <p:cxnSp>
            <p:nvCxnSpPr>
              <p:cNvPr id="799" name="直線矢印コネクタ 7"/>
              <p:cNvCxnSpPr/>
              <p:nvPr/>
            </p:nvCxnSpPr>
            <p:spPr>
              <a:xfrm>
                <a:off x="4876920" y="5865840"/>
                <a:ext cx="3658320" cy="21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800" name="直線矢印コネクタ 11"/>
              <p:cNvCxnSpPr/>
              <p:nvPr/>
            </p:nvCxnSpPr>
            <p:spPr>
              <a:xfrm flipV="1">
                <a:off x="6629400" y="1599480"/>
                <a:ext cx="2160" cy="426780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</p:cxnSp>
          <p:cxnSp>
            <p:nvCxnSpPr>
              <p:cNvPr id="801" name="直線矢印コネクタ 12"/>
              <p:cNvCxnSpPr/>
              <p:nvPr/>
            </p:nvCxnSpPr>
            <p:spPr>
              <a:xfrm flipV="1">
                <a:off x="7620120" y="1599480"/>
                <a:ext cx="2160" cy="426780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</p:cxnSp>
          <p:cxnSp>
            <p:nvCxnSpPr>
              <p:cNvPr id="802" name="直線矢印コネクタ 13"/>
              <p:cNvCxnSpPr/>
              <p:nvPr/>
            </p:nvCxnSpPr>
            <p:spPr>
              <a:xfrm flipV="1">
                <a:off x="5638680" y="1599480"/>
                <a:ext cx="2160" cy="426780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</p:cxnSp>
        </p:grpSp>
        <p:sp>
          <p:nvSpPr>
            <p:cNvPr id="803" name="フリーフォーム 15"/>
            <p:cNvSpPr/>
            <p:nvPr/>
          </p:nvSpPr>
          <p:spPr>
            <a:xfrm>
              <a:off x="5611680" y="1995480"/>
              <a:ext cx="2016000" cy="558720"/>
            </a:xfrm>
            <a:prstGeom prst="pie">
              <a:avLst/>
            </a:prstGeom>
            <a:noFill/>
            <a:ln w="19080">
              <a:solidFill>
                <a:srgbClr val="727ca3"/>
              </a:solidFill>
              <a:miter/>
            </a:ln>
            <a:effectLst>
              <a:outerShdw dist="25560" dir="54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フリーフォーム 17"/>
            <p:cNvSpPr/>
            <p:nvPr/>
          </p:nvSpPr>
          <p:spPr>
            <a:xfrm>
              <a:off x="5410080" y="3022560"/>
              <a:ext cx="2016000" cy="558720"/>
            </a:xfrm>
            <a:prstGeom prst="pie">
              <a:avLst/>
            </a:prstGeom>
            <a:noFill/>
            <a:ln w="19080">
              <a:solidFill>
                <a:srgbClr val="727ca3"/>
              </a:solidFill>
              <a:miter/>
            </a:ln>
            <a:effectLst>
              <a:outerShdw dist="25560" dir="54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フリーフォーム 18"/>
            <p:cNvSpPr/>
            <p:nvPr/>
          </p:nvSpPr>
          <p:spPr>
            <a:xfrm>
              <a:off x="5257800" y="4165560"/>
              <a:ext cx="2016000" cy="558720"/>
            </a:xfrm>
            <a:prstGeom prst="pie">
              <a:avLst/>
            </a:prstGeom>
            <a:noFill/>
            <a:ln w="19080">
              <a:solidFill>
                <a:srgbClr val="727ca3"/>
              </a:solidFill>
              <a:miter/>
            </a:ln>
            <a:effectLst>
              <a:outerShdw dist="25560" dir="54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Box 21"/>
            <p:cNvSpPr/>
            <p:nvPr/>
          </p:nvSpPr>
          <p:spPr>
            <a:xfrm>
              <a:off x="7925040" y="2286000"/>
              <a:ext cx="9903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Gill Sans MT"/>
                  <a:ea typeface="Symbol"/>
                </a:rPr>
                <a:t>trig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  <a:ea typeface="Symbo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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  <a:ea typeface="Symbo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Box 24"/>
            <p:cNvSpPr/>
            <p:nvPr/>
          </p:nvSpPr>
          <p:spPr>
            <a:xfrm>
              <a:off x="7925040" y="3363840"/>
              <a:ext cx="990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Gill Sans MT"/>
                  <a:ea typeface="Symbol"/>
                </a:rPr>
                <a:t>trig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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  <a:ea typeface="Symbo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Box 26"/>
            <p:cNvSpPr/>
            <p:nvPr/>
          </p:nvSpPr>
          <p:spPr>
            <a:xfrm>
              <a:off x="7925040" y="4430520"/>
              <a:ext cx="9903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Gill Sans MT"/>
                  <a:ea typeface="Symbol"/>
                </a:rPr>
                <a:t>trig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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  <a:ea typeface="Symbo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図形グループ 27"/>
          <p:cNvGrpSpPr/>
          <p:nvPr/>
        </p:nvGrpSpPr>
        <p:grpSpPr>
          <a:xfrm>
            <a:off x="262080" y="1914120"/>
            <a:ext cx="4614840" cy="3511800"/>
            <a:chOff x="262080" y="1914120"/>
            <a:chExt cx="4614840" cy="3511800"/>
          </a:xfrm>
        </p:grpSpPr>
        <p:grpSp>
          <p:nvGrpSpPr>
            <p:cNvPr id="810" name="図形グループ 45"/>
            <p:cNvGrpSpPr/>
            <p:nvPr/>
          </p:nvGrpSpPr>
          <p:grpSpPr>
            <a:xfrm>
              <a:off x="262080" y="2215800"/>
              <a:ext cx="4614840" cy="3210120"/>
              <a:chOff x="262080" y="2215800"/>
              <a:chExt cx="4614840" cy="3210120"/>
            </a:xfrm>
          </p:grpSpPr>
          <p:grpSp>
            <p:nvGrpSpPr>
              <p:cNvPr id="811" name="図形グループ 93"/>
              <p:cNvGrpSpPr/>
              <p:nvPr/>
            </p:nvGrpSpPr>
            <p:grpSpPr>
              <a:xfrm>
                <a:off x="1142280" y="2453040"/>
                <a:ext cx="3734640" cy="2239200"/>
                <a:chOff x="1142280" y="2453040"/>
                <a:chExt cx="3734640" cy="2239200"/>
              </a:xfrm>
            </p:grpSpPr>
            <p:grpSp>
              <p:nvGrpSpPr>
                <p:cNvPr id="812" name="図形グループ 31"/>
                <p:cNvGrpSpPr/>
                <p:nvPr/>
              </p:nvGrpSpPr>
              <p:grpSpPr>
                <a:xfrm>
                  <a:off x="1142640" y="2453040"/>
                  <a:ext cx="3734280" cy="2239200"/>
                  <a:chOff x="1142640" y="2453040"/>
                  <a:chExt cx="3734280" cy="2239200"/>
                </a:xfrm>
              </p:grpSpPr>
              <p:cxnSp>
                <p:nvCxnSpPr>
                  <p:cNvPr id="813" name="直線矢印コネクタ 43"/>
                  <p:cNvCxnSpPr/>
                  <p:nvPr/>
                </p:nvCxnSpPr>
                <p:spPr>
                  <a:xfrm flipV="1">
                    <a:off x="2058480" y="3691440"/>
                    <a:ext cx="1719720" cy="374040"/>
                  </a:xfrm>
                  <a:prstGeom prst="straightConnector1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814" name="直線矢印コネクタ 44"/>
                  <p:cNvCxnSpPr/>
                  <p:nvPr/>
                </p:nvCxnSpPr>
                <p:spPr>
                  <a:xfrm>
                    <a:off x="1142640" y="4052520"/>
                    <a:ext cx="2421720" cy="2160"/>
                  </a:xfrm>
                  <a:prstGeom prst="straightConnector1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815" name="直線矢印コネクタ 45"/>
                  <p:cNvCxnSpPr/>
                  <p:nvPr/>
                </p:nvCxnSpPr>
                <p:spPr>
                  <a:xfrm flipH="1" flipV="1">
                    <a:off x="2055240" y="2453040"/>
                    <a:ext cx="8640" cy="1599840"/>
                  </a:xfrm>
                  <a:prstGeom prst="straightConnector1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816" name="直線矢印コネクタ 46"/>
                  <p:cNvCxnSpPr/>
                  <p:nvPr/>
                </p:nvCxnSpPr>
                <p:spPr>
                  <a:xfrm flipV="1">
                    <a:off x="2055600" y="2868840"/>
                    <a:ext cx="1302480" cy="1182240"/>
                  </a:xfrm>
                  <a:prstGeom prst="straightConnector1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grpSp>
                <p:nvGrpSpPr>
                  <p:cNvPr id="817" name="角丸四角形 47"/>
                  <p:cNvGrpSpPr/>
                  <p:nvPr/>
                </p:nvGrpSpPr>
                <p:grpSpPr>
                  <a:xfrm>
                    <a:off x="1438560" y="3547800"/>
                    <a:ext cx="1249560" cy="1144440"/>
                    <a:chOff x="1438560" y="3547800"/>
                    <a:chExt cx="1249560" cy="1144440"/>
                  </a:xfrm>
                </p:grpSpPr>
                <p:pic>
                  <p:nvPicPr>
                    <p:cNvPr id="818" name="角丸四角形 47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438560" y="3547800"/>
                      <a:ext cx="1249560" cy="114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9" name=""/>
                    <p:cNvSpPr/>
                    <p:nvPr/>
                  </p:nvSpPr>
                  <p:spPr>
                    <a:xfrm>
                      <a:off x="1563480" y="3628080"/>
                      <a:ext cx="1003680" cy="909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0" name="フリーフォーム 48"/>
                  <p:cNvSpPr/>
                  <p:nvPr/>
                </p:nvSpPr>
                <p:spPr>
                  <a:xfrm rot="10800000">
                    <a:off x="1757160" y="2453400"/>
                    <a:ext cx="645840" cy="751680"/>
                  </a:xfrm>
                  <a:prstGeom prst="pie">
                    <a:avLst/>
                  </a:prstGeom>
                  <a:noFill/>
                  <a:ln w="19080">
                    <a:solidFill>
                      <a:srgbClr val="0000ff"/>
                    </a:solidFill>
                    <a:miter/>
                  </a:ln>
                  <a:effectLst>
                    <a:outerShdw dist="25560" dir="5400000" blurRad="0" rotWithShape="0">
                      <a:srgbClr val="808080">
                        <a:alpha val="4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フリーフォーム 49"/>
                  <p:cNvSpPr/>
                  <p:nvPr/>
                </p:nvSpPr>
                <p:spPr>
                  <a:xfrm rot="13500000">
                    <a:off x="2610720" y="2660400"/>
                    <a:ext cx="777600" cy="792000"/>
                  </a:xfrm>
                  <a:prstGeom prst="pie">
                    <a:avLst/>
                  </a:prstGeom>
                  <a:noFill/>
                  <a:ln w="19080">
                    <a:solidFill>
                      <a:srgbClr val="0000ff"/>
                    </a:solidFill>
                    <a:miter/>
                  </a:ln>
                  <a:effectLst>
                    <a:outerShdw dist="25560" dir="5400000" blurRad="0" rotWithShape="0">
                      <a:srgbClr val="808080">
                        <a:alpha val="4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直線コネクタ 50"/>
                  <p:cNvSpPr/>
                  <p:nvPr/>
                </p:nvSpPr>
                <p:spPr>
                  <a:xfrm>
                    <a:off x="2993400" y="2512080"/>
                    <a:ext cx="569880" cy="55044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prstDash val="sysDot"/>
                    <a:miter/>
                    <a:headEnd len="lg" type="stealth" w="lg"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フリーフォーム 51"/>
                  <p:cNvSpPr/>
                  <p:nvPr/>
                </p:nvSpPr>
                <p:spPr>
                  <a:xfrm rot="15600000">
                    <a:off x="3073320" y="3201120"/>
                    <a:ext cx="612720" cy="841320"/>
                  </a:xfrm>
                  <a:prstGeom prst="pie">
                    <a:avLst/>
                  </a:prstGeom>
                  <a:noFill/>
                  <a:ln w="19080">
                    <a:solidFill>
                      <a:srgbClr val="0000ff"/>
                    </a:solidFill>
                    <a:miter/>
                  </a:ln>
                  <a:effectLst>
                    <a:outerShdw dist="25560" dir="5400000" blurRad="0" rotWithShape="0">
                      <a:srgbClr val="808080">
                        <a:alpha val="4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直線コネクタ 52"/>
                  <p:cNvSpPr/>
                  <p:nvPr/>
                </p:nvSpPr>
                <p:spPr>
                  <a:xfrm>
                    <a:off x="3738600" y="3250440"/>
                    <a:ext cx="109440" cy="6231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prstDash val="sysDot"/>
                    <a:miter/>
                    <a:headEnd len="lg" type="stealth" w="lg"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TextBox 25"/>
                  <p:cNvSpPr/>
                  <p:nvPr/>
                </p:nvSpPr>
                <p:spPr>
                  <a:xfrm>
                    <a:off x="3647160" y="3934800"/>
                    <a:ext cx="122976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Z: Beam Axi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直線コネクタ 54"/>
                  <p:cNvSpPr/>
                  <p:nvPr/>
                </p:nvSpPr>
                <p:spPr>
                  <a:xfrm>
                    <a:off x="1757160" y="2453400"/>
                    <a:ext cx="64584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prstDash val="sysDot"/>
                    <a:miter/>
                    <a:headEnd len="lg" type="stealth" w="lg"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827" name="直線矢印コネクタ 35"/>
                <p:cNvCxnSpPr/>
                <p:nvPr/>
              </p:nvCxnSpPr>
              <p:spPr>
                <a:xfrm>
                  <a:off x="2619000" y="4565520"/>
                  <a:ext cx="369000" cy="2160"/>
                </a:xfrm>
                <a:prstGeom prst="straightConnector1">
                  <a:avLst/>
                </a:prstGeom>
                <a:ln w="19080">
                  <a:solidFill>
                    <a:srgbClr val="ffce29"/>
                  </a:solidFill>
                  <a:miter/>
                  <a:tailEnd len="med" type="arrow" w="med"/>
                </a:ln>
              </p:spPr>
            </p:cxnSp>
            <p:cxnSp>
              <p:nvCxnSpPr>
                <p:cNvPr id="828" name="直線矢印コネクタ 8"/>
                <p:cNvCxnSpPr/>
                <p:nvPr/>
              </p:nvCxnSpPr>
              <p:spPr>
                <a:xfrm>
                  <a:off x="2619000" y="4254120"/>
                  <a:ext cx="369000" cy="2160"/>
                </a:xfrm>
                <a:prstGeom prst="straightConnector1">
                  <a:avLst/>
                </a:prstGeom>
                <a:ln w="19080">
                  <a:solidFill>
                    <a:srgbClr val="ffce29"/>
                  </a:solidFill>
                  <a:miter/>
                  <a:tailEnd len="med" type="arrow" w="med"/>
                </a:ln>
              </p:spPr>
            </p:cxnSp>
            <p:cxnSp>
              <p:nvCxnSpPr>
                <p:cNvPr id="829" name="直線矢印コネクタ 37"/>
                <p:cNvCxnSpPr/>
                <p:nvPr/>
              </p:nvCxnSpPr>
              <p:spPr>
                <a:xfrm>
                  <a:off x="2619000" y="3759840"/>
                  <a:ext cx="369000" cy="1080"/>
                </a:xfrm>
                <a:prstGeom prst="straightConnector1">
                  <a:avLst/>
                </a:prstGeom>
                <a:ln w="19080">
                  <a:solidFill>
                    <a:srgbClr val="ffce29"/>
                  </a:solidFill>
                  <a:miter/>
                  <a:tailEnd len="med" type="arrow" w="med"/>
                </a:ln>
              </p:spPr>
            </p:cxnSp>
            <p:cxnSp>
              <p:nvCxnSpPr>
                <p:cNvPr id="830" name="直線矢印コネクタ 38"/>
                <p:cNvCxnSpPr/>
                <p:nvPr/>
              </p:nvCxnSpPr>
              <p:spPr>
                <a:xfrm>
                  <a:off x="2619000" y="4007880"/>
                  <a:ext cx="369000" cy="1080"/>
                </a:xfrm>
                <a:prstGeom prst="straightConnector1">
                  <a:avLst/>
                </a:prstGeom>
                <a:ln w="19080">
                  <a:solidFill>
                    <a:srgbClr val="ffce29"/>
                  </a:solidFill>
                  <a:miter/>
                  <a:tailEnd len="med" type="arrow" w="med"/>
                </a:ln>
              </p:spPr>
            </p:cxnSp>
            <p:cxnSp>
              <p:nvCxnSpPr>
                <p:cNvPr id="831" name="直線矢印コネクタ 39"/>
                <p:cNvCxnSpPr/>
                <p:nvPr/>
              </p:nvCxnSpPr>
              <p:spPr>
                <a:xfrm flipH="1" flipV="1">
                  <a:off x="1142280" y="3759480"/>
                  <a:ext cx="369000" cy="1080"/>
                </a:xfrm>
                <a:prstGeom prst="straightConnector1">
                  <a:avLst/>
                </a:prstGeom>
                <a:ln w="19080">
                  <a:solidFill>
                    <a:srgbClr val="ffce29"/>
                  </a:solidFill>
                  <a:miter/>
                  <a:tailEnd len="med" type="arrow" w="med"/>
                </a:ln>
              </p:spPr>
            </p:cxnSp>
            <p:cxnSp>
              <p:nvCxnSpPr>
                <p:cNvPr id="832" name="直線矢印コネクタ 40"/>
                <p:cNvCxnSpPr/>
                <p:nvPr/>
              </p:nvCxnSpPr>
              <p:spPr>
                <a:xfrm flipH="1" flipV="1">
                  <a:off x="1142280" y="4007520"/>
                  <a:ext cx="369000" cy="1080"/>
                </a:xfrm>
                <a:prstGeom prst="straightConnector1">
                  <a:avLst/>
                </a:prstGeom>
                <a:ln w="19080">
                  <a:solidFill>
                    <a:srgbClr val="ffce29"/>
                  </a:solidFill>
                  <a:miter/>
                  <a:tailEnd len="med" type="arrow" w="med"/>
                </a:ln>
              </p:spPr>
            </p:cxnSp>
            <p:cxnSp>
              <p:nvCxnSpPr>
                <p:cNvPr id="833" name="直線矢印コネクタ 41"/>
                <p:cNvCxnSpPr/>
                <p:nvPr/>
              </p:nvCxnSpPr>
              <p:spPr>
                <a:xfrm flipH="1" flipV="1">
                  <a:off x="1142280" y="4253760"/>
                  <a:ext cx="369000" cy="2160"/>
                </a:xfrm>
                <a:prstGeom prst="straightConnector1">
                  <a:avLst/>
                </a:prstGeom>
                <a:ln w="19080">
                  <a:solidFill>
                    <a:srgbClr val="ffce29"/>
                  </a:solidFill>
                  <a:miter/>
                  <a:tailEnd len="med" type="arrow" w="med"/>
                </a:ln>
              </p:spPr>
            </p:cxnSp>
            <p:cxnSp>
              <p:nvCxnSpPr>
                <p:cNvPr id="834" name="直線矢印コネクタ 42"/>
                <p:cNvCxnSpPr/>
                <p:nvPr/>
              </p:nvCxnSpPr>
              <p:spPr>
                <a:xfrm flipH="1" flipV="1">
                  <a:off x="1142280" y="4565160"/>
                  <a:ext cx="369000" cy="2160"/>
                </a:xfrm>
                <a:prstGeom prst="straightConnector1">
                  <a:avLst/>
                </a:prstGeom>
                <a:ln w="19080">
                  <a:solidFill>
                    <a:srgbClr val="ffce29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835" name="円弧 32"/>
              <p:cNvSpPr/>
              <p:nvPr/>
            </p:nvSpPr>
            <p:spPr>
              <a:xfrm>
                <a:off x="262080" y="2215800"/>
                <a:ext cx="3733920" cy="321012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miter/>
                <a:tailEnd len="lg" type="stealth" w="lg"/>
              </a:ln>
              <a:effectLst>
                <a:outerShdw dist="25560" dir="54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TextBox 44"/>
              <p:cNvSpPr/>
              <p:nvPr/>
            </p:nvSpPr>
            <p:spPr>
              <a:xfrm>
                <a:off x="3886560" y="357084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7" name="TextBox 51"/>
            <p:cNvSpPr/>
            <p:nvPr/>
          </p:nvSpPr>
          <p:spPr>
            <a:xfrm rot="4200000">
              <a:off x="3425400" y="2951280"/>
              <a:ext cx="111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ward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Box 52"/>
            <p:cNvSpPr/>
            <p:nvPr/>
          </p:nvSpPr>
          <p:spPr>
            <a:xfrm rot="900000">
              <a:off x="2301120" y="205704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←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ckw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Box 56"/>
          <p:cNvSpPr/>
          <p:nvPr/>
        </p:nvSpPr>
        <p:spPr>
          <a:xfrm>
            <a:off x="6858000" y="5943600"/>
            <a:ext cx="266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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ＭＳ Ｐゴシック"/>
                <a:ea typeface="Symbol"/>
              </a:rPr>
              <a:t>asso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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ＭＳ Ｐゴシック"/>
                <a:ea typeface="Symbol"/>
              </a:rPr>
              <a:t>tr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58"/>
          <p:cNvSpPr/>
          <p:nvPr/>
        </p:nvSpPr>
        <p:spPr>
          <a:xfrm>
            <a:off x="6400800" y="5943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Trigger Particle Binning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2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DA6D6-9936-4693-AF35-8CE153C05B2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図形グループ 12"/>
          <p:cNvGrpSpPr/>
          <p:nvPr/>
        </p:nvGrpSpPr>
        <p:grpSpPr>
          <a:xfrm>
            <a:off x="649440" y="1447920"/>
            <a:ext cx="3693960" cy="2944800"/>
            <a:chOff x="649440" y="1447920"/>
            <a:chExt cx="3693960" cy="2944800"/>
          </a:xfrm>
        </p:grpSpPr>
        <p:pic>
          <p:nvPicPr>
            <p:cNvPr id="844" name="図 91" descr=""/>
            <p:cNvPicPr/>
            <p:nvPr/>
          </p:nvPicPr>
          <p:blipFill>
            <a:blip r:embed="rId1"/>
            <a:stretch/>
          </p:blipFill>
          <p:spPr>
            <a:xfrm>
              <a:off x="649440" y="1843560"/>
              <a:ext cx="3693960" cy="25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TextBox 8"/>
            <p:cNvSpPr/>
            <p:nvPr/>
          </p:nvSpPr>
          <p:spPr>
            <a:xfrm>
              <a:off x="3153960" y="2683080"/>
              <a:ext cx="112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in pla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TextBox 9"/>
            <p:cNvSpPr/>
            <p:nvPr/>
          </p:nvSpPr>
          <p:spPr>
            <a:xfrm>
              <a:off x="1275480" y="1447920"/>
              <a:ext cx="137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out of pla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TextBox 11"/>
          <p:cNvSpPr/>
          <p:nvPr/>
        </p:nvSpPr>
        <p:spPr>
          <a:xfrm>
            <a:off x="115920" y="4390920"/>
            <a:ext cx="4956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egions </a:t>
            </a:r>
            <a:r>
              <a:rPr b="0" lang="en-US" sz="1600" spc="-1" strike="noStrike">
                <a:solidFill>
                  <a:srgbClr val="ff0000"/>
                </a:solidFill>
                <a:latin typeface="Gill Sans MT"/>
              </a:rPr>
              <a:t>⑤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~</a:t>
            </a:r>
            <a:r>
              <a:rPr b="0" lang="en-US" sz="1600" spc="-1" strike="noStrike">
                <a:solidFill>
                  <a:srgbClr val="3366ff"/>
                </a:solidFill>
                <a:latin typeface="Gill Sans MT"/>
              </a:rPr>
              <a:t>⑧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are folded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’=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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)  into </a:t>
            </a:r>
            <a:r>
              <a:rPr b="0" lang="en-US" sz="1600" spc="-1" strike="noStrike">
                <a:solidFill>
                  <a:srgbClr val="ff0000"/>
                </a:solidFill>
                <a:latin typeface="Gill Sans MT"/>
              </a:rPr>
              <a:t>①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~</a:t>
            </a:r>
            <a:r>
              <a:rPr b="0" lang="en-US" sz="1600" spc="-1" strike="noStrike">
                <a:solidFill>
                  <a:srgbClr val="3366ff"/>
                </a:solidFill>
                <a:latin typeface="Gill Sans MT"/>
              </a:rPr>
              <a:t>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Gill Sans MT"/>
              </a:rPr>
              <a:t>⑧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&gt;</a:t>
            </a:r>
            <a:r>
              <a:rPr b="0" lang="en-US" sz="1600" spc="-1" strike="noStrike">
                <a:solidFill>
                  <a:srgbClr val="ff0000"/>
                </a:solidFill>
                <a:latin typeface="Gill Sans MT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Gill Sans MT"/>
              </a:rPr>
              <a:t>⑦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&gt;</a:t>
            </a: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⑥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&gt;</a:t>
            </a:r>
            <a:r>
              <a:rPr b="0" lang="en-US" sz="1600" spc="-1" strike="noStrike">
                <a:solidFill>
                  <a:srgbClr val="008000"/>
                </a:solidFill>
                <a:latin typeface="Gill Sans MT"/>
              </a:rPr>
              <a:t>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Gill Sans MT"/>
              </a:rPr>
              <a:t>⑤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&gt;</a:t>
            </a:r>
            <a:r>
              <a:rPr b="0" lang="en-US" sz="1600" spc="-1" strike="noStrike">
                <a:solidFill>
                  <a:srgbClr val="3366ff"/>
                </a:solidFill>
                <a:latin typeface="Gill Sans MT"/>
              </a:rPr>
              <a:t>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図形グループ 41"/>
          <p:cNvGrpSpPr/>
          <p:nvPr/>
        </p:nvGrpSpPr>
        <p:grpSpPr>
          <a:xfrm>
            <a:off x="4281480" y="1576440"/>
            <a:ext cx="4495680" cy="2479680"/>
            <a:chOff x="4281480" y="1576440"/>
            <a:chExt cx="4495680" cy="2479680"/>
          </a:xfrm>
        </p:grpSpPr>
        <p:grpSp>
          <p:nvGrpSpPr>
            <p:cNvPr id="849" name="図形グループ 40"/>
            <p:cNvGrpSpPr/>
            <p:nvPr/>
          </p:nvGrpSpPr>
          <p:grpSpPr>
            <a:xfrm>
              <a:off x="4281480" y="1576440"/>
              <a:ext cx="4495680" cy="2479680"/>
              <a:chOff x="4281480" y="1576440"/>
              <a:chExt cx="4495680" cy="2479680"/>
            </a:xfrm>
          </p:grpSpPr>
          <p:cxnSp>
            <p:nvCxnSpPr>
              <p:cNvPr id="850" name="直線矢印コネクタ 51"/>
              <p:cNvCxnSpPr/>
              <p:nvPr/>
            </p:nvCxnSpPr>
            <p:spPr>
              <a:xfrm>
                <a:off x="5195520" y="3959640"/>
                <a:ext cx="2591640" cy="36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851" name="直線コネクタ 52"/>
              <p:cNvSpPr/>
              <p:nvPr/>
            </p:nvSpPr>
            <p:spPr>
              <a:xfrm flipH="1">
                <a:off x="6414840" y="2198520"/>
                <a:ext cx="1440" cy="1764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TextBox 39"/>
              <p:cNvSpPr/>
              <p:nvPr/>
            </p:nvSpPr>
            <p:spPr>
              <a:xfrm>
                <a:off x="4281480" y="2878200"/>
                <a:ext cx="1066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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TextBox 40"/>
              <p:cNvSpPr/>
              <p:nvPr/>
            </p:nvSpPr>
            <p:spPr>
              <a:xfrm>
                <a:off x="7558200" y="2820240"/>
                <a:ext cx="1066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  <a:ea typeface="Symbol"/>
                  </a:rPr>
                  <a:t>=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  0.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TextBox 43"/>
              <p:cNvSpPr/>
              <p:nvPr/>
            </p:nvSpPr>
            <p:spPr>
              <a:xfrm>
                <a:off x="7710480" y="3749040"/>
                <a:ext cx="106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Gill Sans MT"/>
                  </a:rPr>
                  <a:t>Beam Axi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TextBox 5"/>
              <p:cNvSpPr/>
              <p:nvPr/>
            </p:nvSpPr>
            <p:spPr>
              <a:xfrm>
                <a:off x="5182920" y="1576440"/>
                <a:ext cx="24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Pseudo Rapidi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TextBox 47"/>
              <p:cNvSpPr/>
              <p:nvPr/>
            </p:nvSpPr>
            <p:spPr>
              <a:xfrm>
                <a:off x="5881680" y="1841760"/>
                <a:ext cx="1066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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直線コネクタ 58"/>
              <p:cNvSpPr/>
              <p:nvPr/>
            </p:nvSpPr>
            <p:spPr>
              <a:xfrm flipV="1">
                <a:off x="6414840" y="3078000"/>
                <a:ext cx="1143000" cy="880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直線コネクタ 59"/>
              <p:cNvSpPr/>
              <p:nvPr/>
            </p:nvSpPr>
            <p:spPr>
              <a:xfrm flipV="1">
                <a:off x="6415920" y="2717640"/>
                <a:ext cx="912600" cy="124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直線コネクタ 60"/>
              <p:cNvSpPr/>
              <p:nvPr/>
            </p:nvSpPr>
            <p:spPr>
              <a:xfrm flipV="1">
                <a:off x="6415920" y="2400120"/>
                <a:ext cx="657000" cy="156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直線コネクタ 61"/>
              <p:cNvSpPr/>
              <p:nvPr/>
            </p:nvSpPr>
            <p:spPr>
              <a:xfrm flipV="1">
                <a:off x="6415920" y="2198160"/>
                <a:ext cx="352440" cy="1760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直線コネクタ 62"/>
              <p:cNvSpPr/>
              <p:nvPr/>
            </p:nvSpPr>
            <p:spPr>
              <a:xfrm flipH="1" flipV="1">
                <a:off x="6068520" y="2198520"/>
                <a:ext cx="347400" cy="1764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直線コネクタ 63"/>
              <p:cNvSpPr/>
              <p:nvPr/>
            </p:nvSpPr>
            <p:spPr>
              <a:xfrm flipH="1" flipV="1">
                <a:off x="5765400" y="2404800"/>
                <a:ext cx="649080" cy="155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直線コネクタ 64"/>
              <p:cNvSpPr/>
              <p:nvPr/>
            </p:nvSpPr>
            <p:spPr>
              <a:xfrm flipH="1" flipV="1">
                <a:off x="5502240" y="2716200"/>
                <a:ext cx="914400" cy="124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直線コネクタ 65"/>
              <p:cNvSpPr/>
              <p:nvPr/>
            </p:nvSpPr>
            <p:spPr>
              <a:xfrm flipH="1" flipV="1">
                <a:off x="5370120" y="3141360"/>
                <a:ext cx="1044360" cy="817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5" name="TextBox 43"/>
            <p:cNvSpPr/>
            <p:nvPr/>
          </p:nvSpPr>
          <p:spPr>
            <a:xfrm>
              <a:off x="7143840" y="2820240"/>
              <a:ext cx="41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Box 44"/>
            <p:cNvSpPr/>
            <p:nvPr/>
          </p:nvSpPr>
          <p:spPr>
            <a:xfrm>
              <a:off x="6915240" y="2509200"/>
              <a:ext cx="41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ff6600"/>
                  </a:solidFill>
                  <a:latin typeface="Arial"/>
                </a:rPr>
                <a:t>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Box 45"/>
            <p:cNvSpPr/>
            <p:nvPr/>
          </p:nvSpPr>
          <p:spPr>
            <a:xfrm>
              <a:off x="6645240" y="2339640"/>
              <a:ext cx="41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Arial"/>
                </a:rPr>
                <a:t>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Box 46"/>
            <p:cNvSpPr/>
            <p:nvPr/>
          </p:nvSpPr>
          <p:spPr>
            <a:xfrm>
              <a:off x="6338880" y="2236680"/>
              <a:ext cx="41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3366ff"/>
                  </a:solidFill>
                  <a:latin typeface="Arial"/>
                </a:rPr>
                <a:t>④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TextBox 47"/>
            <p:cNvSpPr/>
            <p:nvPr/>
          </p:nvSpPr>
          <p:spPr>
            <a:xfrm>
              <a:off x="6061680" y="2254680"/>
              <a:ext cx="41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⑤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TextBox 48"/>
            <p:cNvSpPr/>
            <p:nvPr/>
          </p:nvSpPr>
          <p:spPr>
            <a:xfrm>
              <a:off x="5771880" y="2339640"/>
              <a:ext cx="41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ff6600"/>
                  </a:solidFill>
                  <a:latin typeface="Arial"/>
                </a:rPr>
                <a:t>⑥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TextBox 49"/>
            <p:cNvSpPr/>
            <p:nvPr/>
          </p:nvSpPr>
          <p:spPr>
            <a:xfrm>
              <a:off x="5500440" y="2547000"/>
              <a:ext cx="41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Arial"/>
                </a:rPr>
                <a:t>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TextBox 50"/>
            <p:cNvSpPr/>
            <p:nvPr/>
          </p:nvSpPr>
          <p:spPr>
            <a:xfrm>
              <a:off x="5348160" y="2858040"/>
              <a:ext cx="41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3366ff"/>
                  </a:solidFill>
                  <a:latin typeface="Arial"/>
                </a:rPr>
                <a:t>⑧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TextBox 11"/>
          <p:cNvSpPr/>
          <p:nvPr/>
        </p:nvSpPr>
        <p:spPr>
          <a:xfrm>
            <a:off x="4492800" y="4343400"/>
            <a:ext cx="4956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egions </a:t>
            </a:r>
            <a:r>
              <a:rPr b="0" lang="en-US" sz="1600" spc="-1" strike="noStrike">
                <a:solidFill>
                  <a:srgbClr val="ff0000"/>
                </a:solidFill>
                <a:latin typeface="Gill Sans MT"/>
              </a:rPr>
              <a:t>⑤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~</a:t>
            </a:r>
            <a:r>
              <a:rPr b="0" lang="en-US" sz="1600" spc="-1" strike="noStrike">
                <a:solidFill>
                  <a:srgbClr val="3366ff"/>
                </a:solidFill>
                <a:latin typeface="Gill Sans MT"/>
              </a:rPr>
              <a:t>⑧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are folded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’=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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)  into </a:t>
            </a:r>
            <a:r>
              <a:rPr b="0" lang="en-US" sz="1600" spc="-1" strike="noStrike">
                <a:solidFill>
                  <a:srgbClr val="ff0000"/>
                </a:solidFill>
                <a:latin typeface="Gill Sans MT"/>
              </a:rPr>
              <a:t>①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~</a:t>
            </a:r>
            <a:r>
              <a:rPr b="0" lang="en-US" sz="1600" spc="-1" strike="noStrike">
                <a:solidFill>
                  <a:srgbClr val="3366ff"/>
                </a:solidFill>
                <a:latin typeface="Gill Sans MT"/>
              </a:rPr>
              <a:t>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Gill Sans MT"/>
              </a:rPr>
              <a:t>⑧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&gt;</a:t>
            </a:r>
            <a:r>
              <a:rPr b="0" lang="en-US" sz="1600" spc="-1" strike="noStrike">
                <a:solidFill>
                  <a:srgbClr val="ff0000"/>
                </a:solidFill>
                <a:latin typeface="Gill Sans MT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Gill Sans MT"/>
              </a:rPr>
              <a:t>⑦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&gt;</a:t>
            </a: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⑥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&gt;</a:t>
            </a:r>
            <a:r>
              <a:rPr b="0" lang="en-US" sz="1600" spc="-1" strike="noStrike">
                <a:solidFill>
                  <a:srgbClr val="008000"/>
                </a:solidFill>
                <a:latin typeface="Gill Sans MT"/>
              </a:rPr>
              <a:t>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Gill Sans MT"/>
              </a:rPr>
              <a:t>⑤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&gt;</a:t>
            </a:r>
            <a:r>
              <a:rPr b="0" lang="en-US" sz="1600" spc="-1" strike="noStrike">
                <a:solidFill>
                  <a:srgbClr val="3366ff"/>
                </a:solidFill>
                <a:latin typeface="Gill Sans MT"/>
              </a:rPr>
              <a:t>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PHENIX detector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5" name="スライド番号プレースホルダ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DBC3D-070C-4A5D-9F36-8BB11915964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図 6" descr=""/>
          <p:cNvPicPr/>
          <p:nvPr/>
        </p:nvPicPr>
        <p:blipFill>
          <a:blip r:embed="rId1"/>
          <a:stretch/>
        </p:blipFill>
        <p:spPr>
          <a:xfrm>
            <a:off x="5308560" y="3505320"/>
            <a:ext cx="3530520" cy="2361960"/>
          </a:xfrm>
          <a:prstGeom prst="rect">
            <a:avLst/>
          </a:prstGeom>
          <a:ln w="0">
            <a:noFill/>
          </a:ln>
        </p:spPr>
      </p:pic>
      <p:pic>
        <p:nvPicPr>
          <p:cNvPr id="877" name="図 7" descr=""/>
          <p:cNvPicPr/>
          <p:nvPr/>
        </p:nvPicPr>
        <p:blipFill>
          <a:blip r:embed="rId2"/>
          <a:stretch/>
        </p:blipFill>
        <p:spPr>
          <a:xfrm>
            <a:off x="5153040" y="1219320"/>
            <a:ext cx="3530520" cy="2011320"/>
          </a:xfrm>
          <a:prstGeom prst="rect">
            <a:avLst/>
          </a:prstGeom>
          <a:ln w="0">
            <a:noFill/>
          </a:ln>
        </p:spPr>
      </p:pic>
      <p:pic>
        <p:nvPicPr>
          <p:cNvPr id="878" name="図 9" descr=""/>
          <p:cNvPicPr/>
          <p:nvPr/>
        </p:nvPicPr>
        <p:blipFill>
          <a:blip r:embed="rId3"/>
          <a:stretch/>
        </p:blipFill>
        <p:spPr>
          <a:xfrm>
            <a:off x="228600" y="2666880"/>
            <a:ext cx="4924440" cy="3581640"/>
          </a:xfrm>
          <a:prstGeom prst="rect">
            <a:avLst/>
          </a:prstGeom>
          <a:ln w="0">
            <a:noFill/>
          </a:ln>
        </p:spPr>
      </p:pic>
      <p:pic>
        <p:nvPicPr>
          <p:cNvPr id="879" name="図 17" descr=""/>
          <p:cNvPicPr/>
          <p:nvPr/>
        </p:nvPicPr>
        <p:blipFill>
          <a:blip r:embed="rId4"/>
          <a:stretch/>
        </p:blipFill>
        <p:spPr>
          <a:xfrm>
            <a:off x="2546280" y="1523880"/>
            <a:ext cx="2025720" cy="490680"/>
          </a:xfrm>
          <a:prstGeom prst="rect">
            <a:avLst/>
          </a:prstGeom>
          <a:ln w="0">
            <a:noFill/>
          </a:ln>
        </p:spPr>
      </p:pic>
      <p:grpSp>
        <p:nvGrpSpPr>
          <p:cNvPr id="880" name="正方形/長方形 28"/>
          <p:cNvGrpSpPr/>
          <p:nvPr/>
        </p:nvGrpSpPr>
        <p:grpSpPr>
          <a:xfrm>
            <a:off x="1500120" y="3713040"/>
            <a:ext cx="804960" cy="1408320"/>
            <a:chOff x="1500120" y="3713040"/>
            <a:chExt cx="804960" cy="1408320"/>
          </a:xfrm>
        </p:grpSpPr>
        <p:pic>
          <p:nvPicPr>
            <p:cNvPr id="881" name="正方形/長方形 28" descr=""/>
            <p:cNvPicPr/>
            <p:nvPr/>
          </p:nvPicPr>
          <p:blipFill>
            <a:blip r:embed="rId5"/>
            <a:stretch/>
          </p:blipFill>
          <p:spPr>
            <a:xfrm>
              <a:off x="1500120" y="3713040"/>
              <a:ext cx="80496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>
              <a:off x="1523880" y="3733920"/>
              <a:ext cx="76212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図形グループ 50"/>
          <p:cNvGrpSpPr/>
          <p:nvPr/>
        </p:nvGrpSpPr>
        <p:grpSpPr>
          <a:xfrm>
            <a:off x="0" y="981000"/>
            <a:ext cx="3959280" cy="1650240"/>
            <a:chOff x="0" y="981000"/>
            <a:chExt cx="3959280" cy="1650240"/>
          </a:xfrm>
        </p:grpSpPr>
        <p:sp>
          <p:nvSpPr>
            <p:cNvPr id="884" name="TextBox 38"/>
            <p:cNvSpPr/>
            <p:nvPr/>
          </p:nvSpPr>
          <p:spPr>
            <a:xfrm>
              <a:off x="2324520" y="2354760"/>
              <a:ext cx="163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Beam Ax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5" name="直線矢印コネクタ 43"/>
            <p:cNvCxnSpPr/>
            <p:nvPr/>
          </p:nvCxnSpPr>
          <p:spPr>
            <a:xfrm>
              <a:off x="776160" y="2524320"/>
              <a:ext cx="1807200" cy="3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86" name="直線矢印コネクタ 45"/>
            <p:cNvCxnSpPr/>
            <p:nvPr/>
          </p:nvCxnSpPr>
          <p:spPr>
            <a:xfrm flipV="1">
              <a:off x="774720" y="1293480"/>
              <a:ext cx="2160" cy="1232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887" name="TextBox 46"/>
            <p:cNvSpPr/>
            <p:nvPr/>
          </p:nvSpPr>
          <p:spPr>
            <a:xfrm>
              <a:off x="0" y="981000"/>
              <a:ext cx="163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Azimuthal dir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フリーフォーム 48"/>
            <p:cNvSpPr/>
            <p:nvPr/>
          </p:nvSpPr>
          <p:spPr>
            <a:xfrm>
              <a:off x="1290600" y="2016000"/>
              <a:ext cx="296640" cy="460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  <a:tailEnd len="med" type="stealth" w="med"/>
            </a:ln>
            <a:effectLst>
              <a:outerShdw dist="25560" dir="54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Box 49"/>
            <p:cNvSpPr/>
            <p:nvPr/>
          </p:nvSpPr>
          <p:spPr>
            <a:xfrm>
              <a:off x="1387440" y="1905120"/>
              <a:ext cx="51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90" name="直線矢印コネクタ 15"/>
          <p:cNvCxnSpPr/>
          <p:nvPr/>
        </p:nvCxnSpPr>
        <p:spPr>
          <a:xfrm flipV="1">
            <a:off x="774720" y="1523520"/>
            <a:ext cx="861120" cy="1003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91" name="TextBox 20"/>
          <p:cNvSpPr/>
          <p:nvPr/>
        </p:nvSpPr>
        <p:spPr>
          <a:xfrm>
            <a:off x="914400" y="121932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rack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93" name="スライド番号プレースホルダ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F27DA-F21E-4C4C-A08A-595C7F1E232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895" name="図形グループ 8"/>
          <p:cNvGrpSpPr/>
          <p:nvPr/>
        </p:nvGrpSpPr>
        <p:grpSpPr>
          <a:xfrm>
            <a:off x="304920" y="1143000"/>
            <a:ext cx="8381880" cy="3352680"/>
            <a:chOff x="304920" y="1143000"/>
            <a:chExt cx="8381880" cy="3352680"/>
          </a:xfrm>
        </p:grpSpPr>
        <p:pic>
          <p:nvPicPr>
            <p:cNvPr id="896" name="図 3" descr=""/>
            <p:cNvPicPr/>
            <p:nvPr/>
          </p:nvPicPr>
          <p:blipFill>
            <a:blip r:embed="rId1"/>
            <a:stretch/>
          </p:blipFill>
          <p:spPr>
            <a:xfrm>
              <a:off x="304920" y="1201680"/>
              <a:ext cx="2650320" cy="32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図 4" descr=""/>
            <p:cNvPicPr/>
            <p:nvPr/>
          </p:nvPicPr>
          <p:blipFill>
            <a:blip r:embed="rId2"/>
            <a:stretch/>
          </p:blipFill>
          <p:spPr>
            <a:xfrm>
              <a:off x="6036480" y="1143000"/>
              <a:ext cx="2650320" cy="32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図 5" descr=""/>
            <p:cNvPicPr/>
            <p:nvPr/>
          </p:nvPicPr>
          <p:blipFill>
            <a:blip r:embed="rId3"/>
            <a:stretch/>
          </p:blipFill>
          <p:spPr>
            <a:xfrm>
              <a:off x="3242520" y="1201680"/>
              <a:ext cx="2650320" cy="32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TextBox 6"/>
            <p:cNvSpPr/>
            <p:nvPr/>
          </p:nvSpPr>
          <p:spPr>
            <a:xfrm>
              <a:off x="2939040" y="2525040"/>
              <a:ext cx="30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Box 7"/>
            <p:cNvSpPr/>
            <p:nvPr/>
          </p:nvSpPr>
          <p:spPr>
            <a:xfrm>
              <a:off x="5733360" y="2525040"/>
              <a:ext cx="30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TextBox 15"/>
          <p:cNvSpPr/>
          <p:nvPr/>
        </p:nvSpPr>
        <p:spPr>
          <a:xfrm>
            <a:off x="457200" y="456264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ojected ΔΦ-Δη correlation to the ΔΦ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pplied ZYAM Method to projected ΔΦ correlation and extract 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dopted the b0 extracted in 2. for all Δη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図 16" descr=""/>
          <p:cNvPicPr/>
          <p:nvPr/>
        </p:nvPicPr>
        <p:blipFill>
          <a:blip r:embed="rId4"/>
          <a:stretch/>
        </p:blipFill>
        <p:spPr>
          <a:xfrm>
            <a:off x="2781360" y="5562720"/>
            <a:ext cx="35812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7" name="スライド番号プレースホルダ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BDC69-88AC-415D-86C1-C338341CD47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Jet Physics in Heavy Ion collisions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Trigger Selecte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  <a:ea typeface="Symbol"/>
              </a:rPr>
              <a:t> correlation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Physics Motivation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Consistency check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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 correlation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spcBef>
                <a:spcPts val="499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spcBef>
                <a:spcPts val="499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Jet physics in heavy ion collisi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0" name="スライド番号プレースホルダ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0428A-4A3D-4738-BA62-754DB0405D9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コンテンツ プレースホルダ 4" descr="jet-quenching.jpg"/>
          <p:cNvPicPr/>
          <p:nvPr/>
        </p:nvPicPr>
        <p:blipFill>
          <a:blip r:embed="rId1"/>
          <a:stretch/>
        </p:blipFill>
        <p:spPr>
          <a:xfrm>
            <a:off x="457200" y="1009800"/>
            <a:ext cx="4267080" cy="19620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 txBox="1"/>
          <p:nvPr/>
        </p:nvSpPr>
        <p:spPr>
          <a:xfrm>
            <a:off x="456840" y="2971800"/>
            <a:ext cx="457524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et like correlation is useful probe to understand the  mechanism of hot matter evolution in heavy ion collisions!!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spcBef>
                <a:spcPts val="499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Jet quenching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spcBef>
                <a:spcPts val="499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Mach Cone like structure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As next step, trigger selected correlation study has started. 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2"/>
          <a:srcRect l="0" t="56253" r="10210" b="0"/>
          <a:stretch/>
        </p:blipFill>
        <p:spPr>
          <a:xfrm>
            <a:off x="4952880" y="914400"/>
            <a:ext cx="3810240" cy="27925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" descr="zylayer_ch_any_trig_0_assoc_1_cent_036"/>
          <p:cNvPicPr/>
          <p:nvPr/>
        </p:nvPicPr>
        <p:blipFill>
          <a:blip r:embed="rId3"/>
          <a:stretch/>
        </p:blipFill>
        <p:spPr>
          <a:xfrm>
            <a:off x="5108400" y="3886200"/>
            <a:ext cx="373068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Trigger selected jet lik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correlation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6" name="スライド番号プレースホルダ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C3702-B181-45DB-BA2B-D78EB42E57D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図形グループ 102"/>
          <p:cNvGrpSpPr/>
          <p:nvPr/>
        </p:nvGrpSpPr>
        <p:grpSpPr>
          <a:xfrm>
            <a:off x="222120" y="914400"/>
            <a:ext cx="8587080" cy="3192480"/>
            <a:chOff x="222120" y="914400"/>
            <a:chExt cx="8587080" cy="3192480"/>
          </a:xfrm>
        </p:grpSpPr>
        <p:grpSp>
          <p:nvGrpSpPr>
            <p:cNvPr id="528" name="図形グループ 101"/>
            <p:cNvGrpSpPr/>
            <p:nvPr/>
          </p:nvGrpSpPr>
          <p:grpSpPr>
            <a:xfrm>
              <a:off x="6020280" y="914400"/>
              <a:ext cx="2788920" cy="3192480"/>
              <a:chOff x="6020280" y="914400"/>
              <a:chExt cx="2788920" cy="3192480"/>
            </a:xfrm>
          </p:grpSpPr>
          <p:pic>
            <p:nvPicPr>
              <p:cNvPr id="529" name="Picture 2" descr="mod09"/>
              <p:cNvPicPr/>
              <p:nvPr/>
            </p:nvPicPr>
            <p:blipFill>
              <a:blip r:embed="rId1"/>
              <a:stretch/>
            </p:blipFill>
            <p:spPr>
              <a:xfrm>
                <a:off x="6020280" y="914400"/>
                <a:ext cx="2728080" cy="293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0" name="Rectangle 38"/>
              <p:cNvSpPr/>
              <p:nvPr/>
            </p:nvSpPr>
            <p:spPr>
              <a:xfrm>
                <a:off x="7371360" y="1512000"/>
                <a:ext cx="13161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(8) 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</a:t>
                </a:r>
                <a:r>
                  <a:rPr b="1" lang="en-US" sz="1200" spc="-1" strike="noStrike" baseline="-25000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=[3,4]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/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7"/>
              <p:cNvSpPr/>
              <p:nvPr/>
            </p:nvSpPr>
            <p:spPr>
              <a:xfrm>
                <a:off x="7391880" y="1664640"/>
                <a:ext cx="1417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Times New Roman"/>
                  </a:rPr>
                  <a:t>(1) </a:t>
                </a:r>
                <a:r>
                  <a:rPr b="1" lang="en-US" sz="1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</a:t>
                </a:r>
                <a:r>
                  <a:rPr b="1" lang="en-US" sz="1200" spc="-1" strike="noStrike" baseline="-25000">
                    <a:solidFill>
                      <a:srgbClr val="0000ff"/>
                    </a:solidFill>
                    <a:latin typeface="Times New Roman"/>
                  </a:rPr>
                  <a:t>s</a:t>
                </a:r>
                <a:r>
                  <a:rPr b="1" lang="en-US" sz="1200" spc="-1" strike="noStrike">
                    <a:solidFill>
                      <a:srgbClr val="0000ff"/>
                    </a:solidFill>
                    <a:latin typeface="Times New Roman"/>
                  </a:rPr>
                  <a:t>=[-4,-3]</a:t>
                </a:r>
                <a:r>
                  <a:rPr b="1" lang="en-US" sz="1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1200" spc="-1" strike="noStrike">
                    <a:solidFill>
                      <a:srgbClr val="0000ff"/>
                    </a:solidFill>
                    <a:latin typeface="Times New Roman"/>
                  </a:rPr>
                  <a:t>/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40"/>
              <p:cNvSpPr/>
              <p:nvPr/>
            </p:nvSpPr>
            <p:spPr>
              <a:xfrm>
                <a:off x="6566400" y="3770640"/>
                <a:ext cx="2197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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Gill Sans MT"/>
                  </a:rPr>
                  <a:t>Asso.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Gill Sans M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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Gill Sans MT"/>
                  </a:rPr>
                  <a:t>Trig.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Gill Sans MT"/>
                  </a:rPr>
                  <a:t> (rad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図形グループ 100"/>
            <p:cNvGrpSpPr/>
            <p:nvPr/>
          </p:nvGrpSpPr>
          <p:grpSpPr>
            <a:xfrm>
              <a:off x="3217680" y="937800"/>
              <a:ext cx="2649960" cy="3169080"/>
              <a:chOff x="3217680" y="937800"/>
              <a:chExt cx="2649960" cy="3169080"/>
            </a:xfrm>
          </p:grpSpPr>
          <p:pic>
            <p:nvPicPr>
              <p:cNvPr id="534" name="Picture 2" descr="mod07"/>
              <p:cNvPicPr/>
              <p:nvPr/>
            </p:nvPicPr>
            <p:blipFill>
              <a:blip r:embed="rId2"/>
              <a:stretch/>
            </p:blipFill>
            <p:spPr>
              <a:xfrm>
                <a:off x="3217680" y="937800"/>
                <a:ext cx="2649960" cy="290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5" name="Rectangle 37"/>
              <p:cNvSpPr/>
              <p:nvPr/>
            </p:nvSpPr>
            <p:spPr>
              <a:xfrm>
                <a:off x="4420080" y="1664640"/>
                <a:ext cx="1417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Times New Roman"/>
                  </a:rPr>
                  <a:t>(3) </a:t>
                </a:r>
                <a:r>
                  <a:rPr b="1" lang="en-US" sz="1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</a:t>
                </a:r>
                <a:r>
                  <a:rPr b="1" lang="en-US" sz="1200" spc="-1" strike="noStrike" baseline="-25000">
                    <a:solidFill>
                      <a:srgbClr val="0000ff"/>
                    </a:solidFill>
                    <a:latin typeface="Times New Roman"/>
                  </a:rPr>
                  <a:t>s</a:t>
                </a:r>
                <a:r>
                  <a:rPr b="1" lang="en-US" sz="1200" spc="-1" strike="noStrike">
                    <a:solidFill>
                      <a:srgbClr val="0000ff"/>
                    </a:solidFill>
                    <a:latin typeface="Times New Roman"/>
                  </a:rPr>
                  <a:t>=[-2,-1]</a:t>
                </a:r>
                <a:r>
                  <a:rPr b="1" lang="en-US" sz="1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1200" spc="-1" strike="noStrike">
                    <a:solidFill>
                      <a:srgbClr val="0000ff"/>
                    </a:solidFill>
                    <a:latin typeface="Times New Roman"/>
                  </a:rPr>
                  <a:t>/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8"/>
              <p:cNvSpPr/>
              <p:nvPr/>
            </p:nvSpPr>
            <p:spPr>
              <a:xfrm>
                <a:off x="4420080" y="1512000"/>
                <a:ext cx="13158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(6) 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</a:t>
                </a:r>
                <a:r>
                  <a:rPr b="1" lang="en-US" sz="1200" spc="-1" strike="noStrike" baseline="-25000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=[1,2]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/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40"/>
              <p:cNvSpPr/>
              <p:nvPr/>
            </p:nvSpPr>
            <p:spPr>
              <a:xfrm>
                <a:off x="3594600" y="3770640"/>
                <a:ext cx="21967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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Gill Sans MT"/>
                  </a:rPr>
                  <a:t>Asso.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Gill Sans M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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Gill Sans MT"/>
                  </a:rPr>
                  <a:t>Trig.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Gill Sans MT"/>
                  </a:rPr>
                  <a:t> (rad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図形グループ 6"/>
            <p:cNvGrpSpPr/>
            <p:nvPr/>
          </p:nvGrpSpPr>
          <p:grpSpPr>
            <a:xfrm>
              <a:off x="222120" y="916560"/>
              <a:ext cx="2826360" cy="3148560"/>
              <a:chOff x="222120" y="916560"/>
              <a:chExt cx="2826360" cy="3148560"/>
            </a:xfrm>
          </p:grpSpPr>
          <p:pic>
            <p:nvPicPr>
              <p:cNvPr id="539" name="Picture 2" descr="mod06"/>
              <p:cNvPicPr/>
              <p:nvPr/>
            </p:nvPicPr>
            <p:blipFill>
              <a:blip r:embed="rId3"/>
              <a:stretch/>
            </p:blipFill>
            <p:spPr>
              <a:xfrm>
                <a:off x="398520" y="916560"/>
                <a:ext cx="2649960" cy="292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Rectangle 37"/>
              <p:cNvSpPr/>
              <p:nvPr/>
            </p:nvSpPr>
            <p:spPr>
              <a:xfrm>
                <a:off x="1614240" y="1628280"/>
                <a:ext cx="12920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Times New Roman"/>
                  </a:rPr>
                  <a:t>(4) </a:t>
                </a:r>
                <a:r>
                  <a:rPr b="1" lang="en-US" sz="1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</a:t>
                </a:r>
                <a:r>
                  <a:rPr b="1" lang="en-US" sz="1200" spc="-1" strike="noStrike" baseline="-25000">
                    <a:solidFill>
                      <a:srgbClr val="0000ff"/>
                    </a:solidFill>
                    <a:latin typeface="Times New Roman"/>
                  </a:rPr>
                  <a:t>s</a:t>
                </a:r>
                <a:r>
                  <a:rPr b="1" lang="en-US" sz="1200" spc="-1" strike="noStrike">
                    <a:solidFill>
                      <a:srgbClr val="0000ff"/>
                    </a:solidFill>
                    <a:latin typeface="Times New Roman"/>
                  </a:rPr>
                  <a:t>=[-1,0]</a:t>
                </a:r>
                <a:r>
                  <a:rPr b="1" lang="en-US" sz="1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1200" spc="-1" strike="noStrike">
                    <a:solidFill>
                      <a:srgbClr val="0000ff"/>
                    </a:solidFill>
                    <a:latin typeface="Times New Roman"/>
                  </a:rPr>
                  <a:t>/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38"/>
              <p:cNvSpPr/>
              <p:nvPr/>
            </p:nvSpPr>
            <p:spPr>
              <a:xfrm>
                <a:off x="1614240" y="1467360"/>
                <a:ext cx="11998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(5) 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</a:t>
                </a:r>
                <a:r>
                  <a:rPr b="1" lang="en-US" sz="1200" spc="-1" strike="noStrike" baseline="-25000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=[0,1]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/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Text Box 39"/>
              <p:cNvSpPr/>
              <p:nvPr/>
            </p:nvSpPr>
            <p:spPr>
              <a:xfrm>
                <a:off x="1118160" y="3354840"/>
                <a:ext cx="182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Gill Sans MT"/>
                  </a:rPr>
                  <a:t>PHENI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Gill Sans MT"/>
                  </a:rPr>
                  <a:t> preliminar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40"/>
              <p:cNvSpPr/>
              <p:nvPr/>
            </p:nvSpPr>
            <p:spPr>
              <a:xfrm>
                <a:off x="1000800" y="3728880"/>
                <a:ext cx="2002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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Gill Sans MT"/>
                  </a:rPr>
                  <a:t>Asso.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Gill Sans M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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Gill Sans MT"/>
                  </a:rPr>
                  <a:t>Trig.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Gill Sans MT"/>
                  </a:rPr>
                  <a:t> (rad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 Box 48"/>
              <p:cNvSpPr/>
              <p:nvPr/>
            </p:nvSpPr>
            <p:spPr>
              <a:xfrm rot="16200000">
                <a:off x="-504720" y="1883160"/>
                <a:ext cx="17906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Gill Sans MT"/>
                  </a:rPr>
                  <a:t>c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Gill Sans MT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Gill Sans MT"/>
                  </a:rPr>
                  <a:t>(data) - c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Gill Sans MT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Gill Sans MT"/>
                  </a:rPr>
                  <a:t>(flow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34"/>
          <p:cNvSpPr/>
          <p:nvPr/>
        </p:nvSpPr>
        <p:spPr>
          <a:xfrm>
            <a:off x="6402240" y="714240"/>
            <a:ext cx="24638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. Esumi QM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0520" y="4114440"/>
            <a:ext cx="5715000" cy="20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Au+Au 200 GeV Hadron-Hadron (Run7)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250920" indent="-25092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entrality: 20-50%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250920" indent="-25092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ＭＳ Ｐゴシック"/>
              </a:rPr>
              <a:t>Trig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:2-4GeV P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ＭＳ Ｐゴシック"/>
              </a:rPr>
              <a:t>Asso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: 1-2GeV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250920" indent="-25092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By selecting trigger relative angle from reaction plane, correlation shape at away side changes.  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547" name="図形グループ 15"/>
          <p:cNvGrpSpPr/>
          <p:nvPr/>
        </p:nvGrpSpPr>
        <p:grpSpPr>
          <a:xfrm>
            <a:off x="6192000" y="4267080"/>
            <a:ext cx="3071160" cy="2363760"/>
            <a:chOff x="6192000" y="4267080"/>
            <a:chExt cx="3071160" cy="2363760"/>
          </a:xfrm>
        </p:grpSpPr>
        <p:grpSp>
          <p:nvGrpSpPr>
            <p:cNvPr id="548" name="Group 3"/>
            <p:cNvGrpSpPr/>
            <p:nvPr/>
          </p:nvGrpSpPr>
          <p:grpSpPr>
            <a:xfrm>
              <a:off x="6366600" y="4314240"/>
              <a:ext cx="2865960" cy="1979640"/>
              <a:chOff x="6366600" y="4314240"/>
              <a:chExt cx="2865960" cy="1979640"/>
            </a:xfrm>
          </p:grpSpPr>
          <p:grpSp>
            <p:nvGrpSpPr>
              <p:cNvPr id="549" name="Group 4"/>
              <p:cNvGrpSpPr/>
              <p:nvPr/>
            </p:nvGrpSpPr>
            <p:grpSpPr>
              <a:xfrm>
                <a:off x="6620760" y="4314240"/>
                <a:ext cx="1937160" cy="1979640"/>
                <a:chOff x="6620760" y="4314240"/>
                <a:chExt cx="1937160" cy="1979640"/>
              </a:xfrm>
            </p:grpSpPr>
            <p:grpSp>
              <p:nvGrpSpPr>
                <p:cNvPr id="550" name="Group 5"/>
                <p:cNvGrpSpPr/>
                <p:nvPr/>
              </p:nvGrpSpPr>
              <p:grpSpPr>
                <a:xfrm>
                  <a:off x="6620760" y="4314240"/>
                  <a:ext cx="1937160" cy="1941120"/>
                  <a:chOff x="6620760" y="4314240"/>
                  <a:chExt cx="1937160" cy="1941120"/>
                </a:xfrm>
              </p:grpSpPr>
              <p:grpSp>
                <p:nvGrpSpPr>
                  <p:cNvPr id="551" name="Group 6"/>
                  <p:cNvGrpSpPr/>
                  <p:nvPr/>
                </p:nvGrpSpPr>
                <p:grpSpPr>
                  <a:xfrm>
                    <a:off x="7223400" y="4677120"/>
                    <a:ext cx="753480" cy="1257480"/>
                    <a:chOff x="7223400" y="4677120"/>
                    <a:chExt cx="753480" cy="1257480"/>
                  </a:xfrm>
                </p:grpSpPr>
                <p:sp>
                  <p:nvSpPr>
                    <p:cNvPr id="552" name="Oval 7"/>
                    <p:cNvSpPr/>
                    <p:nvPr/>
                  </p:nvSpPr>
                  <p:spPr>
                    <a:xfrm>
                      <a:off x="7223400" y="4677120"/>
                      <a:ext cx="753480" cy="12574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3" name="Line 8"/>
                  <p:cNvSpPr/>
                  <p:nvPr/>
                </p:nvSpPr>
                <p:spPr>
                  <a:xfrm>
                    <a:off x="6620760" y="5294160"/>
                    <a:ext cx="193716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Line 9"/>
                  <p:cNvSpPr/>
                  <p:nvPr/>
                </p:nvSpPr>
                <p:spPr>
                  <a:xfrm>
                    <a:off x="7610400" y="4314240"/>
                    <a:ext cx="720" cy="194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Line 10"/>
                  <p:cNvSpPr/>
                  <p:nvPr/>
                </p:nvSpPr>
                <p:spPr>
                  <a:xfrm flipV="1">
                    <a:off x="6878880" y="4584240"/>
                    <a:ext cx="1398960" cy="1488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Line 11"/>
                  <p:cNvSpPr/>
                  <p:nvPr/>
                </p:nvSpPr>
                <p:spPr>
                  <a:xfrm flipH="1" flipV="1">
                    <a:off x="6941880" y="4584240"/>
                    <a:ext cx="1400760" cy="1488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Line 12"/>
                <p:cNvSpPr/>
                <p:nvPr/>
              </p:nvSpPr>
              <p:spPr>
                <a:xfrm>
                  <a:off x="7250400" y="4424400"/>
                  <a:ext cx="727560" cy="179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Line 13"/>
                <p:cNvSpPr/>
                <p:nvPr/>
              </p:nvSpPr>
              <p:spPr>
                <a:xfrm flipV="1">
                  <a:off x="6749640" y="4908960"/>
                  <a:ext cx="1729080" cy="7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4"/>
                <p:cNvSpPr/>
                <p:nvPr/>
              </p:nvSpPr>
              <p:spPr>
                <a:xfrm>
                  <a:off x="6705000" y="4908960"/>
                  <a:ext cx="1818720" cy="7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Line 15"/>
                <p:cNvSpPr/>
                <p:nvPr/>
              </p:nvSpPr>
              <p:spPr>
                <a:xfrm flipH="1">
                  <a:off x="7250040" y="4326840"/>
                  <a:ext cx="727560" cy="188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Text Box 16"/>
                <p:cNvSpPr/>
                <p:nvPr/>
              </p:nvSpPr>
              <p:spPr>
                <a:xfrm>
                  <a:off x="7637400" y="6047640"/>
                  <a:ext cx="33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000" spc="-1" strike="noStrike">
                      <a:solidFill>
                        <a:srgbClr val="0000ff"/>
                      </a:solidFill>
                      <a:latin typeface="Times New Roman"/>
                    </a:rPr>
                    <a:t>(1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17"/>
                <p:cNvSpPr/>
                <p:nvPr/>
              </p:nvSpPr>
              <p:spPr>
                <a:xfrm>
                  <a:off x="7920360" y="5853960"/>
                  <a:ext cx="33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000" spc="-1" strike="noStrike">
                      <a:solidFill>
                        <a:srgbClr val="0000ff"/>
                      </a:solidFill>
                      <a:latin typeface="Times New Roman"/>
                    </a:rPr>
                    <a:t>(2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Text Box 18"/>
                <p:cNvSpPr/>
                <p:nvPr/>
              </p:nvSpPr>
              <p:spPr>
                <a:xfrm>
                  <a:off x="8076960" y="5611680"/>
                  <a:ext cx="33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000" spc="-1" strike="noStrike">
                      <a:solidFill>
                        <a:srgbClr val="0000ff"/>
                      </a:solidFill>
                      <a:latin typeface="Times New Roman"/>
                    </a:rPr>
                    <a:t>(3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Text Box 19"/>
                <p:cNvSpPr/>
                <p:nvPr/>
              </p:nvSpPr>
              <p:spPr>
                <a:xfrm>
                  <a:off x="8143560" y="5319000"/>
                  <a:ext cx="33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000" spc="-1" strike="noStrike">
                      <a:solidFill>
                        <a:srgbClr val="0000ff"/>
                      </a:solidFill>
                      <a:latin typeface="Times New Roman"/>
                    </a:rPr>
                    <a:t>(4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Text Box 20"/>
                <p:cNvSpPr/>
                <p:nvPr/>
              </p:nvSpPr>
              <p:spPr>
                <a:xfrm>
                  <a:off x="8143560" y="5031720"/>
                  <a:ext cx="33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000" spc="-1" strike="noStrike">
                      <a:solidFill>
                        <a:srgbClr val="ff0000"/>
                      </a:solidFill>
                      <a:latin typeface="Times New Roman"/>
                    </a:rPr>
                    <a:t>(5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Text Box 21"/>
                <p:cNvSpPr/>
                <p:nvPr/>
              </p:nvSpPr>
              <p:spPr>
                <a:xfrm>
                  <a:off x="8076960" y="4773240"/>
                  <a:ext cx="33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000" spc="-1" strike="noStrike">
                      <a:solidFill>
                        <a:srgbClr val="ff0000"/>
                      </a:solidFill>
                      <a:latin typeface="Times New Roman"/>
                    </a:rPr>
                    <a:t>(6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Text Box 22"/>
                <p:cNvSpPr/>
                <p:nvPr/>
              </p:nvSpPr>
              <p:spPr>
                <a:xfrm>
                  <a:off x="7920360" y="4511160"/>
                  <a:ext cx="33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000" spc="-1" strike="noStrike">
                      <a:solidFill>
                        <a:srgbClr val="ff0000"/>
                      </a:solidFill>
                      <a:latin typeface="Times New Roman"/>
                    </a:rPr>
                    <a:t>(7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Text Box 23"/>
                <p:cNvSpPr/>
                <p:nvPr/>
              </p:nvSpPr>
              <p:spPr>
                <a:xfrm>
                  <a:off x="7637400" y="4337280"/>
                  <a:ext cx="33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000" spc="-1" strike="noStrike">
                      <a:solidFill>
                        <a:srgbClr val="ff0000"/>
                      </a:solidFill>
                      <a:latin typeface="Times New Roman"/>
                    </a:rPr>
                    <a:t>(8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Text Box 24"/>
                <p:cNvSpPr/>
                <p:nvPr/>
              </p:nvSpPr>
              <p:spPr>
                <a:xfrm>
                  <a:off x="7300800" y="4337280"/>
                  <a:ext cx="33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000" spc="-1" strike="noStrike">
                      <a:solidFill>
                        <a:srgbClr val="0000ff"/>
                      </a:solidFill>
                      <a:latin typeface="Times New Roman"/>
                    </a:rPr>
                    <a:t>(1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Text Box 25"/>
                <p:cNvSpPr/>
                <p:nvPr/>
              </p:nvSpPr>
              <p:spPr>
                <a:xfrm>
                  <a:off x="7059600" y="4511160"/>
                  <a:ext cx="33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000" spc="-1" strike="noStrike">
                      <a:solidFill>
                        <a:srgbClr val="0000ff"/>
                      </a:solidFill>
                      <a:latin typeface="Times New Roman"/>
                    </a:rPr>
                    <a:t>(2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Text Box 26"/>
                <p:cNvSpPr/>
                <p:nvPr/>
              </p:nvSpPr>
              <p:spPr>
                <a:xfrm>
                  <a:off x="6891480" y="4773240"/>
                  <a:ext cx="33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000" spc="-1" strike="noStrike">
                      <a:solidFill>
                        <a:srgbClr val="0000ff"/>
                      </a:solidFill>
                      <a:latin typeface="Times New Roman"/>
                    </a:rPr>
                    <a:t>(3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27"/>
                <p:cNvSpPr/>
                <p:nvPr/>
              </p:nvSpPr>
              <p:spPr>
                <a:xfrm>
                  <a:off x="6808320" y="5031720"/>
                  <a:ext cx="33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000" spc="-1" strike="noStrike">
                      <a:solidFill>
                        <a:srgbClr val="0000ff"/>
                      </a:solidFill>
                      <a:latin typeface="Times New Roman"/>
                    </a:rPr>
                    <a:t>(4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28"/>
                <p:cNvSpPr/>
                <p:nvPr/>
              </p:nvSpPr>
              <p:spPr>
                <a:xfrm>
                  <a:off x="6808320" y="5292000"/>
                  <a:ext cx="33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000" spc="-1" strike="noStrike">
                      <a:solidFill>
                        <a:srgbClr val="ff0000"/>
                      </a:solidFill>
                      <a:latin typeface="Times New Roman"/>
                    </a:rPr>
                    <a:t>(5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Text Box 29"/>
                <p:cNvSpPr/>
                <p:nvPr/>
              </p:nvSpPr>
              <p:spPr>
                <a:xfrm>
                  <a:off x="6891480" y="5552280"/>
                  <a:ext cx="33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000" spc="-1" strike="noStrike">
                      <a:solidFill>
                        <a:srgbClr val="ff0000"/>
                      </a:solidFill>
                      <a:latin typeface="Times New Roman"/>
                    </a:rPr>
                    <a:t>(6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Text Box 30"/>
                <p:cNvSpPr/>
                <p:nvPr/>
              </p:nvSpPr>
              <p:spPr>
                <a:xfrm>
                  <a:off x="7059600" y="5853960"/>
                  <a:ext cx="33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000" spc="-1" strike="noStrike">
                      <a:solidFill>
                        <a:srgbClr val="ff0000"/>
                      </a:solidFill>
                      <a:latin typeface="Times New Roman"/>
                    </a:rPr>
                    <a:t>(7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Text Box 31"/>
                <p:cNvSpPr/>
                <p:nvPr/>
              </p:nvSpPr>
              <p:spPr>
                <a:xfrm>
                  <a:off x="7300800" y="6047640"/>
                  <a:ext cx="33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000" spc="-1" strike="noStrike">
                      <a:solidFill>
                        <a:srgbClr val="ff0000"/>
                      </a:solidFill>
                      <a:latin typeface="Times New Roman"/>
                    </a:rPr>
                    <a:t>(8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" name="Line 32"/>
              <p:cNvSpPr/>
              <p:nvPr/>
            </p:nvSpPr>
            <p:spPr>
              <a:xfrm>
                <a:off x="6366600" y="5292000"/>
                <a:ext cx="2477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33"/>
              <p:cNvSpPr/>
              <p:nvPr/>
            </p:nvSpPr>
            <p:spPr>
              <a:xfrm>
                <a:off x="8469720" y="4944960"/>
                <a:ext cx="76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Gill Sans MT"/>
                  </a:rPr>
                  <a:t>in-pla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Rectangle 35"/>
            <p:cNvSpPr/>
            <p:nvPr/>
          </p:nvSpPr>
          <p:spPr>
            <a:xfrm>
              <a:off x="6621120" y="6294600"/>
              <a:ext cx="2642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Gill Sans MT"/>
                </a:rPr>
                <a:t>s</a:t>
              </a: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</a:rPr>
                <a:t> =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Gill Sans MT"/>
                </a:rPr>
                <a:t>Trig.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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Gill Sans MT"/>
                </a:rPr>
                <a:t>R.P.</a:t>
              </a: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</a:rPr>
                <a:t> [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</a:t>
              </a: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</a:rPr>
                <a:t>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49"/>
            <p:cNvSpPr/>
            <p:nvPr/>
          </p:nvSpPr>
          <p:spPr>
            <a:xfrm>
              <a:off x="8543520" y="426708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Gill Sans MT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50"/>
            <p:cNvSpPr/>
            <p:nvPr/>
          </p:nvSpPr>
          <p:spPr>
            <a:xfrm>
              <a:off x="6267960" y="582084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Gill Sans MT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51"/>
            <p:cNvSpPr/>
            <p:nvPr/>
          </p:nvSpPr>
          <p:spPr>
            <a:xfrm>
              <a:off x="6192000" y="429552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Gill Sans MT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52"/>
            <p:cNvSpPr/>
            <p:nvPr/>
          </p:nvSpPr>
          <p:spPr>
            <a:xfrm>
              <a:off x="8381160" y="582084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Gill Sans MT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Text Box 39"/>
          <p:cNvSpPr/>
          <p:nvPr/>
        </p:nvSpPr>
        <p:spPr>
          <a:xfrm>
            <a:off x="6785640" y="33526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Gill Sans MT"/>
              </a:rPr>
              <a:t>PHENIX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9"/>
          <p:cNvSpPr/>
          <p:nvPr/>
        </p:nvSpPr>
        <p:spPr>
          <a:xfrm>
            <a:off x="3966120" y="33526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Gill Sans MT"/>
              </a:rPr>
              <a:t>PHENIX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62"/>
          <p:cNvSpPr/>
          <p:nvPr/>
        </p:nvSpPr>
        <p:spPr>
          <a:xfrm>
            <a:off x="1614600" y="1154160"/>
            <a:ext cx="1184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63"/>
          <p:cNvSpPr/>
          <p:nvPr/>
        </p:nvSpPr>
        <p:spPr>
          <a:xfrm>
            <a:off x="7178760" y="1157400"/>
            <a:ext cx="1660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of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64"/>
          <p:cNvSpPr/>
          <p:nvPr/>
        </p:nvSpPr>
        <p:spPr>
          <a:xfrm>
            <a:off x="3218040" y="1157400"/>
            <a:ext cx="2649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in &amp; out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Trigger selected ridge lik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correlation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3600" y="3204720"/>
            <a:ext cx="495612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Au+Au 200GeV Hadron - Hadron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entrality : 20-60%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ＭＳ Ｐゴシック"/>
              </a:rPr>
              <a:t>Trig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: 3-4GeV, P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ＭＳ Ｐゴシック"/>
              </a:rPr>
              <a:t>Asso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: 1-1.5GeV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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&gt;0.7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ＭＳ Ｐゴシック"/>
              </a:rPr>
              <a:t>Trig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ＭＳ Ｐゴシック"/>
              </a:rPr>
              <a:t>R.P.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&lt;0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ocus on only red line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Near side peak shifts to “+”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  <a:ea typeface="Symbol"/>
              </a:rPr>
              <a:t> direction when trigger angle moves from inplane to out of plane.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91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8A5970-DF75-4030-9CF6-AE3507C7575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図形グループ 102"/>
          <p:cNvGrpSpPr/>
          <p:nvPr/>
        </p:nvGrpSpPr>
        <p:grpSpPr>
          <a:xfrm>
            <a:off x="5827680" y="2895480"/>
            <a:ext cx="3069360" cy="1924200"/>
            <a:chOff x="5827680" y="2895480"/>
            <a:chExt cx="3069360" cy="1924200"/>
          </a:xfrm>
        </p:grpSpPr>
        <p:grpSp>
          <p:nvGrpSpPr>
            <p:cNvPr id="593" name="Group 5"/>
            <p:cNvGrpSpPr/>
            <p:nvPr/>
          </p:nvGrpSpPr>
          <p:grpSpPr>
            <a:xfrm>
              <a:off x="6285240" y="2895480"/>
              <a:ext cx="1936800" cy="1656360"/>
              <a:chOff x="6285240" y="2895480"/>
              <a:chExt cx="1936800" cy="1656360"/>
            </a:xfrm>
          </p:grpSpPr>
          <p:grpSp>
            <p:nvGrpSpPr>
              <p:cNvPr id="594" name="Group 6"/>
              <p:cNvGrpSpPr/>
              <p:nvPr/>
            </p:nvGrpSpPr>
            <p:grpSpPr>
              <a:xfrm>
                <a:off x="6887520" y="3205080"/>
                <a:ext cx="753480" cy="1072800"/>
                <a:chOff x="6887520" y="3205080"/>
                <a:chExt cx="753480" cy="1072800"/>
              </a:xfrm>
            </p:grpSpPr>
            <p:sp>
              <p:nvSpPr>
                <p:cNvPr id="595" name="Oval 7"/>
                <p:cNvSpPr/>
                <p:nvPr/>
              </p:nvSpPr>
              <p:spPr>
                <a:xfrm>
                  <a:off x="6887520" y="3205080"/>
                  <a:ext cx="753480" cy="10728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6" name="Line 8"/>
              <p:cNvSpPr/>
              <p:nvPr/>
            </p:nvSpPr>
            <p:spPr>
              <a:xfrm>
                <a:off x="6285240" y="3731760"/>
                <a:ext cx="19368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9"/>
              <p:cNvSpPr/>
              <p:nvPr/>
            </p:nvSpPr>
            <p:spPr>
              <a:xfrm>
                <a:off x="7274880" y="2895480"/>
                <a:ext cx="720" cy="165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Line 32"/>
            <p:cNvSpPr/>
            <p:nvPr/>
          </p:nvSpPr>
          <p:spPr>
            <a:xfrm>
              <a:off x="6030720" y="3729600"/>
              <a:ext cx="247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33"/>
            <p:cNvSpPr/>
            <p:nvPr/>
          </p:nvSpPr>
          <p:spPr>
            <a:xfrm>
              <a:off x="8134200" y="3433680"/>
              <a:ext cx="76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in-pl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35"/>
            <p:cNvSpPr/>
            <p:nvPr/>
          </p:nvSpPr>
          <p:spPr>
            <a:xfrm>
              <a:off x="5827680" y="4483440"/>
              <a:ext cx="264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Gill Sans MT"/>
                </a:rPr>
                <a:t>s</a:t>
              </a: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</a:rPr>
                <a:t> =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Gill Sans MT"/>
                </a:rPr>
                <a:t>Trig.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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Gill Sans MT"/>
                </a:rPr>
                <a:t>R.P.</a:t>
              </a: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</a:rPr>
                <a:t> [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</a:t>
              </a: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</a:rPr>
                <a:t>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9"/>
            <p:cNvSpPr/>
            <p:nvPr/>
          </p:nvSpPr>
          <p:spPr>
            <a:xfrm>
              <a:off x="7082280" y="2959920"/>
              <a:ext cx="42948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9"/>
            <p:cNvSpPr/>
            <p:nvPr/>
          </p:nvSpPr>
          <p:spPr>
            <a:xfrm>
              <a:off x="6887880" y="3025080"/>
              <a:ext cx="828720" cy="143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9"/>
            <p:cNvSpPr/>
            <p:nvPr/>
          </p:nvSpPr>
          <p:spPr>
            <a:xfrm>
              <a:off x="6716520" y="3171240"/>
              <a:ext cx="1171800" cy="117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9"/>
            <p:cNvSpPr/>
            <p:nvPr/>
          </p:nvSpPr>
          <p:spPr>
            <a:xfrm>
              <a:off x="6482520" y="3279240"/>
              <a:ext cx="168120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9"/>
            <p:cNvSpPr/>
            <p:nvPr/>
          </p:nvSpPr>
          <p:spPr>
            <a:xfrm>
              <a:off x="6359760" y="3494160"/>
              <a:ext cx="1874880" cy="5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62"/>
            <p:cNvSpPr/>
            <p:nvPr/>
          </p:nvSpPr>
          <p:spPr>
            <a:xfrm>
              <a:off x="6030720" y="2895480"/>
              <a:ext cx="58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 bi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63"/>
            <p:cNvSpPr/>
            <p:nvPr/>
          </p:nvSpPr>
          <p:spPr>
            <a:xfrm>
              <a:off x="7984080" y="4244760"/>
              <a:ext cx="58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 bi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図形グループ 131"/>
          <p:cNvGrpSpPr/>
          <p:nvPr/>
        </p:nvGrpSpPr>
        <p:grpSpPr>
          <a:xfrm>
            <a:off x="-76320" y="474840"/>
            <a:ext cx="9241200" cy="2639880"/>
            <a:chOff x="-76320" y="474840"/>
            <a:chExt cx="9241200" cy="2639880"/>
          </a:xfrm>
        </p:grpSpPr>
        <p:pic>
          <p:nvPicPr>
            <p:cNvPr id="609" name="Picture 11" descr="star_asym"/>
            <p:cNvPicPr/>
            <p:nvPr/>
          </p:nvPicPr>
          <p:blipFill>
            <a:blip r:embed="rId1"/>
            <a:stretch/>
          </p:blipFill>
          <p:spPr>
            <a:xfrm>
              <a:off x="-76320" y="822960"/>
              <a:ext cx="9144360" cy="192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Rectangle 12"/>
            <p:cNvSpPr/>
            <p:nvPr/>
          </p:nvSpPr>
          <p:spPr>
            <a:xfrm>
              <a:off x="8158320" y="474840"/>
              <a:ext cx="100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QM09 ST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直線コネクタ 8"/>
            <p:cNvSpPr/>
            <p:nvPr/>
          </p:nvSpPr>
          <p:spPr>
            <a:xfrm flipV="1">
              <a:off x="377640" y="1091880"/>
              <a:ext cx="1440" cy="144612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直線コネクタ 13"/>
            <p:cNvSpPr/>
            <p:nvPr/>
          </p:nvSpPr>
          <p:spPr>
            <a:xfrm flipV="1">
              <a:off x="1904760" y="1090440"/>
              <a:ext cx="1440" cy="144612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直線コネクタ 14"/>
            <p:cNvSpPr/>
            <p:nvPr/>
          </p:nvSpPr>
          <p:spPr>
            <a:xfrm flipV="1">
              <a:off x="3490920" y="1090440"/>
              <a:ext cx="1440" cy="144612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直線コネクタ 15"/>
            <p:cNvSpPr/>
            <p:nvPr/>
          </p:nvSpPr>
          <p:spPr>
            <a:xfrm flipV="1">
              <a:off x="5054760" y="1090440"/>
              <a:ext cx="1440" cy="144612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直線コネクタ 16"/>
            <p:cNvSpPr/>
            <p:nvPr/>
          </p:nvSpPr>
          <p:spPr>
            <a:xfrm flipV="1">
              <a:off x="6608880" y="1090440"/>
              <a:ext cx="1440" cy="144612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直線コネクタ 17"/>
            <p:cNvSpPr/>
            <p:nvPr/>
          </p:nvSpPr>
          <p:spPr>
            <a:xfrm flipV="1">
              <a:off x="8196480" y="1090440"/>
              <a:ext cx="1440" cy="144612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103"/>
            <p:cNvSpPr/>
            <p:nvPr/>
          </p:nvSpPr>
          <p:spPr>
            <a:xfrm>
              <a:off x="152280" y="274644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pla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104"/>
            <p:cNvSpPr/>
            <p:nvPr/>
          </p:nvSpPr>
          <p:spPr>
            <a:xfrm>
              <a:off x="7540920" y="2735280"/>
              <a:ext cx="152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 of pla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9" name="直線矢印コネクタ 106"/>
            <p:cNvCxnSpPr>
              <a:stCxn id="617" idx="3"/>
              <a:endCxn id="618" idx="1"/>
            </p:cNvCxnSpPr>
            <p:nvPr/>
          </p:nvCxnSpPr>
          <p:spPr>
            <a:xfrm flipV="1">
              <a:off x="1218960" y="2954160"/>
              <a:ext cx="6322320" cy="11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620" name="図形グループ 130"/>
          <p:cNvGrpSpPr/>
          <p:nvPr/>
        </p:nvGrpSpPr>
        <p:grpSpPr>
          <a:xfrm>
            <a:off x="5714280" y="4773600"/>
            <a:ext cx="3201120" cy="1978560"/>
            <a:chOff x="5714280" y="4773600"/>
            <a:chExt cx="3201120" cy="1978560"/>
          </a:xfrm>
        </p:grpSpPr>
        <p:grpSp>
          <p:nvGrpSpPr>
            <p:cNvPr id="621" name="図形グループ 101"/>
            <p:cNvGrpSpPr/>
            <p:nvPr/>
          </p:nvGrpSpPr>
          <p:grpSpPr>
            <a:xfrm>
              <a:off x="5790960" y="4773600"/>
              <a:ext cx="3124440" cy="1978560"/>
              <a:chOff x="5790960" y="4773600"/>
              <a:chExt cx="3124440" cy="1978560"/>
            </a:xfrm>
          </p:grpSpPr>
          <p:grpSp>
            <p:nvGrpSpPr>
              <p:cNvPr id="622" name="図形グループ 93"/>
              <p:cNvGrpSpPr/>
              <p:nvPr/>
            </p:nvGrpSpPr>
            <p:grpSpPr>
              <a:xfrm>
                <a:off x="5790960" y="4998600"/>
                <a:ext cx="2638440" cy="1521360"/>
                <a:chOff x="5790960" y="4998600"/>
                <a:chExt cx="2638440" cy="1521360"/>
              </a:xfrm>
            </p:grpSpPr>
            <p:cxnSp>
              <p:nvCxnSpPr>
                <p:cNvPr id="623" name="直線矢印コネクタ 65"/>
                <p:cNvCxnSpPr/>
                <p:nvPr/>
              </p:nvCxnSpPr>
              <p:spPr>
                <a:xfrm>
                  <a:off x="5954400" y="5756760"/>
                  <a:ext cx="2475360" cy="216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624" name="直線矢印コネクタ 66"/>
                <p:cNvCxnSpPr/>
                <p:nvPr/>
              </p:nvCxnSpPr>
              <p:spPr>
                <a:xfrm flipV="1">
                  <a:off x="7047360" y="4998600"/>
                  <a:ext cx="2160" cy="150660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grpSp>
              <p:nvGrpSpPr>
                <p:cNvPr id="625" name="正方形/長方形 70"/>
                <p:cNvGrpSpPr/>
                <p:nvPr/>
              </p:nvGrpSpPr>
              <p:grpSpPr>
                <a:xfrm>
                  <a:off x="6053040" y="5059080"/>
                  <a:ext cx="1988280" cy="1406520"/>
                  <a:chOff x="6053040" y="5059080"/>
                  <a:chExt cx="1988280" cy="1406520"/>
                </a:xfrm>
              </p:grpSpPr>
              <p:pic>
                <p:nvPicPr>
                  <p:cNvPr id="626" name="正方形/長方形 7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3040" y="5059080"/>
                    <a:ext cx="198828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27" name=""/>
                  <p:cNvSpPr/>
                  <p:nvPr/>
                </p:nvSpPr>
                <p:spPr>
                  <a:xfrm>
                    <a:off x="6075720" y="5084280"/>
                    <a:ext cx="1947240" cy="1363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円/楕円 73"/>
                <p:cNvGrpSpPr/>
                <p:nvPr/>
              </p:nvGrpSpPr>
              <p:grpSpPr>
                <a:xfrm>
                  <a:off x="5821200" y="5089320"/>
                  <a:ext cx="493920" cy="1424520"/>
                  <a:chOff x="5821200" y="5089320"/>
                  <a:chExt cx="493920" cy="1424520"/>
                </a:xfrm>
              </p:grpSpPr>
              <p:pic>
                <p:nvPicPr>
                  <p:cNvPr id="629" name="円/楕円 7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21200" y="5089320"/>
                    <a:ext cx="493920" cy="14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30" name=""/>
                  <p:cNvSpPr/>
                  <p:nvPr/>
                </p:nvSpPr>
                <p:spPr>
                  <a:xfrm>
                    <a:off x="5945040" y="5310360"/>
                    <a:ext cx="249840" cy="90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円/楕円 74"/>
                <p:cNvGrpSpPr/>
                <p:nvPr/>
              </p:nvGrpSpPr>
              <p:grpSpPr>
                <a:xfrm>
                  <a:off x="7779240" y="5095440"/>
                  <a:ext cx="493920" cy="1424520"/>
                  <a:chOff x="7779240" y="5095440"/>
                  <a:chExt cx="493920" cy="1424520"/>
                </a:xfrm>
              </p:grpSpPr>
              <p:pic>
                <p:nvPicPr>
                  <p:cNvPr id="632" name="円/楕円 7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9240" y="5095440"/>
                    <a:ext cx="493920" cy="14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33" name=""/>
                  <p:cNvSpPr/>
                  <p:nvPr/>
                </p:nvSpPr>
                <p:spPr>
                  <a:xfrm>
                    <a:off x="7903440" y="5314320"/>
                    <a:ext cx="249840" cy="90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円/楕円 75"/>
                <p:cNvGrpSpPr/>
                <p:nvPr/>
              </p:nvGrpSpPr>
              <p:grpSpPr>
                <a:xfrm>
                  <a:off x="6803280" y="5089320"/>
                  <a:ext cx="493920" cy="1424520"/>
                  <a:chOff x="6803280" y="5089320"/>
                  <a:chExt cx="493920" cy="1424520"/>
                </a:xfrm>
              </p:grpSpPr>
              <p:pic>
                <p:nvPicPr>
                  <p:cNvPr id="635" name="円/楕円 7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03280" y="5089320"/>
                    <a:ext cx="493920" cy="14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36" name=""/>
                  <p:cNvSpPr/>
                  <p:nvPr/>
                </p:nvSpPr>
                <p:spPr>
                  <a:xfrm>
                    <a:off x="6930000" y="5310360"/>
                    <a:ext cx="249840" cy="90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7" name="円/楕円 77"/>
                <p:cNvGrpSpPr/>
                <p:nvPr/>
              </p:nvGrpSpPr>
              <p:grpSpPr>
                <a:xfrm>
                  <a:off x="6864480" y="5487840"/>
                  <a:ext cx="396360" cy="597600"/>
                  <a:chOff x="6864480" y="5487840"/>
                  <a:chExt cx="396360" cy="597600"/>
                </a:xfrm>
              </p:grpSpPr>
              <p:pic>
                <p:nvPicPr>
                  <p:cNvPr id="638" name="円/楕円 7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64480" y="5487840"/>
                    <a:ext cx="396360" cy="5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39" name=""/>
                  <p:cNvSpPr/>
                  <p:nvPr/>
                </p:nvSpPr>
                <p:spPr>
                  <a:xfrm>
                    <a:off x="6976440" y="5584320"/>
                    <a:ext cx="180000" cy="32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0" name="直線コネクタ 79"/>
                <p:cNvSpPr/>
                <p:nvPr/>
              </p:nvSpPr>
              <p:spPr>
                <a:xfrm>
                  <a:off x="5790960" y="6134040"/>
                  <a:ext cx="2535120" cy="1440"/>
                </a:xfrm>
                <a:prstGeom prst="line">
                  <a:avLst/>
                </a:prstGeom>
                <a:ln w="19080">
                  <a:solidFill>
                    <a:srgbClr val="3366f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直線コネクタ 83"/>
                <p:cNvSpPr/>
                <p:nvPr/>
              </p:nvSpPr>
              <p:spPr>
                <a:xfrm>
                  <a:off x="5832000" y="5330880"/>
                  <a:ext cx="2536560" cy="1440"/>
                </a:xfrm>
                <a:prstGeom prst="line">
                  <a:avLst/>
                </a:prstGeom>
                <a:ln w="19080">
                  <a:solidFill>
                    <a:srgbClr val="3366f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" name="TextBox 94"/>
              <p:cNvSpPr/>
              <p:nvPr/>
            </p:nvSpPr>
            <p:spPr>
              <a:xfrm>
                <a:off x="8306280" y="5648040"/>
                <a:ext cx="464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Δφ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TextBox 95"/>
              <p:cNvSpPr/>
              <p:nvPr/>
            </p:nvSpPr>
            <p:spPr>
              <a:xfrm>
                <a:off x="6703200" y="4773600"/>
                <a:ext cx="464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Δη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Box 96"/>
              <p:cNvSpPr/>
              <p:nvPr/>
            </p:nvSpPr>
            <p:spPr>
              <a:xfrm>
                <a:off x="7737120" y="6505920"/>
                <a:ext cx="464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π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TextBox 97"/>
              <p:cNvSpPr/>
              <p:nvPr/>
            </p:nvSpPr>
            <p:spPr>
              <a:xfrm>
                <a:off x="5851440" y="6505920"/>
                <a:ext cx="464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π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TextBox 98"/>
              <p:cNvSpPr/>
              <p:nvPr/>
            </p:nvSpPr>
            <p:spPr>
              <a:xfrm>
                <a:off x="6824880" y="6505920"/>
                <a:ext cx="464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TextBox 99"/>
              <p:cNvSpPr/>
              <p:nvPr/>
            </p:nvSpPr>
            <p:spPr>
              <a:xfrm>
                <a:off x="8245440" y="5195520"/>
                <a:ext cx="668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Δη= 0.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TextBox 100"/>
              <p:cNvSpPr/>
              <p:nvPr/>
            </p:nvSpPr>
            <p:spPr>
              <a:xfrm>
                <a:off x="8246520" y="6021000"/>
                <a:ext cx="668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Δη= -0.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直線コネクタ 108"/>
            <p:cNvSpPr/>
            <p:nvPr/>
          </p:nvSpPr>
          <p:spPr>
            <a:xfrm flipV="1">
              <a:off x="5866560" y="5008320"/>
              <a:ext cx="301320" cy="3045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直線コネクタ 109"/>
            <p:cNvSpPr/>
            <p:nvPr/>
          </p:nvSpPr>
          <p:spPr>
            <a:xfrm flipV="1">
              <a:off x="6096600" y="5030280"/>
              <a:ext cx="301320" cy="3063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直線コネクタ 110"/>
            <p:cNvSpPr/>
            <p:nvPr/>
          </p:nvSpPr>
          <p:spPr>
            <a:xfrm flipV="1">
              <a:off x="6327000" y="5030280"/>
              <a:ext cx="301320" cy="3063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直線コネクタ 111"/>
            <p:cNvSpPr/>
            <p:nvPr/>
          </p:nvSpPr>
          <p:spPr>
            <a:xfrm flipV="1">
              <a:off x="6552360" y="5030280"/>
              <a:ext cx="301320" cy="3063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直線コネクタ 112"/>
            <p:cNvSpPr/>
            <p:nvPr/>
          </p:nvSpPr>
          <p:spPr>
            <a:xfrm flipV="1">
              <a:off x="6784200" y="5030280"/>
              <a:ext cx="301320" cy="3063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直線コネクタ 113"/>
            <p:cNvSpPr/>
            <p:nvPr/>
          </p:nvSpPr>
          <p:spPr>
            <a:xfrm flipV="1">
              <a:off x="7012800" y="5030280"/>
              <a:ext cx="301320" cy="3063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直線コネクタ 114"/>
            <p:cNvSpPr/>
            <p:nvPr/>
          </p:nvSpPr>
          <p:spPr>
            <a:xfrm flipV="1">
              <a:off x="7241400" y="5030280"/>
              <a:ext cx="301320" cy="3063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直線コネクタ 115"/>
            <p:cNvSpPr/>
            <p:nvPr/>
          </p:nvSpPr>
          <p:spPr>
            <a:xfrm flipV="1">
              <a:off x="7470000" y="5030280"/>
              <a:ext cx="301320" cy="3063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直線コネクタ 116"/>
            <p:cNvSpPr/>
            <p:nvPr/>
          </p:nvSpPr>
          <p:spPr>
            <a:xfrm flipV="1">
              <a:off x="7698600" y="5030280"/>
              <a:ext cx="301320" cy="3063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直線コネクタ 117"/>
            <p:cNvSpPr/>
            <p:nvPr/>
          </p:nvSpPr>
          <p:spPr>
            <a:xfrm flipV="1">
              <a:off x="7927200" y="5030280"/>
              <a:ext cx="301320" cy="3063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直線コネクタ 118"/>
            <p:cNvSpPr/>
            <p:nvPr/>
          </p:nvSpPr>
          <p:spPr>
            <a:xfrm flipV="1">
              <a:off x="8155800" y="5030280"/>
              <a:ext cx="301320" cy="3063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直線コネクタ 119"/>
            <p:cNvSpPr/>
            <p:nvPr/>
          </p:nvSpPr>
          <p:spPr>
            <a:xfrm flipV="1">
              <a:off x="5714280" y="6149520"/>
              <a:ext cx="301320" cy="3063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直線コネクタ 120"/>
            <p:cNvSpPr/>
            <p:nvPr/>
          </p:nvSpPr>
          <p:spPr>
            <a:xfrm flipV="1">
              <a:off x="5944320" y="6174000"/>
              <a:ext cx="301320" cy="3045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直線コネクタ 121"/>
            <p:cNvSpPr/>
            <p:nvPr/>
          </p:nvSpPr>
          <p:spPr>
            <a:xfrm flipV="1">
              <a:off x="6174360" y="6174000"/>
              <a:ext cx="301320" cy="3045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直線コネクタ 122"/>
            <p:cNvSpPr/>
            <p:nvPr/>
          </p:nvSpPr>
          <p:spPr>
            <a:xfrm flipV="1">
              <a:off x="6400080" y="6174000"/>
              <a:ext cx="301320" cy="3045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直線コネクタ 123"/>
            <p:cNvSpPr/>
            <p:nvPr/>
          </p:nvSpPr>
          <p:spPr>
            <a:xfrm flipV="1">
              <a:off x="6631920" y="6174000"/>
              <a:ext cx="301320" cy="3045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直線コネクタ 124"/>
            <p:cNvSpPr/>
            <p:nvPr/>
          </p:nvSpPr>
          <p:spPr>
            <a:xfrm flipV="1">
              <a:off x="6860520" y="6174000"/>
              <a:ext cx="301320" cy="3045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直線コネクタ 125"/>
            <p:cNvSpPr/>
            <p:nvPr/>
          </p:nvSpPr>
          <p:spPr>
            <a:xfrm flipV="1">
              <a:off x="7089120" y="6174000"/>
              <a:ext cx="301320" cy="3045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直線コネクタ 126"/>
            <p:cNvSpPr/>
            <p:nvPr/>
          </p:nvSpPr>
          <p:spPr>
            <a:xfrm flipV="1">
              <a:off x="7317720" y="6174000"/>
              <a:ext cx="301320" cy="3045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直線コネクタ 127"/>
            <p:cNvSpPr/>
            <p:nvPr/>
          </p:nvSpPr>
          <p:spPr>
            <a:xfrm flipV="1">
              <a:off x="7546320" y="6174000"/>
              <a:ext cx="301320" cy="3045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直線コネクタ 128"/>
            <p:cNvSpPr/>
            <p:nvPr/>
          </p:nvSpPr>
          <p:spPr>
            <a:xfrm flipV="1">
              <a:off x="7774920" y="6174000"/>
              <a:ext cx="301320" cy="3045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直線コネクタ 129"/>
            <p:cNvSpPr/>
            <p:nvPr/>
          </p:nvSpPr>
          <p:spPr>
            <a:xfrm flipV="1">
              <a:off x="8003520" y="6174000"/>
              <a:ext cx="301320" cy="3045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TextBox 132"/>
          <p:cNvSpPr/>
          <p:nvPr/>
        </p:nvSpPr>
        <p:spPr>
          <a:xfrm>
            <a:off x="7162920" y="5486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J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40"/>
          <p:cNvSpPr/>
          <p:nvPr/>
        </p:nvSpPr>
        <p:spPr>
          <a:xfrm>
            <a:off x="3330720" y="2743200"/>
            <a:ext cx="26128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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ill Sans MT"/>
              </a:rPr>
              <a:t>Asso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ill Sans MT"/>
              </a:rPr>
              <a:t>Trig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Physics Motivation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4" name="スライド番号プレースホルダ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90B91-533C-4AA5-A145-AA0A0EA43A8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9907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  <a:ea typeface="Symbol"/>
              </a:rPr>
              <a:t>It has been observed tha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correlation with respect to R.P. has right/left asymmetry given by almond like geometry and/or elliptic expansion.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e might be able to discuss the mechanism of QGP expansion/geometry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direction by the following analysis.     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o this aim, We confirm if there is existence of reaction plane and trigg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  <a:ea typeface="Symbo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dependence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correlation a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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spcBef>
                <a:spcPts val="499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Backward/Forward asymmetry with respect to selected trigg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spcBef>
                <a:spcPts val="499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Reaction Plane dependence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676" name="図形グループ 39"/>
          <p:cNvGrpSpPr/>
          <p:nvPr/>
        </p:nvGrpSpPr>
        <p:grpSpPr>
          <a:xfrm>
            <a:off x="262080" y="3727080"/>
            <a:ext cx="4614840" cy="3511800"/>
            <a:chOff x="262080" y="3727080"/>
            <a:chExt cx="4614840" cy="3511800"/>
          </a:xfrm>
        </p:grpSpPr>
        <p:grpSp>
          <p:nvGrpSpPr>
            <p:cNvPr id="677" name="図形グループ 45"/>
            <p:cNvGrpSpPr/>
            <p:nvPr/>
          </p:nvGrpSpPr>
          <p:grpSpPr>
            <a:xfrm>
              <a:off x="262080" y="4028760"/>
              <a:ext cx="4614840" cy="3210120"/>
              <a:chOff x="262080" y="4028760"/>
              <a:chExt cx="4614840" cy="3210120"/>
            </a:xfrm>
          </p:grpSpPr>
          <p:grpSp>
            <p:nvGrpSpPr>
              <p:cNvPr id="678" name="図形グループ 93"/>
              <p:cNvGrpSpPr/>
              <p:nvPr/>
            </p:nvGrpSpPr>
            <p:grpSpPr>
              <a:xfrm>
                <a:off x="1142280" y="4266360"/>
                <a:ext cx="3734640" cy="2238840"/>
                <a:chOff x="1142280" y="4266360"/>
                <a:chExt cx="3734640" cy="2238840"/>
              </a:xfrm>
            </p:grpSpPr>
            <p:grpSp>
              <p:nvGrpSpPr>
                <p:cNvPr id="679" name="図形グループ 31"/>
                <p:cNvGrpSpPr/>
                <p:nvPr/>
              </p:nvGrpSpPr>
              <p:grpSpPr>
                <a:xfrm>
                  <a:off x="1142640" y="4266360"/>
                  <a:ext cx="3734280" cy="2238840"/>
                  <a:chOff x="1142640" y="4266360"/>
                  <a:chExt cx="3734280" cy="2238840"/>
                </a:xfrm>
              </p:grpSpPr>
              <p:cxnSp>
                <p:nvCxnSpPr>
                  <p:cNvPr id="680" name="直線矢印コネクタ 22"/>
                  <p:cNvCxnSpPr/>
                  <p:nvPr/>
                </p:nvCxnSpPr>
                <p:spPr>
                  <a:xfrm flipV="1">
                    <a:off x="2058120" y="5505480"/>
                    <a:ext cx="1720080" cy="374760"/>
                  </a:xfrm>
                  <a:prstGeom prst="straightConnector1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681" name="直線矢印コネクタ 23"/>
                  <p:cNvCxnSpPr/>
                  <p:nvPr/>
                </p:nvCxnSpPr>
                <p:spPr>
                  <a:xfrm>
                    <a:off x="1142640" y="5867280"/>
                    <a:ext cx="2421720" cy="2160"/>
                  </a:xfrm>
                  <a:prstGeom prst="straightConnector1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682" name="直線矢印コネクタ 24"/>
                  <p:cNvCxnSpPr/>
                  <p:nvPr/>
                </p:nvCxnSpPr>
                <p:spPr>
                  <a:xfrm flipH="1" flipV="1">
                    <a:off x="2055240" y="4266360"/>
                    <a:ext cx="8640" cy="1601280"/>
                  </a:xfrm>
                  <a:prstGeom prst="straightConnector1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683" name="直線矢印コネクタ 25"/>
                  <p:cNvCxnSpPr/>
                  <p:nvPr/>
                </p:nvCxnSpPr>
                <p:spPr>
                  <a:xfrm flipV="1">
                    <a:off x="2055600" y="4682160"/>
                    <a:ext cx="1302480" cy="1183320"/>
                  </a:xfrm>
                  <a:prstGeom prst="straightConnector1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grpSp>
                <p:nvGrpSpPr>
                  <p:cNvPr id="684" name="角丸四角形 26"/>
                  <p:cNvGrpSpPr/>
                  <p:nvPr/>
                </p:nvGrpSpPr>
                <p:grpSpPr>
                  <a:xfrm>
                    <a:off x="1438560" y="5365440"/>
                    <a:ext cx="1249560" cy="1139760"/>
                    <a:chOff x="1438560" y="5365440"/>
                    <a:chExt cx="1249560" cy="1139760"/>
                  </a:xfrm>
                </p:grpSpPr>
                <p:pic>
                  <p:nvPicPr>
                    <p:cNvPr id="685" name="角丸四角形 26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438560" y="5365440"/>
                      <a:ext cx="1249560" cy="113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1563480" y="5442480"/>
                      <a:ext cx="1003680" cy="910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7" name="フリーフォーム 27"/>
                  <p:cNvSpPr/>
                  <p:nvPr/>
                </p:nvSpPr>
                <p:spPr>
                  <a:xfrm rot="10800000">
                    <a:off x="1757160" y="4266720"/>
                    <a:ext cx="645840" cy="750960"/>
                  </a:xfrm>
                  <a:prstGeom prst="pie">
                    <a:avLst/>
                  </a:prstGeom>
                  <a:noFill/>
                  <a:ln w="19080">
                    <a:solidFill>
                      <a:srgbClr val="0000ff"/>
                    </a:solidFill>
                    <a:miter/>
                  </a:ln>
                  <a:effectLst>
                    <a:outerShdw dist="25560" dir="5400000" blurRad="0" rotWithShape="0">
                      <a:srgbClr val="808080">
                        <a:alpha val="4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フリーフォーム 28"/>
                  <p:cNvSpPr/>
                  <p:nvPr/>
                </p:nvSpPr>
                <p:spPr>
                  <a:xfrm rot="13500000">
                    <a:off x="2610360" y="4474440"/>
                    <a:ext cx="778320" cy="792000"/>
                  </a:xfrm>
                  <a:prstGeom prst="pie">
                    <a:avLst/>
                  </a:prstGeom>
                  <a:noFill/>
                  <a:ln w="19080">
                    <a:solidFill>
                      <a:srgbClr val="0000ff"/>
                    </a:solidFill>
                    <a:miter/>
                  </a:ln>
                  <a:effectLst>
                    <a:outerShdw dist="25560" dir="5400000" blurRad="0" rotWithShape="0">
                      <a:srgbClr val="808080">
                        <a:alpha val="4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直線コネクタ 29"/>
                  <p:cNvSpPr/>
                  <p:nvPr/>
                </p:nvSpPr>
                <p:spPr>
                  <a:xfrm>
                    <a:off x="2993400" y="4325760"/>
                    <a:ext cx="569880" cy="549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prstDash val="sysDot"/>
                    <a:miter/>
                    <a:headEnd len="lg" type="stealth" w="lg"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フリーフォーム 30"/>
                  <p:cNvSpPr/>
                  <p:nvPr/>
                </p:nvSpPr>
                <p:spPr>
                  <a:xfrm rot="15600000">
                    <a:off x="3073320" y="5015160"/>
                    <a:ext cx="613080" cy="841320"/>
                  </a:xfrm>
                  <a:prstGeom prst="pie">
                    <a:avLst/>
                  </a:prstGeom>
                  <a:noFill/>
                  <a:ln w="19080">
                    <a:solidFill>
                      <a:srgbClr val="0000ff"/>
                    </a:solidFill>
                    <a:miter/>
                  </a:ln>
                  <a:effectLst>
                    <a:outerShdw dist="25560" dir="5400000" blurRad="0" rotWithShape="0">
                      <a:srgbClr val="808080">
                        <a:alpha val="4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直線コネクタ 31"/>
                  <p:cNvSpPr/>
                  <p:nvPr/>
                </p:nvSpPr>
                <p:spPr>
                  <a:xfrm>
                    <a:off x="3738600" y="5064480"/>
                    <a:ext cx="109440" cy="6238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prstDash val="sysDot"/>
                    <a:miter/>
                    <a:headEnd len="lg" type="stealth" w="lg"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TextBox 25"/>
                  <p:cNvSpPr/>
                  <p:nvPr/>
                </p:nvSpPr>
                <p:spPr>
                  <a:xfrm>
                    <a:off x="3647160" y="5749200"/>
                    <a:ext cx="122976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Z: Beam Axi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直線コネクタ 33"/>
                  <p:cNvSpPr/>
                  <p:nvPr/>
                </p:nvSpPr>
                <p:spPr>
                  <a:xfrm>
                    <a:off x="1757160" y="4266720"/>
                    <a:ext cx="64584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prstDash val="sysDot"/>
                    <a:miter/>
                    <a:headEnd len="lg" type="stealth" w="lg"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694" name="直線矢印コネクタ 7"/>
                <p:cNvCxnSpPr/>
                <p:nvPr/>
              </p:nvCxnSpPr>
              <p:spPr>
                <a:xfrm>
                  <a:off x="2619000" y="6378480"/>
                  <a:ext cx="369000" cy="2160"/>
                </a:xfrm>
                <a:prstGeom prst="straightConnector1">
                  <a:avLst/>
                </a:prstGeom>
                <a:ln w="19080">
                  <a:solidFill>
                    <a:srgbClr val="ffce29"/>
                  </a:solidFill>
                  <a:miter/>
                  <a:tailEnd len="med" type="arrow" w="med"/>
                </a:ln>
              </p:spPr>
            </p:cxnSp>
            <p:cxnSp>
              <p:nvCxnSpPr>
                <p:cNvPr id="695" name="直線矢印コネクタ 8"/>
                <p:cNvCxnSpPr/>
                <p:nvPr/>
              </p:nvCxnSpPr>
              <p:spPr>
                <a:xfrm>
                  <a:off x="2619000" y="6067080"/>
                  <a:ext cx="369000" cy="2160"/>
                </a:xfrm>
                <a:prstGeom prst="straightConnector1">
                  <a:avLst/>
                </a:prstGeom>
                <a:ln w="19080">
                  <a:solidFill>
                    <a:srgbClr val="ffce29"/>
                  </a:solidFill>
                  <a:miter/>
                  <a:tailEnd len="med" type="arrow" w="med"/>
                </a:ln>
              </p:spPr>
            </p:cxnSp>
            <p:cxnSp>
              <p:nvCxnSpPr>
                <p:cNvPr id="696" name="直線矢印コネクタ 9"/>
                <p:cNvCxnSpPr/>
                <p:nvPr/>
              </p:nvCxnSpPr>
              <p:spPr>
                <a:xfrm>
                  <a:off x="2619000" y="5572800"/>
                  <a:ext cx="369000" cy="1080"/>
                </a:xfrm>
                <a:prstGeom prst="straightConnector1">
                  <a:avLst/>
                </a:prstGeom>
                <a:ln w="19080">
                  <a:solidFill>
                    <a:srgbClr val="ffce29"/>
                  </a:solidFill>
                  <a:miter/>
                  <a:tailEnd len="med" type="arrow" w="med"/>
                </a:ln>
              </p:spPr>
            </p:cxnSp>
            <p:cxnSp>
              <p:nvCxnSpPr>
                <p:cNvPr id="697" name="直線矢印コネクタ 10"/>
                <p:cNvCxnSpPr/>
                <p:nvPr/>
              </p:nvCxnSpPr>
              <p:spPr>
                <a:xfrm>
                  <a:off x="2619000" y="5820480"/>
                  <a:ext cx="369000" cy="1080"/>
                </a:xfrm>
                <a:prstGeom prst="straightConnector1">
                  <a:avLst/>
                </a:prstGeom>
                <a:ln w="19080">
                  <a:solidFill>
                    <a:srgbClr val="ffce29"/>
                  </a:solidFill>
                  <a:miter/>
                  <a:tailEnd len="med" type="arrow" w="med"/>
                </a:ln>
              </p:spPr>
            </p:cxnSp>
            <p:cxnSp>
              <p:nvCxnSpPr>
                <p:cNvPr id="698" name="直線矢印コネクタ 11"/>
                <p:cNvCxnSpPr/>
                <p:nvPr/>
              </p:nvCxnSpPr>
              <p:spPr>
                <a:xfrm flipH="1" flipV="1">
                  <a:off x="1142280" y="5572440"/>
                  <a:ext cx="369000" cy="1080"/>
                </a:xfrm>
                <a:prstGeom prst="straightConnector1">
                  <a:avLst/>
                </a:prstGeom>
                <a:ln w="19080">
                  <a:solidFill>
                    <a:srgbClr val="ffce29"/>
                  </a:solidFill>
                  <a:miter/>
                  <a:tailEnd len="med" type="arrow" w="med"/>
                </a:ln>
              </p:spPr>
            </p:cxnSp>
            <p:cxnSp>
              <p:nvCxnSpPr>
                <p:cNvPr id="699" name="直線矢印コネクタ 12"/>
                <p:cNvCxnSpPr/>
                <p:nvPr/>
              </p:nvCxnSpPr>
              <p:spPr>
                <a:xfrm flipH="1" flipV="1">
                  <a:off x="1142280" y="5820120"/>
                  <a:ext cx="369000" cy="1080"/>
                </a:xfrm>
                <a:prstGeom prst="straightConnector1">
                  <a:avLst/>
                </a:prstGeom>
                <a:ln w="19080">
                  <a:solidFill>
                    <a:srgbClr val="ffce29"/>
                  </a:solidFill>
                  <a:miter/>
                  <a:tailEnd len="med" type="arrow" w="med"/>
                </a:ln>
              </p:spPr>
            </p:cxnSp>
            <p:cxnSp>
              <p:nvCxnSpPr>
                <p:cNvPr id="700" name="直線矢印コネクタ 13"/>
                <p:cNvCxnSpPr/>
                <p:nvPr/>
              </p:nvCxnSpPr>
              <p:spPr>
                <a:xfrm flipH="1" flipV="1">
                  <a:off x="1142280" y="6066720"/>
                  <a:ext cx="369000" cy="2160"/>
                </a:xfrm>
                <a:prstGeom prst="straightConnector1">
                  <a:avLst/>
                </a:prstGeom>
                <a:ln w="19080">
                  <a:solidFill>
                    <a:srgbClr val="ffce29"/>
                  </a:solidFill>
                  <a:miter/>
                  <a:tailEnd len="med" type="arrow" w="med"/>
                </a:ln>
              </p:spPr>
            </p:cxnSp>
            <p:cxnSp>
              <p:nvCxnSpPr>
                <p:cNvPr id="701" name="直線矢印コネクタ 14"/>
                <p:cNvCxnSpPr/>
                <p:nvPr/>
              </p:nvCxnSpPr>
              <p:spPr>
                <a:xfrm flipH="1" flipV="1">
                  <a:off x="1142280" y="6378120"/>
                  <a:ext cx="369000" cy="2160"/>
                </a:xfrm>
                <a:prstGeom prst="straightConnector1">
                  <a:avLst/>
                </a:prstGeom>
                <a:ln w="19080">
                  <a:solidFill>
                    <a:srgbClr val="ffce29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702" name="円弧 43"/>
              <p:cNvSpPr/>
              <p:nvPr/>
            </p:nvSpPr>
            <p:spPr>
              <a:xfrm>
                <a:off x="262080" y="4028760"/>
                <a:ext cx="3733920" cy="321012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miter/>
                <a:tailEnd len="lg" type="stealth" w="lg"/>
              </a:ln>
              <a:effectLst>
                <a:outerShdw dist="25560" dir="54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TextBox 44"/>
              <p:cNvSpPr/>
              <p:nvPr/>
            </p:nvSpPr>
            <p:spPr>
              <a:xfrm>
                <a:off x="3886560" y="538380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4" name="TextBox 51"/>
            <p:cNvSpPr/>
            <p:nvPr/>
          </p:nvSpPr>
          <p:spPr>
            <a:xfrm rot="4200000">
              <a:off x="3425400" y="4764240"/>
              <a:ext cx="111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ward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Box 52"/>
            <p:cNvSpPr/>
            <p:nvPr/>
          </p:nvSpPr>
          <p:spPr>
            <a:xfrm rot="900000">
              <a:off x="2301120" y="387000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←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ckw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図形グループ 40"/>
          <p:cNvGrpSpPr/>
          <p:nvPr/>
        </p:nvGrpSpPr>
        <p:grpSpPr>
          <a:xfrm>
            <a:off x="5094360" y="4105440"/>
            <a:ext cx="2678040" cy="2600280"/>
            <a:chOff x="5094360" y="4105440"/>
            <a:chExt cx="2678040" cy="2600280"/>
          </a:xfrm>
        </p:grpSpPr>
        <p:grpSp>
          <p:nvGrpSpPr>
            <p:cNvPr id="707" name="図形グループ 64"/>
            <p:cNvGrpSpPr/>
            <p:nvPr/>
          </p:nvGrpSpPr>
          <p:grpSpPr>
            <a:xfrm>
              <a:off x="5094360" y="4105440"/>
              <a:ext cx="2678040" cy="2600280"/>
              <a:chOff x="5094360" y="4105440"/>
              <a:chExt cx="2678040" cy="2600280"/>
            </a:xfrm>
          </p:grpSpPr>
          <p:grpSp>
            <p:nvGrpSpPr>
              <p:cNvPr id="708" name="図形グループ 58"/>
              <p:cNvGrpSpPr/>
              <p:nvPr/>
            </p:nvGrpSpPr>
            <p:grpSpPr>
              <a:xfrm>
                <a:off x="5094360" y="4105440"/>
                <a:ext cx="1866240" cy="2600280"/>
                <a:chOff x="5094360" y="4105440"/>
                <a:chExt cx="1866240" cy="2600280"/>
              </a:xfrm>
            </p:grpSpPr>
            <p:sp>
              <p:nvSpPr>
                <p:cNvPr id="709" name="円弧 53"/>
                <p:cNvSpPr/>
                <p:nvPr/>
              </p:nvSpPr>
              <p:spPr>
                <a:xfrm>
                  <a:off x="5106960" y="4741920"/>
                  <a:ext cx="761760" cy="19638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  <a:effectLst>
                  <a:outerShdw dist="25560" dir="5400000" blurRad="0" rotWithShape="0">
                    <a:srgbClr val="80808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円弧 54"/>
                <p:cNvSpPr/>
                <p:nvPr/>
              </p:nvSpPr>
              <p:spPr>
                <a:xfrm>
                  <a:off x="5330520" y="4741920"/>
                  <a:ext cx="761760" cy="19638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  <a:effectLst>
                  <a:outerShdw dist="25560" dir="5400000" blurRad="0" rotWithShape="0">
                    <a:srgbClr val="80808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円弧 55"/>
                <p:cNvSpPr/>
                <p:nvPr/>
              </p:nvSpPr>
              <p:spPr>
                <a:xfrm>
                  <a:off x="5554440" y="4741920"/>
                  <a:ext cx="761760" cy="19638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  <a:effectLst>
                  <a:outerShdw dist="25560" dir="5400000" blurRad="0" rotWithShape="0">
                    <a:srgbClr val="80808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円弧 56"/>
                <p:cNvSpPr/>
                <p:nvPr/>
              </p:nvSpPr>
              <p:spPr>
                <a:xfrm>
                  <a:off x="5778360" y="4741920"/>
                  <a:ext cx="763200" cy="19638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  <a:effectLst>
                  <a:outerShdw dist="25560" dir="5400000" blurRad="0" rotWithShape="0">
                    <a:srgbClr val="80808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円弧 57"/>
                <p:cNvSpPr/>
                <p:nvPr/>
              </p:nvSpPr>
              <p:spPr>
                <a:xfrm>
                  <a:off x="5957640" y="4741920"/>
                  <a:ext cx="763200" cy="19638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  <a:effectLst>
                  <a:outerShdw dist="25560" dir="5400000" blurRad="0" rotWithShape="0">
                    <a:srgbClr val="80808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円弧 58"/>
                <p:cNvSpPr/>
                <p:nvPr/>
              </p:nvSpPr>
              <p:spPr>
                <a:xfrm>
                  <a:off x="6198840" y="4741920"/>
                  <a:ext cx="761760" cy="19638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  <a:effectLst>
                  <a:outerShdw dist="25560" dir="5400000" blurRad="0" rotWithShape="0">
                    <a:srgbClr val="80808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5" name="図形グループ 54"/>
                <p:cNvGrpSpPr/>
                <p:nvPr/>
              </p:nvGrpSpPr>
              <p:grpSpPr>
                <a:xfrm>
                  <a:off x="5487120" y="4249800"/>
                  <a:ext cx="1455840" cy="1915560"/>
                  <a:chOff x="5487120" y="4249800"/>
                  <a:chExt cx="1455840" cy="1915560"/>
                </a:xfrm>
              </p:grpSpPr>
              <p:sp>
                <p:nvSpPr>
                  <p:cNvPr id="716" name="直線コネクタ 63"/>
                  <p:cNvSpPr/>
                  <p:nvPr/>
                </p:nvSpPr>
                <p:spPr>
                  <a:xfrm flipV="1">
                    <a:off x="5502600" y="4740480"/>
                    <a:ext cx="1076040" cy="1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直線コネクタ 64"/>
                  <p:cNvSpPr/>
                  <p:nvPr/>
                </p:nvSpPr>
                <p:spPr>
                  <a:xfrm flipH="1">
                    <a:off x="5487480" y="4740480"/>
                    <a:ext cx="1440" cy="81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直線コネクタ 65"/>
                  <p:cNvSpPr/>
                  <p:nvPr/>
                </p:nvSpPr>
                <p:spPr>
                  <a:xfrm>
                    <a:off x="5859000" y="5302080"/>
                    <a:ext cx="1076040" cy="1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直線コネクタ 66"/>
                  <p:cNvSpPr/>
                  <p:nvPr/>
                </p:nvSpPr>
                <p:spPr>
                  <a:xfrm>
                    <a:off x="5778360" y="5035680"/>
                    <a:ext cx="10760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直線コネクタ 19"/>
                  <p:cNvSpPr/>
                  <p:nvPr/>
                </p:nvSpPr>
                <p:spPr>
                  <a:xfrm>
                    <a:off x="5684760" y="4843440"/>
                    <a:ext cx="1076040" cy="1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直線コネクタ 68"/>
                  <p:cNvSpPr/>
                  <p:nvPr/>
                </p:nvSpPr>
                <p:spPr>
                  <a:xfrm flipH="1">
                    <a:off x="5488560" y="4845240"/>
                    <a:ext cx="196200" cy="705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直線コネクタ 69"/>
                  <p:cNvSpPr/>
                  <p:nvPr/>
                </p:nvSpPr>
                <p:spPr>
                  <a:xfrm flipH="1">
                    <a:off x="5488560" y="5035680"/>
                    <a:ext cx="289800" cy="515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直線コネクタ 70"/>
                  <p:cNvSpPr/>
                  <p:nvPr/>
                </p:nvSpPr>
                <p:spPr>
                  <a:xfrm flipH="1">
                    <a:off x="5488920" y="5303160"/>
                    <a:ext cx="370800" cy="247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724" name="直線矢印コネクタ 72"/>
                  <p:cNvCxnSpPr>
                    <a:stCxn id="709" idx="3"/>
                  </p:cNvCxnSpPr>
                  <p:nvPr/>
                </p:nvCxnSpPr>
                <p:spPr>
                  <a:xfrm flipH="1" flipV="1">
                    <a:off x="5487120" y="4249800"/>
                    <a:ext cx="2160" cy="491040"/>
                  </a:xfrm>
                  <a:prstGeom prst="straightConnector1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725" name="直線コネクタ 73"/>
                  <p:cNvSpPr/>
                  <p:nvPr/>
                </p:nvSpPr>
                <p:spPr>
                  <a:xfrm>
                    <a:off x="5866920" y="5722920"/>
                    <a:ext cx="10760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726" name="直線矢印コネクタ 74"/>
                  <p:cNvCxnSpPr/>
                  <p:nvPr/>
                </p:nvCxnSpPr>
                <p:spPr>
                  <a:xfrm>
                    <a:off x="5502960" y="5554080"/>
                    <a:ext cx="1258920" cy="611640"/>
                  </a:xfrm>
                  <a:prstGeom prst="straightConnector1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</p:grpSp>
            <p:sp>
              <p:nvSpPr>
                <p:cNvPr id="727" name="TextBox 61"/>
                <p:cNvSpPr/>
                <p:nvPr/>
              </p:nvSpPr>
              <p:spPr>
                <a:xfrm>
                  <a:off x="6247800" y="6019920"/>
                  <a:ext cx="315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TextBox 62"/>
                <p:cNvSpPr/>
                <p:nvPr/>
              </p:nvSpPr>
              <p:spPr>
                <a:xfrm>
                  <a:off x="5094360" y="4105440"/>
                  <a:ext cx="315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729" name="直線矢印コネクタ 49"/>
              <p:cNvCxnSpPr/>
              <p:nvPr/>
            </p:nvCxnSpPr>
            <p:spPr>
              <a:xfrm>
                <a:off x="5602320" y="4593960"/>
                <a:ext cx="111672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730" name="TextBox 50"/>
              <p:cNvSpPr/>
              <p:nvPr/>
            </p:nvSpPr>
            <p:spPr>
              <a:xfrm>
                <a:off x="6171840" y="41907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フリーフォーム 51"/>
              <p:cNvSpPr/>
              <p:nvPr/>
            </p:nvSpPr>
            <p:spPr>
              <a:xfrm>
                <a:off x="6966000" y="4708440"/>
                <a:ext cx="312480" cy="10238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miter/>
                <a:tailEnd len="lg" type="stealth" w="lg"/>
              </a:ln>
              <a:effectLst>
                <a:outerShdw dist="25560" dir="54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TextBox 52"/>
              <p:cNvSpPr/>
              <p:nvPr/>
            </p:nvSpPr>
            <p:spPr>
              <a:xfrm>
                <a:off x="7234560" y="4876920"/>
                <a:ext cx="537840" cy="45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Arial"/>
                  </a:rPr>
                  <a:t>　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.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3" name="直線コネクタ 42"/>
            <p:cNvSpPr/>
            <p:nvPr/>
          </p:nvSpPr>
          <p:spPr>
            <a:xfrm>
              <a:off x="5503680" y="5551560"/>
              <a:ext cx="588960" cy="1713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直線コネクタ 44"/>
            <p:cNvSpPr/>
            <p:nvPr/>
          </p:nvSpPr>
          <p:spPr>
            <a:xfrm flipV="1">
              <a:off x="5503680" y="5313600"/>
              <a:ext cx="555480" cy="2412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直線コネクタ 45"/>
            <p:cNvSpPr/>
            <p:nvPr/>
          </p:nvSpPr>
          <p:spPr>
            <a:xfrm flipV="1">
              <a:off x="5503680" y="5040360"/>
              <a:ext cx="479160" cy="5112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直線コネクタ 46"/>
            <p:cNvSpPr/>
            <p:nvPr/>
          </p:nvSpPr>
          <p:spPr>
            <a:xfrm flipV="1">
              <a:off x="5487840" y="4838760"/>
              <a:ext cx="411120" cy="7128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直線コネクタ 47"/>
            <p:cNvSpPr/>
            <p:nvPr/>
          </p:nvSpPr>
          <p:spPr>
            <a:xfrm flipV="1">
              <a:off x="5487120" y="4741920"/>
              <a:ext cx="253800" cy="8128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3960" y="114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57200" y="6858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AuAu 200GeV taken by  RHIC-PHENIX in Run7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Inclusive Photon - Hadr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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correlation w.r.t. R.P. and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  <a:ea typeface="Symbol"/>
              </a:rPr>
              <a:t>trigg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spcBef>
                <a:spcPts val="499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rigger is Inclusive Photon at pT : 2-4GeV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spcBef>
                <a:spcPts val="499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Associate is Charged Hadron at pT :1-2GeV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spcBef>
                <a:spcPts val="499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e reason why I chose inclusive photon is that Inclusive photon - Hadron analysis is the first step towards Direct photon - Hadron Analysis.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v2 modulated background was subtracted with ZYAM method.   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rigger particle binning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spcBef>
                <a:spcPts val="499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R.P. is divided into 8 region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  <a:ea typeface="Symbo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  <a:ea typeface="Symbol"/>
              </a:rPr>
              <a:t>is also divided into 8 region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0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55C0B-D9A2-4AD7-AB6F-808179AA793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図形グループ 12"/>
          <p:cNvGrpSpPr/>
          <p:nvPr/>
        </p:nvGrpSpPr>
        <p:grpSpPr>
          <a:xfrm>
            <a:off x="1030320" y="3962520"/>
            <a:ext cx="3693960" cy="2903400"/>
            <a:chOff x="1030320" y="3962520"/>
            <a:chExt cx="3693960" cy="2903400"/>
          </a:xfrm>
        </p:grpSpPr>
        <p:pic>
          <p:nvPicPr>
            <p:cNvPr id="742" name="図 91" descr=""/>
            <p:cNvPicPr/>
            <p:nvPr/>
          </p:nvPicPr>
          <p:blipFill>
            <a:blip r:embed="rId1"/>
            <a:stretch/>
          </p:blipFill>
          <p:spPr>
            <a:xfrm>
              <a:off x="1030320" y="4316400"/>
              <a:ext cx="3693960" cy="25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TextBox 8"/>
            <p:cNvSpPr/>
            <p:nvPr/>
          </p:nvSpPr>
          <p:spPr>
            <a:xfrm>
              <a:off x="3534840" y="5197680"/>
              <a:ext cx="112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in pla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TextBox 9"/>
            <p:cNvSpPr/>
            <p:nvPr/>
          </p:nvSpPr>
          <p:spPr>
            <a:xfrm>
              <a:off x="1656360" y="3962520"/>
              <a:ext cx="137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out of pla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図形グループ 52"/>
          <p:cNvGrpSpPr/>
          <p:nvPr/>
        </p:nvGrpSpPr>
        <p:grpSpPr>
          <a:xfrm>
            <a:off x="4495680" y="3962520"/>
            <a:ext cx="4496040" cy="2479320"/>
            <a:chOff x="4495680" y="3962520"/>
            <a:chExt cx="4496040" cy="2479320"/>
          </a:xfrm>
        </p:grpSpPr>
        <p:grpSp>
          <p:nvGrpSpPr>
            <p:cNvPr id="746" name="図形グループ 40"/>
            <p:cNvGrpSpPr/>
            <p:nvPr/>
          </p:nvGrpSpPr>
          <p:grpSpPr>
            <a:xfrm>
              <a:off x="4495680" y="3962520"/>
              <a:ext cx="4496040" cy="2479320"/>
              <a:chOff x="4495680" y="3962520"/>
              <a:chExt cx="4496040" cy="2479320"/>
            </a:xfrm>
          </p:grpSpPr>
          <p:cxnSp>
            <p:nvCxnSpPr>
              <p:cNvPr id="747" name="直線矢印コネクタ 9"/>
              <p:cNvCxnSpPr/>
              <p:nvPr/>
            </p:nvCxnSpPr>
            <p:spPr>
              <a:xfrm>
                <a:off x="5409720" y="6345360"/>
                <a:ext cx="2591640" cy="36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748" name="直線コネクタ 10"/>
              <p:cNvSpPr/>
              <p:nvPr/>
            </p:nvSpPr>
            <p:spPr>
              <a:xfrm flipH="1">
                <a:off x="6629400" y="4584600"/>
                <a:ext cx="1440" cy="176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TextBox 39"/>
              <p:cNvSpPr/>
              <p:nvPr/>
            </p:nvSpPr>
            <p:spPr>
              <a:xfrm>
                <a:off x="4495680" y="5264280"/>
                <a:ext cx="1066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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TextBox 40"/>
              <p:cNvSpPr/>
              <p:nvPr/>
            </p:nvSpPr>
            <p:spPr>
              <a:xfrm>
                <a:off x="7772400" y="5205960"/>
                <a:ext cx="1066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  <a:ea typeface="Symbol"/>
                  </a:rPr>
                  <a:t>=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  0.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TextBox 43"/>
              <p:cNvSpPr/>
              <p:nvPr/>
            </p:nvSpPr>
            <p:spPr>
              <a:xfrm>
                <a:off x="7925040" y="6134760"/>
                <a:ext cx="106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Gill Sans MT"/>
                  </a:rPr>
                  <a:t>Beam Axi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TextBox 5"/>
              <p:cNvSpPr/>
              <p:nvPr/>
            </p:nvSpPr>
            <p:spPr>
              <a:xfrm>
                <a:off x="5397480" y="3962520"/>
                <a:ext cx="24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Pseudo Rapidi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Box 47"/>
              <p:cNvSpPr/>
              <p:nvPr/>
            </p:nvSpPr>
            <p:spPr>
              <a:xfrm>
                <a:off x="6095880" y="4227840"/>
                <a:ext cx="1066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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直線コネクタ 23"/>
              <p:cNvSpPr/>
              <p:nvPr/>
            </p:nvSpPr>
            <p:spPr>
              <a:xfrm flipV="1">
                <a:off x="6629400" y="5463720"/>
                <a:ext cx="1143000" cy="880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直線コネクタ 24"/>
              <p:cNvSpPr/>
              <p:nvPr/>
            </p:nvSpPr>
            <p:spPr>
              <a:xfrm flipV="1">
                <a:off x="6630120" y="5103360"/>
                <a:ext cx="912600" cy="124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直線コネクタ 25"/>
              <p:cNvSpPr/>
              <p:nvPr/>
            </p:nvSpPr>
            <p:spPr>
              <a:xfrm flipV="1">
                <a:off x="6630120" y="4785840"/>
                <a:ext cx="657000" cy="156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直線コネクタ 26"/>
              <p:cNvSpPr/>
              <p:nvPr/>
            </p:nvSpPr>
            <p:spPr>
              <a:xfrm flipV="1">
                <a:off x="6630120" y="4584600"/>
                <a:ext cx="352440" cy="176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直線コネクタ 27"/>
              <p:cNvSpPr/>
              <p:nvPr/>
            </p:nvSpPr>
            <p:spPr>
              <a:xfrm flipH="1" flipV="1">
                <a:off x="6283080" y="4584240"/>
                <a:ext cx="347400" cy="176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直線コネクタ 28"/>
              <p:cNvSpPr/>
              <p:nvPr/>
            </p:nvSpPr>
            <p:spPr>
              <a:xfrm flipH="1" flipV="1">
                <a:off x="5979600" y="4790520"/>
                <a:ext cx="649080" cy="155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直線コネクタ 29"/>
              <p:cNvSpPr/>
              <p:nvPr/>
            </p:nvSpPr>
            <p:spPr>
              <a:xfrm flipH="1" flipV="1">
                <a:off x="5716440" y="5101920"/>
                <a:ext cx="914400" cy="124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直線コネクタ 30"/>
              <p:cNvSpPr/>
              <p:nvPr/>
            </p:nvSpPr>
            <p:spPr>
              <a:xfrm flipH="1" flipV="1">
                <a:off x="5584320" y="5527440"/>
                <a:ext cx="1044360" cy="817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TextBox 41"/>
            <p:cNvSpPr/>
            <p:nvPr/>
          </p:nvSpPr>
          <p:spPr>
            <a:xfrm>
              <a:off x="7358040" y="520596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Box 43"/>
            <p:cNvSpPr/>
            <p:nvPr/>
          </p:nvSpPr>
          <p:spPr>
            <a:xfrm>
              <a:off x="7129440" y="489492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ff6600"/>
                  </a:solidFill>
                  <a:latin typeface="Arial"/>
                </a:rPr>
                <a:t>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TextBox 45"/>
            <p:cNvSpPr/>
            <p:nvPr/>
          </p:nvSpPr>
          <p:spPr>
            <a:xfrm>
              <a:off x="6859440" y="472572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Arial"/>
                </a:rPr>
                <a:t>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Box 46"/>
            <p:cNvSpPr/>
            <p:nvPr/>
          </p:nvSpPr>
          <p:spPr>
            <a:xfrm>
              <a:off x="6553080" y="462276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3366ff"/>
                  </a:solidFill>
                  <a:latin typeface="Arial"/>
                </a:rPr>
                <a:t>④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Box 47"/>
            <p:cNvSpPr/>
            <p:nvPr/>
          </p:nvSpPr>
          <p:spPr>
            <a:xfrm>
              <a:off x="6275880" y="464076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⑤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Box 49"/>
            <p:cNvSpPr/>
            <p:nvPr/>
          </p:nvSpPr>
          <p:spPr>
            <a:xfrm>
              <a:off x="5986440" y="472572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ff6600"/>
                  </a:solidFill>
                  <a:latin typeface="Arial"/>
                </a:rPr>
                <a:t>⑥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Box 50"/>
            <p:cNvSpPr/>
            <p:nvPr/>
          </p:nvSpPr>
          <p:spPr>
            <a:xfrm>
              <a:off x="5715000" y="493272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Arial"/>
                </a:rPr>
                <a:t>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Box 51"/>
            <p:cNvSpPr/>
            <p:nvPr/>
          </p:nvSpPr>
          <p:spPr>
            <a:xfrm>
              <a:off x="5562360" y="524376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3366ff"/>
                  </a:solidFill>
                  <a:latin typeface="Arial"/>
                </a:rPr>
                <a:t>⑧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3960" y="11448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onsistency check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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correlation at centra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1" name="スライド番号プレースホルダ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6CF03-3446-49FB-BBF3-7866C80F2F2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図形グループ 9"/>
          <p:cNvGrpSpPr/>
          <p:nvPr/>
        </p:nvGrpSpPr>
        <p:grpSpPr>
          <a:xfrm>
            <a:off x="336600" y="838080"/>
            <a:ext cx="4543200" cy="3962520"/>
            <a:chOff x="336600" y="838080"/>
            <a:chExt cx="4543200" cy="3962520"/>
          </a:xfrm>
        </p:grpSpPr>
        <p:pic>
          <p:nvPicPr>
            <p:cNvPr id="773" name="図 12" descr=""/>
            <p:cNvPicPr/>
            <p:nvPr/>
          </p:nvPicPr>
          <p:blipFill>
            <a:blip r:embed="rId1"/>
            <a:stretch/>
          </p:blipFill>
          <p:spPr>
            <a:xfrm>
              <a:off x="336600" y="1261800"/>
              <a:ext cx="4260960" cy="353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TextBox 6"/>
            <p:cNvSpPr/>
            <p:nvPr/>
          </p:nvSpPr>
          <p:spPr>
            <a:xfrm>
              <a:off x="2438280" y="838080"/>
              <a:ext cx="2441520" cy="186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Trigger: Inclusive Phot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Associate: Charged Had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p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ill Sans MT"/>
                </a:rPr>
                <a:t>trig   </a:t>
              </a: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: 2~4 [GeV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p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ill Sans MT"/>
                </a:rPr>
                <a:t>asso</a:t>
              </a: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 : 1~2 [GeV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Centrality: 0~20 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"/>
          <p:cNvSpPr txBox="1"/>
          <p:nvPr/>
        </p:nvSpPr>
        <p:spPr>
          <a:xfrm>
            <a:off x="453960" y="4800240"/>
            <a:ext cx="8229600" cy="19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e checked consistency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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  <a:ea typeface="Symbol"/>
              </a:rPr>
              <a:t>correlation between Run7 and Run4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spcBef>
                <a:spcPts val="499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  <a:ea typeface="Symbol"/>
              </a:rPr>
              <a:t>the left plot is the sum of the trigger selecte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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  <a:ea typeface="Symbol"/>
              </a:rPr>
              <a:t>correlation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spcBef>
                <a:spcPts val="499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  <a:ea typeface="Symbol"/>
              </a:rPr>
              <a:t>We can see the a certain level of consistency between those.  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76" name="Text Box 39"/>
          <p:cNvSpPr/>
          <p:nvPr/>
        </p:nvSpPr>
        <p:spPr>
          <a:xfrm>
            <a:off x="899640" y="205416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Gill Sans MT"/>
              </a:rPr>
              <a:t>PHENIX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work in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図 5" descr=""/>
          <p:cNvPicPr/>
          <p:nvPr/>
        </p:nvPicPr>
        <p:blipFill>
          <a:blip r:embed="rId2"/>
          <a:stretch/>
        </p:blipFill>
        <p:spPr>
          <a:xfrm>
            <a:off x="4729320" y="1779480"/>
            <a:ext cx="4109760" cy="2716200"/>
          </a:xfrm>
          <a:prstGeom prst="rect">
            <a:avLst/>
          </a:prstGeom>
          <a:ln w="0">
            <a:noFill/>
          </a:ln>
        </p:spPr>
      </p:pic>
      <p:sp>
        <p:nvSpPr>
          <p:cNvPr id="778" name="TextBox 13"/>
          <p:cNvSpPr/>
          <p:nvPr/>
        </p:nvSpPr>
        <p:spPr>
          <a:xfrm>
            <a:off x="990720" y="1600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14"/>
          <p:cNvSpPr/>
          <p:nvPr/>
        </p:nvSpPr>
        <p:spPr>
          <a:xfrm>
            <a:off x="6858000" y="1535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3960" y="11448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onsistency check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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correlation at periphera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1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FA782-1ADA-4EED-A76E-30012A15359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図形グループ 7"/>
          <p:cNvGrpSpPr/>
          <p:nvPr/>
        </p:nvGrpSpPr>
        <p:grpSpPr>
          <a:xfrm>
            <a:off x="380880" y="990720"/>
            <a:ext cx="4651560" cy="4038480"/>
            <a:chOff x="380880" y="990720"/>
            <a:chExt cx="4651560" cy="4038480"/>
          </a:xfrm>
        </p:grpSpPr>
        <p:pic>
          <p:nvPicPr>
            <p:cNvPr id="783" name="図 10" descr=""/>
            <p:cNvPicPr/>
            <p:nvPr/>
          </p:nvPicPr>
          <p:blipFill>
            <a:blip r:embed="rId1"/>
            <a:stretch/>
          </p:blipFill>
          <p:spPr>
            <a:xfrm>
              <a:off x="380880" y="1452600"/>
              <a:ext cx="4412160" cy="35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TextBox 8"/>
            <p:cNvSpPr/>
            <p:nvPr/>
          </p:nvSpPr>
          <p:spPr>
            <a:xfrm>
              <a:off x="2590920" y="990720"/>
              <a:ext cx="2441520" cy="186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Trigger: Inclusive Phot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Associate: Charged Had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p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ill Sans MT"/>
                </a:rPr>
                <a:t>trig   </a:t>
              </a: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: 2~4 [GeV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p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ill Sans MT"/>
                </a:rPr>
                <a:t>asso</a:t>
              </a: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 : 1~2 [GeV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Centrality: 50~93 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39"/>
            <p:cNvSpPr/>
            <p:nvPr/>
          </p:nvSpPr>
          <p:spPr>
            <a:xfrm>
              <a:off x="1154880" y="2282760"/>
              <a:ext cx="227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Gill Sans MT"/>
                </a:rPr>
                <a:t>PHENIX</a:t>
              </a: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</a:rPr>
                <a:t> work in prog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6" name="図 8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81320" cy="2743200"/>
          </a:xfrm>
          <a:prstGeom prst="rect">
            <a:avLst/>
          </a:prstGeom>
          <a:ln w="0">
            <a:noFill/>
          </a:ln>
        </p:spPr>
      </p:pic>
      <p:sp>
        <p:nvSpPr>
          <p:cNvPr id="787" name="TextBox 9"/>
          <p:cNvSpPr/>
          <p:nvPr/>
        </p:nvSpPr>
        <p:spPr>
          <a:xfrm>
            <a:off x="990720" y="19162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10"/>
          <p:cNvSpPr/>
          <p:nvPr/>
        </p:nvSpPr>
        <p:spPr>
          <a:xfrm>
            <a:off x="6934320" y="1600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53960" y="4800240"/>
            <a:ext cx="8229600" cy="19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ff"/>
              </a:buClr>
              <a:buSzPct val="7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e checked consistency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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  <a:ea typeface="Symbol"/>
              </a:rPr>
              <a:t>correlation between Run7 and Run4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spcBef>
                <a:spcPts val="499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  <a:ea typeface="Symbol"/>
              </a:rPr>
              <a:t>the left plot is the sum of the trigger selecte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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  <a:ea typeface="Symbol"/>
              </a:rPr>
              <a:t>correlation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47560" indent="-272880">
              <a:spcBef>
                <a:spcPts val="499"/>
              </a:spcBef>
              <a:buClr>
                <a:srgbClr val="3366ff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  <a:ea typeface="Symbol"/>
              </a:rPr>
              <a:t>We can see the a certain level of consistency between those.  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6:14:03Z</dcterms:created>
  <dc:creator>轟木 貴人</dc:creator>
  <dc:description/>
  <dc:language>en-US</dc:language>
  <cp:lastModifiedBy>轟木 貴人</cp:lastModifiedBy>
  <dcterms:modified xsi:type="dcterms:W3CDTF">2009-10-19T05:04:48Z</dcterms:modified>
  <cp:revision>1125</cp:revision>
  <dc:subject/>
  <dc:title>スライド 1</dc:title>
</cp:coreProperties>
</file>