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3.pct" ContentType="image/x-pict"/>
  <Override PartName="/ppt/media/image4.jpeg" ContentType="image/jpeg"/>
  <Override PartName="/ppt/media/image2.png" ContentType="image/png"/>
  <Override PartName="/ppt/media/image9.png" ContentType="image/png"/>
  <Override PartName="/ppt/media/image8.jpeg" ContentType="image/jpeg"/>
  <Override PartName="/ppt/media/image5.png" ContentType="image/png"/>
  <Override PartName="/ppt/media/image12.png" ContentType="image/png"/>
  <Override PartName="/ppt/media/image7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BBF44-9878-4271-A449-C96D31C4FF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EE458-8311-42FE-9773-F9002ABCAD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スライド番号プレースホルダ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E0860-53AA-4A5C-92B3-4E25FF2090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310FE-4AEA-408B-B6B6-304B0D4852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9017F-9D48-4A47-8F4D-36AABBC798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スライド番号プレースホルダ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3BE81-A48C-452A-9017-239FAE705A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7F1ED-F7BE-479F-8445-62E1D0D3DA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8CF1F-3BB0-45BF-A6A9-CEF4BEB078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0AF2E-CBAC-44BA-8868-5531DC768B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0CA7D-A994-4C2D-AAB0-9788CFE5AD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at RHIC energy, there are several important experimental findings about baryon production. so called baryon enhancemen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esence of a critical point in the QCD phase diagram can deform the trajectories describ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volution of the expanding fireball in the μB − T phase diagram. If the average emission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hadrons is a function of transverse velocity, as microscopic simulations of the hadronic freeze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ynamics suggest, the deformation of the hydrodynamic trajectories will change the transve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locity (T) dependence of the proton-antiproton ratio when the fireball passes in the vicinity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ritical point. An unusual T-dependence of the pbar/p ratio in a narrow beam energy wind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uld thus signal the presence of the critical poi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スライド番号プレースホルダ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17128-E0D0-4340-813E-5F26EAF4AD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B173F-CA1C-4C31-8F8E-E33DD71ACC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F3D8C-C427-4CE1-9A4B-30ED504CD2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scales  = pT/2, pT, 2pT are used, where \mu represents equal factorization, renormalization, and fragmentation sca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スライド番号プレースホルダ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4F657-92E0-4CA9-9649-2131A71A84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E95EB-3E0E-4030-B55B-253EB2043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ECAC9-8E7F-4662-BB88-D8D25A1B4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9BD3C-5EDD-4DAF-A544-022F33EB3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6DD0C-5111-423B-8352-FD31C6D65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CF575-536F-4F93-8162-4315441BF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6B2E1-F11F-4C53-8FB7-D3BD8E361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9A890-2DCB-4C49-82AD-1A1373A80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BC69E-D375-4138-9DB6-61960B388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BEB2B-3DE0-41B9-9ECE-EBD4172C9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713D6-2E07-4487-9B77-16E4FB7D8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051D9-C00D-4FC9-8912-81B37040A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EE63F-F05A-4FE0-BBF1-B6E964E93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1A277-4A43-49F5-96AD-9C3884204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31EC5-359D-4ED2-BB69-5BF2F92E6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66631-CB6F-4851-A275-A925CB275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8D9F1-ACFB-4ED5-A3FB-A82C46CF6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262E6-A1C6-4792-B30A-5C7E9D10E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6340DA-0E9E-451E-9F24-23A4807ED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2F70AC-FABF-4D33-8183-D9AFB017F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31649B-AED0-4977-B420-9353BA70C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219650-3687-4702-8781-1B3943626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CBE2F5-CAED-4F9C-950B-E6290B388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05276-B7D0-4A7B-8FD8-5136AA074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83E462-94DA-4457-9DD0-B80459F9A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83A84C-3340-4751-AB07-4176DEF11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05EECB-BE8C-46FF-9164-421989479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C49043-F4A9-4E15-80F8-99E19E1C8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DC46DD-C26E-4E92-98D1-C249999AD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CBEE37-BE4A-45C1-8751-A31A5F9EC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7CC4E1-5310-4564-8E01-A06957A8D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131BF-F6C6-4296-B069-2D130BF16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F8CCB-5277-421C-8DD0-52F296423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0AD15-34F2-49BD-AA24-E88440E86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C3EDA-089A-4A07-B597-5A25C7283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A2952-BAD4-4582-A9BC-06D4ED7FC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C2239-3E0D-4D24-BC8F-35A311AB2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5BD58-0D54-458B-8ECF-A4CB292C90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5"/>
          <p:cNvSpPr/>
          <p:nvPr/>
        </p:nvSpPr>
        <p:spPr>
          <a:xfrm>
            <a:off x="15840" y="6600960"/>
            <a:ext cx="8610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PS-DNP/JPS Hawaii 2009,  Hawaii’s Big Island (Oct. 16, 2009)                         Tatsuya Chujo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15"/>
          <p:cNvSpPr/>
          <p:nvPr/>
        </p:nvSpPr>
        <p:spPr>
          <a:xfrm>
            <a:off x="15840" y="6600960"/>
            <a:ext cx="8610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PS-DNP/JPS Hawaii 2009,  Hawaii’s Big Island (Oct. 16, 2009)                         Tatsuya Chujo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71997-A054-4499-AE07-7D5A45C2A0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15"/>
          <p:cNvSpPr/>
          <p:nvPr/>
        </p:nvSpPr>
        <p:spPr>
          <a:xfrm>
            <a:off x="15840" y="6600960"/>
            <a:ext cx="8610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PS-DNP/JPS Hawaii 2009,  Hawaii’s Big Island (Oct. 16, 2009)                         Tatsuya Chujo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722628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71BC5-B62E-4E28-85E1-14CE7DFBCF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ct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42720" y="1676160"/>
            <a:ext cx="84582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Identified Charged Hadron Spectra at RHIC and Phase of QCD from PHENIX</a:t>
            </a:r>
            <a:br>
              <a:rPr sz="3600"/>
            </a:br>
            <a:br>
              <a:rPr sz="3600"/>
            </a:b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(Proton and antiproton productions at RHIC energies)</a:t>
            </a:r>
            <a:br>
              <a:rPr sz="2800"/>
            </a:b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936800" y="4648320"/>
            <a:ext cx="5270400" cy="98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Tatsuya Chuj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(for the PHENIX Collabora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Group 10"/>
          <p:cNvGrpSpPr/>
          <p:nvPr/>
        </p:nvGrpSpPr>
        <p:grpSpPr>
          <a:xfrm>
            <a:off x="6934320" y="6019920"/>
            <a:ext cx="1981080" cy="457200"/>
            <a:chOff x="6934320" y="6019920"/>
            <a:chExt cx="1981080" cy="457200"/>
          </a:xfrm>
        </p:grpSpPr>
        <p:sp>
          <p:nvSpPr>
            <p:cNvPr id="136" name="Rectangle 9"/>
            <p:cNvSpPr/>
            <p:nvPr/>
          </p:nvSpPr>
          <p:spPr>
            <a:xfrm>
              <a:off x="6934320" y="6019920"/>
              <a:ext cx="19810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37" name="Picture 4" descr="mark1"/>
            <p:cNvPicPr/>
            <p:nvPr/>
          </p:nvPicPr>
          <p:blipFill>
            <a:blip r:embed="rId1"/>
            <a:stretch/>
          </p:blipFill>
          <p:spPr>
            <a:xfrm>
              <a:off x="7010640" y="6045120"/>
              <a:ext cx="390240" cy="390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" name="Picture 5" descr="logo1"/>
            <p:cNvPicPr/>
            <p:nvPr/>
          </p:nvPicPr>
          <p:blipFill>
            <a:blip r:embed="rId2"/>
            <a:stretch/>
          </p:blipFill>
          <p:spPr>
            <a:xfrm>
              <a:off x="7531200" y="6045120"/>
              <a:ext cx="1359000" cy="4320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図 11" descr="raa_pion_all_cent0_logo.gif"/>
          <p:cNvPicPr/>
          <p:nvPr/>
        </p:nvPicPr>
        <p:blipFill>
          <a:blip r:embed="rId1"/>
          <a:stretch/>
        </p:blipFill>
        <p:spPr>
          <a:xfrm>
            <a:off x="0" y="895320"/>
            <a:ext cx="6464160" cy="506736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R</a:t>
            </a:r>
            <a:r>
              <a:rPr b="1" lang="en-US" sz="3600" spc="-1" strike="noStrike" baseline="-25000">
                <a:solidFill>
                  <a:srgbClr val="0000ff"/>
                </a:solidFill>
                <a:latin typeface="Arial"/>
              </a:rPr>
              <a:t>AA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 of pions</a:t>
            </a: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82" name="スライド番号プレースホルダ 3"/>
          <p:cNvSpPr/>
          <p:nvPr/>
        </p:nvSpPr>
        <p:spPr>
          <a:xfrm>
            <a:off x="722628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3587A-2439-4050-A961-A30779C0F4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テキスト ボックス 5"/>
          <p:cNvSpPr/>
          <p:nvPr/>
        </p:nvSpPr>
        <p:spPr>
          <a:xfrm>
            <a:off x="268920" y="6019920"/>
            <a:ext cx="795024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Charged pion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: strong suppression in Au+Au 62.4 GeV central,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creasing as a function of √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N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and from Cu+Cu to Au+Au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テキスト ボックス 6"/>
          <p:cNvSpPr/>
          <p:nvPr/>
        </p:nvSpPr>
        <p:spPr>
          <a:xfrm>
            <a:off x="6324480" y="1828800"/>
            <a:ext cx="2635200" cy="13716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Ncoll sys. error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u+Cu 22.4 GeV (0-10%): black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u+Cu 62.4 GeV (0-10%): blu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u+Au 62.4 GeV (0-10%): red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Normalization error for p+p 62.4 GeV (11%) is not shown here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" name="直線矢印コネクタ 8"/>
          <p:cNvCxnSpPr/>
          <p:nvPr/>
        </p:nvCxnSpPr>
        <p:spPr>
          <a:xfrm flipH="1">
            <a:off x="5637960" y="3429000"/>
            <a:ext cx="699480" cy="781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86" name="テキスト ボックス 10"/>
          <p:cNvSpPr/>
          <p:nvPr/>
        </p:nvSpPr>
        <p:spPr>
          <a:xfrm>
            <a:off x="6337440" y="1189080"/>
            <a:ext cx="2635200" cy="459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u+Cu 22.4 GeV: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(box) ISR p+p sys. error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7" name="直線矢印コネクタ 12"/>
          <p:cNvCxnSpPr/>
          <p:nvPr/>
        </p:nvCxnSpPr>
        <p:spPr>
          <a:xfrm flipH="1">
            <a:off x="5180760" y="1446840"/>
            <a:ext cx="114372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188" name="Picture 23" descr=""/>
          <p:cNvPicPr/>
          <p:nvPr/>
        </p:nvPicPr>
        <p:blipFill>
          <a:blip r:embed="rId2"/>
          <a:stretch/>
        </p:blipFill>
        <p:spPr>
          <a:xfrm>
            <a:off x="6172200" y="4343400"/>
            <a:ext cx="2971800" cy="6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R</a:t>
            </a:r>
            <a:r>
              <a:rPr b="1" lang="en-US" sz="3600" spc="-1" strike="noStrike" baseline="-25000">
                <a:solidFill>
                  <a:srgbClr val="0000ff"/>
                </a:solidFill>
                <a:latin typeface="Arial"/>
              </a:rPr>
              <a:t>AA 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of protons</a:t>
            </a: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90" name="スライド番号プレースホルダ 3"/>
          <p:cNvSpPr/>
          <p:nvPr/>
        </p:nvSpPr>
        <p:spPr>
          <a:xfrm>
            <a:off x="722628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3708B-8035-4D8A-BC4B-84DF82AC8A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テキスト ボックス 5"/>
          <p:cNvSpPr/>
          <p:nvPr/>
        </p:nvSpPr>
        <p:spPr>
          <a:xfrm>
            <a:off x="990720" y="5867280"/>
            <a:ext cx="716256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roton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: strong √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N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dependence, 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A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&gt; 1, baryon stopping &amp; Cronin effect at lower √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N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図 5" descr="raa_pr_all_cent0_logo.gif"/>
          <p:cNvPicPr/>
          <p:nvPr/>
        </p:nvPicPr>
        <p:blipFill>
          <a:blip r:embed="rId1"/>
          <a:stretch/>
        </p:blipFill>
        <p:spPr>
          <a:xfrm>
            <a:off x="1339920" y="895320"/>
            <a:ext cx="6464160" cy="50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図 8" descr="raa_pb_all_cent0_logo.gif"/>
          <p:cNvPicPr/>
          <p:nvPr/>
        </p:nvPicPr>
        <p:blipFill>
          <a:blip r:embed="rId1"/>
          <a:stretch/>
        </p:blipFill>
        <p:spPr>
          <a:xfrm>
            <a:off x="1339920" y="895320"/>
            <a:ext cx="6464160" cy="5067360"/>
          </a:xfrm>
          <a:prstGeom prst="rect">
            <a:avLst/>
          </a:prstGeom>
          <a:ln w="0">
            <a:noFill/>
          </a:ln>
        </p:spPr>
      </p:pic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R</a:t>
            </a:r>
            <a:r>
              <a:rPr b="1" lang="en-US" sz="3600" spc="-1" strike="noStrike" baseline="-25000">
                <a:solidFill>
                  <a:srgbClr val="0000ff"/>
                </a:solidFill>
                <a:latin typeface="Arial"/>
              </a:rPr>
              <a:t>AA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 of antiprotons</a:t>
            </a: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95" name="スライド番号プレースホルダ 3"/>
          <p:cNvSpPr/>
          <p:nvPr/>
        </p:nvSpPr>
        <p:spPr>
          <a:xfrm>
            <a:off x="722628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FD086-C49F-4643-AAFB-5FF833885E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テキスト ボックス 5"/>
          <p:cNvSpPr/>
          <p:nvPr/>
        </p:nvSpPr>
        <p:spPr>
          <a:xfrm>
            <a:off x="1111320" y="5962680"/>
            <a:ext cx="7235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ntiproton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: all looks similar, weaker √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N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and system dependences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7" name="図形グループ 8"/>
          <p:cNvGrpSpPr/>
          <p:nvPr/>
        </p:nvGrpSpPr>
        <p:grpSpPr>
          <a:xfrm>
            <a:off x="5877000" y="1751040"/>
            <a:ext cx="3267000" cy="2627280"/>
            <a:chOff x="5877000" y="1751040"/>
            <a:chExt cx="3267000" cy="2627280"/>
          </a:xfrm>
        </p:grpSpPr>
        <p:pic>
          <p:nvPicPr>
            <p:cNvPr id="198" name="図 5" descr=""/>
            <p:cNvPicPr/>
            <p:nvPr/>
          </p:nvPicPr>
          <p:blipFill>
            <a:blip r:embed="rId2"/>
            <a:stretch/>
          </p:blipFill>
          <p:spPr>
            <a:xfrm>
              <a:off x="5877000" y="2167560"/>
              <a:ext cx="3267000" cy="221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テキスト ボックス 6"/>
            <p:cNvSpPr/>
            <p:nvPr/>
          </p:nvSpPr>
          <p:spPr>
            <a:xfrm>
              <a:off x="6274440" y="1751040"/>
              <a:ext cx="2827800" cy="520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RC 74, 024904 (2006), PHENIX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u+Au, d+Au 200 GeV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スライド番号プレースホルダ 4"/>
          <p:cNvSpPr/>
          <p:nvPr/>
        </p:nvSpPr>
        <p:spPr>
          <a:xfrm>
            <a:off x="722628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3A0CC-C3E3-454D-9A82-9FB035D1EC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3"/>
          <p:cNvSpPr/>
          <p:nvPr/>
        </p:nvSpPr>
        <p:spPr>
          <a:xfrm>
            <a:off x="5562720" y="2835360"/>
            <a:ext cx="2568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ll HI data except Cu+Cu 22.5 GeV,  p-bar/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is enhanced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Group 16"/>
          <p:cNvGrpSpPr/>
          <p:nvPr/>
        </p:nvGrpSpPr>
        <p:grpSpPr>
          <a:xfrm>
            <a:off x="0" y="1119240"/>
            <a:ext cx="4650840" cy="4619160"/>
            <a:chOff x="0" y="1119240"/>
            <a:chExt cx="4650840" cy="4619160"/>
          </a:xfrm>
        </p:grpSpPr>
        <p:pic>
          <p:nvPicPr>
            <p:cNvPr id="203" name="Picture 11" descr="ppi_ratio_sys_dep_cent_logo"/>
            <p:cNvPicPr/>
            <p:nvPr/>
          </p:nvPicPr>
          <p:blipFill>
            <a:blip r:embed="rId1"/>
            <a:srcRect l="50002" t="0" r="0" b="0"/>
            <a:stretch/>
          </p:blipFill>
          <p:spPr>
            <a:xfrm>
              <a:off x="0" y="1119240"/>
              <a:ext cx="4650840" cy="461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4" name="Picture 15" descr="logo_25"/>
            <p:cNvPicPr/>
            <p:nvPr/>
          </p:nvPicPr>
          <p:blipFill>
            <a:blip r:embed="rId2"/>
            <a:stretch/>
          </p:blipFill>
          <p:spPr>
            <a:xfrm>
              <a:off x="990360" y="3429720"/>
              <a:ext cx="1014120" cy="407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Symbol"/>
                <a:ea typeface="Symbol"/>
              </a:rPr>
              <a:t>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s dep. of pbar/</a:t>
            </a:r>
            <a:r>
              <a:rPr b="1" lang="en-US" sz="3600" spc="-1" strike="noStrike">
                <a:solidFill>
                  <a:srgbClr val="0000ff"/>
                </a:solidFill>
                <a:latin typeface="Symbol"/>
                <a:ea typeface="Symbol"/>
              </a:rPr>
              <a:t></a:t>
            </a:r>
            <a:r>
              <a:rPr b="1" lang="en-US" sz="3600" spc="-1" strike="noStrike" baseline="30000">
                <a:solidFill>
                  <a:srgbClr val="0000ff"/>
                </a:solidFill>
                <a:latin typeface="Arial"/>
              </a:rPr>
              <a:t>-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 ratio (central)</a:t>
            </a: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スライド番号プレースホルダ 5"/>
          <p:cNvSpPr/>
          <p:nvPr/>
        </p:nvSpPr>
        <p:spPr>
          <a:xfrm>
            <a:off x="722628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96454-0A32-46F3-8587-6AF4F61541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8"/>
          <p:cNvGrpSpPr/>
          <p:nvPr/>
        </p:nvGrpSpPr>
        <p:grpSpPr>
          <a:xfrm>
            <a:off x="380880" y="1530360"/>
            <a:ext cx="5029200" cy="3834360"/>
            <a:chOff x="380880" y="1530360"/>
            <a:chExt cx="5029200" cy="3834360"/>
          </a:xfrm>
        </p:grpSpPr>
        <p:pic>
          <p:nvPicPr>
            <p:cNvPr id="208" name="Picture 4" descr=""/>
            <p:cNvPicPr/>
            <p:nvPr/>
          </p:nvPicPr>
          <p:blipFill>
            <a:blip r:embed="rId1"/>
            <a:srcRect l="32259" t="3285" r="37387" b="63052"/>
            <a:stretch/>
          </p:blipFill>
          <p:spPr>
            <a:xfrm>
              <a:off x="380880" y="1530360"/>
              <a:ext cx="5029200" cy="312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Rectangle 7"/>
            <p:cNvSpPr/>
            <p:nvPr/>
          </p:nvSpPr>
          <p:spPr>
            <a:xfrm>
              <a:off x="1126080" y="4684680"/>
              <a:ext cx="3818520" cy="68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                1.0              2.0               3.0 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(GeV/c)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Comparison with SPS data</a:t>
            </a: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11" name="Line 5"/>
          <p:cNvSpPr/>
          <p:nvPr/>
        </p:nvSpPr>
        <p:spPr>
          <a:xfrm flipH="1">
            <a:off x="1143000" y="4140360"/>
            <a:ext cx="389880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Rectangle 9"/>
          <p:cNvSpPr/>
          <p:nvPr/>
        </p:nvSpPr>
        <p:spPr>
          <a:xfrm>
            <a:off x="327600" y="38862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0.25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Rectangle 10"/>
          <p:cNvSpPr/>
          <p:nvPr/>
        </p:nvSpPr>
        <p:spPr>
          <a:xfrm>
            <a:off x="5198040" y="3794040"/>
            <a:ext cx="379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b+Pb 17.2 GeV (central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Rectangle 11"/>
          <p:cNvSpPr/>
          <p:nvPr/>
        </p:nvSpPr>
        <p:spPr>
          <a:xfrm>
            <a:off x="5387400" y="1747800"/>
            <a:ext cx="320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. Schuster, A. Laszlo (NA49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cl-ex/0606005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2"/>
          <p:cNvSpPr/>
          <p:nvPr/>
        </p:nvSpPr>
        <p:spPr>
          <a:xfrm>
            <a:off x="1066680" y="5638680"/>
            <a:ext cx="75438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S Pb+Pb: consistent with Cu+Cu 22.4 GeV pbar/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Rectangle 13"/>
          <p:cNvSpPr/>
          <p:nvPr/>
        </p:nvSpPr>
        <p:spPr>
          <a:xfrm>
            <a:off x="2622960" y="2023920"/>
            <a:ext cx="114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(Au+Au 200 GeV)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Rectangle 14"/>
          <p:cNvSpPr/>
          <p:nvPr/>
        </p:nvSpPr>
        <p:spPr>
          <a:xfrm>
            <a:off x="2895840" y="2273400"/>
            <a:ext cx="114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(Au+Au 200 GeV)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Rectangle 15"/>
          <p:cNvSpPr/>
          <p:nvPr/>
        </p:nvSpPr>
        <p:spPr>
          <a:xfrm>
            <a:off x="2662200" y="1778040"/>
            <a:ext cx="1133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(Pb+Pb 17.2 GeV)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Comparison of R</a:t>
            </a:r>
            <a:r>
              <a:rPr b="1" lang="en-US" sz="3600" spc="-1" strike="noStrike" baseline="-25000">
                <a:solidFill>
                  <a:srgbClr val="0000ff"/>
                </a:solidFill>
                <a:latin typeface="Arial"/>
              </a:rPr>
              <a:t>AA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, pbar/p ratios</a:t>
            </a:r>
            <a:br>
              <a:rPr sz="3600"/>
            </a:b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(for central HI collisions)</a:t>
            </a: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457200" y="2039760"/>
          <a:ext cx="8458200" cy="3038760"/>
        </p:xfrm>
        <a:graphic>
          <a:graphicData uri="http://schemas.openxmlformats.org/drawingml/2006/table">
            <a:tbl>
              <a:tblPr/>
              <a:tblGrid>
                <a:gridCol w="1692360"/>
                <a:gridCol w="1690560"/>
                <a:gridCol w="1692360"/>
                <a:gridCol w="1690560"/>
                <a:gridCol w="1692360"/>
              </a:tblGrid>
              <a:tr h="68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ystem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nergy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</a:t>
                      </a:r>
                      <a:r>
                        <a:rPr b="1" lang="en-US" sz="18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AA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of pions suppression?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</a:t>
                      </a:r>
                      <a:r>
                        <a:rPr b="1" lang="en-US" sz="18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AA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of pbar around 1?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bar/pi ratio &gt; R</a:t>
                      </a:r>
                      <a:r>
                        <a:rPr b="1" lang="en-US" sz="18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p+p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+Au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GeV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+Au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.4 GeV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+Cu 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.4 GeV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95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+Cu 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4 GeV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(enhanced, Cronin effect)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 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N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coll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scaling, Cronin effect?)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b+Pb (SPS)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.2 GeV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</a:tr>
            </a:tbl>
          </a:graphicData>
        </a:graphic>
      </p:graphicFrame>
      <p:sp>
        <p:nvSpPr>
          <p:cNvPr id="221" name="スライド番号プレースホルダ 3"/>
          <p:cNvSpPr/>
          <p:nvPr/>
        </p:nvSpPr>
        <p:spPr>
          <a:xfrm>
            <a:off x="722628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A1712-8A67-4CDE-957A-EBE03719F7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テキスト ボックス 5"/>
          <p:cNvSpPr/>
          <p:nvPr/>
        </p:nvSpPr>
        <p:spPr>
          <a:xfrm>
            <a:off x="637200" y="5638680"/>
            <a:ext cx="786924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Qualitatively different at mid p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Arial"/>
              </a:rPr>
              <a:t>T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between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√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s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Arial"/>
              </a:rPr>
              <a:t>NN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= 22.4 GeV and 62.4 GeV for central HI collision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直線コネクタ 7"/>
          <p:cNvSpPr/>
          <p:nvPr/>
        </p:nvSpPr>
        <p:spPr>
          <a:xfrm>
            <a:off x="0" y="3809880"/>
            <a:ext cx="9144000" cy="1800"/>
          </a:xfrm>
          <a:prstGeom prst="line">
            <a:avLst/>
          </a:prstGeom>
          <a:ln w="442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ヒラギノ角ゴ Pro W6"/>
              </a:rPr>
              <a:t>Summary</a:t>
            </a: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440" y="1143000"/>
            <a:ext cx="79246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absolutely normalized cross sections in p+p 62.4 GeV for PID charged hadrons have been present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A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ith measured p+p 62.4 GeV spectr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ons: strong suppression in 0-10% in Au+Au 62 GeV. Onset effect of suppression for pions is seen from 22.4 GeV to 62.4 GeV Cu+C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tiprotons: stay around unity at mid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and weak system and beam energy dependenc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tons: enhanced, mostly due to the baryon transport at mid-rapidi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* Qualitatively difference of hadron production at mid p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, between √s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Arial"/>
              </a:rPr>
              <a:t>NN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= 22.4 GeV and 62.4 GeV for central HI collisions, which might provide a further insight on the QCD diagra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ヒラギノ角ゴ Pro W6"/>
              </a:rPr>
              <a:t>Preparing for the publications for both p+p and HI data we presented toda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スライド番号プレースホルダ 3"/>
          <p:cNvSpPr/>
          <p:nvPr/>
        </p:nvSpPr>
        <p:spPr>
          <a:xfrm>
            <a:off x="722628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F5037-F263-4BBB-8027-42B4149D68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スライド番号プレースホルダ 4"/>
          <p:cNvSpPr/>
          <p:nvPr/>
        </p:nvSpPr>
        <p:spPr>
          <a:xfrm>
            <a:off x="722628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DD1AE-6040-40C5-8058-DC9C6456FC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3124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Backup</a:t>
            </a:r>
            <a:endParaRPr b="1" lang="en-US" sz="48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スライド番号プレースホルダ 4"/>
          <p:cNvSpPr/>
          <p:nvPr/>
        </p:nvSpPr>
        <p:spPr>
          <a:xfrm>
            <a:off x="722628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1F21A-A4BE-41D0-8AD9-9106CA72D4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Picture 8" descr="raa_pion_all_cent0_logo"/>
          <p:cNvPicPr/>
          <p:nvPr/>
        </p:nvPicPr>
        <p:blipFill>
          <a:blip r:embed="rId1"/>
          <a:stretch/>
        </p:blipFill>
        <p:spPr>
          <a:xfrm>
            <a:off x="0" y="1295280"/>
            <a:ext cx="6200640" cy="491184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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Arial"/>
              </a:rPr>
              <a:t>NN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dep. R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Arial"/>
              </a:rPr>
              <a:t>AA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for charged pions (by ISR fit)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32" name="Rectangle 6"/>
          <p:cNvSpPr/>
          <p:nvPr/>
        </p:nvSpPr>
        <p:spPr>
          <a:xfrm>
            <a:off x="1195560" y="2971800"/>
            <a:ext cx="2819160" cy="102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rror notations: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 Error bars: statistical error for HI spectra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 Boxes: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Osaka"/>
              </a:rPr>
              <a:t>1) sys. error for p+p reference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Osaka"/>
              </a:rPr>
              <a:t>2) sys. error for HI spectra. 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 Lines: N</a:t>
            </a:r>
            <a:r>
              <a:rPr b="0" lang="en-US" sz="1000" spc="-1" strike="noStrike" baseline="-25000">
                <a:solidFill>
                  <a:srgbClr val="000000"/>
                </a:solidFill>
                <a:latin typeface="Arial"/>
              </a:rPr>
              <a:t>col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error (1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)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Rectangle 9"/>
          <p:cNvSpPr/>
          <p:nvPr/>
        </p:nvSpPr>
        <p:spPr>
          <a:xfrm>
            <a:off x="6095880" y="1549440"/>
            <a:ext cx="293400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d ISR fit (nucl-ex/0411049, D. d’Enteria) for p+p parameterization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erate suppression for Au+Au 62.4 GeV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eater than unity for Cu+Cu 62/22 GeV (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&gt; 2.0 GeV/c)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Rectangle 11"/>
          <p:cNvSpPr/>
          <p:nvPr/>
        </p:nvSpPr>
        <p:spPr>
          <a:xfrm>
            <a:off x="223920" y="5943600"/>
            <a:ext cx="3378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* No weak decay feed-down correction applied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スライド番号プレースホルダ 4"/>
          <p:cNvSpPr/>
          <p:nvPr/>
        </p:nvSpPr>
        <p:spPr>
          <a:xfrm>
            <a:off x="722628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94D72-C7AD-4917-8100-B7F548CB97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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Arial"/>
              </a:rPr>
              <a:t>NN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dep. R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Arial"/>
              </a:rPr>
              <a:t>AA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for antiprotons (by ISR fit)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237" name="Picture 10" descr="raa_pb_all_cent0_logo"/>
          <p:cNvPicPr/>
          <p:nvPr/>
        </p:nvPicPr>
        <p:blipFill>
          <a:blip r:embed="rId1"/>
          <a:stretch/>
        </p:blipFill>
        <p:spPr>
          <a:xfrm>
            <a:off x="0" y="1295280"/>
            <a:ext cx="6203880" cy="4913280"/>
          </a:xfrm>
          <a:prstGeom prst="rect">
            <a:avLst/>
          </a:prstGeom>
          <a:ln w="0">
            <a:noFill/>
          </a:ln>
        </p:spPr>
      </p:pic>
      <p:sp>
        <p:nvSpPr>
          <p:cNvPr id="238" name="Rectangle 12"/>
          <p:cNvSpPr/>
          <p:nvPr/>
        </p:nvSpPr>
        <p:spPr>
          <a:xfrm>
            <a:off x="6248520" y="2666880"/>
            <a:ext cx="257796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d ISR data at 23 GeV and 63 GeV (Alper. NPB 100, 237) for p+p reference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ilar 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A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or all three systems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* Note: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+p 62.4 GeV p+p data has been measured by PHENIX, still working on the trigger bias and cross section seen in the detector. Here we use ISR fit to obtain R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AA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Rectangle 13"/>
          <p:cNvSpPr/>
          <p:nvPr/>
        </p:nvSpPr>
        <p:spPr>
          <a:xfrm>
            <a:off x="223920" y="5943600"/>
            <a:ext cx="3378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* No weak decay feed-down correction applied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28520" y="15192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Why baryons are interesting?</a:t>
            </a: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990720"/>
            <a:ext cx="8229600" cy="213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sitive to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baryo-chemical propert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 the matter, an important axis for mapping the QCD phase diagra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avier mass than the light mesons, sensitive to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llective phenomen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such as a radial flo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ferent number of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nstituent quark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at for mesons, test of recombination mode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スライド番号プレースホルダ 3"/>
          <p:cNvSpPr/>
          <p:nvPr/>
        </p:nvSpPr>
        <p:spPr>
          <a:xfrm>
            <a:off x="722628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D49A9-F657-4DC2-9D60-8702265307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図形グループ 18" descr=""/>
          <p:cNvPicPr/>
          <p:nvPr/>
        </p:nvPicPr>
        <p:blipFill>
          <a:blip r:embed="rId1"/>
          <a:stretch/>
        </p:blipFill>
        <p:spPr>
          <a:xfrm>
            <a:off x="-36360" y="4078440"/>
            <a:ext cx="5089320" cy="25603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5" descr="fig9"/>
          <p:cNvPicPr/>
          <p:nvPr/>
        </p:nvPicPr>
        <p:blipFill>
          <a:blip r:embed="rId2"/>
          <a:stretch/>
        </p:blipFill>
        <p:spPr>
          <a:xfrm>
            <a:off x="5334120" y="3048120"/>
            <a:ext cx="3616200" cy="3543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スライド番号プレースホルダ 5"/>
          <p:cNvSpPr/>
          <p:nvPr/>
        </p:nvSpPr>
        <p:spPr>
          <a:xfrm>
            <a:off x="722628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48AAC-1BCA-4BB2-8B0E-DE783954BF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01800" y="-360"/>
            <a:ext cx="7340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Baryon enhancement at RHIC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grpSp>
        <p:nvGrpSpPr>
          <p:cNvPr id="146" name="図形グループ 7"/>
          <p:cNvGrpSpPr/>
          <p:nvPr/>
        </p:nvGrpSpPr>
        <p:grpSpPr>
          <a:xfrm>
            <a:off x="152280" y="914400"/>
            <a:ext cx="4208760" cy="3110040"/>
            <a:chOff x="152280" y="914400"/>
            <a:chExt cx="4208760" cy="3110040"/>
          </a:xfrm>
        </p:grpSpPr>
        <p:pic>
          <p:nvPicPr>
            <p:cNvPr id="147" name="Picture 3" descr="Fig3v2_color"/>
            <p:cNvPicPr/>
            <p:nvPr/>
          </p:nvPicPr>
          <p:blipFill>
            <a:blip r:embed="rId1"/>
            <a:stretch/>
          </p:blipFill>
          <p:spPr>
            <a:xfrm>
              <a:off x="304560" y="1371600"/>
              <a:ext cx="3429360" cy="265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Text Box 4"/>
            <p:cNvSpPr/>
            <p:nvPr/>
          </p:nvSpPr>
          <p:spPr>
            <a:xfrm>
              <a:off x="152280" y="914400"/>
              <a:ext cx="42087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HENIX: PRL 91, 172301 (2003), PRC 69, 034909 (2004), PRC 74, 024904 (2006)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Rectangle 5"/>
          <p:cNvSpPr/>
          <p:nvPr/>
        </p:nvSpPr>
        <p:spPr>
          <a:xfrm>
            <a:off x="4235400" y="979560"/>
            <a:ext cx="4800600" cy="6095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Au+Au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N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200 GeV central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C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or 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A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Osak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Osaka"/>
              </a:rPr>
              <a:t>Pions: Strong suppression of yields above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Osaka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Osaka"/>
              </a:rPr>
              <a:t> ~ 2 GeV/c, due to jet quenching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Osaka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Osaka"/>
              </a:rPr>
              <a:t>Protons: No suppression at intermediate p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  <a:ea typeface="Osaka"/>
              </a:rPr>
              <a:t>T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Osaka"/>
              </a:rPr>
              <a:t> (2-5 GeV/c)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/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pbar/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atio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Factor ~3 more (anti) proton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an pions at intermediate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2-5 GeV/c)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6fc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fcf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ff6fcf"/>
                </a:solidFill>
                <a:latin typeface="Arial"/>
                <a:ea typeface="Arial"/>
              </a:rPr>
              <a:t>These data indicate the quark recombination, strong partonic + hadronic flow.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* Three key measurements to characterize the hadron production at RHIC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A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of pions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A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of (anti-) protons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Anti-)proton to pion ratios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Picture 11" descr=""/>
          <p:cNvPicPr/>
          <p:nvPr/>
        </p:nvPicPr>
        <p:blipFill>
          <a:blip r:embed="rId2"/>
          <a:stretch/>
        </p:blipFill>
        <p:spPr>
          <a:xfrm>
            <a:off x="0" y="4013280"/>
            <a:ext cx="3911760" cy="2844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Another interesting observable for QCD Critical Point (QCP) search</a:t>
            </a: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2" name="スライド番号プレースホルダ 3"/>
          <p:cNvSpPr/>
          <p:nvPr/>
        </p:nvSpPr>
        <p:spPr>
          <a:xfrm>
            <a:off x="722628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0627E-7671-4F63-968B-A96A7EE53E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図 5" descr=""/>
          <p:cNvPicPr/>
          <p:nvPr/>
        </p:nvPicPr>
        <p:blipFill>
          <a:blip r:embed="rId1"/>
          <a:stretch/>
        </p:blipFill>
        <p:spPr>
          <a:xfrm>
            <a:off x="1328760" y="1427040"/>
            <a:ext cx="6480000" cy="4900680"/>
          </a:xfrm>
          <a:prstGeom prst="rect">
            <a:avLst/>
          </a:prstGeom>
          <a:ln w="0">
            <a:noFill/>
          </a:ln>
        </p:spPr>
      </p:pic>
      <p:sp>
        <p:nvSpPr>
          <p:cNvPr id="154" name="テキスト ボックス 7"/>
          <p:cNvSpPr/>
          <p:nvPr/>
        </p:nvSpPr>
        <p:spPr>
          <a:xfrm>
            <a:off x="1181880" y="6248520"/>
            <a:ext cx="6779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roposed to look at pbar/p vs. p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Arial"/>
              </a:rPr>
              <a:t>T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to find QCP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テキスト ボックス 8"/>
          <p:cNvSpPr/>
          <p:nvPr/>
        </p:nvSpPr>
        <p:spPr>
          <a:xfrm>
            <a:off x="1290960" y="1143000"/>
            <a:ext cx="263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 from C. Nonaka (JPS2008 fall)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テキスト ボックス 10"/>
          <p:cNvSpPr/>
          <p:nvPr/>
        </p:nvSpPr>
        <p:spPr>
          <a:xfrm>
            <a:off x="6591600" y="770040"/>
            <a:ext cx="18554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rXiv:0803.2449v4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. Asakawa, S.A. Bass,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B. Muller, C. Nonaka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What’s new in Hawaii 2009</a:t>
            </a: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685440" y="1371600"/>
            <a:ext cx="79246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solutely normalized cross section for p+p 62.4 GeV 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pectra fo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K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p, and pbar (PHENIX preliminary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A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PID charged hadron using the measured p+p 62.4 GeV spectra, rather than the fit results from ISR, which has a larger uncertain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gether with the p(-bar)/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atios &amp; new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A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one could gain a further insight into the evolution of hadronization mechanism at intermediate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t RHIC, as a function of √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N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colliding syste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スライド番号プレースホルダ 3"/>
          <p:cNvSpPr/>
          <p:nvPr/>
        </p:nvSpPr>
        <p:spPr>
          <a:xfrm>
            <a:off x="722628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47D29-B3FC-4300-AE71-C2C95B4BBC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スライド番号プレースホルダ 5"/>
          <p:cNvSpPr/>
          <p:nvPr/>
        </p:nvSpPr>
        <p:spPr>
          <a:xfrm>
            <a:off x="722628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EC2D9-8751-43CB-8C70-193600ACCD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ID charged hadron analysis at lower √s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Arial"/>
              </a:rPr>
              <a:t>NN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in PHENIX</a:t>
            </a: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01520" y="1371600"/>
            <a:ext cx="4470480" cy="1612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PHENIX detector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rift Chamber (DC), Pad Chamber 1 (PC1), Beam-Beam Counter (BBC) and Time-of-Flight detector (TOF) for PID charged analysi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* Note that no weak decay feed-down correction appli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1028" descr="Phenix_2004"/>
          <p:cNvPicPr/>
          <p:nvPr/>
        </p:nvPicPr>
        <p:blipFill>
          <a:blip r:embed="rId1"/>
          <a:srcRect l="0" t="0" r="0" b="46249"/>
          <a:stretch/>
        </p:blipFill>
        <p:spPr>
          <a:xfrm>
            <a:off x="4800600" y="990720"/>
            <a:ext cx="3962520" cy="2670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4" name=""/>
          <p:cNvGraphicFramePr/>
          <p:nvPr/>
        </p:nvGraphicFramePr>
        <p:xfrm>
          <a:off x="495360" y="4267080"/>
          <a:ext cx="8153280" cy="2286000"/>
        </p:xfrm>
        <a:graphic>
          <a:graphicData uri="http://schemas.openxmlformats.org/drawingml/2006/table">
            <a:tbl>
              <a:tblPr/>
              <a:tblGrid>
                <a:gridCol w="963720"/>
                <a:gridCol w="1027080"/>
                <a:gridCol w="2054160"/>
                <a:gridCol w="2054160"/>
                <a:gridCol w="2054160"/>
              </a:tblGrid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ar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ystem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ergy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ent statistic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ntrality method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un-4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+Au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.4 GeV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 M min. bia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BC charge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un-5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+Cu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.4 GeV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.5 M min. bia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BC charge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un-5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+Cu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4 GeV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2 M min. bia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C1 multiplicity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un-6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+p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.4 GeV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5 M min. bia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スライド番号プレースホルダ 4"/>
          <p:cNvSpPr/>
          <p:nvPr/>
        </p:nvSpPr>
        <p:spPr>
          <a:xfrm>
            <a:off x="722628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11312-91FB-4CBD-8D2F-580399B299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93720" y="16308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Experimental Results; p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Arial"/>
              </a:rPr>
              <a:t>T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spectra</a:t>
            </a: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67" name="テキスト ボックス 4"/>
          <p:cNvSpPr/>
          <p:nvPr/>
        </p:nvSpPr>
        <p:spPr>
          <a:xfrm>
            <a:off x="-55080" y="4114800"/>
            <a:ext cx="24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u+Cu,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+p (ISR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@ 22.4 GeV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(23 GeV in p+p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テキスト ボックス 5"/>
          <p:cNvSpPr/>
          <p:nvPr/>
        </p:nvSpPr>
        <p:spPr>
          <a:xfrm>
            <a:off x="183960" y="1523880"/>
            <a:ext cx="1851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Au+Au,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Cu+Cu,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+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@ 62.4 GeV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図 8" descr="spectra_all_logo.gif"/>
          <p:cNvPicPr/>
          <p:nvPr/>
        </p:nvPicPr>
        <p:blipFill>
          <a:blip r:embed="rId1"/>
          <a:stretch/>
        </p:blipFill>
        <p:spPr>
          <a:xfrm>
            <a:off x="2286000" y="685800"/>
            <a:ext cx="6858000" cy="5873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スライド番号プレースホルダ 3"/>
          <p:cNvSpPr/>
          <p:nvPr/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3C716-013B-49CA-B19F-36BDDE82B4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ross section in p+p 62.4 GeV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72" name="テキスト ボックス 4"/>
          <p:cNvSpPr/>
          <p:nvPr/>
        </p:nvSpPr>
        <p:spPr>
          <a:xfrm>
            <a:off x="5257800" y="1295280"/>
            <a:ext cx="3886200" cy="40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pplied a correction on the measured cross section by using th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nie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can method, and trigger bias correction (se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D 79, 012003 (2009) PHENIX)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ystematic errors: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verall normalization error: 11%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independent error: 6-9%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dependent error : &lt;5% (only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&gt; 2 GeV/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図 6" descr="pt_spectra_run6-pp_62gev_all2_logo.gif"/>
          <p:cNvPicPr/>
          <p:nvPr/>
        </p:nvPicPr>
        <p:blipFill>
          <a:blip r:embed="rId1"/>
          <a:stretch/>
        </p:blipFill>
        <p:spPr>
          <a:xfrm>
            <a:off x="0" y="914400"/>
            <a:ext cx="5105520" cy="56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Comparison with 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</a:t>
            </a:r>
            <a:r>
              <a:rPr b="1" lang="en-US" sz="2800" spc="-1" strike="noStrike" baseline="30000">
                <a:solidFill>
                  <a:srgbClr val="0000ff"/>
                </a:solidFill>
                <a:latin typeface="Arial"/>
              </a:rPr>
              <a:t>0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in p+p 62.4 GeV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75" name="スライド番号プレースホルダ 3"/>
          <p:cNvSpPr/>
          <p:nvPr/>
        </p:nvSpPr>
        <p:spPr>
          <a:xfrm>
            <a:off x="722628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135BA-41DB-4020-BDC3-7640FA5DB6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テキスト ボックス 4"/>
          <p:cNvSpPr/>
          <p:nvPr/>
        </p:nvSpPr>
        <p:spPr>
          <a:xfrm>
            <a:off x="4876920" y="2690640"/>
            <a:ext cx="3951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D 79, 012003 (2009), PHENIX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PHENIX preliminary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od agreement between charged pions and neutral, ~10%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7" name="図形グループ 7"/>
          <p:cNvGrpSpPr/>
          <p:nvPr/>
        </p:nvGrpSpPr>
        <p:grpSpPr>
          <a:xfrm>
            <a:off x="155520" y="1100160"/>
            <a:ext cx="4668840" cy="5148360"/>
            <a:chOff x="155520" y="1100160"/>
            <a:chExt cx="4668840" cy="5148360"/>
          </a:xfrm>
        </p:grpSpPr>
        <p:pic>
          <p:nvPicPr>
            <p:cNvPr id="178" name="図 8" descr="pt_spectra_comp_pi0_pp62gev.gif"/>
            <p:cNvPicPr/>
            <p:nvPr/>
          </p:nvPicPr>
          <p:blipFill>
            <a:blip r:embed="rId1"/>
            <a:stretch/>
          </p:blipFill>
          <p:spPr>
            <a:xfrm>
              <a:off x="155520" y="1100160"/>
              <a:ext cx="4668840" cy="514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テキスト ボックス 5"/>
            <p:cNvSpPr/>
            <p:nvPr/>
          </p:nvSpPr>
          <p:spPr>
            <a:xfrm>
              <a:off x="1143000" y="5105520"/>
              <a:ext cx="1981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HENIX preliminary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6T19:00:57Z</dcterms:created>
  <dc:creator>Tatsuya Chujo</dc:creator>
  <dc:description/>
  <cp:keywords/>
  <dc:language>en-US</dc:language>
  <cp:lastModifiedBy>中條 達也</cp:lastModifiedBy>
  <cp:lastPrinted>2007-06-03T17:58:43Z</cp:lastPrinted>
  <dcterms:modified xsi:type="dcterms:W3CDTF">2009-10-16T20:40:48Z</dcterms:modified>
  <cp:revision>2527</cp:revision>
  <dc:subject/>
  <dc:title>PowerPoint Presentation  -  Hot Quarks 2004 (chujo)</dc:title>
</cp:coreProperties>
</file>