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336-111A-41B1-9D20-EBFB4428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05F-4110-4476-81E2-F62C7A9A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BB7-25DD-478E-80D1-02BAF821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62F-BABC-4BBC-8C5A-8573C97B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7AF-5012-4E27-8360-429F483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D62-BD11-4637-830A-04B01529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FA3-8815-4E68-8A0B-CFF7BBAB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1BC-EDF7-4DBE-B08C-8401852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613-127A-406E-B466-6E8A83B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369-39DD-464B-99B9-5FC779A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017-CF3B-4E6C-9ADB-4600BA6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444-4375-4E24-BC42-1AEA392E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112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55272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EB6-BFE2-4A3C-A2B4-3055A1F0813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838080"/>
            <a:ext cx="67057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ard - Soft  Interplay at RHIC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lation betwee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jet-modification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inIchi Esumi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v.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replace the following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-- Bridging the soft and the hard at RHIC ---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        Jiangyong J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646-1441-483D-8A1F-AB5305FBA7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44680" y="685800"/>
            <a:ext cx="1817640" cy="2590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22640" y="685800"/>
            <a:ext cx="1815840" cy="2590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875040" y="685800"/>
            <a:ext cx="1839960" cy="2590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5572080" y="685800"/>
            <a:ext cx="1819440" cy="2590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7245360" y="685800"/>
            <a:ext cx="182232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7680" y="152280"/>
            <a:ext cx="76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MPT(v1.25/v2.25 string melting) : Au+Au 200GeV b=7fm (with embedding op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6640" y="838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mbe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23880" y="83808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838080"/>
            <a:ext cx="113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88440" y="838080"/>
            <a:ext cx="102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86560" y="83808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918920" y="46080"/>
            <a:ext cx="114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.W.Lin, J.J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. Mohapatr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. Esu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9880" y="3200400"/>
            <a:ext cx="8839440" cy="3276720"/>
            <a:chOff x="299880" y="3200400"/>
            <a:chExt cx="8839440" cy="3276720"/>
          </a:xfrm>
        </p:grpSpPr>
        <p:sp>
          <p:nvSpPr>
            <p:cNvPr id="312" name=""/>
            <p:cNvSpPr/>
            <p:nvPr/>
          </p:nvSpPr>
          <p:spPr>
            <a:xfrm>
              <a:off x="299880" y="3200400"/>
              <a:ext cx="8839440" cy="32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447840" y="3619440"/>
              <a:ext cx="176184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2135160" y="3581280"/>
              <a:ext cx="178920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8"/>
            <a:stretch/>
          </p:blipFill>
          <p:spPr>
            <a:xfrm>
              <a:off x="3792600" y="3581280"/>
              <a:ext cx="18208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"/>
            <a:stretch/>
          </p:blipFill>
          <p:spPr>
            <a:xfrm>
              <a:off x="5491080" y="3581280"/>
              <a:ext cx="182412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0"/>
            <a:stretch/>
          </p:blipFill>
          <p:spPr>
            <a:xfrm>
              <a:off x="7162920" y="3581280"/>
              <a:ext cx="1828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flipV="1">
              <a:off x="8131320" y="42667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443640" y="42667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41920" y="42667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063960" y="42667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5597640"/>
              <a:ext cx="58896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xed events without the triggered (embedded)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mixed events from min.bias events 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0356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27240" y="373392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9268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021280" y="342864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494400" y="35053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7092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70920" y="35053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6160" y="3870360"/>
              <a:ext cx="13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embed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71480" y="3886200"/>
              <a:ext cx="81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46560" y="3886200"/>
              <a:ext cx="113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-of-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58360" y="3886200"/>
              <a:ext cx="102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 d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72320" y="3886200"/>
              <a:ext cx="98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 d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AE7-27BE-45A4-86A6-22CC704870C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7920" y="1371600"/>
            <a:ext cx="92044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mmary and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utlook (in back-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1) re-distribution of lost energy from jet quenching at low-middl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2) strong R.P. dependence of the Mach-cone/ridg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strong preference of associate particle emission towards the in-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3) trigger particle bias in soft particle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an be understood qualita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what would be the true v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to be compared with hydro-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(4) hard/soft coupling with transverse/longitudinal geometry/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(5) controlled direction/depth bias with reconstructed 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CD7-B15C-469C-B8E2-DB8C0E0C17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rot="5400000">
            <a:off x="7313760" y="2532600"/>
            <a:ext cx="517680" cy="513000"/>
          </a:xfrm>
          <a:custGeom>
            <a:avLst/>
            <a:gdLst/>
            <a:ahLst/>
            <a:rect l="l" t="t" r="r" b="b"/>
            <a:pathLst>
              <a:path w="326" h="323">
                <a:moveTo>
                  <a:pt x="65" y="323"/>
                </a:moveTo>
                <a:cubicBezTo>
                  <a:pt x="57" y="294"/>
                  <a:pt x="21" y="198"/>
                  <a:pt x="14" y="147"/>
                </a:cubicBezTo>
                <a:cubicBezTo>
                  <a:pt x="7" y="96"/>
                  <a:pt x="0" y="38"/>
                  <a:pt x="24" y="19"/>
                </a:cubicBezTo>
                <a:cubicBezTo>
                  <a:pt x="48" y="0"/>
                  <a:pt x="105" y="16"/>
                  <a:pt x="155" y="35"/>
                </a:cubicBezTo>
                <a:cubicBezTo>
                  <a:pt x="205" y="54"/>
                  <a:pt x="291" y="115"/>
                  <a:pt x="326" y="1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16160" y="1704960"/>
            <a:ext cx="517320" cy="487440"/>
          </a:xfrm>
          <a:custGeom>
            <a:avLst/>
            <a:gdLst/>
            <a:ahLst/>
            <a:rect l="l" t="t" r="r" b="b"/>
            <a:pathLst>
              <a:path w="326" h="307">
                <a:moveTo>
                  <a:pt x="56" y="307"/>
                </a:moveTo>
                <a:cubicBezTo>
                  <a:pt x="49" y="280"/>
                  <a:pt x="19" y="195"/>
                  <a:pt x="14" y="147"/>
                </a:cubicBezTo>
                <a:cubicBezTo>
                  <a:pt x="9" y="99"/>
                  <a:pt x="0" y="38"/>
                  <a:pt x="24" y="19"/>
                </a:cubicBezTo>
                <a:cubicBezTo>
                  <a:pt x="48" y="0"/>
                  <a:pt x="105" y="16"/>
                  <a:pt x="155" y="35"/>
                </a:cubicBezTo>
                <a:cubicBezTo>
                  <a:pt x="205" y="54"/>
                  <a:pt x="291" y="115"/>
                  <a:pt x="326" y="1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77840" y="1873080"/>
            <a:ext cx="517680" cy="513000"/>
          </a:xfrm>
          <a:custGeom>
            <a:avLst/>
            <a:gdLst/>
            <a:ahLst/>
            <a:rect l="l" t="t" r="r" b="b"/>
            <a:pathLst>
              <a:path w="326" h="323">
                <a:moveTo>
                  <a:pt x="65" y="323"/>
                </a:moveTo>
                <a:cubicBezTo>
                  <a:pt x="57" y="294"/>
                  <a:pt x="21" y="198"/>
                  <a:pt x="14" y="147"/>
                </a:cubicBezTo>
                <a:cubicBezTo>
                  <a:pt x="7" y="96"/>
                  <a:pt x="0" y="38"/>
                  <a:pt x="24" y="19"/>
                </a:cubicBezTo>
                <a:cubicBezTo>
                  <a:pt x="48" y="0"/>
                  <a:pt x="105" y="16"/>
                  <a:pt x="155" y="35"/>
                </a:cubicBezTo>
                <a:cubicBezTo>
                  <a:pt x="205" y="54"/>
                  <a:pt x="291" y="115"/>
                  <a:pt x="326" y="1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451560" y="2563200"/>
            <a:ext cx="870120" cy="876600"/>
            <a:chOff x="6451560" y="2563200"/>
            <a:chExt cx="870120" cy="876600"/>
          </a:xfrm>
        </p:grpSpPr>
        <p:sp>
          <p:nvSpPr>
            <p:cNvPr id="341" name=""/>
            <p:cNvSpPr/>
            <p:nvPr/>
          </p:nvSpPr>
          <p:spPr>
            <a:xfrm rot="13489800">
              <a:off x="6603120" y="2700360"/>
              <a:ext cx="5270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721600">
              <a:off x="6821280" y="2729160"/>
              <a:ext cx="527040" cy="14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556680" y="2737440"/>
            <a:ext cx="859680" cy="773640"/>
            <a:chOff x="6556680" y="2737440"/>
            <a:chExt cx="859680" cy="773640"/>
          </a:xfrm>
        </p:grpSpPr>
        <p:sp>
          <p:nvSpPr>
            <p:cNvPr id="344" name=""/>
            <p:cNvSpPr/>
            <p:nvPr/>
          </p:nvSpPr>
          <p:spPr>
            <a:xfrm rot="14740200">
              <a:off x="6696720" y="2813760"/>
              <a:ext cx="5266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3972000">
              <a:off x="6980040" y="2935080"/>
              <a:ext cx="526680" cy="14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rot="5400000">
            <a:off x="2361960" y="3429000"/>
            <a:ext cx="990360" cy="1143000"/>
          </a:xfrm>
          <a:prstGeom prst="can">
            <a:avLst>
              <a:gd name="adj" fmla="val 34578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505320"/>
            <a:ext cx="38124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4000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1371600" y="1981080"/>
            <a:ext cx="147312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093760" y="2423160"/>
            <a:ext cx="703080" cy="863280"/>
            <a:chOff x="2093760" y="2423160"/>
            <a:chExt cx="703080" cy="863280"/>
          </a:xfrm>
        </p:grpSpPr>
        <p:sp>
          <p:nvSpPr>
            <p:cNvPr id="351" name=""/>
            <p:cNvSpPr/>
            <p:nvPr/>
          </p:nvSpPr>
          <p:spPr>
            <a:xfrm rot="9526800">
              <a:off x="2230920" y="25408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392200">
              <a:off x="2106000" y="249696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H="1" flipV="1">
            <a:off x="2133360" y="1981080"/>
            <a:ext cx="72396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653920" y="2197080"/>
            <a:ext cx="463320" cy="758880"/>
            <a:chOff x="2653920" y="2197080"/>
            <a:chExt cx="463320" cy="758880"/>
          </a:xfrm>
        </p:grpSpPr>
        <p:sp>
          <p:nvSpPr>
            <p:cNvPr id="355" name=""/>
            <p:cNvSpPr/>
            <p:nvPr/>
          </p:nvSpPr>
          <p:spPr>
            <a:xfrm rot="10806000">
              <a:off x="2659320" y="226980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00">
              <a:off x="2655360" y="220140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287028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352160" y="2255760"/>
            <a:ext cx="870840" cy="839880"/>
            <a:chOff x="1352160" y="2255760"/>
            <a:chExt cx="870840" cy="839880"/>
          </a:xfrm>
        </p:grpSpPr>
        <p:sp>
          <p:nvSpPr>
            <p:cNvPr id="359" name=""/>
            <p:cNvSpPr/>
            <p:nvPr/>
          </p:nvSpPr>
          <p:spPr>
            <a:xfrm rot="7924200">
              <a:off x="1586520" y="235296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8789000">
              <a:off x="1335240" y="239832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548000" y="2144520"/>
            <a:ext cx="734040" cy="870480"/>
            <a:chOff x="1548000" y="2144520"/>
            <a:chExt cx="734040" cy="870480"/>
          </a:xfrm>
        </p:grpSpPr>
        <p:sp>
          <p:nvSpPr>
            <p:cNvPr id="362" name=""/>
            <p:cNvSpPr/>
            <p:nvPr/>
          </p:nvSpPr>
          <p:spPr>
            <a:xfrm rot="9323400">
              <a:off x="1702800" y="226476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188200">
              <a:off x="1559160" y="222912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V="1">
            <a:off x="1574640" y="1942920"/>
            <a:ext cx="381240" cy="228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143000" y="2209320"/>
            <a:ext cx="380880" cy="30492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990720" y="19051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1447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2743200"/>
            <a:ext cx="1066680" cy="18288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879880" y="1879560"/>
            <a:ext cx="463320" cy="758880"/>
            <a:chOff x="5879880" y="1879560"/>
            <a:chExt cx="463320" cy="758880"/>
          </a:xfrm>
        </p:grpSpPr>
        <p:sp>
          <p:nvSpPr>
            <p:cNvPr id="370" name=""/>
            <p:cNvSpPr/>
            <p:nvPr/>
          </p:nvSpPr>
          <p:spPr>
            <a:xfrm rot="10806000">
              <a:off x="5885280" y="19522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0200">
              <a:off x="5881320" y="188388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6095880" y="16761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425640" y="1800360"/>
            <a:ext cx="751320" cy="885240"/>
            <a:chOff x="6425640" y="1800360"/>
            <a:chExt cx="751320" cy="885240"/>
          </a:xfrm>
        </p:grpSpPr>
        <p:sp>
          <p:nvSpPr>
            <p:cNvPr id="374" name=""/>
            <p:cNvSpPr/>
            <p:nvPr/>
          </p:nvSpPr>
          <p:spPr>
            <a:xfrm rot="12468000">
              <a:off x="6558840" y="19324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732800">
              <a:off x="6711120" y="190116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V="1">
            <a:off x="6095880" y="190512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411200" y="2154960"/>
            <a:ext cx="821160" cy="872640"/>
            <a:chOff x="1411200" y="2154960"/>
            <a:chExt cx="821160" cy="872640"/>
          </a:xfrm>
        </p:grpSpPr>
        <p:sp>
          <p:nvSpPr>
            <p:cNvPr id="378" name=""/>
            <p:cNvSpPr/>
            <p:nvPr/>
          </p:nvSpPr>
          <p:spPr>
            <a:xfrm rot="8605800">
              <a:off x="1615680" y="22726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9470600">
              <a:off x="1413000" y="227304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2870280" y="1981080"/>
            <a:ext cx="72396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870280" y="1981080"/>
            <a:ext cx="147312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81360" y="3911760"/>
            <a:ext cx="152280" cy="152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44480" y="379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9104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44680" y="12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523920" y="2610000"/>
            <a:ext cx="879480" cy="844200"/>
            <a:chOff x="6523920" y="2610000"/>
            <a:chExt cx="879480" cy="844200"/>
          </a:xfrm>
        </p:grpSpPr>
        <p:sp>
          <p:nvSpPr>
            <p:cNvPr id="387" name=""/>
            <p:cNvSpPr/>
            <p:nvPr/>
          </p:nvSpPr>
          <p:spPr>
            <a:xfrm rot="14053200">
              <a:off x="6676920" y="2727000"/>
              <a:ext cx="5270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3284400">
              <a:off x="6928560" y="2794320"/>
              <a:ext cx="527040" cy="14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rot="16092000">
            <a:off x="6748200" y="3330360"/>
            <a:ext cx="52704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356800">
            <a:off x="7047720" y="3575880"/>
            <a:ext cx="52704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095880" y="25905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588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7340400" y="2781360"/>
            <a:ext cx="228600" cy="38088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10280" y="243828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36576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365760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04920" y="1784520"/>
            <a:ext cx="504720" cy="487080"/>
          </a:xfrm>
          <a:custGeom>
            <a:avLst/>
            <a:gdLst/>
            <a:ahLst/>
            <a:rect l="l" t="t" r="r" b="b"/>
            <a:pathLst>
              <a:path w="318" h="307">
                <a:moveTo>
                  <a:pt x="64" y="307"/>
                </a:moveTo>
                <a:cubicBezTo>
                  <a:pt x="55" y="279"/>
                  <a:pt x="21" y="184"/>
                  <a:pt x="14" y="136"/>
                </a:cubicBezTo>
                <a:cubicBezTo>
                  <a:pt x="7" y="88"/>
                  <a:pt x="0" y="34"/>
                  <a:pt x="22" y="17"/>
                </a:cubicBezTo>
                <a:cubicBezTo>
                  <a:pt x="44" y="0"/>
                  <a:pt x="99" y="16"/>
                  <a:pt x="148" y="36"/>
                </a:cubicBezTo>
                <a:cubicBezTo>
                  <a:pt x="197" y="56"/>
                  <a:pt x="283" y="116"/>
                  <a:pt x="318" y="1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67600" y="2309760"/>
            <a:ext cx="515880" cy="507960"/>
          </a:xfrm>
          <a:custGeom>
            <a:avLst/>
            <a:gdLst/>
            <a:ahLst/>
            <a:rect l="l" t="t" r="r" b="b"/>
            <a:pathLst>
              <a:path w="325" h="320">
                <a:moveTo>
                  <a:pt x="0" y="76"/>
                </a:moveTo>
                <a:cubicBezTo>
                  <a:pt x="29" y="66"/>
                  <a:pt x="125" y="26"/>
                  <a:pt x="176" y="17"/>
                </a:cubicBezTo>
                <a:cubicBezTo>
                  <a:pt x="227" y="8"/>
                  <a:pt x="287" y="0"/>
                  <a:pt x="306" y="22"/>
                </a:cubicBezTo>
                <a:cubicBezTo>
                  <a:pt x="325" y="44"/>
                  <a:pt x="306" y="100"/>
                  <a:pt x="288" y="150"/>
                </a:cubicBezTo>
                <a:cubicBezTo>
                  <a:pt x="270" y="200"/>
                  <a:pt x="216" y="285"/>
                  <a:pt x="197" y="3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264440" y="2436840"/>
            <a:ext cx="504720" cy="471600"/>
          </a:xfrm>
          <a:custGeom>
            <a:avLst/>
            <a:gdLst/>
            <a:ahLst/>
            <a:rect l="l" t="t" r="r" b="b"/>
            <a:pathLst>
              <a:path w="318" h="297">
                <a:moveTo>
                  <a:pt x="0" y="70"/>
                </a:moveTo>
                <a:cubicBezTo>
                  <a:pt x="29" y="61"/>
                  <a:pt x="128" y="25"/>
                  <a:pt x="178" y="17"/>
                </a:cubicBezTo>
                <a:cubicBezTo>
                  <a:pt x="228" y="9"/>
                  <a:pt x="288" y="0"/>
                  <a:pt x="303" y="22"/>
                </a:cubicBezTo>
                <a:cubicBezTo>
                  <a:pt x="318" y="44"/>
                  <a:pt x="292" y="102"/>
                  <a:pt x="269" y="148"/>
                </a:cubicBezTo>
                <a:cubicBezTo>
                  <a:pt x="246" y="194"/>
                  <a:pt x="188" y="266"/>
                  <a:pt x="167" y="2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61720" y="609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right a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85040" y="60948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-backward a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3920" y="5105520"/>
            <a:ext cx="26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akahito Todoroki : session 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006-CBA0-4838-AC4D-DEACD45FE39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3429000" cy="3257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211400" y="2666880"/>
            <a:ext cx="1981080" cy="320040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43600" y="2226960"/>
            <a:ext cx="2837520" cy="1628280"/>
            <a:chOff x="543600" y="2226960"/>
            <a:chExt cx="2837520" cy="1628280"/>
          </a:xfrm>
        </p:grpSpPr>
        <p:grpSp>
          <p:nvGrpSpPr>
            <p:cNvPr id="407" name=""/>
            <p:cNvGrpSpPr/>
            <p:nvPr/>
          </p:nvGrpSpPr>
          <p:grpSpPr>
            <a:xfrm>
              <a:off x="1849680" y="2283480"/>
              <a:ext cx="1447920" cy="882720"/>
              <a:chOff x="1849680" y="2283480"/>
              <a:chExt cx="1447920" cy="88272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1849680" y="2984760"/>
                <a:ext cx="224640" cy="181440"/>
                <a:chOff x="1849680" y="2984760"/>
                <a:chExt cx="224640" cy="18144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1849680" y="3039120"/>
                  <a:ext cx="139320" cy="127080"/>
                  <a:chOff x="1849680" y="3039120"/>
                  <a:chExt cx="139320" cy="1270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9850400">
                    <a:off x="1863000" y="3062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19850400">
                    <a:off x="1869120" y="3059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1934640" y="2984760"/>
                  <a:ext cx="139680" cy="127440"/>
                  <a:chOff x="1934640" y="2984760"/>
                  <a:chExt cx="139680" cy="1274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 rot="19850400">
                    <a:off x="1947960" y="3008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 rot="19850400">
                    <a:off x="1953360" y="3004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2025360" y="2886840"/>
                <a:ext cx="225000" cy="181440"/>
                <a:chOff x="2025360" y="2886840"/>
                <a:chExt cx="225000" cy="18144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2025360" y="2941200"/>
                  <a:ext cx="139320" cy="127080"/>
                  <a:chOff x="2025360" y="2941200"/>
                  <a:chExt cx="139320" cy="1270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19850400">
                    <a:off x="2038680" y="29649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9850400">
                    <a:off x="2044800" y="2961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2110320" y="2886840"/>
                  <a:ext cx="140040" cy="127440"/>
                  <a:chOff x="2110320" y="2886840"/>
                  <a:chExt cx="140040" cy="1274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V="1" rot="19850400">
                    <a:off x="2123640" y="29106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 rot="19850400">
                    <a:off x="2129400" y="29070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2198880" y="2783520"/>
                <a:ext cx="224640" cy="181440"/>
                <a:chOff x="2198880" y="2783520"/>
                <a:chExt cx="224640" cy="18144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198880" y="2837880"/>
                  <a:ext cx="138960" cy="127080"/>
                  <a:chOff x="2198880" y="2837880"/>
                  <a:chExt cx="138960" cy="1270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19850400">
                    <a:off x="2212200" y="2861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9850400">
                    <a:off x="2217960" y="2858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2283480" y="2783520"/>
                  <a:ext cx="140040" cy="127440"/>
                  <a:chOff x="2283480" y="2783520"/>
                  <a:chExt cx="140040" cy="1274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V="1" rot="19850400">
                    <a:off x="2296800" y="28072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 rot="19850400">
                    <a:off x="2302560" y="28036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2374560" y="2685240"/>
                <a:ext cx="224640" cy="181800"/>
                <a:chOff x="2374560" y="2685240"/>
                <a:chExt cx="224640" cy="1818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2374560" y="2739960"/>
                  <a:ext cx="138960" cy="127080"/>
                  <a:chOff x="2374560" y="2739960"/>
                  <a:chExt cx="138960" cy="1270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19850400">
                    <a:off x="2387880" y="2763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9850400">
                    <a:off x="2393640" y="2760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2459160" y="2685240"/>
                  <a:ext cx="140040" cy="127800"/>
                  <a:chOff x="2459160" y="2685240"/>
                  <a:chExt cx="140040" cy="1278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V="1" rot="19850400">
                    <a:off x="2472480" y="27093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19850400">
                    <a:off x="2478240" y="27054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547720" y="2582280"/>
                <a:ext cx="225000" cy="181800"/>
                <a:chOff x="2547720" y="2582280"/>
                <a:chExt cx="225000" cy="18180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2547720" y="2637000"/>
                  <a:ext cx="139320" cy="127080"/>
                  <a:chOff x="2547720" y="2637000"/>
                  <a:chExt cx="139320" cy="1270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19850400">
                    <a:off x="2561040" y="26607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19850400">
                    <a:off x="2567160" y="26575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2632680" y="2582280"/>
                  <a:ext cx="140040" cy="127800"/>
                  <a:chOff x="2632680" y="2582280"/>
                  <a:chExt cx="140040" cy="1278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 rot="19850400">
                    <a:off x="2646000" y="26064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9850400">
                    <a:off x="2651760" y="26024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2723760" y="2484360"/>
                <a:ext cx="224640" cy="181440"/>
                <a:chOff x="2723760" y="2484360"/>
                <a:chExt cx="224640" cy="181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2723760" y="2538720"/>
                  <a:ext cx="138960" cy="127080"/>
                  <a:chOff x="2723760" y="2538720"/>
                  <a:chExt cx="138960" cy="12708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9850400">
                    <a:off x="2737080" y="2562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rot="19850400">
                    <a:off x="2742840" y="25592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2808360" y="2484360"/>
                  <a:ext cx="140040" cy="127440"/>
                  <a:chOff x="2808360" y="2484360"/>
                  <a:chExt cx="140040" cy="127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 rot="19850400">
                    <a:off x="2821680" y="25081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 rot="19850400">
                    <a:off x="2827440" y="2504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2896920" y="2381400"/>
                <a:ext cx="224640" cy="181800"/>
                <a:chOff x="2896920" y="2381400"/>
                <a:chExt cx="224640" cy="18180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896920" y="2435760"/>
                  <a:ext cx="139320" cy="127440"/>
                  <a:chOff x="2896920" y="2435760"/>
                  <a:chExt cx="139320" cy="12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19850400">
                    <a:off x="2910240" y="2459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rot="19850400">
                    <a:off x="2916360" y="24562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2981880" y="2381400"/>
                  <a:ext cx="139680" cy="127440"/>
                  <a:chOff x="2981880" y="2381400"/>
                  <a:chExt cx="139680" cy="12744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 rot="19850400">
                    <a:off x="2995200" y="24051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flipV="1" rot="19850400">
                    <a:off x="3000600" y="24015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3072600" y="2283480"/>
                <a:ext cx="225000" cy="181440"/>
                <a:chOff x="3072600" y="2283480"/>
                <a:chExt cx="225000" cy="181440"/>
              </a:xfrm>
            </p:grpSpPr>
            <p:grpSp>
              <p:nvGrpSpPr>
                <p:cNvPr id="458" name=""/>
                <p:cNvGrpSpPr/>
                <p:nvPr/>
              </p:nvGrpSpPr>
              <p:grpSpPr>
                <a:xfrm>
                  <a:off x="3072600" y="2337840"/>
                  <a:ext cx="139320" cy="127080"/>
                  <a:chOff x="3072600" y="2337840"/>
                  <a:chExt cx="139320" cy="1270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9850400">
                    <a:off x="3085920" y="23616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9850400">
                    <a:off x="3092040" y="23583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157560" y="2283480"/>
                  <a:ext cx="140040" cy="127440"/>
                  <a:chOff x="3157560" y="2283480"/>
                  <a:chExt cx="140040" cy="1274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V="1" rot="19850400">
                    <a:off x="3170880" y="23072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flipV="1" rot="19850400">
                    <a:off x="3176640" y="23036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64" name=""/>
            <p:cNvSpPr/>
            <p:nvPr/>
          </p:nvSpPr>
          <p:spPr>
            <a:xfrm flipV="1">
              <a:off x="3277440" y="2226960"/>
              <a:ext cx="103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3600" y="312840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63360" y="317232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51680" y="3175560"/>
              <a:ext cx="97380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37200" y="3174120"/>
              <a:ext cx="109080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113120" y="3097440"/>
              <a:ext cx="618840" cy="104760"/>
              <a:chOff x="1113120" y="3097440"/>
              <a:chExt cx="618840" cy="10476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362960" y="3103920"/>
                <a:ext cx="119160" cy="95040"/>
                <a:chOff x="1362960" y="3103920"/>
                <a:chExt cx="119160" cy="950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1368000" y="3132360"/>
                  <a:ext cx="47160" cy="37800"/>
                  <a:chOff x="1368000" y="3132360"/>
                  <a:chExt cx="47160" cy="378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H="1" rot="10813800">
                    <a:off x="1368000" y="313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0813800">
                    <a:off x="1370520" y="313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1362960" y="3103920"/>
                  <a:ext cx="119160" cy="95040"/>
                  <a:chOff x="1362960" y="3103920"/>
                  <a:chExt cx="119160" cy="9504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 flipV="1" rot="10813800">
                    <a:off x="1362600" y="31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 rot="10813800">
                    <a:off x="1370160" y="31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1300320" y="3101040"/>
                <a:ext cx="119160" cy="95040"/>
                <a:chOff x="1300320" y="3101040"/>
                <a:chExt cx="119160" cy="9504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1305360" y="3129840"/>
                  <a:ext cx="47160" cy="37800"/>
                  <a:chOff x="1305360" y="3129840"/>
                  <a:chExt cx="47160" cy="378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0813800">
                    <a:off x="1305360" y="312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10813800">
                    <a:off x="1307880" y="312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1300320" y="3101040"/>
                  <a:ext cx="119160" cy="95040"/>
                  <a:chOff x="1300320" y="3101040"/>
                  <a:chExt cx="119160" cy="950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flipV="1" rot="10813800">
                    <a:off x="1299960" y="3101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 rot="10813800">
                    <a:off x="1307520" y="3101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1238040" y="3100680"/>
                <a:ext cx="119160" cy="95040"/>
                <a:chOff x="1238040" y="3100680"/>
                <a:chExt cx="119160" cy="9504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1243080" y="3129480"/>
                  <a:ext cx="47160" cy="37800"/>
                  <a:chOff x="1243080" y="3129480"/>
                  <a:chExt cx="47160" cy="378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10813800">
                    <a:off x="1243080" y="312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0813800">
                    <a:off x="1245600" y="312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1238040" y="3100680"/>
                  <a:ext cx="119160" cy="95040"/>
                  <a:chOff x="1238040" y="3100680"/>
                  <a:chExt cx="119160" cy="950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flipV="1" rot="10813800">
                    <a:off x="1237680" y="3100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10813800">
                    <a:off x="1245240" y="3100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1175400" y="3097800"/>
                <a:ext cx="119160" cy="95400"/>
                <a:chOff x="1175400" y="3097800"/>
                <a:chExt cx="119160" cy="954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1180440" y="3126600"/>
                  <a:ext cx="47160" cy="37800"/>
                  <a:chOff x="1180440" y="3126600"/>
                  <a:chExt cx="47160" cy="37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10813800">
                    <a:off x="1180440" y="312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10813800">
                    <a:off x="1182960" y="312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1175400" y="3097800"/>
                  <a:ext cx="119160" cy="95400"/>
                  <a:chOff x="1175400" y="3097800"/>
                  <a:chExt cx="119160" cy="9540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flipH="1" flipV="1" rot="10813800">
                    <a:off x="1175040" y="3097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 rot="10813800">
                    <a:off x="1182600" y="3098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" name=""/>
              <p:cNvGrpSpPr/>
              <p:nvPr/>
            </p:nvGrpSpPr>
            <p:grpSpPr>
              <a:xfrm>
                <a:off x="1612800" y="3107160"/>
                <a:ext cx="119160" cy="95040"/>
                <a:chOff x="1612800" y="3107160"/>
                <a:chExt cx="119160" cy="9504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1617840" y="3135960"/>
                  <a:ext cx="47160" cy="37800"/>
                  <a:chOff x="1617840" y="3135960"/>
                  <a:chExt cx="47160" cy="3780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10813800">
                    <a:off x="1617840" y="3135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0813800">
                    <a:off x="1620360" y="3135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1612800" y="3107160"/>
                  <a:ext cx="119160" cy="95040"/>
                  <a:chOff x="1612800" y="3107160"/>
                  <a:chExt cx="119160" cy="950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flipV="1" rot="10813800">
                    <a:off x="1612440" y="3107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 rot="10813800">
                    <a:off x="1620000" y="3107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1550520" y="3104640"/>
                <a:ext cx="119160" cy="95040"/>
                <a:chOff x="1550520" y="3104640"/>
                <a:chExt cx="119160" cy="9504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555560" y="3133080"/>
                  <a:ext cx="47160" cy="38160"/>
                  <a:chOff x="1555560" y="3133080"/>
                  <a:chExt cx="47160" cy="381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 rot="10813800">
                    <a:off x="155556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0813800">
                    <a:off x="1558080" y="3133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1550520" y="3104640"/>
                  <a:ext cx="119160" cy="95040"/>
                  <a:chOff x="1550520" y="3104640"/>
                  <a:chExt cx="119160" cy="950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H="1" flipV="1" rot="10813800">
                    <a:off x="1550160" y="310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V="1" rot="10813800">
                    <a:off x="1557720" y="310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1487880" y="3104280"/>
                <a:ext cx="119160" cy="95040"/>
                <a:chOff x="1487880" y="3104280"/>
                <a:chExt cx="119160" cy="9504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1492920" y="3133080"/>
                  <a:ext cx="47160" cy="37800"/>
                  <a:chOff x="1492920" y="3133080"/>
                  <a:chExt cx="47160" cy="378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H="1" rot="10813800">
                    <a:off x="149292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0813800">
                    <a:off x="149544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1487880" y="3104280"/>
                  <a:ext cx="119160" cy="95040"/>
                  <a:chOff x="1487880" y="3104280"/>
                  <a:chExt cx="119160" cy="9504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flipV="1" rot="10813800">
                    <a:off x="1487520" y="3104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V="1" rot="10813800">
                    <a:off x="1495080" y="3104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1425240" y="3101400"/>
                <a:ext cx="119160" cy="95040"/>
                <a:chOff x="1425240" y="3101400"/>
                <a:chExt cx="119160" cy="9504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1430280" y="3130200"/>
                  <a:ext cx="47160" cy="37800"/>
                  <a:chOff x="1430280" y="3130200"/>
                  <a:chExt cx="47160" cy="378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0813800">
                    <a:off x="1430280" y="3130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0813800">
                    <a:off x="1432800" y="3130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1425240" y="3101400"/>
                  <a:ext cx="119160" cy="95040"/>
                  <a:chOff x="1425240" y="3101400"/>
                  <a:chExt cx="119160" cy="950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flipV="1" rot="10813800">
                    <a:off x="1424880" y="3101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 rot="10813800">
                    <a:off x="1432440" y="3101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1113120" y="3097440"/>
                <a:ext cx="119160" cy="95040"/>
                <a:chOff x="1113120" y="3097440"/>
                <a:chExt cx="119160" cy="95040"/>
              </a:xfrm>
            </p:grpSpPr>
            <p:sp>
              <p:nvSpPr>
                <p:cNvPr id="527" name=""/>
                <p:cNvSpPr/>
                <p:nvPr/>
              </p:nvSpPr>
              <p:spPr>
                <a:xfrm flipH="1" flipV="1" rot="10813800">
                  <a:off x="1112760" y="30974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 rot="10813800">
                  <a:off x="1120320" y="30974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"/>
            <p:cNvSpPr/>
            <p:nvPr/>
          </p:nvSpPr>
          <p:spPr>
            <a:xfrm flipV="1">
              <a:off x="1727280" y="308628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2360" y="2997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458000" y="4389120"/>
            <a:ext cx="2882880" cy="1576080"/>
            <a:chOff x="1458000" y="4389120"/>
            <a:chExt cx="2882880" cy="1576080"/>
          </a:xfrm>
        </p:grpSpPr>
        <p:sp>
          <p:nvSpPr>
            <p:cNvPr id="532" name=""/>
            <p:cNvSpPr/>
            <p:nvPr/>
          </p:nvSpPr>
          <p:spPr>
            <a:xfrm flipV="1">
              <a:off x="4161600" y="438912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458000" y="523800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877760" y="528228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666080" y="52855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51600" y="5284080"/>
              <a:ext cx="109080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027520" y="5207760"/>
              <a:ext cx="618840" cy="105120"/>
              <a:chOff x="2027520" y="5207760"/>
              <a:chExt cx="618840" cy="10512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2277360" y="5213880"/>
                <a:ext cx="119160" cy="95760"/>
                <a:chOff x="2277360" y="5213880"/>
                <a:chExt cx="119160" cy="9576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2282400" y="5241960"/>
                  <a:ext cx="47160" cy="38520"/>
                  <a:chOff x="2282400" y="5241960"/>
                  <a:chExt cx="47160" cy="385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10813800">
                    <a:off x="2282400" y="5241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0813800">
                    <a:off x="2284920" y="5241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2277360" y="5213880"/>
                  <a:ext cx="119160" cy="95760"/>
                  <a:chOff x="2277360" y="5213880"/>
                  <a:chExt cx="119160" cy="957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flipV="1" rot="10813800">
                    <a:off x="2277000" y="5213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 rot="10813800">
                    <a:off x="2284560" y="5213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214720" y="5211000"/>
                <a:ext cx="119160" cy="95760"/>
                <a:chOff x="2214720" y="5211000"/>
                <a:chExt cx="119160" cy="9576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2219760" y="5239440"/>
                  <a:ext cx="47160" cy="38520"/>
                  <a:chOff x="2219760" y="5239440"/>
                  <a:chExt cx="47160" cy="385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10813800">
                    <a:off x="2219760" y="52394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0813800">
                    <a:off x="2222280" y="52394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2214720" y="5211000"/>
                  <a:ext cx="119160" cy="95760"/>
                  <a:chOff x="2214720" y="5211000"/>
                  <a:chExt cx="119160" cy="957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flipV="1" rot="10813800">
                    <a:off x="2214360" y="52110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 rot="10813800">
                    <a:off x="2221920" y="52110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2152440" y="5210640"/>
                <a:ext cx="119160" cy="95760"/>
                <a:chOff x="2152440" y="5210640"/>
                <a:chExt cx="119160" cy="9576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2157480" y="5239080"/>
                  <a:ext cx="47160" cy="38520"/>
                  <a:chOff x="2157480" y="5239080"/>
                  <a:chExt cx="47160" cy="3852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flipH="1" rot="10813800">
                    <a:off x="2157480" y="5239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10813800">
                    <a:off x="2160000" y="5239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2152440" y="5210640"/>
                  <a:ext cx="119160" cy="95760"/>
                  <a:chOff x="2152440" y="5210640"/>
                  <a:chExt cx="119160" cy="957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flipH="1" flipV="1" rot="10813800">
                    <a:off x="2152080" y="5210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V="1" rot="10813800">
                    <a:off x="2159640" y="5210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9" name=""/>
              <p:cNvGrpSpPr/>
              <p:nvPr/>
            </p:nvGrpSpPr>
            <p:grpSpPr>
              <a:xfrm>
                <a:off x="2089800" y="5207760"/>
                <a:ext cx="119160" cy="96120"/>
                <a:chOff x="2089800" y="5207760"/>
                <a:chExt cx="119160" cy="9612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2094840" y="5236200"/>
                  <a:ext cx="47160" cy="38520"/>
                  <a:chOff x="2094840" y="5236200"/>
                  <a:chExt cx="47160" cy="3852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0813800">
                    <a:off x="2094840" y="5236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0813800">
                    <a:off x="2097360" y="5236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2089800" y="5207760"/>
                  <a:ext cx="119160" cy="96120"/>
                  <a:chOff x="2089800" y="5207760"/>
                  <a:chExt cx="119160" cy="9612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flipV="1" rot="10813800">
                    <a:off x="2089440" y="52077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V="1" rot="10813800">
                    <a:off x="2097000" y="5208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2527200" y="5217120"/>
                <a:ext cx="119160" cy="95760"/>
                <a:chOff x="2527200" y="5217120"/>
                <a:chExt cx="119160" cy="957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2532240" y="5245560"/>
                  <a:ext cx="47160" cy="38520"/>
                  <a:chOff x="2532240" y="5245560"/>
                  <a:chExt cx="47160" cy="385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10813800">
                    <a:off x="2532240" y="5245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10813800">
                    <a:off x="2534760" y="5245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527200" y="5217120"/>
                  <a:ext cx="119160" cy="95760"/>
                  <a:chOff x="2527200" y="5217120"/>
                  <a:chExt cx="119160" cy="957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flipV="1" rot="10813800">
                    <a:off x="2526840" y="5217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V="1" rot="10813800">
                    <a:off x="2534400" y="5217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2464920" y="5214600"/>
                <a:ext cx="119160" cy="95760"/>
                <a:chOff x="2464920" y="5214600"/>
                <a:chExt cx="119160" cy="9576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2469960" y="5242680"/>
                  <a:ext cx="47160" cy="38880"/>
                  <a:chOff x="2469960" y="5242680"/>
                  <a:chExt cx="47160" cy="388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rot="10813800">
                    <a:off x="246996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0813800">
                    <a:off x="2472480" y="52430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2464920" y="5214600"/>
                  <a:ext cx="119160" cy="95760"/>
                  <a:chOff x="2464920" y="5214600"/>
                  <a:chExt cx="119160" cy="9576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H="1" flipV="1" rot="10813800">
                    <a:off x="2464560" y="521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 rot="10813800">
                    <a:off x="2472120" y="521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0" name=""/>
              <p:cNvGrpSpPr/>
              <p:nvPr/>
            </p:nvGrpSpPr>
            <p:grpSpPr>
              <a:xfrm>
                <a:off x="2402280" y="5214240"/>
                <a:ext cx="119160" cy="95760"/>
                <a:chOff x="2402280" y="5214240"/>
                <a:chExt cx="119160" cy="9576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2407320" y="5242680"/>
                  <a:ext cx="47160" cy="38520"/>
                  <a:chOff x="2407320" y="5242680"/>
                  <a:chExt cx="47160" cy="3852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flipH="1" rot="10813800">
                    <a:off x="240732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0813800">
                    <a:off x="240984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2402280" y="5214240"/>
                  <a:ext cx="119160" cy="95760"/>
                  <a:chOff x="2402280" y="5214240"/>
                  <a:chExt cx="119160" cy="9576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flipH="1" flipV="1" rot="10813800">
                    <a:off x="2401920" y="52142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V="1" rot="10813800">
                    <a:off x="2409480" y="52142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2339640" y="5211360"/>
                <a:ext cx="119160" cy="95760"/>
                <a:chOff x="2339640" y="5211360"/>
                <a:chExt cx="119160" cy="9576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2344680" y="5239800"/>
                  <a:ext cx="47160" cy="38520"/>
                  <a:chOff x="2344680" y="5239800"/>
                  <a:chExt cx="47160" cy="385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H="1" rot="10813800">
                    <a:off x="2344680" y="523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10813800">
                    <a:off x="2347200" y="523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2339640" y="5211360"/>
                  <a:ext cx="119160" cy="95760"/>
                  <a:chOff x="2339640" y="5211360"/>
                  <a:chExt cx="119160" cy="957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H="1" flipV="1" rot="10813800">
                    <a:off x="2339280" y="521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 rot="10813800">
                    <a:off x="2346840" y="521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4" name=""/>
              <p:cNvGrpSpPr/>
              <p:nvPr/>
            </p:nvGrpSpPr>
            <p:grpSpPr>
              <a:xfrm>
                <a:off x="2027520" y="5207760"/>
                <a:ext cx="119160" cy="95760"/>
                <a:chOff x="2027520" y="5207760"/>
                <a:chExt cx="119160" cy="95760"/>
              </a:xfrm>
            </p:grpSpPr>
            <p:sp>
              <p:nvSpPr>
                <p:cNvPr id="595" name=""/>
                <p:cNvSpPr/>
                <p:nvPr/>
              </p:nvSpPr>
              <p:spPr>
                <a:xfrm flipH="1" flipV="1" rot="10813800">
                  <a:off x="2027160" y="52077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 rot="10813800">
                  <a:off x="2034720" y="52077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 flipV="1">
              <a:off x="2641680" y="519624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2751120" y="445896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98840" y="51134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48520" y="2817720"/>
            <a:ext cx="2882880" cy="1699560"/>
            <a:chOff x="848520" y="2817720"/>
            <a:chExt cx="2882880" cy="1699560"/>
          </a:xfrm>
        </p:grpSpPr>
        <p:sp>
          <p:nvSpPr>
            <p:cNvPr id="601" name=""/>
            <p:cNvSpPr/>
            <p:nvPr/>
          </p:nvSpPr>
          <p:spPr>
            <a:xfrm flipV="1">
              <a:off x="3552120" y="294120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48520" y="379044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267920" y="3834720"/>
              <a:ext cx="76356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56600" y="383796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941400" y="3836160"/>
              <a:ext cx="1091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1418040" y="3759480"/>
              <a:ext cx="618840" cy="104760"/>
              <a:chOff x="1418040" y="3759480"/>
              <a:chExt cx="618840" cy="10476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1667880" y="3765960"/>
                <a:ext cx="119160" cy="95040"/>
                <a:chOff x="1667880" y="3765960"/>
                <a:chExt cx="119160" cy="9504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1672920" y="3794400"/>
                  <a:ext cx="47160" cy="37800"/>
                  <a:chOff x="1672920" y="3794400"/>
                  <a:chExt cx="47160" cy="378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flipH="1" rot="10813800">
                    <a:off x="1672920" y="379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0813800">
                    <a:off x="1675440" y="379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1667880" y="3765960"/>
                  <a:ext cx="119160" cy="95040"/>
                  <a:chOff x="1667880" y="3765960"/>
                  <a:chExt cx="119160" cy="9504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flipH="1" flipV="1" rot="10813800">
                    <a:off x="1667520" y="3765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V="1" rot="10813800">
                    <a:off x="1675080" y="3765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1605240" y="3763080"/>
                <a:ext cx="119160" cy="95040"/>
                <a:chOff x="1605240" y="3763080"/>
                <a:chExt cx="119160" cy="9504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1610280" y="3791880"/>
                  <a:ext cx="47160" cy="37800"/>
                  <a:chOff x="1610280" y="3791880"/>
                  <a:chExt cx="47160" cy="378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10813800">
                    <a:off x="1610280" y="3791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0813800">
                    <a:off x="1612800" y="3791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1605240" y="3763080"/>
                  <a:ext cx="119160" cy="95040"/>
                  <a:chOff x="1605240" y="3763080"/>
                  <a:chExt cx="119160" cy="9504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flipV="1" rot="10813800">
                    <a:off x="160488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 rot="10813800">
                    <a:off x="161244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1542960" y="3762720"/>
                <a:ext cx="119160" cy="95040"/>
                <a:chOff x="1542960" y="3762720"/>
                <a:chExt cx="119160" cy="9504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1548000" y="3791520"/>
                  <a:ext cx="47160" cy="37800"/>
                  <a:chOff x="1548000" y="3791520"/>
                  <a:chExt cx="47160" cy="3780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 flipH="1" rot="10813800">
                    <a:off x="1548000" y="3791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rot="10813800">
                    <a:off x="1550520" y="3791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1542960" y="3762720"/>
                  <a:ext cx="119160" cy="95040"/>
                  <a:chOff x="1542960" y="3762720"/>
                  <a:chExt cx="119160" cy="9504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flipV="1" rot="10813800">
                    <a:off x="1542600" y="3762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V="1" rot="10813800">
                    <a:off x="1550160" y="3762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480320" y="3759840"/>
                <a:ext cx="119160" cy="95400"/>
                <a:chOff x="1480320" y="3759840"/>
                <a:chExt cx="119160" cy="95400"/>
              </a:xfrm>
            </p:grpSpPr>
            <p:grpSp>
              <p:nvGrpSpPr>
                <p:cNvPr id="629" name=""/>
                <p:cNvGrpSpPr/>
                <p:nvPr/>
              </p:nvGrpSpPr>
              <p:grpSpPr>
                <a:xfrm>
                  <a:off x="1485360" y="3788640"/>
                  <a:ext cx="47160" cy="37800"/>
                  <a:chOff x="1485360" y="3788640"/>
                  <a:chExt cx="47160" cy="378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flipH="1" rot="10813800">
                    <a:off x="1485360" y="3788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10813800">
                    <a:off x="1487880" y="3788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1480320" y="3759840"/>
                  <a:ext cx="119160" cy="95400"/>
                  <a:chOff x="1480320" y="3759840"/>
                  <a:chExt cx="119160" cy="954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flipH="1" flipV="1" rot="10813800">
                    <a:off x="1479960" y="37598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 rot="10813800">
                    <a:off x="1487520" y="3760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1917720" y="3769200"/>
                <a:ext cx="119160" cy="95040"/>
                <a:chOff x="1917720" y="3769200"/>
                <a:chExt cx="119160" cy="950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1922760" y="3798000"/>
                  <a:ext cx="47160" cy="37800"/>
                  <a:chOff x="1922760" y="3798000"/>
                  <a:chExt cx="47160" cy="37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10813800">
                    <a:off x="1922760" y="379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0813800">
                    <a:off x="1925280" y="379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1917720" y="3769200"/>
                  <a:ext cx="119160" cy="95040"/>
                  <a:chOff x="1917720" y="3769200"/>
                  <a:chExt cx="119160" cy="950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flipV="1" rot="10813800">
                    <a:off x="1917360" y="3769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 rot="10813800">
                    <a:off x="1924920" y="3769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"/>
              <p:cNvGrpSpPr/>
              <p:nvPr/>
            </p:nvGrpSpPr>
            <p:grpSpPr>
              <a:xfrm>
                <a:off x="1855440" y="3766680"/>
                <a:ext cx="119160" cy="95040"/>
                <a:chOff x="1855440" y="3766680"/>
                <a:chExt cx="119160" cy="95040"/>
              </a:xfrm>
            </p:grpSpPr>
            <p:grpSp>
              <p:nvGrpSpPr>
                <p:cNvPr id="643" name=""/>
                <p:cNvGrpSpPr/>
                <p:nvPr/>
              </p:nvGrpSpPr>
              <p:grpSpPr>
                <a:xfrm>
                  <a:off x="1860480" y="3795120"/>
                  <a:ext cx="47160" cy="38160"/>
                  <a:chOff x="1860480" y="3795120"/>
                  <a:chExt cx="47160" cy="3816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0813800">
                    <a:off x="186048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0813800">
                    <a:off x="1863000" y="3795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1855440" y="3766680"/>
                  <a:ext cx="119160" cy="95040"/>
                  <a:chOff x="1855440" y="3766680"/>
                  <a:chExt cx="119160" cy="9504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flipV="1" rot="10813800">
                    <a:off x="1855080" y="3766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 rot="10813800">
                    <a:off x="1862640" y="3766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"/>
              <p:cNvGrpSpPr/>
              <p:nvPr/>
            </p:nvGrpSpPr>
            <p:grpSpPr>
              <a:xfrm>
                <a:off x="1792800" y="3766320"/>
                <a:ext cx="119160" cy="95040"/>
                <a:chOff x="1792800" y="3766320"/>
                <a:chExt cx="119160" cy="950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1797840" y="3795120"/>
                  <a:ext cx="47160" cy="37800"/>
                  <a:chOff x="1797840" y="3795120"/>
                  <a:chExt cx="47160" cy="378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rot="10813800">
                    <a:off x="179784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0813800">
                    <a:off x="180036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1792800" y="3766320"/>
                  <a:ext cx="119160" cy="95040"/>
                  <a:chOff x="1792800" y="3766320"/>
                  <a:chExt cx="119160" cy="9504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 flipV="1" rot="10813800">
                    <a:off x="1792440" y="3766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V="1" rot="10813800">
                    <a:off x="1800000" y="3766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6" name=""/>
              <p:cNvGrpSpPr/>
              <p:nvPr/>
            </p:nvGrpSpPr>
            <p:grpSpPr>
              <a:xfrm>
                <a:off x="1730160" y="3763440"/>
                <a:ext cx="119160" cy="95040"/>
                <a:chOff x="1730160" y="3763440"/>
                <a:chExt cx="119160" cy="950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1735200" y="3792240"/>
                  <a:ext cx="47160" cy="37800"/>
                  <a:chOff x="1735200" y="3792240"/>
                  <a:chExt cx="47160" cy="3780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flipH="1" rot="10813800">
                    <a:off x="1735200" y="379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0813800">
                    <a:off x="1737720" y="379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1730160" y="3763440"/>
                  <a:ext cx="119160" cy="95040"/>
                  <a:chOff x="1730160" y="3763440"/>
                  <a:chExt cx="119160" cy="9504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flipH="1" flipV="1" rot="10813800">
                    <a:off x="1729800" y="3763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V="1" rot="10813800">
                    <a:off x="1737360" y="3763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3" name=""/>
              <p:cNvGrpSpPr/>
              <p:nvPr/>
            </p:nvGrpSpPr>
            <p:grpSpPr>
              <a:xfrm>
                <a:off x="1418040" y="3759480"/>
                <a:ext cx="119160" cy="95040"/>
                <a:chOff x="1418040" y="3759480"/>
                <a:chExt cx="119160" cy="95040"/>
              </a:xfrm>
            </p:grpSpPr>
            <p:sp>
              <p:nvSpPr>
                <p:cNvPr id="664" name=""/>
                <p:cNvSpPr/>
                <p:nvPr/>
              </p:nvSpPr>
              <p:spPr>
                <a:xfrm flipH="1" flipV="1" rot="10813800">
                  <a:off x="1417680" y="37594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 rot="10813800">
                  <a:off x="1425240" y="37594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6" name=""/>
            <p:cNvSpPr/>
            <p:nvPr/>
          </p:nvSpPr>
          <p:spPr>
            <a:xfrm flipV="1">
              <a:off x="2031840" y="3748680"/>
              <a:ext cx="14616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2141280" y="301104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9000" y="3665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133360" y="2906280"/>
              <a:ext cx="609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3360" y="38210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179800">
              <a:off x="2775960" y="2852280"/>
              <a:ext cx="38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153440" y="3692160"/>
            <a:ext cx="2912760" cy="1587240"/>
            <a:chOff x="1153440" y="3692160"/>
            <a:chExt cx="2912760" cy="1587240"/>
          </a:xfrm>
        </p:grpSpPr>
        <p:sp>
          <p:nvSpPr>
            <p:cNvPr id="673" name=""/>
            <p:cNvSpPr/>
            <p:nvPr/>
          </p:nvSpPr>
          <p:spPr>
            <a:xfrm flipV="1">
              <a:off x="3886920" y="369216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153440" y="455220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572840" y="4596480"/>
              <a:ext cx="76356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361520" y="45997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246680" y="4598280"/>
              <a:ext cx="109080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722960" y="4521960"/>
              <a:ext cx="618840" cy="105120"/>
              <a:chOff x="1722960" y="4521960"/>
              <a:chExt cx="618840" cy="1051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1972800" y="4528080"/>
                <a:ext cx="119160" cy="95760"/>
                <a:chOff x="1972800" y="4528080"/>
                <a:chExt cx="119160" cy="9576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1977840" y="4556160"/>
                  <a:ext cx="47160" cy="38520"/>
                  <a:chOff x="1977840" y="4556160"/>
                  <a:chExt cx="47160" cy="385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H="1" rot="10813800">
                    <a:off x="1977840" y="4556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0813800">
                    <a:off x="1980360" y="4556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1972800" y="4528080"/>
                  <a:ext cx="119160" cy="95760"/>
                  <a:chOff x="1972800" y="4528080"/>
                  <a:chExt cx="119160" cy="957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flipH="1" flipV="1" rot="10813800">
                    <a:off x="1972440" y="4528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 rot="10813800">
                    <a:off x="1980000" y="4528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1910160" y="4525200"/>
                <a:ext cx="119160" cy="95760"/>
                <a:chOff x="1910160" y="4525200"/>
                <a:chExt cx="119160" cy="9576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1915200" y="4553640"/>
                  <a:ext cx="47160" cy="38520"/>
                  <a:chOff x="1915200" y="4553640"/>
                  <a:chExt cx="47160" cy="3852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 rot="10813800">
                    <a:off x="1915200" y="45536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rot="10813800">
                    <a:off x="1917720" y="45536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1910160" y="4525200"/>
                  <a:ext cx="119160" cy="95760"/>
                  <a:chOff x="1910160" y="4525200"/>
                  <a:chExt cx="119160" cy="957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H="1" flipV="1" rot="10813800">
                    <a:off x="1909800" y="45252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 rot="10813800">
                    <a:off x="1917360" y="45252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3" name=""/>
              <p:cNvGrpSpPr/>
              <p:nvPr/>
            </p:nvGrpSpPr>
            <p:grpSpPr>
              <a:xfrm>
                <a:off x="1847880" y="4524840"/>
                <a:ext cx="119160" cy="95760"/>
                <a:chOff x="1847880" y="4524840"/>
                <a:chExt cx="119160" cy="9576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1852920" y="4553280"/>
                  <a:ext cx="47160" cy="38520"/>
                  <a:chOff x="1852920" y="4553280"/>
                  <a:chExt cx="47160" cy="3852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10813800">
                    <a:off x="1852920" y="4553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rot="10813800">
                    <a:off x="1855440" y="4553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1847880" y="4524840"/>
                  <a:ext cx="119160" cy="95760"/>
                  <a:chOff x="1847880" y="4524840"/>
                  <a:chExt cx="119160" cy="9576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 flipH="1" flipV="1" rot="10813800">
                    <a:off x="1847520" y="4524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V="1" rot="10813800">
                    <a:off x="1855080" y="4524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1785240" y="4521960"/>
                <a:ext cx="119160" cy="96120"/>
                <a:chOff x="1785240" y="4521960"/>
                <a:chExt cx="119160" cy="9612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1790280" y="4550400"/>
                  <a:ext cx="47160" cy="38520"/>
                  <a:chOff x="1790280" y="4550400"/>
                  <a:chExt cx="47160" cy="3852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flipH="1" rot="10813800">
                    <a:off x="1790280" y="4550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10813800">
                    <a:off x="1792800" y="4550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1785240" y="4521960"/>
                  <a:ext cx="119160" cy="96120"/>
                  <a:chOff x="1785240" y="4521960"/>
                  <a:chExt cx="119160" cy="9612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 flipH="1" flipV="1" rot="10813800">
                    <a:off x="1784880" y="45219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V="1" rot="10813800">
                    <a:off x="1792440" y="4522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2222640" y="4531320"/>
                <a:ext cx="119160" cy="95760"/>
                <a:chOff x="2222640" y="4531320"/>
                <a:chExt cx="119160" cy="9576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2227680" y="4559760"/>
                  <a:ext cx="47160" cy="38520"/>
                  <a:chOff x="2227680" y="4559760"/>
                  <a:chExt cx="47160" cy="385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H="1" rot="10813800">
                    <a:off x="2227680" y="4559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rot="10813800">
                    <a:off x="2230200" y="4559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2222640" y="4531320"/>
                  <a:ext cx="119160" cy="95760"/>
                  <a:chOff x="2222640" y="4531320"/>
                  <a:chExt cx="119160" cy="957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flipH="1" flipV="1" rot="10813800">
                    <a:off x="2222280" y="4531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V="1" rot="10813800">
                    <a:off x="2229840" y="4531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4" name=""/>
              <p:cNvGrpSpPr/>
              <p:nvPr/>
            </p:nvGrpSpPr>
            <p:grpSpPr>
              <a:xfrm>
                <a:off x="2160360" y="4528800"/>
                <a:ext cx="119160" cy="95760"/>
                <a:chOff x="2160360" y="4528800"/>
                <a:chExt cx="119160" cy="9576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2165400" y="4556880"/>
                  <a:ext cx="47160" cy="38880"/>
                  <a:chOff x="2165400" y="4556880"/>
                  <a:chExt cx="47160" cy="388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 rot="10813800">
                    <a:off x="216540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10813800">
                    <a:off x="2167920" y="45572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2160360" y="4528800"/>
                  <a:ext cx="119160" cy="95760"/>
                  <a:chOff x="2160360" y="4528800"/>
                  <a:chExt cx="119160" cy="957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flipV="1" rot="10813800">
                    <a:off x="2160000" y="45288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V="1" rot="10813800">
                    <a:off x="2167560" y="45288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2097720" y="4528440"/>
                <a:ext cx="119160" cy="95760"/>
                <a:chOff x="2097720" y="4528440"/>
                <a:chExt cx="119160" cy="9576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2102760" y="4556880"/>
                  <a:ext cx="47160" cy="38520"/>
                  <a:chOff x="2102760" y="4556880"/>
                  <a:chExt cx="47160" cy="385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 rot="10813800">
                    <a:off x="210276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rot="10813800">
                    <a:off x="210528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2097720" y="4528440"/>
                  <a:ext cx="119160" cy="95760"/>
                  <a:chOff x="2097720" y="4528440"/>
                  <a:chExt cx="119160" cy="9576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 flipH="1" flipV="1" rot="10813800">
                    <a:off x="2097360" y="45284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10813800">
                    <a:off x="2104920" y="45284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8" name=""/>
              <p:cNvGrpSpPr/>
              <p:nvPr/>
            </p:nvGrpSpPr>
            <p:grpSpPr>
              <a:xfrm>
                <a:off x="2035080" y="4525560"/>
                <a:ext cx="119160" cy="95760"/>
                <a:chOff x="2035080" y="4525560"/>
                <a:chExt cx="119160" cy="9576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2040120" y="4554000"/>
                  <a:ext cx="47160" cy="38520"/>
                  <a:chOff x="2040120" y="4554000"/>
                  <a:chExt cx="47160" cy="3852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flipH="1" rot="10813800">
                    <a:off x="2040120" y="45540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0813800">
                    <a:off x="2042640" y="45540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2035080" y="4525560"/>
                  <a:ext cx="119160" cy="95760"/>
                  <a:chOff x="2035080" y="4525560"/>
                  <a:chExt cx="119160" cy="9576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 flipH="1" flipV="1" rot="10813800">
                    <a:off x="2034720" y="45255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V="1" rot="10813800">
                    <a:off x="2042280" y="45255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1722960" y="4521960"/>
                <a:ext cx="119160" cy="95760"/>
                <a:chOff x="1722960" y="4521960"/>
                <a:chExt cx="119160" cy="95760"/>
              </a:xfrm>
            </p:grpSpPr>
            <p:sp>
              <p:nvSpPr>
                <p:cNvPr id="736" name=""/>
                <p:cNvSpPr/>
                <p:nvPr/>
              </p:nvSpPr>
              <p:spPr>
                <a:xfrm flipH="1" flipV="1" rot="10813800">
                  <a:off x="1722600" y="45219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 rot="10813800">
                  <a:off x="1730160" y="45219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8" name=""/>
            <p:cNvSpPr/>
            <p:nvPr/>
          </p:nvSpPr>
          <p:spPr>
            <a:xfrm flipV="1">
              <a:off x="2336760" y="4510440"/>
              <a:ext cx="14616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476440" y="376200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93920" y="44276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438280" y="42667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438280" y="3962520"/>
              <a:ext cx="76212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198400">
              <a:off x="3200400" y="3962160"/>
              <a:ext cx="1522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 rot="19919400">
            <a:off x="3708720" y="439236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dron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9919400">
            <a:off x="3279600" y="365724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small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9919400">
            <a:off x="3069720" y="28242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large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19919400">
            <a:off x="2862720" y="220788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ma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3657600" y="1752480"/>
            <a:ext cx="144792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19980000">
            <a:off x="1445760" y="1543320"/>
            <a:ext cx="24177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loser and clos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initial parto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9969200">
            <a:off x="2977560" y="5029560"/>
            <a:ext cx="27075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re and more surface 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ven by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28051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952880" y="228600"/>
            <a:ext cx="3810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86440" y="327672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STAR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23880" y="541008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+Au 0~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2760" y="152280"/>
            <a:ext cx="24177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Jet,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had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arison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most importa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248520" y="152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HIC-AGS’09, Y. S.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867280" y="5943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QM09, M. Plosk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8E0-4FE6-494D-BEA1-B2CD3C5AC93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004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5716440" y="1219320"/>
            <a:ext cx="3059280" cy="365760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4419720" y="228600"/>
            <a:ext cx="45878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-cal for LHC-ALIC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ack-to-back j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176-7C34-477F-8C34-4C4F917E007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56253" r="10210" b="0"/>
          <a:stretch/>
        </p:blipFill>
        <p:spPr>
          <a:xfrm>
            <a:off x="0" y="2251080"/>
            <a:ext cx="4495680" cy="329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1946160"/>
            <a:ext cx="4572000" cy="369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2720" y="228600"/>
            <a:ext cx="58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wo particl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rrelation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71720" y="1143000"/>
            <a:ext cx="2550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way side sup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relatively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97200" y="1143000"/>
            <a:ext cx="27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way side modific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relatively low-middl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50E-3504-4738-985E-12939608FD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5105520" y="990720"/>
            <a:ext cx="3962160" cy="2666880"/>
            <a:chOff x="5105520" y="990720"/>
            <a:chExt cx="3962160" cy="2666880"/>
          </a:xfrm>
        </p:grpSpPr>
        <p:pic>
          <p:nvPicPr>
            <p:cNvPr id="48" name="Picture 14" descr="dir1"/>
            <p:cNvPicPr/>
            <p:nvPr/>
          </p:nvPicPr>
          <p:blipFill>
            <a:blip r:embed="rId1"/>
            <a:stretch/>
          </p:blipFill>
          <p:spPr>
            <a:xfrm>
              <a:off x="5105520" y="990720"/>
              <a:ext cx="396216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5"/>
            <p:cNvSpPr/>
            <p:nvPr/>
          </p:nvSpPr>
          <p:spPr>
            <a:xfrm>
              <a:off x="5490720" y="1253160"/>
              <a:ext cx="988560" cy="21528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" descr="pidv2_pt_0_60.gif"/>
          <p:cNvPicPr/>
          <p:nvPr/>
        </p:nvPicPr>
        <p:blipFill>
          <a:blip r:embed="rId2"/>
          <a:stretch/>
        </p:blipFill>
        <p:spPr>
          <a:xfrm>
            <a:off x="4800600" y="3581280"/>
            <a:ext cx="4343400" cy="243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5720" y="457200"/>
            <a:ext cx="56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ngle particle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495288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3276720"/>
            <a:ext cx="1676160" cy="243828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191120"/>
            <a:ext cx="1676520" cy="152388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523880"/>
            <a:ext cx="1218960" cy="152424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8400" y="160020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arious things are 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low-middle pT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E10-D73C-49CF-91DD-D06BE21365E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486400" y="3580920"/>
            <a:ext cx="3048120" cy="2318040"/>
            <a:chOff x="5486400" y="3580920"/>
            <a:chExt cx="3048120" cy="2318040"/>
          </a:xfrm>
        </p:grpSpPr>
        <p:sp>
          <p:nvSpPr>
            <p:cNvPr id="58" name=""/>
            <p:cNvSpPr/>
            <p:nvPr/>
          </p:nvSpPr>
          <p:spPr>
            <a:xfrm>
              <a:off x="6442200" y="5562720"/>
              <a:ext cx="1253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86400" y="533412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010280" y="35809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40560" y="4210200"/>
              <a:ext cx="2565360" cy="1055520"/>
            </a:xfrm>
            <a:custGeom>
              <a:avLst/>
              <a:gdLst/>
              <a:ahLst/>
              <a:rect l="l" t="t" r="r" b="b"/>
              <a:pathLst>
                <a:path w="1616" h="665">
                  <a:moveTo>
                    <a:pt x="1616" y="601"/>
                  </a:moveTo>
                  <a:cubicBezTo>
                    <a:pt x="1603" y="570"/>
                    <a:pt x="1574" y="463"/>
                    <a:pt x="1540" y="413"/>
                  </a:cubicBezTo>
                  <a:cubicBezTo>
                    <a:pt x="1506" y="363"/>
                    <a:pt x="1450" y="303"/>
                    <a:pt x="1413" y="300"/>
                  </a:cubicBezTo>
                  <a:cubicBezTo>
                    <a:pt x="1376" y="297"/>
                    <a:pt x="1350" y="350"/>
                    <a:pt x="1320" y="393"/>
                  </a:cubicBezTo>
                  <a:cubicBezTo>
                    <a:pt x="1290" y="436"/>
                    <a:pt x="1275" y="519"/>
                    <a:pt x="1233" y="560"/>
                  </a:cubicBezTo>
                  <a:cubicBezTo>
                    <a:pt x="1191" y="601"/>
                    <a:pt x="1116" y="662"/>
                    <a:pt x="1067" y="640"/>
                  </a:cubicBezTo>
                  <a:cubicBezTo>
                    <a:pt x="1018" y="618"/>
                    <a:pt x="969" y="499"/>
                    <a:pt x="936" y="428"/>
                  </a:cubicBezTo>
                  <a:cubicBezTo>
                    <a:pt x="903" y="357"/>
                    <a:pt x="899" y="286"/>
                    <a:pt x="869" y="215"/>
                  </a:cubicBezTo>
                  <a:cubicBezTo>
                    <a:pt x="838" y="144"/>
                    <a:pt x="789" y="0"/>
                    <a:pt x="754" y="1"/>
                  </a:cubicBezTo>
                  <a:cubicBezTo>
                    <a:pt x="720" y="2"/>
                    <a:pt x="686" y="148"/>
                    <a:pt x="660" y="221"/>
                  </a:cubicBezTo>
                  <a:cubicBezTo>
                    <a:pt x="633" y="294"/>
                    <a:pt x="629" y="371"/>
                    <a:pt x="599" y="441"/>
                  </a:cubicBezTo>
                  <a:cubicBezTo>
                    <a:pt x="569" y="511"/>
                    <a:pt x="526" y="617"/>
                    <a:pt x="478" y="641"/>
                  </a:cubicBezTo>
                  <a:cubicBezTo>
                    <a:pt x="430" y="665"/>
                    <a:pt x="367" y="609"/>
                    <a:pt x="313" y="587"/>
                  </a:cubicBezTo>
                  <a:cubicBezTo>
                    <a:pt x="259" y="565"/>
                    <a:pt x="207" y="502"/>
                    <a:pt x="155" y="508"/>
                  </a:cubicBezTo>
                  <a:cubicBezTo>
                    <a:pt x="103" y="514"/>
                    <a:pt x="32" y="598"/>
                    <a:pt x="0" y="62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5000" y="41148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10280" y="4114800"/>
              <a:ext cx="12956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3412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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10280" y="4648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4952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24480" y="4648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009920" y="3886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52720" y="3886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34320" y="3733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01000" y="4648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1992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91640" y="1070280"/>
            <a:ext cx="6292440" cy="4721040"/>
            <a:chOff x="791640" y="1070280"/>
            <a:chExt cx="6292440" cy="4721040"/>
          </a:xfrm>
        </p:grpSpPr>
        <p:sp>
          <p:nvSpPr>
            <p:cNvPr id="75" name=""/>
            <p:cNvSpPr/>
            <p:nvPr/>
          </p:nvSpPr>
          <p:spPr>
            <a:xfrm>
              <a:off x="2637000" y="1829160"/>
              <a:ext cx="2590560" cy="259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60680" y="1752840"/>
              <a:ext cx="2743200" cy="274320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94200" y="1829160"/>
              <a:ext cx="1676160" cy="259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60680" y="31244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32280" y="175284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941560" y="2133720"/>
              <a:ext cx="198144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41560" y="2133720"/>
              <a:ext cx="198144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637000" y="2590920"/>
              <a:ext cx="2590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398760" y="1829160"/>
              <a:ext cx="106704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37000" y="2590920"/>
              <a:ext cx="2590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98760" y="1829160"/>
              <a:ext cx="106704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932280" y="2210040"/>
              <a:ext cx="12952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37000" y="3124440"/>
              <a:ext cx="1295280" cy="9144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637000" y="2895480"/>
              <a:ext cx="129528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703320" y="3124440"/>
              <a:ext cx="228600" cy="129528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32280" y="2590920"/>
              <a:ext cx="1295280" cy="533520"/>
            </a:xfrm>
            <a:prstGeom prst="line">
              <a:avLst/>
            </a:prstGeom>
            <a:ln w="38160">
              <a:solidFill>
                <a:srgbClr val="00ff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932280" y="2133720"/>
              <a:ext cx="990720" cy="990720"/>
            </a:xfrm>
            <a:prstGeom prst="line">
              <a:avLst/>
            </a:prstGeom>
            <a:ln w="38160">
              <a:solidFill>
                <a:srgbClr val="00ff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736400">
              <a:off x="5226840" y="1463040"/>
              <a:ext cx="166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near si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(trigger direct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736400">
              <a:off x="1328400" y="419076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way si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(head reg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9480" y="2057760"/>
              <a:ext cx="966960" cy="1066680"/>
            </a:xfrm>
            <a:custGeom>
              <a:avLst/>
              <a:gdLst/>
              <a:ahLst/>
              <a:rect l="l" t="t" r="r" b="b"/>
              <a:pathLst>
                <a:path w="609" h="672">
                  <a:moveTo>
                    <a:pt x="0" y="0"/>
                  </a:moveTo>
                  <a:cubicBezTo>
                    <a:pt x="35" y="18"/>
                    <a:pt x="134" y="98"/>
                    <a:pt x="211" y="111"/>
                  </a:cubicBezTo>
                  <a:cubicBezTo>
                    <a:pt x="288" y="124"/>
                    <a:pt x="400" y="84"/>
                    <a:pt x="464" y="76"/>
                  </a:cubicBezTo>
                  <a:cubicBezTo>
                    <a:pt x="528" y="68"/>
                    <a:pt x="585" y="46"/>
                    <a:pt x="597" y="62"/>
                  </a:cubicBezTo>
                  <a:cubicBezTo>
                    <a:pt x="609" y="78"/>
                    <a:pt x="569" y="128"/>
                    <a:pt x="534" y="174"/>
                  </a:cubicBezTo>
                  <a:cubicBezTo>
                    <a:pt x="499" y="220"/>
                    <a:pt x="425" y="285"/>
                    <a:pt x="384" y="336"/>
                  </a:cubicBezTo>
                  <a:cubicBezTo>
                    <a:pt x="343" y="387"/>
                    <a:pt x="312" y="424"/>
                    <a:pt x="288" y="480"/>
                  </a:cubicBezTo>
                  <a:cubicBezTo>
                    <a:pt x="264" y="536"/>
                    <a:pt x="252" y="604"/>
                    <a:pt x="240" y="6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43040" y="2422800"/>
              <a:ext cx="1847880" cy="2147760"/>
            </a:xfrm>
            <a:custGeom>
              <a:avLst/>
              <a:gdLst/>
              <a:ahLst/>
              <a:rect l="l" t="t" r="r" b="b"/>
              <a:pathLst>
                <a:path w="1164" h="1353">
                  <a:moveTo>
                    <a:pt x="434" y="0"/>
                  </a:moveTo>
                  <a:cubicBezTo>
                    <a:pt x="405" y="26"/>
                    <a:pt x="321" y="106"/>
                    <a:pt x="251" y="154"/>
                  </a:cubicBezTo>
                  <a:cubicBezTo>
                    <a:pt x="181" y="202"/>
                    <a:pt x="26" y="232"/>
                    <a:pt x="13" y="288"/>
                  </a:cubicBezTo>
                  <a:cubicBezTo>
                    <a:pt x="0" y="344"/>
                    <a:pt x="124" y="420"/>
                    <a:pt x="174" y="491"/>
                  </a:cubicBezTo>
                  <a:cubicBezTo>
                    <a:pt x="224" y="562"/>
                    <a:pt x="274" y="640"/>
                    <a:pt x="315" y="716"/>
                  </a:cubicBezTo>
                  <a:cubicBezTo>
                    <a:pt x="356" y="792"/>
                    <a:pt x="380" y="870"/>
                    <a:pt x="420" y="947"/>
                  </a:cubicBezTo>
                  <a:cubicBezTo>
                    <a:pt x="460" y="1024"/>
                    <a:pt x="504" y="1115"/>
                    <a:pt x="553" y="1179"/>
                  </a:cubicBezTo>
                  <a:cubicBezTo>
                    <a:pt x="602" y="1243"/>
                    <a:pt x="659" y="1313"/>
                    <a:pt x="715" y="1333"/>
                  </a:cubicBezTo>
                  <a:cubicBezTo>
                    <a:pt x="771" y="1353"/>
                    <a:pt x="815" y="1331"/>
                    <a:pt x="890" y="1298"/>
                  </a:cubicBezTo>
                  <a:cubicBezTo>
                    <a:pt x="965" y="1265"/>
                    <a:pt x="1107" y="1171"/>
                    <a:pt x="1164" y="1137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475200">
              <a:off x="836280" y="2361960"/>
              <a:ext cx="16452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mach-co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(shoulder reg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r>
                <a:rPr b="1" lang="ja-JP" sz="1400" spc="-1" strike="noStrike" baseline="-25000">
                  <a:solidFill>
                    <a:srgbClr val="0000ff"/>
                  </a:solidFill>
                  <a:latin typeface="Arial"/>
                </a:rPr>
                <a:t>ASSO</a:t>
              </a: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r>
                <a:rPr b="1" lang="ja-JP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r>
                <a:rPr b="1" lang="ja-JP" sz="1400" spc="-1" strike="noStrike" baseline="-25000">
                  <a:solidFill>
                    <a:srgbClr val="0000ff"/>
                  </a:solidFill>
                  <a:latin typeface="Arial"/>
                </a:rPr>
                <a:t>TRIG</a:t>
              </a: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&gt;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5960" y="4648320"/>
              <a:ext cx="16452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mach-co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(shoulder reg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r>
                <a:rPr b="1" lang="ja-JP" sz="1400" spc="-1" strike="noStrike" baseline="-25000">
                  <a:solidFill>
                    <a:srgbClr val="0000ff"/>
                  </a:solidFill>
                  <a:latin typeface="Arial"/>
                </a:rPr>
                <a:t>ASSO</a:t>
              </a: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r>
                <a:rPr b="1" lang="ja-JP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r>
                <a:rPr b="1" lang="ja-JP" sz="1400" spc="-1" strike="noStrike" baseline="-25000">
                  <a:solidFill>
                    <a:srgbClr val="0000ff"/>
                  </a:solidFill>
                  <a:latin typeface="Arial"/>
                </a:rPr>
                <a:t>TRIG</a:t>
              </a:r>
              <a:r>
                <a:rPr b="1" lang="ja-JP" sz="1400" spc="-1" strike="noStrike">
                  <a:solidFill>
                    <a:srgbClr val="0000ff"/>
                  </a:solidFill>
                  <a:latin typeface="Arial"/>
                </a:rPr>
                <a:t>&lt;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18000" y="2203560"/>
              <a:ext cx="2566080" cy="1355760"/>
              <a:chOff x="4518000" y="2203560"/>
              <a:chExt cx="2566080" cy="1355760"/>
            </a:xfrm>
          </p:grpSpPr>
          <p:sp>
            <p:nvSpPr>
              <p:cNvPr id="99" name=""/>
              <p:cNvSpPr/>
              <p:nvPr/>
            </p:nvSpPr>
            <p:spPr>
              <a:xfrm>
                <a:off x="4518000" y="2203560"/>
                <a:ext cx="876240" cy="1355760"/>
              </a:xfrm>
              <a:custGeom>
                <a:avLst/>
                <a:gdLst/>
                <a:ahLst/>
                <a:rect l="l" t="t" r="r" b="b"/>
                <a:pathLst>
                  <a:path w="552" h="854">
                    <a:moveTo>
                      <a:pt x="0" y="0"/>
                    </a:moveTo>
                    <a:cubicBezTo>
                      <a:pt x="28" y="10"/>
                      <a:pt x="111" y="52"/>
                      <a:pt x="169" y="61"/>
                    </a:cubicBezTo>
                    <a:cubicBezTo>
                      <a:pt x="227" y="70"/>
                      <a:pt x="284" y="53"/>
                      <a:pt x="346" y="54"/>
                    </a:cubicBezTo>
                    <a:cubicBezTo>
                      <a:pt x="408" y="55"/>
                      <a:pt x="532" y="31"/>
                      <a:pt x="542" y="68"/>
                    </a:cubicBezTo>
                    <a:cubicBezTo>
                      <a:pt x="552" y="105"/>
                      <a:pt x="452" y="206"/>
                      <a:pt x="407" y="278"/>
                    </a:cubicBezTo>
                    <a:cubicBezTo>
                      <a:pt x="362" y="350"/>
                      <a:pt x="316" y="406"/>
                      <a:pt x="271" y="502"/>
                    </a:cubicBezTo>
                    <a:cubicBezTo>
                      <a:pt x="226" y="598"/>
                      <a:pt x="164" y="781"/>
                      <a:pt x="136" y="854"/>
                    </a:cubicBezTo>
                  </a:path>
                </a:pathLst>
              </a:custGeom>
              <a:noFill/>
              <a:ln cap="rnd" w="38160">
                <a:solidFill>
                  <a:srgbClr val="80008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0800000">
                <a:off x="5455800" y="2286000"/>
                <a:ext cx="228600" cy="838080"/>
              </a:xfrm>
              <a:custGeom>
                <a:avLst/>
                <a:gdLst/>
                <a:ahLst/>
                <a:rect l="l" t="t" r="r" b="b"/>
                <a:pathLst>
                  <a:path w="144" h="528">
                    <a:moveTo>
                      <a:pt x="144" y="528"/>
                    </a:moveTo>
                    <a:cubicBezTo>
                      <a:pt x="108" y="476"/>
                      <a:pt x="72" y="424"/>
                      <a:pt x="48" y="336"/>
                    </a:cubicBezTo>
                    <a:cubicBezTo>
                      <a:pt x="24" y="248"/>
                      <a:pt x="12" y="12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914440" y="2476440"/>
                <a:ext cx="1169640" cy="336240"/>
              </a:xfrm>
              <a:prstGeom prst="rect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ASSO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TRIG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rot="523200">
              <a:off x="1028520" y="2009520"/>
              <a:ext cx="1074600" cy="35244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  <a:ea typeface="ＭＳ 明朝"/>
                </a:rPr>
                <a:t>thin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40120" y="5438880"/>
              <a:ext cx="1220760" cy="35244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  <a:ea typeface="ＭＳ 明朝"/>
                </a:rPr>
                <a:t>thick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58400" y="303120"/>
            <a:ext cx="50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1) geometrical (almond shaped)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2) dynamical (elliptic expansion)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A46-521F-48C2-BA90-B022C748262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41600" cy="6705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05320" y="380880"/>
            <a:ext cx="16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68600" y="609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8672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" y="76212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0" y="418140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5680" y="505944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27800" y="914400"/>
            <a:ext cx="2562120" cy="2513880"/>
            <a:chOff x="6427800" y="914400"/>
            <a:chExt cx="2562120" cy="2513880"/>
          </a:xfrm>
        </p:grpSpPr>
        <p:grpSp>
          <p:nvGrpSpPr>
            <p:cNvPr id="114" name=""/>
            <p:cNvGrpSpPr/>
            <p:nvPr/>
          </p:nvGrpSpPr>
          <p:grpSpPr>
            <a:xfrm>
              <a:off x="6635880" y="914400"/>
              <a:ext cx="1623960" cy="2513880"/>
              <a:chOff x="6635880" y="914400"/>
              <a:chExt cx="1623960" cy="25138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635880" y="914400"/>
                <a:ext cx="1623960" cy="2513880"/>
                <a:chOff x="6635880" y="914400"/>
                <a:chExt cx="1623960" cy="251388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7140960" y="1599840"/>
                  <a:ext cx="630720" cy="1255680"/>
                  <a:chOff x="7140960" y="1599840"/>
                  <a:chExt cx="630720" cy="12556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7140960" y="159984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6635880" y="221652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465680" y="91440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6852240" y="150696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6905520" y="150696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7170840" y="134748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750000" y="183168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712560" y="183168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170840" y="125028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69640" y="296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07960" y="277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39360" y="25344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95160" y="2241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895160" y="1954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39360" y="169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07960" y="1434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469640" y="126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87040" y="126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84000" y="1434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42880" y="169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73040" y="1954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73040" y="2214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42880" y="24750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4000" y="277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87040" y="296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427800" y="221472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5240" y="18680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800600" y="6248520"/>
            <a:ext cx="19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8160" y="1798560"/>
            <a:ext cx="8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15720" y="321624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213080" y="1523880"/>
            <a:ext cx="1044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361960" y="1523880"/>
            <a:ext cx="2895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144792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68600" y="1752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68600" y="2895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68600" y="4038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152388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27280" y="2743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7280" y="3886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76320"/>
            <a:ext cx="3311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308160" y="2012760"/>
            <a:ext cx="199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7920" y="4240080"/>
            <a:ext cx="998640" cy="160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70400" y="504504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419256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86520" y="4476240"/>
            <a:ext cx="772920" cy="56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15040" y="5044680"/>
            <a:ext cx="771480" cy="56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314680" y="4901760"/>
            <a:ext cx="771480" cy="14292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51160" y="5045040"/>
            <a:ext cx="135000" cy="80496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59400" y="4381560"/>
            <a:ext cx="576360" cy="663480"/>
          </a:xfrm>
          <a:custGeom>
            <a:avLst/>
            <a:gdLst/>
            <a:ahLst/>
            <a:rect l="l" t="t" r="r" b="b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22880" y="4591080"/>
            <a:ext cx="1138320" cy="1352520"/>
          </a:xfrm>
          <a:custGeom>
            <a:avLst/>
            <a:gdLst/>
            <a:ahLst/>
            <a:rect l="l" t="t" r="r" b="b"/>
            <a:pathLst>
              <a:path w="717" h="852">
                <a:moveTo>
                  <a:pt x="271" y="0"/>
                </a:moveTo>
                <a:cubicBezTo>
                  <a:pt x="251" y="13"/>
                  <a:pt x="192" y="45"/>
                  <a:pt x="147" y="76"/>
                </a:cubicBezTo>
                <a:cubicBezTo>
                  <a:pt x="102" y="107"/>
                  <a:pt x="6" y="145"/>
                  <a:pt x="3" y="188"/>
                </a:cubicBezTo>
                <a:cubicBezTo>
                  <a:pt x="0" y="231"/>
                  <a:pt x="92" y="287"/>
                  <a:pt x="127" y="332"/>
                </a:cubicBezTo>
                <a:cubicBezTo>
                  <a:pt x="162" y="377"/>
                  <a:pt x="187" y="411"/>
                  <a:pt x="211" y="456"/>
                </a:cubicBezTo>
                <a:cubicBezTo>
                  <a:pt x="235" y="501"/>
                  <a:pt x="250" y="552"/>
                  <a:pt x="273" y="600"/>
                </a:cubicBezTo>
                <a:cubicBezTo>
                  <a:pt x="297" y="647"/>
                  <a:pt x="323" y="704"/>
                  <a:pt x="353" y="744"/>
                </a:cubicBezTo>
                <a:cubicBezTo>
                  <a:pt x="382" y="784"/>
                  <a:pt x="416" y="827"/>
                  <a:pt x="449" y="840"/>
                </a:cubicBezTo>
                <a:cubicBezTo>
                  <a:pt x="483" y="852"/>
                  <a:pt x="509" y="838"/>
                  <a:pt x="554" y="818"/>
                </a:cubicBezTo>
                <a:cubicBezTo>
                  <a:pt x="598" y="797"/>
                  <a:pt x="683" y="739"/>
                  <a:pt x="717" y="718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04080" y="4292640"/>
            <a:ext cx="183960" cy="279360"/>
          </a:xfrm>
          <a:custGeom>
            <a:avLst/>
            <a:gdLst/>
            <a:ahLst/>
            <a:rect l="l" t="t" r="r" b="b"/>
            <a:pathLst>
              <a:path w="116" h="176">
                <a:moveTo>
                  <a:pt x="0" y="0"/>
                </a:moveTo>
                <a:cubicBezTo>
                  <a:pt x="19" y="29"/>
                  <a:pt x="92" y="139"/>
                  <a:pt x="11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92560" y="4572000"/>
            <a:ext cx="471600" cy="679320"/>
          </a:xfrm>
          <a:custGeom>
            <a:avLst/>
            <a:gdLst/>
            <a:ahLst/>
            <a:rect l="l" t="t" r="r" b="b"/>
            <a:pathLst>
              <a:path w="297" h="428">
                <a:moveTo>
                  <a:pt x="297" y="0"/>
                </a:moveTo>
                <a:cubicBezTo>
                  <a:pt x="272" y="13"/>
                  <a:pt x="197" y="48"/>
                  <a:pt x="149" y="80"/>
                </a:cubicBezTo>
                <a:cubicBezTo>
                  <a:pt x="101" y="112"/>
                  <a:pt x="18" y="157"/>
                  <a:pt x="9" y="192"/>
                </a:cubicBezTo>
                <a:cubicBezTo>
                  <a:pt x="0" y="227"/>
                  <a:pt x="58" y="253"/>
                  <a:pt x="93" y="292"/>
                </a:cubicBezTo>
                <a:cubicBezTo>
                  <a:pt x="128" y="331"/>
                  <a:pt x="194" y="400"/>
                  <a:pt x="221" y="42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1585000">
            <a:off x="5029200" y="3959280"/>
            <a:ext cx="2286000" cy="2211480"/>
          </a:xfrm>
          <a:prstGeom prst="ellipse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7160" y="589752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67560" y="4240080"/>
            <a:ext cx="998640" cy="160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50040" y="504504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6160" y="419256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85240" y="4152240"/>
            <a:ext cx="407880" cy="868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78440" y="5020200"/>
            <a:ext cx="406800" cy="867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321320" y="5031000"/>
            <a:ext cx="745920" cy="2430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67240" y="5029920"/>
            <a:ext cx="265320" cy="77184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4079880"/>
            <a:ext cx="482400" cy="708120"/>
          </a:xfrm>
          <a:custGeom>
            <a:avLst/>
            <a:gdLst/>
            <a:ahLst/>
            <a:rect l="l" t="t" r="r" b="b"/>
            <a:pathLst>
              <a:path w="304" h="446">
                <a:moveTo>
                  <a:pt x="0" y="84"/>
                </a:moveTo>
                <a:cubicBezTo>
                  <a:pt x="19" y="83"/>
                  <a:pt x="77" y="84"/>
                  <a:pt x="112" y="77"/>
                </a:cubicBezTo>
                <a:cubicBezTo>
                  <a:pt x="147" y="70"/>
                  <a:pt x="182" y="54"/>
                  <a:pt x="211" y="42"/>
                </a:cubicBezTo>
                <a:cubicBezTo>
                  <a:pt x="240" y="30"/>
                  <a:pt x="275" y="0"/>
                  <a:pt x="288" y="7"/>
                </a:cubicBezTo>
                <a:cubicBezTo>
                  <a:pt x="301" y="14"/>
                  <a:pt x="289" y="50"/>
                  <a:pt x="288" y="86"/>
                </a:cubicBezTo>
                <a:cubicBezTo>
                  <a:pt x="287" y="122"/>
                  <a:pt x="284" y="185"/>
                  <a:pt x="284" y="226"/>
                </a:cubicBezTo>
                <a:cubicBezTo>
                  <a:pt x="284" y="267"/>
                  <a:pt x="285" y="293"/>
                  <a:pt x="288" y="330"/>
                </a:cubicBezTo>
                <a:cubicBezTo>
                  <a:pt x="291" y="367"/>
                  <a:pt x="301" y="422"/>
                  <a:pt x="304" y="4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851360"/>
            <a:ext cx="1225440" cy="1214640"/>
          </a:xfrm>
          <a:custGeom>
            <a:avLst/>
            <a:gdLst/>
            <a:ahLst/>
            <a:rect l="l" t="t" r="r" b="b"/>
            <a:pathLst>
              <a:path w="772" h="765">
                <a:moveTo>
                  <a:pt x="148" y="0"/>
                </a:moveTo>
                <a:cubicBezTo>
                  <a:pt x="138" y="21"/>
                  <a:pt x="107" y="83"/>
                  <a:pt x="84" y="128"/>
                </a:cubicBezTo>
                <a:cubicBezTo>
                  <a:pt x="61" y="173"/>
                  <a:pt x="0" y="230"/>
                  <a:pt x="8" y="268"/>
                </a:cubicBezTo>
                <a:cubicBezTo>
                  <a:pt x="16" y="306"/>
                  <a:pt x="93" y="322"/>
                  <a:pt x="132" y="356"/>
                </a:cubicBezTo>
                <a:cubicBezTo>
                  <a:pt x="171" y="390"/>
                  <a:pt x="196" y="425"/>
                  <a:pt x="240" y="472"/>
                </a:cubicBezTo>
                <a:cubicBezTo>
                  <a:pt x="284" y="519"/>
                  <a:pt x="343" y="594"/>
                  <a:pt x="396" y="636"/>
                </a:cubicBezTo>
                <a:cubicBezTo>
                  <a:pt x="449" y="678"/>
                  <a:pt x="504" y="707"/>
                  <a:pt x="556" y="724"/>
                </a:cubicBezTo>
                <a:cubicBezTo>
                  <a:pt x="608" y="741"/>
                  <a:pt x="674" y="765"/>
                  <a:pt x="708" y="740"/>
                </a:cubicBezTo>
                <a:cubicBezTo>
                  <a:pt x="742" y="715"/>
                  <a:pt x="749" y="649"/>
                  <a:pt x="760" y="576"/>
                </a:cubicBezTo>
                <a:cubicBezTo>
                  <a:pt x="771" y="503"/>
                  <a:pt x="770" y="361"/>
                  <a:pt x="772" y="304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16800" y="3936960"/>
            <a:ext cx="301680" cy="18432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190" y="116"/>
                </a:moveTo>
                <a:cubicBezTo>
                  <a:pt x="159" y="97"/>
                  <a:pt x="40" y="2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81920" y="5416560"/>
            <a:ext cx="617400" cy="798480"/>
          </a:xfrm>
          <a:custGeom>
            <a:avLst/>
            <a:gdLst/>
            <a:ahLst/>
            <a:rect l="l" t="t" r="r" b="b"/>
            <a:pathLst>
              <a:path w="389" h="503">
                <a:moveTo>
                  <a:pt x="0" y="344"/>
                </a:moveTo>
                <a:cubicBezTo>
                  <a:pt x="26" y="359"/>
                  <a:pt x="101" y="406"/>
                  <a:pt x="156" y="428"/>
                </a:cubicBezTo>
                <a:cubicBezTo>
                  <a:pt x="211" y="450"/>
                  <a:pt x="291" y="503"/>
                  <a:pt x="328" y="476"/>
                </a:cubicBezTo>
                <a:cubicBezTo>
                  <a:pt x="365" y="449"/>
                  <a:pt x="371" y="347"/>
                  <a:pt x="380" y="268"/>
                </a:cubicBezTo>
                <a:cubicBezTo>
                  <a:pt x="389" y="189"/>
                  <a:pt x="383" y="5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1585000">
            <a:off x="7237080" y="3806640"/>
            <a:ext cx="1825560" cy="259056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29880" y="6172200"/>
            <a:ext cx="18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t significant com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systematic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124080"/>
            <a:ext cx="2057400" cy="94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strong preference of associate particle emission towards the in-plan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1278000"/>
            <a:ext cx="287280" cy="2822400"/>
          </a:xfrm>
          <a:custGeom>
            <a:avLst/>
            <a:gdLst/>
            <a:ahLst/>
            <a:rect l="l" t="t" r="r" b="b"/>
            <a:pathLst>
              <a:path w="181" h="1778">
                <a:moveTo>
                  <a:pt x="174" y="1770"/>
                </a:moveTo>
                <a:cubicBezTo>
                  <a:pt x="173" y="1524"/>
                  <a:pt x="181" y="584"/>
                  <a:pt x="167" y="292"/>
                </a:cubicBezTo>
                <a:cubicBezTo>
                  <a:pt x="153" y="0"/>
                  <a:pt x="115" y="17"/>
                  <a:pt x="90" y="18"/>
                </a:cubicBezTo>
                <a:cubicBezTo>
                  <a:pt x="65" y="19"/>
                  <a:pt x="28" y="7"/>
                  <a:pt x="14" y="300"/>
                </a:cubicBezTo>
                <a:cubicBezTo>
                  <a:pt x="0" y="593"/>
                  <a:pt x="8" y="1470"/>
                  <a:pt x="7" y="177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D30-C088-4896-8A7B-E10B789C0DD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8076960" cy="1905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3300480"/>
            <a:ext cx="8453520" cy="3100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89640" y="360504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SimSun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16920" y="3786120"/>
            <a:ext cx="34128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12240" y="5017680"/>
            <a:ext cx="341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Jet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25800" y="3657600"/>
            <a:ext cx="38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3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4, 1.5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360" y="33066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8640" y="22536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9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49120"/>
            <a:ext cx="7086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GeV Au+Au 20-60% 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3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1.5GeV/c,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gt;0.7,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116680" y="93492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83400" y="93492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251920" y="93492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" y="93492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93492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559320" y="93492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2644920"/>
            <a:ext cx="37335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strong preference of associate particle emission towards the in-plan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7320" y="220968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77440" y="220968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362320"/>
            <a:ext cx="63244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057400"/>
            <a:ext cx="7621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673360"/>
            <a:ext cx="424080" cy="555480"/>
          </a:xfrm>
          <a:custGeom>
            <a:avLst/>
            <a:gdLst/>
            <a:ahLst/>
            <a:rect l="l" t="t" r="r" b="b"/>
            <a:pathLst>
              <a:path w="267" h="350">
                <a:moveTo>
                  <a:pt x="267" y="0"/>
                </a:moveTo>
                <a:cubicBezTo>
                  <a:pt x="256" y="39"/>
                  <a:pt x="243" y="178"/>
                  <a:pt x="198" y="236"/>
                </a:cubicBezTo>
                <a:cubicBezTo>
                  <a:pt x="153" y="294"/>
                  <a:pt x="41" y="326"/>
                  <a:pt x="0" y="35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B42-B91E-432C-A87F-69FA334F6D4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487440"/>
            <a:ext cx="7631280" cy="5881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85800" y="457200"/>
            <a:ext cx="266688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219320"/>
            <a:ext cx="27432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1~2 GeV/c)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oft  :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rd : 1 x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x 1.25[1/tri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~4 GeV/c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oft  : 1 x (1-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rd : 1 x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: 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9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3.1% (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3.6% (m.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4.9% (b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25.5% (j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638280"/>
            <a:ext cx="2133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ndom mix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min. bia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60520" cy="5796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172200" y="628560"/>
            <a:ext cx="1905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ndom mix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zero bia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455292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09680" y="1218960"/>
            <a:ext cx="1295640" cy="33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34340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09680" y="1219320"/>
            <a:ext cx="3962520" cy="3124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880" y="196920"/>
            <a:ext cx="33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 model simulation with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jet (strong R.P. depend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71600" y="4784760"/>
            <a:ext cx="1981080" cy="1693800"/>
            <a:chOff x="1371600" y="4784760"/>
            <a:chExt cx="1981080" cy="1693800"/>
          </a:xfrm>
        </p:grpSpPr>
        <p:grpSp>
          <p:nvGrpSpPr>
            <p:cNvPr id="222" name=""/>
            <p:cNvGrpSpPr/>
            <p:nvPr/>
          </p:nvGrpSpPr>
          <p:grpSpPr>
            <a:xfrm>
              <a:off x="2050920" y="5099040"/>
              <a:ext cx="615960" cy="1073160"/>
              <a:chOff x="2050920" y="5099040"/>
              <a:chExt cx="615960" cy="107316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0920" y="5099040"/>
                <a:ext cx="615960" cy="10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362320" y="480060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752480" y="502920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1752120" y="502920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7400" y="480060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523880" y="533376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533376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057040" y="480060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36040" y="62323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4640" y="6080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3920" y="58514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9200" y="56228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69200" y="5394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920" y="51656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64640" y="4937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36040" y="4784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58120" y="4784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9520" y="4937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77240" y="5181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3920" y="5394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73920" y="56228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50240" y="58514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9520" y="6080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8120" y="62323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71600" y="5638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53C-1B10-4C57-ADB2-77E6FA7A369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55640" y="487440"/>
            <a:ext cx="7631280" cy="5881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216864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657600" y="612720"/>
            <a:ext cx="1752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ndom mix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min. bia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ow sub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336760" cy="5715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248520" y="600120"/>
            <a:ext cx="16761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ndom mix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zero bia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ow sub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160" y="228600"/>
            <a:ext cx="1806840" cy="97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3.1% (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3.6% (m.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14.9% (b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25.5% (j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68580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4572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914400"/>
            <a:ext cx="1219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914400"/>
            <a:ext cx="1143000" cy="5181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6080" y="6095880"/>
            <a:ext cx="51382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ly consistent with jet trigger biased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asu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685800"/>
            <a:ext cx="152388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457200"/>
            <a:ext cx="4114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10040" y="9036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 mode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24F-C7C0-4822-A971-D2F47F15ACC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44680" y="685800"/>
            <a:ext cx="1817640" cy="2590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22640" y="685800"/>
            <a:ext cx="1815840" cy="259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875040" y="685800"/>
            <a:ext cx="1839960" cy="259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572080" y="685800"/>
            <a:ext cx="1819440" cy="2590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7245360" y="685800"/>
            <a:ext cx="1822320" cy="259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57680" y="152280"/>
            <a:ext cx="76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MPT(v1.25/v2.25 string melting) : Au+Au 200GeV b=7fm (with embedding op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6640" y="838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mbe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23880" y="83808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838080"/>
            <a:ext cx="113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88440" y="838080"/>
            <a:ext cx="102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86560" y="83808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18920" y="46080"/>
            <a:ext cx="114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.W.Lin, J.J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. Mohapatr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. Esu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99880" y="3352680"/>
            <a:ext cx="8839080" cy="2971800"/>
            <a:chOff x="299880" y="3352680"/>
            <a:chExt cx="8839080" cy="2971800"/>
          </a:xfrm>
        </p:grpSpPr>
        <p:sp>
          <p:nvSpPr>
            <p:cNvPr id="275" name=""/>
            <p:cNvSpPr/>
            <p:nvPr/>
          </p:nvSpPr>
          <p:spPr>
            <a:xfrm>
              <a:off x="299880" y="3352680"/>
              <a:ext cx="8839080" cy="29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6"/>
            <a:stretch/>
          </p:blipFill>
          <p:spPr>
            <a:xfrm>
              <a:off x="442800" y="3641760"/>
              <a:ext cx="176184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2128680" y="3641760"/>
              <a:ext cx="178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8"/>
            <a:stretch/>
          </p:blipFill>
          <p:spPr>
            <a:xfrm>
              <a:off x="3804840" y="3641760"/>
              <a:ext cx="177984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5481360" y="3600360"/>
              <a:ext cx="1801800" cy="263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0"/>
            <a:stretch/>
          </p:blipFill>
          <p:spPr>
            <a:xfrm>
              <a:off x="7157880" y="3565440"/>
              <a:ext cx="18493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flipV="1">
              <a:off x="3065040" y="4479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741560" y="4479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29240" y="4479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137080" y="4479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1480" y="5932440"/>
              <a:ext cx="6172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xed events with the same triggered (embedded)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788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1920" y="37339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9700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025600" y="342864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9908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499080" y="35053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5240" y="3352680"/>
              <a:ext cx="4572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75240" y="35053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0840" y="3870360"/>
              <a:ext cx="13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embed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76160" y="3886200"/>
              <a:ext cx="81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50880" y="3886200"/>
              <a:ext cx="113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-of-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62680" y="3886200"/>
              <a:ext cx="102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 d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77000" y="3886200"/>
              <a:ext cx="98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 d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83F-BF32-46AC-8722-CA6FE4C5ABC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/Oct/2009, DNP/JPS, Hawai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0:38Z</dcterms:created>
  <dc:creator>Esumi ShinIchi</dc:creator>
  <dc:description/>
  <dc:language>en-US</dc:language>
  <cp:lastModifiedBy>Esumi ShinIchi</cp:lastModifiedBy>
  <dcterms:modified xsi:type="dcterms:W3CDTF">2009-10-15T12:59:05Z</dcterms:modified>
  <cp:revision>19</cp:revision>
  <dc:subject/>
  <dc:title>PowerPoint プレゼンテーション</dc:title>
</cp:coreProperties>
</file>