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999D-07C0-4E2E-9090-281BBE104B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FEFA-B8F5-4C82-A864-CEC8640AE24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72C3-CC86-430D-BC9B-FB2BFA34A49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469C-2F92-43B6-BF6C-D888C54AF32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C99-5020-4EE6-85B2-FA7991F2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757-F353-40FD-88B6-9EF4A54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1C6-50E4-4FF8-BDA3-26C027EE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FEE-74FD-4CC7-9401-D03208E3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638C-2977-4054-B27B-14D6B116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5BB-AC5A-4343-9FD6-CA75E810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312-6D92-4A9D-9494-98B9E852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66D1-B606-4404-8A95-5F7863D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1B19-3EBD-470A-9FFB-83FEE8D4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67C2-5B51-42B1-B93B-46ECFC3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DFD-9657-489E-A102-1C3041C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20F-3993-4BB9-B5D2-1FC842EF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9994-24C4-4EE2-B6C6-8DA25FD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6263-B27E-44CF-8913-6F9F262B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4125-65F4-40D6-A4BA-B669B3F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77DC-888D-4463-AF03-DF7C78FB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9E4-2B15-454D-8B15-2A1B5D1A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1BE-DC74-4524-92B9-E6B10CEC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0F8-5699-412E-81D7-679F2B97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CDE-DE89-4E27-A422-F15989C5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60B-F1FE-47E1-A655-5B631B74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83C-8833-44E7-BFBD-1DD7F05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16D-5286-428D-B906-0DF3B00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8E8-2B3F-427B-9C54-5BB7B733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D116-2CB1-4F38-8310-6092FA7906F4}" type="slidenum"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592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20720" y="105264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20000" y="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4360" y="66708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86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1616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09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2F7-5FCB-4B74-BCCD-672A4ADD280F}" type="slidenum"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2421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646416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634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0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What We Have Learned from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the Measurement of Azimuthal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Anisotropy of Identified Particles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in Relativistic Heavy Ion Collisions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Monotype Corsiva"/>
              </a:rPr>
              <a:t>Maya Shimomura</a:t>
            </a:r>
            <a:br>
              <a:rPr sz="3200"/>
            </a:br>
            <a:r>
              <a:rPr b="1" lang="en-US" sz="3200" spc="-1" strike="noStrike">
                <a:solidFill>
                  <a:srgbClr val="5f5f5f"/>
                </a:solidFill>
                <a:latin typeface="Monotype Corsiva"/>
              </a:rPr>
              <a:t>    University of Tsukub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3720" y="3862440"/>
            <a:ext cx="114300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ystematic study of v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Energy depende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System size depende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Au+Au vs. Cu+Cu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Centrality dependenc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6840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For a more  comprehensive understating of the matter and the mechanism of v2 produc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99BA-A87A-4BBE-96CA-061EA7F278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130640" y="2021040"/>
            <a:ext cx="4905360" cy="28368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291280" y="1898640"/>
            <a:ext cx="2076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K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56000" y="45403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127400" y="1922400"/>
            <a:ext cx="79704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2738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Energy dependence  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Au+Au    200 vs. 62 GeV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46680" y="1401840"/>
            <a:ext cx="3240000" cy="503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d particles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11040" y="1833480"/>
            <a:ext cx="3816360" cy="3035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5760" y="1521000"/>
            <a:ext cx="3456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ity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8200" y="543096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No significant difference between 200 and 62 G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3CD-F1E5-4376-A0DA-54CA50B850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551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ergy dependence up to RH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0" t="7467" r="3780" b="0"/>
          <a:stretch/>
        </p:blipFill>
        <p:spPr>
          <a:xfrm>
            <a:off x="4643280" y="1614600"/>
            <a:ext cx="4464360" cy="3038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076720" y="145584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4, 232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93760" y="1604880"/>
            <a:ext cx="4494240" cy="3048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96640" y="1197000"/>
            <a:ext cx="435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8028000" y="1413000"/>
            <a:ext cx="797040" cy="314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4920" y="5013000"/>
            <a:ext cx="8280360" cy="1152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5f5f5f"/>
                </a:solidFill>
                <a:latin typeface="Arial"/>
              </a:rPr>
              <a:t>~ 50% increase from SPS to RHIC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5f5f5f"/>
                </a:solidFill>
                <a:latin typeface="Arial"/>
              </a:rPr>
              <a:t>Above 62.4 GeV,  v</a:t>
            </a:r>
            <a:r>
              <a:rPr b="1" lang="ja-JP" sz="20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5f5f5f"/>
                </a:solidFill>
                <a:latin typeface="Arial"/>
              </a:rPr>
              <a:t> seems to be saturate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1" lang="ja-JP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The matter reaches thermal equilibrium state at RHIC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B00-4BB0-4EC1-9112-BEA0F747A4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rcRect l="1379" t="0" r="1379" b="0"/>
          <a:stretch/>
        </p:blipFill>
        <p:spPr>
          <a:xfrm>
            <a:off x="468360" y="4052880"/>
            <a:ext cx="3340080" cy="23288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66560" y="1413000"/>
            <a:ext cx="2708280" cy="27162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415120" y="1413000"/>
            <a:ext cx="2684160" cy="2766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1120" y="274680"/>
            <a:ext cx="5078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Au+Au vs. Cu+Cu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19640" y="1539720"/>
            <a:ext cx="1922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n collisions of different size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90920" y="1844640"/>
            <a:ext cx="1727280" cy="360360"/>
          </a:xfrm>
          <a:prstGeom prst="rightArrow">
            <a:avLst>
              <a:gd name="adj1" fmla="val 30880"/>
              <a:gd name="adj2" fmla="val 118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3419640" y="2276640"/>
            <a:ext cx="1439640" cy="1020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24360" y="4581360"/>
            <a:ext cx="4895640" cy="133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Eccentricity scaling suggests early thermalization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There is a strong 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27640" y="3284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3300"/>
                </a:solidFill>
                <a:latin typeface="Arial"/>
              </a:rPr>
              <a:t>phenix prelim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55278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SimSun"/>
              </a:rPr>
              <a:t>PHOBOS Collaboration</a:t>
            </a:r>
            <a:br>
              <a:rPr sz="1200"/>
            </a:b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SimSun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PRL 98, 2423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6F6-C890-4C5D-9D90-284407B038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3181320" cy="32004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1640" y="201600"/>
            <a:ext cx="439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ja-JP" sz="36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 Sca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9280" y="4365720"/>
            <a:ext cx="187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06720" y="1052280"/>
            <a:ext cx="42544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040" y="1628640"/>
            <a:ext cx="13953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44920" y="3068640"/>
            <a:ext cx="26640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08200" y="1622520"/>
            <a:ext cx="15955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5045040"/>
            <a:ext cx="8280360" cy="123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/eccentricity/N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scaling works for all collision systems </a:t>
            </a:r>
            <a:r>
              <a:rPr b="1" lang="ja-JP" sz="2400" spc="-1" strike="noStrike">
                <a:solidFill>
                  <a:srgbClr val="ff3300"/>
                </a:solidFill>
                <a:latin typeface="Arial"/>
              </a:rPr>
              <a:t>except small N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ja-JP" sz="2400" spc="-1" strike="noStrike">
                <a:solidFill>
                  <a:srgbClr val="ff3300"/>
                </a:solidFill>
                <a:latin typeface="Arial"/>
              </a:rPr>
              <a:t> at 62 GeV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This exception may indicate non-sufficient thermalization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02240" y="2997360"/>
            <a:ext cx="26676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67520" y="1484280"/>
            <a:ext cx="279216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ja-JP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ja-JP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7236000" y="3357720"/>
            <a:ext cx="1512720" cy="1071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173400" y="1989000"/>
            <a:ext cx="2406600" cy="2481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2446200" cy="24526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227640" y="46054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80000" y="37162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2133720"/>
            <a:ext cx="7905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22600" y="2166840"/>
            <a:ext cx="11494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58920" y="3502080"/>
            <a:ext cx="936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72360" y="1989000"/>
            <a:ext cx="143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1125360"/>
            <a:ext cx="446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pendence can be normalized by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1F8-6E94-46B8-B0A3-DEC33CC3B0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78240" cy="4311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380960" y="1484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(KET/nq)/nq/epar/Npart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338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niversal 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267160" y="3335400"/>
                <a:ext cx="277200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ε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t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021360" y="2567160"/>
            <a:ext cx="1131840" cy="71748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39000" y="4795920"/>
            <a:ext cx="1197000" cy="64908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27640" y="1184040"/>
            <a:ext cx="403200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ergy and System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Au200, CuCu200, AuAu6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entrality (0-50%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ticl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K /p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59280" y="5445000"/>
            <a:ext cx="381636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to one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141800" y="2852640"/>
            <a:ext cx="1077840" cy="1806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859280" y="602136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2/ndf = 2.1 (with systematic err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08720" y="2708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1125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all scaling togeth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DAF-3B8E-46B1-ADBD-12D9E2B1B9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ast Wave Model Fit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672948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Then, we have a question !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If the matter is thermalized and the pressure gradient produce the flow, what is the reason for N</a:t>
            </a:r>
            <a:r>
              <a:rPr b="0" lang="ja-JP" sz="2400" spc="-1" strike="noStrike" baseline="-25000">
                <a:solidFill>
                  <a:srgbClr val="5f5f5f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 dependence of v</a:t>
            </a:r>
            <a:r>
              <a:rPr b="0" lang="ja-JP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B30-7EBC-4BEB-8605-9FFBDDA531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50920" y="112536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-wave model (local thermal equilibrium + collective transverse expansion) successfully describes the single particle spec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1530360"/>
            <a:ext cx="2305080" cy="17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Ref: PRC48(1993)24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682560" y="1844640"/>
                <a:ext cx="5113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72360" y="1773360"/>
                <a:ext cx="1331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443640" y="2205000"/>
                <a:ext cx="1198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792000" y="26676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ast-wave Model F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24000" y="2970360"/>
            <a:ext cx="4752720" cy="3411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4000" y="600408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C69,034909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6745320" y="2949480"/>
            <a:ext cx="792000" cy="1462320"/>
          </a:xfrm>
          <a:prstGeom prst="can">
            <a:avLst>
              <a:gd name="adj" fmla="val 209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51760" y="3678120"/>
            <a:ext cx="333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7151760" y="3045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142040" y="368316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09000" y="3787920"/>
            <a:ext cx="2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11840" y="3500280"/>
            <a:ext cx="531720" cy="360360"/>
          </a:xfrm>
          <a:prstGeom prst="leftArrow">
            <a:avLst>
              <a:gd name="adj1" fmla="val 50000"/>
              <a:gd name="adj2" fmla="val 36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8004960" y="3500280"/>
            <a:ext cx="598680" cy="360360"/>
          </a:xfrm>
          <a:prstGeom prst="leftArrow">
            <a:avLst>
              <a:gd name="adj1" fmla="val 50000"/>
              <a:gd name="adj2" fmla="val 41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32259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75440" y="4148280"/>
            <a:ext cx="266760" cy="360360"/>
          </a:xfrm>
          <a:prstGeom prst="downArrow">
            <a:avLst>
              <a:gd name="adj1" fmla="val 35167"/>
              <a:gd name="adj2" fmla="val 3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2924280"/>
            <a:ext cx="2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40560" y="3355920"/>
            <a:ext cx="2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40760" y="4233960"/>
            <a:ext cx="1130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91280" y="4581360"/>
            <a:ext cx="367344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rmal freeze-out temperature,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</a:rPr>
              <a:t> T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</a:rPr>
              <a:t>fo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 transverse velocity, </a:t>
            </a:r>
            <a:r>
              <a:rPr b="1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e extracted from this model fitting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Normalization factor is also a free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5E5-A31A-4F4D-BC38-BC226A9FF29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000" y="202680"/>
            <a:ext cx="806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last Wave Fitting for 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Spectr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95280" y="2708280"/>
            <a:ext cx="2231640" cy="2160360"/>
            <a:chOff x="395280" y="2708280"/>
            <a:chExt cx="2231640" cy="2160360"/>
          </a:xfrm>
        </p:grpSpPr>
        <p:sp>
          <p:nvSpPr>
            <p:cNvPr id="476" name=""/>
            <p:cNvSpPr/>
            <p:nvPr/>
          </p:nvSpPr>
          <p:spPr>
            <a:xfrm>
              <a:off x="395280" y="2708280"/>
              <a:ext cx="2231640" cy="21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3120" y="2967120"/>
              <a:ext cx="0" cy="17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4200" y="4436280"/>
              <a:ext cx="18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2040" y="3413160"/>
              <a:ext cx="1340280" cy="937080"/>
            </a:xfrm>
            <a:custGeom>
              <a:avLst/>
              <a:gdLst/>
              <a:ahLst/>
              <a:rect l="l" t="t" r="r" b="b"/>
              <a:pathLst>
                <a:path w="681" h="492">
                  <a:moveTo>
                    <a:pt x="0" y="492"/>
                  </a:moveTo>
                  <a:cubicBezTo>
                    <a:pt x="19" y="416"/>
                    <a:pt x="38" y="340"/>
                    <a:pt x="91" y="265"/>
                  </a:cubicBezTo>
                  <a:cubicBezTo>
                    <a:pt x="144" y="190"/>
                    <a:pt x="220" y="76"/>
                    <a:pt x="318" y="38"/>
                  </a:cubicBezTo>
                  <a:cubicBezTo>
                    <a:pt x="416" y="0"/>
                    <a:pt x="548" y="19"/>
                    <a:pt x="681" y="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2040" y="2723400"/>
              <a:ext cx="1338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asured v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91960" y="4521960"/>
              <a:ext cx="446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490920" y="2708280"/>
            <a:ext cx="2231280" cy="2160000"/>
            <a:chOff x="3490920" y="2708280"/>
            <a:chExt cx="2231280" cy="2160000"/>
          </a:xfrm>
        </p:grpSpPr>
        <p:grpSp>
          <p:nvGrpSpPr>
            <p:cNvPr id="483" name=""/>
            <p:cNvGrpSpPr/>
            <p:nvPr/>
          </p:nvGrpSpPr>
          <p:grpSpPr>
            <a:xfrm>
              <a:off x="3490920" y="2708280"/>
              <a:ext cx="2231280" cy="2160000"/>
              <a:chOff x="3490920" y="2708280"/>
              <a:chExt cx="2231280" cy="2160000"/>
            </a:xfrm>
          </p:grpSpPr>
          <p:sp>
            <p:nvSpPr>
              <p:cNvPr id="484" name=""/>
              <p:cNvSpPr/>
              <p:nvPr/>
            </p:nvSpPr>
            <p:spPr>
              <a:xfrm>
                <a:off x="3490920" y="2708280"/>
                <a:ext cx="2231280" cy="216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3876120" y="4558320"/>
                <a:ext cx="1615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3953520" y="2939400"/>
                <a:ext cx="0" cy="18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184280" y="3325680"/>
                <a:ext cx="1076400" cy="100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106600" y="4560480"/>
                <a:ext cx="460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ja-JP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6200000">
                <a:off x="3027600" y="3326040"/>
                <a:ext cx="1387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/p</a:t>
                </a:r>
                <a:r>
                  <a:rPr b="1" lang="ja-JP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 dN/dp</a:t>
                </a:r>
                <a:r>
                  <a:rPr b="1" lang="ja-JP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d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3643560" y="2721960"/>
              <a:ext cx="192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Measured 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spec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659640" y="2637000"/>
            <a:ext cx="2232000" cy="2087280"/>
            <a:chOff x="6659640" y="2637000"/>
            <a:chExt cx="2232000" cy="2087280"/>
          </a:xfrm>
        </p:grpSpPr>
        <p:grpSp>
          <p:nvGrpSpPr>
            <p:cNvPr id="492" name=""/>
            <p:cNvGrpSpPr/>
            <p:nvPr/>
          </p:nvGrpSpPr>
          <p:grpSpPr>
            <a:xfrm>
              <a:off x="6659640" y="2637000"/>
              <a:ext cx="2232000" cy="2087280"/>
              <a:chOff x="6659640" y="2637000"/>
              <a:chExt cx="2232000" cy="2087280"/>
            </a:xfrm>
          </p:grpSpPr>
          <p:sp>
            <p:nvSpPr>
              <p:cNvPr id="493" name=""/>
              <p:cNvSpPr/>
              <p:nvPr/>
            </p:nvSpPr>
            <p:spPr>
              <a:xfrm>
                <a:off x="6659640" y="2637000"/>
                <a:ext cx="2232000" cy="208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019640" y="436392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7092720" y="2852280"/>
                <a:ext cx="0" cy="172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172360" y="4365720"/>
                <a:ext cx="4312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ja-JP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6200000">
                <a:off x="6235560" y="3277800"/>
                <a:ext cx="1294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/p</a:t>
                </a:r>
                <a:r>
                  <a:rPr b="1" lang="ja-JP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 dN/dp</a:t>
                </a:r>
                <a:r>
                  <a:rPr b="1" lang="ja-JP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d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02200" y="2649600"/>
                <a:ext cx="20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/out-of plane spect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235640" y="3141720"/>
                <a:ext cx="936360" cy="10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162560" y="3141720"/>
              <a:ext cx="1152000" cy="1150200"/>
              <a:chOff x="7162560" y="3141720"/>
              <a:chExt cx="1152000" cy="1150200"/>
            </a:xfrm>
          </p:grpSpPr>
          <p:sp>
            <p:nvSpPr>
              <p:cNvPr id="501" name=""/>
              <p:cNvSpPr/>
              <p:nvPr/>
            </p:nvSpPr>
            <p:spPr>
              <a:xfrm>
                <a:off x="7235280" y="3212640"/>
                <a:ext cx="647280" cy="107928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306920" y="3141720"/>
                <a:ext cx="1007640" cy="86328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162560" y="380160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67280" y="3212640"/>
                <a:ext cx="43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395280" y="2349360"/>
            <a:ext cx="532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asured spectra weighted by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770200" y="3357720"/>
            <a:ext cx="503280" cy="431640"/>
            <a:chOff x="2770200" y="3357720"/>
            <a:chExt cx="503280" cy="431640"/>
          </a:xfrm>
        </p:grpSpPr>
        <p:sp>
          <p:nvSpPr>
            <p:cNvPr id="507" name=""/>
            <p:cNvSpPr/>
            <p:nvPr/>
          </p:nvSpPr>
          <p:spPr>
            <a:xfrm>
              <a:off x="2770200" y="335772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770200" y="335772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V="1">
            <a:off x="5867280" y="3645000"/>
            <a:ext cx="5382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8200" y="5121360"/>
            <a:ext cx="8137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Fitting  p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distribution in and out-of plane </a:t>
            </a:r>
            <a:r>
              <a:rPr b="1" i="1" lang="ja-JP" sz="2400" spc="-1" strike="noStrike">
                <a:solidFill>
                  <a:srgbClr val="333399"/>
                </a:solidFill>
                <a:latin typeface="Arial"/>
              </a:rPr>
              <a:t>separatel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/K/p simultaneously by blast wave,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nd T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fo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in and out-of plane are obtain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400" spc="-1" strike="noStrike">
                <a:solidFill>
                  <a:srgbClr val="333399"/>
                </a:solidFill>
                <a:latin typeface="Arial"/>
              </a:rPr>
              <a:t>separatel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1052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this well-known fitting technique to obtain the information of the flow velocity and temperature in and out-of pla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DBC-9A66-4DBD-B132-BF6DD34C5D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560" y="4392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ja-JP" sz="36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 Dependence of </a:t>
            </a:r>
            <a:r>
              <a:rPr b="0" lang="ja-JP" sz="36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ja-JP" sz="3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 and T</a:t>
            </a:r>
            <a:r>
              <a:rPr b="0" lang="ja-JP" sz="3600" spc="-1" strike="noStrike" baseline="-25000">
                <a:solidFill>
                  <a:srgbClr val="333399"/>
                </a:solidFill>
                <a:latin typeface="Arial"/>
              </a:rPr>
              <a:t>fo 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440" y="4437000"/>
            <a:ext cx="7775640" cy="202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s clearly different between in and out-of plan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gree between Au+Au and Cu+Cu, especially for the in-pla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nce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s produced by the difference between in and out-of pl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modulation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s expected to have important rule to make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24000" y="1433520"/>
            <a:ext cx="4322520" cy="2932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321440" cy="293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4FC-D269-40A6-BD51-719B5E0DB1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zimuthal Anisotrop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Evolu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undamental Findings of v</a:t>
            </a:r>
            <a:r>
              <a:rPr b="0" lang="en-US" sz="2800" spc="-1" strike="noStrike" baseline="-25000">
                <a:solidFill>
                  <a:srgbClr val="5f5f5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 RHIC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ystematic Study of v</a:t>
            </a:r>
            <a:r>
              <a:rPr b="0" lang="en-US" sz="28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last-Wave Model Fi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07B-D499-4238-BFD8-FFDDF48FBE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dulation of radial flow velocity 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0920" y="5081760"/>
            <a:ext cx="8928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caled by eccentricity agrees between Au+Au and Cu+Cu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eccentricity is flat at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40.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drives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T2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ja-JP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ignal of Thermalization !?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proportional to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f other parameters are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T,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ccentricit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 “not” flat </a:t>
            </a:r>
            <a:r>
              <a:rPr b="0" lang="ja-JP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What does course N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dep. of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68360" y="1730520"/>
            <a:ext cx="4392720" cy="2979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5357880" y="1557360"/>
            <a:ext cx="3073320" cy="3166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651640" y="1766880"/>
            <a:ext cx="16570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877080" y="3273480"/>
            <a:ext cx="1274760" cy="803160"/>
            <a:chOff x="6877080" y="3273480"/>
            <a:chExt cx="1274760" cy="803160"/>
          </a:xfrm>
        </p:grpSpPr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6877080" y="3273480"/>
              <a:ext cx="12747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6948360" y="3284640"/>
              <a:ext cx="934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vs.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T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999120" y="2968560"/>
                <a:ext cx="9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∝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541440" y="1087560"/>
            <a:ext cx="755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T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Modulation amplitude of the second harmonic of 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539640" y="1519200"/>
            <a:ext cx="4176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18C-4DD3-4398-A3FB-E606165CE7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4360" y="4437000"/>
            <a:ext cx="331128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ja-JP" sz="2400" spc="-1" strike="noStrike" baseline="-25000">
                <a:solidFill>
                  <a:srgbClr val="333399"/>
                </a:solidFill>
                <a:latin typeface="Arial"/>
              </a:rPr>
              <a:t>fo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depends on N</a:t>
            </a:r>
            <a:r>
              <a:rPr b="1" lang="ja-JP" sz="24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  (while T</a:t>
            </a:r>
            <a:r>
              <a:rPr b="1" lang="ja-JP" sz="2400" spc="-1" strike="noStrike" baseline="-25000">
                <a:solidFill>
                  <a:srgbClr val="333399"/>
                </a:solidFill>
                <a:latin typeface="Arial"/>
              </a:rPr>
              <a:t>ch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 doesn’t)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95280" y="1184400"/>
            <a:ext cx="4032360" cy="31255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9640" y="3976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Dr. M.Konno’s 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1557360"/>
            <a:ext cx="237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Tahoma"/>
              </a:rPr>
              <a:t>ch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obtained by statistic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reeze-out Temperature and 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427640" y="1409760"/>
            <a:ext cx="4680000" cy="4324320"/>
            <a:chOff x="4427640" y="1409760"/>
            <a:chExt cx="4680000" cy="4324320"/>
          </a:xfrm>
        </p:grpSpPr>
        <p:sp>
          <p:nvSpPr>
            <p:cNvPr id="533" name=""/>
            <p:cNvSpPr/>
            <p:nvPr/>
          </p:nvSpPr>
          <p:spPr>
            <a:xfrm>
              <a:off x="4427640" y="1557360"/>
              <a:ext cx="2232000" cy="20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788000" y="328464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861080" y="177336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40360" y="3286080"/>
              <a:ext cx="432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4003560" y="2198520"/>
              <a:ext cx="1295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1/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dN/d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d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7840" y="1569960"/>
              <a:ext cx="144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tter  spec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4929840" y="2230560"/>
              <a:ext cx="1289880" cy="923040"/>
              <a:chOff x="4929840" y="2230560"/>
              <a:chExt cx="1289880" cy="923040"/>
            </a:xfrm>
          </p:grpSpPr>
          <p:sp>
            <p:nvSpPr>
              <p:cNvPr id="540" name=""/>
              <p:cNvSpPr/>
              <p:nvPr/>
            </p:nvSpPr>
            <p:spPr>
              <a:xfrm>
                <a:off x="4929840" y="2252160"/>
                <a:ext cx="1218960" cy="74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51440" y="2319840"/>
                <a:ext cx="943560" cy="833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97880" y="2230560"/>
                <a:ext cx="1221840" cy="51876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4930920" y="2722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35640" y="21337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27640" y="3645000"/>
              <a:ext cx="2232000" cy="20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788000" y="537228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59280" y="3860280"/>
              <a:ext cx="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0360" y="5373720"/>
              <a:ext cx="432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6200000">
              <a:off x="4001760" y="4286160"/>
              <a:ext cx="12952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1/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dN/dp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d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86200" y="365760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eper spec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03640" y="4149720"/>
              <a:ext cx="936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930920" y="4149720"/>
              <a:ext cx="1152000" cy="1150920"/>
              <a:chOff x="4930920" y="4149720"/>
              <a:chExt cx="1152000" cy="1150920"/>
            </a:xfrm>
          </p:grpSpPr>
          <p:sp>
            <p:nvSpPr>
              <p:cNvPr id="553" name=""/>
              <p:cNvSpPr/>
              <p:nvPr/>
            </p:nvSpPr>
            <p:spPr>
              <a:xfrm>
                <a:off x="5003640" y="4221000"/>
                <a:ext cx="647280" cy="107964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075280" y="4149720"/>
                <a:ext cx="1007640" cy="86364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30920" y="48099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35640" y="4221000"/>
                <a:ext cx="43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H="1">
              <a:off x="5435640" y="1917720"/>
              <a:ext cx="1440" cy="381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04000" y="3213000"/>
              <a:ext cx="358920" cy="1008000"/>
            </a:xfrm>
            <a:custGeom>
              <a:avLst/>
              <a:gdLst>
                <a:gd name="textAreaLeft" fmla="*/ 47880 w 358920"/>
                <a:gd name="textAreaRight" fmla="*/ 311040 w 35892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59640" y="1628640"/>
              <a:ext cx="158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27640" y="364500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20000" y="2276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91280" y="43578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28000" y="1409760"/>
              <a:ext cx="936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Apparent</a:t>
              </a: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28000" y="1413000"/>
              <a:ext cx="0" cy="432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99280" y="2276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70920" y="436572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r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828720" y="5661000"/>
            <a:ext cx="799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Larger system size </a:t>
            </a:r>
            <a:r>
              <a:rPr b="1" lang="ja-JP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Lower T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Times New Roman"/>
              </a:rPr>
              <a:t>fo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Steeper spectra </a:t>
            </a:r>
            <a:r>
              <a:rPr b="1" lang="ja-JP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Larger v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98560" y="602136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does larger system have lower freeze out temperature 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F5B-B22E-4742-AFB2-25A823B452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032000" cy="31255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68640" y="1268280"/>
            <a:ext cx="408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pl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diabati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xpan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6720" y="10652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Dr. M.Konno’s 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6200000">
            <a:off x="6458040" y="1582560"/>
            <a:ext cx="792000" cy="1462320"/>
          </a:xfrm>
          <a:prstGeom prst="can">
            <a:avLst>
              <a:gd name="adj" fmla="val 209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64480" y="2311560"/>
            <a:ext cx="333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864480" y="16794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54760" y="2316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21360" y="2421000"/>
            <a:ext cx="2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2133720"/>
            <a:ext cx="531720" cy="360360"/>
          </a:xfrm>
          <a:prstGeom prst="leftArrow">
            <a:avLst>
              <a:gd name="adj1" fmla="val 50000"/>
              <a:gd name="adj2" fmla="val 36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717680" y="2133720"/>
            <a:ext cx="598680" cy="360360"/>
          </a:xfrm>
          <a:prstGeom prst="leftArrow">
            <a:avLst>
              <a:gd name="adj1" fmla="val 50000"/>
              <a:gd name="adj2" fmla="val 41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1859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88160" y="2781360"/>
            <a:ext cx="266760" cy="360360"/>
          </a:xfrm>
          <a:prstGeom prst="downArrow">
            <a:avLst>
              <a:gd name="adj1" fmla="val 35167"/>
              <a:gd name="adj2" fmla="val 3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54760" y="1557360"/>
            <a:ext cx="2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253280" y="1989000"/>
            <a:ext cx="2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053120" y="2867040"/>
            <a:ext cx="1130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35280" y="4581360"/>
            <a:ext cx="52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e times until freeze-out can be calculated by this model.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Larger system takes more time to freeze-out. </a:t>
            </a:r>
            <a:r>
              <a:rPr b="1" lang="ja-JP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This makes lower T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67280" y="3208320"/>
            <a:ext cx="39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[Assumptio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ylindrically expa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reeze-out condition: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t)=R(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987280" y="1484280"/>
            <a:ext cx="1800360" cy="804960"/>
          </a:xfrm>
          <a:prstGeom prst="line">
            <a:avLst/>
          </a:prstGeom>
          <a:ln w="284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1425600"/>
            <a:ext cx="237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Tahoma"/>
              </a:rPr>
              <a:t>ch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obtained by statistic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95280" y="3984480"/>
            <a:ext cx="2879640" cy="24688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89" name=""/>
          <p:cNvSpPr/>
          <p:nvPr/>
        </p:nvSpPr>
        <p:spPr>
          <a:xfrm>
            <a:off x="692280" y="3933720"/>
            <a:ext cx="243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Freeze-out time vs. N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reeze-out Temperature and Ti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92360" y="4149720"/>
            <a:ext cx="547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Arial"/>
              </a:rPr>
              <a:t>The model explains N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</a:rPr>
              <a:t> dependence well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838-C6BD-46B9-B68D-FC73BFBCEB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81120" y="189000"/>
            <a:ext cx="5943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ystematic study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have been done in Au+Au/Cu+Cu at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= 62.4/200 GeV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values are saturated above 62.4 GeV in Au+Au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Local thermaliz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follows quark number +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caling in Au+Au (200,62GeV) and Cu+Cu (200GeV) 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Flow at quark level </a:t>
            </a:r>
            <a:r>
              <a:rPr b="0" lang="ja-JP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 QGP phase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/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re same between Au+Au and Cu+Cu at 200 GeV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Eccentricity scaling </a:t>
            </a:r>
            <a:r>
              <a:rPr b="0" lang="ja-JP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 Early thermaliz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1/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caling works except for small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t 62 GeV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Existence of a universal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 scaling at RHI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ception may indicate non-sufficient thermalization region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&lt;From Blast-wave fit results with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nd spectra together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/eccentricity is constant not depending on system size  (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&gt;40).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ahoma"/>
              </a:rPr>
              <a:t>Early thermalization !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rger system freezes out later at lower temperature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cause the N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part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dependence of v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 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8D9-AE6F-4908-A790-4ACCA16FBA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76320" y="914400"/>
            <a:ext cx="899136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82840" y="115560"/>
            <a:ext cx="69055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aling (other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74280" y="4941720"/>
            <a:ext cx="7929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aight line from SPS to RHIC energy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reaching the hydro limit at central collision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76320" y="985680"/>
            <a:ext cx="4495680" cy="3861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rcRect l="0" t="6126" r="8041" b="0"/>
          <a:stretch/>
        </p:blipFill>
        <p:spPr>
          <a:xfrm>
            <a:off x="4267080" y="1219320"/>
            <a:ext cx="4537080" cy="34891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265880" y="99072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R. Nou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08240" y="99072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16000" y="5877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HC may have answer for th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420-6CD9-480C-BBD1-35851CFCFA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zimuthal Anisotropy, Elliptic Flow (v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59880" y="1424160"/>
            <a:ext cx="2665800" cy="2107440"/>
            <a:chOff x="659880" y="1424160"/>
            <a:chExt cx="2665800" cy="2107440"/>
          </a:xfrm>
        </p:grpSpPr>
        <p:sp>
          <p:nvSpPr>
            <p:cNvPr id="106" name=""/>
            <p:cNvSpPr/>
            <p:nvPr/>
          </p:nvSpPr>
          <p:spPr>
            <a:xfrm rot="10800000">
              <a:off x="2651040" y="1424160"/>
              <a:ext cx="295200" cy="2570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137960" y="1695600"/>
              <a:ext cx="509760" cy="765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83840" y="1695600"/>
              <a:ext cx="501480" cy="752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42960" y="1856160"/>
              <a:ext cx="16779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01560" y="2657520"/>
              <a:ext cx="1181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0240" y="1692360"/>
              <a:ext cx="2665440" cy="1486080"/>
            </a:xfrm>
            <a:prstGeom prst="parallelogram">
              <a:avLst>
                <a:gd name="adj" fmla="val 66546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59880" y="2857680"/>
              <a:ext cx="214200" cy="322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503000" y="1695600"/>
              <a:ext cx="619200" cy="93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0800000">
              <a:off x="1477440" y="2535480"/>
              <a:ext cx="207720" cy="59688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366560" y="2489400"/>
              <a:ext cx="457200" cy="685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0480" y="307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0360" y="148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184120" y="1554480"/>
              <a:ext cx="846000" cy="833040"/>
              <a:chOff x="2184120" y="1554480"/>
              <a:chExt cx="846000" cy="833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184120" y="1554480"/>
                <a:ext cx="846000" cy="833040"/>
                <a:chOff x="2184120" y="1554480"/>
                <a:chExt cx="846000" cy="8330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02840" y="1555200"/>
                  <a:ext cx="808920" cy="81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202840" y="1554480"/>
                  <a:ext cx="808920" cy="8182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84120" y="1887120"/>
                  <a:ext cx="846000" cy="50040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02840" y="1908000"/>
                  <a:ext cx="807120" cy="2142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2198880" y="1668600"/>
                <a:ext cx="207720" cy="596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660320" y="1692360"/>
              <a:ext cx="6919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12680" y="1856160"/>
              <a:ext cx="4953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33160" y="2014920"/>
              <a:ext cx="9828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147400" y="1954440"/>
              <a:ext cx="268200" cy="40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26960" y="2175120"/>
              <a:ext cx="16794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369440" y="1692360"/>
              <a:ext cx="982440" cy="1479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8960" y="2337120"/>
              <a:ext cx="16812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747440" y="2019600"/>
              <a:ext cx="403200" cy="821880"/>
              <a:chOff x="1747440" y="2019600"/>
              <a:chExt cx="403200" cy="821880"/>
            </a:xfrm>
          </p:grpSpPr>
          <p:sp>
            <p:nvSpPr>
              <p:cNvPr id="133" name=""/>
              <p:cNvSpPr/>
              <p:nvPr/>
            </p:nvSpPr>
            <p:spPr>
              <a:xfrm>
                <a:off x="1747440" y="2020320"/>
                <a:ext cx="402120" cy="8190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47440" y="2411640"/>
                <a:ext cx="403200" cy="42984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47440" y="2413440"/>
                <a:ext cx="401400" cy="918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47440" y="2019600"/>
                <a:ext cx="402120" cy="819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2091960" y="2063880"/>
              <a:ext cx="736560" cy="1111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855440" y="2125800"/>
              <a:ext cx="695520" cy="104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8880" y="2495880"/>
              <a:ext cx="7732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575720" y="1605240"/>
              <a:ext cx="12852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602720" y="2476800"/>
              <a:ext cx="466920" cy="701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710720" y="2487960"/>
              <a:ext cx="114120" cy="172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50800" y="2497320"/>
              <a:ext cx="3934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865080" y="2430720"/>
              <a:ext cx="838080" cy="833400"/>
              <a:chOff x="865080" y="2430720"/>
              <a:chExt cx="838080" cy="83340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600" y="2431440"/>
                <a:ext cx="808920" cy="81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4800" y="2430720"/>
                <a:ext cx="808560" cy="816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65080" y="2769840"/>
                <a:ext cx="838080" cy="49428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 rot="10800000">
                <a:off x="1478160" y="2530800"/>
                <a:ext cx="208440" cy="59544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58720" y="2526480"/>
                <a:ext cx="93960" cy="60660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600" y="2849400"/>
                <a:ext cx="651240" cy="14832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1509480" y="2338560"/>
              <a:ext cx="185760" cy="279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2659320"/>
              <a:ext cx="1039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25240" y="2975040"/>
              <a:ext cx="1044720" cy="180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8960" y="2816280"/>
              <a:ext cx="1101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66200" y="2648160"/>
              <a:ext cx="351000" cy="530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137960" y="3005280"/>
              <a:ext cx="114480" cy="173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04320" y="2967120"/>
              <a:ext cx="135000" cy="206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1920" y="3178440"/>
              <a:ext cx="16430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37800" y="3008520"/>
              <a:ext cx="293760" cy="2588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2163960"/>
              <a:ext cx="966240" cy="283320"/>
              <a:chOff x="1474560" y="2163960"/>
              <a:chExt cx="966240" cy="28332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1994040" y="2218680"/>
                <a:ext cx="58320" cy="84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099880" y="2163960"/>
                <a:ext cx="150840" cy="128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166840" y="2303280"/>
                <a:ext cx="236880" cy="63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66840" y="2403720"/>
                <a:ext cx="273960" cy="18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568880" y="2185920"/>
                <a:ext cx="245880" cy="103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1492200" y="2314080"/>
                <a:ext cx="266760" cy="63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1474560" y="2443320"/>
                <a:ext cx="236880" cy="3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1692000" y="2400480"/>
                <a:ext cx="170280" cy="18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1711080" y="2296080"/>
                <a:ext cx="150840" cy="44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1862640" y="2237400"/>
                <a:ext cx="56160" cy="65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052720" y="2289240"/>
                <a:ext cx="102960" cy="36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043720" y="2377800"/>
                <a:ext cx="169920" cy="1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1836000" y="2359080"/>
                <a:ext cx="94680" cy="29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491480" y="2528280"/>
              <a:ext cx="927360" cy="284040"/>
              <a:chOff x="1491480" y="2528280"/>
              <a:chExt cx="927360" cy="28404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1834560" y="2641320"/>
                <a:ext cx="62280" cy="11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643760" y="2683080"/>
                <a:ext cx="150840" cy="129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491480" y="2610720"/>
                <a:ext cx="236520" cy="63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548000" y="2555640"/>
                <a:ext cx="180360" cy="12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9360" y="2687400"/>
                <a:ext cx="245520" cy="103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34080" y="2599920"/>
                <a:ext cx="266040" cy="63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82680" y="2528280"/>
                <a:ext cx="236160" cy="3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31840" y="2558880"/>
                <a:ext cx="169560" cy="180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31120" y="2635920"/>
                <a:ext cx="150840" cy="450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75680" y="2673360"/>
                <a:ext cx="55800" cy="65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739160" y="2650680"/>
                <a:ext cx="102960" cy="36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681920" y="2588040"/>
                <a:ext cx="169560" cy="1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62720" y="2587320"/>
                <a:ext cx="94680" cy="29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795240" y="2976840"/>
              <a:ext cx="272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04840" y="2014920"/>
              <a:ext cx="2048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991960" y="1690920"/>
              <a:ext cx="83880" cy="127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9840" y="317988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>
            <a:off x="3274920" y="1555920"/>
            <a:ext cx="432000" cy="288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197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Reaction plane (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1219320"/>
            <a:ext cx="22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non centr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04960" y="2771280"/>
            <a:ext cx="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34936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350028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22920" y="33577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um anisotr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795280" y="1173240"/>
            <a:ext cx="3186360" cy="2048760"/>
            <a:chOff x="5795280" y="1173240"/>
            <a:chExt cx="3186360" cy="2048760"/>
          </a:xfrm>
        </p:grpSpPr>
        <p:sp>
          <p:nvSpPr>
            <p:cNvPr id="200" name=""/>
            <p:cNvSpPr/>
            <p:nvPr/>
          </p:nvSpPr>
          <p:spPr>
            <a:xfrm>
              <a:off x="8592120" y="2189160"/>
              <a:ext cx="38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43480" y="1276200"/>
              <a:ext cx="38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93280" y="11732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 Black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95280" y="1497240"/>
              <a:ext cx="2702880" cy="1724760"/>
              <a:chOff x="5795280" y="1497240"/>
              <a:chExt cx="2702880" cy="1724760"/>
            </a:xfrm>
          </p:grpSpPr>
          <p:sp>
            <p:nvSpPr>
              <p:cNvPr id="204" name=""/>
              <p:cNvSpPr/>
              <p:nvPr/>
            </p:nvSpPr>
            <p:spPr>
              <a:xfrm>
                <a:off x="6367320" y="2354040"/>
                <a:ext cx="1694520" cy="16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467120" y="1755360"/>
                <a:ext cx="754560" cy="111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7250400" y="1721880"/>
                <a:ext cx="754920" cy="11124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998400" y="1719720"/>
                <a:ext cx="754560" cy="1113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77040" y="2038680"/>
                <a:ext cx="991800" cy="9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47000" y="2674800"/>
                <a:ext cx="1049400" cy="10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999840" y="2154600"/>
                <a:ext cx="712080" cy="10479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283080" y="1710360"/>
                <a:ext cx="522000" cy="7657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532200" y="1712880"/>
                <a:ext cx="511560" cy="754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7080" y="1872720"/>
                <a:ext cx="1692360" cy="16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33000">
                <a:off x="5802480" y="1711080"/>
                <a:ext cx="2688120" cy="1497960"/>
              </a:xfrm>
              <a:prstGeom prst="parallelogram">
                <a:avLst>
                  <a:gd name="adj" fmla="val 66580"/>
                </a:avLst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795280" y="2873160"/>
                <a:ext cx="218160" cy="3232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648840" y="1715760"/>
                <a:ext cx="634680" cy="933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509160" y="2513520"/>
                <a:ext cx="467280" cy="68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16960" y="1707840"/>
                <a:ext cx="696960" cy="64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68960" y="1875600"/>
                <a:ext cx="500760" cy="50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84400" y="2031840"/>
                <a:ext cx="991800" cy="9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301520" y="1979280"/>
                <a:ext cx="274320" cy="403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76040" y="2193840"/>
                <a:ext cx="1694880" cy="16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510240" y="1714680"/>
                <a:ext cx="1005120" cy="1482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238520" y="2094480"/>
                <a:ext cx="754560" cy="1113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58360" y="2512800"/>
                <a:ext cx="116640" cy="172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599520" y="2516400"/>
                <a:ext cx="396000" cy="39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6656760" y="2359080"/>
                <a:ext cx="189360" cy="2797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48480" y="2680560"/>
                <a:ext cx="1049400" cy="10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000">
                <a:off x="6201360" y="2999160"/>
                <a:ext cx="1423080" cy="1800"/>
              </a:xfrm>
              <a:custGeom>
                <a:avLst/>
                <a:gdLst/>
                <a:ahLst/>
                <a:rect l="l" t="t" r="r" b="b"/>
                <a:pathLst>
                  <a:path w="1266" h="3">
                    <a:moveTo>
                      <a:pt x="0" y="3"/>
                    </a:moveTo>
                    <a:lnTo>
                      <a:pt x="1266" y="0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34800" y="2841120"/>
                <a:ext cx="1110600" cy="10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276960" y="3026160"/>
                <a:ext cx="117720" cy="1731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038640" y="2982240"/>
                <a:ext cx="140760" cy="208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28400" y="3195360"/>
                <a:ext cx="1657080" cy="162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33160" y="2993040"/>
                <a:ext cx="275040" cy="2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69760" y="2047320"/>
                <a:ext cx="206640" cy="1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158680" y="1721880"/>
                <a:ext cx="85680" cy="128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61800">
                <a:off x="6446520" y="1981440"/>
                <a:ext cx="143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747480" y="2500920"/>
                <a:ext cx="477000" cy="703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48000" y="2833920"/>
                <a:ext cx="1110600" cy="10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861800">
                <a:off x="6135480" y="1515960"/>
                <a:ext cx="2085120" cy="93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57" y="2880"/>
                    </a:moveTo>
                    <a:arcTo wR="10800" hR="10800" stAng="-7970201" swAng="5200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57" y="2880"/>
                    </a:moveTo>
                    <a:arcTo wR="10800" hR="10800" stAng="-7970201" swAng="520014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1090000">
                <a:off x="6472080" y="2194920"/>
                <a:ext cx="1424520" cy="520200"/>
              </a:xfrm>
              <a:custGeom>
                <a:avLst/>
                <a:gdLst/>
                <a:ahLst/>
                <a:rect l="l" t="t" r="r" b="b"/>
                <a:pathLst>
                  <a:path w="1212" h="438">
                    <a:moveTo>
                      <a:pt x="58" y="184"/>
                    </a:moveTo>
                    <a:cubicBezTo>
                      <a:pt x="69" y="195"/>
                      <a:pt x="60" y="192"/>
                      <a:pt x="108" y="234"/>
                    </a:cubicBezTo>
                    <a:cubicBezTo>
                      <a:pt x="157" y="271"/>
                      <a:pt x="130" y="252"/>
                      <a:pt x="163" y="276"/>
                    </a:cubicBezTo>
                    <a:cubicBezTo>
                      <a:pt x="200" y="299"/>
                      <a:pt x="211" y="307"/>
                      <a:pt x="244" y="322"/>
                    </a:cubicBezTo>
                    <a:cubicBezTo>
                      <a:pt x="276" y="337"/>
                      <a:pt x="318" y="355"/>
                      <a:pt x="334" y="361"/>
                    </a:cubicBezTo>
                    <a:cubicBezTo>
                      <a:pt x="354" y="369"/>
                      <a:pt x="374" y="375"/>
                      <a:pt x="394" y="382"/>
                    </a:cubicBezTo>
                    <a:cubicBezTo>
                      <a:pt x="415" y="390"/>
                      <a:pt x="445" y="396"/>
                      <a:pt x="471" y="405"/>
                    </a:cubicBezTo>
                    <a:cubicBezTo>
                      <a:pt x="516" y="411"/>
                      <a:pt x="505" y="411"/>
                      <a:pt x="526" y="414"/>
                    </a:cubicBezTo>
                    <a:cubicBezTo>
                      <a:pt x="555" y="420"/>
                      <a:pt x="559" y="421"/>
                      <a:pt x="579" y="424"/>
                    </a:cubicBezTo>
                    <a:cubicBezTo>
                      <a:pt x="615" y="429"/>
                      <a:pt x="637" y="433"/>
                      <a:pt x="658" y="433"/>
                    </a:cubicBezTo>
                    <a:cubicBezTo>
                      <a:pt x="697" y="438"/>
                      <a:pt x="717" y="435"/>
                      <a:pt x="730" y="436"/>
                    </a:cubicBezTo>
                    <a:cubicBezTo>
                      <a:pt x="774" y="436"/>
                      <a:pt x="763" y="438"/>
                      <a:pt x="792" y="436"/>
                    </a:cubicBezTo>
                    <a:cubicBezTo>
                      <a:pt x="828" y="435"/>
                      <a:pt x="849" y="433"/>
                      <a:pt x="871" y="430"/>
                    </a:cubicBezTo>
                    <a:cubicBezTo>
                      <a:pt x="934" y="420"/>
                      <a:pt x="915" y="424"/>
                      <a:pt x="940" y="418"/>
                    </a:cubicBezTo>
                    <a:cubicBezTo>
                      <a:pt x="987" y="406"/>
                      <a:pt x="985" y="408"/>
                      <a:pt x="1008" y="400"/>
                    </a:cubicBezTo>
                    <a:cubicBezTo>
                      <a:pt x="1054" y="385"/>
                      <a:pt x="1068" y="381"/>
                      <a:pt x="1090" y="367"/>
                    </a:cubicBezTo>
                    <a:cubicBezTo>
                      <a:pt x="1137" y="334"/>
                      <a:pt x="1142" y="336"/>
                      <a:pt x="1167" y="312"/>
                    </a:cubicBezTo>
                    <a:cubicBezTo>
                      <a:pt x="1191" y="281"/>
                      <a:pt x="1183" y="292"/>
                      <a:pt x="1195" y="271"/>
                    </a:cubicBezTo>
                    <a:cubicBezTo>
                      <a:pt x="1210" y="237"/>
                      <a:pt x="1201" y="259"/>
                      <a:pt x="1205" y="251"/>
                    </a:cubicBezTo>
                    <a:cubicBezTo>
                      <a:pt x="1206" y="236"/>
                      <a:pt x="1209" y="237"/>
                      <a:pt x="1212" y="207"/>
                    </a:cubicBezTo>
                    <a:cubicBezTo>
                      <a:pt x="1176" y="213"/>
                      <a:pt x="1163" y="217"/>
                      <a:pt x="1143" y="219"/>
                    </a:cubicBezTo>
                    <a:cubicBezTo>
                      <a:pt x="1134" y="222"/>
                      <a:pt x="1107" y="225"/>
                      <a:pt x="1107" y="225"/>
                    </a:cubicBezTo>
                    <a:cubicBezTo>
                      <a:pt x="1068" y="232"/>
                      <a:pt x="1054" y="231"/>
                      <a:pt x="1027" y="232"/>
                    </a:cubicBezTo>
                    <a:cubicBezTo>
                      <a:pt x="994" y="235"/>
                      <a:pt x="962" y="238"/>
                      <a:pt x="940" y="238"/>
                    </a:cubicBezTo>
                    <a:cubicBezTo>
                      <a:pt x="907" y="237"/>
                      <a:pt x="891" y="235"/>
                      <a:pt x="861" y="237"/>
                    </a:cubicBezTo>
                    <a:cubicBezTo>
                      <a:pt x="818" y="236"/>
                      <a:pt x="814" y="234"/>
                      <a:pt x="777" y="234"/>
                    </a:cubicBezTo>
                    <a:cubicBezTo>
                      <a:pt x="738" y="229"/>
                      <a:pt x="723" y="230"/>
                      <a:pt x="675" y="222"/>
                    </a:cubicBezTo>
                    <a:cubicBezTo>
                      <a:pt x="654" y="219"/>
                      <a:pt x="634" y="217"/>
                      <a:pt x="615" y="214"/>
                    </a:cubicBezTo>
                    <a:cubicBezTo>
                      <a:pt x="593" y="210"/>
                      <a:pt x="567" y="204"/>
                      <a:pt x="541" y="199"/>
                    </a:cubicBezTo>
                    <a:cubicBezTo>
                      <a:pt x="511" y="194"/>
                      <a:pt x="494" y="191"/>
                      <a:pt x="460" y="183"/>
                    </a:cubicBezTo>
                    <a:cubicBezTo>
                      <a:pt x="424" y="176"/>
                      <a:pt x="424" y="172"/>
                      <a:pt x="387" y="165"/>
                    </a:cubicBezTo>
                    <a:cubicBezTo>
                      <a:pt x="358" y="157"/>
                      <a:pt x="338" y="149"/>
                      <a:pt x="316" y="142"/>
                    </a:cubicBezTo>
                    <a:cubicBezTo>
                      <a:pt x="306" y="138"/>
                      <a:pt x="262" y="122"/>
                      <a:pt x="252" y="121"/>
                    </a:cubicBezTo>
                    <a:cubicBezTo>
                      <a:pt x="233" y="114"/>
                      <a:pt x="219" y="107"/>
                      <a:pt x="203" y="101"/>
                    </a:cubicBezTo>
                    <a:cubicBezTo>
                      <a:pt x="187" y="95"/>
                      <a:pt x="185" y="92"/>
                      <a:pt x="169" y="87"/>
                    </a:cubicBezTo>
                    <a:cubicBezTo>
                      <a:pt x="154" y="81"/>
                      <a:pt x="138" y="73"/>
                      <a:pt x="123" y="64"/>
                    </a:cubicBezTo>
                    <a:cubicBezTo>
                      <a:pt x="106" y="55"/>
                      <a:pt x="86" y="46"/>
                      <a:pt x="70" y="36"/>
                    </a:cubicBezTo>
                    <a:cubicBezTo>
                      <a:pt x="59" y="29"/>
                      <a:pt x="40" y="21"/>
                      <a:pt x="29" y="15"/>
                    </a:cubicBezTo>
                    <a:cubicBezTo>
                      <a:pt x="27" y="14"/>
                      <a:pt x="6" y="0"/>
                      <a:pt x="7" y="1"/>
                    </a:cubicBezTo>
                    <a:cubicBezTo>
                      <a:pt x="5" y="12"/>
                      <a:pt x="1" y="15"/>
                      <a:pt x="0" y="45"/>
                    </a:cubicBezTo>
                    <a:cubicBezTo>
                      <a:pt x="0" y="73"/>
                      <a:pt x="1" y="77"/>
                      <a:pt x="10" y="106"/>
                    </a:cubicBezTo>
                    <a:cubicBezTo>
                      <a:pt x="27" y="139"/>
                      <a:pt x="40" y="163"/>
                      <a:pt x="57" y="183"/>
                    </a:cubicBez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625440" y="2442600"/>
                <a:ext cx="394560" cy="583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298920" y="2413440"/>
                <a:ext cx="510120" cy="753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067080" y="2360160"/>
                <a:ext cx="535680" cy="789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783840" y="2447640"/>
                <a:ext cx="477000" cy="703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050240" y="2426760"/>
                <a:ext cx="477000" cy="703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72280" y="2522880"/>
                <a:ext cx="779040" cy="75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57160" y="2512800"/>
                <a:ext cx="1189080" cy="111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55440" y="2353680"/>
                <a:ext cx="239760" cy="32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99400" y="2369160"/>
                <a:ext cx="266760" cy="32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257960" y="2364840"/>
                <a:ext cx="550800" cy="811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50280" y="2679840"/>
                <a:ext cx="1189440" cy="11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7481520" y="1950840"/>
                <a:ext cx="634320" cy="338760"/>
                <a:chOff x="7481520" y="1950840"/>
                <a:chExt cx="634320" cy="338760"/>
              </a:xfrm>
            </p:grpSpPr>
            <p:sp>
              <p:nvSpPr>
                <p:cNvPr id="254" name=""/>
                <p:cNvSpPr/>
                <p:nvPr/>
              </p:nvSpPr>
              <p:spPr>
                <a:xfrm flipV="1">
                  <a:off x="7481520" y="2056320"/>
                  <a:ext cx="59400" cy="85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7636320" y="1950840"/>
                  <a:ext cx="154440" cy="127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736400" y="2107080"/>
                  <a:ext cx="240480" cy="60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7839720" y="2274480"/>
                  <a:ext cx="276120" cy="1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7554600" y="2146320"/>
                  <a:ext cx="103680" cy="35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7557120" y="2276640"/>
                  <a:ext cx="171360" cy="8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261840" y="1949760"/>
                <a:ext cx="661680" cy="321120"/>
                <a:chOff x="6261840" y="1949760"/>
                <a:chExt cx="661680" cy="32112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>
                  <a:off x="6448680" y="2010240"/>
                  <a:ext cx="246960" cy="106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302160" y="2129040"/>
                  <a:ext cx="268200" cy="66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6261840" y="2256120"/>
                  <a:ext cx="239760" cy="6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572880" y="2251800"/>
                  <a:ext cx="171360" cy="19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6715440" y="2031480"/>
                  <a:ext cx="151200" cy="464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>
                  <a:off x="6867000" y="1949760"/>
                  <a:ext cx="56520" cy="66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>
                  <a:off x="6734520" y="2166120"/>
                  <a:ext cx="96120" cy="30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343200" y="2409480"/>
                <a:ext cx="387360" cy="290160"/>
                <a:chOff x="6343200" y="2409480"/>
                <a:chExt cx="387360" cy="290160"/>
              </a:xfrm>
            </p:grpSpPr>
            <p:sp>
              <p:nvSpPr>
                <p:cNvPr id="269" name=""/>
                <p:cNvSpPr/>
                <p:nvPr/>
              </p:nvSpPr>
              <p:spPr>
                <a:xfrm flipH="1">
                  <a:off x="6667200" y="2587680"/>
                  <a:ext cx="63360" cy="111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6510960" y="2550960"/>
                  <a:ext cx="152280" cy="128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6383520" y="2499840"/>
                  <a:ext cx="239040" cy="60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6343200" y="2409480"/>
                  <a:ext cx="181800" cy="10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6598800" y="2504520"/>
                  <a:ext cx="104760" cy="342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6478200" y="2444040"/>
                  <a:ext cx="171360" cy="8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457040" y="2468520"/>
                <a:ext cx="563400" cy="253080"/>
                <a:chOff x="7457040" y="2468520"/>
                <a:chExt cx="563400" cy="2530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532640" y="2615040"/>
                  <a:ext cx="246600" cy="1065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58640" y="2538720"/>
                  <a:ext cx="268560" cy="666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82480" y="2468520"/>
                  <a:ext cx="237960" cy="6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581240" y="2485440"/>
                  <a:ext cx="172440" cy="190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509960" y="2569320"/>
                  <a:ext cx="152280" cy="464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57040" y="2640600"/>
                  <a:ext cx="55800" cy="676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93760" y="2522520"/>
                  <a:ext cx="95760" cy="302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 flipV="1">
              <a:off x="7626240" y="2404800"/>
              <a:ext cx="9352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091280" y="1463400"/>
              <a:ext cx="3600" cy="70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366680" y="1388520"/>
              <a:ext cx="421200" cy="60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940360" y="1484280"/>
            <a:ext cx="719280" cy="360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4200" y="5345280"/>
            <a:ext cx="7200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is the coefficient of the second term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indicates ellip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2560" y="4172040"/>
            <a:ext cx="8137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reaction plane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4149720"/>
            <a:ext cx="82090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58800" y="4459320"/>
            <a:ext cx="6107040" cy="914400"/>
            <a:chOff x="1558800" y="4459320"/>
            <a:chExt cx="6107040" cy="91440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558800" y="4459320"/>
                  <a:ext cx="61070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Ψ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Ψ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Ψ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>
              <a:off x="5257440" y="4459320"/>
              <a:ext cx="289080" cy="432000"/>
            </a:xfrm>
            <a:prstGeom prst="ellipse">
              <a:avLst/>
            </a:prstGeom>
            <a:solidFill>
              <a:srgbClr val="ff00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87320" y="5324400"/>
            <a:ext cx="289080" cy="432000"/>
          </a:xfrm>
          <a:prstGeom prst="ellipse">
            <a:avLst/>
          </a:prstGeom>
          <a:solidFill>
            <a:srgbClr val="ff00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335772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metrical anisotr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03640" y="1771560"/>
            <a:ext cx="2590560" cy="1441440"/>
            <a:chOff x="3203640" y="1771560"/>
            <a:chExt cx="2590560" cy="1441440"/>
          </a:xfrm>
        </p:grpSpPr>
        <p:sp>
          <p:nvSpPr>
            <p:cNvPr id="296" name=""/>
            <p:cNvSpPr/>
            <p:nvPr/>
          </p:nvSpPr>
          <p:spPr>
            <a:xfrm>
              <a:off x="3274920" y="1844280"/>
              <a:ext cx="24476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mall mean free p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rm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ssure grad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3640" y="1771560"/>
              <a:ext cx="2590560" cy="1441440"/>
            </a:xfrm>
            <a:prstGeom prst="wedgeRoundRectCallout">
              <a:avLst>
                <a:gd name="adj1" fmla="val -29962"/>
                <a:gd name="adj2" fmla="val 7158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900000" y="371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omentum anisotropy reflects the hot dens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liptic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3280" y="5805360"/>
            <a:ext cx="67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asurement has been considered as a powerful probe for investigating the property of the QG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36F-DEA5-4C17-A2E3-A7F6F41A9F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002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me Evol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66320" y="1987560"/>
            <a:ext cx="20840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mical freeze-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94400" y="2432160"/>
            <a:ext cx="2140560" cy="580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dron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ansion &amp; C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2760" y="3139920"/>
            <a:ext cx="18511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m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7640" y="399888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70360" y="39988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is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33760" y="3422520"/>
            <a:ext cx="194328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27640" y="342252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284652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9680" y="28465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G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32320" y="234144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3080" y="23414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xed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46720" y="176688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44360" y="17668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Hadron 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066920" y="1773360"/>
            <a:ext cx="21960" cy="28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52360" y="1413000"/>
            <a:ext cx="3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1680" y="1789200"/>
            <a:ext cx="3600360" cy="2708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458400" y="1484280"/>
            <a:ext cx="23205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inematical freeze-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68120" y="3711600"/>
            <a:ext cx="2018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 scatte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4467240"/>
            <a:ext cx="748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When the matter is thermalized, we ex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Tahoma"/>
              </a:rPr>
              <a:t>Hydro-dynamical behavior at quark level .</a:t>
            </a:r>
            <a:r>
              <a:rPr b="1" i="1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55785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Need a comprehensive understanding 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from thermalization through hadronization to freeze-out.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05264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The matter produced in the high energy heavy ion collision is expected to undergo sev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stages from the initial hard scattering to the final hadron emi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522936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whenever the matter interacts each other,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ld chan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23A-2091-4A15-BF66-192A52B6DF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undamental Findings of v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t RHIC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450880" y="3715920"/>
            <a:ext cx="53607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ydro-dynamical behavior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ark recombin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4B1-143C-4389-92A0-27DAFA5126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679640" cy="3306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000" y="298080"/>
            <a:ext cx="791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xplained by hydro mod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919080" y="1125360"/>
            <a:ext cx="1060560" cy="417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40000" y="1267920"/>
            <a:ext cx="20145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PRL 91, 182301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1413000"/>
            <a:ext cx="40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 at low p</a:t>
            </a:r>
            <a:r>
              <a:rPr b="0" lang="ja-JP" sz="2000" spc="-1" strike="noStrike" baseline="-25000">
                <a:solidFill>
                  <a:srgbClr val="5f5f5f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 (&lt;~2 GeV/c)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can be explained by a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 assum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Early thermalization(~0.6 fm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4724280"/>
            <a:ext cx="44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ass Ordering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v2(π)&gt;v2(K)&gt;v2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xisten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ngle particle spectra also indicat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5148360" y="4797000"/>
            <a:ext cx="792000" cy="107964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292720" y="4797000"/>
            <a:ext cx="2232000" cy="129564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65880" y="6093000"/>
            <a:ext cx="20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HENIX: Au+Au: PRC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63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, 034909 (200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+p: PRC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74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, 024904 (200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22560" y="5943600"/>
            <a:ext cx="3313080" cy="337320"/>
          </a:xfrm>
          <a:prstGeom prst="rect">
            <a:avLst/>
          </a:prstGeom>
          <a:solidFill>
            <a:srgbClr val="99ff99"/>
          </a:soli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x shape due to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adial fl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AA6-DED3-49E4-8233-C0D4888A5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6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Quark recombination (quark number scaling)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6920" y="1386000"/>
            <a:ext cx="7993080" cy="3914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564000" y="1179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PRL. 98, 162301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5280" y="5413320"/>
            <a:ext cx="8675640" cy="869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 /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vs. KE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becomes one curve independent of particle spec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993300"/>
                </a:solidFill>
                <a:latin typeface="Times New Roman"/>
              </a:rPr>
              <a:t>Significant part of elliptic flow at RHIC develops at quark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766960" y="1170000"/>
            <a:ext cx="797040" cy="314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013440" y="4924440"/>
            <a:ext cx="1727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 (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4924440"/>
            <a:ext cx="12938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 (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96000" y="1125360"/>
            <a:ext cx="26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u+Au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4941720"/>
            <a:ext cx="12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2B8-2E97-41EA-BB54-9A06FF7FE1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81080" y="404640"/>
            <a:ext cx="680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he quark number scaling everywher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24000" y="1403280"/>
            <a:ext cx="3960720" cy="1562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55640" y="1052640"/>
            <a:ext cx="187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99"/>
                </a:solidFill>
                <a:latin typeface="Times New Roman"/>
              </a:rPr>
              <a:t>AuAu 62.4GeV PHENIX/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211640" y="1125360"/>
            <a:ext cx="4635360" cy="2663640"/>
            <a:chOff x="4211640" y="1125360"/>
            <a:chExt cx="4635360" cy="2663640"/>
          </a:xfrm>
        </p:grpSpPr>
        <p:pic>
          <p:nvPicPr>
            <p:cNvPr id="350" name="Picture 3" descr="v2KETnqCent0-5"/>
            <p:cNvPicPr/>
            <p:nvPr/>
          </p:nvPicPr>
          <p:blipFill>
            <a:blip r:embed="rId2"/>
            <a:stretch/>
          </p:blipFill>
          <p:spPr>
            <a:xfrm>
              <a:off x="4211640" y="1412640"/>
              <a:ext cx="16808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4" descr="v2KETnqCent5-10"/>
            <p:cNvPicPr/>
            <p:nvPr/>
          </p:nvPicPr>
          <p:blipFill>
            <a:blip r:embed="rId3"/>
            <a:stretch/>
          </p:blipFill>
          <p:spPr>
            <a:xfrm>
              <a:off x="5743440" y="1428480"/>
              <a:ext cx="16160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5" descr="v2KETnqCent10-15"/>
            <p:cNvPicPr/>
            <p:nvPr/>
          </p:nvPicPr>
          <p:blipFill>
            <a:blip r:embed="rId4"/>
            <a:stretch/>
          </p:blipFill>
          <p:spPr>
            <a:xfrm>
              <a:off x="7316640" y="1442880"/>
              <a:ext cx="153036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6" descr="v2KETnqCent15-20"/>
            <p:cNvPicPr/>
            <p:nvPr/>
          </p:nvPicPr>
          <p:blipFill>
            <a:blip r:embed="rId5"/>
            <a:stretch/>
          </p:blipFill>
          <p:spPr>
            <a:xfrm>
              <a:off x="4241520" y="2204640"/>
              <a:ext cx="165096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7" descr="v2KETnqCent20-25"/>
            <p:cNvPicPr/>
            <p:nvPr/>
          </p:nvPicPr>
          <p:blipFill>
            <a:blip r:embed="rId6"/>
            <a:stretch/>
          </p:blipFill>
          <p:spPr>
            <a:xfrm>
              <a:off x="5743440" y="2209320"/>
              <a:ext cx="161604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8" descr="v2KETnqCent25-30"/>
            <p:cNvPicPr/>
            <p:nvPr/>
          </p:nvPicPr>
          <p:blipFill>
            <a:blip r:embed="rId7"/>
            <a:stretch/>
          </p:blipFill>
          <p:spPr>
            <a:xfrm>
              <a:off x="7267320" y="2220480"/>
              <a:ext cx="15796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9" descr="v2KETnqCent30-35"/>
            <p:cNvPicPr/>
            <p:nvPr/>
          </p:nvPicPr>
          <p:blipFill>
            <a:blip r:embed="rId8"/>
            <a:stretch/>
          </p:blipFill>
          <p:spPr>
            <a:xfrm>
              <a:off x="4211640" y="2981160"/>
              <a:ext cx="168084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0" descr="v2KETnqCent35-40"/>
            <p:cNvPicPr/>
            <p:nvPr/>
          </p:nvPicPr>
          <p:blipFill>
            <a:blip r:embed="rId9"/>
            <a:stretch/>
          </p:blipFill>
          <p:spPr>
            <a:xfrm>
              <a:off x="5751360" y="2997000"/>
              <a:ext cx="16146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1" descr="v2KETnqCent40-45"/>
            <p:cNvPicPr/>
            <p:nvPr/>
          </p:nvPicPr>
          <p:blipFill>
            <a:blip r:embed="rId10"/>
            <a:stretch/>
          </p:blipFill>
          <p:spPr>
            <a:xfrm>
              <a:off x="7253280" y="3001680"/>
              <a:ext cx="15937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2"/>
            <p:cNvSpPr/>
            <p:nvPr/>
          </p:nvSpPr>
          <p:spPr>
            <a:xfrm>
              <a:off x="5246640" y="1125360"/>
              <a:ext cx="2092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9999"/>
                  </a:solidFill>
                  <a:latin typeface="Times New Roman"/>
                </a:rPr>
                <a:t>Au+Au 200 GeV (Run7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2"/>
            <p:cNvSpPr/>
            <p:nvPr/>
          </p:nvSpPr>
          <p:spPr>
            <a:xfrm>
              <a:off x="4636800" y="1928520"/>
              <a:ext cx="12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HENIX Prelimin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50920" y="5924520"/>
            <a:ext cx="84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rk number scaling work out up to 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~1GeV/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24000" y="3141720"/>
            <a:ext cx="3168360" cy="2660760"/>
            <a:chOff x="324000" y="3141720"/>
            <a:chExt cx="3168360" cy="2660760"/>
          </a:xfrm>
        </p:grpSpPr>
        <p:pic>
          <p:nvPicPr>
            <p:cNvPr id="363" name="" descr=""/>
            <p:cNvPicPr/>
            <p:nvPr/>
          </p:nvPicPr>
          <p:blipFill>
            <a:blip r:embed="rId11"/>
            <a:stretch/>
          </p:blipFill>
          <p:spPr>
            <a:xfrm>
              <a:off x="324000" y="3141720"/>
              <a:ext cx="3168360" cy="26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900000" y="4365720"/>
              <a:ext cx="201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9999"/>
                  </a:solidFill>
                  <a:latin typeface="Times New Roman"/>
                </a:rPr>
                <a:t>Cu+Cu 200G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570120" y="2781360"/>
            <a:ext cx="3233880" cy="1584360"/>
            <a:chOff x="3570120" y="2781360"/>
            <a:chExt cx="3233880" cy="1584360"/>
          </a:xfrm>
        </p:grpSpPr>
        <p:grpSp>
          <p:nvGrpSpPr>
            <p:cNvPr id="366" name=""/>
            <p:cNvGrpSpPr/>
            <p:nvPr/>
          </p:nvGrpSpPr>
          <p:grpSpPr>
            <a:xfrm>
              <a:off x="3570120" y="2793960"/>
              <a:ext cx="3233880" cy="1571760"/>
              <a:chOff x="3570120" y="2793960"/>
              <a:chExt cx="3233880" cy="1571760"/>
            </a:xfrm>
          </p:grpSpPr>
          <p:pic>
            <p:nvPicPr>
              <p:cNvPr id="3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70120" y="2793960"/>
                <a:ext cx="280836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3853080" y="3913200"/>
                <a:ext cx="115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QM06,  A. Taranenk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35280" y="3706920"/>
                <a:ext cx="136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STAR prelimina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86640" y="3768840"/>
                <a:ext cx="1230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QM06,  M. Oldenbur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706920" y="2781360"/>
              <a:ext cx="266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r>
                <a:rPr b="0" lang="ja-JP" sz="1800" spc="-1" strike="noStrike">
                  <a:solidFill>
                    <a:srgbClr val="009999"/>
                  </a:solidFill>
                  <a:latin typeface="Times New Roman"/>
                </a:rPr>
                <a:t>meson (Au+Au 200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372360" y="3573360"/>
            <a:ext cx="2592360" cy="2438280"/>
            <a:chOff x="6372360" y="3573360"/>
            <a:chExt cx="2592360" cy="2438280"/>
          </a:xfrm>
        </p:grpSpPr>
        <p:pic>
          <p:nvPicPr>
            <p:cNvPr id="373" name="Picture 8" descr="pidscaling_0_60.gif"/>
            <p:cNvPicPr/>
            <p:nvPr/>
          </p:nvPicPr>
          <p:blipFill>
            <a:blip r:embed="rId13"/>
            <a:stretch/>
          </p:blipFill>
          <p:spPr>
            <a:xfrm>
              <a:off x="6372360" y="3573360"/>
              <a:ext cx="25923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661440" y="357336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9999"/>
                  </a:solidFill>
                  <a:latin typeface="Arial"/>
                </a:rPr>
                <a:t>Au+Au 200GeV (Run7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419640" y="4357800"/>
            <a:ext cx="3233520" cy="1608120"/>
            <a:chOff x="3419640" y="4357800"/>
            <a:chExt cx="3233520" cy="1608120"/>
          </a:xfrm>
        </p:grpSpPr>
        <p:grpSp>
          <p:nvGrpSpPr>
            <p:cNvPr id="376" name="Group 14"/>
            <p:cNvGrpSpPr/>
            <p:nvPr/>
          </p:nvGrpSpPr>
          <p:grpSpPr>
            <a:xfrm>
              <a:off x="3419640" y="4437000"/>
              <a:ext cx="3233520" cy="1528920"/>
              <a:chOff x="3419640" y="4437000"/>
              <a:chExt cx="3233520" cy="1528920"/>
            </a:xfrm>
          </p:grpSpPr>
          <p:pic>
            <p:nvPicPr>
              <p:cNvPr id="377" name="Picture 4" descr="pT_ket_ketn_v4_20-60b"/>
              <p:cNvPicPr/>
              <p:nvPr/>
            </p:nvPicPr>
            <p:blipFill>
              <a:blip r:embed="rId14"/>
              <a:stretch/>
            </p:blipFill>
            <p:spPr>
              <a:xfrm>
                <a:off x="3419640" y="4437000"/>
                <a:ext cx="3233520" cy="152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Box 13"/>
              <p:cNvSpPr/>
              <p:nvPr/>
            </p:nvSpPr>
            <p:spPr>
              <a:xfrm>
                <a:off x="4024440" y="458604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3924360" y="4357800"/>
              <a:ext cx="2160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9999"/>
                  </a:solidFill>
                  <a:latin typeface="Times New Roman"/>
                </a:rPr>
                <a:t>v</a:t>
              </a:r>
              <a:r>
                <a:rPr b="0" lang="ja-JP" sz="1800" spc="-1" strike="noStrike" baseline="-25000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ja-JP" sz="1800" spc="-1" strike="noStrike">
                  <a:solidFill>
                    <a:srgbClr val="009999"/>
                  </a:solidFill>
                  <a:latin typeface="Times New Roman"/>
                </a:rPr>
                <a:t> (Au+Au 200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80000" y="4654440"/>
              <a:ext cx="122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Arial"/>
                </a:rPr>
                <a:t>QM09, A. Taranenk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3E9-5BFC-4DA3-B0F1-64783D18B0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3720" y="215640"/>
            <a:ext cx="7891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ark number scaling at S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03440" y="1916280"/>
            <a:ext cx="3581280" cy="3670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743360" y="1852560"/>
            <a:ext cx="3616560" cy="36640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09960" y="1652760"/>
            <a:ext cx="30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A. Tranenko’s talk at Q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17760" y="1036800"/>
            <a:ext cx="6865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of p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162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990000"/>
                </a:solidFill>
                <a:latin typeface="Arial"/>
              </a:rPr>
              <a:t>Pb+Pb at 17.2 GeV, NA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30360" y="1268280"/>
            <a:ext cx="635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preliminary) - G. Stefanek for NA49 collaboration (nucl-ex/0611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7280" y="5662440"/>
            <a:ext cx="7575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doesn’t seem to work out at SPS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low at quark level due to nonexistence of QGP ?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Joint Meeting of APS and J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6FD-BB24-4E77-AEBA-F74011B135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,15,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12:19Z</dcterms:created>
  <dc:creator>maya</dc:creator>
  <dc:description/>
  <dc:language>en-US</dc:language>
  <cp:lastModifiedBy>maya</cp:lastModifiedBy>
  <dcterms:modified xsi:type="dcterms:W3CDTF">2009-10-21T06:08:20Z</dcterms:modified>
  <cp:revision>62</cp:revision>
  <dc:subject/>
  <dc:title>What We Have Learned from the Measurement of Azimuthal Anisotropy of Identified Particles in Relativistic Heavy ion Collisions </dc:title>
</cp:coreProperties>
</file>