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514A-3D1F-42D6-AFE7-AC6EC013B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486720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87880" y="4272480"/>
            <a:ext cx="486720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4631-3572-4E42-B80A-17DDF435F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8788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8196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E76F-1ED7-452D-97D6-FBAAA8297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33800" y="144576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79360" y="144576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87880" y="427248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833800" y="427248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479360" y="427248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CE4B-ABA6-45FC-B1F4-7FD341B5F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32D7-A969-4CD6-A7BC-217C5FA89B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87880" y="1445760"/>
            <a:ext cx="486720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44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EAA8-D574-4BE8-BA38-5C433766D7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486720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3439-D35A-4165-9384-96A50097B0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610D-47BC-4619-B9DB-9B081C69A4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1D2F-21C5-46CC-88C7-38A5874AD8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8560" y="152280"/>
            <a:ext cx="7643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3178-A291-4997-9749-6A831C03B2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18788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9345-7996-4DF2-8485-72661A089C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187880" y="1445760"/>
            <a:ext cx="486720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44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283F-F472-458F-A3F6-3CC2CF5AE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8196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380B-530F-4004-9198-25C3CE3549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87880" y="4272480"/>
            <a:ext cx="486720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3C46-3A25-46B6-8137-1806F1E6D6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486720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87880" y="4272480"/>
            <a:ext cx="486720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00C5-0CC1-45B4-B35B-7E96B2D9E4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8788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8196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9CC6D-7088-41D5-85A0-88A5D17B53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3800" y="144576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79360" y="144576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187880" y="427248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5833800" y="427248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479360" y="427248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9BDA-DD6D-42DF-9B27-4ED4A4608A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D53-4649-4CAC-A1E1-6B4CB61866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187880" y="1445760"/>
            <a:ext cx="486720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44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A45-80A6-4FDF-9E56-5C0ACA6DC0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486720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3D6-32FC-44E8-BED1-C1531615AA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699-6E74-4CAE-90DF-47F7122AD9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FF5-8D78-479E-9016-4B54CF48E8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486720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7620-20E7-4D99-8A58-E20981218B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8560" y="152280"/>
            <a:ext cx="7643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0D7-45C5-4EA2-87C5-13F041B211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18788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A64-60E4-41B5-AD19-844548AC42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8196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FA3-3F68-425B-AC43-88709FE1B6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87880" y="4272480"/>
            <a:ext cx="486720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1C9-18CD-4E85-AD3C-88B3F0DCBA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486720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87880" y="4272480"/>
            <a:ext cx="486720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986-4571-4722-AB94-289D10DE9B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8788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8196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6B1-BF45-4613-9AD2-5CF1C6E9D0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833800" y="144576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79360" y="144576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187880" y="427248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833800" y="427248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479360" y="4272480"/>
            <a:ext cx="156708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88A-D661-4C06-8F9E-3D501D721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AC29-7C8B-4AE2-B2CE-6D66DC076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5D1B-513F-42A2-89A6-5F7E177E9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8560" y="152280"/>
            <a:ext cx="7643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915F-C20E-4320-8578-C18C4489B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18788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5A79-D33F-4B6F-A9D6-8FF29AEB5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81960" y="427248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C467-D07E-4221-B718-C2EAB746F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788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81960" y="1445760"/>
            <a:ext cx="237492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87880" y="4272480"/>
            <a:ext cx="486720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6871-2461-4F05-AE5B-807EA73B6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6777000" cy="26002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b">
            <a:noAutofit/>
          </a:bodyPr>
          <a:p>
            <a:pPr marL="32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2536c2"/>
                </a:solidFill>
                <a:latin typeface="ＤＦＰ太丸ゴシック体"/>
              </a:rPr>
              <a:t>Click to edit the title text format</a:t>
            </a:r>
            <a:endParaRPr b="0" lang="en-US" sz="5100" spc="-1" strike="noStrike">
              <a:solidFill>
                <a:srgbClr val="2536c2"/>
              </a:solidFill>
              <a:latin typeface="ＤＦＰ太丸ゴシック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7440" y="3049200"/>
            <a:ext cx="6251400" cy="380844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 fontScale="98000"/>
          </a:bodyPr>
          <a:p>
            <a:pPr marL="2880"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ＤＦＰ太丸ゴシック体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2880" indent="-2880" algn="r">
              <a:spcBef>
                <a:spcPts val="700"/>
              </a:spcBef>
              <a:buClr>
                <a:srgbClr val="000000"/>
              </a:buClr>
              <a:buFont typeface="ＤＦＰ太丸ゴシック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ＤＦＰ太丸ゴシック体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2" marL="2880" indent="-2880" algn="r">
              <a:spcBef>
                <a:spcPts val="700"/>
              </a:spcBef>
              <a:buClr>
                <a:srgbClr val="000000"/>
              </a:buClr>
              <a:buFont typeface="ＤＦＰ太丸ゴシック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ＤＦＰ太丸ゴシック体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3" marL="2880" indent="-2880" algn="r">
              <a:spcBef>
                <a:spcPts val="700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ＤＦＰ太丸ゴシック体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4" marL="2880" indent="-2880" algn="r">
              <a:spcBef>
                <a:spcPts val="700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ＤＦＰ太丸ゴシック体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5" marL="2880" indent="-2880" algn="r">
              <a:spcBef>
                <a:spcPts val="700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ＤＦＰ太丸ゴシック体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6" marL="2880" indent="-2880" algn="r">
              <a:spcBef>
                <a:spcPts val="700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ＤＦＰ太丸ゴシック体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32880" y="6562440"/>
            <a:ext cx="218880" cy="2142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C8F4-CF3E-4560-B9E6-EDBC9DAD3C4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Click to edit the title text format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187880" y="1445760"/>
            <a:ext cx="486720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 fontScale="97000"/>
          </a:bodyPr>
          <a:p>
            <a:pPr marL="259920" indent="-2325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63320" indent="-235080">
              <a:lnSpc>
                <a:spcPct val="150000"/>
              </a:lnSpc>
              <a:spcBef>
                <a:spcPts val="700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2" marL="664920" indent="-1998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3" marL="865080" indent="-19836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Zapf Dingba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4" marL="1082520" indent="-213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Zapf Dingba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5" marL="1082520" indent="-213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Zapf Dingba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6" marL="1082520" indent="-213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Zapf Dingba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3C29-4CC8-4E41-BAAA-5BE6FBE2667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91800"/>
            <a:ext cx="8232480" cy="150804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5760" y="159840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marL="268200" indent="-239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001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02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116000" indent="-1602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160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160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160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489440" y="6245280"/>
            <a:ext cx="258840" cy="2491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AB94-24D7-4406-A6E6-EAC75BE13ED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スライド番号プレースホルダ 3"/>
          <p:cNvSpPr/>
          <p:nvPr/>
        </p:nvSpPr>
        <p:spPr>
          <a:xfrm>
            <a:off x="8732880" y="6562800"/>
            <a:ext cx="218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15AF-3CB7-47EB-95AE-390A347F095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"/>
          <p:cNvSpPr/>
          <p:nvPr/>
        </p:nvSpPr>
        <p:spPr>
          <a:xfrm>
            <a:off x="7313760" y="1062000"/>
            <a:ext cx="1440" cy="449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303120" y="2820960"/>
            <a:ext cx="8232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6360" y="6634080"/>
            <a:ext cx="2106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. Miake, April.,7, 2009 @ LB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9017" t="50360" r="4370" b="4378"/>
          <a:stretch/>
        </p:blipFill>
        <p:spPr>
          <a:xfrm>
            <a:off x="190440" y="3913200"/>
            <a:ext cx="2660760" cy="2500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251360" y="256680"/>
            <a:ext cx="7929720" cy="24289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b">
            <a:noAutofit/>
          </a:bodyPr>
          <a:p>
            <a:pPr marL="396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2536c2"/>
                </a:solidFill>
                <a:latin typeface="ＤＦＰ太丸ゴシック体"/>
              </a:rPr>
              <a:t>J-Cal Overview</a:t>
            </a:r>
            <a:endParaRPr b="0" lang="en-US" sz="6700" spc="-1" strike="noStrike">
              <a:solidFill>
                <a:srgbClr val="2536c2"/>
              </a:solidFill>
              <a:latin typeface="ＤＦＰ太丸ゴシック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652320" y="4098600"/>
            <a:ext cx="7805520" cy="17413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396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ＤＦＰ太丸ゴシック体"/>
              </a:rPr>
              <a:t>Yasuo MIAKE</a:t>
            </a:r>
            <a:endParaRPr b="0" lang="en-US" sz="30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96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ＤＦＰ太丸ゴシック体"/>
              </a:rPr>
              <a:t>Univ. of Tsukuba</a:t>
            </a:r>
            <a:endParaRPr b="0" lang="en-US" sz="30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694880" y="2840040"/>
            <a:ext cx="3299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5b330"/>
                </a:solidFill>
                <a:latin typeface="Arial"/>
                <a:ea typeface="Arial"/>
              </a:rPr>
              <a:t>Extension of EM-Cal for</a:t>
            </a:r>
            <a:br>
              <a:rPr sz="2400"/>
            </a:br>
            <a:r>
              <a:rPr b="0" i="1" lang="en-US" sz="2400" spc="-1" strike="noStrike">
                <a:solidFill>
                  <a:srgbClr val="45b330"/>
                </a:solidFill>
                <a:latin typeface="Arial"/>
                <a:ea typeface="Arial"/>
              </a:rPr>
              <a:t>B-to-b jet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89320" y="5411880"/>
            <a:ext cx="3269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S. Esumi, T. Horagu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H. Yokoyama, M. S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T. Ch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rcRect l="50098" t="49652" r="2296" b="2655"/>
          <a:stretch/>
        </p:blipFill>
        <p:spPr>
          <a:xfrm>
            <a:off x="6929280" y="-11160"/>
            <a:ext cx="2194200" cy="21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79F2-4A28-49E0-9EF3-4B67FDC3E5A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" descr=""/>
          <p:cNvPicPr/>
          <p:nvPr/>
        </p:nvPicPr>
        <p:blipFill>
          <a:blip r:embed="rId1"/>
          <a:stretch/>
        </p:blipFill>
        <p:spPr>
          <a:xfrm>
            <a:off x="106200" y="1339920"/>
            <a:ext cx="5734080" cy="5448240"/>
          </a:xfrm>
          <a:prstGeom prst="rect">
            <a:avLst/>
          </a:prstGeom>
          <a:ln w="0">
            <a:noFill/>
          </a:ln>
        </p:spPr>
      </p:pic>
      <p:sp>
        <p:nvSpPr>
          <p:cNvPr id="603" name="Line 2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5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606" name="Oval 6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7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608" name="Group 8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609" name="Line 9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0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1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3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4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Freeform 15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6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7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Group 18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619" name="Line 19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20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1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22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3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4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Group 25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626" name="Line 26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7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Oval 29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Group 30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631" name="Line 31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Line 32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33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34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Energy resolution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57520" y="1527120"/>
            <a:ext cx="3786120" cy="533088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268200" indent="-239760">
              <a:lnSpc>
                <a:spcPct val="13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ＤＦＰ太丸ゴシック体"/>
              </a:rPr>
              <a:t>Statistical fluctuation in neutrals determines the resolution.</a:t>
            </a:r>
            <a:endParaRPr b="0" lang="en-US" sz="22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68200" indent="-239760">
              <a:lnSpc>
                <a:spcPct val="13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ＤＦＰ太丸ゴシック体"/>
              </a:rPr>
              <a:t>J-Cal improves the resolution from ~45% to ~35%</a:t>
            </a:r>
            <a:endParaRPr b="0" lang="en-US" sz="22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68200" indent="-239760">
              <a:lnSpc>
                <a:spcPct val="13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ＤＦＰ太丸ゴシック体"/>
              </a:rPr>
              <a:t>Imbalance in energies provides information on the partonic  energy loss. </a:t>
            </a:r>
            <a:endParaRPr b="0" lang="en-US" sz="22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37" name="Rectangle 37"/>
          <p:cNvSpPr/>
          <p:nvPr/>
        </p:nvSpPr>
        <p:spPr>
          <a:xfrm>
            <a:off x="3443400" y="5634000"/>
            <a:ext cx="146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ijet Intrins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8"/>
          <p:cNvSpPr/>
          <p:nvPr/>
        </p:nvSpPr>
        <p:spPr>
          <a:xfrm>
            <a:off x="3809160" y="2919240"/>
            <a:ext cx="125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  <a:ea typeface="Arial"/>
              </a:rPr>
              <a:t>TPC - TP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9"/>
          <p:cNvSpPr/>
          <p:nvPr/>
        </p:nvSpPr>
        <p:spPr>
          <a:xfrm>
            <a:off x="2067840" y="1535040"/>
            <a:ext cx="14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c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0"/>
          <p:cNvSpPr/>
          <p:nvPr/>
        </p:nvSpPr>
        <p:spPr>
          <a:xfrm>
            <a:off x="2937600" y="5037120"/>
            <a:ext cx="2049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647f3"/>
                </a:solidFill>
                <a:latin typeface="Arial"/>
                <a:ea typeface="Arial"/>
              </a:rPr>
              <a:t>γ-Jet: J-Cal - EM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41"/>
          <p:cNvSpPr/>
          <p:nvPr/>
        </p:nvSpPr>
        <p:spPr>
          <a:xfrm>
            <a:off x="3492720" y="4500720"/>
            <a:ext cx="146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J-Cal - EMC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2"/>
          <p:cNvSpPr/>
          <p:nvPr/>
        </p:nvSpPr>
        <p:spPr>
          <a:xfrm>
            <a:off x="3650400" y="3795840"/>
            <a:ext cx="137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TPC - EMC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43"/>
          <p:cNvGrpSpPr/>
          <p:nvPr/>
        </p:nvGrpSpPr>
        <p:grpSpPr>
          <a:xfrm>
            <a:off x="1357200" y="3394080"/>
            <a:ext cx="3551400" cy="987120"/>
            <a:chOff x="1357200" y="3394080"/>
            <a:chExt cx="3551400" cy="987120"/>
          </a:xfrm>
        </p:grpSpPr>
        <p:grpSp>
          <p:nvGrpSpPr>
            <p:cNvPr id="644" name="Group 44"/>
            <p:cNvGrpSpPr/>
            <p:nvPr/>
          </p:nvGrpSpPr>
          <p:grpSpPr>
            <a:xfrm>
              <a:off x="1357200" y="3394080"/>
              <a:ext cx="3490560" cy="440640"/>
              <a:chOff x="1357200" y="3394080"/>
              <a:chExt cx="3490560" cy="440640"/>
            </a:xfrm>
          </p:grpSpPr>
          <p:sp>
            <p:nvSpPr>
              <p:cNvPr id="645" name="Freeform 45"/>
              <p:cNvSpPr/>
              <p:nvPr/>
            </p:nvSpPr>
            <p:spPr>
              <a:xfrm>
                <a:off x="1400400" y="3434760"/>
                <a:ext cx="3400560" cy="357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6" name="Picture 4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394080"/>
                <a:ext cx="3490560" cy="44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7" name="Group 47"/>
            <p:cNvGrpSpPr/>
            <p:nvPr/>
          </p:nvGrpSpPr>
          <p:grpSpPr>
            <a:xfrm>
              <a:off x="1418040" y="3940560"/>
              <a:ext cx="3490560" cy="440640"/>
              <a:chOff x="1418040" y="3940560"/>
              <a:chExt cx="3490560" cy="44064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1461240" y="3981240"/>
                <a:ext cx="3400560" cy="357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9" name="Picture 4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18040" y="3940560"/>
                <a:ext cx="3490560" cy="440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50" name="Picture 50" descr=""/>
            <p:cNvPicPr/>
            <p:nvPr/>
          </p:nvPicPr>
          <p:blipFill>
            <a:blip r:embed="rId4"/>
            <a:stretch/>
          </p:blipFill>
          <p:spPr>
            <a:xfrm>
              <a:off x="3071880" y="3792960"/>
              <a:ext cx="278280" cy="51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Rectangle 51"/>
          <p:cNvSpPr/>
          <p:nvPr/>
        </p:nvSpPr>
        <p:spPr>
          <a:xfrm>
            <a:off x="1244880" y="1285920"/>
            <a:ext cx="394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ＤＦＰ太丸ゴシック体"/>
                <a:ea typeface="ＤＦＰ太丸ゴシック体"/>
              </a:rPr>
              <a:t>PYTHIA8, detector resolution inclu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方形/長方形 53"/>
          <p:cNvSpPr/>
          <p:nvPr/>
        </p:nvSpPr>
        <p:spPr>
          <a:xfrm>
            <a:off x="5469480" y="6404040"/>
            <a:ext cx="34214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e talk by H. Yokoy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4305-E430-4DB6-A363-494C09B7B48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" descr=""/>
          <p:cNvPicPr/>
          <p:nvPr/>
        </p:nvPicPr>
        <p:blipFill>
          <a:blip r:embed="rId1"/>
          <a:stretch/>
        </p:blipFill>
        <p:spPr>
          <a:xfrm>
            <a:off x="81000" y="1276200"/>
            <a:ext cx="5767200" cy="5483520"/>
          </a:xfrm>
          <a:prstGeom prst="rect">
            <a:avLst/>
          </a:prstGeom>
          <a:ln w="0">
            <a:noFill/>
          </a:ln>
        </p:spPr>
      </p:pic>
      <p:sp>
        <p:nvSpPr>
          <p:cNvPr id="655" name="Line 2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3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5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658" name="Oval 6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7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660" name="Group 8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661" name="Line 9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0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1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3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4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Freeform 15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6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7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" name="Group 18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671" name="Line 19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20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21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22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23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24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25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678" name="Line 26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27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28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Oval 29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30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683" name="Line 31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2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33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Oval 34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Δφ B-to-b balance in φ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527800" y="2089080"/>
            <a:ext cx="3510000" cy="421488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268200" indent="-2397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Better phi resolution helps a lot finding jets in heavy ion environment 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89" name="Rectangle 37"/>
          <p:cNvSpPr/>
          <p:nvPr/>
        </p:nvSpPr>
        <p:spPr>
          <a:xfrm>
            <a:off x="2112120" y="1473120"/>
            <a:ext cx="14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c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8"/>
          <p:cNvSpPr/>
          <p:nvPr/>
        </p:nvSpPr>
        <p:spPr>
          <a:xfrm>
            <a:off x="2937600" y="5678640"/>
            <a:ext cx="2049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647f3"/>
                </a:solidFill>
                <a:latin typeface="Arial"/>
                <a:ea typeface="Arial"/>
              </a:rPr>
              <a:t>γ-Jet: J-Cal - EM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39"/>
          <p:cNvSpPr/>
          <p:nvPr/>
        </p:nvSpPr>
        <p:spPr>
          <a:xfrm>
            <a:off x="3818160" y="3197160"/>
            <a:ext cx="125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  <a:ea typeface="Arial"/>
              </a:rPr>
              <a:t>TPC - TP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0"/>
          <p:cNvSpPr/>
          <p:nvPr/>
        </p:nvSpPr>
        <p:spPr>
          <a:xfrm>
            <a:off x="3492720" y="4500720"/>
            <a:ext cx="146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J-Cal - EMC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1"/>
          <p:cNvSpPr/>
          <p:nvPr/>
        </p:nvSpPr>
        <p:spPr>
          <a:xfrm>
            <a:off x="3650400" y="3795840"/>
            <a:ext cx="137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TPC - EMC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2"/>
          <p:cNvSpPr/>
          <p:nvPr/>
        </p:nvSpPr>
        <p:spPr>
          <a:xfrm>
            <a:off x="3523680" y="5205240"/>
            <a:ext cx="146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ijet Intrins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3"/>
          <p:cNvSpPr/>
          <p:nvPr/>
        </p:nvSpPr>
        <p:spPr>
          <a:xfrm>
            <a:off x="1244880" y="1241280"/>
            <a:ext cx="394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ＤＦＰ太丸ゴシック体"/>
                <a:ea typeface="ＤＦＰ太丸ゴシック体"/>
              </a:rPr>
              <a:t>PYTHIA8, detector resolution inclu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0A19-08AA-4093-B408-89719A40FF0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700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702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703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2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713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720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725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Effect of the energy loss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40840" y="5812920"/>
            <a:ext cx="8804520" cy="8305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 fontScale="76000"/>
          </a:bodyPr>
          <a:p>
            <a:pPr marL="203760" indent="-182160">
              <a:lnSpc>
                <a:spcPct val="13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ＤＦＰ太丸ゴシック体"/>
              </a:rPr>
              <a:t>Jet energy reduces from 100 GeV to 80 GeV in central Pb+Pb at p</a:t>
            </a:r>
            <a:r>
              <a:rPr b="0" lang="en-US" sz="2500" spc="-1" strike="noStrike" baseline="-6000">
                <a:solidFill>
                  <a:srgbClr val="000000"/>
                </a:solidFill>
                <a:latin typeface="ＤＦＰ太丸ゴシック体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ＤＦＰ太丸ゴシック体"/>
              </a:rPr>
              <a:t>hat =100 GeV event</a:t>
            </a:r>
            <a:endParaRPr b="0" lang="en-US" sz="25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pic>
        <p:nvPicPr>
          <p:cNvPr id="731" name="Picture 36" descr=""/>
          <p:cNvPicPr/>
          <p:nvPr/>
        </p:nvPicPr>
        <p:blipFill>
          <a:blip r:embed="rId1"/>
          <a:stretch/>
        </p:blipFill>
        <p:spPr>
          <a:xfrm>
            <a:off x="1473120" y="1776240"/>
            <a:ext cx="6500880" cy="402768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37"/>
          <p:cNvSpPr/>
          <p:nvPr/>
        </p:nvSpPr>
        <p:spPr>
          <a:xfrm>
            <a:off x="466200" y="1276200"/>
            <a:ext cx="439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ＤＦＰ太丸ゴシック体"/>
                <a:ea typeface="ＤＦＰ太丸ゴシック体"/>
              </a:rPr>
              <a:t>PYQUEN;  detector resolution not inclu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8"/>
          <p:cNvSpPr/>
          <p:nvPr/>
        </p:nvSpPr>
        <p:spPr>
          <a:xfrm>
            <a:off x="2501640" y="1598760"/>
            <a:ext cx="507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b+Pb central(5%), p</a:t>
            </a:r>
            <a:r>
              <a:rPr b="0" lang="en-US" sz="24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t = 1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9FD5-F08D-4064-A015-16F325333BA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738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740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741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751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758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2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763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9560" y="-142920"/>
            <a:ext cx="7643880" cy="141120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Effects on energy and φ balance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pic>
        <p:nvPicPr>
          <p:cNvPr id="768" name="Picture 36" descr=""/>
          <p:cNvPicPr/>
          <p:nvPr/>
        </p:nvPicPr>
        <p:blipFill>
          <a:blip r:embed="rId1"/>
          <a:stretch/>
        </p:blipFill>
        <p:spPr>
          <a:xfrm>
            <a:off x="71280" y="1670040"/>
            <a:ext cx="4643640" cy="44197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37"/>
          <p:cNvSpPr/>
          <p:nvPr/>
        </p:nvSpPr>
        <p:spPr>
          <a:xfrm>
            <a:off x="457560" y="1276200"/>
            <a:ext cx="4337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ＤＦＰ太丸ゴシック体"/>
                <a:ea typeface="ＤＦＰ太丸ゴシック体"/>
              </a:rPr>
              <a:t>PYQUEN, detector resolution not inclu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38" descr=""/>
          <p:cNvPicPr/>
          <p:nvPr/>
        </p:nvPicPr>
        <p:blipFill>
          <a:blip r:embed="rId2"/>
          <a:stretch/>
        </p:blipFill>
        <p:spPr>
          <a:xfrm>
            <a:off x="4392720" y="1670040"/>
            <a:ext cx="5162400" cy="44229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39" descr=""/>
          <p:cNvPicPr/>
          <p:nvPr/>
        </p:nvPicPr>
        <p:blipFill>
          <a:blip r:embed="rId3"/>
          <a:stretch/>
        </p:blipFill>
        <p:spPr>
          <a:xfrm>
            <a:off x="4670280" y="3411360"/>
            <a:ext cx="1357560" cy="392400"/>
          </a:xfrm>
          <a:prstGeom prst="rect">
            <a:avLst/>
          </a:prstGeom>
          <a:ln w="0">
            <a:noFill/>
          </a:ln>
        </p:spPr>
      </p:pic>
      <p:sp>
        <p:nvSpPr>
          <p:cNvPr id="772" name="正方形/長方形 41"/>
          <p:cNvSpPr/>
          <p:nvPr/>
        </p:nvSpPr>
        <p:spPr>
          <a:xfrm>
            <a:off x="5469480" y="6404040"/>
            <a:ext cx="34214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e talk by H. Yokoy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9F34-782A-4392-B1E1-FC36C366580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777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779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780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790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797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802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Rates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384800" y="1231920"/>
            <a:ext cx="4759200" cy="50911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 fontScale="94000"/>
          </a:bodyPr>
          <a:p>
            <a:pPr marL="252000" indent="-2253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1 month running/year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52000" indent="-2253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10</a:t>
            </a:r>
            <a:r>
              <a:rPr b="0" lang="en-US" sz="2700" spc="-1" strike="noStrike" baseline="32000">
                <a:solidFill>
                  <a:srgbClr val="000000"/>
                </a:solidFill>
                <a:latin typeface="ＤＦＰ太丸ゴシック体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 events/year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52000" indent="-2253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Using Day-1 ALICE with J-Cal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83480" indent="-22824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Establish Dijets Ax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up to100~150 GeV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52000" indent="-2253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3 orders of magnitude larger than gamma-Jet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52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ＤＦＰ太丸ゴシック体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ＤＦＰ太丸ゴシック体"/>
              </a:rPr>
              <a:t>See talk by S. Esumi</a:t>
            </a:r>
            <a:endParaRPr b="0" lang="en-US" sz="20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grpSp>
        <p:nvGrpSpPr>
          <p:cNvPr id="808" name="Group 36"/>
          <p:cNvGrpSpPr/>
          <p:nvPr/>
        </p:nvGrpSpPr>
        <p:grpSpPr>
          <a:xfrm>
            <a:off x="88920" y="1262160"/>
            <a:ext cx="4311360" cy="5438520"/>
            <a:chOff x="88920" y="1262160"/>
            <a:chExt cx="4311360" cy="5438520"/>
          </a:xfrm>
        </p:grpSpPr>
        <p:grpSp>
          <p:nvGrpSpPr>
            <p:cNvPr id="809" name="Group 37"/>
            <p:cNvGrpSpPr/>
            <p:nvPr/>
          </p:nvGrpSpPr>
          <p:grpSpPr>
            <a:xfrm>
              <a:off x="153360" y="1262160"/>
              <a:ext cx="4246920" cy="5387040"/>
              <a:chOff x="153360" y="1262160"/>
              <a:chExt cx="4246920" cy="5387040"/>
            </a:xfrm>
          </p:grpSpPr>
          <p:pic>
            <p:nvPicPr>
              <p:cNvPr id="810" name="Picture 38" descr=""/>
              <p:cNvPicPr/>
              <p:nvPr/>
            </p:nvPicPr>
            <p:blipFill>
              <a:blip r:embed="rId1"/>
              <a:srcRect l="0" t="12555" r="10838" b="0"/>
              <a:stretch/>
            </p:blipFill>
            <p:spPr>
              <a:xfrm>
                <a:off x="153360" y="1262160"/>
                <a:ext cx="4246920" cy="53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Line 39"/>
              <p:cNvSpPr/>
              <p:nvPr/>
            </p:nvSpPr>
            <p:spPr>
              <a:xfrm>
                <a:off x="587160" y="4995000"/>
                <a:ext cx="3533760" cy="5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Rectangle 40"/>
            <p:cNvSpPr/>
            <p:nvPr/>
          </p:nvSpPr>
          <p:spPr>
            <a:xfrm>
              <a:off x="88920" y="6411600"/>
              <a:ext cx="18655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270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anks – Peter Jaco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41"/>
          <p:cNvSpPr/>
          <p:nvPr/>
        </p:nvSpPr>
        <p:spPr>
          <a:xfrm>
            <a:off x="36360" y="1241280"/>
            <a:ext cx="40528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8000"/>
                </a:solidFill>
                <a:latin typeface="ＤＦＰ太丸ゴシック体"/>
                <a:ea typeface="ＤＦＰ太丸ゴシック体"/>
              </a:rPr>
              <a:t>From slides shown by J. Harris at Tamura Symposium, Nov.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42"/>
          <p:cNvSpPr/>
          <p:nvPr/>
        </p:nvSpPr>
        <p:spPr>
          <a:xfrm>
            <a:off x="1054080" y="3232080"/>
            <a:ext cx="2865600" cy="1785960"/>
          </a:xfrm>
          <a:prstGeom prst="pie">
            <a:avLst/>
          </a:prstGeom>
          <a:noFill/>
          <a:ln w="381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43"/>
          <p:cNvSpPr/>
          <p:nvPr/>
        </p:nvSpPr>
        <p:spPr>
          <a:xfrm>
            <a:off x="1054080" y="3678120"/>
            <a:ext cx="2865600" cy="1787760"/>
          </a:xfrm>
          <a:prstGeom prst="pie">
            <a:avLst/>
          </a:prstGeom>
          <a:noFill/>
          <a:ln w="50760">
            <a:solidFill>
              <a:srgbClr val="2e4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44"/>
          <p:cNvSpPr/>
          <p:nvPr/>
        </p:nvSpPr>
        <p:spPr>
          <a:xfrm>
            <a:off x="1731960" y="5535720"/>
            <a:ext cx="2340000" cy="393480"/>
          </a:xfrm>
          <a:prstGeom prst="rect">
            <a:avLst/>
          </a:prstGeom>
          <a:solidFill>
            <a:srgbClr val="fbe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ＤＦＰ太丸ゴシック体"/>
                <a:ea typeface="ＤＦＰ太丸ゴシック体"/>
              </a:rPr>
              <a:t>Full Dijets reconstruction by EMCAL+J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45"/>
          <p:cNvSpPr/>
          <p:nvPr/>
        </p:nvSpPr>
        <p:spPr>
          <a:xfrm flipH="1">
            <a:off x="2451240" y="5103720"/>
            <a:ext cx="527040" cy="470160"/>
          </a:xfrm>
          <a:prstGeom prst="line">
            <a:avLst/>
          </a:prstGeom>
          <a:ln w="50760">
            <a:solidFill>
              <a:srgbClr val="2e40a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FFE-0D51-4CE5-BA86-3D72321AAD3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36360" y="6634080"/>
            <a:ext cx="2106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Miake, Mar.,24, 2009 @ C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823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825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826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2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836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843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848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J-Cal doubles γ-Jet yield 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589720" y="1535040"/>
            <a:ext cx="3349440" cy="532296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lvl="1" marL="514440" indent="-24300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ＤＦＰ太丸ゴシック体"/>
              </a:rPr>
              <a:t>γin PHOS and J-cal, jet in EM-Cal.</a:t>
            </a:r>
            <a:endParaRPr b="0" lang="en-US" sz="1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ＤＦＰ太丸ゴシック体"/>
              </a:rPr>
              <a:t>Thanks to Peter Jacobs</a:t>
            </a:r>
            <a:endParaRPr b="0" lang="en-US" sz="17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68200" indent="-2397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ＤＦＰ太丸ゴシック体"/>
              </a:rPr>
              <a:t>J-Cal doubles rate of γ-Jet</a:t>
            </a:r>
            <a:endParaRPr b="0" lang="en-US" sz="17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68200" indent="-2397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ＤＦＰ太丸ゴシック体"/>
              </a:rPr>
              <a:t>leading pi0 may be improved by a factor of 10!</a:t>
            </a:r>
            <a:endParaRPr b="0" lang="en-US" sz="1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ＤＦＰ太丸ゴシック体"/>
              </a:rPr>
              <a:t>Need simulations</a:t>
            </a:r>
            <a:endParaRPr b="0" lang="en-US" sz="1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pic>
        <p:nvPicPr>
          <p:cNvPr id="854" name="Picture 36" descr=""/>
          <p:cNvPicPr/>
          <p:nvPr/>
        </p:nvPicPr>
        <p:blipFill>
          <a:blip r:embed="rId1"/>
          <a:srcRect l="3414" t="62056" r="55684" b="1890"/>
          <a:stretch/>
        </p:blipFill>
        <p:spPr>
          <a:xfrm>
            <a:off x="133200" y="1370160"/>
            <a:ext cx="4983480" cy="541656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7"/>
          <p:cNvSpPr/>
          <p:nvPr/>
        </p:nvSpPr>
        <p:spPr>
          <a:xfrm>
            <a:off x="335160" y="6446880"/>
            <a:ext cx="328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ks to Peter Jac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38"/>
          <p:cNvGrpSpPr/>
          <p:nvPr/>
        </p:nvGrpSpPr>
        <p:grpSpPr>
          <a:xfrm>
            <a:off x="1893960" y="3191040"/>
            <a:ext cx="2189160" cy="2368440"/>
            <a:chOff x="1893960" y="3191040"/>
            <a:chExt cx="2189160" cy="2368440"/>
          </a:xfrm>
        </p:grpSpPr>
        <p:sp>
          <p:nvSpPr>
            <p:cNvPr id="857" name="Freeform 39"/>
            <p:cNvSpPr/>
            <p:nvPr/>
          </p:nvSpPr>
          <p:spPr>
            <a:xfrm>
              <a:off x="1893960" y="3191040"/>
              <a:ext cx="2189160" cy="236844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40"/>
            <p:cNvSpPr/>
            <p:nvPr/>
          </p:nvSpPr>
          <p:spPr>
            <a:xfrm rot="2856600">
              <a:off x="3233880" y="3737160"/>
              <a:ext cx="354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0000"/>
                  </a:solidFill>
                  <a:latin typeface="Apple Casual"/>
                  <a:ea typeface="Apple Casual"/>
                </a:rPr>
                <a:t>J-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41"/>
            <p:cNvSpPr/>
            <p:nvPr/>
          </p:nvSpPr>
          <p:spPr>
            <a:xfrm rot="2856600">
              <a:off x="2833200" y="3754080"/>
              <a:ext cx="351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0000"/>
                  </a:solidFill>
                  <a:latin typeface="Apple Casual"/>
                  <a:ea typeface="Apple Casual"/>
                </a:rPr>
                <a:t>X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6B20-B5E6-43EE-8E45-9B57478C109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864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866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867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3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6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877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884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889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Jet trigger in Pb+Pb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0" y="4714560"/>
            <a:ext cx="8920080" cy="178596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 fontScale="89000"/>
          </a:bodyPr>
          <a:p>
            <a:pPr marL="238680" indent="-21312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With R</a:t>
            </a:r>
            <a:r>
              <a:rPr b="0" lang="en-US" sz="2700" spc="-1" strike="noStrike" baseline="-6000">
                <a:solidFill>
                  <a:srgbClr val="000000"/>
                </a:solidFill>
                <a:latin typeface="ＤＦＰ太丸ゴシック体"/>
              </a:rPr>
              <a:t>cone</a:t>
            </a: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 = 0.2, triggering jet of &lt; 50 GeV becomes difficult.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38680" indent="-21312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Back-to back 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pic>
        <p:nvPicPr>
          <p:cNvPr id="895" name="Picture 36" descr=""/>
          <p:cNvPicPr/>
          <p:nvPr/>
        </p:nvPicPr>
        <p:blipFill>
          <a:blip r:embed="rId1"/>
          <a:srcRect l="49017" t="50360" r="4370" b="4378"/>
          <a:stretch/>
        </p:blipFill>
        <p:spPr>
          <a:xfrm>
            <a:off x="385920" y="1976400"/>
            <a:ext cx="2412720" cy="2266920"/>
          </a:xfrm>
          <a:prstGeom prst="rect">
            <a:avLst/>
          </a:prstGeom>
          <a:ln w="0">
            <a:noFill/>
          </a:ln>
        </p:spPr>
      </p:pic>
      <p:grpSp>
        <p:nvGrpSpPr>
          <p:cNvPr id="896" name="Group 37"/>
          <p:cNvGrpSpPr/>
          <p:nvPr/>
        </p:nvGrpSpPr>
        <p:grpSpPr>
          <a:xfrm>
            <a:off x="3419640" y="1357200"/>
            <a:ext cx="4868640" cy="3546360"/>
            <a:chOff x="3419640" y="1357200"/>
            <a:chExt cx="4868640" cy="3546360"/>
          </a:xfrm>
        </p:grpSpPr>
        <p:grpSp>
          <p:nvGrpSpPr>
            <p:cNvPr id="897" name="Group 38"/>
            <p:cNvGrpSpPr/>
            <p:nvPr/>
          </p:nvGrpSpPr>
          <p:grpSpPr>
            <a:xfrm>
              <a:off x="3419640" y="1357200"/>
              <a:ext cx="4868640" cy="3483000"/>
              <a:chOff x="3419640" y="1357200"/>
              <a:chExt cx="4868640" cy="3483000"/>
            </a:xfrm>
          </p:grpSpPr>
          <p:pic>
            <p:nvPicPr>
              <p:cNvPr id="898" name="Pictur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1517760"/>
                <a:ext cx="4868640" cy="332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Freeform 40"/>
              <p:cNvSpPr/>
              <p:nvPr/>
            </p:nvSpPr>
            <p:spPr>
              <a:xfrm>
                <a:off x="4446360" y="2487960"/>
                <a:ext cx="3393000" cy="1952640"/>
              </a:xfrm>
              <a:prstGeom prst="pie">
                <a:avLst/>
              </a:prstGeom>
              <a:noFill/>
              <a:ln w="12708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Rectangle 41"/>
              <p:cNvSpPr/>
              <p:nvPr/>
            </p:nvSpPr>
            <p:spPr>
              <a:xfrm>
                <a:off x="5541480" y="2437920"/>
                <a:ext cx="19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c4c4c"/>
                    </a:solidFill>
                    <a:latin typeface="ＤＦＰ太丸ゴシック体"/>
                    <a:ea typeface="ＤＦＰ太丸ゴシック体"/>
                  </a:rPr>
                  <a:t>Backgroun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Rectangle 42"/>
              <p:cNvSpPr/>
              <p:nvPr/>
            </p:nvSpPr>
            <p:spPr>
              <a:xfrm>
                <a:off x="6634080" y="1357200"/>
                <a:ext cx="162504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133920" tIns="76320" bIns="76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8000"/>
                    </a:solidFill>
                    <a:latin typeface="ＤＦＰ太丸ゴシック体"/>
                    <a:ea typeface="ＤＦＰ太丸ゴシック体"/>
                  </a:rPr>
                  <a:t>Fig.8.4 of TD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Rectangle 43"/>
              <p:cNvSpPr/>
              <p:nvPr/>
            </p:nvSpPr>
            <p:spPr>
              <a:xfrm>
                <a:off x="6453360" y="3527640"/>
                <a:ext cx="1437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0000"/>
                    </a:solidFill>
                    <a:latin typeface="ＤＦＰ太丸ゴシック体"/>
                    <a:ea typeface="ＤＦＰ太丸ゴシック体"/>
                  </a:rPr>
                  <a:t>E</a:t>
                </a:r>
                <a:r>
                  <a:rPr b="0" lang="en-US" sz="1700" spc="-1" strike="noStrike" baseline="-6000">
                    <a:solidFill>
                      <a:srgbClr val="ff0000"/>
                    </a:solidFill>
                    <a:latin typeface="ＤＦＰ太丸ゴシック体"/>
                    <a:ea typeface="ＤＦＰ太丸ゴシック体"/>
                  </a:rPr>
                  <a:t>jet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ＤＦＰ太丸ゴシック体"/>
                    <a:ea typeface="ＤＦＰ太丸ゴシック体"/>
                  </a:rPr>
                  <a:t> = 100 GeV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ectangle 44"/>
              <p:cNvSpPr/>
              <p:nvPr/>
            </p:nvSpPr>
            <p:spPr>
              <a:xfrm>
                <a:off x="7104960" y="3947400"/>
                <a:ext cx="810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ff"/>
                    </a:solidFill>
                    <a:latin typeface="ＤＦＰ太丸ゴシック体"/>
                    <a:ea typeface="ＤＦＰ太丸ゴシック体"/>
                  </a:rPr>
                  <a:t>50 GeV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Rectangle 45"/>
            <p:cNvSpPr/>
            <p:nvPr/>
          </p:nvSpPr>
          <p:spPr>
            <a:xfrm>
              <a:off x="4537800" y="3089880"/>
              <a:ext cx="105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R</a:t>
              </a:r>
              <a:r>
                <a:rPr b="0" lang="en-US" sz="1700" spc="-1" strike="noStrike" baseline="-6000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cone</a:t>
              </a:r>
              <a:r>
                <a:rPr b="0" lang="en-US" sz="17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 = 0.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6"/>
            <p:cNvSpPr/>
            <p:nvPr/>
          </p:nvSpPr>
          <p:spPr>
            <a:xfrm flipV="1">
              <a:off x="5089320" y="3461040"/>
              <a:ext cx="0" cy="459000"/>
            </a:xfrm>
            <a:prstGeom prst="line">
              <a:avLst/>
            </a:prstGeom>
            <a:ln w="7632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47"/>
            <p:cNvSpPr/>
            <p:nvPr/>
          </p:nvSpPr>
          <p:spPr>
            <a:xfrm>
              <a:off x="7503840" y="4644000"/>
              <a:ext cx="515880" cy="25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R</a:t>
              </a:r>
              <a:r>
                <a:rPr b="0" lang="en-US" sz="1700" spc="-1" strike="noStrike" baseline="-6000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con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7EB1-6690-4D31-BF84-694B87E8048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910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912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913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9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2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923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930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935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6000" y="-77760"/>
            <a:ext cx="7643880" cy="666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Summary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240" y="479160"/>
            <a:ext cx="8912160" cy="647676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268200" indent="-239760">
              <a:lnSpc>
                <a:spcPct val="13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J-Cal (EM) for back-to back jet performance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2" marL="720720" indent="-206280">
              <a:lnSpc>
                <a:spcPct val="130000"/>
              </a:lnSpc>
              <a:spcBef>
                <a:spcPts val="488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ＤＦＰ太丸ゴシック体"/>
              </a:rPr>
              <a:t>Improve </a:t>
            </a:r>
            <a:br>
              <a:rPr sz="2500"/>
            </a:br>
            <a:r>
              <a:rPr b="0" lang="en-US" sz="2500" spc="-1" strike="noStrike">
                <a:solidFill>
                  <a:srgbClr val="ff0000"/>
                </a:solidFill>
                <a:latin typeface="ＤＦＰ太丸ゴシック体"/>
              </a:rPr>
              <a:t>Resolutions ; ~45% to ~35 %</a:t>
            </a:r>
            <a:br>
              <a:rPr sz="2500"/>
            </a:br>
            <a:r>
              <a:rPr b="0" lang="en-US" sz="2500" spc="-1" strike="noStrike">
                <a:solidFill>
                  <a:srgbClr val="ff0000"/>
                </a:solidFill>
                <a:latin typeface="ＤＦＰ太丸ゴシック体"/>
              </a:rPr>
              <a:t>Acceptances ; 3 x γ-jets</a:t>
            </a:r>
            <a:br>
              <a:rPr sz="2500"/>
            </a:br>
            <a:r>
              <a:rPr b="0" lang="en-US" sz="2500" spc="-1" strike="noStrike">
                <a:solidFill>
                  <a:srgbClr val="ff0000"/>
                </a:solidFill>
                <a:latin typeface="ＤＦＰ太丸ゴシック体"/>
              </a:rPr>
              <a:t>Trigger ; (to be done) </a:t>
            </a:r>
            <a:endParaRPr b="0" lang="en-US" sz="2500" spc="-1" strike="noStrike">
              <a:solidFill>
                <a:srgbClr val="ff0000"/>
              </a:solidFill>
              <a:latin typeface="ＤＦＰ太丸ゴシック体"/>
            </a:endParaRPr>
          </a:p>
          <a:p>
            <a:pPr marL="268200" indent="-239760">
              <a:lnSpc>
                <a:spcPct val="13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Funding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3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At least 1 SM EMC is already granted at Tsukuba.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3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The rest of the money in negotiation.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68200" indent="-239760">
              <a:lnSpc>
                <a:spcPct val="13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Full collaboration (asking help) with US-EMCal 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3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1310"/>
                </a:solidFill>
                <a:latin typeface="ＤＦＰ太丸ゴシック体"/>
              </a:rPr>
              <a:t>Dec, 2008, T.Chujo w. 2 students @ Wayne State</a:t>
            </a:r>
            <a:endParaRPr b="0" lang="en-US" sz="1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3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ＤＦＰ太丸ゴシック体"/>
              </a:rPr>
              <a:t>Arp, 2009, 2 students (M. Sano, H. Yokoyama) stay 2 months @LBNL</a:t>
            </a:r>
            <a:endParaRPr b="0" lang="en-US" sz="1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3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ＤＦＰ太丸ゴシック体"/>
              </a:rPr>
              <a:t>J-Cal proposal at the next ALICE week (June, 2009), </a:t>
            </a:r>
            <a:r>
              <a:rPr b="1" lang="en-US" sz="1400" spc="-1" strike="noStrike">
                <a:solidFill>
                  <a:srgbClr val="ff0000"/>
                </a:solidFill>
                <a:latin typeface="ＤＦＰ太丸ゴシック体"/>
              </a:rPr>
              <a:t>see talk by Y. Miake. </a:t>
            </a:r>
            <a:endParaRPr b="0" lang="en-US" sz="1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3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ＤＦＰ太丸ゴシック体"/>
              </a:rPr>
              <a:t>Preparation for the analysis tool at Tsukuba, </a:t>
            </a:r>
            <a:r>
              <a:rPr b="1" lang="en-US" sz="1400" spc="-1" strike="noStrike">
                <a:solidFill>
                  <a:srgbClr val="ff0000"/>
                </a:solidFill>
                <a:latin typeface="ＤＦＰ太丸ゴシック体"/>
              </a:rPr>
              <a:t>see talk by T. Horaguchi.</a:t>
            </a:r>
            <a:endParaRPr b="0" lang="en-US" sz="1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0">
              <a:lnSpc>
                <a:spcPct val="13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21A2-ED54-4952-BC4C-D1B5A996636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945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6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947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948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4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7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958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965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9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970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F. A. Q.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713880" y="1445760"/>
            <a:ext cx="868860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268200" indent="-2397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Why not with PHOS?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For jets, eta coverage of PHOS is too narrow.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Cone radius of &gt;0.2 needed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J-Cal + Phos works better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68200" indent="-2397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Why not with γ-Jet?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Rates.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DiJets &amp; </a:t>
            </a: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γ-Jet will play complimental role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AC35-DC02-45CD-9EBC-E80E2F0AE0E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980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982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983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9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2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993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1000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4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1005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7920" y="88920"/>
            <a:ext cx="7643880" cy="111600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Fluctuation with limitation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366800" y="4276800"/>
            <a:ext cx="4705560" cy="258120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268200" indent="-239760">
              <a:lnSpc>
                <a:spcPct val="12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ＤＦＰ太丸ゴシック体"/>
              </a:rPr>
              <a:t>Statistical fluctuation with total energy limitation</a:t>
            </a:r>
            <a:endParaRPr b="0" lang="en-US" sz="22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2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ＤＦＰ太丸ゴシック体"/>
              </a:rPr>
              <a:t>Total jet energy is fixed.</a:t>
            </a:r>
            <a:endParaRPr b="0" lang="en-US" sz="22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2" marL="720720" indent="-206280">
              <a:lnSpc>
                <a:spcPct val="120000"/>
              </a:lnSpc>
              <a:spcBef>
                <a:spcPts val="488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ＤＦＰ太丸ゴシック体"/>
              </a:rPr>
              <a:t>fluctuation of neutral play significant role</a:t>
            </a:r>
            <a:endParaRPr b="0" lang="en-US" sz="2200" spc="-1" strike="noStrike">
              <a:solidFill>
                <a:srgbClr val="ff0000"/>
              </a:solidFill>
              <a:latin typeface="ＤＦＰ太丸ゴシック体"/>
            </a:endParaRPr>
          </a:p>
        </p:txBody>
      </p:sp>
      <p:pic>
        <p:nvPicPr>
          <p:cNvPr id="1011" name="Picture 36" descr=""/>
          <p:cNvPicPr/>
          <p:nvPr/>
        </p:nvPicPr>
        <p:blipFill>
          <a:blip r:embed="rId1"/>
          <a:stretch/>
        </p:blipFill>
        <p:spPr>
          <a:xfrm>
            <a:off x="106200" y="1971720"/>
            <a:ext cx="4259520" cy="409104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37"/>
          <p:cNvSpPr/>
          <p:nvPr/>
        </p:nvSpPr>
        <p:spPr>
          <a:xfrm>
            <a:off x="687240" y="1544760"/>
            <a:ext cx="33498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94320" tIns="53640" bIns="53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ＤＦＰ太丸ゴシック体"/>
                <a:ea typeface="ＤＦＰ太丸ゴシック体"/>
              </a:rPr>
              <a:t>CDF, PRL94(2005)1718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38"/>
          <p:cNvSpPr/>
          <p:nvPr/>
        </p:nvSpPr>
        <p:spPr>
          <a:xfrm>
            <a:off x="5411880" y="1473120"/>
            <a:ext cx="434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32000">
                <a:solidFill>
                  <a:srgbClr val="000000"/>
                </a:solidFill>
                <a:latin typeface="Arial"/>
                <a:ea typeface="Arial"/>
              </a:rPr>
              <a:t>JE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=E</a:t>
            </a:r>
            <a:r>
              <a:rPr b="0" lang="en-US" sz="2100" spc="-1" strike="noStrike" baseline="32000">
                <a:solidFill>
                  <a:srgbClr val="000000"/>
                </a:solidFill>
                <a:latin typeface="Arial"/>
                <a:ea typeface="Arial"/>
              </a:rPr>
              <a:t>CHARG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+E</a:t>
            </a:r>
            <a:r>
              <a:rPr b="0" lang="en-US" sz="2100" spc="-1" strike="noStrike" baseline="32000">
                <a:solidFill>
                  <a:srgbClr val="000000"/>
                </a:solidFill>
                <a:latin typeface="Arial"/>
                <a:ea typeface="Arial"/>
              </a:rPr>
              <a:t>NEUT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39"/>
          <p:cNvGrpSpPr/>
          <p:nvPr/>
        </p:nvGrpSpPr>
        <p:grpSpPr>
          <a:xfrm>
            <a:off x="4795920" y="2741760"/>
            <a:ext cx="4098600" cy="1264320"/>
            <a:chOff x="4795920" y="2741760"/>
            <a:chExt cx="4098600" cy="1264320"/>
          </a:xfrm>
        </p:grpSpPr>
        <p:grpSp>
          <p:nvGrpSpPr>
            <p:cNvPr id="1015" name="Group 40"/>
            <p:cNvGrpSpPr/>
            <p:nvPr/>
          </p:nvGrpSpPr>
          <p:grpSpPr>
            <a:xfrm>
              <a:off x="5268600" y="3334680"/>
              <a:ext cx="488520" cy="135360"/>
              <a:chOff x="5268600" y="3334680"/>
              <a:chExt cx="488520" cy="135360"/>
            </a:xfrm>
          </p:grpSpPr>
          <p:sp>
            <p:nvSpPr>
              <p:cNvPr id="1016" name="Line 41"/>
              <p:cNvSpPr/>
              <p:nvPr/>
            </p:nvSpPr>
            <p:spPr>
              <a:xfrm flipH="1">
                <a:off x="5268600" y="3334680"/>
                <a:ext cx="488520" cy="11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42"/>
              <p:cNvSpPr/>
              <p:nvPr/>
            </p:nvSpPr>
            <p:spPr>
              <a:xfrm flipH="1" flipV="1">
                <a:off x="5268600" y="3439800"/>
                <a:ext cx="46044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Group 43"/>
            <p:cNvGrpSpPr/>
            <p:nvPr/>
          </p:nvGrpSpPr>
          <p:grpSpPr>
            <a:xfrm>
              <a:off x="5722200" y="3217320"/>
              <a:ext cx="488880" cy="133560"/>
              <a:chOff x="5722200" y="3217320"/>
              <a:chExt cx="488880" cy="133560"/>
            </a:xfrm>
          </p:grpSpPr>
          <p:sp>
            <p:nvSpPr>
              <p:cNvPr id="1019" name="Line 44"/>
              <p:cNvSpPr/>
              <p:nvPr/>
            </p:nvSpPr>
            <p:spPr>
              <a:xfrm flipH="1">
                <a:off x="5722200" y="3217320"/>
                <a:ext cx="488880" cy="11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45"/>
              <p:cNvSpPr/>
              <p:nvPr/>
            </p:nvSpPr>
            <p:spPr>
              <a:xfrm flipH="1" flipV="1">
                <a:off x="5722200" y="3321000"/>
                <a:ext cx="4608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46"/>
            <p:cNvGrpSpPr/>
            <p:nvPr/>
          </p:nvGrpSpPr>
          <p:grpSpPr>
            <a:xfrm>
              <a:off x="5722200" y="3440520"/>
              <a:ext cx="488880" cy="133560"/>
              <a:chOff x="5722200" y="3440520"/>
              <a:chExt cx="488880" cy="133560"/>
            </a:xfrm>
          </p:grpSpPr>
          <p:sp>
            <p:nvSpPr>
              <p:cNvPr id="1022" name="Line 47"/>
              <p:cNvSpPr/>
              <p:nvPr/>
            </p:nvSpPr>
            <p:spPr>
              <a:xfrm flipH="1" flipV="1">
                <a:off x="5722200" y="3457080"/>
                <a:ext cx="488880" cy="11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48"/>
              <p:cNvSpPr/>
              <p:nvPr/>
            </p:nvSpPr>
            <p:spPr>
              <a:xfrm flipH="1">
                <a:off x="5722200" y="3440520"/>
                <a:ext cx="4608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Group 49"/>
            <p:cNvGrpSpPr/>
            <p:nvPr/>
          </p:nvGrpSpPr>
          <p:grpSpPr>
            <a:xfrm>
              <a:off x="6175440" y="3236400"/>
              <a:ext cx="487440" cy="135360"/>
              <a:chOff x="6175440" y="3236400"/>
              <a:chExt cx="487440" cy="135360"/>
            </a:xfrm>
          </p:grpSpPr>
          <p:sp>
            <p:nvSpPr>
              <p:cNvPr id="1025" name="Line 50"/>
              <p:cNvSpPr/>
              <p:nvPr/>
            </p:nvSpPr>
            <p:spPr>
              <a:xfrm flipH="1">
                <a:off x="6175440" y="3236400"/>
                <a:ext cx="487440" cy="11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51"/>
              <p:cNvSpPr/>
              <p:nvPr/>
            </p:nvSpPr>
            <p:spPr>
              <a:xfrm flipH="1" flipV="1">
                <a:off x="6175440" y="3341520"/>
                <a:ext cx="4593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52"/>
            <p:cNvGrpSpPr/>
            <p:nvPr/>
          </p:nvGrpSpPr>
          <p:grpSpPr>
            <a:xfrm>
              <a:off x="6175440" y="3470040"/>
              <a:ext cx="487440" cy="133920"/>
              <a:chOff x="6175440" y="3470040"/>
              <a:chExt cx="487440" cy="133920"/>
            </a:xfrm>
          </p:grpSpPr>
          <p:sp>
            <p:nvSpPr>
              <p:cNvPr id="1028" name="Line 53"/>
              <p:cNvSpPr/>
              <p:nvPr/>
            </p:nvSpPr>
            <p:spPr>
              <a:xfrm flipH="1">
                <a:off x="6175440" y="3470040"/>
                <a:ext cx="48744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Line 54"/>
              <p:cNvSpPr/>
              <p:nvPr/>
            </p:nvSpPr>
            <p:spPr>
              <a:xfrm flipH="1" flipV="1">
                <a:off x="6175440" y="3574080"/>
                <a:ext cx="4593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55"/>
            <p:cNvGrpSpPr/>
            <p:nvPr/>
          </p:nvGrpSpPr>
          <p:grpSpPr>
            <a:xfrm>
              <a:off x="6217920" y="3186000"/>
              <a:ext cx="487440" cy="135360"/>
              <a:chOff x="6217920" y="3186000"/>
              <a:chExt cx="487440" cy="135360"/>
            </a:xfrm>
          </p:grpSpPr>
          <p:sp>
            <p:nvSpPr>
              <p:cNvPr id="1031" name="Line 56"/>
              <p:cNvSpPr/>
              <p:nvPr/>
            </p:nvSpPr>
            <p:spPr>
              <a:xfrm flipH="1" flipV="1">
                <a:off x="6217920" y="3203280"/>
                <a:ext cx="487440" cy="11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57"/>
              <p:cNvSpPr/>
              <p:nvPr/>
            </p:nvSpPr>
            <p:spPr>
              <a:xfrm flipH="1">
                <a:off x="6217920" y="3186000"/>
                <a:ext cx="4593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58"/>
            <p:cNvGrpSpPr/>
            <p:nvPr/>
          </p:nvGrpSpPr>
          <p:grpSpPr>
            <a:xfrm>
              <a:off x="6649920" y="3592440"/>
              <a:ext cx="487440" cy="133560"/>
              <a:chOff x="6649920" y="3592440"/>
              <a:chExt cx="487440" cy="133560"/>
            </a:xfrm>
          </p:grpSpPr>
          <p:sp>
            <p:nvSpPr>
              <p:cNvPr id="1034" name="Line 59"/>
              <p:cNvSpPr/>
              <p:nvPr/>
            </p:nvSpPr>
            <p:spPr>
              <a:xfrm flipH="1" flipV="1">
                <a:off x="6649920" y="3609000"/>
                <a:ext cx="487440" cy="11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60"/>
              <p:cNvSpPr/>
              <p:nvPr/>
            </p:nvSpPr>
            <p:spPr>
              <a:xfrm flipH="1">
                <a:off x="6649920" y="3592440"/>
                <a:ext cx="4593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61"/>
            <p:cNvGrpSpPr/>
            <p:nvPr/>
          </p:nvGrpSpPr>
          <p:grpSpPr>
            <a:xfrm>
              <a:off x="6649920" y="3065400"/>
              <a:ext cx="487440" cy="133920"/>
              <a:chOff x="6649920" y="3065400"/>
              <a:chExt cx="487440" cy="133920"/>
            </a:xfrm>
          </p:grpSpPr>
          <p:sp>
            <p:nvSpPr>
              <p:cNvPr id="1037" name="Line 62"/>
              <p:cNvSpPr/>
              <p:nvPr/>
            </p:nvSpPr>
            <p:spPr>
              <a:xfrm flipH="1">
                <a:off x="6649920" y="3065400"/>
                <a:ext cx="48744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63"/>
              <p:cNvSpPr/>
              <p:nvPr/>
            </p:nvSpPr>
            <p:spPr>
              <a:xfrm flipH="1" flipV="1">
                <a:off x="6649920" y="3169440"/>
                <a:ext cx="4593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64"/>
            <p:cNvGrpSpPr/>
            <p:nvPr/>
          </p:nvGrpSpPr>
          <p:grpSpPr>
            <a:xfrm>
              <a:off x="6649920" y="3358440"/>
              <a:ext cx="487440" cy="135360"/>
              <a:chOff x="6649920" y="3358440"/>
              <a:chExt cx="487440" cy="135360"/>
            </a:xfrm>
          </p:grpSpPr>
          <p:sp>
            <p:nvSpPr>
              <p:cNvPr id="1040" name="Line 65"/>
              <p:cNvSpPr/>
              <p:nvPr/>
            </p:nvSpPr>
            <p:spPr>
              <a:xfrm flipH="1">
                <a:off x="6649920" y="3358440"/>
                <a:ext cx="487440" cy="11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66"/>
              <p:cNvSpPr/>
              <p:nvPr/>
            </p:nvSpPr>
            <p:spPr>
              <a:xfrm flipH="1" flipV="1">
                <a:off x="6649920" y="3463560"/>
                <a:ext cx="4593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Group 67"/>
            <p:cNvGrpSpPr/>
            <p:nvPr/>
          </p:nvGrpSpPr>
          <p:grpSpPr>
            <a:xfrm>
              <a:off x="6628680" y="3267720"/>
              <a:ext cx="487440" cy="133920"/>
              <a:chOff x="6628680" y="3267720"/>
              <a:chExt cx="487440" cy="133920"/>
            </a:xfrm>
          </p:grpSpPr>
          <p:sp>
            <p:nvSpPr>
              <p:cNvPr id="1043" name="Line 68"/>
              <p:cNvSpPr/>
              <p:nvPr/>
            </p:nvSpPr>
            <p:spPr>
              <a:xfrm flipH="1">
                <a:off x="6628680" y="3267720"/>
                <a:ext cx="487440" cy="11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Line 69"/>
              <p:cNvSpPr/>
              <p:nvPr/>
            </p:nvSpPr>
            <p:spPr>
              <a:xfrm flipH="1" flipV="1">
                <a:off x="6628680" y="3371760"/>
                <a:ext cx="4593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Rectangle 70"/>
            <p:cNvSpPr/>
            <p:nvPr/>
          </p:nvSpPr>
          <p:spPr>
            <a:xfrm>
              <a:off x="4795920" y="3186000"/>
              <a:ext cx="61056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1700" spc="-1" strike="noStrike" baseline="32000">
                  <a:solidFill>
                    <a:srgbClr val="000000"/>
                  </a:solidFill>
                  <a:latin typeface="Arial"/>
                  <a:ea typeface="Arial"/>
                </a:rPr>
                <a:t>JE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71"/>
            <p:cNvSpPr/>
            <p:nvPr/>
          </p:nvSpPr>
          <p:spPr>
            <a:xfrm flipH="1">
              <a:off x="7112520" y="2923560"/>
              <a:ext cx="315720" cy="550800"/>
            </a:xfrm>
            <a:prstGeom prst="pie">
              <a:avLst/>
            </a:prstGeom>
            <a:solidFill>
              <a:srgbClr val="ff5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2"/>
            <p:cNvSpPr/>
            <p:nvPr/>
          </p:nvSpPr>
          <p:spPr>
            <a:xfrm>
              <a:off x="7113240" y="2923560"/>
              <a:ext cx="126000" cy="55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AutoShape 73"/>
            <p:cNvSpPr/>
            <p:nvPr/>
          </p:nvSpPr>
          <p:spPr>
            <a:xfrm flipH="1">
              <a:off x="7112520" y="3490560"/>
              <a:ext cx="315720" cy="290520"/>
            </a:xfrm>
            <a:prstGeom prst="pie">
              <a:avLst/>
            </a:prstGeom>
            <a:solidFill>
              <a:srgbClr val="47c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74"/>
            <p:cNvSpPr/>
            <p:nvPr/>
          </p:nvSpPr>
          <p:spPr>
            <a:xfrm>
              <a:off x="7113240" y="3490560"/>
              <a:ext cx="12600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75"/>
            <p:cNvSpPr/>
            <p:nvPr/>
          </p:nvSpPr>
          <p:spPr>
            <a:xfrm>
              <a:off x="7545240" y="2741760"/>
              <a:ext cx="125460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rg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/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~15@100Ge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AutoShape 76"/>
            <p:cNvSpPr/>
            <p:nvPr/>
          </p:nvSpPr>
          <p:spPr>
            <a:xfrm rot="18727800">
              <a:off x="5757840" y="3241080"/>
              <a:ext cx="1312920" cy="294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a40800"/>
                  </a:solidFill>
                  <a:latin typeface="Arial"/>
                  <a:ea typeface="Arial"/>
                </a:rPr>
                <a:t>Fragmen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77"/>
            <p:cNvSpPr/>
            <p:nvPr/>
          </p:nvSpPr>
          <p:spPr>
            <a:xfrm>
              <a:off x="7639920" y="3440160"/>
              <a:ext cx="125460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ut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/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~7@100Ge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Rectangle 78"/>
          <p:cNvSpPr/>
          <p:nvPr/>
        </p:nvSpPr>
        <p:spPr>
          <a:xfrm>
            <a:off x="5357880" y="2214720"/>
            <a:ext cx="354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0" lang="en-US" sz="2100" spc="-1" strike="noStrike" baseline="32000">
                <a:solidFill>
                  <a:srgbClr val="000000"/>
                </a:solidFill>
                <a:latin typeface="Arial"/>
                <a:ea typeface="Arial"/>
              </a:rPr>
              <a:t>CHARGED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= -dE</a:t>
            </a:r>
            <a:r>
              <a:rPr b="0" lang="en-US" sz="2100" spc="-1" strike="noStrike" baseline="32000">
                <a:solidFill>
                  <a:srgbClr val="000000"/>
                </a:solidFill>
                <a:latin typeface="Arial"/>
                <a:ea typeface="Arial"/>
              </a:rPr>
              <a:t>NEUT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D25A-84FE-4CC5-BB70-F4164003435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"/>
          <p:cNvGrpSpPr/>
          <p:nvPr/>
        </p:nvGrpSpPr>
        <p:grpSpPr>
          <a:xfrm>
            <a:off x="-158400" y="4222080"/>
            <a:ext cx="4064400" cy="2861640"/>
            <a:chOff x="-158400" y="4222080"/>
            <a:chExt cx="4064400" cy="286164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tretch/>
          </p:blipFill>
          <p:spPr>
            <a:xfrm rot="20880000">
              <a:off x="-17280" y="4500720"/>
              <a:ext cx="2855160" cy="165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" descr=""/>
            <p:cNvPicPr/>
            <p:nvPr/>
          </p:nvPicPr>
          <p:blipFill>
            <a:blip r:embed="rId2"/>
            <a:stretch/>
          </p:blipFill>
          <p:spPr>
            <a:xfrm rot="20760000">
              <a:off x="608400" y="4921560"/>
              <a:ext cx="3124800" cy="181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Line 4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134" name="Oval 8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9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136" name="Group 10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137" name="Line 11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12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13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4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5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6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Freeform 17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8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9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20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147" name="Line 21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2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3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4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5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6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27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154" name="Line 28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29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30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Oval 31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32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159" name="Line 33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34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35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6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What is J-Cal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19320" y="1249200"/>
            <a:ext cx="5180040" cy="560880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268200" indent="-239760">
              <a:lnSpc>
                <a:spcPct val="14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ＤＦＰ太丸ゴシック体"/>
              </a:rPr>
              <a:t>J-Cal consists of 3 super modules of the EMCAL</a:t>
            </a:r>
            <a:endParaRPr b="0" lang="en-US" sz="2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4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ＤＦＰ太丸ゴシック体"/>
              </a:rPr>
              <a:t>Same design, same material, same electronics as the ALICE EMCAL</a:t>
            </a:r>
            <a:endParaRPr b="0" lang="en-US" sz="20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68200" indent="-239760">
              <a:lnSpc>
                <a:spcPct val="14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ＤＦＰ太丸ゴシック体"/>
              </a:rPr>
              <a:t>J-Cal sits on the other side of ALICE EMCAL detecting Back-to back jet</a:t>
            </a:r>
            <a:endParaRPr b="0" lang="en-US" sz="2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2" marL="720720" indent="-206280">
              <a:lnSpc>
                <a:spcPct val="140000"/>
              </a:lnSpc>
              <a:spcBef>
                <a:spcPts val="488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ＤＦＰ太丸ゴシック体"/>
              </a:rPr>
              <a:t>J-Cal, extension of EM-Cal coverage for Jets !!</a:t>
            </a:r>
            <a:endParaRPr b="0" lang="en-US" sz="1800" spc="-1" strike="noStrike">
              <a:solidFill>
                <a:srgbClr val="ff0000"/>
              </a:solidFill>
              <a:latin typeface="ＤＦＰ太丸ゴシック体"/>
            </a:endParaRPr>
          </a:p>
          <a:p>
            <a:pPr lvl="3" marL="722160" indent="0">
              <a:lnSpc>
                <a:spcPct val="14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ＤＦＰ太丸ゴシック体"/>
              </a:rPr>
              <a:t>J as Jet, Japanese,,,</a:t>
            </a:r>
            <a:endParaRPr b="0" lang="en-US" sz="1800" spc="-1" strike="noStrike">
              <a:solidFill>
                <a:srgbClr val="ff0000"/>
              </a:solidFill>
              <a:latin typeface="ＤＦＰ太丸ゴシック体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2D32-CE8A-4BE5-88D8-7321D8ABE02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0" descr=""/>
          <p:cNvPicPr/>
          <p:nvPr/>
        </p:nvPicPr>
        <p:blipFill>
          <a:blip r:embed="rId3"/>
          <a:stretch/>
        </p:blipFill>
        <p:spPr>
          <a:xfrm>
            <a:off x="223920" y="1704960"/>
            <a:ext cx="1963800" cy="2711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1"/>
          <p:cNvSpPr/>
          <p:nvPr/>
        </p:nvSpPr>
        <p:spPr>
          <a:xfrm>
            <a:off x="2065680" y="3456000"/>
            <a:ext cx="107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2"/>
          <p:cNvSpPr/>
          <p:nvPr/>
        </p:nvSpPr>
        <p:spPr>
          <a:xfrm>
            <a:off x="241200" y="1374840"/>
            <a:ext cx="3232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(ΔΦ,Δη) ~ (0.025,0.02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3"/>
          <p:cNvSpPr/>
          <p:nvPr/>
        </p:nvSpPr>
        <p:spPr>
          <a:xfrm>
            <a:off x="588960" y="5211720"/>
            <a:ext cx="209880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3 Super Mod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36 x 24 =864 mod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(ΔΦ,Δη)~(1.0, 0.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4"/>
          <p:cNvSpPr/>
          <p:nvPr/>
        </p:nvSpPr>
        <p:spPr>
          <a:xfrm>
            <a:off x="2475720" y="4125960"/>
            <a:ext cx="73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0000"/>
                </a:solidFill>
                <a:uFillTx/>
                <a:latin typeface="Arial Black"/>
                <a:ea typeface="Arial Black"/>
              </a:rPr>
              <a:t>J-C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スライド番号プレースホルダ 3"/>
          <p:cNvSpPr/>
          <p:nvPr/>
        </p:nvSpPr>
        <p:spPr>
          <a:xfrm>
            <a:off x="8732880" y="6562800"/>
            <a:ext cx="218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1289-A8D5-43C5-9482-AFBD345E9CB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"/>
          <p:cNvSpPr/>
          <p:nvPr/>
        </p:nvSpPr>
        <p:spPr>
          <a:xfrm>
            <a:off x="7313760" y="1062000"/>
            <a:ext cx="1440" cy="449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2"/>
          <p:cNvSpPr/>
          <p:nvPr/>
        </p:nvSpPr>
        <p:spPr>
          <a:xfrm>
            <a:off x="303120" y="2820960"/>
            <a:ext cx="8232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4" descr=""/>
          <p:cNvPicPr/>
          <p:nvPr/>
        </p:nvPicPr>
        <p:blipFill>
          <a:blip r:embed="rId1"/>
          <a:srcRect l="49017" t="50360" r="4370" b="4378"/>
          <a:stretch/>
        </p:blipFill>
        <p:spPr>
          <a:xfrm>
            <a:off x="190440" y="3913200"/>
            <a:ext cx="2660760" cy="250020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6777000" cy="260028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b">
            <a:noAutofit/>
          </a:bodyPr>
          <a:p>
            <a:pPr marL="396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2536c2"/>
                </a:solidFill>
                <a:latin typeface="ＤＦＰ太丸ゴシック体"/>
              </a:rPr>
              <a:t>Backup</a:t>
            </a:r>
            <a:endParaRPr b="0" lang="en-US" sz="5100" spc="-1" strike="noStrike">
              <a:solidFill>
                <a:srgbClr val="2536c2"/>
              </a:solidFill>
              <a:latin typeface="ＤＦＰ太丸ゴシック体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47440" y="3049200"/>
            <a:ext cx="6251400" cy="3808440"/>
          </a:xfrm>
          <a:prstGeom prst="rect">
            <a:avLst/>
          </a:prstGeom>
          <a:noFill/>
          <a:ln w="0">
            <a:noFill/>
          </a:ln>
        </p:spPr>
        <p:txBody>
          <a:bodyPr lIns="35640" rIns="76320" tIns="35640" bIns="35640" anchor="t">
            <a:normAutofit/>
          </a:bodyPr>
          <a:p>
            <a:pPr marL="32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0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16E1-5850-4134-92B4-4BD06651151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81000" y="2179800"/>
            <a:ext cx="4848120" cy="46083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2" descr=""/>
          <p:cNvPicPr/>
          <p:nvPr/>
        </p:nvPicPr>
        <p:blipFill>
          <a:blip r:embed="rId2"/>
          <a:stretch/>
        </p:blipFill>
        <p:spPr>
          <a:xfrm>
            <a:off x="4518000" y="2147760"/>
            <a:ext cx="4937040" cy="4670640"/>
          </a:xfrm>
          <a:prstGeom prst="rect">
            <a:avLst/>
          </a:prstGeom>
          <a:ln w="0">
            <a:noFill/>
          </a:ln>
        </p:spPr>
      </p:pic>
      <p:sp>
        <p:nvSpPr>
          <p:cNvPr id="1063" name="Line 3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4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6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1066" name="Oval 7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8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1068" name="Group 9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1069" name="Line 10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11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12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13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14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15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Freeform 16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7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8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8" name="Group 19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1079" name="Line 20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21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22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23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24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25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5" name="Group 26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1086" name="Line 27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28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29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Oval 30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0" name="Group 31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1091" name="Line 32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33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34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Oval 35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Energy Resolution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096" name="Rectangle 37"/>
          <p:cNvSpPr/>
          <p:nvPr/>
        </p:nvSpPr>
        <p:spPr>
          <a:xfrm>
            <a:off x="1648080" y="2179800"/>
            <a:ext cx="14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c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38"/>
          <p:cNvSpPr/>
          <p:nvPr/>
        </p:nvSpPr>
        <p:spPr>
          <a:xfrm>
            <a:off x="2352960" y="1517760"/>
            <a:ext cx="394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ＤＦＰ太丸ゴシック体"/>
                <a:ea typeface="ＤＦＰ太丸ゴシック体"/>
              </a:rPr>
              <a:t>PYTHIA8, detector resolution inclu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39"/>
          <p:cNvSpPr/>
          <p:nvPr/>
        </p:nvSpPr>
        <p:spPr>
          <a:xfrm>
            <a:off x="6131160" y="2179800"/>
            <a:ext cx="14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c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DE0D-CF56-4C8D-A465-D999590B449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1103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1105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1106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2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5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1116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1123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1128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70920" y="27000"/>
            <a:ext cx="7643880" cy="118728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93ea9"/>
                </a:solidFill>
                <a:latin typeface="ＤＦＰ太丸ゴシック体"/>
              </a:rPr>
              <a:t>Control variables required</a:t>
            </a:r>
            <a:br>
              <a:rPr sz="3100"/>
            </a:br>
            <a:r>
              <a:rPr b="0" lang="en-US" sz="3100" spc="-1" strike="noStrike">
                <a:solidFill>
                  <a:srgbClr val="293ea9"/>
                </a:solidFill>
                <a:latin typeface="ＤＦＰ太丸ゴシック体"/>
              </a:rPr>
              <a:t>for Heavy Ion Exp.</a:t>
            </a:r>
            <a:endParaRPr b="0" lang="en-US" sz="31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01400" y="1445760"/>
            <a:ext cx="8653320" cy="417060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 fontScale="96000"/>
          </a:bodyPr>
          <a:p>
            <a:pPr marL="257400" indent="-23004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Since heavy ion collisions is so complicated, while there is no ‘standard model’, we need to measure heavy ion collisions w. many control variables.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93560" indent="-23328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ＤＦＰ太丸ゴシック体"/>
              </a:rPr>
              <a:t>Centrality</a:t>
            </a: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 / impact parameter of collisions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93560" indent="-23328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ＤＦＰ太丸ゴシック体"/>
              </a:rPr>
              <a:t>Reaction Plane Angle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93560" indent="-23328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ＤＦＰ太丸ゴシック体"/>
              </a:rPr>
              <a:t>Yet, another control variable</a:t>
            </a: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 for the next generation experiments ;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134" name="Rectangle 36"/>
          <p:cNvSpPr/>
          <p:nvPr/>
        </p:nvSpPr>
        <p:spPr>
          <a:xfrm>
            <a:off x="3176640" y="6357960"/>
            <a:ext cx="2120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ＤＦＰ太丸ゴシック体"/>
                <a:ea typeface="ＤＦＰ太丸ゴシック体"/>
              </a:rPr>
              <a:t>→ </a:t>
            </a:r>
            <a:r>
              <a:rPr b="0" lang="en-US" sz="3400" spc="-1" strike="noStrike">
                <a:solidFill>
                  <a:srgbClr val="ff0000"/>
                </a:solidFill>
                <a:latin typeface="ＤＦＰ太丸ゴシック体"/>
                <a:ea typeface="ＤＦＰ太丸ゴシック体"/>
              </a:rPr>
              <a:t>Jet Axi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5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17CB-D860-43B3-B336-9C0BA028295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3"/>
          <p:cNvSpPr/>
          <p:nvPr/>
        </p:nvSpPr>
        <p:spPr>
          <a:xfrm>
            <a:off x="36360" y="6634080"/>
            <a:ext cx="2106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Miake, Mar.,24, 2009 @ C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1140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1142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1143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2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1153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1160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1165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-36360" y="160200"/>
            <a:ext cx="8162640" cy="99216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Budget (Grant in Aid,JSPS)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61960" y="5867280"/>
            <a:ext cx="8537760" cy="91944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268200" indent="-239760">
              <a:lnSpc>
                <a:spcPct val="12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ＤＦＰ太丸ゴシック体"/>
                <a:ea typeface="Apple Symbols"/>
              </a:rPr>
              <a:t>Total of ≲1 M$ in 5 yrs is granted.</a:t>
            </a:r>
            <a:endParaRPr b="0" lang="en-US" sz="1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grpSp>
        <p:nvGrpSpPr>
          <p:cNvPr id="1171" name="Group 36"/>
          <p:cNvGrpSpPr/>
          <p:nvPr/>
        </p:nvGrpSpPr>
        <p:grpSpPr>
          <a:xfrm>
            <a:off x="110160" y="1179360"/>
            <a:ext cx="8971560" cy="4311720"/>
            <a:chOff x="110160" y="1179360"/>
            <a:chExt cx="8971560" cy="4311720"/>
          </a:xfrm>
        </p:grpSpPr>
        <p:grpSp>
          <p:nvGrpSpPr>
            <p:cNvPr id="1172" name="Group 37"/>
            <p:cNvGrpSpPr/>
            <p:nvPr/>
          </p:nvGrpSpPr>
          <p:grpSpPr>
            <a:xfrm>
              <a:off x="944640" y="1537560"/>
              <a:ext cx="7243560" cy="3142080"/>
              <a:chOff x="944640" y="1537560"/>
              <a:chExt cx="7243560" cy="3142080"/>
            </a:xfrm>
          </p:grpSpPr>
          <p:sp>
            <p:nvSpPr>
              <p:cNvPr id="1173" name="Line 38"/>
              <p:cNvSpPr/>
              <p:nvPr/>
            </p:nvSpPr>
            <p:spPr>
              <a:xfrm>
                <a:off x="944640" y="1537560"/>
                <a:ext cx="0" cy="314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39"/>
              <p:cNvSpPr/>
              <p:nvPr/>
            </p:nvSpPr>
            <p:spPr>
              <a:xfrm>
                <a:off x="2392560" y="1537560"/>
                <a:ext cx="0" cy="314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40"/>
              <p:cNvSpPr/>
              <p:nvPr/>
            </p:nvSpPr>
            <p:spPr>
              <a:xfrm>
                <a:off x="3841920" y="1537560"/>
                <a:ext cx="0" cy="314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41"/>
              <p:cNvSpPr/>
              <p:nvPr/>
            </p:nvSpPr>
            <p:spPr>
              <a:xfrm>
                <a:off x="5290200" y="1537560"/>
                <a:ext cx="0" cy="314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42"/>
              <p:cNvSpPr/>
              <p:nvPr/>
            </p:nvSpPr>
            <p:spPr>
              <a:xfrm>
                <a:off x="6739200" y="1537560"/>
                <a:ext cx="0" cy="314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43"/>
              <p:cNvSpPr/>
              <p:nvPr/>
            </p:nvSpPr>
            <p:spPr>
              <a:xfrm flipH="1">
                <a:off x="8187480" y="1537560"/>
                <a:ext cx="720" cy="314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4"/>
            <p:cNvSpPr/>
            <p:nvPr/>
          </p:nvSpPr>
          <p:spPr>
            <a:xfrm>
              <a:off x="1231560" y="1179360"/>
              <a:ext cx="9198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45"/>
            <p:cNvSpPr/>
            <p:nvPr/>
          </p:nvSpPr>
          <p:spPr>
            <a:xfrm>
              <a:off x="2780280" y="1179360"/>
              <a:ext cx="8305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46"/>
            <p:cNvSpPr/>
            <p:nvPr/>
          </p:nvSpPr>
          <p:spPr>
            <a:xfrm>
              <a:off x="4149720" y="1179360"/>
              <a:ext cx="8485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47"/>
            <p:cNvSpPr/>
            <p:nvPr/>
          </p:nvSpPr>
          <p:spPr>
            <a:xfrm>
              <a:off x="5608800" y="1179360"/>
              <a:ext cx="8305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48"/>
            <p:cNvSpPr/>
            <p:nvPr/>
          </p:nvSpPr>
          <p:spPr>
            <a:xfrm>
              <a:off x="7043400" y="1179360"/>
              <a:ext cx="8305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AutoShape 49"/>
            <p:cNvSpPr/>
            <p:nvPr/>
          </p:nvSpPr>
          <p:spPr>
            <a:xfrm>
              <a:off x="1178280" y="2205720"/>
              <a:ext cx="1294560" cy="267480"/>
            </a:xfrm>
            <a:prstGeom prst="rightArrow">
              <a:avLst>
                <a:gd name="adj1" fmla="val 98231"/>
                <a:gd name="adj2" fmla="val 118822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開発・試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AutoShape 50"/>
            <p:cNvSpPr/>
            <p:nvPr/>
          </p:nvSpPr>
          <p:spPr>
            <a:xfrm>
              <a:off x="2401560" y="1920240"/>
              <a:ext cx="2910960" cy="303480"/>
            </a:xfrm>
            <a:prstGeom prst="rightArrow">
              <a:avLst>
                <a:gd name="adj1" fmla="val 98981"/>
                <a:gd name="adj2" fmla="val 65220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検出器製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AutoShape 51"/>
            <p:cNvSpPr/>
            <p:nvPr/>
          </p:nvSpPr>
          <p:spPr>
            <a:xfrm>
              <a:off x="3437640" y="2339640"/>
              <a:ext cx="3840120" cy="231840"/>
            </a:xfrm>
            <a:prstGeom prst="rightArrow">
              <a:avLst>
                <a:gd name="adj1" fmla="val 100000"/>
                <a:gd name="adj2" fmla="val 167477"/>
              </a:avLst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陽子・陽子衝突における測定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AutoShape 52"/>
            <p:cNvSpPr/>
            <p:nvPr/>
          </p:nvSpPr>
          <p:spPr>
            <a:xfrm>
              <a:off x="5223960" y="2589840"/>
              <a:ext cx="3268440" cy="240840"/>
            </a:xfrm>
            <a:prstGeom prst="rightArrow">
              <a:avLst>
                <a:gd name="adj1" fmla="val 100000"/>
                <a:gd name="adj2" fmla="val 161218"/>
              </a:avLst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鉛・鉛衝突における測定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AutoShape 53"/>
            <p:cNvSpPr/>
            <p:nvPr/>
          </p:nvSpPr>
          <p:spPr>
            <a:xfrm>
              <a:off x="151200" y="1857600"/>
              <a:ext cx="1214640" cy="258840"/>
            </a:xfrm>
            <a:prstGeom prst="rightArrow">
              <a:avLst>
                <a:gd name="adj1" fmla="val 100000"/>
                <a:gd name="adj2" fmla="val 150012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設計計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AutoShape 54"/>
            <p:cNvSpPr/>
            <p:nvPr/>
          </p:nvSpPr>
          <p:spPr>
            <a:xfrm>
              <a:off x="6759720" y="2839680"/>
              <a:ext cx="2322000" cy="240840"/>
            </a:xfrm>
            <a:prstGeom prst="leftRightArrow">
              <a:avLst>
                <a:gd name="adj1" fmla="val 100000"/>
                <a:gd name="adj2" fmla="val 116900"/>
              </a:avLst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成果発表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AutoShape 55"/>
            <p:cNvSpPr/>
            <p:nvPr/>
          </p:nvSpPr>
          <p:spPr>
            <a:xfrm rot="5400000">
              <a:off x="1472040" y="1705680"/>
              <a:ext cx="722880" cy="509040"/>
            </a:xfrm>
            <a:prstGeom prst="rightArrow">
              <a:avLst>
                <a:gd name="adj1" fmla="val 70426"/>
                <a:gd name="adj2" fmla="val 7514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テスト実験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AutoShape 56"/>
            <p:cNvSpPr/>
            <p:nvPr/>
          </p:nvSpPr>
          <p:spPr>
            <a:xfrm rot="5400000">
              <a:off x="3208680" y="1683360"/>
              <a:ext cx="740880" cy="553680"/>
            </a:xfrm>
            <a:prstGeom prst="rightArrow">
              <a:avLst>
                <a:gd name="adj1" fmla="val 70426"/>
                <a:gd name="adj2" fmla="val 69104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搬入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57"/>
            <p:cNvSpPr/>
            <p:nvPr/>
          </p:nvSpPr>
          <p:spPr>
            <a:xfrm rot="5400000">
              <a:off x="5106600" y="1670040"/>
              <a:ext cx="740880" cy="580320"/>
            </a:xfrm>
            <a:prstGeom prst="rightArrow">
              <a:avLst>
                <a:gd name="adj1" fmla="val 70426"/>
                <a:gd name="adj2" fmla="val 65932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測定器完成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3" name="Group 58"/>
            <p:cNvGrpSpPr/>
            <p:nvPr/>
          </p:nvGrpSpPr>
          <p:grpSpPr>
            <a:xfrm>
              <a:off x="660240" y="3893040"/>
              <a:ext cx="7546320" cy="1598040"/>
              <a:chOff x="660240" y="3893040"/>
              <a:chExt cx="7546320" cy="1598040"/>
            </a:xfrm>
          </p:grpSpPr>
          <p:sp>
            <p:nvSpPr>
              <p:cNvPr id="1194" name="Rectangle 59"/>
              <p:cNvSpPr/>
              <p:nvPr/>
            </p:nvSpPr>
            <p:spPr>
              <a:xfrm>
                <a:off x="660240" y="3893040"/>
                <a:ext cx="7546320" cy="15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133920" tIns="76320" bIns="76320" anchor="t">
                <a:noAutofit/>
              </a:bodyPr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1 </a:t>
                </a:r>
                <a:r>
                  <a:rPr b="0" lang="ja-JP" sz="1300" spc="-1" strike="noStrike">
                    <a:solidFill>
                      <a:srgbClr val="000000"/>
                    </a:solidFill>
                    <a:latin typeface="Arial"/>
                  </a:rPr>
                  <a:t>渡邊健悟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2 </a:t>
                </a:r>
                <a:r>
                  <a:rPr b="0" lang="ja-JP" sz="1300" spc="-1" strike="noStrike">
                    <a:solidFill>
                      <a:srgbClr val="000000"/>
                    </a:solidFill>
                    <a:latin typeface="Arial"/>
                  </a:rPr>
                  <a:t>佐野正人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2 </a:t>
                </a:r>
                <a:r>
                  <a:rPr b="0" lang="ja-JP" sz="1300" spc="-1" strike="noStrike">
                    <a:solidFill>
                      <a:srgbClr val="000000"/>
                    </a:solidFill>
                    <a:latin typeface="Arial"/>
                  </a:rPr>
                  <a:t>坂田洞察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1 </a:t>
                </a:r>
                <a:r>
                  <a:rPr b="0" lang="ja-JP" sz="1300" spc="-1" strike="noStrike">
                    <a:solidFill>
                      <a:srgbClr val="000000"/>
                    </a:solidFill>
                    <a:latin typeface="Arial"/>
                  </a:rPr>
                  <a:t>横山広樹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1 </a:t>
                </a:r>
                <a:r>
                  <a:rPr b="0" lang="ja-JP" sz="1300" spc="-1" strike="noStrike">
                    <a:solidFill>
                      <a:srgbClr val="000000"/>
                    </a:solidFill>
                    <a:latin typeface="Arial"/>
                  </a:rPr>
                  <a:t>浜田英太郎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1 </a:t>
                </a:r>
                <a:r>
                  <a:rPr b="0" lang="ja-JP" sz="1300" spc="-1" strike="noStrike">
                    <a:solidFill>
                      <a:srgbClr val="000000"/>
                    </a:solidFill>
                    <a:latin typeface="Arial"/>
                  </a:rPr>
                  <a:t>梶谷緑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1 </a:t>
                </a:r>
                <a:r>
                  <a:rPr b="0" lang="ja-JP" sz="1300" spc="-1" strike="noStrike">
                    <a:solidFill>
                      <a:srgbClr val="000000"/>
                    </a:solidFill>
                    <a:latin typeface="Arial"/>
                  </a:rPr>
                  <a:t>轟木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1 </a:t>
                </a:r>
                <a:r>
                  <a:rPr b="0" lang="ja-JP" sz="1300" spc="-1" strike="noStrike">
                    <a:solidFill>
                      <a:srgbClr val="000000"/>
                    </a:solidFill>
                    <a:latin typeface="Arial"/>
                  </a:rPr>
                  <a:t>木村瑞希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60"/>
              <p:cNvSpPr/>
              <p:nvPr/>
            </p:nvSpPr>
            <p:spPr>
              <a:xfrm flipH="1">
                <a:off x="1668960" y="4044600"/>
                <a:ext cx="360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61"/>
              <p:cNvSpPr/>
              <p:nvPr/>
            </p:nvSpPr>
            <p:spPr>
              <a:xfrm flipH="1">
                <a:off x="1668960" y="4223160"/>
                <a:ext cx="511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62"/>
              <p:cNvSpPr/>
              <p:nvPr/>
            </p:nvSpPr>
            <p:spPr>
              <a:xfrm flipH="1">
                <a:off x="1668960" y="4419360"/>
                <a:ext cx="511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63"/>
              <p:cNvSpPr/>
              <p:nvPr/>
            </p:nvSpPr>
            <p:spPr>
              <a:xfrm flipH="1">
                <a:off x="1668600" y="4598280"/>
                <a:ext cx="652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64"/>
              <p:cNvSpPr/>
              <p:nvPr/>
            </p:nvSpPr>
            <p:spPr>
              <a:xfrm flipH="1" flipV="1">
                <a:off x="1866960" y="4802400"/>
                <a:ext cx="632376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65"/>
              <p:cNvSpPr/>
              <p:nvPr/>
            </p:nvSpPr>
            <p:spPr>
              <a:xfrm flipH="1">
                <a:off x="1544040" y="4982040"/>
                <a:ext cx="231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66"/>
              <p:cNvSpPr/>
              <p:nvPr/>
            </p:nvSpPr>
            <p:spPr>
              <a:xfrm flipH="1">
                <a:off x="1544040" y="5151600"/>
                <a:ext cx="663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Line 67"/>
              <p:cNvSpPr/>
              <p:nvPr/>
            </p:nvSpPr>
            <p:spPr>
              <a:xfrm flipH="1">
                <a:off x="1677960" y="5348160"/>
                <a:ext cx="2220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3" name="Rectangle 68"/>
            <p:cNvSpPr/>
            <p:nvPr/>
          </p:nvSpPr>
          <p:spPr>
            <a:xfrm>
              <a:off x="110160" y="3750120"/>
              <a:ext cx="884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133920" tIns="76320" bIns="763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8.4.1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現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AutoShape 69"/>
            <p:cNvSpPr/>
            <p:nvPr/>
          </p:nvSpPr>
          <p:spPr>
            <a:xfrm rot="5400000">
              <a:off x="6374520" y="1669680"/>
              <a:ext cx="740880" cy="580680"/>
            </a:xfrm>
            <a:prstGeom prst="rightArrow">
              <a:avLst>
                <a:gd name="adj1" fmla="val 70426"/>
                <a:gd name="adj2" fmla="val 65891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トリガー導入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70"/>
            <p:cNvSpPr/>
            <p:nvPr/>
          </p:nvSpPr>
          <p:spPr>
            <a:xfrm>
              <a:off x="1490400" y="3241440"/>
              <a:ext cx="892800" cy="249840"/>
            </a:xfrm>
            <a:prstGeom prst="rect">
              <a:avLst/>
            </a:prstGeom>
            <a:noFill/>
            <a:ln w="50760">
              <a:solidFill>
                <a:srgbClr val="f6c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最終製作図面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71"/>
            <p:cNvSpPr/>
            <p:nvPr/>
          </p:nvSpPr>
          <p:spPr>
            <a:xfrm>
              <a:off x="651240" y="2607480"/>
              <a:ext cx="892800" cy="249840"/>
            </a:xfrm>
            <a:prstGeom prst="rect">
              <a:avLst/>
            </a:prstGeom>
            <a:noFill/>
            <a:ln w="50760">
              <a:solidFill>
                <a:srgbClr val="f6c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個別要素試験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72"/>
            <p:cNvSpPr/>
            <p:nvPr/>
          </p:nvSpPr>
          <p:spPr>
            <a:xfrm>
              <a:off x="1151280" y="2937960"/>
              <a:ext cx="1000080" cy="249840"/>
            </a:xfrm>
            <a:prstGeom prst="rect">
              <a:avLst/>
            </a:prstGeom>
            <a:noFill/>
            <a:ln w="50760">
              <a:solidFill>
                <a:srgbClr val="f6c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システムテス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Group 73"/>
            <p:cNvGrpSpPr/>
            <p:nvPr/>
          </p:nvGrpSpPr>
          <p:grpSpPr>
            <a:xfrm>
              <a:off x="2285640" y="2607480"/>
              <a:ext cx="2295000" cy="1017360"/>
              <a:chOff x="2285640" y="2607480"/>
              <a:chExt cx="2295000" cy="1017360"/>
            </a:xfrm>
          </p:grpSpPr>
          <p:sp>
            <p:nvSpPr>
              <p:cNvPr id="1209" name="Rectangle 74"/>
              <p:cNvSpPr/>
              <p:nvPr/>
            </p:nvSpPr>
            <p:spPr>
              <a:xfrm>
                <a:off x="2285640" y="2607480"/>
                <a:ext cx="991440" cy="240840"/>
              </a:xfrm>
              <a:prstGeom prst="rect">
                <a:avLst/>
              </a:prstGeom>
              <a:noFill/>
              <a:ln w="50760">
                <a:solidFill>
                  <a:srgbClr val="f6cc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133920" tIns="76320" bIns="76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800" spc="-1" strike="noStrike">
                    <a:solidFill>
                      <a:srgbClr val="000000"/>
                    </a:solidFill>
                    <a:latin typeface="ＤＦＰ太丸ゴシック体"/>
                    <a:ea typeface="ＤＦＰ太丸ゴシック体"/>
                  </a:rPr>
                  <a:t>第１モジュール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75"/>
              <p:cNvSpPr/>
              <p:nvPr/>
            </p:nvSpPr>
            <p:spPr>
              <a:xfrm>
                <a:off x="2723400" y="2866320"/>
                <a:ext cx="982080" cy="240840"/>
              </a:xfrm>
              <a:prstGeom prst="rect">
                <a:avLst/>
              </a:prstGeom>
              <a:noFill/>
              <a:ln w="50760">
                <a:solidFill>
                  <a:srgbClr val="f6cc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133920" tIns="76320" bIns="76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800" spc="-1" strike="noStrike">
                    <a:solidFill>
                      <a:srgbClr val="000000"/>
                    </a:solidFill>
                    <a:latin typeface="ＤＦＰ太丸ゴシック体"/>
                    <a:ea typeface="ＤＦＰ太丸ゴシック体"/>
                  </a:rPr>
                  <a:t>第２モジュール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Rectangle 76"/>
              <p:cNvSpPr/>
              <p:nvPr/>
            </p:nvSpPr>
            <p:spPr>
              <a:xfrm>
                <a:off x="3160800" y="3125160"/>
                <a:ext cx="982440" cy="240840"/>
              </a:xfrm>
              <a:prstGeom prst="rect">
                <a:avLst/>
              </a:prstGeom>
              <a:noFill/>
              <a:ln w="50760">
                <a:solidFill>
                  <a:srgbClr val="f6cc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133920" tIns="76320" bIns="76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800" spc="-1" strike="noStrike">
                    <a:solidFill>
                      <a:srgbClr val="000000"/>
                    </a:solidFill>
                    <a:latin typeface="ＤＦＰ太丸ゴシック体"/>
                    <a:ea typeface="ＤＦＰ太丸ゴシック体"/>
                  </a:rPr>
                  <a:t>第３モジュール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77"/>
              <p:cNvSpPr/>
              <p:nvPr/>
            </p:nvSpPr>
            <p:spPr>
              <a:xfrm>
                <a:off x="3598560" y="3384000"/>
                <a:ext cx="982080" cy="240840"/>
              </a:xfrm>
              <a:prstGeom prst="rect">
                <a:avLst/>
              </a:prstGeom>
              <a:noFill/>
              <a:ln w="50760">
                <a:solidFill>
                  <a:srgbClr val="f6cc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133920" tIns="76320" bIns="76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800" spc="-1" strike="noStrike">
                    <a:solidFill>
                      <a:srgbClr val="000000"/>
                    </a:solidFill>
                    <a:latin typeface="ＤＦＰ太丸ゴシック体"/>
                    <a:ea typeface="ＤＦＰ太丸ゴシック体"/>
                  </a:rPr>
                  <a:t>第４モジュール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Rectangle 78"/>
            <p:cNvSpPr/>
            <p:nvPr/>
          </p:nvSpPr>
          <p:spPr>
            <a:xfrm>
              <a:off x="2437200" y="3714480"/>
              <a:ext cx="1518120" cy="240840"/>
            </a:xfrm>
            <a:prstGeom prst="rect">
              <a:avLst/>
            </a:prstGeom>
            <a:noFill/>
            <a:ln w="50760">
              <a:solidFill>
                <a:srgbClr val="8af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解析プログラム開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79"/>
            <p:cNvSpPr/>
            <p:nvPr/>
          </p:nvSpPr>
          <p:spPr>
            <a:xfrm>
              <a:off x="597600" y="3535920"/>
              <a:ext cx="1776960" cy="240840"/>
            </a:xfrm>
            <a:prstGeom prst="rect">
              <a:avLst/>
            </a:prstGeom>
            <a:noFill/>
            <a:ln w="50760">
              <a:solidFill>
                <a:srgbClr val="8af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GEANT4</a:t>
              </a: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開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80"/>
            <p:cNvSpPr/>
            <p:nvPr/>
          </p:nvSpPr>
          <p:spPr>
            <a:xfrm>
              <a:off x="4009320" y="3714480"/>
              <a:ext cx="1419840" cy="240840"/>
            </a:xfrm>
            <a:prstGeom prst="rect">
              <a:avLst/>
            </a:prstGeom>
            <a:noFill/>
            <a:ln w="50760">
              <a:solidFill>
                <a:srgbClr val="8af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トリガープログラム開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81"/>
            <p:cNvSpPr/>
            <p:nvPr/>
          </p:nvSpPr>
          <p:spPr>
            <a:xfrm>
              <a:off x="5045040" y="3402000"/>
              <a:ext cx="1518120" cy="240840"/>
            </a:xfrm>
            <a:prstGeom prst="rect">
              <a:avLst/>
            </a:prstGeom>
            <a:noFill/>
            <a:ln w="50760">
              <a:solidFill>
                <a:srgbClr val="8af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トリガープログラム試験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82"/>
            <p:cNvSpPr/>
            <p:nvPr/>
          </p:nvSpPr>
          <p:spPr>
            <a:xfrm>
              <a:off x="3866040" y="2804040"/>
              <a:ext cx="1205640" cy="240840"/>
            </a:xfrm>
            <a:prstGeom prst="rect">
              <a:avLst/>
            </a:prstGeom>
            <a:noFill/>
            <a:ln w="50760">
              <a:solidFill>
                <a:srgbClr val="e96e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ｐｐ物理解析・評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83"/>
            <p:cNvSpPr/>
            <p:nvPr/>
          </p:nvSpPr>
          <p:spPr>
            <a:xfrm>
              <a:off x="4661280" y="3089520"/>
              <a:ext cx="1303920" cy="240840"/>
            </a:xfrm>
            <a:prstGeom prst="rect">
              <a:avLst/>
            </a:prstGeom>
            <a:noFill/>
            <a:ln w="50760">
              <a:solidFill>
                <a:srgbClr val="e96e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PbPb</a:t>
              </a: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物理解析・評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84"/>
            <p:cNvSpPr/>
            <p:nvPr/>
          </p:nvSpPr>
          <p:spPr>
            <a:xfrm>
              <a:off x="6179400" y="3107520"/>
              <a:ext cx="1187640" cy="240840"/>
            </a:xfrm>
            <a:prstGeom prst="rect">
              <a:avLst/>
            </a:prstGeom>
            <a:noFill/>
            <a:ln w="50760">
              <a:solidFill>
                <a:srgbClr val="e96e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39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Tomography</a:t>
              </a:r>
              <a:r>
                <a:rPr b="0" lang="ja-JP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解析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Picture 1" descr=""/>
          <p:cNvPicPr/>
          <p:nvPr/>
        </p:nvPicPr>
        <p:blipFill>
          <a:blip r:embed="rId1"/>
          <a:srcRect l="7691" t="8450" r="8621" b="17084"/>
          <a:stretch/>
        </p:blipFill>
        <p:spPr>
          <a:xfrm>
            <a:off x="303120" y="303120"/>
            <a:ext cx="8840880" cy="6296040"/>
          </a:xfrm>
          <a:prstGeom prst="rect">
            <a:avLst/>
          </a:prstGeom>
          <a:ln w="0">
            <a:noFill/>
          </a:ln>
        </p:spPr>
      </p:pic>
      <p:sp>
        <p:nvSpPr>
          <p:cNvPr id="1221" name="Rectangle 2"/>
          <p:cNvSpPr/>
          <p:nvPr/>
        </p:nvSpPr>
        <p:spPr>
          <a:xfrm>
            <a:off x="3732120" y="5715000"/>
            <a:ext cx="138456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loor in L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3"/>
          <p:cNvSpPr/>
          <p:nvPr/>
        </p:nvSpPr>
        <p:spPr>
          <a:xfrm>
            <a:off x="1446120" y="3581280"/>
            <a:ext cx="77796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h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4"/>
          <p:cNvSpPr/>
          <p:nvPr/>
        </p:nvSpPr>
        <p:spPr>
          <a:xfrm flipH="1" flipV="1">
            <a:off x="3196800" y="5411520"/>
            <a:ext cx="606600" cy="384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5"/>
          <p:cNvSpPr/>
          <p:nvPr/>
        </p:nvSpPr>
        <p:spPr>
          <a:xfrm>
            <a:off x="6626160" y="5411880"/>
            <a:ext cx="1616040" cy="31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cces A si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6"/>
          <p:cNvSpPr/>
          <p:nvPr/>
        </p:nvSpPr>
        <p:spPr>
          <a:xfrm flipV="1">
            <a:off x="7466040" y="4419720"/>
            <a:ext cx="0" cy="992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7"/>
          <p:cNvSpPr/>
          <p:nvPr/>
        </p:nvSpPr>
        <p:spPr>
          <a:xfrm flipV="1">
            <a:off x="7465320" y="1829880"/>
            <a:ext cx="1143000" cy="358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8"/>
          <p:cNvSpPr/>
          <p:nvPr/>
        </p:nvSpPr>
        <p:spPr>
          <a:xfrm>
            <a:off x="3660840" y="2205000"/>
            <a:ext cx="16160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. Panel on baby fr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"/>
          <p:cNvSpPr/>
          <p:nvPr/>
        </p:nvSpPr>
        <p:spPr>
          <a:xfrm>
            <a:off x="4419720" y="2820960"/>
            <a:ext cx="23328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1" descr=""/>
          <p:cNvPicPr/>
          <p:nvPr/>
        </p:nvPicPr>
        <p:blipFill>
          <a:blip r:embed="rId1"/>
          <a:srcRect l="14198" t="19237" r="20900" b="27609"/>
          <a:stretch/>
        </p:blipFill>
        <p:spPr>
          <a:xfrm>
            <a:off x="0" y="56988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1230" name="Line 2"/>
          <p:cNvSpPr/>
          <p:nvPr/>
        </p:nvSpPr>
        <p:spPr>
          <a:xfrm flipV="1">
            <a:off x="4268880" y="502740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3"/>
          <p:cNvSpPr/>
          <p:nvPr/>
        </p:nvSpPr>
        <p:spPr>
          <a:xfrm flipV="1">
            <a:off x="3812400" y="4268520"/>
            <a:ext cx="1800" cy="1901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4"/>
          <p:cNvSpPr/>
          <p:nvPr/>
        </p:nvSpPr>
        <p:spPr>
          <a:xfrm flipV="1">
            <a:off x="4955400" y="5180040"/>
            <a:ext cx="1800" cy="990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5"/>
          <p:cNvSpPr/>
          <p:nvPr/>
        </p:nvSpPr>
        <p:spPr>
          <a:xfrm rot="16200000">
            <a:off x="3197160" y="5187600"/>
            <a:ext cx="77652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56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6"/>
          <p:cNvSpPr/>
          <p:nvPr/>
        </p:nvSpPr>
        <p:spPr>
          <a:xfrm rot="16200000">
            <a:off x="4112280" y="5411160"/>
            <a:ext cx="625680" cy="31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7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7"/>
          <p:cNvSpPr/>
          <p:nvPr/>
        </p:nvSpPr>
        <p:spPr>
          <a:xfrm rot="16200000">
            <a:off x="4871160" y="5567760"/>
            <a:ext cx="625320" cy="31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77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Picture 1" descr=""/>
          <p:cNvPicPr/>
          <p:nvPr/>
        </p:nvPicPr>
        <p:blipFill>
          <a:blip r:embed="rId1"/>
          <a:srcRect l="8692" t="7582" r="6950" b="14157"/>
          <a:stretch/>
        </p:blipFill>
        <p:spPr>
          <a:xfrm>
            <a:off x="152280" y="171360"/>
            <a:ext cx="8839440" cy="6562800"/>
          </a:xfrm>
          <a:prstGeom prst="rect">
            <a:avLst/>
          </a:prstGeom>
          <a:ln w="0">
            <a:noFill/>
          </a:ln>
        </p:spPr>
      </p:pic>
      <p:sp>
        <p:nvSpPr>
          <p:cNvPr id="1237" name="Line 2"/>
          <p:cNvSpPr/>
          <p:nvPr/>
        </p:nvSpPr>
        <p:spPr>
          <a:xfrm flipV="1">
            <a:off x="1829520" y="302760"/>
            <a:ext cx="1800" cy="5411880"/>
          </a:xfrm>
          <a:prstGeom prst="line">
            <a:avLst/>
          </a:prstGeom>
          <a:ln w="381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3"/>
          <p:cNvSpPr/>
          <p:nvPr/>
        </p:nvSpPr>
        <p:spPr>
          <a:xfrm>
            <a:off x="1830240" y="4803840"/>
            <a:ext cx="1224000" cy="1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4"/>
          <p:cNvSpPr/>
          <p:nvPr/>
        </p:nvSpPr>
        <p:spPr>
          <a:xfrm>
            <a:off x="2115000" y="3044880"/>
            <a:ext cx="56268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2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5"/>
          <p:cNvSpPr/>
          <p:nvPr/>
        </p:nvSpPr>
        <p:spPr>
          <a:xfrm>
            <a:off x="1830240" y="3510000"/>
            <a:ext cx="12956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6"/>
          <p:cNvSpPr/>
          <p:nvPr/>
        </p:nvSpPr>
        <p:spPr>
          <a:xfrm>
            <a:off x="2107080" y="4875120"/>
            <a:ext cx="56268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18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7"/>
          <p:cNvSpPr/>
          <p:nvPr/>
        </p:nvSpPr>
        <p:spPr>
          <a:xfrm>
            <a:off x="3044880" y="4037040"/>
            <a:ext cx="38844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8"/>
          <p:cNvSpPr/>
          <p:nvPr/>
        </p:nvSpPr>
        <p:spPr>
          <a:xfrm>
            <a:off x="4473360" y="3581280"/>
            <a:ext cx="56268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7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9"/>
          <p:cNvSpPr/>
          <p:nvPr/>
        </p:nvSpPr>
        <p:spPr>
          <a:xfrm>
            <a:off x="6939000" y="4268880"/>
            <a:ext cx="12222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10"/>
          <p:cNvSpPr/>
          <p:nvPr/>
        </p:nvSpPr>
        <p:spPr>
          <a:xfrm>
            <a:off x="7215840" y="3813120"/>
            <a:ext cx="56268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14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2215-BAA9-4A88-A5F7-DE33B39C756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1250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1252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1253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9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2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1263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9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1270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4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1275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Possibility of Parton ID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490640" y="1231560"/>
            <a:ext cx="4653000" cy="541188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 fontScale="92000"/>
          </a:bodyPr>
          <a:p>
            <a:pPr marL="246600" indent="-22032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ＤＦＰ太丸ゴシック体"/>
              </a:rPr>
              <a:t>As a new generation exp., from Particle ID to Parton ID !</a:t>
            </a:r>
            <a:endParaRPr b="0" lang="en-US" sz="26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73040" indent="-22356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ＤＦＰ太丸ゴシック体"/>
              </a:rPr>
              <a:t>According to CDF exp., charged/neutral works</a:t>
            </a:r>
            <a:endParaRPr b="0" lang="en-US" sz="26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46600" indent="-22032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ＤＦＰ太丸ゴシック体"/>
              </a:rPr>
              <a:t>Might be very difficult in heavy ion environment</a:t>
            </a:r>
            <a:endParaRPr b="0" lang="en-US" sz="26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46600" indent="-22032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ＤＦＰ太丸ゴシック体"/>
              </a:rPr>
              <a:t>Nevertheless, challenge!</a:t>
            </a:r>
            <a:endParaRPr b="0" lang="en-US" sz="26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46600" indent="-22032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ＤＦＰ太丸ゴシック体"/>
              </a:rPr>
              <a:t>It becomes feasible for higher p</a:t>
            </a:r>
            <a:r>
              <a:rPr b="0" lang="en-US" sz="2600" spc="-1" strike="noStrike" baseline="-6000">
                <a:solidFill>
                  <a:srgbClr val="000000"/>
                </a:solidFill>
                <a:latin typeface="ＤＦＰ太丸ゴシック体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ＤＦＰ太丸ゴシック体"/>
              </a:rPr>
              <a:t> jet</a:t>
            </a:r>
            <a:endParaRPr b="0" lang="en-US" sz="26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281" name="Text Box 36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CF4F-965E-4C28-B5D8-D554F4EED08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Picture 37" descr=""/>
          <p:cNvPicPr/>
          <p:nvPr/>
        </p:nvPicPr>
        <p:blipFill>
          <a:blip r:embed="rId1"/>
          <a:stretch/>
        </p:blipFill>
        <p:spPr>
          <a:xfrm>
            <a:off x="106200" y="1971720"/>
            <a:ext cx="4259520" cy="40910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8"/>
          <p:cNvSpPr/>
          <p:nvPr/>
        </p:nvSpPr>
        <p:spPr>
          <a:xfrm>
            <a:off x="687240" y="1544760"/>
            <a:ext cx="33498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94320" tIns="53640" bIns="53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ＤＦＰ太丸ゴシック体"/>
                <a:ea typeface="ＤＦＰ太丸ゴシック体"/>
              </a:rPr>
              <a:t>CDF, PRL94(2005)1718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39"/>
          <p:cNvSpPr/>
          <p:nvPr/>
        </p:nvSpPr>
        <p:spPr>
          <a:xfrm>
            <a:off x="1390320" y="3687840"/>
            <a:ext cx="123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gluon 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40"/>
          <p:cNvSpPr/>
          <p:nvPr/>
        </p:nvSpPr>
        <p:spPr>
          <a:xfrm>
            <a:off x="2950920" y="4643280"/>
            <a:ext cx="124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quark 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ED0F-102B-4A17-9E8C-A0887D5BF09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1290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1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1292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1293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2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1303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9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1310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4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1315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319" name="Picture 34" descr=""/>
          <p:cNvPicPr/>
          <p:nvPr/>
        </p:nvPicPr>
        <p:blipFill>
          <a:blip r:embed="rId1"/>
          <a:stretch/>
        </p:blipFill>
        <p:spPr>
          <a:xfrm>
            <a:off x="4714920" y="1506600"/>
            <a:ext cx="3419280" cy="2565360"/>
          </a:xfrm>
          <a:prstGeom prst="rect">
            <a:avLst/>
          </a:prstGeom>
          <a:ln w="0">
            <a:noFill/>
          </a:ln>
        </p:spPr>
      </p:pic>
      <p:sp>
        <p:nvSpPr>
          <p:cNvPr id="1320" name="Rectangle 35"/>
          <p:cNvSpPr/>
          <p:nvPr/>
        </p:nvSpPr>
        <p:spPr>
          <a:xfrm>
            <a:off x="6512040" y="1312920"/>
            <a:ext cx="3044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ＤＦＰ太丸ゴシック体"/>
                <a:ea typeface="ＤＦＰ太丸ゴシック体"/>
              </a:rPr>
              <a:t>STAR, arXiv:nucl-ex/070107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96560" y="115920"/>
            <a:ext cx="7767720" cy="112536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ＤＦＰ太丸ゴシック体"/>
              </a:rPr>
              <a:t>Scenario at RHIC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367160" y="4133880"/>
            <a:ext cx="4749840" cy="251928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268200" indent="-239760">
              <a:lnSpc>
                <a:spcPct val="11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ＤＦＰ太丸ゴシック体"/>
              </a:rPr>
              <a:t>Claims</a:t>
            </a:r>
            <a:endParaRPr b="0" lang="en-US" sz="21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1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ＤＦＰ太丸ゴシック体"/>
              </a:rPr>
              <a:t>Stopped parton is the source of ridge as well as Mach cone.</a:t>
            </a:r>
            <a:endParaRPr b="0" lang="en-US" sz="18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1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ＤＦＰ太丸ゴシック体"/>
              </a:rPr>
              <a:t>This happens only at the surface</a:t>
            </a:r>
            <a:endParaRPr b="0" lang="en-US" sz="18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1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ＤＦＰ太丸ゴシック体"/>
              </a:rPr>
              <a:t>There should be velocity boost at the ridge region (pi,K,p)</a:t>
            </a:r>
            <a:endParaRPr b="0" lang="en-US" sz="18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1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ＤＦＰ太丸ゴシック体"/>
              </a:rPr>
              <a:t>v3 components independent of R.P.</a:t>
            </a:r>
            <a:endParaRPr b="0" lang="en-US" sz="1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pic>
        <p:nvPicPr>
          <p:cNvPr id="1323" name="Picture 38" descr=""/>
          <p:cNvPicPr/>
          <p:nvPr/>
        </p:nvPicPr>
        <p:blipFill>
          <a:blip r:embed="rId2"/>
          <a:srcRect l="8866" t="2908" r="21512" b="3102"/>
          <a:stretch/>
        </p:blipFill>
        <p:spPr>
          <a:xfrm>
            <a:off x="54000" y="1785960"/>
            <a:ext cx="4276800" cy="4330800"/>
          </a:xfrm>
          <a:prstGeom prst="rect">
            <a:avLst/>
          </a:prstGeom>
          <a:ln w="0">
            <a:noFill/>
          </a:ln>
        </p:spPr>
      </p:pic>
      <p:sp>
        <p:nvSpPr>
          <p:cNvPr id="1324" name="Rectangle 39"/>
          <p:cNvSpPr/>
          <p:nvPr/>
        </p:nvSpPr>
        <p:spPr>
          <a:xfrm>
            <a:off x="187200" y="1303200"/>
            <a:ext cx="4010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ＤＦＰ太丸ゴシック体"/>
                <a:ea typeface="ＤＦＰ太丸ゴシック体"/>
              </a:rPr>
              <a:t>V.S. Pantuev, arXiv:hep-ph/0701.1882v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Group 40"/>
          <p:cNvGrpSpPr/>
          <p:nvPr/>
        </p:nvGrpSpPr>
        <p:grpSpPr>
          <a:xfrm>
            <a:off x="1114560" y="2674800"/>
            <a:ext cx="1743120" cy="239760"/>
            <a:chOff x="1114560" y="2674800"/>
            <a:chExt cx="1743120" cy="239760"/>
          </a:xfrm>
        </p:grpSpPr>
        <p:sp>
          <p:nvSpPr>
            <p:cNvPr id="1326" name="Line 41"/>
            <p:cNvSpPr/>
            <p:nvPr/>
          </p:nvSpPr>
          <p:spPr>
            <a:xfrm flipH="1">
              <a:off x="1114560" y="2676960"/>
              <a:ext cx="1743120" cy="23184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42"/>
            <p:cNvSpPr/>
            <p:nvPr/>
          </p:nvSpPr>
          <p:spPr>
            <a:xfrm>
              <a:off x="1864800" y="2674800"/>
              <a:ext cx="239040" cy="239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38AB-325A-4275-8FD4-D5F96D48B53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1332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3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1334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1335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4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1345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1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1352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6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1357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88560" y="-18000"/>
            <a:ext cx="7643880" cy="118764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At higher energies, 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608360" y="2169720"/>
            <a:ext cx="4446720" cy="412596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268200" indent="-2397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Dijets with energy un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68200" indent="-2397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Mach cone with away side jet.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68200" indent="-2397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Higher, the better;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Clear separation in momentum and φ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pic>
        <p:nvPicPr>
          <p:cNvPr id="1363" name="Picture 36" descr=""/>
          <p:cNvPicPr/>
          <p:nvPr/>
        </p:nvPicPr>
        <p:blipFill>
          <a:blip r:embed="rId1"/>
          <a:srcRect l="8866" t="2908" r="21512" b="3102"/>
          <a:stretch/>
        </p:blipFill>
        <p:spPr>
          <a:xfrm>
            <a:off x="133200" y="1982880"/>
            <a:ext cx="4278600" cy="4330440"/>
          </a:xfrm>
          <a:prstGeom prst="rect">
            <a:avLst/>
          </a:prstGeom>
          <a:ln w="0">
            <a:noFill/>
          </a:ln>
        </p:spPr>
      </p:pic>
      <p:sp>
        <p:nvSpPr>
          <p:cNvPr id="1364" name="Rectangle 37"/>
          <p:cNvSpPr/>
          <p:nvPr/>
        </p:nvSpPr>
        <p:spPr>
          <a:xfrm>
            <a:off x="268200" y="1392120"/>
            <a:ext cx="40086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ＤＦＰ太丸ゴシック体"/>
                <a:ea typeface="ＤＦＰ太丸ゴシック体"/>
              </a:rPr>
              <a:t>V.S. Pantuev, arXiv:hep-ph/0701.1882v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Group 38"/>
          <p:cNvGrpSpPr/>
          <p:nvPr/>
        </p:nvGrpSpPr>
        <p:grpSpPr>
          <a:xfrm>
            <a:off x="12600" y="2389320"/>
            <a:ext cx="3999600" cy="3511440"/>
            <a:chOff x="12600" y="2389320"/>
            <a:chExt cx="3999600" cy="3511440"/>
          </a:xfrm>
        </p:grpSpPr>
        <p:sp>
          <p:nvSpPr>
            <p:cNvPr id="1366" name="Line 39"/>
            <p:cNvSpPr/>
            <p:nvPr/>
          </p:nvSpPr>
          <p:spPr>
            <a:xfrm flipH="1">
              <a:off x="764280" y="2748600"/>
              <a:ext cx="2998440" cy="205992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40"/>
            <p:cNvSpPr/>
            <p:nvPr/>
          </p:nvSpPr>
          <p:spPr>
            <a:xfrm>
              <a:off x="2489400" y="3453120"/>
              <a:ext cx="237600" cy="237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Line 41"/>
            <p:cNvSpPr/>
            <p:nvPr/>
          </p:nvSpPr>
          <p:spPr>
            <a:xfrm flipH="1">
              <a:off x="1320840" y="3616200"/>
              <a:ext cx="1159920" cy="8082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42"/>
            <p:cNvSpPr/>
            <p:nvPr/>
          </p:nvSpPr>
          <p:spPr>
            <a:xfrm flipH="1">
              <a:off x="2687040" y="3275640"/>
              <a:ext cx="308880" cy="2109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43"/>
            <p:cNvSpPr/>
            <p:nvPr/>
          </p:nvSpPr>
          <p:spPr>
            <a:xfrm flipV="1">
              <a:off x="1716480" y="4116240"/>
              <a:ext cx="66600" cy="1667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44"/>
            <p:cNvSpPr/>
            <p:nvPr/>
          </p:nvSpPr>
          <p:spPr>
            <a:xfrm flipV="1">
              <a:off x="2369160" y="3714120"/>
              <a:ext cx="66960" cy="1667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45"/>
            <p:cNvSpPr/>
            <p:nvPr/>
          </p:nvSpPr>
          <p:spPr>
            <a:xfrm flipV="1">
              <a:off x="2252880" y="3866040"/>
              <a:ext cx="66960" cy="1667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Line 46"/>
            <p:cNvSpPr/>
            <p:nvPr/>
          </p:nvSpPr>
          <p:spPr>
            <a:xfrm flipV="1">
              <a:off x="2083320" y="3946320"/>
              <a:ext cx="66960" cy="1667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Line 47"/>
            <p:cNvSpPr/>
            <p:nvPr/>
          </p:nvSpPr>
          <p:spPr>
            <a:xfrm flipV="1">
              <a:off x="1886760" y="4026600"/>
              <a:ext cx="66960" cy="1667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48"/>
            <p:cNvSpPr/>
            <p:nvPr/>
          </p:nvSpPr>
          <p:spPr>
            <a:xfrm flipV="1">
              <a:off x="1547280" y="4232520"/>
              <a:ext cx="66960" cy="16682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Line 49"/>
            <p:cNvSpPr/>
            <p:nvPr/>
          </p:nvSpPr>
          <p:spPr>
            <a:xfrm>
              <a:off x="995040" y="3106080"/>
              <a:ext cx="1458720" cy="5547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50"/>
            <p:cNvSpPr/>
            <p:nvPr/>
          </p:nvSpPr>
          <p:spPr>
            <a:xfrm>
              <a:off x="825120" y="3150360"/>
              <a:ext cx="1459080" cy="5547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51"/>
            <p:cNvSpPr/>
            <p:nvPr/>
          </p:nvSpPr>
          <p:spPr>
            <a:xfrm>
              <a:off x="673560" y="3293640"/>
              <a:ext cx="1458720" cy="5547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52"/>
            <p:cNvSpPr/>
            <p:nvPr/>
          </p:nvSpPr>
          <p:spPr>
            <a:xfrm>
              <a:off x="521640" y="3418560"/>
              <a:ext cx="1458720" cy="5544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Line 53"/>
            <p:cNvSpPr/>
            <p:nvPr/>
          </p:nvSpPr>
          <p:spPr>
            <a:xfrm>
              <a:off x="316080" y="3498840"/>
              <a:ext cx="1459080" cy="5547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Line 54"/>
            <p:cNvSpPr/>
            <p:nvPr/>
          </p:nvSpPr>
          <p:spPr>
            <a:xfrm>
              <a:off x="128520" y="3624120"/>
              <a:ext cx="1458720" cy="5547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55"/>
            <p:cNvSpPr/>
            <p:nvPr/>
          </p:nvSpPr>
          <p:spPr>
            <a:xfrm>
              <a:off x="12600" y="3749040"/>
              <a:ext cx="1459080" cy="5547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56"/>
            <p:cNvSpPr/>
            <p:nvPr/>
          </p:nvSpPr>
          <p:spPr>
            <a:xfrm>
              <a:off x="995040" y="3106080"/>
              <a:ext cx="1458720" cy="5547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4" name="Group 57"/>
            <p:cNvGrpSpPr/>
            <p:nvPr/>
          </p:nvGrpSpPr>
          <p:grpSpPr>
            <a:xfrm>
              <a:off x="3025440" y="2389320"/>
              <a:ext cx="986760" cy="842400"/>
              <a:chOff x="3025440" y="2389320"/>
              <a:chExt cx="986760" cy="842400"/>
            </a:xfrm>
          </p:grpSpPr>
          <p:sp>
            <p:nvSpPr>
              <p:cNvPr id="1385" name="Line 58"/>
              <p:cNvSpPr/>
              <p:nvPr/>
            </p:nvSpPr>
            <p:spPr>
              <a:xfrm flipH="1">
                <a:off x="3025440" y="2705040"/>
                <a:ext cx="316080" cy="5090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59"/>
              <p:cNvSpPr/>
              <p:nvPr/>
            </p:nvSpPr>
            <p:spPr>
              <a:xfrm flipH="1">
                <a:off x="3105360" y="2958480"/>
                <a:ext cx="906840" cy="2732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60"/>
              <p:cNvSpPr/>
              <p:nvPr/>
            </p:nvSpPr>
            <p:spPr>
              <a:xfrm flipH="1">
                <a:off x="3230280" y="2389320"/>
                <a:ext cx="590040" cy="7088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1"/>
              <p:cNvSpPr/>
              <p:nvPr/>
            </p:nvSpPr>
            <p:spPr>
              <a:xfrm flipH="1">
                <a:off x="3312000" y="2914920"/>
                <a:ext cx="441000" cy="154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Group 62"/>
            <p:cNvGrpSpPr/>
            <p:nvPr/>
          </p:nvGrpSpPr>
          <p:grpSpPr>
            <a:xfrm>
              <a:off x="248040" y="4541760"/>
              <a:ext cx="987480" cy="842400"/>
              <a:chOff x="248040" y="4541760"/>
              <a:chExt cx="987480" cy="842400"/>
            </a:xfrm>
          </p:grpSpPr>
          <p:sp>
            <p:nvSpPr>
              <p:cNvPr id="1390" name="Line 63"/>
              <p:cNvSpPr/>
              <p:nvPr/>
            </p:nvSpPr>
            <p:spPr>
              <a:xfrm flipV="1">
                <a:off x="919440" y="4559400"/>
                <a:ext cx="316080" cy="5090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Line 64"/>
              <p:cNvSpPr/>
              <p:nvPr/>
            </p:nvSpPr>
            <p:spPr>
              <a:xfrm flipV="1">
                <a:off x="248040" y="4541760"/>
                <a:ext cx="907200" cy="2732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Line 65"/>
              <p:cNvSpPr/>
              <p:nvPr/>
            </p:nvSpPr>
            <p:spPr>
              <a:xfrm flipV="1">
                <a:off x="440640" y="4675320"/>
                <a:ext cx="590040" cy="7088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Line 66"/>
              <p:cNvSpPr/>
              <p:nvPr/>
            </p:nvSpPr>
            <p:spPr>
              <a:xfrm flipV="1">
                <a:off x="507240" y="4704480"/>
                <a:ext cx="441360" cy="154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174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176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177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187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194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199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3" name="Rectangle 34"/>
          <p:cNvSpPr/>
          <p:nvPr/>
        </p:nvSpPr>
        <p:spPr>
          <a:xfrm>
            <a:off x="8858880" y="6634080"/>
            <a:ext cx="15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V="1">
            <a:off x="152280" y="1221840"/>
            <a:ext cx="8839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7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207" name="Oval 38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39"/>
            <p:cNvGrpSpPr/>
            <p:nvPr/>
          </p:nvGrpSpPr>
          <p:grpSpPr>
            <a:xfrm>
              <a:off x="7909200" y="20160"/>
              <a:ext cx="1211040" cy="1111320"/>
              <a:chOff x="7909200" y="20160"/>
              <a:chExt cx="1211040" cy="1111320"/>
            </a:xfrm>
          </p:grpSpPr>
          <p:grpSp>
            <p:nvGrpSpPr>
              <p:cNvPr id="209" name="Group 40"/>
              <p:cNvGrpSpPr/>
              <p:nvPr/>
            </p:nvGrpSpPr>
            <p:grpSpPr>
              <a:xfrm>
                <a:off x="8276040" y="813240"/>
                <a:ext cx="169560" cy="318240"/>
                <a:chOff x="8276040" y="813240"/>
                <a:chExt cx="169560" cy="318240"/>
              </a:xfrm>
            </p:grpSpPr>
            <p:sp>
              <p:nvSpPr>
                <p:cNvPr id="210" name="Line 41"/>
                <p:cNvSpPr/>
                <p:nvPr/>
              </p:nvSpPr>
              <p:spPr>
                <a:xfrm flipH="1">
                  <a:off x="8322840" y="816480"/>
                  <a:ext cx="7596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42"/>
                <p:cNvSpPr/>
                <p:nvPr/>
              </p:nvSpPr>
              <p:spPr>
                <a:xfrm flipH="1">
                  <a:off x="8327160" y="829800"/>
                  <a:ext cx="5364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43"/>
                <p:cNvSpPr/>
                <p:nvPr/>
              </p:nvSpPr>
              <p:spPr>
                <a:xfrm flipH="1">
                  <a:off x="8291520" y="828720"/>
                  <a:ext cx="8460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44"/>
                <p:cNvSpPr/>
                <p:nvPr/>
              </p:nvSpPr>
              <p:spPr>
                <a:xfrm flipH="1">
                  <a:off x="8276040" y="813240"/>
                  <a:ext cx="11484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45"/>
                <p:cNvSpPr/>
                <p:nvPr/>
              </p:nvSpPr>
              <p:spPr>
                <a:xfrm flipH="1">
                  <a:off x="8400960" y="82764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46"/>
                <p:cNvSpPr/>
                <p:nvPr/>
              </p:nvSpPr>
              <p:spPr>
                <a:xfrm>
                  <a:off x="8418960" y="821880"/>
                  <a:ext cx="2664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Freeform 47"/>
              <p:cNvSpPr/>
              <p:nvPr/>
            </p:nvSpPr>
            <p:spPr>
              <a:xfrm>
                <a:off x="8047440" y="352080"/>
                <a:ext cx="569160" cy="19296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8"/>
              <p:cNvSpPr/>
              <p:nvPr/>
            </p:nvSpPr>
            <p:spPr>
              <a:xfrm>
                <a:off x="8495280" y="555120"/>
                <a:ext cx="3312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9"/>
              <p:cNvSpPr/>
              <p:nvPr/>
            </p:nvSpPr>
            <p:spPr>
              <a:xfrm rot="10800000">
                <a:off x="8409960" y="616680"/>
                <a:ext cx="569160" cy="19296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Group 50"/>
              <p:cNvGrpSpPr/>
              <p:nvPr/>
            </p:nvGrpSpPr>
            <p:grpSpPr>
              <a:xfrm>
                <a:off x="8603640" y="20160"/>
                <a:ext cx="181440" cy="321840"/>
                <a:chOff x="8603640" y="20160"/>
                <a:chExt cx="181440" cy="321840"/>
              </a:xfrm>
            </p:grpSpPr>
            <p:sp>
              <p:nvSpPr>
                <p:cNvPr id="220" name="Line 51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52"/>
                <p:cNvSpPr/>
                <p:nvPr/>
              </p:nvSpPr>
              <p:spPr>
                <a:xfrm flipV="1">
                  <a:off x="8628840" y="79560"/>
                  <a:ext cx="6012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53"/>
                <p:cNvSpPr/>
                <p:nvPr/>
              </p:nvSpPr>
              <p:spPr>
                <a:xfrm flipV="1">
                  <a:off x="8643240" y="244800"/>
                  <a:ext cx="10800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54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55"/>
                <p:cNvSpPr/>
                <p:nvPr/>
              </p:nvSpPr>
              <p:spPr>
                <a:xfrm flipV="1">
                  <a:off x="862128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6"/>
                <p:cNvSpPr/>
                <p:nvPr/>
              </p:nvSpPr>
              <p:spPr>
                <a:xfrm flipV="1">
                  <a:off x="8639280" y="176400"/>
                  <a:ext cx="12708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7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227" name="Line 58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9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60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61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62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232" name="Line 63"/>
                <p:cNvSpPr/>
                <p:nvPr/>
              </p:nvSpPr>
              <p:spPr>
                <a:xfrm flipH="1">
                  <a:off x="8979840" y="66564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64"/>
                <p:cNvSpPr/>
                <p:nvPr/>
              </p:nvSpPr>
              <p:spPr>
                <a:xfrm flipH="1">
                  <a:off x="8979840" y="62892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65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66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8560" y="-9720"/>
            <a:ext cx="7643880" cy="116172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5000"/>
              </a:srgbClr>
            </a:outerShdw>
          </a:effectLst>
        </p:spPr>
        <p:txBody>
          <a:bodyPr lIns="35640" rIns="8136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Where is J-Cal         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00480" y="4824360"/>
            <a:ext cx="4259520" cy="1820880"/>
          </a:xfrm>
          <a:prstGeom prst="rect">
            <a:avLst/>
          </a:prstGeom>
          <a:noFill/>
          <a:ln w="0">
            <a:noFill/>
          </a:ln>
        </p:spPr>
        <p:txBody>
          <a:bodyPr lIns="35640" rIns="81360" tIns="35640" bIns="35640" anchor="t">
            <a:normAutofit/>
          </a:bodyPr>
          <a:p>
            <a:pPr marL="268200" indent="-2397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ＤＦＰ太丸ゴシック体"/>
              </a:rPr>
              <a:t>In φ, it is on the other side of ALICE EMCAL</a:t>
            </a:r>
            <a:endParaRPr b="0" lang="en-US" sz="22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268200" indent="-23976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ＤＦＰ太丸ゴシック体"/>
              </a:rPr>
              <a:t>In η, it is next to the PHOS</a:t>
            </a:r>
            <a:endParaRPr b="0" lang="en-US" sz="22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238" name="Rectangle 69"/>
          <p:cNvSpPr/>
          <p:nvPr/>
        </p:nvSpPr>
        <p:spPr>
          <a:xfrm>
            <a:off x="5340240" y="3044880"/>
            <a:ext cx="2982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a view of ALICE &amp; J-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0" descr=""/>
          <p:cNvPicPr/>
          <p:nvPr/>
        </p:nvPicPr>
        <p:blipFill>
          <a:blip r:embed="rId1"/>
          <a:stretch/>
        </p:blipFill>
        <p:spPr>
          <a:xfrm>
            <a:off x="-115920" y="1663560"/>
            <a:ext cx="4456080" cy="3359160"/>
          </a:xfrm>
          <a:prstGeom prst="rect">
            <a:avLst/>
          </a:prstGeom>
          <a:ln w="0">
            <a:noFill/>
          </a:ln>
        </p:spPr>
      </p:pic>
      <p:sp>
        <p:nvSpPr>
          <p:cNvPr id="240" name="Freeform 71"/>
          <p:cNvSpPr/>
          <p:nvPr/>
        </p:nvSpPr>
        <p:spPr>
          <a:xfrm>
            <a:off x="849240" y="2044800"/>
            <a:ext cx="1301760" cy="1181160"/>
          </a:xfrm>
          <a:prstGeom prst="pie">
            <a:avLst/>
          </a:prstGeom>
          <a:noFill/>
          <a:ln w="127080">
            <a:solidFill>
              <a:srgbClr val="6600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2"/>
          <p:cNvSpPr/>
          <p:nvPr/>
        </p:nvSpPr>
        <p:spPr>
          <a:xfrm>
            <a:off x="154080" y="5006880"/>
            <a:ext cx="10983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ＤＦＰ太丸ゴシック体"/>
                <a:ea typeface="ＤＦＰ太丸ゴシック体"/>
              </a:rPr>
              <a:t>J-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3"/>
          <p:cNvSpPr/>
          <p:nvPr/>
        </p:nvSpPr>
        <p:spPr>
          <a:xfrm flipH="1">
            <a:off x="1030320" y="4392720"/>
            <a:ext cx="969840" cy="755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4"/>
          <p:cNvGrpSpPr/>
          <p:nvPr/>
        </p:nvGrpSpPr>
        <p:grpSpPr>
          <a:xfrm>
            <a:off x="111240" y="1482840"/>
            <a:ext cx="1795320" cy="268200"/>
            <a:chOff x="111240" y="1482840"/>
            <a:chExt cx="1795320" cy="268200"/>
          </a:xfrm>
        </p:grpSpPr>
        <p:sp>
          <p:nvSpPr>
            <p:cNvPr id="244" name="Rectangle 75"/>
            <p:cNvSpPr/>
            <p:nvPr/>
          </p:nvSpPr>
          <p:spPr>
            <a:xfrm>
              <a:off x="111240" y="1482840"/>
              <a:ext cx="1795320" cy="26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6"/>
            <p:cNvSpPr/>
            <p:nvPr/>
          </p:nvSpPr>
          <p:spPr>
            <a:xfrm>
              <a:off x="111240" y="1482840"/>
              <a:ext cx="1795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5008c"/>
                  </a:solidFill>
                  <a:latin typeface="ＤＦＰ太丸ゴシック体"/>
                  <a:ea typeface="ＤＦＰ太丸ゴシック体"/>
                </a:rPr>
                <a:t>ALICE EMC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77"/>
          <p:cNvSpPr/>
          <p:nvPr/>
        </p:nvSpPr>
        <p:spPr>
          <a:xfrm>
            <a:off x="5340240" y="3044880"/>
            <a:ext cx="2982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a view of ALICE &amp; J-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8" descr=""/>
          <p:cNvPicPr/>
          <p:nvPr/>
        </p:nvPicPr>
        <p:blipFill>
          <a:blip r:embed="rId2"/>
          <a:srcRect l="1468" t="1539" r="21961" b="7969"/>
          <a:stretch/>
        </p:blipFill>
        <p:spPr>
          <a:xfrm>
            <a:off x="4803840" y="1285920"/>
            <a:ext cx="4303800" cy="36608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9"/>
          <p:cNvSpPr/>
          <p:nvPr/>
        </p:nvSpPr>
        <p:spPr>
          <a:xfrm>
            <a:off x="5848200" y="3884760"/>
            <a:ext cx="519120" cy="106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0" descr=""/>
          <p:cNvPicPr/>
          <p:nvPr/>
        </p:nvPicPr>
        <p:blipFill>
          <a:blip r:embed="rId3"/>
          <a:stretch/>
        </p:blipFill>
        <p:spPr>
          <a:xfrm>
            <a:off x="106200" y="5348160"/>
            <a:ext cx="893880" cy="12337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1"/>
          <p:cNvSpPr/>
          <p:nvPr/>
        </p:nvSpPr>
        <p:spPr>
          <a:xfrm rot="19860000">
            <a:off x="2335320" y="4006440"/>
            <a:ext cx="320400" cy="214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2"/>
          <p:cNvSpPr/>
          <p:nvPr/>
        </p:nvSpPr>
        <p:spPr>
          <a:xfrm flipH="1">
            <a:off x="1103040" y="4048200"/>
            <a:ext cx="4707000" cy="115092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3"/>
          <p:cNvSpPr/>
          <p:nvPr/>
        </p:nvSpPr>
        <p:spPr>
          <a:xfrm rot="18660000">
            <a:off x="2601360" y="3782880"/>
            <a:ext cx="322560" cy="21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4" descr=""/>
          <p:cNvPicPr/>
          <p:nvPr/>
        </p:nvPicPr>
        <p:blipFill>
          <a:blip r:embed="rId4"/>
          <a:stretch/>
        </p:blipFill>
        <p:spPr>
          <a:xfrm rot="20880000">
            <a:off x="1452240" y="4766760"/>
            <a:ext cx="2695680" cy="1206720"/>
          </a:xfrm>
          <a:prstGeom prst="rect">
            <a:avLst/>
          </a:prstGeom>
          <a:ln w="0">
            <a:noFill/>
          </a:ln>
        </p:spPr>
      </p:pic>
      <p:sp>
        <p:nvSpPr>
          <p:cNvPr id="254" name="Line 85"/>
          <p:cNvSpPr/>
          <p:nvPr/>
        </p:nvSpPr>
        <p:spPr>
          <a:xfrm flipH="1" flipV="1">
            <a:off x="1036800" y="5249880"/>
            <a:ext cx="480960" cy="1620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6" descr=""/>
          <p:cNvPicPr/>
          <p:nvPr/>
        </p:nvPicPr>
        <p:blipFill>
          <a:blip r:embed="rId5"/>
          <a:stretch/>
        </p:blipFill>
        <p:spPr>
          <a:xfrm rot="20760000">
            <a:off x="2050920" y="5082840"/>
            <a:ext cx="2951280" cy="132084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87"/>
          <p:cNvGrpSpPr/>
          <p:nvPr/>
        </p:nvGrpSpPr>
        <p:grpSpPr>
          <a:xfrm>
            <a:off x="2058840" y="5656320"/>
            <a:ext cx="2492640" cy="571320"/>
            <a:chOff x="2058840" y="5656320"/>
            <a:chExt cx="2492640" cy="571320"/>
          </a:xfrm>
        </p:grpSpPr>
        <p:sp>
          <p:nvSpPr>
            <p:cNvPr id="257" name="Rectangle 88"/>
            <p:cNvSpPr/>
            <p:nvPr/>
          </p:nvSpPr>
          <p:spPr>
            <a:xfrm>
              <a:off x="2115720" y="5661720"/>
              <a:ext cx="242100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3 super</a:t>
              </a:r>
              <a:r>
                <a:rPr b="0" lang="ja-JP" sz="17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　</a:t>
              </a:r>
              <a:r>
                <a:rPr b="0" lang="en-US" sz="17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module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(ΔΦ,Δη) ~(1.0, 0.7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89" descr=""/>
            <p:cNvPicPr/>
            <p:nvPr/>
          </p:nvPicPr>
          <p:blipFill>
            <a:blip r:embed="rId6"/>
            <a:stretch/>
          </p:blipFill>
          <p:spPr>
            <a:xfrm>
              <a:off x="2058840" y="5656320"/>
              <a:ext cx="2492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Rectangle 81"/>
          <p:cNvSpPr/>
          <p:nvPr/>
        </p:nvSpPr>
        <p:spPr>
          <a:xfrm>
            <a:off x="1960560" y="4114800"/>
            <a:ext cx="320760" cy="214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789B-E345-424F-BC7D-5F348592FF7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1398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9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1400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1401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0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1411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7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1418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2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1423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Jet Tomography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830840" y="5187960"/>
            <a:ext cx="4411440" cy="135720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268200" indent="-239760">
              <a:lnSpc>
                <a:spcPct val="13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ＤＦＰ太丸ゴシック体"/>
              </a:rPr>
              <a:t>Final tool to prove structure of the dense matter</a:t>
            </a:r>
            <a:endParaRPr b="0" lang="en-US" sz="22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429" name="Rectangle 36"/>
          <p:cNvSpPr/>
          <p:nvPr/>
        </p:nvSpPr>
        <p:spPr>
          <a:xfrm>
            <a:off x="5063400" y="1392120"/>
            <a:ext cx="3206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Positron EmissionTomograph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0" name="Picture 37" descr=""/>
          <p:cNvPicPr/>
          <p:nvPr/>
        </p:nvPicPr>
        <p:blipFill>
          <a:blip r:embed="rId1"/>
          <a:stretch/>
        </p:blipFill>
        <p:spPr>
          <a:xfrm>
            <a:off x="5907240" y="1866960"/>
            <a:ext cx="1677960" cy="2536920"/>
          </a:xfrm>
          <a:prstGeom prst="rect">
            <a:avLst/>
          </a:prstGeom>
          <a:ln w="0">
            <a:noFill/>
          </a:ln>
        </p:spPr>
      </p:pic>
      <p:sp>
        <p:nvSpPr>
          <p:cNvPr id="1431" name="Rectangle 38"/>
          <p:cNvSpPr/>
          <p:nvPr/>
        </p:nvSpPr>
        <p:spPr>
          <a:xfrm>
            <a:off x="1394280" y="1322280"/>
            <a:ext cx="17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Jet Tomograph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39"/>
          <p:cNvSpPr/>
          <p:nvPr/>
        </p:nvSpPr>
        <p:spPr>
          <a:xfrm>
            <a:off x="3116160" y="1687680"/>
            <a:ext cx="13575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4714"/>
                </a:solidFill>
                <a:latin typeface="ＤＦＰ太丸ゴシック体"/>
                <a:ea typeface="ＤＦＰ太丸ゴシック体"/>
              </a:rPr>
              <a:t>M. Gyulassy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Picture 40" descr=""/>
          <p:cNvPicPr/>
          <p:nvPr/>
        </p:nvPicPr>
        <p:blipFill>
          <a:blip r:embed="rId2"/>
          <a:srcRect l="8866" t="2908" r="21512" b="3102"/>
          <a:stretch/>
        </p:blipFill>
        <p:spPr>
          <a:xfrm>
            <a:off x="133200" y="1982880"/>
            <a:ext cx="4278600" cy="4330440"/>
          </a:xfrm>
          <a:prstGeom prst="rect">
            <a:avLst/>
          </a:prstGeom>
          <a:ln w="0">
            <a:noFill/>
          </a:ln>
        </p:spPr>
      </p:pic>
      <p:sp>
        <p:nvSpPr>
          <p:cNvPr id="1434" name="Line 41"/>
          <p:cNvSpPr/>
          <p:nvPr/>
        </p:nvSpPr>
        <p:spPr>
          <a:xfrm flipH="1">
            <a:off x="765000" y="2747880"/>
            <a:ext cx="2998800" cy="2059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val 42"/>
          <p:cNvSpPr/>
          <p:nvPr/>
        </p:nvSpPr>
        <p:spPr>
          <a:xfrm>
            <a:off x="2490840" y="3452760"/>
            <a:ext cx="236520" cy="238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43"/>
          <p:cNvSpPr/>
          <p:nvPr/>
        </p:nvSpPr>
        <p:spPr>
          <a:xfrm flipH="1">
            <a:off x="1322280" y="3616200"/>
            <a:ext cx="1160640" cy="808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44"/>
          <p:cNvSpPr/>
          <p:nvPr/>
        </p:nvSpPr>
        <p:spPr>
          <a:xfrm flipH="1">
            <a:off x="2687760" y="3274920"/>
            <a:ext cx="309600" cy="212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45"/>
          <p:cNvSpPr/>
          <p:nvPr/>
        </p:nvSpPr>
        <p:spPr>
          <a:xfrm flipH="1">
            <a:off x="631800" y="4084560"/>
            <a:ext cx="3284640" cy="3510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46"/>
          <p:cNvSpPr/>
          <p:nvPr/>
        </p:nvSpPr>
        <p:spPr>
          <a:xfrm>
            <a:off x="2374920" y="4140360"/>
            <a:ext cx="236520" cy="237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47"/>
          <p:cNvSpPr/>
          <p:nvPr/>
        </p:nvSpPr>
        <p:spPr>
          <a:xfrm flipH="1">
            <a:off x="1272960" y="4262400"/>
            <a:ext cx="1082520" cy="95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48"/>
          <p:cNvSpPr/>
          <p:nvPr/>
        </p:nvSpPr>
        <p:spPr>
          <a:xfrm flipH="1">
            <a:off x="2615760" y="4167360"/>
            <a:ext cx="554040" cy="601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Oval 49"/>
          <p:cNvSpPr/>
          <p:nvPr/>
        </p:nvSpPr>
        <p:spPr>
          <a:xfrm>
            <a:off x="1542960" y="3657600"/>
            <a:ext cx="238320" cy="239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50"/>
          <p:cNvSpPr/>
          <p:nvPr/>
        </p:nvSpPr>
        <p:spPr>
          <a:xfrm flipH="1" flipV="1">
            <a:off x="1415520" y="2307960"/>
            <a:ext cx="574920" cy="3360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51"/>
          <p:cNvSpPr/>
          <p:nvPr/>
        </p:nvSpPr>
        <p:spPr>
          <a:xfrm>
            <a:off x="1550880" y="3151080"/>
            <a:ext cx="76320" cy="468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52"/>
          <p:cNvSpPr/>
          <p:nvPr/>
        </p:nvSpPr>
        <p:spPr>
          <a:xfrm>
            <a:off x="1685880" y="3919680"/>
            <a:ext cx="219240" cy="1222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6902280" y="-27000"/>
            <a:ext cx="2232360" cy="6894360"/>
          </a:xfrm>
          <a:prstGeom prst="rect">
            <a:avLst/>
          </a:prstGeom>
          <a:gradFill rotWithShape="0">
            <a:gsLst>
              <a:gs pos="0">
                <a:srgbClr val="272554"/>
              </a:gs>
              <a:gs pos="100000">
                <a:srgbClr val="797899"/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7489800" y="6245280"/>
            <a:ext cx="2588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3105-53EF-4921-BFA4-2A7BB81C541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-9360" y="-54000"/>
            <a:ext cx="6910200" cy="6902640"/>
            <a:chOff x="-9360" y="-54000"/>
            <a:chExt cx="6910200" cy="6902640"/>
          </a:xfrm>
        </p:grpSpPr>
        <p:grpSp>
          <p:nvGrpSpPr>
            <p:cNvPr id="263" name="Group 4"/>
            <p:cNvGrpSpPr/>
            <p:nvPr/>
          </p:nvGrpSpPr>
          <p:grpSpPr>
            <a:xfrm>
              <a:off x="-9360" y="-54000"/>
              <a:ext cx="6910200" cy="6902640"/>
              <a:chOff x="-9360" y="-54000"/>
              <a:chExt cx="6910200" cy="6902640"/>
            </a:xfrm>
          </p:grpSpPr>
          <p:grpSp>
            <p:nvGrpSpPr>
              <p:cNvPr id="264" name="Group 5"/>
              <p:cNvGrpSpPr/>
              <p:nvPr/>
            </p:nvGrpSpPr>
            <p:grpSpPr>
              <a:xfrm>
                <a:off x="-9360" y="-54000"/>
                <a:ext cx="6910200" cy="6902640"/>
                <a:chOff x="-9360" y="-54000"/>
                <a:chExt cx="6910200" cy="6902640"/>
              </a:xfrm>
            </p:grpSpPr>
            <p:pic>
              <p:nvPicPr>
                <p:cNvPr id="265" name="Picture 6" descr=""/>
                <p:cNvPicPr/>
                <p:nvPr/>
              </p:nvPicPr>
              <p:blipFill>
                <a:blip r:embed="rId1"/>
                <a:srcRect l="18922" t="7885" r="22128" b="14482"/>
                <a:stretch/>
              </p:blipFill>
              <p:spPr>
                <a:xfrm>
                  <a:off x="-9360" y="-54000"/>
                  <a:ext cx="6910200" cy="690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" name="Rectangle 7"/>
                <p:cNvSpPr/>
                <p:nvPr/>
              </p:nvSpPr>
              <p:spPr>
                <a:xfrm>
                  <a:off x="3061080" y="5250960"/>
                  <a:ext cx="91044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57960" tIns="0" bIns="0" anchor="t">
                  <a:no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JCal-1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8"/>
                <p:cNvSpPr/>
                <p:nvPr/>
              </p:nvSpPr>
              <p:spPr>
                <a:xfrm>
                  <a:off x="3755160" y="5083920"/>
                  <a:ext cx="90180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57960" tIns="0" bIns="0" anchor="t">
                  <a:no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JCal-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9"/>
                <p:cNvSpPr/>
                <p:nvPr/>
              </p:nvSpPr>
              <p:spPr>
                <a:xfrm>
                  <a:off x="3055320" y="1033920"/>
                  <a:ext cx="83916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57960" tIns="0" bIns="0" anchor="t">
                  <a:no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MC-1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10"/>
                <p:cNvSpPr/>
                <p:nvPr/>
              </p:nvSpPr>
              <p:spPr>
                <a:xfrm>
                  <a:off x="1096560" y="2840040"/>
                  <a:ext cx="82152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57960" tIns="0" bIns="0" anchor="t">
                  <a:no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MC-5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1"/>
                <p:cNvSpPr/>
                <p:nvPr/>
              </p:nvSpPr>
              <p:spPr>
                <a:xfrm>
                  <a:off x="1708200" y="1573200"/>
                  <a:ext cx="83016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57960" tIns="0" bIns="0" anchor="t">
                  <a:no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MC-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Line 12"/>
              <p:cNvSpPr/>
              <p:nvPr/>
            </p:nvSpPr>
            <p:spPr>
              <a:xfrm flipV="1">
                <a:off x="72000" y="3329280"/>
                <a:ext cx="3402000" cy="515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3"/>
              <p:cNvSpPr/>
              <p:nvPr/>
            </p:nvSpPr>
            <p:spPr>
              <a:xfrm flipH="1">
                <a:off x="3473640" y="10800"/>
                <a:ext cx="585720" cy="33184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4"/>
              <p:cNvSpPr/>
              <p:nvPr/>
            </p:nvSpPr>
            <p:spPr>
              <a:xfrm flipH="1" flipV="1">
                <a:off x="3474000" y="3326760"/>
                <a:ext cx="3026880" cy="25660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5"/>
              <p:cNvSpPr/>
              <p:nvPr/>
            </p:nvSpPr>
            <p:spPr>
              <a:xfrm flipV="1">
                <a:off x="2911320" y="3328920"/>
                <a:ext cx="562320" cy="3206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Freeform 16"/>
            <p:cNvSpPr/>
            <p:nvPr/>
          </p:nvSpPr>
          <p:spPr>
            <a:xfrm>
              <a:off x="2559960" y="2282040"/>
              <a:ext cx="1083600" cy="1169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64658">
                    <a:alpha val="0"/>
                  </a:srgbClr>
                </a:gs>
              </a:gsLst>
              <a:lin ang="12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3465000" y="3344760"/>
              <a:ext cx="809280" cy="1094760"/>
            </a:xfrm>
            <a:prstGeom prst="pie">
              <a:avLst/>
            </a:prstGeom>
            <a:gradFill rotWithShape="0">
              <a:gsLst>
                <a:gs pos="0">
                  <a:srgbClr val="464658">
                    <a:alpha val="0"/>
                  </a:srgbClr>
                </a:gs>
                <a:gs pos="100000">
                  <a:srgbClr val="ffffff"/>
                </a:gs>
              </a:gsLst>
              <a:lin ang="146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8"/>
          <p:cNvSpPr/>
          <p:nvPr/>
        </p:nvSpPr>
        <p:spPr>
          <a:xfrm>
            <a:off x="6510240" y="6357960"/>
            <a:ext cx="252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0b00"/>
                </a:solidFill>
                <a:latin typeface="Arial"/>
                <a:ea typeface="Arial"/>
              </a:rPr>
              <a:t>Thanks to La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2800" y="322200"/>
            <a:ext cx="361800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Arial"/>
              </a:rPr>
              <a:t>Beam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417920" y="4797360"/>
            <a:ext cx="901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Jcal-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1"/>
          <p:cNvGrpSpPr/>
          <p:nvPr/>
        </p:nvGrpSpPr>
        <p:grpSpPr>
          <a:xfrm>
            <a:off x="-374760" y="-768240"/>
            <a:ext cx="9518760" cy="7616520"/>
            <a:chOff x="-374760" y="-768240"/>
            <a:chExt cx="9518760" cy="7616520"/>
          </a:xfrm>
        </p:grpSpPr>
        <p:sp>
          <p:nvSpPr>
            <p:cNvPr id="281" name="Line 2"/>
            <p:cNvSpPr/>
            <p:nvPr/>
          </p:nvSpPr>
          <p:spPr>
            <a:xfrm>
              <a:off x="4634640" y="152280"/>
              <a:ext cx="3960" cy="669600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Picture 3" descr=""/>
            <p:cNvPicPr/>
            <p:nvPr/>
          </p:nvPicPr>
          <p:blipFill>
            <a:blip r:embed="rId1"/>
            <a:srcRect l="13690" t="7302" r="2955" b="9369"/>
            <a:stretch/>
          </p:blipFill>
          <p:spPr>
            <a:xfrm>
              <a:off x="-374760" y="-768240"/>
              <a:ext cx="9518760" cy="76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Line 4"/>
            <p:cNvSpPr/>
            <p:nvPr/>
          </p:nvSpPr>
          <p:spPr>
            <a:xfrm>
              <a:off x="3870000" y="2009880"/>
              <a:ext cx="3654360" cy="3915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>
              <a:off x="3870000" y="2009880"/>
              <a:ext cx="1104840" cy="476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7245360" y="5905440"/>
              <a:ext cx="1596960" cy="60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0000"/>
                  </a:solidFill>
                  <a:latin typeface="Arial"/>
                  <a:ea typeface="Arial"/>
                </a:rPr>
                <a:t>45 de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7"/>
          <p:cNvSpPr/>
          <p:nvPr/>
        </p:nvSpPr>
        <p:spPr>
          <a:xfrm>
            <a:off x="152280" y="6348240"/>
            <a:ext cx="2525760" cy="4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0b00"/>
                </a:solidFill>
                <a:latin typeface="Arial"/>
                <a:ea typeface="Arial"/>
              </a:rPr>
              <a:t>Thanks to La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3616560" cy="74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Arial"/>
              </a:rPr>
              <a:t>Sid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Freeform 9"/>
          <p:cNvGrpSpPr/>
          <p:nvPr/>
        </p:nvGrpSpPr>
        <p:grpSpPr>
          <a:xfrm>
            <a:off x="3852720" y="2030400"/>
            <a:ext cx="1024200" cy="1474920"/>
            <a:chOff x="3852720" y="2030400"/>
            <a:chExt cx="1024200" cy="1474920"/>
          </a:xfrm>
        </p:grpSpPr>
        <p:pic>
          <p:nvPicPr>
            <p:cNvPr id="289" name="Freeform 9" descr=""/>
            <p:cNvPicPr/>
            <p:nvPr/>
          </p:nvPicPr>
          <p:blipFill>
            <a:blip r:embed="rId2"/>
            <a:stretch/>
          </p:blipFill>
          <p:spPr>
            <a:xfrm>
              <a:off x="3852720" y="2030400"/>
              <a:ext cx="102420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857760" y="2036880"/>
              <a:ext cx="10112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10"/>
          <p:cNvSpPr/>
          <p:nvPr/>
        </p:nvSpPr>
        <p:spPr>
          <a:xfrm rot="2759400">
            <a:off x="4200480" y="2633040"/>
            <a:ext cx="132012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dge of TP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 rot="4596600">
            <a:off x="3147120" y="2981160"/>
            <a:ext cx="149976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dge of PH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3515040" y="1442880"/>
            <a:ext cx="70596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erte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1A3D-3836-4FBF-9DE3-FBB35596770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298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300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301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311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318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323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Physics Motivations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28800" y="4295880"/>
            <a:ext cx="6089400" cy="25351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 fontScale="97000"/>
          </a:bodyPr>
          <a:p>
            <a:pPr marL="259920" indent="-232560">
              <a:lnSpc>
                <a:spcPct val="12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Study of jets hopefully with </a:t>
            </a:r>
            <a:r>
              <a:rPr b="0" lang="en-US" sz="2700" spc="-1" strike="noStrike">
                <a:solidFill>
                  <a:srgbClr val="ff0000"/>
                </a:solidFill>
                <a:latin typeface="ＤＦＰ太丸ゴシック体"/>
              </a:rPr>
              <a:t>PID</a:t>
            </a: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 (Parton ID)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98960" indent="-235440">
              <a:lnSpc>
                <a:spcPct val="12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Jet quench 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98960" indent="-235440">
              <a:lnSpc>
                <a:spcPct val="12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Mach cone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98960" indent="-235440">
              <a:lnSpc>
                <a:spcPct val="12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Tomography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grpSp>
        <p:nvGrpSpPr>
          <p:cNvPr id="329" name="Group 36"/>
          <p:cNvGrpSpPr/>
          <p:nvPr/>
        </p:nvGrpSpPr>
        <p:grpSpPr>
          <a:xfrm>
            <a:off x="0" y="1608120"/>
            <a:ext cx="3983040" cy="2722680"/>
            <a:chOff x="0" y="1608120"/>
            <a:chExt cx="3983040" cy="2722680"/>
          </a:xfrm>
        </p:grpSpPr>
        <p:pic>
          <p:nvPicPr>
            <p:cNvPr id="330" name="Picture 37" descr=""/>
            <p:cNvPicPr/>
            <p:nvPr/>
          </p:nvPicPr>
          <p:blipFill>
            <a:blip r:embed="rId1"/>
            <a:srcRect l="0" t="56250" r="10182" b="0"/>
            <a:stretch/>
          </p:blipFill>
          <p:spPr>
            <a:xfrm>
              <a:off x="0" y="1608120"/>
              <a:ext cx="3983040" cy="27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Rectangle 38"/>
            <p:cNvSpPr/>
            <p:nvPr/>
          </p:nvSpPr>
          <p:spPr>
            <a:xfrm>
              <a:off x="811440" y="3660840"/>
              <a:ext cx="1776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pedestal and flow subtract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39"/>
          <p:cNvGrpSpPr/>
          <p:nvPr/>
        </p:nvGrpSpPr>
        <p:grpSpPr>
          <a:xfrm>
            <a:off x="4132440" y="1490760"/>
            <a:ext cx="4865400" cy="2955960"/>
            <a:chOff x="4132440" y="1490760"/>
            <a:chExt cx="4865400" cy="2955960"/>
          </a:xfrm>
        </p:grpSpPr>
        <p:sp>
          <p:nvSpPr>
            <p:cNvPr id="333" name="Rectangle 40"/>
            <p:cNvSpPr/>
            <p:nvPr/>
          </p:nvSpPr>
          <p:spPr>
            <a:xfrm>
              <a:off x="4204800" y="1632240"/>
              <a:ext cx="3981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8000"/>
                  </a:solidFill>
                  <a:latin typeface="ＤＦＰ太丸ゴシック体"/>
                  <a:ea typeface="ＤＦＰ太丸ゴシック体"/>
                </a:rPr>
                <a:t>PHENIX, arXiv:0705.3238 [nucl-ex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41"/>
            <p:cNvGrpSpPr/>
            <p:nvPr/>
          </p:nvGrpSpPr>
          <p:grpSpPr>
            <a:xfrm>
              <a:off x="4132440" y="1490760"/>
              <a:ext cx="4865400" cy="2955960"/>
              <a:chOff x="4132440" y="1490760"/>
              <a:chExt cx="4865400" cy="2955960"/>
            </a:xfrm>
          </p:grpSpPr>
          <p:grpSp>
            <p:nvGrpSpPr>
              <p:cNvPr id="335" name="Group 42"/>
              <p:cNvGrpSpPr/>
              <p:nvPr/>
            </p:nvGrpSpPr>
            <p:grpSpPr>
              <a:xfrm>
                <a:off x="4132440" y="1945080"/>
                <a:ext cx="4808520" cy="2501640"/>
                <a:chOff x="4132440" y="1945080"/>
                <a:chExt cx="4808520" cy="2501640"/>
              </a:xfrm>
            </p:grpSpPr>
            <p:grpSp>
              <p:nvGrpSpPr>
                <p:cNvPr id="336" name="Group 43"/>
                <p:cNvGrpSpPr/>
                <p:nvPr/>
              </p:nvGrpSpPr>
              <p:grpSpPr>
                <a:xfrm>
                  <a:off x="4392360" y="1945080"/>
                  <a:ext cx="4548600" cy="2197800"/>
                  <a:chOff x="4392360" y="1945080"/>
                  <a:chExt cx="4548600" cy="2197800"/>
                </a:xfrm>
              </p:grpSpPr>
              <p:pic>
                <p:nvPicPr>
                  <p:cNvPr id="337" name="Picture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2360" y="1945080"/>
                    <a:ext cx="4548600" cy="188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8" name="Picture 4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13640" y="3870360"/>
                    <a:ext cx="3637440" cy="27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39" name="Picture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435360" y="4152960"/>
                  <a:ext cx="1069560" cy="29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4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32440" y="1945800"/>
                  <a:ext cx="297720" cy="19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Rectangle 48"/>
                <p:cNvSpPr/>
                <p:nvPr/>
              </p:nvSpPr>
              <p:spPr>
                <a:xfrm>
                  <a:off x="5006520" y="2047680"/>
                  <a:ext cx="479880" cy="41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42" name="Picture 49" descr=""/>
              <p:cNvPicPr/>
              <p:nvPr/>
            </p:nvPicPr>
            <p:blipFill>
              <a:blip r:embed="rId6"/>
              <a:stretch/>
            </p:blipFill>
            <p:spPr>
              <a:xfrm>
                <a:off x="7113240" y="1490760"/>
                <a:ext cx="1884600" cy="43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3" name="Rectangle 50"/>
          <p:cNvSpPr/>
          <p:nvPr/>
        </p:nvSpPr>
        <p:spPr>
          <a:xfrm>
            <a:off x="4259160" y="5106960"/>
            <a:ext cx="4616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ＤＦＰ太丸ゴシック体"/>
                <a:ea typeface="ＤＦＰ太丸ゴシック体"/>
              </a:rPr>
              <a:t>J-Cal improve Back-to back jets performance in 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1"/>
          <p:cNvSpPr/>
          <p:nvPr/>
        </p:nvSpPr>
        <p:spPr>
          <a:xfrm>
            <a:off x="5408640" y="5867280"/>
            <a:ext cx="2932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lvl="2" marL="720720" indent="-206280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ＤＦＰ太丸ゴシック体"/>
                <a:ea typeface="ＤＦＰ太丸ゴシック体"/>
              </a:rPr>
              <a:t>Define B-to-B 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06280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ＤＦＰ太丸ゴシック体"/>
                <a:ea typeface="ＤＦＰ太丸ゴシック体"/>
              </a:rPr>
              <a:t>Trigger B-to-B 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AC79-708F-464C-BC41-B347AA260D8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349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351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352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362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369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374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640" y="-115920"/>
            <a:ext cx="8026200" cy="13399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Our wish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9720" y="5607000"/>
            <a:ext cx="861696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 fontScale="75000"/>
          </a:bodyPr>
          <a:p>
            <a:pPr marL="200880" indent="-17964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We want to see mach cone with away side jet E</a:t>
            </a:r>
            <a:r>
              <a:rPr b="0" lang="en-US" sz="2700" spc="-1" strike="noStrike" baseline="-6000">
                <a:solidFill>
                  <a:srgbClr val="000000"/>
                </a:solidFill>
                <a:latin typeface="ＤＦＰ太丸ゴシック体"/>
              </a:rPr>
              <a:t>jet </a:t>
            </a: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&gt; ~ 50 GeV at LHC.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pic>
        <p:nvPicPr>
          <p:cNvPr id="380" name="Picture 36" descr=""/>
          <p:cNvPicPr/>
          <p:nvPr/>
        </p:nvPicPr>
        <p:blipFill>
          <a:blip r:embed="rId1"/>
          <a:srcRect l="8866" t="2908" r="21512" b="3102"/>
          <a:stretch/>
        </p:blipFill>
        <p:spPr>
          <a:xfrm>
            <a:off x="419040" y="1919160"/>
            <a:ext cx="3608280" cy="36529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37"/>
          <p:cNvSpPr/>
          <p:nvPr/>
        </p:nvSpPr>
        <p:spPr>
          <a:xfrm>
            <a:off x="220680" y="5568840"/>
            <a:ext cx="4010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ＤＦＰ太丸ゴシック体"/>
                <a:ea typeface="ＤＦＰ太丸ゴシック体"/>
              </a:rPr>
              <a:t>V.S. Pantuev, arXiv:hep-ph/0701.1882v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38"/>
          <p:cNvGrpSpPr/>
          <p:nvPr/>
        </p:nvGrpSpPr>
        <p:grpSpPr>
          <a:xfrm>
            <a:off x="1542960" y="4363920"/>
            <a:ext cx="1743120" cy="238320"/>
            <a:chOff x="1542960" y="4363920"/>
            <a:chExt cx="1743120" cy="238320"/>
          </a:xfrm>
        </p:grpSpPr>
        <p:sp>
          <p:nvSpPr>
            <p:cNvPr id="383" name="Line 39"/>
            <p:cNvSpPr/>
            <p:nvPr/>
          </p:nvSpPr>
          <p:spPr>
            <a:xfrm flipH="1">
              <a:off x="1542960" y="4366080"/>
              <a:ext cx="1743120" cy="2304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0"/>
            <p:cNvSpPr/>
            <p:nvPr/>
          </p:nvSpPr>
          <p:spPr>
            <a:xfrm>
              <a:off x="2293200" y="4363920"/>
              <a:ext cx="239040" cy="23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41"/>
          <p:cNvSpPr/>
          <p:nvPr/>
        </p:nvSpPr>
        <p:spPr>
          <a:xfrm>
            <a:off x="1647360" y="1357200"/>
            <a:ext cx="10882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RH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2"/>
          <p:cNvSpPr/>
          <p:nvPr/>
        </p:nvSpPr>
        <p:spPr>
          <a:xfrm>
            <a:off x="6200280" y="1366920"/>
            <a:ext cx="8992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LH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3" descr=""/>
          <p:cNvPicPr/>
          <p:nvPr/>
        </p:nvPicPr>
        <p:blipFill>
          <a:blip r:embed="rId2"/>
          <a:srcRect l="8866" t="2908" r="21512" b="3102"/>
          <a:stretch/>
        </p:blipFill>
        <p:spPr>
          <a:xfrm>
            <a:off x="5065560" y="1919160"/>
            <a:ext cx="3610080" cy="3654720"/>
          </a:xfrm>
          <a:prstGeom prst="rect">
            <a:avLst/>
          </a:prstGeom>
          <a:ln w="0">
            <a:noFill/>
          </a:ln>
        </p:spPr>
      </p:pic>
      <p:sp>
        <p:nvSpPr>
          <p:cNvPr id="388" name="Line 44"/>
          <p:cNvSpPr/>
          <p:nvPr/>
        </p:nvSpPr>
        <p:spPr>
          <a:xfrm flipH="1">
            <a:off x="5568480" y="2565360"/>
            <a:ext cx="2529000" cy="17384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45"/>
          <p:cNvSpPr/>
          <p:nvPr/>
        </p:nvSpPr>
        <p:spPr>
          <a:xfrm>
            <a:off x="7023240" y="3160800"/>
            <a:ext cx="201600" cy="201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6" descr=""/>
          <p:cNvPicPr/>
          <p:nvPr/>
        </p:nvPicPr>
        <p:blipFill>
          <a:blip r:embed="rId3"/>
          <a:stretch/>
        </p:blipFill>
        <p:spPr>
          <a:xfrm>
            <a:off x="6002280" y="3262320"/>
            <a:ext cx="1052640" cy="758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7" descr=""/>
          <p:cNvPicPr/>
          <p:nvPr/>
        </p:nvPicPr>
        <p:blipFill>
          <a:blip r:embed="rId4"/>
          <a:stretch/>
        </p:blipFill>
        <p:spPr>
          <a:xfrm>
            <a:off x="7155000" y="2975040"/>
            <a:ext cx="339480" cy="258840"/>
          </a:xfrm>
          <a:prstGeom prst="rect">
            <a:avLst/>
          </a:prstGeom>
          <a:ln w="0">
            <a:noFill/>
          </a:ln>
        </p:spPr>
      </p:pic>
      <p:sp>
        <p:nvSpPr>
          <p:cNvPr id="392" name="Line 48"/>
          <p:cNvSpPr/>
          <p:nvPr/>
        </p:nvSpPr>
        <p:spPr>
          <a:xfrm flipV="1">
            <a:off x="6369840" y="3720600"/>
            <a:ext cx="58680" cy="14065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9"/>
          <p:cNvSpPr/>
          <p:nvPr/>
        </p:nvSpPr>
        <p:spPr>
          <a:xfrm flipV="1">
            <a:off x="6921360" y="3381120"/>
            <a:ext cx="59040" cy="14079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0"/>
          <p:cNvSpPr/>
          <p:nvPr/>
        </p:nvSpPr>
        <p:spPr>
          <a:xfrm flipV="1">
            <a:off x="6822360" y="3509640"/>
            <a:ext cx="58680" cy="14065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51"/>
          <p:cNvSpPr/>
          <p:nvPr/>
        </p:nvSpPr>
        <p:spPr>
          <a:xfrm flipV="1">
            <a:off x="6679440" y="3578040"/>
            <a:ext cx="57240" cy="14065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2"/>
          <p:cNvSpPr/>
          <p:nvPr/>
        </p:nvSpPr>
        <p:spPr>
          <a:xfrm flipV="1">
            <a:off x="6515280" y="3644640"/>
            <a:ext cx="56880" cy="14079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53"/>
          <p:cNvSpPr/>
          <p:nvPr/>
        </p:nvSpPr>
        <p:spPr>
          <a:xfrm flipV="1">
            <a:off x="6226920" y="3817800"/>
            <a:ext cx="57240" cy="14083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4"/>
          <p:cNvSpPr/>
          <p:nvPr/>
        </p:nvSpPr>
        <p:spPr>
          <a:xfrm>
            <a:off x="5762520" y="2867040"/>
            <a:ext cx="1231920" cy="469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5"/>
          <p:cNvSpPr/>
          <p:nvPr/>
        </p:nvSpPr>
        <p:spPr>
          <a:xfrm>
            <a:off x="5619600" y="2905200"/>
            <a:ext cx="1231920" cy="469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56"/>
          <p:cNvSpPr/>
          <p:nvPr/>
        </p:nvSpPr>
        <p:spPr>
          <a:xfrm>
            <a:off x="5491080" y="3025800"/>
            <a:ext cx="1231920" cy="4683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7"/>
          <p:cNvSpPr/>
          <p:nvPr/>
        </p:nvSpPr>
        <p:spPr>
          <a:xfrm>
            <a:off x="5362560" y="3132000"/>
            <a:ext cx="1231920" cy="4683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5189400" y="3198960"/>
            <a:ext cx="1231920" cy="468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59"/>
          <p:cNvSpPr/>
          <p:nvPr/>
        </p:nvSpPr>
        <p:spPr>
          <a:xfrm>
            <a:off x="5030640" y="3305160"/>
            <a:ext cx="1231920" cy="4683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4933800" y="3409920"/>
            <a:ext cx="1230480" cy="4683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1"/>
          <p:cNvSpPr/>
          <p:nvPr/>
        </p:nvSpPr>
        <p:spPr>
          <a:xfrm>
            <a:off x="5762520" y="2867040"/>
            <a:ext cx="1231920" cy="469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62"/>
          <p:cNvGrpSpPr/>
          <p:nvPr/>
        </p:nvGrpSpPr>
        <p:grpSpPr>
          <a:xfrm>
            <a:off x="7476840" y="2262240"/>
            <a:ext cx="833400" cy="712800"/>
            <a:chOff x="7476840" y="2262240"/>
            <a:chExt cx="833400" cy="712800"/>
          </a:xfrm>
        </p:grpSpPr>
        <p:sp>
          <p:nvSpPr>
            <p:cNvPr id="407" name="Line 63"/>
            <p:cNvSpPr/>
            <p:nvPr/>
          </p:nvSpPr>
          <p:spPr>
            <a:xfrm flipH="1">
              <a:off x="7476840" y="2528640"/>
              <a:ext cx="266760" cy="431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64"/>
            <p:cNvSpPr/>
            <p:nvPr/>
          </p:nvSpPr>
          <p:spPr>
            <a:xfrm flipH="1">
              <a:off x="7544160" y="2744640"/>
              <a:ext cx="766080" cy="23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5"/>
            <p:cNvSpPr/>
            <p:nvPr/>
          </p:nvSpPr>
          <p:spPr>
            <a:xfrm flipH="1">
              <a:off x="7650000" y="2262240"/>
              <a:ext cx="497880" cy="599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66"/>
            <p:cNvSpPr/>
            <p:nvPr/>
          </p:nvSpPr>
          <p:spPr>
            <a:xfrm flipH="1">
              <a:off x="7719120" y="2707560"/>
              <a:ext cx="371880" cy="129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67"/>
          <p:cNvGrpSpPr/>
          <p:nvPr/>
        </p:nvGrpSpPr>
        <p:grpSpPr>
          <a:xfrm>
            <a:off x="5132520" y="4078440"/>
            <a:ext cx="833400" cy="712800"/>
            <a:chOff x="5132520" y="4078440"/>
            <a:chExt cx="833400" cy="712800"/>
          </a:xfrm>
        </p:grpSpPr>
        <p:sp>
          <p:nvSpPr>
            <p:cNvPr id="412" name="Line 68"/>
            <p:cNvSpPr/>
            <p:nvPr/>
          </p:nvSpPr>
          <p:spPr>
            <a:xfrm flipV="1">
              <a:off x="5699160" y="4093200"/>
              <a:ext cx="266760" cy="431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69"/>
            <p:cNvSpPr/>
            <p:nvPr/>
          </p:nvSpPr>
          <p:spPr>
            <a:xfrm flipV="1">
              <a:off x="5132520" y="4078440"/>
              <a:ext cx="766080" cy="23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70"/>
            <p:cNvSpPr/>
            <p:nvPr/>
          </p:nvSpPr>
          <p:spPr>
            <a:xfrm flipV="1">
              <a:off x="5294880" y="4191480"/>
              <a:ext cx="497880" cy="599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1"/>
            <p:cNvSpPr/>
            <p:nvPr/>
          </p:nvSpPr>
          <p:spPr>
            <a:xfrm flipV="1">
              <a:off x="5351760" y="4216320"/>
              <a:ext cx="371880" cy="129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767F-4630-4868-AC64-BD26B6ACD72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420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422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423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433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440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445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93ea9"/>
                </a:solidFill>
                <a:latin typeface="ＤＦＰ太丸ゴシック体"/>
              </a:rPr>
              <a:t>Jets; Gamma-Jet &amp; DiJet</a:t>
            </a:r>
            <a:endParaRPr b="0" lang="en-US" sz="31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-360" y="3054240"/>
            <a:ext cx="5527800" cy="3222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 fontScale="84000"/>
          </a:bodyPr>
          <a:p>
            <a:pPr marL="225000" indent="-201240">
              <a:lnSpc>
                <a:spcPct val="15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ＤＦＰ太丸ゴシック体"/>
              </a:rPr>
              <a:t>Gamma-Jet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32000" indent="-20412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ＤＦＰ太丸ゴシック体"/>
              </a:rPr>
              <a:t>Quark Jet</a:t>
            </a:r>
            <a:endParaRPr b="0" lang="en-US" sz="2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32000" indent="-20412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ＤＦＰ太丸ゴシック体"/>
              </a:rPr>
              <a:t>Easier analys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ＤＦＰ太丸ゴシック体"/>
              </a:rPr>
              <a:t>(no energy loss for gamma)</a:t>
            </a:r>
            <a:endParaRPr b="0" lang="en-US" sz="2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32000" indent="-20412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ＤＦＰ太丸ゴシック体"/>
              </a:rPr>
              <a:t>Smaller rate</a:t>
            </a:r>
            <a:endParaRPr b="0" lang="en-US" sz="2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32000" indent="-20412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ＤＦＰ太丸ゴシック体"/>
              </a:rPr>
              <a:t>Inclusive meas.</a:t>
            </a:r>
            <a:endParaRPr b="0" lang="en-US" sz="20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432000" indent="-204120">
              <a:lnSpc>
                <a:spcPct val="15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ＤＦＰ太丸ゴシック体"/>
              </a:rPr>
              <a:t>Reaction plane dependence</a:t>
            </a:r>
            <a:endParaRPr b="0" lang="en-US" sz="20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grpSp>
        <p:nvGrpSpPr>
          <p:cNvPr id="451" name="Group 36"/>
          <p:cNvGrpSpPr/>
          <p:nvPr/>
        </p:nvGrpSpPr>
        <p:grpSpPr>
          <a:xfrm>
            <a:off x="1081080" y="857160"/>
            <a:ext cx="2889720" cy="3456000"/>
            <a:chOff x="1081080" y="857160"/>
            <a:chExt cx="2889720" cy="3456000"/>
          </a:xfrm>
        </p:grpSpPr>
        <p:sp>
          <p:nvSpPr>
            <p:cNvPr id="452" name="Oval 37"/>
            <p:cNvSpPr/>
            <p:nvPr/>
          </p:nvSpPr>
          <p:spPr>
            <a:xfrm>
              <a:off x="1973520" y="1651680"/>
              <a:ext cx="1457640" cy="1969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38"/>
            <p:cNvGrpSpPr/>
            <p:nvPr/>
          </p:nvGrpSpPr>
          <p:grpSpPr>
            <a:xfrm>
              <a:off x="2232360" y="857160"/>
              <a:ext cx="1738440" cy="3110040"/>
              <a:chOff x="2232360" y="857160"/>
              <a:chExt cx="1738440" cy="3110040"/>
            </a:xfrm>
          </p:grpSpPr>
          <p:pic>
            <p:nvPicPr>
              <p:cNvPr id="454" name="Picture 39" descr=""/>
              <p:cNvPicPr/>
              <p:nvPr/>
            </p:nvPicPr>
            <p:blipFill>
              <a:blip r:embed="rId1"/>
              <a:stretch/>
            </p:blipFill>
            <p:spPr>
              <a:xfrm>
                <a:off x="2807640" y="2093400"/>
                <a:ext cx="582840" cy="1113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5" name="Group 40"/>
              <p:cNvGrpSpPr/>
              <p:nvPr/>
            </p:nvGrpSpPr>
            <p:grpSpPr>
              <a:xfrm>
                <a:off x="3076920" y="3061080"/>
                <a:ext cx="893880" cy="906120"/>
                <a:chOff x="3076920" y="3061080"/>
                <a:chExt cx="893880" cy="906120"/>
              </a:xfrm>
            </p:grpSpPr>
            <p:sp>
              <p:nvSpPr>
                <p:cNvPr id="456" name="Line 41"/>
                <p:cNvSpPr/>
                <p:nvPr/>
              </p:nvSpPr>
              <p:spPr>
                <a:xfrm>
                  <a:off x="3299760" y="3086280"/>
                  <a:ext cx="582840" cy="8809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42"/>
                <p:cNvSpPr/>
                <p:nvPr/>
              </p:nvSpPr>
              <p:spPr>
                <a:xfrm>
                  <a:off x="3277800" y="3150720"/>
                  <a:ext cx="225720" cy="4550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43"/>
                <p:cNvSpPr/>
                <p:nvPr/>
              </p:nvSpPr>
              <p:spPr>
                <a:xfrm>
                  <a:off x="3261240" y="3156840"/>
                  <a:ext cx="68400" cy="4669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44"/>
                <p:cNvSpPr/>
                <p:nvPr/>
              </p:nvSpPr>
              <p:spPr>
                <a:xfrm flipH="1">
                  <a:off x="3076920" y="3091320"/>
                  <a:ext cx="187560" cy="3841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45"/>
                <p:cNvSpPr/>
                <p:nvPr/>
              </p:nvSpPr>
              <p:spPr>
                <a:xfrm>
                  <a:off x="3355200" y="3098520"/>
                  <a:ext cx="615600" cy="5756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46"/>
                <p:cNvSpPr/>
                <p:nvPr/>
              </p:nvSpPr>
              <p:spPr>
                <a:xfrm>
                  <a:off x="3378240" y="3061080"/>
                  <a:ext cx="499320" cy="3124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47"/>
              <p:cNvGrpSpPr/>
              <p:nvPr/>
            </p:nvGrpSpPr>
            <p:grpSpPr>
              <a:xfrm>
                <a:off x="2232360" y="857160"/>
                <a:ext cx="672120" cy="1226880"/>
                <a:chOff x="2232360" y="857160"/>
                <a:chExt cx="672120" cy="1226880"/>
              </a:xfrm>
            </p:grpSpPr>
            <p:sp>
              <p:nvSpPr>
                <p:cNvPr id="463" name="Freeform 48"/>
                <p:cNvSpPr/>
                <p:nvPr/>
              </p:nvSpPr>
              <p:spPr>
                <a:xfrm>
                  <a:off x="2232360" y="857160"/>
                  <a:ext cx="232920" cy="31248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49"/>
                <p:cNvSpPr/>
                <p:nvPr/>
              </p:nvSpPr>
              <p:spPr>
                <a:xfrm>
                  <a:off x="2390040" y="1163880"/>
                  <a:ext cx="232920" cy="3128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50"/>
                <p:cNvSpPr/>
                <p:nvPr/>
              </p:nvSpPr>
              <p:spPr>
                <a:xfrm>
                  <a:off x="2545560" y="1468080"/>
                  <a:ext cx="232560" cy="31248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51"/>
                <p:cNvSpPr/>
                <p:nvPr/>
              </p:nvSpPr>
              <p:spPr>
                <a:xfrm>
                  <a:off x="2671560" y="1771560"/>
                  <a:ext cx="232920" cy="31248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" name="AutoShape 52"/>
            <p:cNvSpPr/>
            <p:nvPr/>
          </p:nvSpPr>
          <p:spPr>
            <a:xfrm>
              <a:off x="2683080" y="1992240"/>
              <a:ext cx="407880" cy="386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53"/>
            <p:cNvGrpSpPr/>
            <p:nvPr/>
          </p:nvGrpSpPr>
          <p:grpSpPr>
            <a:xfrm>
              <a:off x="1081080" y="1242720"/>
              <a:ext cx="2297160" cy="3070440"/>
              <a:chOff x="1081080" y="1242720"/>
              <a:chExt cx="2297160" cy="3070440"/>
            </a:xfrm>
          </p:grpSpPr>
          <p:pic>
            <p:nvPicPr>
              <p:cNvPr id="469" name="Picture 54" descr=""/>
              <p:cNvPicPr/>
              <p:nvPr/>
            </p:nvPicPr>
            <p:blipFill>
              <a:blip r:embed="rId2"/>
              <a:stretch/>
            </p:blipFill>
            <p:spPr>
              <a:xfrm rot="21120000">
                <a:off x="2447640" y="3229200"/>
                <a:ext cx="252360" cy="441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0" name="Group 55"/>
              <p:cNvGrpSpPr/>
              <p:nvPr/>
            </p:nvGrpSpPr>
            <p:grpSpPr>
              <a:xfrm>
                <a:off x="2466000" y="3486240"/>
                <a:ext cx="912240" cy="826920"/>
                <a:chOff x="2466000" y="3486240"/>
                <a:chExt cx="912240" cy="826920"/>
              </a:xfrm>
            </p:grpSpPr>
            <p:sp>
              <p:nvSpPr>
                <p:cNvPr id="471" name="Line 56"/>
                <p:cNvSpPr/>
                <p:nvPr/>
              </p:nvSpPr>
              <p:spPr>
                <a:xfrm>
                  <a:off x="2631960" y="3521880"/>
                  <a:ext cx="699480" cy="7912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57"/>
                <p:cNvSpPr/>
                <p:nvPr/>
              </p:nvSpPr>
              <p:spPr>
                <a:xfrm>
                  <a:off x="2619360" y="3588840"/>
                  <a:ext cx="286920" cy="4190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58"/>
                <p:cNvSpPr/>
                <p:nvPr/>
              </p:nvSpPr>
              <p:spPr>
                <a:xfrm>
                  <a:off x="2603880" y="3597120"/>
                  <a:ext cx="132840" cy="4528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59"/>
                <p:cNvSpPr/>
                <p:nvPr/>
              </p:nvSpPr>
              <p:spPr>
                <a:xfrm flipH="1">
                  <a:off x="2466000" y="3531960"/>
                  <a:ext cx="132120" cy="4064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60"/>
                <p:cNvSpPr/>
                <p:nvPr/>
              </p:nvSpPr>
              <p:spPr>
                <a:xfrm>
                  <a:off x="2688480" y="3526560"/>
                  <a:ext cx="689760" cy="484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61"/>
                <p:cNvSpPr/>
                <p:nvPr/>
              </p:nvSpPr>
              <p:spPr>
                <a:xfrm>
                  <a:off x="2706480" y="3486240"/>
                  <a:ext cx="537480" cy="23976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AutoShape 62"/>
              <p:cNvSpPr/>
              <p:nvPr/>
            </p:nvSpPr>
            <p:spPr>
              <a:xfrm rot="21120000">
                <a:off x="2347560" y="3096000"/>
                <a:ext cx="407880" cy="3862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Group 63"/>
              <p:cNvGrpSpPr/>
              <p:nvPr/>
            </p:nvGrpSpPr>
            <p:grpSpPr>
              <a:xfrm>
                <a:off x="1081080" y="1242720"/>
                <a:ext cx="1414080" cy="2015640"/>
                <a:chOff x="1081080" y="1242720"/>
                <a:chExt cx="1414080" cy="2015640"/>
              </a:xfrm>
            </p:grpSpPr>
            <p:grpSp>
              <p:nvGrpSpPr>
                <p:cNvPr id="479" name="Group 64"/>
                <p:cNvGrpSpPr/>
                <p:nvPr/>
              </p:nvGrpSpPr>
              <p:grpSpPr>
                <a:xfrm>
                  <a:off x="1658880" y="2071800"/>
                  <a:ext cx="836280" cy="1186560"/>
                  <a:chOff x="1658880" y="2071800"/>
                  <a:chExt cx="836280" cy="1186560"/>
                </a:xfrm>
              </p:grpSpPr>
              <p:sp>
                <p:nvSpPr>
                  <p:cNvPr id="480" name="Freeform 65"/>
                  <p:cNvSpPr/>
                  <p:nvPr/>
                </p:nvSpPr>
                <p:spPr>
                  <a:xfrm rot="21120000">
                    <a:off x="1679400" y="2086200"/>
                    <a:ext cx="232920" cy="31248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Freeform 66"/>
                  <p:cNvSpPr/>
                  <p:nvPr/>
                </p:nvSpPr>
                <p:spPr>
                  <a:xfrm rot="21120000">
                    <a:off x="1878120" y="2368080"/>
                    <a:ext cx="232920" cy="31284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67"/>
                  <p:cNvSpPr/>
                  <p:nvPr/>
                </p:nvSpPr>
                <p:spPr>
                  <a:xfrm rot="21120000">
                    <a:off x="2074320" y="2647800"/>
                    <a:ext cx="232560" cy="31248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68"/>
                  <p:cNvSpPr/>
                  <p:nvPr/>
                </p:nvSpPr>
                <p:spPr>
                  <a:xfrm rot="21120000">
                    <a:off x="2241360" y="2930760"/>
                    <a:ext cx="232920" cy="31248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Group 69"/>
                <p:cNvGrpSpPr/>
                <p:nvPr/>
              </p:nvGrpSpPr>
              <p:grpSpPr>
                <a:xfrm>
                  <a:off x="1081080" y="1242720"/>
                  <a:ext cx="669240" cy="902880"/>
                  <a:chOff x="1081080" y="1242720"/>
                  <a:chExt cx="669240" cy="902880"/>
                </a:xfrm>
              </p:grpSpPr>
              <p:sp>
                <p:nvSpPr>
                  <p:cNvPr id="485" name="Freeform 70"/>
                  <p:cNvSpPr/>
                  <p:nvPr/>
                </p:nvSpPr>
                <p:spPr>
                  <a:xfrm rot="21120000">
                    <a:off x="1101600" y="1257120"/>
                    <a:ext cx="232920" cy="31248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71"/>
                  <p:cNvSpPr/>
                  <p:nvPr/>
                </p:nvSpPr>
                <p:spPr>
                  <a:xfrm rot="21120000">
                    <a:off x="1300680" y="1539000"/>
                    <a:ext cx="232920" cy="31284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Freeform 72"/>
                  <p:cNvSpPr/>
                  <p:nvPr/>
                </p:nvSpPr>
                <p:spPr>
                  <a:xfrm rot="21120000">
                    <a:off x="1496880" y="1818000"/>
                    <a:ext cx="232560" cy="31248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88" name="Rectangle 73"/>
          <p:cNvSpPr/>
          <p:nvPr/>
        </p:nvSpPr>
        <p:spPr>
          <a:xfrm>
            <a:off x="4572000" y="3429000"/>
            <a:ext cx="455436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268200" indent="-239760">
              <a:lnSpc>
                <a:spcPct val="110000"/>
              </a:lnSpc>
              <a:spcBef>
                <a:spcPts val="675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ＤＦＰ太丸ゴシック体"/>
                <a:ea typeface="ＤＦＰ太丸ゴシック体"/>
              </a:rPr>
              <a:t>Di-J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43000">
              <a:lnSpc>
                <a:spcPct val="110000"/>
              </a:lnSpc>
              <a:spcBef>
                <a:spcPts val="575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Mostly </a:t>
            </a:r>
            <a:r>
              <a:rPr b="0" lang="en-US" sz="2400" spc="-1" strike="noStrike">
                <a:solidFill>
                  <a:srgbClr val="ff0000"/>
                </a:solidFill>
                <a:latin typeface="ＤＦＰ太丸ゴシック体"/>
                <a:ea typeface="ＤＦＰ太丸ゴシック体"/>
              </a:rPr>
              <a:t>Gluon 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43000">
              <a:lnSpc>
                <a:spcPct val="110000"/>
              </a:lnSpc>
              <a:spcBef>
                <a:spcPts val="575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x1000 higher rate, thus highe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43000">
              <a:lnSpc>
                <a:spcPct val="110000"/>
              </a:lnSpc>
              <a:spcBef>
                <a:spcPts val="575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Semi-exclusive meas. can be done w.r.t. reaction plane, centrality &amp; pt of 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74"/>
          <p:cNvGrpSpPr/>
          <p:nvPr/>
        </p:nvGrpSpPr>
        <p:grpSpPr>
          <a:xfrm>
            <a:off x="5352840" y="1241280"/>
            <a:ext cx="3429360" cy="2379960"/>
            <a:chOff x="5352840" y="1241280"/>
            <a:chExt cx="3429360" cy="2379960"/>
          </a:xfrm>
        </p:grpSpPr>
        <p:sp>
          <p:nvSpPr>
            <p:cNvPr id="490" name="Oval 75"/>
            <p:cNvSpPr/>
            <p:nvPr/>
          </p:nvSpPr>
          <p:spPr>
            <a:xfrm>
              <a:off x="6312240" y="1508400"/>
              <a:ext cx="1339560" cy="19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76"/>
            <p:cNvGrpSpPr/>
            <p:nvPr/>
          </p:nvGrpSpPr>
          <p:grpSpPr>
            <a:xfrm>
              <a:off x="5352840" y="1241280"/>
              <a:ext cx="3429360" cy="1579320"/>
              <a:chOff x="5352840" y="1241280"/>
              <a:chExt cx="3429360" cy="1579320"/>
            </a:xfrm>
          </p:grpSpPr>
          <p:pic>
            <p:nvPicPr>
              <p:cNvPr id="492" name="Picture 77" descr=""/>
              <p:cNvPicPr/>
              <p:nvPr/>
            </p:nvPicPr>
            <p:blipFill>
              <a:blip r:embed="rId3"/>
              <a:stretch/>
            </p:blipFill>
            <p:spPr>
              <a:xfrm rot="19020000">
                <a:off x="7181640" y="1703520"/>
                <a:ext cx="407160" cy="858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3" name="Group 78"/>
              <p:cNvGrpSpPr/>
              <p:nvPr/>
            </p:nvGrpSpPr>
            <p:grpSpPr>
              <a:xfrm>
                <a:off x="7621200" y="2162880"/>
                <a:ext cx="1161000" cy="657720"/>
                <a:chOff x="7621200" y="2162880"/>
                <a:chExt cx="1161000" cy="657720"/>
              </a:xfrm>
            </p:grpSpPr>
            <p:sp>
              <p:nvSpPr>
                <p:cNvPr id="494" name="Line 79"/>
                <p:cNvSpPr/>
                <p:nvPr/>
              </p:nvSpPr>
              <p:spPr>
                <a:xfrm>
                  <a:off x="7644240" y="2333880"/>
                  <a:ext cx="1137960" cy="3254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Line 80"/>
                <p:cNvSpPr/>
                <p:nvPr/>
              </p:nvSpPr>
              <p:spPr>
                <a:xfrm>
                  <a:off x="7678440" y="2403360"/>
                  <a:ext cx="530280" cy="2221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81"/>
                <p:cNvSpPr/>
                <p:nvPr/>
              </p:nvSpPr>
              <p:spPr>
                <a:xfrm>
                  <a:off x="7670520" y="2421000"/>
                  <a:ext cx="419040" cy="34416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82"/>
                <p:cNvSpPr/>
                <p:nvPr/>
              </p:nvSpPr>
              <p:spPr>
                <a:xfrm>
                  <a:off x="7621200" y="2363400"/>
                  <a:ext cx="158400" cy="457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83"/>
                <p:cNvSpPr/>
                <p:nvPr/>
              </p:nvSpPr>
              <p:spPr>
                <a:xfrm>
                  <a:off x="7696440" y="2304720"/>
                  <a:ext cx="923400" cy="446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84"/>
                <p:cNvSpPr/>
                <p:nvPr/>
              </p:nvSpPr>
              <p:spPr>
                <a:xfrm flipV="1">
                  <a:off x="7684560" y="2162880"/>
                  <a:ext cx="627480" cy="936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AutoShape 85"/>
              <p:cNvSpPr/>
              <p:nvPr/>
            </p:nvSpPr>
            <p:spPr>
              <a:xfrm rot="1620000">
                <a:off x="6732720" y="1765080"/>
                <a:ext cx="426960" cy="444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1" name="Picture 86" descr=""/>
              <p:cNvPicPr/>
              <p:nvPr/>
            </p:nvPicPr>
            <p:blipFill>
              <a:blip r:embed="rId4"/>
              <a:stretch/>
            </p:blipFill>
            <p:spPr>
              <a:xfrm rot="19020000">
                <a:off x="6491520" y="1579680"/>
                <a:ext cx="315360" cy="59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2" name="Group 87"/>
              <p:cNvGrpSpPr/>
              <p:nvPr/>
            </p:nvGrpSpPr>
            <p:grpSpPr>
              <a:xfrm>
                <a:off x="5352840" y="1241280"/>
                <a:ext cx="1161000" cy="657720"/>
                <a:chOff x="5352840" y="1241280"/>
                <a:chExt cx="1161000" cy="657720"/>
              </a:xfrm>
            </p:grpSpPr>
            <p:sp>
              <p:nvSpPr>
                <p:cNvPr id="503" name="Line 88"/>
                <p:cNvSpPr/>
                <p:nvPr/>
              </p:nvSpPr>
              <p:spPr>
                <a:xfrm flipH="1" flipV="1">
                  <a:off x="5352840" y="1402560"/>
                  <a:ext cx="1137960" cy="3254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Line 89"/>
                <p:cNvSpPr/>
                <p:nvPr/>
              </p:nvSpPr>
              <p:spPr>
                <a:xfrm flipH="1" flipV="1">
                  <a:off x="5926320" y="1436400"/>
                  <a:ext cx="530280" cy="2221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90"/>
                <p:cNvSpPr/>
                <p:nvPr/>
              </p:nvSpPr>
              <p:spPr>
                <a:xfrm flipH="1" flipV="1">
                  <a:off x="6045480" y="1296720"/>
                  <a:ext cx="419040" cy="34416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91"/>
                <p:cNvSpPr/>
                <p:nvPr/>
              </p:nvSpPr>
              <p:spPr>
                <a:xfrm flipH="1" flipV="1">
                  <a:off x="6355440" y="1241280"/>
                  <a:ext cx="158400" cy="457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92"/>
                <p:cNvSpPr/>
                <p:nvPr/>
              </p:nvSpPr>
              <p:spPr>
                <a:xfrm flipH="1" flipV="1">
                  <a:off x="5515200" y="1712520"/>
                  <a:ext cx="923400" cy="446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93"/>
                <p:cNvSpPr/>
                <p:nvPr/>
              </p:nvSpPr>
              <p:spPr>
                <a:xfrm flipH="1">
                  <a:off x="5823000" y="1805400"/>
                  <a:ext cx="627480" cy="936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9" name="Group 94"/>
            <p:cNvGrpSpPr/>
            <p:nvPr/>
          </p:nvGrpSpPr>
          <p:grpSpPr>
            <a:xfrm>
              <a:off x="5411520" y="2600280"/>
              <a:ext cx="3256200" cy="1020960"/>
              <a:chOff x="5411520" y="2600280"/>
              <a:chExt cx="3256200" cy="1020960"/>
            </a:xfrm>
          </p:grpSpPr>
          <p:pic>
            <p:nvPicPr>
              <p:cNvPr id="510" name="Picture 95" descr=""/>
              <p:cNvPicPr/>
              <p:nvPr/>
            </p:nvPicPr>
            <p:blipFill>
              <a:blip r:embed="rId5"/>
              <a:stretch/>
            </p:blipFill>
            <p:spPr>
              <a:xfrm rot="1200000">
                <a:off x="6869520" y="2820600"/>
                <a:ext cx="782640" cy="45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1" name="Group 96"/>
              <p:cNvGrpSpPr/>
              <p:nvPr/>
            </p:nvGrpSpPr>
            <p:grpSpPr>
              <a:xfrm>
                <a:off x="7556760" y="2600280"/>
                <a:ext cx="1110960" cy="911880"/>
                <a:chOff x="7556760" y="2600280"/>
                <a:chExt cx="1110960" cy="911880"/>
              </a:xfrm>
            </p:grpSpPr>
            <p:sp>
              <p:nvSpPr>
                <p:cNvPr id="512" name="Line 97"/>
                <p:cNvSpPr/>
                <p:nvPr/>
              </p:nvSpPr>
              <p:spPr>
                <a:xfrm flipV="1">
                  <a:off x="7566120" y="2808000"/>
                  <a:ext cx="1101600" cy="3211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98"/>
                <p:cNvSpPr/>
                <p:nvPr/>
              </p:nvSpPr>
              <p:spPr>
                <a:xfrm flipV="1">
                  <a:off x="7621200" y="3092400"/>
                  <a:ext cx="538560" cy="835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Line 99"/>
                <p:cNvSpPr/>
                <p:nvPr/>
              </p:nvSpPr>
              <p:spPr>
                <a:xfrm>
                  <a:off x="7620480" y="3196440"/>
                  <a:ext cx="488160" cy="928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100"/>
                <p:cNvSpPr/>
                <p:nvPr/>
              </p:nvSpPr>
              <p:spPr>
                <a:xfrm>
                  <a:off x="7556760" y="3169080"/>
                  <a:ext cx="304920" cy="3430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01"/>
                <p:cNvSpPr/>
                <p:nvPr/>
              </p:nvSpPr>
              <p:spPr>
                <a:xfrm flipV="1">
                  <a:off x="7599960" y="2606040"/>
                  <a:ext cx="813240" cy="4669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02"/>
                <p:cNvSpPr/>
                <p:nvPr/>
              </p:nvSpPr>
              <p:spPr>
                <a:xfrm flipV="1">
                  <a:off x="7572240" y="2600280"/>
                  <a:ext cx="506880" cy="4338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AutoShape 103"/>
              <p:cNvSpPr/>
              <p:nvPr/>
            </p:nvSpPr>
            <p:spPr>
              <a:xfrm>
                <a:off x="6629400" y="2889000"/>
                <a:ext cx="405720" cy="474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9" name="Picture 104" descr=""/>
              <p:cNvPicPr/>
              <p:nvPr/>
            </p:nvPicPr>
            <p:blipFill>
              <a:blip r:embed="rId6"/>
              <a:stretch/>
            </p:blipFill>
            <p:spPr>
              <a:xfrm rot="1200000">
                <a:off x="6384240" y="3021840"/>
                <a:ext cx="424800" cy="282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0" name="Group 105"/>
              <p:cNvGrpSpPr/>
              <p:nvPr/>
            </p:nvGrpSpPr>
            <p:grpSpPr>
              <a:xfrm>
                <a:off x="5411520" y="2709360"/>
                <a:ext cx="1110960" cy="911880"/>
                <a:chOff x="5411520" y="2709360"/>
                <a:chExt cx="1110960" cy="911880"/>
              </a:xfrm>
            </p:grpSpPr>
            <p:sp>
              <p:nvSpPr>
                <p:cNvPr id="521" name="Line 106"/>
                <p:cNvSpPr/>
                <p:nvPr/>
              </p:nvSpPr>
              <p:spPr>
                <a:xfrm flipH="1">
                  <a:off x="5411520" y="3092400"/>
                  <a:ext cx="1101600" cy="3211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07"/>
                <p:cNvSpPr/>
                <p:nvPr/>
              </p:nvSpPr>
              <p:spPr>
                <a:xfrm flipH="1">
                  <a:off x="5919480" y="3045600"/>
                  <a:ext cx="538560" cy="835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08"/>
                <p:cNvSpPr/>
                <p:nvPr/>
              </p:nvSpPr>
              <p:spPr>
                <a:xfrm flipH="1" flipV="1">
                  <a:off x="5970600" y="2932200"/>
                  <a:ext cx="488160" cy="928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09"/>
                <p:cNvSpPr/>
                <p:nvPr/>
              </p:nvSpPr>
              <p:spPr>
                <a:xfrm flipH="1" flipV="1">
                  <a:off x="6217560" y="2709360"/>
                  <a:ext cx="304920" cy="3430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0"/>
                <p:cNvSpPr/>
                <p:nvPr/>
              </p:nvSpPr>
              <p:spPr>
                <a:xfrm flipH="1">
                  <a:off x="5666040" y="3148560"/>
                  <a:ext cx="813240" cy="4669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1"/>
                <p:cNvSpPr/>
                <p:nvPr/>
              </p:nvSpPr>
              <p:spPr>
                <a:xfrm flipH="1">
                  <a:off x="6000120" y="3187440"/>
                  <a:ext cx="506880" cy="4338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7" name="Rectangle 112"/>
          <p:cNvSpPr/>
          <p:nvPr/>
        </p:nvSpPr>
        <p:spPr>
          <a:xfrm>
            <a:off x="3902040" y="2322360"/>
            <a:ext cx="13399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artonic Energy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スライド番号プレースホルダ 3"/>
          <p:cNvSpPr/>
          <p:nvPr/>
        </p:nvSpPr>
        <p:spPr>
          <a:xfrm>
            <a:off x="8859960" y="6634080"/>
            <a:ext cx="218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66F3-171B-4E9E-A5AB-5C786886AB0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"/>
          <p:cNvSpPr/>
          <p:nvPr/>
        </p:nvSpPr>
        <p:spPr>
          <a:xfrm>
            <a:off x="7831080" y="0"/>
            <a:ext cx="180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152280" y="12240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4"/>
          <p:cNvGrpSpPr/>
          <p:nvPr/>
        </p:nvGrpSpPr>
        <p:grpSpPr>
          <a:xfrm>
            <a:off x="7858080" y="-54000"/>
            <a:ext cx="1295280" cy="1258920"/>
            <a:chOff x="7858080" y="-54000"/>
            <a:chExt cx="1295280" cy="1258920"/>
          </a:xfrm>
        </p:grpSpPr>
        <p:sp>
          <p:nvSpPr>
            <p:cNvPr id="532" name="Oval 5"/>
            <p:cNvSpPr/>
            <p:nvPr/>
          </p:nvSpPr>
          <p:spPr>
            <a:xfrm>
              <a:off x="7858080" y="-54000"/>
              <a:ext cx="1295280" cy="125892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6"/>
            <p:cNvGrpSpPr/>
            <p:nvPr/>
          </p:nvGrpSpPr>
          <p:grpSpPr>
            <a:xfrm>
              <a:off x="7909200" y="20160"/>
              <a:ext cx="1211040" cy="1111680"/>
              <a:chOff x="7909200" y="20160"/>
              <a:chExt cx="1211040" cy="1111680"/>
            </a:xfrm>
          </p:grpSpPr>
          <p:grpSp>
            <p:nvGrpSpPr>
              <p:cNvPr id="534" name="Group 7"/>
              <p:cNvGrpSpPr/>
              <p:nvPr/>
            </p:nvGrpSpPr>
            <p:grpSpPr>
              <a:xfrm>
                <a:off x="8276040" y="813600"/>
                <a:ext cx="171000" cy="318240"/>
                <a:chOff x="8276040" y="813600"/>
                <a:chExt cx="171000" cy="318240"/>
              </a:xfrm>
            </p:grpSpPr>
            <p:sp>
              <p:nvSpPr>
                <p:cNvPr id="535" name="Line 8"/>
                <p:cNvSpPr/>
                <p:nvPr/>
              </p:nvSpPr>
              <p:spPr>
                <a:xfrm flipH="1">
                  <a:off x="8323200" y="816840"/>
                  <a:ext cx="76320" cy="315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9"/>
                <p:cNvSpPr/>
                <p:nvPr/>
              </p:nvSpPr>
              <p:spPr>
                <a:xfrm flipH="1">
                  <a:off x="8327880" y="830160"/>
                  <a:ext cx="540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0"/>
                <p:cNvSpPr/>
                <p:nvPr/>
              </p:nvSpPr>
              <p:spPr>
                <a:xfrm flipH="1">
                  <a:off x="8291520" y="829080"/>
                  <a:ext cx="8532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"/>
                <p:cNvSpPr/>
                <p:nvPr/>
              </p:nvSpPr>
              <p:spPr>
                <a:xfrm flipH="1">
                  <a:off x="8276040" y="813600"/>
                  <a:ext cx="115560" cy="6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2"/>
                <p:cNvSpPr/>
                <p:nvPr/>
              </p:nvSpPr>
              <p:spPr>
                <a:xfrm flipH="1">
                  <a:off x="8401680" y="828000"/>
                  <a:ext cx="5400" cy="24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3"/>
                <p:cNvSpPr/>
                <p:nvPr/>
              </p:nvSpPr>
              <p:spPr>
                <a:xfrm>
                  <a:off x="8420040" y="822240"/>
                  <a:ext cx="27000" cy="15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Freeform 14"/>
              <p:cNvSpPr/>
              <p:nvPr/>
            </p:nvSpPr>
            <p:spPr>
              <a:xfrm>
                <a:off x="8047440" y="3520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8495280" y="555480"/>
                <a:ext cx="34560" cy="51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6"/>
              <p:cNvSpPr/>
              <p:nvPr/>
            </p:nvSpPr>
            <p:spPr>
              <a:xfrm rot="10800000">
                <a:off x="8409960" y="616680"/>
                <a:ext cx="569160" cy="19332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Group 17"/>
              <p:cNvGrpSpPr/>
              <p:nvPr/>
            </p:nvGrpSpPr>
            <p:grpSpPr>
              <a:xfrm>
                <a:off x="8603640" y="20160"/>
                <a:ext cx="181800" cy="321840"/>
                <a:chOff x="8603640" y="20160"/>
                <a:chExt cx="181800" cy="321840"/>
              </a:xfrm>
            </p:grpSpPr>
            <p:sp>
              <p:nvSpPr>
                <p:cNvPr id="545" name="Line 18"/>
                <p:cNvSpPr/>
                <p:nvPr/>
              </p:nvSpPr>
              <p:spPr>
                <a:xfrm flipV="1">
                  <a:off x="8603640" y="183960"/>
                  <a:ext cx="324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9"/>
                <p:cNvSpPr/>
                <p:nvPr/>
              </p:nvSpPr>
              <p:spPr>
                <a:xfrm flipV="1">
                  <a:off x="8629200" y="79560"/>
                  <a:ext cx="6084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"/>
                <p:cNvSpPr/>
                <p:nvPr/>
              </p:nvSpPr>
              <p:spPr>
                <a:xfrm flipV="1">
                  <a:off x="8643240" y="244800"/>
                  <a:ext cx="10872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1"/>
                <p:cNvSpPr/>
                <p:nvPr/>
              </p:nvSpPr>
              <p:spPr>
                <a:xfrm flipV="1">
                  <a:off x="8618760" y="147600"/>
                  <a:ext cx="223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2"/>
                <p:cNvSpPr/>
                <p:nvPr/>
              </p:nvSpPr>
              <p:spPr>
                <a:xfrm flipV="1">
                  <a:off x="8621640" y="20160"/>
                  <a:ext cx="163800" cy="321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3"/>
                <p:cNvSpPr/>
                <p:nvPr/>
              </p:nvSpPr>
              <p:spPr>
                <a:xfrm flipV="1">
                  <a:off x="8639280" y="176400"/>
                  <a:ext cx="12780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Group 24"/>
              <p:cNvGrpSpPr/>
              <p:nvPr/>
            </p:nvGrpSpPr>
            <p:grpSpPr>
              <a:xfrm>
                <a:off x="7909200" y="465840"/>
                <a:ext cx="168480" cy="129600"/>
                <a:chOff x="7909200" y="465840"/>
                <a:chExt cx="168480" cy="129600"/>
              </a:xfrm>
            </p:grpSpPr>
            <p:sp>
              <p:nvSpPr>
                <p:cNvPr id="552" name="Line 25"/>
                <p:cNvSpPr/>
                <p:nvPr/>
              </p:nvSpPr>
              <p:spPr>
                <a:xfrm>
                  <a:off x="7909200" y="567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6"/>
                <p:cNvSpPr/>
                <p:nvPr/>
              </p:nvSpPr>
              <p:spPr>
                <a:xfrm>
                  <a:off x="7909200" y="530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7"/>
                <p:cNvSpPr/>
                <p:nvPr/>
              </p:nvSpPr>
              <p:spPr>
                <a:xfrm>
                  <a:off x="7909200" y="4935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28"/>
                <p:cNvSpPr/>
                <p:nvPr/>
              </p:nvSpPr>
              <p:spPr>
                <a:xfrm>
                  <a:off x="8030880" y="465840"/>
                  <a:ext cx="46800" cy="12960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Group 29"/>
              <p:cNvGrpSpPr/>
              <p:nvPr/>
            </p:nvGrpSpPr>
            <p:grpSpPr>
              <a:xfrm>
                <a:off x="8951760" y="564480"/>
                <a:ext cx="168480" cy="130320"/>
                <a:chOff x="8951760" y="564480"/>
                <a:chExt cx="168480" cy="130320"/>
              </a:xfrm>
            </p:grpSpPr>
            <p:sp>
              <p:nvSpPr>
                <p:cNvPr id="557" name="Line 30"/>
                <p:cNvSpPr/>
                <p:nvPr/>
              </p:nvSpPr>
              <p:spPr>
                <a:xfrm flipH="1">
                  <a:off x="8979840" y="66636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1"/>
                <p:cNvSpPr/>
                <p:nvPr/>
              </p:nvSpPr>
              <p:spPr>
                <a:xfrm flipH="1">
                  <a:off x="8979840" y="629640"/>
                  <a:ext cx="140400" cy="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2"/>
                <p:cNvSpPr/>
                <p:nvPr/>
              </p:nvSpPr>
              <p:spPr>
                <a:xfrm flipH="1">
                  <a:off x="8979840" y="592200"/>
                  <a:ext cx="140400" cy="1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Oval 33"/>
                <p:cNvSpPr/>
                <p:nvPr/>
              </p:nvSpPr>
              <p:spPr>
                <a:xfrm flipH="1">
                  <a:off x="8951760" y="564480"/>
                  <a:ext cx="46800" cy="130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8560" y="15228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3ea9"/>
                </a:solidFill>
                <a:latin typeface="ＤＦＰ太丸ゴシック体"/>
              </a:rPr>
              <a:t>Key issues; resolutions</a:t>
            </a:r>
            <a:endParaRPr b="0" lang="en-US" sz="44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75040" y="1294920"/>
            <a:ext cx="5099040" cy="5410440"/>
          </a:xfrm>
          <a:prstGeom prst="rect">
            <a:avLst/>
          </a:prstGeom>
          <a:noFill/>
          <a:ln w="0">
            <a:noFill/>
          </a:ln>
        </p:spPr>
        <p:txBody>
          <a:bodyPr lIns="35640" rIns="117000" tIns="35640" bIns="35640" anchor="t">
            <a:normAutofit/>
          </a:bodyPr>
          <a:p>
            <a:pPr marL="268200" indent="-239760">
              <a:lnSpc>
                <a:spcPct val="13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Good characteristics of Back-to back jets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3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Origins clean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514440" indent="-243000">
              <a:lnSpc>
                <a:spcPct val="130000"/>
              </a:lnSpc>
              <a:spcBef>
                <a:spcPts val="56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ＤＦＰ太丸ゴシック体"/>
              </a:rPr>
              <a:t>Kinematically clean</a:t>
            </a:r>
            <a:endParaRPr b="0" lang="en-US" sz="2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2" marL="720720" indent="-206280">
              <a:lnSpc>
                <a:spcPct val="130000"/>
              </a:lnSpc>
              <a:spcBef>
                <a:spcPts val="488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ＤＦＰ太丸ゴシック体"/>
              </a:rPr>
              <a:t>Energy balance</a:t>
            </a:r>
            <a:endParaRPr b="0" lang="en-US" sz="2000" spc="-1" strike="noStrike">
              <a:solidFill>
                <a:srgbClr val="ff0000"/>
              </a:solidFill>
              <a:latin typeface="ＤＦＰ太丸ゴシック体"/>
            </a:endParaRPr>
          </a:p>
          <a:p>
            <a:pPr lvl="2" marL="720720" indent="-206280">
              <a:lnSpc>
                <a:spcPct val="130000"/>
              </a:lnSpc>
              <a:spcBef>
                <a:spcPts val="488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ＤＦＰ太丸ゴシック体"/>
              </a:rPr>
              <a:t>back-to back in phi</a:t>
            </a:r>
            <a:endParaRPr b="0" lang="en-US" sz="2000" spc="-1" strike="noStrike">
              <a:solidFill>
                <a:srgbClr val="ff0000"/>
              </a:solidFill>
              <a:latin typeface="ＤＦＰ太丸ゴシック体"/>
            </a:endParaRPr>
          </a:p>
          <a:p>
            <a:pPr marL="268200" indent="-239760">
              <a:lnSpc>
                <a:spcPct val="130000"/>
              </a:lnSpc>
              <a:spcBef>
                <a:spcPts val="700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ＤＦＰ太丸ゴシック体"/>
              </a:rPr>
              <a:t>Need to have better resolutions</a:t>
            </a:r>
            <a:endParaRPr b="0" lang="en-US" sz="27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2" marL="720720" indent="-206280">
              <a:lnSpc>
                <a:spcPct val="130000"/>
              </a:lnSpc>
              <a:spcBef>
                <a:spcPts val="488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ＤＦＰ太丸ゴシック体"/>
              </a:rPr>
              <a:t>RMS of (φ</a:t>
            </a:r>
            <a:r>
              <a:rPr b="0" lang="en-US" sz="2000" spc="-1" strike="noStrike" baseline="-6000">
                <a:solidFill>
                  <a:srgbClr val="ff0000"/>
                </a:solidFill>
                <a:latin typeface="ＤＦＰ太丸ゴシック体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ＤＦＰ太丸ゴシック体"/>
              </a:rPr>
              <a:t>-φ</a:t>
            </a:r>
            <a:r>
              <a:rPr b="0" lang="en-US" sz="2000" spc="-1" strike="noStrike" baseline="-6000">
                <a:solidFill>
                  <a:srgbClr val="ff0000"/>
                </a:solidFill>
                <a:latin typeface="ＤＦＰ太丸ゴシック体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ＤＦＰ太丸ゴシック体"/>
              </a:rPr>
              <a:t>)</a:t>
            </a:r>
            <a:endParaRPr b="0" lang="en-US" sz="2000" spc="-1" strike="noStrike">
              <a:solidFill>
                <a:srgbClr val="ff0000"/>
              </a:solidFill>
              <a:latin typeface="ＤＦＰ太丸ゴシック体"/>
            </a:endParaRPr>
          </a:p>
          <a:p>
            <a:pPr lvl="2" marL="720720" indent="-206280">
              <a:lnSpc>
                <a:spcPct val="130000"/>
              </a:lnSpc>
              <a:spcBef>
                <a:spcPts val="488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ＤＦＰ太丸ゴシック体"/>
              </a:rPr>
              <a:t>RMS of (E</a:t>
            </a:r>
            <a:r>
              <a:rPr b="0" lang="en-US" sz="2000" spc="-1" strike="noStrike" baseline="32000">
                <a:solidFill>
                  <a:srgbClr val="ff0000"/>
                </a:solidFill>
                <a:latin typeface="ＤＦＰ太丸ゴシック体"/>
              </a:rPr>
              <a:t>jet</a:t>
            </a:r>
            <a:r>
              <a:rPr b="0" lang="en-US" sz="2000" spc="-1" strike="noStrike" baseline="-6000">
                <a:solidFill>
                  <a:srgbClr val="ff0000"/>
                </a:solidFill>
                <a:latin typeface="ＤＦＰ太丸ゴシック体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ＤＦＰ太丸ゴシック体"/>
              </a:rPr>
              <a:t>-E</a:t>
            </a:r>
            <a:r>
              <a:rPr b="0" lang="en-US" sz="2000" spc="-1" strike="noStrike" baseline="32000">
                <a:solidFill>
                  <a:srgbClr val="ff0000"/>
                </a:solidFill>
                <a:latin typeface="ＤＦＰ太丸ゴシック体"/>
              </a:rPr>
              <a:t>jet</a:t>
            </a:r>
            <a:r>
              <a:rPr b="0" lang="en-US" sz="2000" spc="-1" strike="noStrike" baseline="-6000">
                <a:solidFill>
                  <a:srgbClr val="ff0000"/>
                </a:solidFill>
                <a:latin typeface="ＤＦＰ太丸ゴシック体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ＤＦＰ太丸ゴシック体"/>
              </a:rPr>
              <a:t>)</a:t>
            </a:r>
            <a:endParaRPr b="0" lang="en-US" sz="2000" spc="-1" strike="noStrike">
              <a:solidFill>
                <a:srgbClr val="ff0000"/>
              </a:solidFill>
              <a:latin typeface="ＤＦＰ太丸ゴシック体"/>
            </a:endParaRPr>
          </a:p>
        </p:txBody>
      </p:sp>
      <p:grpSp>
        <p:nvGrpSpPr>
          <p:cNvPr id="563" name="Group 36"/>
          <p:cNvGrpSpPr/>
          <p:nvPr/>
        </p:nvGrpSpPr>
        <p:grpSpPr>
          <a:xfrm>
            <a:off x="554040" y="1220760"/>
            <a:ext cx="3287880" cy="3654360"/>
            <a:chOff x="554040" y="1220760"/>
            <a:chExt cx="3287880" cy="3654360"/>
          </a:xfrm>
        </p:grpSpPr>
        <p:sp>
          <p:nvSpPr>
            <p:cNvPr id="564" name="AutoShape 37"/>
            <p:cNvSpPr/>
            <p:nvPr/>
          </p:nvSpPr>
          <p:spPr>
            <a:xfrm>
              <a:off x="554040" y="1285560"/>
              <a:ext cx="3124800" cy="3589560"/>
            </a:xfrm>
            <a:custGeom>
              <a:avLst/>
              <a:gdLst>
                <a:gd name="textAreaLeft" fmla="*/ 118440 w 3124800"/>
                <a:gd name="textAreaRight" fmla="*/ 3006360 w 3124800"/>
                <a:gd name="textAreaTop" fmla="*/ 118440 h 3589560"/>
                <a:gd name="textAreaBottom" fmla="*/ 3471120 h 3589560"/>
              </a:gdLst>
              <a:ahLst/>
              <a:rect l="textAreaLeft" t="textAreaTop" r="textAreaRight" b="textAreaBottom"/>
              <a:pathLst>
                <a:path w="21600" h="24812">
                  <a:moveTo>
                    <a:pt x="2797" y="0"/>
                  </a:moveTo>
                  <a:arcTo wR="2797" hR="2797" stAng="16200000" swAng="-5400000"/>
                  <a:lnTo>
                    <a:pt x="0" y="22015"/>
                  </a:lnTo>
                  <a:arcTo wR="2797" hR="2797" stAng="10800000" swAng="-5400000"/>
                  <a:lnTo>
                    <a:pt x="18803" y="24812"/>
                  </a:lnTo>
                  <a:arcTo wR="2797" hR="2797" stAng="5400000" swAng="-5400000"/>
                  <a:lnTo>
                    <a:pt x="21600" y="2797"/>
                  </a:lnTo>
                  <a:arcTo wR="2797" hR="2797" stAng="0" swAng="-5400000"/>
                  <a:close/>
                </a:path>
              </a:pathLst>
            </a:custGeom>
            <a:solidFill>
              <a:srgbClr val="fbe76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38"/>
            <p:cNvGrpSpPr/>
            <p:nvPr/>
          </p:nvGrpSpPr>
          <p:grpSpPr>
            <a:xfrm>
              <a:off x="1170360" y="1566360"/>
              <a:ext cx="2118240" cy="2587680"/>
              <a:chOff x="1170360" y="1566360"/>
              <a:chExt cx="2118240" cy="2587680"/>
            </a:xfrm>
          </p:grpSpPr>
          <p:grpSp>
            <p:nvGrpSpPr>
              <p:cNvPr id="566" name="Group 39"/>
              <p:cNvGrpSpPr/>
              <p:nvPr/>
            </p:nvGrpSpPr>
            <p:grpSpPr>
              <a:xfrm>
                <a:off x="1243080" y="1566360"/>
                <a:ext cx="1977120" cy="2398680"/>
                <a:chOff x="1243080" y="1566360"/>
                <a:chExt cx="1977120" cy="2398680"/>
              </a:xfrm>
            </p:grpSpPr>
            <p:grpSp>
              <p:nvGrpSpPr>
                <p:cNvPr id="567" name="Group 40"/>
                <p:cNvGrpSpPr/>
                <p:nvPr/>
              </p:nvGrpSpPr>
              <p:grpSpPr>
                <a:xfrm>
                  <a:off x="1243080" y="2079000"/>
                  <a:ext cx="1977120" cy="1886040"/>
                  <a:chOff x="1243080" y="2079000"/>
                  <a:chExt cx="1977120" cy="1886040"/>
                </a:xfrm>
              </p:grpSpPr>
              <p:sp>
                <p:nvSpPr>
                  <p:cNvPr id="568" name="Line 41"/>
                  <p:cNvSpPr/>
                  <p:nvPr/>
                </p:nvSpPr>
                <p:spPr>
                  <a:xfrm>
                    <a:off x="1762920" y="2144520"/>
                    <a:ext cx="1018800" cy="175680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Line 42"/>
                  <p:cNvSpPr/>
                  <p:nvPr/>
                </p:nvSpPr>
                <p:spPr>
                  <a:xfrm>
                    <a:off x="1621440" y="2220480"/>
                    <a:ext cx="1303560" cy="160416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Line 43"/>
                  <p:cNvSpPr/>
                  <p:nvPr/>
                </p:nvSpPr>
                <p:spPr>
                  <a:xfrm>
                    <a:off x="1921320" y="2094120"/>
                    <a:ext cx="702720" cy="185580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44"/>
                  <p:cNvSpPr/>
                  <p:nvPr/>
                </p:nvSpPr>
                <p:spPr>
                  <a:xfrm flipH="1">
                    <a:off x="1243080" y="2969640"/>
                    <a:ext cx="1977120" cy="88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45"/>
                  <p:cNvSpPr/>
                  <p:nvPr/>
                </p:nvSpPr>
                <p:spPr>
                  <a:xfrm flipH="1">
                    <a:off x="1507320" y="2509200"/>
                    <a:ext cx="1530000" cy="102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46"/>
                  <p:cNvSpPr/>
                  <p:nvPr/>
                </p:nvSpPr>
                <p:spPr>
                  <a:xfrm>
                    <a:off x="2264400" y="2079000"/>
                    <a:ext cx="15840" cy="1886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47"/>
                  <p:cNvSpPr/>
                  <p:nvPr/>
                </p:nvSpPr>
                <p:spPr>
                  <a:xfrm flipH="1">
                    <a:off x="1330200" y="2813760"/>
                    <a:ext cx="1884600" cy="416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48"/>
                  <p:cNvSpPr/>
                  <p:nvPr/>
                </p:nvSpPr>
                <p:spPr>
                  <a:xfrm flipH="1">
                    <a:off x="2105640" y="2114640"/>
                    <a:ext cx="334080" cy="1814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49"/>
                  <p:cNvSpPr/>
                  <p:nvPr/>
                </p:nvSpPr>
                <p:spPr>
                  <a:xfrm flipH="1">
                    <a:off x="1936440" y="2176200"/>
                    <a:ext cx="672840" cy="1691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50"/>
                  <p:cNvSpPr/>
                  <p:nvPr/>
                </p:nvSpPr>
                <p:spPr>
                  <a:xfrm flipH="1" flipV="1">
                    <a:off x="1398960" y="2444760"/>
                    <a:ext cx="1748880" cy="1155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51"/>
                  <p:cNvSpPr/>
                  <p:nvPr/>
                </p:nvSpPr>
                <p:spPr>
                  <a:xfrm flipH="1">
                    <a:off x="1632600" y="2377800"/>
                    <a:ext cx="1279440" cy="1289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52"/>
                  <p:cNvSpPr/>
                  <p:nvPr/>
                </p:nvSpPr>
                <p:spPr>
                  <a:xfrm flipH="1" flipV="1">
                    <a:off x="1325520" y="2584080"/>
                    <a:ext cx="1894680" cy="875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Line 53"/>
                <p:cNvSpPr/>
                <p:nvPr/>
              </p:nvSpPr>
              <p:spPr>
                <a:xfrm flipH="1" flipV="1">
                  <a:off x="1309680" y="1566360"/>
                  <a:ext cx="940680" cy="1365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54"/>
              <p:cNvGrpSpPr/>
              <p:nvPr/>
            </p:nvGrpSpPr>
            <p:grpSpPr>
              <a:xfrm>
                <a:off x="1170360" y="1668960"/>
                <a:ext cx="1001880" cy="1232640"/>
                <a:chOff x="1170360" y="1668960"/>
                <a:chExt cx="1001880" cy="1232640"/>
              </a:xfrm>
            </p:grpSpPr>
            <p:sp>
              <p:nvSpPr>
                <p:cNvPr id="582" name="Oval 55"/>
                <p:cNvSpPr/>
                <p:nvPr/>
              </p:nvSpPr>
              <p:spPr>
                <a:xfrm rot="19741800">
                  <a:off x="1166760" y="1955520"/>
                  <a:ext cx="993600" cy="261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6"/>
                <p:cNvSpPr/>
                <p:nvPr/>
              </p:nvSpPr>
              <p:spPr>
                <a:xfrm>
                  <a:off x="1245960" y="2356200"/>
                  <a:ext cx="909360" cy="542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7"/>
                <p:cNvSpPr/>
                <p:nvPr/>
              </p:nvSpPr>
              <p:spPr>
                <a:xfrm>
                  <a:off x="2091240" y="1817640"/>
                  <a:ext cx="81000" cy="1083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58"/>
                <p:cNvSpPr/>
                <p:nvPr/>
              </p:nvSpPr>
              <p:spPr>
                <a:xfrm>
                  <a:off x="1417320" y="1668960"/>
                  <a:ext cx="727200" cy="1211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Group 59"/>
              <p:cNvGrpSpPr/>
              <p:nvPr/>
            </p:nvGrpSpPr>
            <p:grpSpPr>
              <a:xfrm>
                <a:off x="2302200" y="2907720"/>
                <a:ext cx="986400" cy="1246320"/>
                <a:chOff x="2302200" y="2907720"/>
                <a:chExt cx="986400" cy="1246320"/>
              </a:xfrm>
            </p:grpSpPr>
            <p:sp>
              <p:nvSpPr>
                <p:cNvPr id="587" name="Oval 60"/>
                <p:cNvSpPr/>
                <p:nvPr/>
              </p:nvSpPr>
              <p:spPr>
                <a:xfrm flipH="1" rot="8942400">
                  <a:off x="2298600" y="3609360"/>
                  <a:ext cx="993600" cy="261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1"/>
                <p:cNvSpPr/>
                <p:nvPr/>
              </p:nvSpPr>
              <p:spPr>
                <a:xfrm flipH="1" flipV="1">
                  <a:off x="2310120" y="2923920"/>
                  <a:ext cx="50760" cy="10576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2"/>
                <p:cNvSpPr/>
                <p:nvPr/>
              </p:nvSpPr>
              <p:spPr>
                <a:xfrm flipH="1" flipV="1">
                  <a:off x="2315520" y="2907720"/>
                  <a:ext cx="918000" cy="581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3"/>
                <p:cNvSpPr/>
                <p:nvPr/>
              </p:nvSpPr>
              <p:spPr>
                <a:xfrm flipH="1" flipV="1">
                  <a:off x="2321280" y="2942640"/>
                  <a:ext cx="726840" cy="1211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1" name="Rectangle 64"/>
            <p:cNvSpPr/>
            <p:nvPr/>
          </p:nvSpPr>
          <p:spPr>
            <a:xfrm>
              <a:off x="1137600" y="1220760"/>
              <a:ext cx="50868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0" lang="en-US" sz="25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65"/>
            <p:cNvSpPr/>
            <p:nvPr/>
          </p:nvSpPr>
          <p:spPr>
            <a:xfrm>
              <a:off x="2888640" y="4003920"/>
              <a:ext cx="57132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0" lang="en-US" sz="25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6"/>
            <p:cNvSpPr/>
            <p:nvPr/>
          </p:nvSpPr>
          <p:spPr>
            <a:xfrm>
              <a:off x="638640" y="1904040"/>
              <a:ext cx="74988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500" spc="-1" strike="noStrike" baseline="32000">
                  <a:solidFill>
                    <a:srgbClr val="000000"/>
                  </a:solidFill>
                  <a:latin typeface="Arial"/>
                  <a:ea typeface="Arial"/>
                </a:rPr>
                <a:t>jet</a:t>
              </a:r>
              <a:r>
                <a:rPr b="0" lang="en-US" sz="25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7"/>
            <p:cNvSpPr/>
            <p:nvPr/>
          </p:nvSpPr>
          <p:spPr>
            <a:xfrm>
              <a:off x="1984680" y="4168440"/>
              <a:ext cx="77652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500" spc="-1" strike="noStrike" baseline="32000">
                  <a:solidFill>
                    <a:srgbClr val="000000"/>
                  </a:solidFill>
                  <a:latin typeface="Arial"/>
                  <a:ea typeface="Arial"/>
                </a:rPr>
                <a:t>jet</a:t>
              </a:r>
              <a:r>
                <a:rPr b="0" lang="en-US" sz="25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68"/>
            <p:cNvSpPr/>
            <p:nvPr/>
          </p:nvSpPr>
          <p:spPr>
            <a:xfrm>
              <a:off x="2190240" y="1683000"/>
              <a:ext cx="165168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2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cone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0.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69"/>
          <p:cNvGrpSpPr/>
          <p:nvPr/>
        </p:nvGrpSpPr>
        <p:grpSpPr>
          <a:xfrm>
            <a:off x="647640" y="4927680"/>
            <a:ext cx="3027240" cy="1895400"/>
            <a:chOff x="647640" y="4927680"/>
            <a:chExt cx="3027240" cy="1895400"/>
          </a:xfrm>
        </p:grpSpPr>
        <p:pic>
          <p:nvPicPr>
            <p:cNvPr id="597" name="Picture 70" descr=""/>
            <p:cNvPicPr/>
            <p:nvPr/>
          </p:nvPicPr>
          <p:blipFill>
            <a:blip r:embed="rId1"/>
            <a:stretch/>
          </p:blipFill>
          <p:spPr>
            <a:xfrm>
              <a:off x="647640" y="4927680"/>
              <a:ext cx="281880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Rectangle 71"/>
            <p:cNvSpPr/>
            <p:nvPr/>
          </p:nvSpPr>
          <p:spPr>
            <a:xfrm>
              <a:off x="938880" y="5025960"/>
              <a:ext cx="11361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0" lang="en-US" sz="15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JET1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-Φ</a:t>
              </a:r>
              <a:r>
                <a:rPr b="0" lang="en-US" sz="15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JET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72"/>
            <p:cNvSpPr/>
            <p:nvPr/>
          </p:nvSpPr>
          <p:spPr>
            <a:xfrm>
              <a:off x="2719440" y="4979880"/>
              <a:ext cx="9554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PYTHIA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73"/>
            <p:cNvSpPr/>
            <p:nvPr/>
          </p:nvSpPr>
          <p:spPr>
            <a:xfrm>
              <a:off x="2210400" y="5271840"/>
              <a:ext cx="13172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15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1500" spc="-1" strike="noStrike">
                  <a:solidFill>
                    <a:srgbClr val="0000ff"/>
                  </a:solidFill>
                  <a:latin typeface="Arial"/>
                  <a:ea typeface="Arial"/>
                </a:rPr>
                <a:t>40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GeV/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1500" spc="-1" strike="noStrike">
                  <a:solidFill>
                    <a:srgbClr val="ff0000"/>
                  </a:solidFill>
                  <a:latin typeface="Arial"/>
                  <a:ea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5:57:44Z</dcterms:created>
  <dc:creator/>
  <dc:description/>
  <cp:keywords/>
  <dc:language>en-US</dc:language>
  <cp:lastModifiedBy>中條 達也</cp:lastModifiedBy>
  <cp:lastPrinted>2009-04-07T21:17:45Z</cp:lastPrinted>
  <dcterms:modified xsi:type="dcterms:W3CDTF">2009-04-07T21:46:36Z</dcterms:modified>
  <cp:revision>17</cp:revision>
  <dc:subject/>
  <dc:title>J-Cal</dc:title>
</cp:coreProperties>
</file>