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2743-B68F-4E43-AAB2-166EBEED71B1}" type="datetime">
              <a:rPr b="0" lang="ja-JP" sz="1200" spc="-1" strike="noStrike">
                <a:solidFill>
                  <a:srgbClr val="000000"/>
                </a:solidFill>
                <a:latin typeface="Arial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536c2"/>
                </a:solidFill>
                <a:latin typeface="ＤＦＰ太丸ゴシック体"/>
              </a:rPr>
              <a:t>Click to move the slide</a:t>
            </a:r>
            <a:endParaRPr b="0" lang="en-US" sz="7200" spc="-1" strike="noStrike">
              <a:solidFill>
                <a:srgbClr val="2536c2"/>
              </a:solidFill>
              <a:latin typeface="ＤＦＰ太丸ゴシック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E3E9-A33D-404F-BEB2-4AA64FE021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3075-7481-4C53-B1E7-DC3D6AE486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7B3D-AE4F-4BD5-8E9A-F24F959D46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A835-E777-4B77-B537-2821BD3E3C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21F5-369F-47E7-A54E-2D856A2F7C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CCE4-557F-4C3A-ABF8-96BB98B6EA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F88B-B123-4AF3-9D2C-8F6889E0CA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A81B-8368-4883-AF45-95E2E342BC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8C22-1F62-4350-BBF5-D37980AB45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5AD7-40AC-46BC-944D-E3DEDA09A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69217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55840" y="6077520"/>
            <a:ext cx="69217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AC80-7CAB-4F22-AB26-783194B2E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0256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955840" y="607752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9502560" y="607752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ECAD-DF63-447C-8820-81F17A508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296200" y="205740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36200" y="205740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55840" y="607752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8296200" y="607752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10636200" y="607752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BB58-8634-4F6A-8EB8-29817838A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A71F-7102-4F1F-AC08-F78BC730BD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55840" y="2057400"/>
            <a:ext cx="6921720" cy="769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9919-D465-4B6A-8594-D8B69F304C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69217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308D-4765-43FD-B2B5-A329A4A997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33775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502560" y="2057400"/>
            <a:ext cx="33775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7276-ABAD-4719-BA98-FB5DDD2664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4ABC-30D9-493E-83B0-35505CCD7A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7080" y="216000"/>
            <a:ext cx="108712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AD42-2908-463E-BE5F-973A028865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502560" y="2057400"/>
            <a:ext cx="33775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55840" y="607752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C137-F488-4CA4-AA88-E74779F59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955840" y="2057400"/>
            <a:ext cx="6921720" cy="769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0B08-2B32-45FE-8696-D8E7E5529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33775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50256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502560" y="607752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93EA-429E-45B2-AF52-9D946DEE35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50256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55840" y="6077520"/>
            <a:ext cx="69217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32A1-7FE5-4A31-B3E4-BC493B5B03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69217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55840" y="6077520"/>
            <a:ext cx="69217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E392-58B7-4822-A5C0-BBF35444C9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50256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5840" y="607752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502560" y="607752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B1F2-653B-4C85-B5E4-124431579F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96200" y="205740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36200" y="205740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55840" y="607752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8296200" y="607752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0636200" y="6077520"/>
            <a:ext cx="222840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537A-5210-460A-9472-2896C65F8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69217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96D7-E8F3-4B1E-9A8B-CDE9078C7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33775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9502560" y="2057400"/>
            <a:ext cx="33775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8BA2-6220-433C-ADCD-1A7B6D1CC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1361-840B-4FE9-B949-AD39D3712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7080" y="216000"/>
            <a:ext cx="1087128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0C53-0CAE-48CA-8F95-923BD97C4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502560" y="2057400"/>
            <a:ext cx="33775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955840" y="607752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B355-EDAA-4C7A-896F-96AD62E5A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33775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50256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02560" y="607752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7C80-0DD5-41F7-828F-FC4761FFB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584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502560" y="2057400"/>
            <a:ext cx="33775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55840" y="6077520"/>
            <a:ext cx="6921720" cy="3670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6BB7-AF93-4B39-BBFF-D3FD13F22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0"/>
            <a:ext cx="9639360" cy="36972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536c2"/>
                </a:solidFill>
                <a:latin typeface="ＤＦＰ太丸ゴシック体"/>
              </a:rPr>
              <a:t>Click to edit the title text format</a:t>
            </a:r>
            <a:endParaRPr b="0" lang="en-US" sz="7200" spc="-1" strike="noStrike">
              <a:solidFill>
                <a:srgbClr val="2536c2"/>
              </a:solidFill>
              <a:latin typeface="ＤＦＰ太丸ゴシック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6000" y="4336920"/>
            <a:ext cx="8890200" cy="54165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6480" indent="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ＤＦＰ太丸ゴシック体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480" indent="-6480" algn="r">
              <a:spcBef>
                <a:spcPts val="1001"/>
              </a:spcBef>
              <a:buClr>
                <a:srgbClr val="000000"/>
              </a:buClr>
              <a:buFont typeface="ＤＦＰ太丸ゴシック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ＤＦＰ太丸ゴシック体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2" marL="6480" indent="-6480" algn="r">
              <a:spcBef>
                <a:spcPts val="1001"/>
              </a:spcBef>
              <a:buClr>
                <a:srgbClr val="000000"/>
              </a:buClr>
              <a:buFont typeface="ＤＦＰ太丸ゴシック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ＤＦＰ太丸ゴシック体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3" marL="6480" indent="-6480" algn="r">
              <a:spcBef>
                <a:spcPts val="10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ＤＦＰ太丸ゴシック体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4" marL="6480" indent="-6480" algn="r">
              <a:spcBef>
                <a:spcPts val="10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ＤＦＰ太丸ゴシック体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5" marL="6480" indent="-6480" algn="r">
              <a:spcBef>
                <a:spcPts val="10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ＤＦＰ太丸ゴシック体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6" marL="6480" indent="-6480" algn="r">
              <a:spcBef>
                <a:spcPts val="10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ＤＦＰ太丸ゴシック体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420720" y="933408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82A1-2D84-474D-9AF5-3F1EB266D5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93ea9"/>
                </a:solidFill>
                <a:latin typeface="ＤＦＰ太丸ゴシック体"/>
              </a:rPr>
              <a:t>Click to edit the title text format</a:t>
            </a: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955840" y="2057400"/>
            <a:ext cx="69217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 fontScale="98000"/>
          </a:bodyPr>
          <a:p>
            <a:pPr marL="374760" indent="-335880">
              <a:lnSpc>
                <a:spcPct val="15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67440" indent="-340560">
              <a:lnSpc>
                <a:spcPct val="150000"/>
              </a:lnSpc>
              <a:spcBef>
                <a:spcPts val="1001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2" marL="956520" indent="-28764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3" marL="1244520" indent="-28620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25000"/>
              <a:buFont typeface="Zapf Dingba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4" marL="1555560" indent="-30960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25000"/>
              <a:buFont typeface="Zapf Dingba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5" marL="1555560" indent="-309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Zapf Dingba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6" marL="1555560" indent="-309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Zapf Dingba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599640" y="94356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E447-62E6-4F42-A3B7-AB6D13B0F2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12420720" y="933444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F7B5-DCF1-424F-8679-F49245D791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"/>
          <p:cNvSpPr/>
          <p:nvPr/>
        </p:nvSpPr>
        <p:spPr>
          <a:xfrm>
            <a:off x="10401480" y="1511280"/>
            <a:ext cx="1440" cy="638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431640" y="4013280"/>
            <a:ext cx="11709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760" y="9435960"/>
            <a:ext cx="299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Miake, April 7, 2009 @ LB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49017" t="50360" r="4370" b="4378"/>
          <a:stretch/>
        </p:blipFill>
        <p:spPr>
          <a:xfrm>
            <a:off x="270000" y="5565600"/>
            <a:ext cx="3784320" cy="3556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48376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b">
            <a:noAutofit/>
          </a:bodyPr>
          <a:p>
            <a:pPr marL="572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536c2"/>
                </a:solidFill>
                <a:latin typeface="ＤＦＰ太丸ゴシック体"/>
              </a:rPr>
              <a:t>J-Cal</a:t>
            </a:r>
            <a:endParaRPr b="0" lang="en-US" sz="9600" spc="-1" strike="noStrike">
              <a:solidFill>
                <a:srgbClr val="2536c2"/>
              </a:solidFill>
              <a:latin typeface="ＤＦＰ太丸ゴシック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927360" y="5829120"/>
            <a:ext cx="1109988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5724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ＤＦＰ太丸ゴシック体"/>
              </a:rPr>
              <a:t>Yasuo MIAKE</a:t>
            </a:r>
            <a:endParaRPr b="0" lang="en-US" sz="42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5724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ＤＦＰ太丸ゴシック体"/>
              </a:rPr>
              <a:t>Univ. of Tsukuba</a:t>
            </a:r>
            <a:endParaRPr b="0" lang="en-US" sz="42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97160" y="4038480"/>
            <a:ext cx="90676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45b330"/>
                </a:solidFill>
                <a:latin typeface="Arial"/>
                <a:ea typeface="Arial"/>
              </a:rPr>
              <a:t>Things to do for Physics Performance Rep. &amp; </a:t>
            </a:r>
            <a:br>
              <a:rPr sz="3400"/>
            </a:br>
            <a:r>
              <a:rPr b="0" i="1" lang="en-US" sz="3400" spc="-1" strike="noStrike">
                <a:solidFill>
                  <a:srgbClr val="45b330"/>
                </a:solidFill>
                <a:latin typeface="Arial"/>
                <a:ea typeface="Arial"/>
              </a:rPr>
              <a:t>the next collaboration meet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rcRect l="50098" t="49652" r="2296" b="2655"/>
          <a:stretch/>
        </p:blipFill>
        <p:spPr>
          <a:xfrm>
            <a:off x="9232920" y="-15840"/>
            <a:ext cx="374184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スライド番号プレースホルダ 3"/>
          <p:cNvSpPr/>
          <p:nvPr/>
        </p:nvSpPr>
        <p:spPr>
          <a:xfrm>
            <a:off x="12600000" y="943596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5501-ACAA-4908-A715-8CDDA768C0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"/>
          <p:cNvSpPr/>
          <p:nvPr/>
        </p:nvSpPr>
        <p:spPr>
          <a:xfrm>
            <a:off x="11138040" y="0"/>
            <a:ext cx="1440" cy="18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"/>
          <p:cNvSpPr/>
          <p:nvPr/>
        </p:nvSpPr>
        <p:spPr>
          <a:xfrm flipV="1">
            <a:off x="215280" y="1739880"/>
            <a:ext cx="1257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11175840" y="-76320"/>
            <a:ext cx="1841400" cy="1790640"/>
            <a:chOff x="11175840" y="-76320"/>
            <a:chExt cx="1841400" cy="1790640"/>
          </a:xfrm>
        </p:grpSpPr>
        <p:sp>
          <p:nvSpPr>
            <p:cNvPr id="98" name="Oval 5"/>
            <p:cNvSpPr/>
            <p:nvPr/>
          </p:nvSpPr>
          <p:spPr>
            <a:xfrm>
              <a:off x="11175840" y="-76320"/>
              <a:ext cx="1841400" cy="179064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6"/>
            <p:cNvGrpSpPr/>
            <p:nvPr/>
          </p:nvGrpSpPr>
          <p:grpSpPr>
            <a:xfrm>
              <a:off x="11248920" y="29880"/>
              <a:ext cx="1721520" cy="1580760"/>
              <a:chOff x="11248920" y="29880"/>
              <a:chExt cx="1721520" cy="1580760"/>
            </a:xfrm>
          </p:grpSpPr>
          <p:grpSp>
            <p:nvGrpSpPr>
              <p:cNvPr id="100" name="Group 7"/>
              <p:cNvGrpSpPr/>
              <p:nvPr/>
            </p:nvGrpSpPr>
            <p:grpSpPr>
              <a:xfrm>
                <a:off x="11770920" y="1158120"/>
                <a:ext cx="241920" cy="452520"/>
                <a:chOff x="11770920" y="1158120"/>
                <a:chExt cx="241920" cy="452520"/>
              </a:xfrm>
            </p:grpSpPr>
            <p:sp>
              <p:nvSpPr>
                <p:cNvPr id="101" name="Line 8"/>
                <p:cNvSpPr/>
                <p:nvPr/>
              </p:nvSpPr>
              <p:spPr>
                <a:xfrm flipH="1">
                  <a:off x="11837160" y="1162800"/>
                  <a:ext cx="108360" cy="447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9"/>
                <p:cNvSpPr/>
                <p:nvPr/>
              </p:nvSpPr>
              <p:spPr>
                <a:xfrm flipH="1">
                  <a:off x="11844000" y="1181880"/>
                  <a:ext cx="76320" cy="21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0"/>
                <p:cNvSpPr/>
                <p:nvPr/>
              </p:nvSpPr>
              <p:spPr>
                <a:xfrm flipH="1">
                  <a:off x="11793240" y="1180440"/>
                  <a:ext cx="120960" cy="18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1"/>
                <p:cNvSpPr/>
                <p:nvPr/>
              </p:nvSpPr>
              <p:spPr>
                <a:xfrm flipH="1">
                  <a:off x="11770920" y="1158120"/>
                  <a:ext cx="164160" cy="9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2"/>
                <p:cNvSpPr/>
                <p:nvPr/>
              </p:nvSpPr>
              <p:spPr>
                <a:xfrm flipH="1">
                  <a:off x="11949480" y="1178640"/>
                  <a:ext cx="7920" cy="34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3"/>
                <p:cNvSpPr/>
                <p:nvPr/>
              </p:nvSpPr>
              <p:spPr>
                <a:xfrm>
                  <a:off x="11974680" y="1170720"/>
                  <a:ext cx="38160" cy="22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Freeform 14"/>
              <p:cNvSpPr/>
              <p:nvPr/>
            </p:nvSpPr>
            <p:spPr>
              <a:xfrm>
                <a:off x="11445480" y="5018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12081960" y="790920"/>
                <a:ext cx="4896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6"/>
              <p:cNvSpPr/>
              <p:nvPr/>
            </p:nvSpPr>
            <p:spPr>
              <a:xfrm rot="10800000">
                <a:off x="11961360" y="8780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Group 17"/>
              <p:cNvGrpSpPr/>
              <p:nvPr/>
            </p:nvGrpSpPr>
            <p:grpSpPr>
              <a:xfrm>
                <a:off x="12236760" y="29880"/>
                <a:ext cx="258840" cy="457200"/>
                <a:chOff x="12236760" y="29880"/>
                <a:chExt cx="258840" cy="457200"/>
              </a:xfrm>
            </p:grpSpPr>
            <p:sp>
              <p:nvSpPr>
                <p:cNvPr id="111" name="Line 18"/>
                <p:cNvSpPr/>
                <p:nvPr/>
              </p:nvSpPr>
              <p:spPr>
                <a:xfrm flipV="1">
                  <a:off x="12236760" y="262800"/>
                  <a:ext cx="4680" cy="21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9"/>
                <p:cNvSpPr/>
                <p:nvPr/>
              </p:nvSpPr>
              <p:spPr>
                <a:xfrm flipV="1">
                  <a:off x="12273840" y="114120"/>
                  <a:ext cx="86400" cy="30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20"/>
                <p:cNvSpPr/>
                <p:nvPr/>
              </p:nvSpPr>
              <p:spPr>
                <a:xfrm flipV="1">
                  <a:off x="12292920" y="348840"/>
                  <a:ext cx="15480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21"/>
                <p:cNvSpPr/>
                <p:nvPr/>
              </p:nvSpPr>
              <p:spPr>
                <a:xfrm flipV="1">
                  <a:off x="12257280" y="210960"/>
                  <a:ext cx="32040" cy="23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2"/>
                <p:cNvSpPr/>
                <p:nvPr/>
              </p:nvSpPr>
              <p:spPr>
                <a:xfrm flipV="1">
                  <a:off x="12263040" y="29880"/>
                  <a:ext cx="2325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3"/>
                <p:cNvSpPr/>
                <p:nvPr/>
              </p:nvSpPr>
              <p:spPr>
                <a:xfrm flipV="1">
                  <a:off x="12287520" y="252000"/>
                  <a:ext cx="181800" cy="20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11248920" y="663840"/>
                <a:ext cx="239040" cy="184320"/>
                <a:chOff x="11248920" y="663840"/>
                <a:chExt cx="239040" cy="184320"/>
              </a:xfrm>
            </p:grpSpPr>
            <p:sp>
              <p:nvSpPr>
                <p:cNvPr id="118" name="Line 25"/>
                <p:cNvSpPr/>
                <p:nvPr/>
              </p:nvSpPr>
              <p:spPr>
                <a:xfrm>
                  <a:off x="11248920" y="80820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6"/>
                <p:cNvSpPr/>
                <p:nvPr/>
              </p:nvSpPr>
              <p:spPr>
                <a:xfrm>
                  <a:off x="11248920" y="7560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27"/>
                <p:cNvSpPr/>
                <p:nvPr/>
              </p:nvSpPr>
              <p:spPr>
                <a:xfrm>
                  <a:off x="11248920" y="70344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Oval 28"/>
                <p:cNvSpPr/>
                <p:nvPr/>
              </p:nvSpPr>
              <p:spPr>
                <a:xfrm>
                  <a:off x="11421720" y="663840"/>
                  <a:ext cx="66240" cy="184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29"/>
              <p:cNvGrpSpPr/>
              <p:nvPr/>
            </p:nvGrpSpPr>
            <p:grpSpPr>
              <a:xfrm>
                <a:off x="12731400" y="803880"/>
                <a:ext cx="239040" cy="185040"/>
                <a:chOff x="12731400" y="803880"/>
                <a:chExt cx="239040" cy="185040"/>
              </a:xfrm>
            </p:grpSpPr>
            <p:sp>
              <p:nvSpPr>
                <p:cNvPr id="123" name="Line 30"/>
                <p:cNvSpPr/>
                <p:nvPr/>
              </p:nvSpPr>
              <p:spPr>
                <a:xfrm flipH="1">
                  <a:off x="12770640" y="94896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31"/>
                <p:cNvSpPr/>
                <p:nvPr/>
              </p:nvSpPr>
              <p:spPr>
                <a:xfrm flipH="1">
                  <a:off x="12770640" y="8964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32"/>
                <p:cNvSpPr/>
                <p:nvPr/>
              </p:nvSpPr>
              <p:spPr>
                <a:xfrm flipH="1">
                  <a:off x="12770640" y="84348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Oval 33"/>
                <p:cNvSpPr/>
                <p:nvPr/>
              </p:nvSpPr>
              <p:spPr>
                <a:xfrm flipH="1">
                  <a:off x="12731400" y="803880"/>
                  <a:ext cx="66240" cy="18504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93ea9"/>
                </a:solidFill>
                <a:latin typeface="ＤＦＰ太丸ゴシック体"/>
              </a:rPr>
              <a:t>Comments from the M.B.</a:t>
            </a: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2400" y="2057040"/>
            <a:ext cx="12395160" cy="62485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Physics simulation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5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Rates (jet-jet and gamma-jet), 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5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Physics gain (eg. in energy/angle resolution) compared to measuring the second jet in theTPC only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-343080">
              <a:lnSpc>
                <a:spcPct val="15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Clarification on the scope (1,2,3 modules ?)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5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Time scale of construction, Funding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-343080">
              <a:lnSpc>
                <a:spcPct val="15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Implications/cost for infrastructure + services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129" name="テキスト ボックス 37"/>
          <p:cNvSpPr/>
          <p:nvPr/>
        </p:nvSpPr>
        <p:spPr>
          <a:xfrm>
            <a:off x="7293240" y="8458200"/>
            <a:ext cx="548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xt M.B.; May 28 or July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0760" y="9435960"/>
            <a:ext cx="299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Miake, April 7, 2009 @ LB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 3"/>
          <p:cNvSpPr/>
          <p:nvPr/>
        </p:nvSpPr>
        <p:spPr>
          <a:xfrm>
            <a:off x="12600000" y="943596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E437-0FD0-494C-9EEE-0553D8B8E2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"/>
          <p:cNvSpPr/>
          <p:nvPr/>
        </p:nvSpPr>
        <p:spPr>
          <a:xfrm>
            <a:off x="11138040" y="0"/>
            <a:ext cx="1440" cy="18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"/>
          <p:cNvSpPr/>
          <p:nvPr/>
        </p:nvSpPr>
        <p:spPr>
          <a:xfrm flipV="1">
            <a:off x="215280" y="1739880"/>
            <a:ext cx="1257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1175840" y="-76320"/>
            <a:ext cx="1841400" cy="1790640"/>
            <a:chOff x="11175840" y="-76320"/>
            <a:chExt cx="1841400" cy="1790640"/>
          </a:xfrm>
        </p:grpSpPr>
        <p:sp>
          <p:nvSpPr>
            <p:cNvPr id="135" name="Oval 5"/>
            <p:cNvSpPr/>
            <p:nvPr/>
          </p:nvSpPr>
          <p:spPr>
            <a:xfrm>
              <a:off x="11175840" y="-76320"/>
              <a:ext cx="1841400" cy="179064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"/>
            <p:cNvGrpSpPr/>
            <p:nvPr/>
          </p:nvGrpSpPr>
          <p:grpSpPr>
            <a:xfrm>
              <a:off x="11248920" y="29880"/>
              <a:ext cx="1721520" cy="1580760"/>
              <a:chOff x="11248920" y="29880"/>
              <a:chExt cx="1721520" cy="1580760"/>
            </a:xfrm>
          </p:grpSpPr>
          <p:grpSp>
            <p:nvGrpSpPr>
              <p:cNvPr id="137" name="Group 7"/>
              <p:cNvGrpSpPr/>
              <p:nvPr/>
            </p:nvGrpSpPr>
            <p:grpSpPr>
              <a:xfrm>
                <a:off x="11770920" y="1158120"/>
                <a:ext cx="241920" cy="452520"/>
                <a:chOff x="11770920" y="1158120"/>
                <a:chExt cx="241920" cy="452520"/>
              </a:xfrm>
            </p:grpSpPr>
            <p:sp>
              <p:nvSpPr>
                <p:cNvPr id="138" name="Line 8"/>
                <p:cNvSpPr/>
                <p:nvPr/>
              </p:nvSpPr>
              <p:spPr>
                <a:xfrm flipH="1">
                  <a:off x="11837160" y="1162800"/>
                  <a:ext cx="108360" cy="447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9"/>
                <p:cNvSpPr/>
                <p:nvPr/>
              </p:nvSpPr>
              <p:spPr>
                <a:xfrm flipH="1">
                  <a:off x="11844000" y="1181880"/>
                  <a:ext cx="76320" cy="21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0"/>
                <p:cNvSpPr/>
                <p:nvPr/>
              </p:nvSpPr>
              <p:spPr>
                <a:xfrm flipH="1">
                  <a:off x="11793240" y="1180440"/>
                  <a:ext cx="120960" cy="18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1"/>
                <p:cNvSpPr/>
                <p:nvPr/>
              </p:nvSpPr>
              <p:spPr>
                <a:xfrm flipH="1">
                  <a:off x="11770920" y="1158120"/>
                  <a:ext cx="164160" cy="9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2"/>
                <p:cNvSpPr/>
                <p:nvPr/>
              </p:nvSpPr>
              <p:spPr>
                <a:xfrm flipH="1">
                  <a:off x="11949480" y="1178640"/>
                  <a:ext cx="7920" cy="34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3"/>
                <p:cNvSpPr/>
                <p:nvPr/>
              </p:nvSpPr>
              <p:spPr>
                <a:xfrm>
                  <a:off x="11974680" y="1170720"/>
                  <a:ext cx="38160" cy="22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Freeform 14"/>
              <p:cNvSpPr/>
              <p:nvPr/>
            </p:nvSpPr>
            <p:spPr>
              <a:xfrm>
                <a:off x="11445480" y="5018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5"/>
              <p:cNvSpPr/>
              <p:nvPr/>
            </p:nvSpPr>
            <p:spPr>
              <a:xfrm>
                <a:off x="12081960" y="790920"/>
                <a:ext cx="4896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"/>
              <p:cNvSpPr/>
              <p:nvPr/>
            </p:nvSpPr>
            <p:spPr>
              <a:xfrm rot="10800000">
                <a:off x="11961360" y="8780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17"/>
              <p:cNvGrpSpPr/>
              <p:nvPr/>
            </p:nvGrpSpPr>
            <p:grpSpPr>
              <a:xfrm>
                <a:off x="12236760" y="29880"/>
                <a:ext cx="258840" cy="457200"/>
                <a:chOff x="12236760" y="29880"/>
                <a:chExt cx="258840" cy="457200"/>
              </a:xfrm>
            </p:grpSpPr>
            <p:sp>
              <p:nvSpPr>
                <p:cNvPr id="148" name="Line 18"/>
                <p:cNvSpPr/>
                <p:nvPr/>
              </p:nvSpPr>
              <p:spPr>
                <a:xfrm flipV="1">
                  <a:off x="12236760" y="262800"/>
                  <a:ext cx="4680" cy="21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9"/>
                <p:cNvSpPr/>
                <p:nvPr/>
              </p:nvSpPr>
              <p:spPr>
                <a:xfrm flipV="1">
                  <a:off x="12273840" y="114120"/>
                  <a:ext cx="86400" cy="30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0"/>
                <p:cNvSpPr/>
                <p:nvPr/>
              </p:nvSpPr>
              <p:spPr>
                <a:xfrm flipV="1">
                  <a:off x="12292920" y="348840"/>
                  <a:ext cx="15480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1"/>
                <p:cNvSpPr/>
                <p:nvPr/>
              </p:nvSpPr>
              <p:spPr>
                <a:xfrm flipV="1">
                  <a:off x="12257280" y="210960"/>
                  <a:ext cx="32040" cy="23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2"/>
                <p:cNvSpPr/>
                <p:nvPr/>
              </p:nvSpPr>
              <p:spPr>
                <a:xfrm flipV="1">
                  <a:off x="12263040" y="29880"/>
                  <a:ext cx="2325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3"/>
                <p:cNvSpPr/>
                <p:nvPr/>
              </p:nvSpPr>
              <p:spPr>
                <a:xfrm flipV="1">
                  <a:off x="12287520" y="252000"/>
                  <a:ext cx="181800" cy="20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24"/>
              <p:cNvGrpSpPr/>
              <p:nvPr/>
            </p:nvGrpSpPr>
            <p:grpSpPr>
              <a:xfrm>
                <a:off x="11248920" y="663840"/>
                <a:ext cx="239040" cy="184320"/>
                <a:chOff x="11248920" y="663840"/>
                <a:chExt cx="239040" cy="184320"/>
              </a:xfrm>
            </p:grpSpPr>
            <p:sp>
              <p:nvSpPr>
                <p:cNvPr id="155" name="Line 25"/>
                <p:cNvSpPr/>
                <p:nvPr/>
              </p:nvSpPr>
              <p:spPr>
                <a:xfrm>
                  <a:off x="11248920" y="80820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26"/>
                <p:cNvSpPr/>
                <p:nvPr/>
              </p:nvSpPr>
              <p:spPr>
                <a:xfrm>
                  <a:off x="11248920" y="7560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27"/>
                <p:cNvSpPr/>
                <p:nvPr/>
              </p:nvSpPr>
              <p:spPr>
                <a:xfrm>
                  <a:off x="11248920" y="70344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28"/>
                <p:cNvSpPr/>
                <p:nvPr/>
              </p:nvSpPr>
              <p:spPr>
                <a:xfrm>
                  <a:off x="11421720" y="663840"/>
                  <a:ext cx="66240" cy="184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29"/>
              <p:cNvGrpSpPr/>
              <p:nvPr/>
            </p:nvGrpSpPr>
            <p:grpSpPr>
              <a:xfrm>
                <a:off x="12731400" y="803880"/>
                <a:ext cx="239040" cy="185040"/>
                <a:chOff x="12731400" y="803880"/>
                <a:chExt cx="239040" cy="185040"/>
              </a:xfrm>
            </p:grpSpPr>
            <p:sp>
              <p:nvSpPr>
                <p:cNvPr id="160" name="Line 30"/>
                <p:cNvSpPr/>
                <p:nvPr/>
              </p:nvSpPr>
              <p:spPr>
                <a:xfrm flipH="1">
                  <a:off x="12770640" y="94896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31"/>
                <p:cNvSpPr/>
                <p:nvPr/>
              </p:nvSpPr>
              <p:spPr>
                <a:xfrm flipH="1">
                  <a:off x="12770640" y="8964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32"/>
                <p:cNvSpPr/>
                <p:nvPr/>
              </p:nvSpPr>
              <p:spPr>
                <a:xfrm flipH="1">
                  <a:off x="12770640" y="84348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3"/>
                <p:cNvSpPr/>
                <p:nvPr/>
              </p:nvSpPr>
              <p:spPr>
                <a:xfrm flipH="1">
                  <a:off x="12731400" y="803880"/>
                  <a:ext cx="66240" cy="18504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93ea9"/>
                </a:solidFill>
                <a:latin typeface="ＤＦＰ太丸ゴシック体"/>
              </a:rPr>
              <a:t>Rates</a:t>
            </a: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1235700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3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Issues ; kinematics and geom. acceptance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-343080">
              <a:lnSpc>
                <a:spcPct val="13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PYTHIA w. acceptance &amp; resolutions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3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jet-jet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3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gamma - jet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3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pi-zero – jet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2" marL="976320" indent="-2937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ＤＦＰ太丸ゴシック体"/>
              </a:rPr>
              <a:t>Compared for J-Cal of 2, 3 and 4 S.M.</a:t>
            </a:r>
            <a:endParaRPr b="0" lang="en-US" sz="2600" spc="-1" strike="noStrike">
              <a:solidFill>
                <a:srgbClr val="ff0000"/>
              </a:solidFill>
              <a:latin typeface="ＤＦＰ太丸ゴシック体"/>
            </a:endParaRPr>
          </a:p>
          <a:p>
            <a:pPr marL="382680" indent="-343080">
              <a:lnSpc>
                <a:spcPct val="13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Also rates for gamma(Jcal)-jet(EMcal) with gamma(EMcal)-jet (TPC)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-343080">
              <a:lnSpc>
                <a:spcPct val="13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In case of 4 S.M., 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grpSp>
        <p:nvGrpSpPr>
          <p:cNvPr id="166" name="図形グループ 55"/>
          <p:cNvGrpSpPr/>
          <p:nvPr/>
        </p:nvGrpSpPr>
        <p:grpSpPr>
          <a:xfrm>
            <a:off x="5651640" y="8077320"/>
            <a:ext cx="1155600" cy="1676160"/>
            <a:chOff x="5651640" y="8077320"/>
            <a:chExt cx="1155600" cy="1676160"/>
          </a:xfrm>
        </p:grpSpPr>
        <p:grpSp>
          <p:nvGrpSpPr>
            <p:cNvPr id="167" name="図形グループ 48"/>
            <p:cNvGrpSpPr/>
            <p:nvPr/>
          </p:nvGrpSpPr>
          <p:grpSpPr>
            <a:xfrm>
              <a:off x="5998320" y="8250480"/>
              <a:ext cx="808920" cy="1329480"/>
              <a:chOff x="5998320" y="8250480"/>
              <a:chExt cx="808920" cy="1329480"/>
            </a:xfrm>
          </p:grpSpPr>
          <p:sp>
            <p:nvSpPr>
              <p:cNvPr id="168" name="正方形/長方形 37"/>
              <p:cNvSpPr/>
              <p:nvPr/>
            </p:nvSpPr>
            <p:spPr>
              <a:xfrm>
                <a:off x="5998320" y="8250480"/>
                <a:ext cx="808920" cy="28908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正方形/長方形 39"/>
              <p:cNvSpPr/>
              <p:nvPr/>
            </p:nvSpPr>
            <p:spPr>
              <a:xfrm>
                <a:off x="5998320" y="9290880"/>
                <a:ext cx="808920" cy="28908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正方形/長方形 40"/>
              <p:cNvSpPr/>
              <p:nvPr/>
            </p:nvSpPr>
            <p:spPr>
              <a:xfrm>
                <a:off x="5998320" y="8944200"/>
                <a:ext cx="808920" cy="28908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正方形/長方形 41"/>
              <p:cNvSpPr/>
              <p:nvPr/>
            </p:nvSpPr>
            <p:spPr>
              <a:xfrm>
                <a:off x="5998320" y="8597160"/>
                <a:ext cx="808920" cy="28908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正方形/長方形 46"/>
            <p:cNvSpPr/>
            <p:nvPr/>
          </p:nvSpPr>
          <p:spPr>
            <a:xfrm>
              <a:off x="5651640" y="8077320"/>
              <a:ext cx="288720" cy="1676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テキスト ボックス 47"/>
          <p:cNvSpPr/>
          <p:nvPr/>
        </p:nvSpPr>
        <p:spPr>
          <a:xfrm>
            <a:off x="7040520" y="8305920"/>
            <a:ext cx="56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図形グループ 56"/>
          <p:cNvGrpSpPr/>
          <p:nvPr/>
        </p:nvGrpSpPr>
        <p:grpSpPr>
          <a:xfrm>
            <a:off x="9401040" y="7924680"/>
            <a:ext cx="2206800" cy="1828800"/>
            <a:chOff x="9401040" y="7924680"/>
            <a:chExt cx="2206800" cy="1828800"/>
          </a:xfrm>
        </p:grpSpPr>
        <p:sp>
          <p:nvSpPr>
            <p:cNvPr id="175" name="正方形/長方形 42"/>
            <p:cNvSpPr/>
            <p:nvPr/>
          </p:nvSpPr>
          <p:spPr>
            <a:xfrm>
              <a:off x="10725120" y="8429040"/>
              <a:ext cx="882720" cy="315360"/>
            </a:xfrm>
            <a:prstGeom prst="rect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正方形/長方形 43"/>
            <p:cNvSpPr/>
            <p:nvPr/>
          </p:nvSpPr>
          <p:spPr>
            <a:xfrm>
              <a:off x="10725120" y="8807400"/>
              <a:ext cx="882720" cy="315360"/>
            </a:xfrm>
            <a:prstGeom prst="rect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正方形/長方形 44"/>
            <p:cNvSpPr/>
            <p:nvPr/>
          </p:nvSpPr>
          <p:spPr>
            <a:xfrm>
              <a:off x="9401040" y="8807400"/>
              <a:ext cx="882720" cy="315360"/>
            </a:xfrm>
            <a:prstGeom prst="rect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正方形/長方形 45"/>
            <p:cNvSpPr/>
            <p:nvPr/>
          </p:nvSpPr>
          <p:spPr>
            <a:xfrm>
              <a:off x="9401040" y="8429040"/>
              <a:ext cx="882720" cy="315360"/>
            </a:xfrm>
            <a:prstGeom prst="rect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正方形/長方形 54"/>
            <p:cNvSpPr/>
            <p:nvPr/>
          </p:nvSpPr>
          <p:spPr>
            <a:xfrm>
              <a:off x="10346760" y="7924680"/>
              <a:ext cx="315000" cy="1828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3"/>
          <p:cNvSpPr/>
          <p:nvPr/>
        </p:nvSpPr>
        <p:spPr>
          <a:xfrm>
            <a:off x="50760" y="9435960"/>
            <a:ext cx="299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Miake, April 7, 2009 @ LB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64"/>
          <p:cNvGrpSpPr/>
          <p:nvPr/>
        </p:nvGrpSpPr>
        <p:grpSpPr>
          <a:xfrm>
            <a:off x="10423800" y="2743200"/>
            <a:ext cx="2093760" cy="2767320"/>
            <a:chOff x="10423800" y="2743200"/>
            <a:chExt cx="2093760" cy="2767320"/>
          </a:xfrm>
        </p:grpSpPr>
        <p:cxnSp>
          <p:nvCxnSpPr>
            <p:cNvPr id="182" name="Straight Arrow Connector 165"/>
            <p:cNvCxnSpPr/>
            <p:nvPr/>
          </p:nvCxnSpPr>
          <p:spPr>
            <a:xfrm flipH="1">
              <a:off x="11171160" y="3485160"/>
              <a:ext cx="868680" cy="1370880"/>
            </a:xfrm>
            <a:prstGeom prst="straightConnector1">
              <a:avLst/>
            </a:prstGeom>
            <a:ln w="25560">
              <a:solidFill>
                <a:srgbClr val="cccc00"/>
              </a:solidFill>
              <a:miter/>
              <a:tailEnd len="med" type="arrow" w="med"/>
            </a:ln>
          </p:spPr>
        </p:cxnSp>
        <p:sp>
          <p:nvSpPr>
            <p:cNvPr id="183" name="Lightning Bolt 166"/>
            <p:cNvSpPr/>
            <p:nvPr/>
          </p:nvSpPr>
          <p:spPr>
            <a:xfrm flipV="1">
              <a:off x="11355840" y="4164480"/>
              <a:ext cx="256320" cy="107640"/>
            </a:xfrm>
            <a:prstGeom prst="lightningBolt">
              <a:avLst/>
            </a:prstGeom>
            <a:gradFill rotWithShape="0">
              <a:gsLst>
                <a:gs pos="0">
                  <a:srgbClr val="ffff85"/>
                </a:gs>
                <a:gs pos="100000">
                  <a:srgbClr val="ebeb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ghtning Bolt 167"/>
            <p:cNvSpPr/>
            <p:nvPr/>
          </p:nvSpPr>
          <p:spPr>
            <a:xfrm flipH="1" flipV="1" rot="1835400">
              <a:off x="11735280" y="3746880"/>
              <a:ext cx="160560" cy="538920"/>
            </a:xfrm>
            <a:prstGeom prst="lightningBolt">
              <a:avLst/>
            </a:prstGeom>
            <a:gradFill rotWithShape="0">
              <a:gsLst>
                <a:gs pos="0">
                  <a:srgbClr val="ffff85"/>
                </a:gs>
                <a:gs pos="100000">
                  <a:srgbClr val="ebeb00"/>
                </a:gs>
              </a:gsLst>
              <a:lin ang="3564000"/>
            </a:gradFill>
            <a:ln w="9360">
              <a:solidFill>
                <a:srgbClr val="cccc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Oval 168"/>
            <p:cNvGrpSpPr/>
            <p:nvPr/>
          </p:nvGrpSpPr>
          <p:grpSpPr>
            <a:xfrm>
              <a:off x="11015280" y="3236040"/>
              <a:ext cx="1502280" cy="1460160"/>
              <a:chOff x="11015280" y="3236040"/>
              <a:chExt cx="1502280" cy="1460160"/>
            </a:xfrm>
          </p:grpSpPr>
          <p:pic>
            <p:nvPicPr>
              <p:cNvPr id="186" name="Oval 168" descr=""/>
              <p:cNvPicPr/>
              <p:nvPr/>
            </p:nvPicPr>
            <p:blipFill>
              <a:blip r:embed="rId1"/>
              <a:stretch/>
            </p:blipFill>
            <p:spPr>
              <a:xfrm>
                <a:off x="11015280" y="3236040"/>
                <a:ext cx="1502280" cy="14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11275560" y="3470040"/>
                <a:ext cx="986040" cy="95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8" name="Straight Arrow Connector 169"/>
            <p:cNvCxnSpPr/>
            <p:nvPr/>
          </p:nvCxnSpPr>
          <p:spPr>
            <a:xfrm flipV="1">
              <a:off x="12038760" y="2932200"/>
              <a:ext cx="426600" cy="575640"/>
            </a:xfrm>
            <a:prstGeom prst="straightConnector1">
              <a:avLst/>
            </a:prstGeom>
            <a:ln w="25560">
              <a:solidFill>
                <a:srgbClr val="cccc00"/>
              </a:solidFill>
              <a:miter/>
              <a:tailEnd len="med" type="arrow" w="med"/>
            </a:ln>
          </p:spPr>
        </p:cxnSp>
        <p:grpSp>
          <p:nvGrpSpPr>
            <p:cNvPr id="189" name="Group 136"/>
            <p:cNvGrpSpPr/>
            <p:nvPr/>
          </p:nvGrpSpPr>
          <p:grpSpPr>
            <a:xfrm>
              <a:off x="10423800" y="4384440"/>
              <a:ext cx="1205280" cy="1126080"/>
              <a:chOff x="10423800" y="4384440"/>
              <a:chExt cx="1205280" cy="1126080"/>
            </a:xfrm>
          </p:grpSpPr>
          <p:cxnSp>
            <p:nvCxnSpPr>
              <p:cNvPr id="190" name="Straight Arrow Connector 173"/>
              <p:cNvCxnSpPr/>
              <p:nvPr/>
            </p:nvCxnSpPr>
            <p:spPr>
              <a:xfrm flipH="1">
                <a:off x="11070360" y="4851360"/>
                <a:ext cx="103320" cy="287280"/>
              </a:xfrm>
              <a:prstGeom prst="straightConnector1">
                <a:avLst/>
              </a:prstGeom>
              <a:ln w="25560">
                <a:solidFill>
                  <a:srgbClr val="cccc00"/>
                </a:solidFill>
                <a:miter/>
                <a:tailEnd len="med" type="arrow" w="med"/>
              </a:ln>
            </p:spPr>
          </p:cxnSp>
          <p:sp>
            <p:nvSpPr>
              <p:cNvPr id="191" name="Isosceles Triangle 174"/>
              <p:cNvSpPr/>
              <p:nvPr/>
            </p:nvSpPr>
            <p:spPr>
              <a:xfrm rot="1551000">
                <a:off x="10894320" y="4480560"/>
                <a:ext cx="607320" cy="723240"/>
              </a:xfrm>
              <a:prstGeom prst="triangle">
                <a:avLst>
                  <a:gd name="adj" fmla="val 54398"/>
                </a:avLst>
              </a:prstGeom>
              <a:solidFill>
                <a:srgbClr val="cccccc">
                  <a:alpha val="38000"/>
                </a:srgbClr>
              </a:solidFill>
              <a:ln w="9360">
                <a:solidFill>
                  <a:srgbClr val="cccc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2" name="Straight Arrow Connector 175"/>
              <p:cNvCxnSpPr/>
              <p:nvPr/>
            </p:nvCxnSpPr>
            <p:spPr>
              <a:xfrm flipH="1">
                <a:off x="10993680" y="4851360"/>
                <a:ext cx="179280" cy="185040"/>
              </a:xfrm>
              <a:prstGeom prst="straightConnector1">
                <a:avLst/>
              </a:prstGeom>
              <a:ln w="25560">
                <a:solidFill>
                  <a:srgbClr val="cccc00"/>
                </a:solidFill>
                <a:miter/>
                <a:tailEnd len="med" type="arrow" w="med"/>
              </a:ln>
            </p:spPr>
          </p:cxnSp>
          <p:cxnSp>
            <p:nvCxnSpPr>
              <p:cNvPr id="193" name="Straight Arrow Connector 176"/>
              <p:cNvCxnSpPr/>
              <p:nvPr/>
            </p:nvCxnSpPr>
            <p:spPr>
              <a:xfrm>
                <a:off x="11173320" y="4813200"/>
                <a:ext cx="43200" cy="199080"/>
              </a:xfrm>
              <a:prstGeom prst="straightConnector1">
                <a:avLst/>
              </a:prstGeom>
              <a:ln w="25560">
                <a:solidFill>
                  <a:srgbClr val="cccc00"/>
                </a:solidFill>
                <a:miter/>
                <a:tailEnd len="med" type="arrow" w="med"/>
              </a:ln>
            </p:spPr>
          </p:cxnSp>
          <p:cxnSp>
            <p:nvCxnSpPr>
              <p:cNvPr id="194" name="Straight Arrow Connector 177"/>
              <p:cNvCxnSpPr>
                <a:endCxn id="191" idx="3"/>
              </p:cNvCxnSpPr>
              <p:nvPr/>
            </p:nvCxnSpPr>
            <p:spPr>
              <a:xfrm flipH="1">
                <a:off x="11067840" y="4722120"/>
                <a:ext cx="179640" cy="459000"/>
              </a:xfrm>
              <a:prstGeom prst="straightConnector1">
                <a:avLst/>
              </a:prstGeom>
              <a:ln w="25560">
                <a:solidFill>
                  <a:srgbClr val="cccc00"/>
                </a:solidFill>
                <a:miter/>
                <a:tailEnd len="med" type="arrow" w="med"/>
              </a:ln>
            </p:spPr>
          </p:cxnSp>
          <p:cxnSp>
            <p:nvCxnSpPr>
              <p:cNvPr id="195" name="Straight Arrow Connector 178"/>
              <p:cNvCxnSpPr/>
              <p:nvPr/>
            </p:nvCxnSpPr>
            <p:spPr>
              <a:xfrm flipH="1" flipV="1">
                <a:off x="10736640" y="5096880"/>
                <a:ext cx="273240" cy="134280"/>
              </a:xfrm>
              <a:prstGeom prst="straightConnector1">
                <a:avLst/>
              </a:prstGeom>
              <a:ln w="25560">
                <a:solidFill>
                  <a:srgbClr val="cccc00"/>
                </a:solidFill>
                <a:miter/>
                <a:tailEnd len="med" type="arrow" w="med"/>
              </a:ln>
            </p:spPr>
          </p:cxnSp>
          <p:sp>
            <p:nvSpPr>
              <p:cNvPr id="196" name="TextBox 179"/>
              <p:cNvSpPr/>
              <p:nvPr/>
            </p:nvSpPr>
            <p:spPr>
              <a:xfrm>
                <a:off x="10672920" y="51112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60" dir="5400000" blurRad="0" rotWithShape="0">
                  <a:srgbClr val="808080">
                    <a:alpha val="4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180"/>
              <p:cNvSpPr/>
              <p:nvPr/>
            </p:nvSpPr>
            <p:spPr>
              <a:xfrm rot="19261200">
                <a:off x="10502640" y="45637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Je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Sun 171"/>
            <p:cNvGrpSpPr/>
            <p:nvPr/>
          </p:nvGrpSpPr>
          <p:grpSpPr>
            <a:xfrm>
              <a:off x="11864520" y="3260160"/>
              <a:ext cx="421560" cy="456120"/>
              <a:chOff x="11864520" y="3260160"/>
              <a:chExt cx="421560" cy="456120"/>
            </a:xfrm>
          </p:grpSpPr>
          <p:pic>
            <p:nvPicPr>
              <p:cNvPr id="199" name="Sun 17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864520" y="3260160"/>
                <a:ext cx="421560" cy="45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12037320" y="3423960"/>
                <a:ext cx="80640" cy="8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1" name="TextBox 172" descr=""/>
            <p:cNvPicPr/>
            <p:nvPr/>
          </p:nvPicPr>
          <p:blipFill>
            <a:blip r:embed="rId3"/>
            <a:stretch/>
          </p:blipFill>
          <p:spPr>
            <a:xfrm>
              <a:off x="11917800" y="2743200"/>
              <a:ext cx="492840" cy="4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Footer Placeholder 138"/>
          <p:cNvSpPr/>
          <p:nvPr/>
        </p:nvSpPr>
        <p:spPr>
          <a:xfrm>
            <a:off x="10109160" y="54864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ＤＦＰ太丸ゴシック体"/>
                <a:ea typeface="ＤＦＰ太丸ゴシック体"/>
              </a:rPr>
              <a:t>Mateusz Ploskon (LBNL), STAR, QM'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 3"/>
          <p:cNvSpPr/>
          <p:nvPr/>
        </p:nvSpPr>
        <p:spPr>
          <a:xfrm>
            <a:off x="12600000" y="943596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B6D7-9BB7-4178-A8DC-A4B651291F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11138040" y="0"/>
            <a:ext cx="1440" cy="18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"/>
          <p:cNvSpPr/>
          <p:nvPr/>
        </p:nvSpPr>
        <p:spPr>
          <a:xfrm flipV="1">
            <a:off x="215280" y="1739880"/>
            <a:ext cx="1257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11175840" y="-76320"/>
            <a:ext cx="1841400" cy="1790640"/>
            <a:chOff x="11175840" y="-76320"/>
            <a:chExt cx="1841400" cy="1790640"/>
          </a:xfrm>
        </p:grpSpPr>
        <p:sp>
          <p:nvSpPr>
            <p:cNvPr id="207" name="Oval 5"/>
            <p:cNvSpPr/>
            <p:nvPr/>
          </p:nvSpPr>
          <p:spPr>
            <a:xfrm>
              <a:off x="11175840" y="-76320"/>
              <a:ext cx="1841400" cy="179064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11248920" y="29880"/>
              <a:ext cx="1721520" cy="1580760"/>
              <a:chOff x="11248920" y="29880"/>
              <a:chExt cx="1721520" cy="1580760"/>
            </a:xfrm>
          </p:grpSpPr>
          <p:grpSp>
            <p:nvGrpSpPr>
              <p:cNvPr id="209" name="Group 7"/>
              <p:cNvGrpSpPr/>
              <p:nvPr/>
            </p:nvGrpSpPr>
            <p:grpSpPr>
              <a:xfrm>
                <a:off x="11770920" y="1158120"/>
                <a:ext cx="241920" cy="452520"/>
                <a:chOff x="11770920" y="1158120"/>
                <a:chExt cx="241920" cy="452520"/>
              </a:xfrm>
            </p:grpSpPr>
            <p:sp>
              <p:nvSpPr>
                <p:cNvPr id="210" name="Line 8"/>
                <p:cNvSpPr/>
                <p:nvPr/>
              </p:nvSpPr>
              <p:spPr>
                <a:xfrm flipH="1">
                  <a:off x="11837160" y="1162800"/>
                  <a:ext cx="108360" cy="447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9"/>
                <p:cNvSpPr/>
                <p:nvPr/>
              </p:nvSpPr>
              <p:spPr>
                <a:xfrm flipH="1">
                  <a:off x="11844000" y="1181880"/>
                  <a:ext cx="76320" cy="21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0"/>
                <p:cNvSpPr/>
                <p:nvPr/>
              </p:nvSpPr>
              <p:spPr>
                <a:xfrm flipH="1">
                  <a:off x="11793240" y="1180440"/>
                  <a:ext cx="120960" cy="18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11"/>
                <p:cNvSpPr/>
                <p:nvPr/>
              </p:nvSpPr>
              <p:spPr>
                <a:xfrm flipH="1">
                  <a:off x="11770920" y="1158120"/>
                  <a:ext cx="164160" cy="9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2"/>
                <p:cNvSpPr/>
                <p:nvPr/>
              </p:nvSpPr>
              <p:spPr>
                <a:xfrm flipH="1">
                  <a:off x="11949480" y="1178640"/>
                  <a:ext cx="7920" cy="34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3"/>
                <p:cNvSpPr/>
                <p:nvPr/>
              </p:nvSpPr>
              <p:spPr>
                <a:xfrm>
                  <a:off x="11974680" y="1170720"/>
                  <a:ext cx="38160" cy="22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Freeform 14"/>
              <p:cNvSpPr/>
              <p:nvPr/>
            </p:nvSpPr>
            <p:spPr>
              <a:xfrm>
                <a:off x="11445480" y="5018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"/>
              <p:cNvSpPr/>
              <p:nvPr/>
            </p:nvSpPr>
            <p:spPr>
              <a:xfrm>
                <a:off x="12081960" y="790920"/>
                <a:ext cx="4896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6"/>
              <p:cNvSpPr/>
              <p:nvPr/>
            </p:nvSpPr>
            <p:spPr>
              <a:xfrm rot="10800000">
                <a:off x="11961360" y="8780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Group 17"/>
              <p:cNvGrpSpPr/>
              <p:nvPr/>
            </p:nvGrpSpPr>
            <p:grpSpPr>
              <a:xfrm>
                <a:off x="12236760" y="29880"/>
                <a:ext cx="258840" cy="457200"/>
                <a:chOff x="12236760" y="29880"/>
                <a:chExt cx="258840" cy="457200"/>
              </a:xfrm>
            </p:grpSpPr>
            <p:sp>
              <p:nvSpPr>
                <p:cNvPr id="220" name="Line 18"/>
                <p:cNvSpPr/>
                <p:nvPr/>
              </p:nvSpPr>
              <p:spPr>
                <a:xfrm flipV="1">
                  <a:off x="12236760" y="262800"/>
                  <a:ext cx="4680" cy="21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9"/>
                <p:cNvSpPr/>
                <p:nvPr/>
              </p:nvSpPr>
              <p:spPr>
                <a:xfrm flipV="1">
                  <a:off x="12273840" y="114120"/>
                  <a:ext cx="86400" cy="30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0"/>
                <p:cNvSpPr/>
                <p:nvPr/>
              </p:nvSpPr>
              <p:spPr>
                <a:xfrm flipV="1">
                  <a:off x="12292920" y="348840"/>
                  <a:ext cx="15480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1"/>
                <p:cNvSpPr/>
                <p:nvPr/>
              </p:nvSpPr>
              <p:spPr>
                <a:xfrm flipV="1">
                  <a:off x="12257280" y="210960"/>
                  <a:ext cx="32040" cy="23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22"/>
                <p:cNvSpPr/>
                <p:nvPr/>
              </p:nvSpPr>
              <p:spPr>
                <a:xfrm flipV="1">
                  <a:off x="12263040" y="29880"/>
                  <a:ext cx="2325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23"/>
                <p:cNvSpPr/>
                <p:nvPr/>
              </p:nvSpPr>
              <p:spPr>
                <a:xfrm flipV="1">
                  <a:off x="12287520" y="252000"/>
                  <a:ext cx="181800" cy="20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24"/>
              <p:cNvGrpSpPr/>
              <p:nvPr/>
            </p:nvGrpSpPr>
            <p:grpSpPr>
              <a:xfrm>
                <a:off x="11248920" y="663840"/>
                <a:ext cx="239040" cy="184320"/>
                <a:chOff x="11248920" y="663840"/>
                <a:chExt cx="239040" cy="184320"/>
              </a:xfrm>
            </p:grpSpPr>
            <p:sp>
              <p:nvSpPr>
                <p:cNvPr id="227" name="Line 25"/>
                <p:cNvSpPr/>
                <p:nvPr/>
              </p:nvSpPr>
              <p:spPr>
                <a:xfrm>
                  <a:off x="11248920" y="80820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6"/>
                <p:cNvSpPr/>
                <p:nvPr/>
              </p:nvSpPr>
              <p:spPr>
                <a:xfrm>
                  <a:off x="11248920" y="7560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27"/>
                <p:cNvSpPr/>
                <p:nvPr/>
              </p:nvSpPr>
              <p:spPr>
                <a:xfrm>
                  <a:off x="11248920" y="70344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8"/>
                <p:cNvSpPr/>
                <p:nvPr/>
              </p:nvSpPr>
              <p:spPr>
                <a:xfrm>
                  <a:off x="11421720" y="663840"/>
                  <a:ext cx="66240" cy="184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29"/>
              <p:cNvGrpSpPr/>
              <p:nvPr/>
            </p:nvGrpSpPr>
            <p:grpSpPr>
              <a:xfrm>
                <a:off x="12731400" y="803880"/>
                <a:ext cx="239040" cy="185040"/>
                <a:chOff x="12731400" y="803880"/>
                <a:chExt cx="239040" cy="185040"/>
              </a:xfrm>
            </p:grpSpPr>
            <p:sp>
              <p:nvSpPr>
                <p:cNvPr id="232" name="Line 30"/>
                <p:cNvSpPr/>
                <p:nvPr/>
              </p:nvSpPr>
              <p:spPr>
                <a:xfrm flipH="1">
                  <a:off x="12770640" y="94896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31"/>
                <p:cNvSpPr/>
                <p:nvPr/>
              </p:nvSpPr>
              <p:spPr>
                <a:xfrm flipH="1">
                  <a:off x="12770640" y="8964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32"/>
                <p:cNvSpPr/>
                <p:nvPr/>
              </p:nvSpPr>
              <p:spPr>
                <a:xfrm flipH="1">
                  <a:off x="12770640" y="84348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3"/>
                <p:cNvSpPr/>
                <p:nvPr/>
              </p:nvSpPr>
              <p:spPr>
                <a:xfrm flipH="1">
                  <a:off x="12731400" y="803880"/>
                  <a:ext cx="66240" cy="18504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93ea9"/>
                </a:solidFill>
                <a:latin typeface="ＤＦＰ太丸ゴシック体"/>
              </a:rPr>
              <a:t>Resolution Improvements</a:t>
            </a: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2400" y="1828440"/>
            <a:ext cx="1165860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3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Energy Resolutions for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3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Gamma-jet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3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Jet-Jet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3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pi-zero-jet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-343080">
              <a:lnSpc>
                <a:spcPct val="13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Angular Resolutions for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3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Gamma-jet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3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Jet-Jet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3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ＤＦＰ太丸ゴシック体"/>
              </a:rPr>
              <a:t>pi-zero-jet</a:t>
            </a:r>
            <a:endParaRPr b="0" lang="en-US" sz="31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-343080">
              <a:lnSpc>
                <a:spcPct val="13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Compared for (EMC+TPC)-(TPC) , (EMC+TPC)-(JCAL+TPC) or (EMC+TPC)-PHOS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grpSp>
        <p:nvGrpSpPr>
          <p:cNvPr id="238" name="図形グループ 40"/>
          <p:cNvGrpSpPr/>
          <p:nvPr/>
        </p:nvGrpSpPr>
        <p:grpSpPr>
          <a:xfrm>
            <a:off x="6811920" y="1828800"/>
            <a:ext cx="6192720" cy="5943600"/>
            <a:chOff x="6811920" y="1828800"/>
            <a:chExt cx="6192720" cy="5943600"/>
          </a:xfrm>
        </p:grpSpPr>
        <p:pic>
          <p:nvPicPr>
            <p:cNvPr id="239" name="Picture 1" descr=""/>
            <p:cNvPicPr/>
            <p:nvPr/>
          </p:nvPicPr>
          <p:blipFill>
            <a:blip r:embed="rId1"/>
            <a:stretch/>
          </p:blipFill>
          <p:spPr>
            <a:xfrm>
              <a:off x="6811920" y="1886400"/>
              <a:ext cx="6192720" cy="58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37"/>
            <p:cNvSpPr/>
            <p:nvPr/>
          </p:nvSpPr>
          <p:spPr>
            <a:xfrm>
              <a:off x="10405800" y="6526800"/>
              <a:ext cx="157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jet Intrins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10798920" y="3594240"/>
              <a:ext cx="135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TPC - TP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8927640" y="2098800"/>
              <a:ext cx="1719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8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con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9857880" y="5880600"/>
              <a:ext cx="219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47f3"/>
                  </a:solidFill>
                  <a:latin typeface="Arial"/>
                  <a:ea typeface="Arial"/>
                </a:rPr>
                <a:t>γ-Jet: J-Cal - E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10456920" y="5301720"/>
              <a:ext cx="157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J-Cal - EMC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0631160" y="4539600"/>
              <a:ext cx="14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TPC - EMC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43"/>
            <p:cNvGrpSpPr/>
            <p:nvPr/>
          </p:nvGrpSpPr>
          <p:grpSpPr>
            <a:xfrm>
              <a:off x="8114040" y="4057200"/>
              <a:ext cx="3935160" cy="1167120"/>
              <a:chOff x="8114040" y="4057200"/>
              <a:chExt cx="3935160" cy="1167120"/>
            </a:xfrm>
          </p:grpSpPr>
          <p:grpSp>
            <p:nvGrpSpPr>
              <p:cNvPr id="247" name="Group 44"/>
              <p:cNvGrpSpPr/>
              <p:nvPr/>
            </p:nvGrpSpPr>
            <p:grpSpPr>
              <a:xfrm>
                <a:off x="8114040" y="4057200"/>
                <a:ext cx="3867840" cy="520920"/>
                <a:chOff x="8114040" y="4057200"/>
                <a:chExt cx="3867840" cy="520920"/>
              </a:xfrm>
            </p:grpSpPr>
            <p:sp>
              <p:nvSpPr>
                <p:cNvPr id="248" name="Freeform 45"/>
                <p:cNvSpPr/>
                <p:nvPr/>
              </p:nvSpPr>
              <p:spPr>
                <a:xfrm>
                  <a:off x="8161920" y="4105080"/>
                  <a:ext cx="3768120" cy="4219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9" name="Picture 4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114040" y="4057200"/>
                  <a:ext cx="3867840" cy="520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47"/>
              <p:cNvGrpSpPr/>
              <p:nvPr/>
            </p:nvGrpSpPr>
            <p:grpSpPr>
              <a:xfrm>
                <a:off x="8181360" y="4703400"/>
                <a:ext cx="3867840" cy="520920"/>
                <a:chOff x="8181360" y="4703400"/>
                <a:chExt cx="3867840" cy="520920"/>
              </a:xfrm>
            </p:grpSpPr>
            <p:sp>
              <p:nvSpPr>
                <p:cNvPr id="251" name="Freeform 48"/>
                <p:cNvSpPr/>
                <p:nvPr/>
              </p:nvSpPr>
              <p:spPr>
                <a:xfrm>
                  <a:off x="8229240" y="4751280"/>
                  <a:ext cx="3768120" cy="4219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2" name="Picture 4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181360" y="4703400"/>
                  <a:ext cx="3867840" cy="520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53" name="Picture 5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14120" y="4528440"/>
                <a:ext cx="308520" cy="60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Rectangle 51"/>
            <p:cNvSpPr/>
            <p:nvPr/>
          </p:nvSpPr>
          <p:spPr>
            <a:xfrm>
              <a:off x="8059680" y="1828800"/>
              <a:ext cx="46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ＤＦＰ太丸ゴシック体"/>
                  <a:ea typeface="ＤＦＰ太丸ゴシック体"/>
                </a:rPr>
                <a:t>PYTHIA8, detector resolution inclu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3"/>
          <p:cNvSpPr/>
          <p:nvPr/>
        </p:nvSpPr>
        <p:spPr>
          <a:xfrm>
            <a:off x="50760" y="9435960"/>
            <a:ext cx="299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Miake, April 7, 2009 @ LB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スライド番号プレースホルダ 3"/>
          <p:cNvSpPr/>
          <p:nvPr/>
        </p:nvSpPr>
        <p:spPr>
          <a:xfrm>
            <a:off x="12600000" y="943596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8AC-CA7B-4DF5-B99C-2A42562B0D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"/>
          <p:cNvSpPr/>
          <p:nvPr/>
        </p:nvSpPr>
        <p:spPr>
          <a:xfrm>
            <a:off x="11138040" y="0"/>
            <a:ext cx="1440" cy="18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"/>
          <p:cNvSpPr/>
          <p:nvPr/>
        </p:nvSpPr>
        <p:spPr>
          <a:xfrm flipV="1">
            <a:off x="215280" y="1739880"/>
            <a:ext cx="1257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11175840" y="-76320"/>
            <a:ext cx="1841400" cy="1790640"/>
            <a:chOff x="11175840" y="-76320"/>
            <a:chExt cx="1841400" cy="1790640"/>
          </a:xfrm>
        </p:grpSpPr>
        <p:sp>
          <p:nvSpPr>
            <p:cNvPr id="260" name="Oval 5"/>
            <p:cNvSpPr/>
            <p:nvPr/>
          </p:nvSpPr>
          <p:spPr>
            <a:xfrm>
              <a:off x="11175840" y="-76320"/>
              <a:ext cx="1841400" cy="179064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6"/>
            <p:cNvGrpSpPr/>
            <p:nvPr/>
          </p:nvGrpSpPr>
          <p:grpSpPr>
            <a:xfrm>
              <a:off x="11248920" y="29880"/>
              <a:ext cx="1721520" cy="1580760"/>
              <a:chOff x="11248920" y="29880"/>
              <a:chExt cx="1721520" cy="1580760"/>
            </a:xfrm>
          </p:grpSpPr>
          <p:grpSp>
            <p:nvGrpSpPr>
              <p:cNvPr id="262" name="Group 7"/>
              <p:cNvGrpSpPr/>
              <p:nvPr/>
            </p:nvGrpSpPr>
            <p:grpSpPr>
              <a:xfrm>
                <a:off x="11770920" y="1158120"/>
                <a:ext cx="241920" cy="452520"/>
                <a:chOff x="11770920" y="1158120"/>
                <a:chExt cx="241920" cy="452520"/>
              </a:xfrm>
            </p:grpSpPr>
            <p:sp>
              <p:nvSpPr>
                <p:cNvPr id="263" name="Line 8"/>
                <p:cNvSpPr/>
                <p:nvPr/>
              </p:nvSpPr>
              <p:spPr>
                <a:xfrm flipH="1">
                  <a:off x="11837160" y="1162800"/>
                  <a:ext cx="108360" cy="447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9"/>
                <p:cNvSpPr/>
                <p:nvPr/>
              </p:nvSpPr>
              <p:spPr>
                <a:xfrm flipH="1">
                  <a:off x="11844000" y="1181880"/>
                  <a:ext cx="76320" cy="21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0"/>
                <p:cNvSpPr/>
                <p:nvPr/>
              </p:nvSpPr>
              <p:spPr>
                <a:xfrm flipH="1">
                  <a:off x="11793240" y="1180440"/>
                  <a:ext cx="120960" cy="18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 flipH="1">
                  <a:off x="11770920" y="1158120"/>
                  <a:ext cx="164160" cy="9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2"/>
                <p:cNvSpPr/>
                <p:nvPr/>
              </p:nvSpPr>
              <p:spPr>
                <a:xfrm flipH="1">
                  <a:off x="11949480" y="1178640"/>
                  <a:ext cx="7920" cy="34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3"/>
                <p:cNvSpPr/>
                <p:nvPr/>
              </p:nvSpPr>
              <p:spPr>
                <a:xfrm>
                  <a:off x="11974680" y="1170720"/>
                  <a:ext cx="38160" cy="22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Freeform 14"/>
              <p:cNvSpPr/>
              <p:nvPr/>
            </p:nvSpPr>
            <p:spPr>
              <a:xfrm>
                <a:off x="11445480" y="5018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5"/>
              <p:cNvSpPr/>
              <p:nvPr/>
            </p:nvSpPr>
            <p:spPr>
              <a:xfrm>
                <a:off x="12081960" y="790920"/>
                <a:ext cx="4896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6"/>
              <p:cNvSpPr/>
              <p:nvPr/>
            </p:nvSpPr>
            <p:spPr>
              <a:xfrm rot="10800000">
                <a:off x="11961360" y="8780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Group 17"/>
              <p:cNvGrpSpPr/>
              <p:nvPr/>
            </p:nvGrpSpPr>
            <p:grpSpPr>
              <a:xfrm>
                <a:off x="12236760" y="29880"/>
                <a:ext cx="258840" cy="457200"/>
                <a:chOff x="12236760" y="29880"/>
                <a:chExt cx="258840" cy="457200"/>
              </a:xfrm>
            </p:grpSpPr>
            <p:sp>
              <p:nvSpPr>
                <p:cNvPr id="273" name="Line 18"/>
                <p:cNvSpPr/>
                <p:nvPr/>
              </p:nvSpPr>
              <p:spPr>
                <a:xfrm flipV="1">
                  <a:off x="12236760" y="262800"/>
                  <a:ext cx="4680" cy="21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9"/>
                <p:cNvSpPr/>
                <p:nvPr/>
              </p:nvSpPr>
              <p:spPr>
                <a:xfrm flipV="1">
                  <a:off x="12273840" y="114120"/>
                  <a:ext cx="86400" cy="30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20"/>
                <p:cNvSpPr/>
                <p:nvPr/>
              </p:nvSpPr>
              <p:spPr>
                <a:xfrm flipV="1">
                  <a:off x="12292920" y="348840"/>
                  <a:ext cx="15480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21"/>
                <p:cNvSpPr/>
                <p:nvPr/>
              </p:nvSpPr>
              <p:spPr>
                <a:xfrm flipV="1">
                  <a:off x="12257280" y="210960"/>
                  <a:ext cx="32040" cy="23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22"/>
                <p:cNvSpPr/>
                <p:nvPr/>
              </p:nvSpPr>
              <p:spPr>
                <a:xfrm flipV="1">
                  <a:off x="12263040" y="29880"/>
                  <a:ext cx="2325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3"/>
                <p:cNvSpPr/>
                <p:nvPr/>
              </p:nvSpPr>
              <p:spPr>
                <a:xfrm flipV="1">
                  <a:off x="12287520" y="252000"/>
                  <a:ext cx="181800" cy="20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4"/>
              <p:cNvGrpSpPr/>
              <p:nvPr/>
            </p:nvGrpSpPr>
            <p:grpSpPr>
              <a:xfrm>
                <a:off x="11248920" y="663840"/>
                <a:ext cx="239040" cy="184320"/>
                <a:chOff x="11248920" y="663840"/>
                <a:chExt cx="239040" cy="184320"/>
              </a:xfrm>
            </p:grpSpPr>
            <p:sp>
              <p:nvSpPr>
                <p:cNvPr id="280" name="Line 25"/>
                <p:cNvSpPr/>
                <p:nvPr/>
              </p:nvSpPr>
              <p:spPr>
                <a:xfrm>
                  <a:off x="11248920" y="80820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26"/>
                <p:cNvSpPr/>
                <p:nvPr/>
              </p:nvSpPr>
              <p:spPr>
                <a:xfrm>
                  <a:off x="11248920" y="7560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27"/>
                <p:cNvSpPr/>
                <p:nvPr/>
              </p:nvSpPr>
              <p:spPr>
                <a:xfrm>
                  <a:off x="11248920" y="70344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"/>
                <p:cNvSpPr/>
                <p:nvPr/>
              </p:nvSpPr>
              <p:spPr>
                <a:xfrm>
                  <a:off x="11421720" y="663840"/>
                  <a:ext cx="66240" cy="184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Group 29"/>
              <p:cNvGrpSpPr/>
              <p:nvPr/>
            </p:nvGrpSpPr>
            <p:grpSpPr>
              <a:xfrm>
                <a:off x="12731400" y="803880"/>
                <a:ext cx="239040" cy="185040"/>
                <a:chOff x="12731400" y="803880"/>
                <a:chExt cx="239040" cy="185040"/>
              </a:xfrm>
            </p:grpSpPr>
            <p:sp>
              <p:nvSpPr>
                <p:cNvPr id="285" name="Line 30"/>
                <p:cNvSpPr/>
                <p:nvPr/>
              </p:nvSpPr>
              <p:spPr>
                <a:xfrm flipH="1">
                  <a:off x="12770640" y="94896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31"/>
                <p:cNvSpPr/>
                <p:nvPr/>
              </p:nvSpPr>
              <p:spPr>
                <a:xfrm flipH="1">
                  <a:off x="12770640" y="8964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32"/>
                <p:cNvSpPr/>
                <p:nvPr/>
              </p:nvSpPr>
              <p:spPr>
                <a:xfrm flipH="1">
                  <a:off x="12770640" y="84348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33"/>
                <p:cNvSpPr/>
                <p:nvPr/>
              </p:nvSpPr>
              <p:spPr>
                <a:xfrm flipH="1">
                  <a:off x="12731400" y="803880"/>
                  <a:ext cx="66240" cy="18504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93ea9"/>
                </a:solidFill>
                <a:latin typeface="ＤＦＰ太丸ゴシック体"/>
              </a:rPr>
              <a:t>Resolution Improvements</a:t>
            </a: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82400" y="1828440"/>
            <a:ext cx="1165860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Compared for R</a:t>
            </a:r>
            <a:r>
              <a:rPr b="0" lang="en-US" sz="3800" spc="-1" strike="noStrike" baseline="30000">
                <a:solidFill>
                  <a:srgbClr val="000000"/>
                </a:solidFill>
                <a:latin typeface="ＤＦＰ太丸ゴシック体"/>
              </a:rPr>
              <a:t>JET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ＤＦＰ太丸ゴシック体"/>
              </a:rPr>
              <a:t>cone</a:t>
            </a: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 = 0.2, 0.3 and 0.4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-343080">
              <a:lnSpc>
                <a:spcPct val="15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Larger R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ＤＦＰ太丸ゴシック体"/>
              </a:rPr>
              <a:t>cone</a:t>
            </a: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 for TPC may help (J.S)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-343080">
              <a:lnSpc>
                <a:spcPct val="15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So far, we have been using CellJet.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ＤＦＰ太丸ゴシック体"/>
              </a:rPr>
              <a:t>Is there better Jet Analysis/Finding algorithm?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2" marL="976320" indent="-29376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Zapf Dingbat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ＤＦＰ太丸ゴシック体"/>
              </a:rPr>
              <a:t>Important to use the same parameterizations, definitions, terminology as those of the EM-Cal.</a:t>
            </a:r>
            <a:endParaRPr b="0" lang="en-US" sz="2800" spc="-1" strike="noStrike">
              <a:solidFill>
                <a:srgbClr val="ff0000"/>
              </a:solidFill>
              <a:latin typeface="ＤＦＰ太丸ゴシック体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50760" y="9435960"/>
            <a:ext cx="299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Miake, April 7, 2009 @ LB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スライド番号プレースホルダ 3"/>
          <p:cNvSpPr/>
          <p:nvPr/>
        </p:nvSpPr>
        <p:spPr>
          <a:xfrm>
            <a:off x="12600000" y="943596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650B-40D8-4BD0-B46B-64CDEB058B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"/>
          <p:cNvSpPr/>
          <p:nvPr/>
        </p:nvSpPr>
        <p:spPr>
          <a:xfrm>
            <a:off x="11138040" y="0"/>
            <a:ext cx="1440" cy="18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"/>
          <p:cNvSpPr/>
          <p:nvPr/>
        </p:nvSpPr>
        <p:spPr>
          <a:xfrm flipV="1">
            <a:off x="215280" y="1739880"/>
            <a:ext cx="1257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"/>
          <p:cNvGrpSpPr/>
          <p:nvPr/>
        </p:nvGrpSpPr>
        <p:grpSpPr>
          <a:xfrm>
            <a:off x="11175840" y="-76320"/>
            <a:ext cx="1841400" cy="1790640"/>
            <a:chOff x="11175840" y="-76320"/>
            <a:chExt cx="1841400" cy="1790640"/>
          </a:xfrm>
        </p:grpSpPr>
        <p:sp>
          <p:nvSpPr>
            <p:cNvPr id="296" name="Oval 5"/>
            <p:cNvSpPr/>
            <p:nvPr/>
          </p:nvSpPr>
          <p:spPr>
            <a:xfrm>
              <a:off x="11175840" y="-76320"/>
              <a:ext cx="1841400" cy="179064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6"/>
            <p:cNvGrpSpPr/>
            <p:nvPr/>
          </p:nvGrpSpPr>
          <p:grpSpPr>
            <a:xfrm>
              <a:off x="11248920" y="29880"/>
              <a:ext cx="1721520" cy="1580760"/>
              <a:chOff x="11248920" y="29880"/>
              <a:chExt cx="1721520" cy="1580760"/>
            </a:xfrm>
          </p:grpSpPr>
          <p:grpSp>
            <p:nvGrpSpPr>
              <p:cNvPr id="298" name="Group 7"/>
              <p:cNvGrpSpPr/>
              <p:nvPr/>
            </p:nvGrpSpPr>
            <p:grpSpPr>
              <a:xfrm>
                <a:off x="11770920" y="1158120"/>
                <a:ext cx="241920" cy="452520"/>
                <a:chOff x="11770920" y="1158120"/>
                <a:chExt cx="241920" cy="452520"/>
              </a:xfrm>
            </p:grpSpPr>
            <p:sp>
              <p:nvSpPr>
                <p:cNvPr id="299" name="Line 8"/>
                <p:cNvSpPr/>
                <p:nvPr/>
              </p:nvSpPr>
              <p:spPr>
                <a:xfrm flipH="1">
                  <a:off x="11837160" y="1162800"/>
                  <a:ext cx="108360" cy="447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9"/>
                <p:cNvSpPr/>
                <p:nvPr/>
              </p:nvSpPr>
              <p:spPr>
                <a:xfrm flipH="1">
                  <a:off x="11844000" y="1181880"/>
                  <a:ext cx="76320" cy="21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0"/>
                <p:cNvSpPr/>
                <p:nvPr/>
              </p:nvSpPr>
              <p:spPr>
                <a:xfrm flipH="1">
                  <a:off x="11793240" y="1180440"/>
                  <a:ext cx="120960" cy="18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1"/>
                <p:cNvSpPr/>
                <p:nvPr/>
              </p:nvSpPr>
              <p:spPr>
                <a:xfrm flipH="1">
                  <a:off x="11770920" y="1158120"/>
                  <a:ext cx="164160" cy="9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"/>
                <p:cNvSpPr/>
                <p:nvPr/>
              </p:nvSpPr>
              <p:spPr>
                <a:xfrm flipH="1">
                  <a:off x="11949480" y="1178640"/>
                  <a:ext cx="7920" cy="34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3"/>
                <p:cNvSpPr/>
                <p:nvPr/>
              </p:nvSpPr>
              <p:spPr>
                <a:xfrm>
                  <a:off x="11974680" y="1170720"/>
                  <a:ext cx="38160" cy="22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Freeform 14"/>
              <p:cNvSpPr/>
              <p:nvPr/>
            </p:nvSpPr>
            <p:spPr>
              <a:xfrm>
                <a:off x="11445480" y="5018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5"/>
              <p:cNvSpPr/>
              <p:nvPr/>
            </p:nvSpPr>
            <p:spPr>
              <a:xfrm>
                <a:off x="12081960" y="790920"/>
                <a:ext cx="4896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6"/>
              <p:cNvSpPr/>
              <p:nvPr/>
            </p:nvSpPr>
            <p:spPr>
              <a:xfrm rot="10800000">
                <a:off x="11961360" y="8780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Group 17"/>
              <p:cNvGrpSpPr/>
              <p:nvPr/>
            </p:nvGrpSpPr>
            <p:grpSpPr>
              <a:xfrm>
                <a:off x="12236760" y="29880"/>
                <a:ext cx="258840" cy="457200"/>
                <a:chOff x="12236760" y="29880"/>
                <a:chExt cx="258840" cy="457200"/>
              </a:xfrm>
            </p:grpSpPr>
            <p:sp>
              <p:nvSpPr>
                <p:cNvPr id="309" name="Line 18"/>
                <p:cNvSpPr/>
                <p:nvPr/>
              </p:nvSpPr>
              <p:spPr>
                <a:xfrm flipV="1">
                  <a:off x="12236760" y="262800"/>
                  <a:ext cx="4680" cy="21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9"/>
                <p:cNvSpPr/>
                <p:nvPr/>
              </p:nvSpPr>
              <p:spPr>
                <a:xfrm flipV="1">
                  <a:off x="12273840" y="114120"/>
                  <a:ext cx="86400" cy="30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20"/>
                <p:cNvSpPr/>
                <p:nvPr/>
              </p:nvSpPr>
              <p:spPr>
                <a:xfrm flipV="1">
                  <a:off x="12292920" y="348840"/>
                  <a:ext cx="15480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1"/>
                <p:cNvSpPr/>
                <p:nvPr/>
              </p:nvSpPr>
              <p:spPr>
                <a:xfrm flipV="1">
                  <a:off x="12257280" y="210960"/>
                  <a:ext cx="32040" cy="23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22"/>
                <p:cNvSpPr/>
                <p:nvPr/>
              </p:nvSpPr>
              <p:spPr>
                <a:xfrm flipV="1">
                  <a:off x="12263040" y="29880"/>
                  <a:ext cx="2325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23"/>
                <p:cNvSpPr/>
                <p:nvPr/>
              </p:nvSpPr>
              <p:spPr>
                <a:xfrm flipV="1">
                  <a:off x="12287520" y="252000"/>
                  <a:ext cx="181800" cy="20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24"/>
              <p:cNvGrpSpPr/>
              <p:nvPr/>
            </p:nvGrpSpPr>
            <p:grpSpPr>
              <a:xfrm>
                <a:off x="11248920" y="663840"/>
                <a:ext cx="239040" cy="184320"/>
                <a:chOff x="11248920" y="663840"/>
                <a:chExt cx="239040" cy="184320"/>
              </a:xfrm>
            </p:grpSpPr>
            <p:sp>
              <p:nvSpPr>
                <p:cNvPr id="316" name="Line 25"/>
                <p:cNvSpPr/>
                <p:nvPr/>
              </p:nvSpPr>
              <p:spPr>
                <a:xfrm>
                  <a:off x="11248920" y="80820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6"/>
                <p:cNvSpPr/>
                <p:nvPr/>
              </p:nvSpPr>
              <p:spPr>
                <a:xfrm>
                  <a:off x="11248920" y="7560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7"/>
                <p:cNvSpPr/>
                <p:nvPr/>
              </p:nvSpPr>
              <p:spPr>
                <a:xfrm>
                  <a:off x="11248920" y="70344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28"/>
                <p:cNvSpPr/>
                <p:nvPr/>
              </p:nvSpPr>
              <p:spPr>
                <a:xfrm>
                  <a:off x="11421720" y="663840"/>
                  <a:ext cx="66240" cy="184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29"/>
              <p:cNvGrpSpPr/>
              <p:nvPr/>
            </p:nvGrpSpPr>
            <p:grpSpPr>
              <a:xfrm>
                <a:off x="12731400" y="803880"/>
                <a:ext cx="239040" cy="185040"/>
                <a:chOff x="12731400" y="803880"/>
                <a:chExt cx="239040" cy="185040"/>
              </a:xfrm>
            </p:grpSpPr>
            <p:sp>
              <p:nvSpPr>
                <p:cNvPr id="321" name="Line 30"/>
                <p:cNvSpPr/>
                <p:nvPr/>
              </p:nvSpPr>
              <p:spPr>
                <a:xfrm flipH="1">
                  <a:off x="12770640" y="94896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31"/>
                <p:cNvSpPr/>
                <p:nvPr/>
              </p:nvSpPr>
              <p:spPr>
                <a:xfrm flipH="1">
                  <a:off x="12770640" y="8964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32"/>
                <p:cNvSpPr/>
                <p:nvPr/>
              </p:nvSpPr>
              <p:spPr>
                <a:xfrm flipH="1">
                  <a:off x="12770640" y="84348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3"/>
                <p:cNvSpPr/>
                <p:nvPr/>
              </p:nvSpPr>
              <p:spPr>
                <a:xfrm flipH="1">
                  <a:off x="12731400" y="803880"/>
                  <a:ext cx="66240" cy="18504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93ea9"/>
                </a:solidFill>
                <a:latin typeface="ＤＦＰ太丸ゴシック体"/>
              </a:rPr>
              <a:t>Trigger Capability</a:t>
            </a: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82400" y="1752480"/>
            <a:ext cx="12395160" cy="28958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3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ＤＦＰ太丸ゴシック体"/>
              </a:rPr>
              <a:t>EMC and J-Cal might provide good Level 1 trigger</a:t>
            </a:r>
            <a:endParaRPr b="0" lang="en-US" sz="29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3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ＤＦＰ太丸ゴシック体"/>
              </a:rPr>
              <a:t>In pp</a:t>
            </a:r>
            <a:endParaRPr b="0" lang="en-US" sz="26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81120" indent="-347760">
              <a:lnSpc>
                <a:spcPct val="13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ＤＦＰ太丸ゴシック体"/>
              </a:rPr>
              <a:t>In Pb+Pb</a:t>
            </a:r>
            <a:endParaRPr b="0" lang="en-US" sz="26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-343080">
              <a:lnSpc>
                <a:spcPct val="13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ＤＦＰ太丸ゴシック体"/>
              </a:rPr>
              <a:t>Evaluate trigger quality/rate with Level 1 trigger scheme </a:t>
            </a:r>
            <a:endParaRPr b="0" lang="en-US" sz="29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grpSp>
        <p:nvGrpSpPr>
          <p:cNvPr id="327" name="Group 37"/>
          <p:cNvGrpSpPr/>
          <p:nvPr/>
        </p:nvGrpSpPr>
        <p:grpSpPr>
          <a:xfrm>
            <a:off x="3301920" y="4673520"/>
            <a:ext cx="6924600" cy="5039640"/>
            <a:chOff x="3301920" y="4673520"/>
            <a:chExt cx="6924600" cy="5039640"/>
          </a:xfrm>
        </p:grpSpPr>
        <p:grpSp>
          <p:nvGrpSpPr>
            <p:cNvPr id="328" name="Group 38"/>
            <p:cNvGrpSpPr/>
            <p:nvPr/>
          </p:nvGrpSpPr>
          <p:grpSpPr>
            <a:xfrm>
              <a:off x="3301920" y="4673520"/>
              <a:ext cx="6924600" cy="4952880"/>
              <a:chOff x="3301920" y="4673520"/>
              <a:chExt cx="6924600" cy="4952880"/>
            </a:xfrm>
          </p:grpSpPr>
          <p:pic>
            <p:nvPicPr>
              <p:cNvPr id="329" name="Picture 39" descr=""/>
              <p:cNvPicPr/>
              <p:nvPr/>
            </p:nvPicPr>
            <p:blipFill>
              <a:blip r:embed="rId1"/>
              <a:stretch/>
            </p:blipFill>
            <p:spPr>
              <a:xfrm>
                <a:off x="3301920" y="4902120"/>
                <a:ext cx="6924600" cy="47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Freeform 40"/>
              <p:cNvSpPr/>
              <p:nvPr/>
            </p:nvSpPr>
            <p:spPr>
              <a:xfrm>
                <a:off x="4762440" y="6281640"/>
                <a:ext cx="4826160" cy="2776680"/>
              </a:xfrm>
              <a:prstGeom prst="pie">
                <a:avLst/>
              </a:prstGeom>
              <a:noFill/>
              <a:ln w="12708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41"/>
              <p:cNvSpPr/>
              <p:nvPr/>
            </p:nvSpPr>
            <p:spPr>
              <a:xfrm>
                <a:off x="6339600" y="6210360"/>
                <a:ext cx="27860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4c4c4c"/>
                    </a:solidFill>
                    <a:latin typeface="ＤＦＰ太丸ゴシック体"/>
                    <a:ea typeface="ＤＦＰ太丸ゴシック体"/>
                  </a:rPr>
                  <a:t>Backgrounds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42"/>
              <p:cNvSpPr/>
              <p:nvPr/>
            </p:nvSpPr>
            <p:spPr>
              <a:xfrm>
                <a:off x="7873920" y="4673520"/>
                <a:ext cx="2311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133920" tIns="76320" bIns="76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8000"/>
                    </a:solidFill>
                    <a:latin typeface="ＤＦＰ太丸ゴシック体"/>
                    <a:ea typeface="ＤＦＰ太丸ゴシック体"/>
                  </a:rPr>
                  <a:t>Fig.8.4 of TD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43"/>
              <p:cNvSpPr/>
              <p:nvPr/>
            </p:nvSpPr>
            <p:spPr>
              <a:xfrm>
                <a:off x="7660080" y="7759800"/>
                <a:ext cx="2004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ＤＦＰ太丸ゴシック体"/>
                    <a:ea typeface="ＤＦＰ太丸ゴシック体"/>
                  </a:rPr>
                  <a:t>E</a:t>
                </a:r>
                <a:r>
                  <a:rPr b="0" lang="en-US" sz="2400" spc="-1" strike="noStrike" baseline="-6000">
                    <a:solidFill>
                      <a:srgbClr val="ff0000"/>
                    </a:solidFill>
                    <a:latin typeface="ＤＦＰ太丸ゴシック体"/>
                    <a:ea typeface="ＤＦＰ太丸ゴシック体"/>
                  </a:rPr>
                  <a:t>jet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ＤＦＰ太丸ゴシック体"/>
                    <a:ea typeface="ＤＦＰ太丸ゴシック体"/>
                  </a:rPr>
                  <a:t> = 100 Ge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44"/>
              <p:cNvSpPr/>
              <p:nvPr/>
            </p:nvSpPr>
            <p:spPr>
              <a:xfrm>
                <a:off x="8586000" y="8356680"/>
                <a:ext cx="11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ＤＦＰ太丸ゴシック体"/>
                    <a:ea typeface="ＤＦＰ太丸ゴシック体"/>
                  </a:rPr>
                  <a:t>50 Ge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Rectangle 45"/>
            <p:cNvSpPr/>
            <p:nvPr/>
          </p:nvSpPr>
          <p:spPr>
            <a:xfrm>
              <a:off x="4940280" y="7137360"/>
              <a:ext cx="1467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R</a:t>
              </a:r>
              <a:r>
                <a:rPr b="0" lang="en-US" sz="2400" spc="-1" strike="noStrike" baseline="-6000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cone</a:t>
              </a:r>
              <a:r>
                <a:rPr b="0" lang="en-US" sz="24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 = 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6"/>
            <p:cNvSpPr/>
            <p:nvPr/>
          </p:nvSpPr>
          <p:spPr>
            <a:xfrm flipV="1">
              <a:off x="5676840" y="7665480"/>
              <a:ext cx="0" cy="652680"/>
            </a:xfrm>
            <a:prstGeom prst="line">
              <a:avLst/>
            </a:prstGeom>
            <a:ln w="76320">
              <a:solidFill>
                <a:srgbClr val="4d4d4d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7"/>
            <p:cNvSpPr/>
            <p:nvPr/>
          </p:nvSpPr>
          <p:spPr>
            <a:xfrm>
              <a:off x="9162360" y="9347040"/>
              <a:ext cx="70560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R</a:t>
              </a:r>
              <a:r>
                <a:rPr b="0" lang="en-US" sz="2400" spc="-1" strike="noStrike" baseline="-6000">
                  <a:solidFill>
                    <a:srgbClr val="000000"/>
                  </a:solidFill>
                  <a:latin typeface="ＤＦＰ太丸ゴシック体"/>
                  <a:ea typeface="ＤＦＰ太丸ゴシック体"/>
                </a:rPr>
                <a:t>c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3"/>
          <p:cNvSpPr/>
          <p:nvPr/>
        </p:nvSpPr>
        <p:spPr>
          <a:xfrm>
            <a:off x="50760" y="9435960"/>
            <a:ext cx="299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Miake, April 7, 2009 @ LB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スライド番号プレースホルダ 3"/>
          <p:cNvSpPr/>
          <p:nvPr/>
        </p:nvSpPr>
        <p:spPr>
          <a:xfrm>
            <a:off x="12600000" y="943596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DB51-D35A-4E35-BEF0-AA02D6C245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"/>
          <p:cNvSpPr/>
          <p:nvPr/>
        </p:nvSpPr>
        <p:spPr>
          <a:xfrm>
            <a:off x="11138040" y="0"/>
            <a:ext cx="1440" cy="18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"/>
          <p:cNvSpPr/>
          <p:nvPr/>
        </p:nvSpPr>
        <p:spPr>
          <a:xfrm flipV="1">
            <a:off x="215280" y="1739880"/>
            <a:ext cx="1257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11175840" y="-76320"/>
            <a:ext cx="1841400" cy="1790640"/>
            <a:chOff x="11175840" y="-76320"/>
            <a:chExt cx="1841400" cy="1790640"/>
          </a:xfrm>
        </p:grpSpPr>
        <p:sp>
          <p:nvSpPr>
            <p:cNvPr id="343" name="Oval 5"/>
            <p:cNvSpPr/>
            <p:nvPr/>
          </p:nvSpPr>
          <p:spPr>
            <a:xfrm>
              <a:off x="11175840" y="-76320"/>
              <a:ext cx="1841400" cy="179064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6"/>
            <p:cNvGrpSpPr/>
            <p:nvPr/>
          </p:nvGrpSpPr>
          <p:grpSpPr>
            <a:xfrm>
              <a:off x="11248920" y="29880"/>
              <a:ext cx="1721520" cy="1580760"/>
              <a:chOff x="11248920" y="29880"/>
              <a:chExt cx="1721520" cy="1580760"/>
            </a:xfrm>
          </p:grpSpPr>
          <p:grpSp>
            <p:nvGrpSpPr>
              <p:cNvPr id="345" name="Group 7"/>
              <p:cNvGrpSpPr/>
              <p:nvPr/>
            </p:nvGrpSpPr>
            <p:grpSpPr>
              <a:xfrm>
                <a:off x="11770920" y="1158120"/>
                <a:ext cx="241920" cy="452520"/>
                <a:chOff x="11770920" y="1158120"/>
                <a:chExt cx="241920" cy="452520"/>
              </a:xfrm>
            </p:grpSpPr>
            <p:sp>
              <p:nvSpPr>
                <p:cNvPr id="346" name="Line 8"/>
                <p:cNvSpPr/>
                <p:nvPr/>
              </p:nvSpPr>
              <p:spPr>
                <a:xfrm flipH="1">
                  <a:off x="11837160" y="1162800"/>
                  <a:ext cx="108360" cy="447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9"/>
                <p:cNvSpPr/>
                <p:nvPr/>
              </p:nvSpPr>
              <p:spPr>
                <a:xfrm flipH="1">
                  <a:off x="11844000" y="1181880"/>
                  <a:ext cx="76320" cy="21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0"/>
                <p:cNvSpPr/>
                <p:nvPr/>
              </p:nvSpPr>
              <p:spPr>
                <a:xfrm flipH="1">
                  <a:off x="11793240" y="1180440"/>
                  <a:ext cx="120960" cy="18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11"/>
                <p:cNvSpPr/>
                <p:nvPr/>
              </p:nvSpPr>
              <p:spPr>
                <a:xfrm flipH="1">
                  <a:off x="11770920" y="1158120"/>
                  <a:ext cx="164160" cy="9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2"/>
                <p:cNvSpPr/>
                <p:nvPr/>
              </p:nvSpPr>
              <p:spPr>
                <a:xfrm flipH="1">
                  <a:off x="11949480" y="1178640"/>
                  <a:ext cx="7920" cy="34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3"/>
                <p:cNvSpPr/>
                <p:nvPr/>
              </p:nvSpPr>
              <p:spPr>
                <a:xfrm>
                  <a:off x="11974680" y="1170720"/>
                  <a:ext cx="38160" cy="22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Freeform 14"/>
              <p:cNvSpPr/>
              <p:nvPr/>
            </p:nvSpPr>
            <p:spPr>
              <a:xfrm>
                <a:off x="11445480" y="5018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5"/>
              <p:cNvSpPr/>
              <p:nvPr/>
            </p:nvSpPr>
            <p:spPr>
              <a:xfrm>
                <a:off x="12081960" y="790920"/>
                <a:ext cx="4896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6"/>
              <p:cNvSpPr/>
              <p:nvPr/>
            </p:nvSpPr>
            <p:spPr>
              <a:xfrm rot="10800000">
                <a:off x="11961360" y="8780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Group 17"/>
              <p:cNvGrpSpPr/>
              <p:nvPr/>
            </p:nvGrpSpPr>
            <p:grpSpPr>
              <a:xfrm>
                <a:off x="12236760" y="29880"/>
                <a:ext cx="258840" cy="457200"/>
                <a:chOff x="12236760" y="29880"/>
                <a:chExt cx="258840" cy="457200"/>
              </a:xfrm>
            </p:grpSpPr>
            <p:sp>
              <p:nvSpPr>
                <p:cNvPr id="356" name="Line 18"/>
                <p:cNvSpPr/>
                <p:nvPr/>
              </p:nvSpPr>
              <p:spPr>
                <a:xfrm flipV="1">
                  <a:off x="12236760" y="262800"/>
                  <a:ext cx="4680" cy="21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9"/>
                <p:cNvSpPr/>
                <p:nvPr/>
              </p:nvSpPr>
              <p:spPr>
                <a:xfrm flipV="1">
                  <a:off x="12273840" y="114120"/>
                  <a:ext cx="86400" cy="30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20"/>
                <p:cNvSpPr/>
                <p:nvPr/>
              </p:nvSpPr>
              <p:spPr>
                <a:xfrm flipV="1">
                  <a:off x="12292920" y="348840"/>
                  <a:ext cx="15480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21"/>
                <p:cNvSpPr/>
                <p:nvPr/>
              </p:nvSpPr>
              <p:spPr>
                <a:xfrm flipV="1">
                  <a:off x="12257280" y="210960"/>
                  <a:ext cx="32040" cy="23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2"/>
                <p:cNvSpPr/>
                <p:nvPr/>
              </p:nvSpPr>
              <p:spPr>
                <a:xfrm flipV="1">
                  <a:off x="12263040" y="29880"/>
                  <a:ext cx="2325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3"/>
                <p:cNvSpPr/>
                <p:nvPr/>
              </p:nvSpPr>
              <p:spPr>
                <a:xfrm flipV="1">
                  <a:off x="12287520" y="252000"/>
                  <a:ext cx="181800" cy="20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24"/>
              <p:cNvGrpSpPr/>
              <p:nvPr/>
            </p:nvGrpSpPr>
            <p:grpSpPr>
              <a:xfrm>
                <a:off x="11248920" y="663840"/>
                <a:ext cx="239040" cy="184320"/>
                <a:chOff x="11248920" y="663840"/>
                <a:chExt cx="239040" cy="184320"/>
              </a:xfrm>
            </p:grpSpPr>
            <p:sp>
              <p:nvSpPr>
                <p:cNvPr id="363" name="Line 25"/>
                <p:cNvSpPr/>
                <p:nvPr/>
              </p:nvSpPr>
              <p:spPr>
                <a:xfrm>
                  <a:off x="11248920" y="80820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26"/>
                <p:cNvSpPr/>
                <p:nvPr/>
              </p:nvSpPr>
              <p:spPr>
                <a:xfrm>
                  <a:off x="11248920" y="7560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7"/>
                <p:cNvSpPr/>
                <p:nvPr/>
              </p:nvSpPr>
              <p:spPr>
                <a:xfrm>
                  <a:off x="11248920" y="70344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28"/>
                <p:cNvSpPr/>
                <p:nvPr/>
              </p:nvSpPr>
              <p:spPr>
                <a:xfrm>
                  <a:off x="11421720" y="663840"/>
                  <a:ext cx="66240" cy="184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29"/>
              <p:cNvGrpSpPr/>
              <p:nvPr/>
            </p:nvGrpSpPr>
            <p:grpSpPr>
              <a:xfrm>
                <a:off x="12731400" y="803880"/>
                <a:ext cx="239040" cy="185040"/>
                <a:chOff x="12731400" y="803880"/>
                <a:chExt cx="239040" cy="185040"/>
              </a:xfrm>
            </p:grpSpPr>
            <p:sp>
              <p:nvSpPr>
                <p:cNvPr id="368" name="Line 30"/>
                <p:cNvSpPr/>
                <p:nvPr/>
              </p:nvSpPr>
              <p:spPr>
                <a:xfrm flipH="1">
                  <a:off x="12770640" y="94896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31"/>
                <p:cNvSpPr/>
                <p:nvPr/>
              </p:nvSpPr>
              <p:spPr>
                <a:xfrm flipH="1">
                  <a:off x="12770640" y="8964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32"/>
                <p:cNvSpPr/>
                <p:nvPr/>
              </p:nvSpPr>
              <p:spPr>
                <a:xfrm flipH="1">
                  <a:off x="12770640" y="84348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33"/>
                <p:cNvSpPr/>
                <p:nvPr/>
              </p:nvSpPr>
              <p:spPr>
                <a:xfrm flipH="1">
                  <a:off x="12731400" y="803880"/>
                  <a:ext cx="66240" cy="18504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7080" y="0"/>
            <a:ext cx="1087128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93ea9"/>
                </a:solidFill>
                <a:latin typeface="ＤＦＰ太丸ゴシック体"/>
              </a:rPr>
              <a:t>Analysis scenario of Gamma-Jet &amp; DiJet ?</a:t>
            </a: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-360" y="5333760"/>
            <a:ext cx="786132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0000"/>
          </a:bodyPr>
          <a:p>
            <a:pPr marL="344160" indent="-308520">
              <a:lnSpc>
                <a:spcPct val="10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ＤＦＰ太丸ゴシック体"/>
              </a:rPr>
              <a:t>Gamma-Jet</a:t>
            </a:r>
            <a:endParaRPr b="0" lang="en-US" sz="38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58440" indent="-312840">
              <a:lnSpc>
                <a:spcPct val="10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ＤＦＰ太丸ゴシック体"/>
              </a:rPr>
              <a:t>Quark Jet</a:t>
            </a:r>
            <a:endParaRPr b="0" lang="en-US" sz="3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58440" indent="-312840">
              <a:lnSpc>
                <a:spcPct val="10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ＤＦＰ太丸ゴシック体"/>
              </a:rPr>
              <a:t>Easier analysi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ＤＦＰ太丸ゴシック体"/>
              </a:rPr>
              <a:t>(no energy loss for gamma)</a:t>
            </a:r>
            <a:endParaRPr b="0" lang="en-US" sz="3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58440" indent="-312840">
              <a:lnSpc>
                <a:spcPct val="10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ＤＦＰ太丸ゴシック体"/>
              </a:rPr>
              <a:t>Smaller rate</a:t>
            </a:r>
            <a:endParaRPr b="0" lang="en-US" sz="3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58440" indent="-312840">
              <a:lnSpc>
                <a:spcPct val="10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ＤＦＰ太丸ゴシック体"/>
              </a:rPr>
              <a:t>Inclusive meas.</a:t>
            </a:r>
            <a:endParaRPr b="0" lang="en-US" sz="3400" spc="-1" strike="noStrike">
              <a:solidFill>
                <a:srgbClr val="000000"/>
              </a:solidFill>
              <a:latin typeface="ＤＦＰ太丸ゴシック体"/>
            </a:endParaRPr>
          </a:p>
          <a:p>
            <a:pPr lvl="1" marL="658440" indent="-312840">
              <a:lnSpc>
                <a:spcPct val="100000"/>
              </a:lnSpc>
              <a:spcBef>
                <a:spcPts val="799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ＤＦＰ太丸ゴシック体"/>
              </a:rPr>
              <a:t>Reaction plane dependence</a:t>
            </a:r>
            <a:endParaRPr b="0" lang="en-US" sz="34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grpSp>
        <p:nvGrpSpPr>
          <p:cNvPr id="374" name="Group 36"/>
          <p:cNvGrpSpPr/>
          <p:nvPr/>
        </p:nvGrpSpPr>
        <p:grpSpPr>
          <a:xfrm>
            <a:off x="722520" y="1758960"/>
            <a:ext cx="4110120" cy="4914360"/>
            <a:chOff x="722520" y="1758960"/>
            <a:chExt cx="4110120" cy="4914360"/>
          </a:xfrm>
        </p:grpSpPr>
        <p:sp>
          <p:nvSpPr>
            <p:cNvPr id="375" name="Oval 37"/>
            <p:cNvSpPr/>
            <p:nvPr/>
          </p:nvSpPr>
          <p:spPr>
            <a:xfrm>
              <a:off x="1991880" y="2889000"/>
              <a:ext cx="2073240" cy="2800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38"/>
            <p:cNvGrpSpPr/>
            <p:nvPr/>
          </p:nvGrpSpPr>
          <p:grpSpPr>
            <a:xfrm>
              <a:off x="2360160" y="1758960"/>
              <a:ext cx="2472480" cy="4421880"/>
              <a:chOff x="2360160" y="1758960"/>
              <a:chExt cx="2472480" cy="4421880"/>
            </a:xfrm>
          </p:grpSpPr>
          <p:pic>
            <p:nvPicPr>
              <p:cNvPr id="377" name="Picture 39" descr=""/>
              <p:cNvPicPr/>
              <p:nvPr/>
            </p:nvPicPr>
            <p:blipFill>
              <a:blip r:embed="rId1"/>
              <a:stretch/>
            </p:blipFill>
            <p:spPr>
              <a:xfrm>
                <a:off x="3178440" y="3516840"/>
                <a:ext cx="829080" cy="15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8" name="Group 40"/>
              <p:cNvGrpSpPr/>
              <p:nvPr/>
            </p:nvGrpSpPr>
            <p:grpSpPr>
              <a:xfrm>
                <a:off x="3562200" y="4892400"/>
                <a:ext cx="1270440" cy="1288440"/>
                <a:chOff x="3562200" y="4892400"/>
                <a:chExt cx="1270440" cy="1288440"/>
              </a:xfrm>
            </p:grpSpPr>
            <p:sp>
              <p:nvSpPr>
                <p:cNvPr id="379" name="Line 41"/>
                <p:cNvSpPr/>
                <p:nvPr/>
              </p:nvSpPr>
              <p:spPr>
                <a:xfrm>
                  <a:off x="3878280" y="4928400"/>
                  <a:ext cx="828720" cy="12524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2"/>
                <p:cNvSpPr/>
                <p:nvPr/>
              </p:nvSpPr>
              <p:spPr>
                <a:xfrm>
                  <a:off x="3847680" y="5020200"/>
                  <a:ext cx="321120" cy="6469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3"/>
                <p:cNvSpPr/>
                <p:nvPr/>
              </p:nvSpPr>
              <p:spPr>
                <a:xfrm>
                  <a:off x="3823920" y="5028840"/>
                  <a:ext cx="97560" cy="6638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44"/>
                <p:cNvSpPr/>
                <p:nvPr/>
              </p:nvSpPr>
              <p:spPr>
                <a:xfrm flipH="1">
                  <a:off x="3562200" y="4935240"/>
                  <a:ext cx="266400" cy="5464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45"/>
                <p:cNvSpPr/>
                <p:nvPr/>
              </p:nvSpPr>
              <p:spPr>
                <a:xfrm>
                  <a:off x="3957120" y="4945680"/>
                  <a:ext cx="875520" cy="8182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46"/>
                <p:cNvSpPr/>
                <p:nvPr/>
              </p:nvSpPr>
              <p:spPr>
                <a:xfrm>
                  <a:off x="3990240" y="4892400"/>
                  <a:ext cx="709920" cy="4442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Group 47"/>
              <p:cNvGrpSpPr/>
              <p:nvPr/>
            </p:nvGrpSpPr>
            <p:grpSpPr>
              <a:xfrm>
                <a:off x="2360160" y="1758960"/>
                <a:ext cx="956520" cy="1744560"/>
                <a:chOff x="2360160" y="1758960"/>
                <a:chExt cx="956520" cy="1744560"/>
              </a:xfrm>
            </p:grpSpPr>
            <p:sp>
              <p:nvSpPr>
                <p:cNvPr id="386" name="Freeform 48"/>
                <p:cNvSpPr/>
                <p:nvPr/>
              </p:nvSpPr>
              <p:spPr>
                <a:xfrm>
                  <a:off x="2360160" y="1758960"/>
                  <a:ext cx="331560" cy="44460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49"/>
                <p:cNvSpPr/>
                <p:nvPr/>
              </p:nvSpPr>
              <p:spPr>
                <a:xfrm>
                  <a:off x="2584440" y="2195280"/>
                  <a:ext cx="331560" cy="44496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0"/>
                <p:cNvSpPr/>
                <p:nvPr/>
              </p:nvSpPr>
              <p:spPr>
                <a:xfrm>
                  <a:off x="2805840" y="2627280"/>
                  <a:ext cx="331200" cy="44460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1"/>
                <p:cNvSpPr/>
                <p:nvPr/>
              </p:nvSpPr>
              <p:spPr>
                <a:xfrm>
                  <a:off x="2985120" y="3058920"/>
                  <a:ext cx="331560" cy="44460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AutoShape 52"/>
            <p:cNvSpPr/>
            <p:nvPr/>
          </p:nvSpPr>
          <p:spPr>
            <a:xfrm>
              <a:off x="3000960" y="3373200"/>
              <a:ext cx="579960" cy="549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53"/>
            <p:cNvGrpSpPr/>
            <p:nvPr/>
          </p:nvGrpSpPr>
          <p:grpSpPr>
            <a:xfrm>
              <a:off x="722520" y="2307600"/>
              <a:ext cx="3267000" cy="4365720"/>
              <a:chOff x="722520" y="2307600"/>
              <a:chExt cx="3267000" cy="4365720"/>
            </a:xfrm>
          </p:grpSpPr>
          <p:pic>
            <p:nvPicPr>
              <p:cNvPr id="392" name="Picture 54" descr=""/>
              <p:cNvPicPr/>
              <p:nvPr/>
            </p:nvPicPr>
            <p:blipFill>
              <a:blip r:embed="rId2"/>
              <a:stretch/>
            </p:blipFill>
            <p:spPr>
              <a:xfrm rot="21120000">
                <a:off x="2666160" y="5131800"/>
                <a:ext cx="358920" cy="628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3" name="Group 55"/>
              <p:cNvGrpSpPr/>
              <p:nvPr/>
            </p:nvGrpSpPr>
            <p:grpSpPr>
              <a:xfrm>
                <a:off x="2692440" y="5497200"/>
                <a:ext cx="1297080" cy="1176120"/>
                <a:chOff x="2692440" y="5497200"/>
                <a:chExt cx="1297080" cy="1176120"/>
              </a:xfrm>
            </p:grpSpPr>
            <p:sp>
              <p:nvSpPr>
                <p:cNvPr id="394" name="Line 56"/>
                <p:cNvSpPr/>
                <p:nvPr/>
              </p:nvSpPr>
              <p:spPr>
                <a:xfrm>
                  <a:off x="2928240" y="5548320"/>
                  <a:ext cx="995040" cy="11250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7"/>
                <p:cNvSpPr/>
                <p:nvPr/>
              </p:nvSpPr>
              <p:spPr>
                <a:xfrm>
                  <a:off x="2910600" y="5643720"/>
                  <a:ext cx="408240" cy="5958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8"/>
                <p:cNvSpPr/>
                <p:nvPr/>
              </p:nvSpPr>
              <p:spPr>
                <a:xfrm>
                  <a:off x="2888280" y="5655600"/>
                  <a:ext cx="189000" cy="6436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9"/>
                <p:cNvSpPr/>
                <p:nvPr/>
              </p:nvSpPr>
              <p:spPr>
                <a:xfrm flipH="1">
                  <a:off x="2692440" y="5562000"/>
                  <a:ext cx="187560" cy="5785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60"/>
                <p:cNvSpPr/>
                <p:nvPr/>
              </p:nvSpPr>
              <p:spPr>
                <a:xfrm>
                  <a:off x="3008880" y="5554800"/>
                  <a:ext cx="980640" cy="6883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61"/>
                <p:cNvSpPr/>
                <p:nvPr/>
              </p:nvSpPr>
              <p:spPr>
                <a:xfrm>
                  <a:off x="3034080" y="5497200"/>
                  <a:ext cx="765000" cy="3412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AutoShape 62"/>
              <p:cNvSpPr/>
              <p:nvPr/>
            </p:nvSpPr>
            <p:spPr>
              <a:xfrm rot="21120000">
                <a:off x="2523600" y="4942800"/>
                <a:ext cx="579960" cy="549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Group 63"/>
              <p:cNvGrpSpPr/>
              <p:nvPr/>
            </p:nvGrpSpPr>
            <p:grpSpPr>
              <a:xfrm>
                <a:off x="722520" y="2307600"/>
                <a:ext cx="2010960" cy="2866320"/>
                <a:chOff x="722520" y="2307600"/>
                <a:chExt cx="2010960" cy="2866320"/>
              </a:xfrm>
            </p:grpSpPr>
            <p:grpSp>
              <p:nvGrpSpPr>
                <p:cNvPr id="402" name="Group 64"/>
                <p:cNvGrpSpPr/>
                <p:nvPr/>
              </p:nvGrpSpPr>
              <p:grpSpPr>
                <a:xfrm>
                  <a:off x="1543680" y="3486960"/>
                  <a:ext cx="1189800" cy="1686960"/>
                  <a:chOff x="1543680" y="3486960"/>
                  <a:chExt cx="1189800" cy="1686960"/>
                </a:xfrm>
              </p:grpSpPr>
              <p:sp>
                <p:nvSpPr>
                  <p:cNvPr id="403" name="Freeform 65"/>
                  <p:cNvSpPr/>
                  <p:nvPr/>
                </p:nvSpPr>
                <p:spPr>
                  <a:xfrm rot="21120000">
                    <a:off x="1572840" y="3507480"/>
                    <a:ext cx="331560" cy="44460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Freeform 66"/>
                  <p:cNvSpPr/>
                  <p:nvPr/>
                </p:nvSpPr>
                <p:spPr>
                  <a:xfrm rot="21120000">
                    <a:off x="1855800" y="3908520"/>
                    <a:ext cx="331560" cy="44496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Freeform 67"/>
                  <p:cNvSpPr/>
                  <p:nvPr/>
                </p:nvSpPr>
                <p:spPr>
                  <a:xfrm rot="21120000">
                    <a:off x="2134800" y="4305600"/>
                    <a:ext cx="331200" cy="44460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Freeform 68"/>
                  <p:cNvSpPr/>
                  <p:nvPr/>
                </p:nvSpPr>
                <p:spPr>
                  <a:xfrm rot="21120000">
                    <a:off x="2372400" y="4708080"/>
                    <a:ext cx="331560" cy="44460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Group 69"/>
                <p:cNvGrpSpPr/>
                <p:nvPr/>
              </p:nvGrpSpPr>
              <p:grpSpPr>
                <a:xfrm>
                  <a:off x="722520" y="2307600"/>
                  <a:ext cx="951840" cy="1284120"/>
                  <a:chOff x="722520" y="2307600"/>
                  <a:chExt cx="951840" cy="1284120"/>
                </a:xfrm>
              </p:grpSpPr>
              <p:sp>
                <p:nvSpPr>
                  <p:cNvPr id="408" name="Freeform 70"/>
                  <p:cNvSpPr/>
                  <p:nvPr/>
                </p:nvSpPr>
                <p:spPr>
                  <a:xfrm rot="21120000">
                    <a:off x="751680" y="2328120"/>
                    <a:ext cx="331560" cy="44460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Freeform 71"/>
                  <p:cNvSpPr/>
                  <p:nvPr/>
                </p:nvSpPr>
                <p:spPr>
                  <a:xfrm rot="21120000">
                    <a:off x="1034640" y="2728800"/>
                    <a:ext cx="331560" cy="44496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72"/>
                  <p:cNvSpPr/>
                  <p:nvPr/>
                </p:nvSpPr>
                <p:spPr>
                  <a:xfrm rot="21120000">
                    <a:off x="1313640" y="3125880"/>
                    <a:ext cx="331200" cy="444600"/>
                  </a:xfrm>
                  <a:prstGeom prst="pie">
                    <a:avLst/>
                  </a:pr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11" name="Rectangle 73"/>
          <p:cNvSpPr/>
          <p:nvPr/>
        </p:nvSpPr>
        <p:spPr>
          <a:xfrm>
            <a:off x="6540480" y="4724280"/>
            <a:ext cx="647712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10000"/>
              </a:lnSpc>
              <a:spcBef>
                <a:spcPts val="964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ＤＦＰ太丸ゴシック体"/>
                <a:ea typeface="ＤＦＰ太丸ゴシック体"/>
              </a:rPr>
              <a:t>Di-Je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10000"/>
              </a:lnSpc>
              <a:spcBef>
                <a:spcPts val="814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Mostly </a:t>
            </a:r>
            <a:r>
              <a:rPr b="0" lang="en-US" sz="3400" spc="-1" strike="noStrike">
                <a:solidFill>
                  <a:srgbClr val="ff0000"/>
                </a:solidFill>
                <a:latin typeface="ＤＦＰ太丸ゴシック体"/>
                <a:ea typeface="ＤＦＰ太丸ゴシック体"/>
              </a:rPr>
              <a:t>Gluon Je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10000"/>
              </a:lnSpc>
              <a:spcBef>
                <a:spcPts val="814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x1000 higher rate, thus higher statis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47760">
              <a:lnSpc>
                <a:spcPct val="110000"/>
              </a:lnSpc>
              <a:spcBef>
                <a:spcPts val="814"/>
              </a:spcBef>
              <a:buClr>
                <a:srgbClr val="3f922e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ＤＦＰ太丸ゴシック体"/>
                <a:ea typeface="ＤＦＰ太丸ゴシック体"/>
              </a:rPr>
              <a:t>Semi-exclusive meas. can be done w.r.t. reaction plane, centrality &amp; pt of je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74"/>
          <p:cNvGrpSpPr/>
          <p:nvPr/>
        </p:nvGrpSpPr>
        <p:grpSpPr>
          <a:xfrm>
            <a:off x="7612920" y="1765440"/>
            <a:ext cx="4875840" cy="3385440"/>
            <a:chOff x="7612920" y="1765440"/>
            <a:chExt cx="4875840" cy="3385440"/>
          </a:xfrm>
        </p:grpSpPr>
        <p:sp>
          <p:nvSpPr>
            <p:cNvPr id="413" name="Oval 75"/>
            <p:cNvSpPr/>
            <p:nvPr/>
          </p:nvSpPr>
          <p:spPr>
            <a:xfrm>
              <a:off x="8977320" y="2144520"/>
              <a:ext cx="1904760" cy="2718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76"/>
            <p:cNvGrpSpPr/>
            <p:nvPr/>
          </p:nvGrpSpPr>
          <p:grpSpPr>
            <a:xfrm>
              <a:off x="7612920" y="1765440"/>
              <a:ext cx="4875840" cy="2245680"/>
              <a:chOff x="7612920" y="1765440"/>
              <a:chExt cx="4875840" cy="2245680"/>
            </a:xfrm>
          </p:grpSpPr>
          <p:pic>
            <p:nvPicPr>
              <p:cNvPr id="415" name="Picture 77" descr=""/>
              <p:cNvPicPr/>
              <p:nvPr/>
            </p:nvPicPr>
            <p:blipFill>
              <a:blip r:embed="rId3"/>
              <a:stretch/>
            </p:blipFill>
            <p:spPr>
              <a:xfrm rot="19020000">
                <a:off x="10212840" y="2421360"/>
                <a:ext cx="578520" cy="122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6" name="Group 78"/>
              <p:cNvGrpSpPr/>
              <p:nvPr/>
            </p:nvGrpSpPr>
            <p:grpSpPr>
              <a:xfrm>
                <a:off x="10837440" y="3076200"/>
                <a:ext cx="1651320" cy="934920"/>
                <a:chOff x="10837440" y="3076200"/>
                <a:chExt cx="1651320" cy="934920"/>
              </a:xfrm>
            </p:grpSpPr>
            <p:sp>
              <p:nvSpPr>
                <p:cNvPr id="417" name="Line 79"/>
                <p:cNvSpPr/>
                <p:nvPr/>
              </p:nvSpPr>
              <p:spPr>
                <a:xfrm>
                  <a:off x="10869840" y="3318840"/>
                  <a:ext cx="1618920" cy="4644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80"/>
                <p:cNvSpPr/>
                <p:nvPr/>
              </p:nvSpPr>
              <p:spPr>
                <a:xfrm>
                  <a:off x="10918440" y="3418200"/>
                  <a:ext cx="754560" cy="3157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81"/>
                <p:cNvSpPr/>
                <p:nvPr/>
              </p:nvSpPr>
              <p:spPr>
                <a:xfrm>
                  <a:off x="10907280" y="3442320"/>
                  <a:ext cx="596880" cy="48996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82"/>
                <p:cNvSpPr/>
                <p:nvPr/>
              </p:nvSpPr>
              <p:spPr>
                <a:xfrm>
                  <a:off x="10837440" y="3360600"/>
                  <a:ext cx="225360" cy="6505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83"/>
                <p:cNvSpPr/>
                <p:nvPr/>
              </p:nvSpPr>
              <p:spPr>
                <a:xfrm>
                  <a:off x="10944000" y="3276720"/>
                  <a:ext cx="1313280" cy="644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4"/>
                <p:cNvSpPr/>
                <p:nvPr/>
              </p:nvSpPr>
              <p:spPr>
                <a:xfrm flipV="1">
                  <a:off x="10927080" y="3076200"/>
                  <a:ext cx="892800" cy="1324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AutoShape 85"/>
              <p:cNvSpPr/>
              <p:nvPr/>
            </p:nvSpPr>
            <p:spPr>
              <a:xfrm rot="1620000">
                <a:off x="9575280" y="2509920"/>
                <a:ext cx="606960" cy="6332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Picture 86" descr=""/>
              <p:cNvPicPr/>
              <p:nvPr/>
            </p:nvPicPr>
            <p:blipFill>
              <a:blip r:embed="rId4"/>
              <a:stretch/>
            </p:blipFill>
            <p:spPr>
              <a:xfrm rot="19020000">
                <a:off x="9231840" y="2246400"/>
                <a:ext cx="448200" cy="844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5" name="Group 87"/>
              <p:cNvGrpSpPr/>
              <p:nvPr/>
            </p:nvGrpSpPr>
            <p:grpSpPr>
              <a:xfrm>
                <a:off x="7612920" y="1765440"/>
                <a:ext cx="1651320" cy="934920"/>
                <a:chOff x="7612920" y="1765440"/>
                <a:chExt cx="1651320" cy="934920"/>
              </a:xfrm>
            </p:grpSpPr>
            <p:sp>
              <p:nvSpPr>
                <p:cNvPr id="426" name="Line 88"/>
                <p:cNvSpPr/>
                <p:nvPr/>
              </p:nvSpPr>
              <p:spPr>
                <a:xfrm flipH="1" flipV="1">
                  <a:off x="7612920" y="1993320"/>
                  <a:ext cx="1618920" cy="4644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9"/>
                <p:cNvSpPr/>
                <p:nvPr/>
              </p:nvSpPr>
              <p:spPr>
                <a:xfrm flipH="1" flipV="1">
                  <a:off x="8428680" y="2042640"/>
                  <a:ext cx="754560" cy="3157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90"/>
                <p:cNvSpPr/>
                <p:nvPr/>
              </p:nvSpPr>
              <p:spPr>
                <a:xfrm flipH="1" flipV="1">
                  <a:off x="8597520" y="1844280"/>
                  <a:ext cx="596880" cy="48996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91"/>
                <p:cNvSpPr/>
                <p:nvPr/>
              </p:nvSpPr>
              <p:spPr>
                <a:xfrm flipH="1" flipV="1">
                  <a:off x="9038880" y="1765440"/>
                  <a:ext cx="225360" cy="6505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92"/>
                <p:cNvSpPr/>
                <p:nvPr/>
              </p:nvSpPr>
              <p:spPr>
                <a:xfrm flipH="1" flipV="1">
                  <a:off x="7844400" y="2435400"/>
                  <a:ext cx="1313280" cy="644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93"/>
                <p:cNvSpPr/>
                <p:nvPr/>
              </p:nvSpPr>
              <p:spPr>
                <a:xfrm flipH="1">
                  <a:off x="8281800" y="2567880"/>
                  <a:ext cx="892800" cy="1324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2" name="Group 94"/>
            <p:cNvGrpSpPr/>
            <p:nvPr/>
          </p:nvGrpSpPr>
          <p:grpSpPr>
            <a:xfrm>
              <a:off x="7697520" y="3698280"/>
              <a:ext cx="4628520" cy="1452600"/>
              <a:chOff x="7697520" y="3698280"/>
              <a:chExt cx="4628520" cy="1452600"/>
            </a:xfrm>
          </p:grpSpPr>
          <p:pic>
            <p:nvPicPr>
              <p:cNvPr id="433" name="Picture 95" descr=""/>
              <p:cNvPicPr/>
              <p:nvPr/>
            </p:nvPicPr>
            <p:blipFill>
              <a:blip r:embed="rId5"/>
              <a:stretch/>
            </p:blipFill>
            <p:spPr>
              <a:xfrm rot="1200000">
                <a:off x="9770760" y="4011840"/>
                <a:ext cx="1112400" cy="643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4" name="Group 96"/>
              <p:cNvGrpSpPr/>
              <p:nvPr/>
            </p:nvGrpSpPr>
            <p:grpSpPr>
              <a:xfrm>
                <a:off x="10747080" y="3698280"/>
                <a:ext cx="1578960" cy="1297440"/>
                <a:chOff x="10747080" y="3698280"/>
                <a:chExt cx="1578960" cy="1297440"/>
              </a:xfrm>
            </p:grpSpPr>
            <p:sp>
              <p:nvSpPr>
                <p:cNvPr id="435" name="Line 97"/>
                <p:cNvSpPr/>
                <p:nvPr/>
              </p:nvSpPr>
              <p:spPr>
                <a:xfrm flipV="1">
                  <a:off x="10760400" y="3993840"/>
                  <a:ext cx="1565640" cy="457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8"/>
                <p:cNvSpPr/>
                <p:nvPr/>
              </p:nvSpPr>
              <p:spPr>
                <a:xfrm flipV="1">
                  <a:off x="10838880" y="4398120"/>
                  <a:ext cx="765720" cy="1195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9"/>
                <p:cNvSpPr/>
                <p:nvPr/>
              </p:nvSpPr>
              <p:spPr>
                <a:xfrm>
                  <a:off x="10837800" y="4546800"/>
                  <a:ext cx="694080" cy="1314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100"/>
                <p:cNvSpPr/>
                <p:nvPr/>
              </p:nvSpPr>
              <p:spPr>
                <a:xfrm>
                  <a:off x="10747080" y="4507920"/>
                  <a:ext cx="433080" cy="4878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101"/>
                <p:cNvSpPr/>
                <p:nvPr/>
              </p:nvSpPr>
              <p:spPr>
                <a:xfrm flipV="1">
                  <a:off x="10808640" y="3706200"/>
                  <a:ext cx="1155960" cy="66456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102"/>
                <p:cNvSpPr/>
                <p:nvPr/>
              </p:nvSpPr>
              <p:spPr>
                <a:xfrm flipV="1">
                  <a:off x="10769400" y="3698280"/>
                  <a:ext cx="721080" cy="6174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AutoShape 103"/>
              <p:cNvSpPr/>
              <p:nvPr/>
            </p:nvSpPr>
            <p:spPr>
              <a:xfrm>
                <a:off x="9428760" y="4109040"/>
                <a:ext cx="577080" cy="6757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2" name="Picture 104" descr=""/>
              <p:cNvPicPr/>
              <p:nvPr/>
            </p:nvPicPr>
            <p:blipFill>
              <a:blip r:embed="rId6"/>
              <a:stretch/>
            </p:blipFill>
            <p:spPr>
              <a:xfrm rot="1200000">
                <a:off x="9080280" y="4298040"/>
                <a:ext cx="604080" cy="40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3" name="Group 105"/>
              <p:cNvGrpSpPr/>
              <p:nvPr/>
            </p:nvGrpSpPr>
            <p:grpSpPr>
              <a:xfrm>
                <a:off x="7697520" y="3853440"/>
                <a:ext cx="1578960" cy="1297440"/>
                <a:chOff x="7697520" y="3853440"/>
                <a:chExt cx="1578960" cy="1297440"/>
              </a:xfrm>
            </p:grpSpPr>
            <p:sp>
              <p:nvSpPr>
                <p:cNvPr id="444" name="Line 106"/>
                <p:cNvSpPr/>
                <p:nvPr/>
              </p:nvSpPr>
              <p:spPr>
                <a:xfrm flipH="1">
                  <a:off x="7697520" y="4398120"/>
                  <a:ext cx="1565640" cy="457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7"/>
                <p:cNvSpPr/>
                <p:nvPr/>
              </p:nvSpPr>
              <p:spPr>
                <a:xfrm flipH="1">
                  <a:off x="8418960" y="4331520"/>
                  <a:ext cx="765720" cy="11952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108"/>
                <p:cNvSpPr/>
                <p:nvPr/>
              </p:nvSpPr>
              <p:spPr>
                <a:xfrm flipH="1" flipV="1">
                  <a:off x="8491680" y="4170960"/>
                  <a:ext cx="694080" cy="1314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9"/>
                <p:cNvSpPr/>
                <p:nvPr/>
              </p:nvSpPr>
              <p:spPr>
                <a:xfrm flipH="1" flipV="1">
                  <a:off x="8843400" y="3853440"/>
                  <a:ext cx="433080" cy="4878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10"/>
                <p:cNvSpPr/>
                <p:nvPr/>
              </p:nvSpPr>
              <p:spPr>
                <a:xfrm flipH="1">
                  <a:off x="8058960" y="4478400"/>
                  <a:ext cx="1155960" cy="66456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11"/>
                <p:cNvSpPr/>
                <p:nvPr/>
              </p:nvSpPr>
              <p:spPr>
                <a:xfrm flipH="1">
                  <a:off x="8533080" y="4533480"/>
                  <a:ext cx="721080" cy="6174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0" name="Rectangle 112"/>
          <p:cNvSpPr/>
          <p:nvPr/>
        </p:nvSpPr>
        <p:spPr>
          <a:xfrm>
            <a:off x="5118120" y="3187800"/>
            <a:ext cx="19051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  <a:ea typeface="Arial"/>
              </a:rPr>
              <a:t>Partonic Energy Lo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0760" y="9435960"/>
            <a:ext cx="299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Miake, April 7, 2009 @ LB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 3"/>
          <p:cNvSpPr/>
          <p:nvPr/>
        </p:nvSpPr>
        <p:spPr>
          <a:xfrm>
            <a:off x="12600000" y="943596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EF07-FDA7-4C7E-BB0F-7B6EE26143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"/>
          <p:cNvSpPr/>
          <p:nvPr/>
        </p:nvSpPr>
        <p:spPr>
          <a:xfrm>
            <a:off x="11138040" y="0"/>
            <a:ext cx="1440" cy="18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"/>
          <p:cNvSpPr/>
          <p:nvPr/>
        </p:nvSpPr>
        <p:spPr>
          <a:xfrm flipV="1">
            <a:off x="215280" y="1739880"/>
            <a:ext cx="1257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1175840" y="-76320"/>
            <a:ext cx="1841400" cy="1790640"/>
            <a:chOff x="11175840" y="-76320"/>
            <a:chExt cx="1841400" cy="1790640"/>
          </a:xfrm>
        </p:grpSpPr>
        <p:sp>
          <p:nvSpPr>
            <p:cNvPr id="456" name="Oval 5"/>
            <p:cNvSpPr/>
            <p:nvPr/>
          </p:nvSpPr>
          <p:spPr>
            <a:xfrm>
              <a:off x="11175840" y="-76320"/>
              <a:ext cx="1841400" cy="1790640"/>
            </a:xfrm>
            <a:prstGeom prst="ellipse">
              <a:avLst/>
            </a:prstGeom>
            <a:solidFill>
              <a:srgbClr val="ffe95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"/>
            <p:cNvGrpSpPr/>
            <p:nvPr/>
          </p:nvGrpSpPr>
          <p:grpSpPr>
            <a:xfrm>
              <a:off x="11248920" y="29880"/>
              <a:ext cx="1721520" cy="1580760"/>
              <a:chOff x="11248920" y="29880"/>
              <a:chExt cx="1721520" cy="1580760"/>
            </a:xfrm>
          </p:grpSpPr>
          <p:grpSp>
            <p:nvGrpSpPr>
              <p:cNvPr id="458" name="Group 7"/>
              <p:cNvGrpSpPr/>
              <p:nvPr/>
            </p:nvGrpSpPr>
            <p:grpSpPr>
              <a:xfrm>
                <a:off x="11770920" y="1158120"/>
                <a:ext cx="241920" cy="452520"/>
                <a:chOff x="11770920" y="1158120"/>
                <a:chExt cx="241920" cy="452520"/>
              </a:xfrm>
            </p:grpSpPr>
            <p:sp>
              <p:nvSpPr>
                <p:cNvPr id="459" name="Line 8"/>
                <p:cNvSpPr/>
                <p:nvPr/>
              </p:nvSpPr>
              <p:spPr>
                <a:xfrm flipH="1">
                  <a:off x="11837160" y="1162800"/>
                  <a:ext cx="108360" cy="447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9"/>
                <p:cNvSpPr/>
                <p:nvPr/>
              </p:nvSpPr>
              <p:spPr>
                <a:xfrm flipH="1">
                  <a:off x="11844000" y="1181880"/>
                  <a:ext cx="76320" cy="21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0"/>
                <p:cNvSpPr/>
                <p:nvPr/>
              </p:nvSpPr>
              <p:spPr>
                <a:xfrm flipH="1">
                  <a:off x="11793240" y="1180440"/>
                  <a:ext cx="120960" cy="18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"/>
                <p:cNvSpPr/>
                <p:nvPr/>
              </p:nvSpPr>
              <p:spPr>
                <a:xfrm flipH="1">
                  <a:off x="11770920" y="1158120"/>
                  <a:ext cx="164160" cy="9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2"/>
                <p:cNvSpPr/>
                <p:nvPr/>
              </p:nvSpPr>
              <p:spPr>
                <a:xfrm flipH="1">
                  <a:off x="11949480" y="1178640"/>
                  <a:ext cx="7920" cy="34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13"/>
                <p:cNvSpPr/>
                <p:nvPr/>
              </p:nvSpPr>
              <p:spPr>
                <a:xfrm>
                  <a:off x="11974680" y="1170720"/>
                  <a:ext cx="38160" cy="22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Freeform 14"/>
              <p:cNvSpPr/>
              <p:nvPr/>
            </p:nvSpPr>
            <p:spPr>
              <a:xfrm>
                <a:off x="11445480" y="5018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"/>
              <p:cNvSpPr/>
              <p:nvPr/>
            </p:nvSpPr>
            <p:spPr>
              <a:xfrm>
                <a:off x="12081960" y="790920"/>
                <a:ext cx="48960" cy="73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6"/>
              <p:cNvSpPr/>
              <p:nvPr/>
            </p:nvSpPr>
            <p:spPr>
              <a:xfrm rot="10800000">
                <a:off x="11961360" y="878040"/>
                <a:ext cx="809280" cy="274680"/>
              </a:xfrm>
              <a:prstGeom prst="pie">
                <a:avLst/>
              </a:pr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" name="Group 17"/>
              <p:cNvGrpSpPr/>
              <p:nvPr/>
            </p:nvGrpSpPr>
            <p:grpSpPr>
              <a:xfrm>
                <a:off x="12236760" y="29880"/>
                <a:ext cx="258840" cy="457200"/>
                <a:chOff x="12236760" y="29880"/>
                <a:chExt cx="258840" cy="457200"/>
              </a:xfrm>
            </p:grpSpPr>
            <p:sp>
              <p:nvSpPr>
                <p:cNvPr id="469" name="Line 18"/>
                <p:cNvSpPr/>
                <p:nvPr/>
              </p:nvSpPr>
              <p:spPr>
                <a:xfrm flipV="1">
                  <a:off x="12236760" y="262800"/>
                  <a:ext cx="4680" cy="21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19"/>
                <p:cNvSpPr/>
                <p:nvPr/>
              </p:nvSpPr>
              <p:spPr>
                <a:xfrm flipV="1">
                  <a:off x="12273840" y="114120"/>
                  <a:ext cx="86400" cy="30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0"/>
                <p:cNvSpPr/>
                <p:nvPr/>
              </p:nvSpPr>
              <p:spPr>
                <a:xfrm flipV="1">
                  <a:off x="12292920" y="348840"/>
                  <a:ext cx="15480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1"/>
                <p:cNvSpPr/>
                <p:nvPr/>
              </p:nvSpPr>
              <p:spPr>
                <a:xfrm flipV="1">
                  <a:off x="12257280" y="210960"/>
                  <a:ext cx="32040" cy="23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2"/>
                <p:cNvSpPr/>
                <p:nvPr/>
              </p:nvSpPr>
              <p:spPr>
                <a:xfrm flipV="1">
                  <a:off x="12263040" y="29880"/>
                  <a:ext cx="2325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3"/>
                <p:cNvSpPr/>
                <p:nvPr/>
              </p:nvSpPr>
              <p:spPr>
                <a:xfrm flipV="1">
                  <a:off x="12287520" y="252000"/>
                  <a:ext cx="181800" cy="20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24"/>
              <p:cNvGrpSpPr/>
              <p:nvPr/>
            </p:nvGrpSpPr>
            <p:grpSpPr>
              <a:xfrm>
                <a:off x="11248920" y="663840"/>
                <a:ext cx="239040" cy="184320"/>
                <a:chOff x="11248920" y="663840"/>
                <a:chExt cx="239040" cy="184320"/>
              </a:xfrm>
            </p:grpSpPr>
            <p:sp>
              <p:nvSpPr>
                <p:cNvPr id="476" name="Line 25"/>
                <p:cNvSpPr/>
                <p:nvPr/>
              </p:nvSpPr>
              <p:spPr>
                <a:xfrm>
                  <a:off x="11248920" y="80820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6"/>
                <p:cNvSpPr/>
                <p:nvPr/>
              </p:nvSpPr>
              <p:spPr>
                <a:xfrm>
                  <a:off x="11248920" y="7560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7"/>
                <p:cNvSpPr/>
                <p:nvPr/>
              </p:nvSpPr>
              <p:spPr>
                <a:xfrm>
                  <a:off x="11248920" y="70344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Oval 28"/>
                <p:cNvSpPr/>
                <p:nvPr/>
              </p:nvSpPr>
              <p:spPr>
                <a:xfrm>
                  <a:off x="11421720" y="663840"/>
                  <a:ext cx="66240" cy="18432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Group 29"/>
              <p:cNvGrpSpPr/>
              <p:nvPr/>
            </p:nvGrpSpPr>
            <p:grpSpPr>
              <a:xfrm>
                <a:off x="12731400" y="803880"/>
                <a:ext cx="239040" cy="185040"/>
                <a:chOff x="12731400" y="803880"/>
                <a:chExt cx="239040" cy="185040"/>
              </a:xfrm>
            </p:grpSpPr>
            <p:sp>
              <p:nvSpPr>
                <p:cNvPr id="481" name="Line 30"/>
                <p:cNvSpPr/>
                <p:nvPr/>
              </p:nvSpPr>
              <p:spPr>
                <a:xfrm flipH="1">
                  <a:off x="12770640" y="94896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31"/>
                <p:cNvSpPr/>
                <p:nvPr/>
              </p:nvSpPr>
              <p:spPr>
                <a:xfrm flipH="1">
                  <a:off x="12770640" y="896400"/>
                  <a:ext cx="199800" cy="1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2"/>
                <p:cNvSpPr/>
                <p:nvPr/>
              </p:nvSpPr>
              <p:spPr>
                <a:xfrm flipH="1">
                  <a:off x="12770640" y="843480"/>
                  <a:ext cx="19980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33"/>
                <p:cNvSpPr/>
                <p:nvPr/>
              </p:nvSpPr>
              <p:spPr>
                <a:xfrm flipH="1">
                  <a:off x="12731400" y="803880"/>
                  <a:ext cx="66240" cy="185040"/>
                </a:xfrm>
                <a:prstGeom prst="ellipse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7080" y="216000"/>
            <a:ext cx="108712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93ea9"/>
                </a:solidFill>
                <a:latin typeface="ＤＦＰ太丸ゴシック体"/>
              </a:rPr>
              <a:t>One more thing,</a:t>
            </a:r>
            <a:endParaRPr b="0" lang="en-US" sz="6200" spc="-1" strike="noStrike">
              <a:solidFill>
                <a:srgbClr val="293ea9"/>
              </a:solidFill>
              <a:latin typeface="ＤＦＰ太丸ゴシック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06080" y="1879200"/>
            <a:ext cx="121921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2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Very important to get results with your endoesement for J-Cal proposal, due within 2 months. 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-343080">
              <a:lnSpc>
                <a:spcPct val="12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4 S.M. is better than 3 S.M.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  <a:p>
            <a:pPr marL="382680" indent="-343080">
              <a:lnSpc>
                <a:spcPct val="120000"/>
              </a:lnSpc>
              <a:spcBef>
                <a:spcPts val="1001"/>
              </a:spcBef>
              <a:buClr>
                <a:srgbClr val="9e2f2b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ＤＦＰ太丸ゴシック体"/>
              </a:rPr>
              <a:t>Hope students to learn recent STAR analysis</a:t>
            </a:r>
            <a:endParaRPr b="0" lang="en-US" sz="3500" spc="-1" strike="noStrike">
              <a:solidFill>
                <a:srgbClr val="000000"/>
              </a:solidFill>
              <a:latin typeface="ＤＦＰ太丸ゴシック体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50760" y="9435960"/>
            <a:ext cx="299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Miake, April 7, 2009 @ LB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Group 25" descr=""/>
          <p:cNvPicPr/>
          <p:nvPr/>
        </p:nvPicPr>
        <p:blipFill>
          <a:blip r:embed="rId1"/>
          <a:stretch/>
        </p:blipFill>
        <p:spPr>
          <a:xfrm>
            <a:off x="5052960" y="6986520"/>
            <a:ext cx="2470320" cy="18954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4"/>
          <p:cNvGrpSpPr/>
          <p:nvPr/>
        </p:nvGrpSpPr>
        <p:grpSpPr>
          <a:xfrm>
            <a:off x="2041200" y="6477120"/>
            <a:ext cx="2094120" cy="2766960"/>
            <a:chOff x="2041200" y="6477120"/>
            <a:chExt cx="2094120" cy="2766960"/>
          </a:xfrm>
        </p:grpSpPr>
        <p:cxnSp>
          <p:nvCxnSpPr>
            <p:cNvPr id="490" name="Straight Arrow Connector 165"/>
            <p:cNvCxnSpPr/>
            <p:nvPr/>
          </p:nvCxnSpPr>
          <p:spPr>
            <a:xfrm flipH="1">
              <a:off x="2788920" y="7216920"/>
              <a:ext cx="868680" cy="1373040"/>
            </a:xfrm>
            <a:prstGeom prst="straightConnector1">
              <a:avLst/>
            </a:prstGeom>
            <a:ln w="25560">
              <a:solidFill>
                <a:srgbClr val="cccc00"/>
              </a:solidFill>
              <a:miter/>
              <a:tailEnd len="med" type="arrow" w="med"/>
            </a:ln>
          </p:spPr>
        </p:cxnSp>
        <p:sp>
          <p:nvSpPr>
            <p:cNvPr id="491" name="Lightning Bolt 166"/>
            <p:cNvSpPr/>
            <p:nvPr/>
          </p:nvSpPr>
          <p:spPr>
            <a:xfrm flipV="1">
              <a:off x="2973600" y="7897320"/>
              <a:ext cx="256320" cy="108000"/>
            </a:xfrm>
            <a:prstGeom prst="lightningBolt">
              <a:avLst/>
            </a:prstGeom>
            <a:gradFill rotWithShape="0">
              <a:gsLst>
                <a:gs pos="0">
                  <a:srgbClr val="ffff85"/>
                </a:gs>
                <a:gs pos="100000">
                  <a:srgbClr val="ebeb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ghtning Bolt 167"/>
            <p:cNvSpPr/>
            <p:nvPr/>
          </p:nvSpPr>
          <p:spPr>
            <a:xfrm flipH="1" flipV="1" rot="1835400">
              <a:off x="3353040" y="7478640"/>
              <a:ext cx="160560" cy="538920"/>
            </a:xfrm>
            <a:prstGeom prst="lightningBolt">
              <a:avLst/>
            </a:prstGeom>
            <a:gradFill rotWithShape="0">
              <a:gsLst>
                <a:gs pos="0">
                  <a:srgbClr val="ffff85"/>
                </a:gs>
                <a:gs pos="100000">
                  <a:srgbClr val="ebeb00"/>
                </a:gs>
              </a:gsLst>
              <a:lin ang="3564000"/>
            </a:gradFill>
            <a:ln w="9360">
              <a:solidFill>
                <a:srgbClr val="cccc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Oval 168"/>
            <p:cNvGrpSpPr/>
            <p:nvPr/>
          </p:nvGrpSpPr>
          <p:grpSpPr>
            <a:xfrm>
              <a:off x="2633040" y="6970320"/>
              <a:ext cx="1502280" cy="1461960"/>
              <a:chOff x="2633040" y="6970320"/>
              <a:chExt cx="1502280" cy="1461960"/>
            </a:xfrm>
          </p:grpSpPr>
          <p:pic>
            <p:nvPicPr>
              <p:cNvPr id="494" name="Oval 168" descr=""/>
              <p:cNvPicPr/>
              <p:nvPr/>
            </p:nvPicPr>
            <p:blipFill>
              <a:blip r:embed="rId2"/>
              <a:stretch/>
            </p:blipFill>
            <p:spPr>
              <a:xfrm>
                <a:off x="2633040" y="6970320"/>
                <a:ext cx="1502280" cy="14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2893320" y="7201440"/>
                <a:ext cx="986040" cy="95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96" name="Straight Arrow Connector 169"/>
            <p:cNvCxnSpPr/>
            <p:nvPr/>
          </p:nvCxnSpPr>
          <p:spPr>
            <a:xfrm flipV="1">
              <a:off x="3656520" y="6663600"/>
              <a:ext cx="426600" cy="576000"/>
            </a:xfrm>
            <a:prstGeom prst="straightConnector1">
              <a:avLst/>
            </a:prstGeom>
            <a:ln w="25560">
              <a:solidFill>
                <a:srgbClr val="cccc00"/>
              </a:solidFill>
              <a:miter/>
              <a:tailEnd len="med" type="arrow" w="med"/>
            </a:ln>
          </p:spPr>
        </p:cxnSp>
        <p:grpSp>
          <p:nvGrpSpPr>
            <p:cNvPr id="497" name="Group 136"/>
            <p:cNvGrpSpPr/>
            <p:nvPr/>
          </p:nvGrpSpPr>
          <p:grpSpPr>
            <a:xfrm>
              <a:off x="2041200" y="8117640"/>
              <a:ext cx="1206000" cy="1126440"/>
              <a:chOff x="2041200" y="8117640"/>
              <a:chExt cx="1206000" cy="1126440"/>
            </a:xfrm>
          </p:grpSpPr>
          <p:cxnSp>
            <p:nvCxnSpPr>
              <p:cNvPr id="498" name="Straight Arrow Connector 173"/>
              <p:cNvCxnSpPr/>
              <p:nvPr/>
            </p:nvCxnSpPr>
            <p:spPr>
              <a:xfrm flipH="1">
                <a:off x="2688120" y="8585280"/>
                <a:ext cx="103320" cy="287640"/>
              </a:xfrm>
              <a:prstGeom prst="straightConnector1">
                <a:avLst/>
              </a:prstGeom>
              <a:ln w="25560">
                <a:solidFill>
                  <a:srgbClr val="cccc00"/>
                </a:solidFill>
                <a:miter/>
                <a:tailEnd len="med" type="arrow" w="med"/>
              </a:ln>
            </p:spPr>
          </p:cxnSp>
          <p:sp>
            <p:nvSpPr>
              <p:cNvPr id="499" name="Isosceles Triangle 174"/>
              <p:cNvSpPr/>
              <p:nvPr/>
            </p:nvSpPr>
            <p:spPr>
              <a:xfrm rot="1551000">
                <a:off x="2512440" y="8213760"/>
                <a:ext cx="607320" cy="723960"/>
              </a:xfrm>
              <a:prstGeom prst="triangle">
                <a:avLst>
                  <a:gd name="adj" fmla="val 54398"/>
                </a:avLst>
              </a:prstGeom>
              <a:solidFill>
                <a:srgbClr val="cccccc">
                  <a:alpha val="38000"/>
                </a:srgbClr>
              </a:solidFill>
              <a:ln w="9360">
                <a:solidFill>
                  <a:srgbClr val="cccc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0" name="Straight Arrow Connector 175"/>
              <p:cNvCxnSpPr/>
              <p:nvPr/>
            </p:nvCxnSpPr>
            <p:spPr>
              <a:xfrm flipH="1">
                <a:off x="2611440" y="8584560"/>
                <a:ext cx="179280" cy="185400"/>
              </a:xfrm>
              <a:prstGeom prst="straightConnector1">
                <a:avLst/>
              </a:prstGeom>
              <a:ln w="25560">
                <a:solidFill>
                  <a:srgbClr val="cccc00"/>
                </a:solidFill>
                <a:miter/>
                <a:tailEnd len="med" type="arrow" w="med"/>
              </a:ln>
            </p:spPr>
          </p:cxnSp>
          <p:cxnSp>
            <p:nvCxnSpPr>
              <p:cNvPr id="501" name="Straight Arrow Connector 176"/>
              <p:cNvCxnSpPr/>
              <p:nvPr/>
            </p:nvCxnSpPr>
            <p:spPr>
              <a:xfrm>
                <a:off x="2790720" y="8547120"/>
                <a:ext cx="43200" cy="199080"/>
              </a:xfrm>
              <a:prstGeom prst="straightConnector1">
                <a:avLst/>
              </a:prstGeom>
              <a:ln w="25560">
                <a:solidFill>
                  <a:srgbClr val="cccc00"/>
                </a:solidFill>
                <a:miter/>
                <a:tailEnd len="med" type="arrow" w="med"/>
              </a:ln>
            </p:spPr>
          </p:cxnSp>
          <p:cxnSp>
            <p:nvCxnSpPr>
              <p:cNvPr id="502" name="Straight Arrow Connector 177"/>
              <p:cNvCxnSpPr>
                <a:endCxn id="499" idx="3"/>
              </p:cNvCxnSpPr>
              <p:nvPr/>
            </p:nvCxnSpPr>
            <p:spPr>
              <a:xfrm flipH="1">
                <a:off x="2685240" y="8455320"/>
                <a:ext cx="179640" cy="459720"/>
              </a:xfrm>
              <a:prstGeom prst="straightConnector1">
                <a:avLst/>
              </a:prstGeom>
              <a:ln w="25560">
                <a:solidFill>
                  <a:srgbClr val="cccc00"/>
                </a:solidFill>
                <a:miter/>
                <a:tailEnd len="med" type="arrow" w="med"/>
              </a:ln>
            </p:spPr>
          </p:cxnSp>
          <p:cxnSp>
            <p:nvCxnSpPr>
              <p:cNvPr id="503" name="Straight Arrow Connector 178"/>
              <p:cNvCxnSpPr/>
              <p:nvPr/>
            </p:nvCxnSpPr>
            <p:spPr>
              <a:xfrm flipH="1" flipV="1">
                <a:off x="2354040" y="8830800"/>
                <a:ext cx="273600" cy="134280"/>
              </a:xfrm>
              <a:prstGeom prst="straightConnector1">
                <a:avLst/>
              </a:prstGeom>
              <a:ln w="25560">
                <a:solidFill>
                  <a:srgbClr val="cccc00"/>
                </a:solidFill>
                <a:miter/>
                <a:tailEnd len="med" type="arrow" w="med"/>
              </a:ln>
            </p:spPr>
          </p:cxnSp>
          <p:sp>
            <p:nvSpPr>
              <p:cNvPr id="504" name="TextBox 179"/>
              <p:cNvSpPr/>
              <p:nvPr/>
            </p:nvSpPr>
            <p:spPr>
              <a:xfrm>
                <a:off x="2290680" y="884484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60" dir="5400000" blurRad="0" rotWithShape="0">
                  <a:srgbClr val="808080">
                    <a:alpha val="4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Box 180"/>
              <p:cNvSpPr/>
              <p:nvPr/>
            </p:nvSpPr>
            <p:spPr>
              <a:xfrm rot="19261200">
                <a:off x="2120040" y="829764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Je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Sun 171"/>
            <p:cNvGrpSpPr/>
            <p:nvPr/>
          </p:nvGrpSpPr>
          <p:grpSpPr>
            <a:xfrm>
              <a:off x="3482280" y="6994800"/>
              <a:ext cx="421560" cy="450720"/>
              <a:chOff x="3482280" y="6994800"/>
              <a:chExt cx="421560" cy="450720"/>
            </a:xfrm>
          </p:grpSpPr>
          <p:pic>
            <p:nvPicPr>
              <p:cNvPr id="507" name="Sun 171" descr=""/>
              <p:cNvPicPr/>
              <p:nvPr/>
            </p:nvPicPr>
            <p:blipFill>
              <a:blip r:embed="rId3"/>
              <a:stretch/>
            </p:blipFill>
            <p:spPr>
              <a:xfrm>
                <a:off x="3482280" y="6994800"/>
                <a:ext cx="421560" cy="45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3655080" y="7156080"/>
                <a:ext cx="80640" cy="8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9" name="TextBox 172" descr=""/>
            <p:cNvPicPr/>
            <p:nvPr/>
          </p:nvPicPr>
          <p:blipFill>
            <a:blip r:embed="rId4"/>
            <a:stretch/>
          </p:blipFill>
          <p:spPr>
            <a:xfrm>
              <a:off x="3535560" y="6477120"/>
              <a:ext cx="492840" cy="49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Footer Placeholder 138"/>
          <p:cNvSpPr/>
          <p:nvPr/>
        </p:nvSpPr>
        <p:spPr>
          <a:xfrm>
            <a:off x="3454560" y="8991720"/>
            <a:ext cx="5486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ＤＦＰ太丸ゴシック体"/>
                <a:ea typeface="ＤＦＰ太丸ゴシック体"/>
              </a:rPr>
              <a:t>Mateusz Ploskon (LBNL), STAR, QM'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hjetQM_1.gif"/>
          <p:cNvPicPr/>
          <p:nvPr/>
        </p:nvPicPr>
        <p:blipFill>
          <a:blip r:embed="rId5"/>
          <a:stretch/>
        </p:blipFill>
        <p:spPr>
          <a:xfrm>
            <a:off x="8255160" y="6307200"/>
            <a:ext cx="3552840" cy="344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1:32:07Z</dcterms:created>
  <dc:creator/>
  <dc:description/>
  <cp:keywords/>
  <dc:language>en-US</dc:language>
  <cp:lastModifiedBy>Yasuo Miake</cp:lastModifiedBy>
  <cp:lastPrinted>2009-03-24T06:23:54Z</cp:lastPrinted>
  <dcterms:modified xsi:type="dcterms:W3CDTF">2009-04-07T13:43:00Z</dcterms:modified>
  <cp:revision>22</cp:revision>
  <dc:subject/>
  <dc:title>J-Cal</dc:title>
</cp:coreProperties>
</file>