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071F-82A3-4549-800B-77F2B88D7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174E-AD6C-4684-88FF-2C4C9420F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AB4A-DD30-40BC-81DD-0242A699D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D7F4-2D6D-40EC-A9C6-36EF14479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979D-C1CA-4B51-95CD-C4B9733B2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C1EE-33BD-40F4-880D-C212ED418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4261-4640-4B09-857F-7FB97C326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CCD8-7333-4677-A07D-93EFCBB24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2B02-02F5-40AD-B61C-731CFA1F9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CBB5-3214-4D30-8CDB-D44CA9C60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6900-8ABA-4BC3-9CC3-F036F3197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6E39-B20B-439F-AE4E-3702E296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09/4/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LICE PostQM09 @ LBN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460BD-24C6-436E-B8F0-29CB9A6F563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s.wisc.edu/condor/" TargetMode="External"/><Relationship Id="rId2" Type="http://schemas.openxmlformats.org/officeDocument/2006/relationships/hyperlink" Target="http://www.cs.wisc.edu/condor/" TargetMode="External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paration for the Di-Jet Study @ Tsukub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4280" y="3886200"/>
            <a:ext cx="6786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University of Tsukub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T. Horaguch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April 8 2009 for the ALICE PostQM @ LBN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日付プレースホルダ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09/4/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スライド番号プレースホルダ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1DAAC-9884-4832-A937-87092A1873C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フッター プレースホルダ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LICE PostQM09 @ LBN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ocal Cluster</a:t>
            </a: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＠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University of Tsukub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357800" y="1213920"/>
            <a:ext cx="45720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atch Job System @ University  of Tsukuba was established on April 6 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atch Job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d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cs.wisc.edu/condor</a:t>
            </a:r>
            <a:r>
              <a:rPr b="0" lang="en-US" sz="15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/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orker No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2cpu x 4core = 8 cor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otal: 48 core -&gt; ~80 cor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ICE Library Ser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ICE Full Simulation &amp; Reconstru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vided with NFS mou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orage Ser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~10TByte Dis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k space provided with NFS mou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du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ICE Full Simulation Test was done 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vent generation for the di-jet study has been started 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libration &amp; Physics Simulation for J-Cal will be done with Local Cluster 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" name="Group 52"/>
          <p:cNvGrpSpPr/>
          <p:nvPr/>
        </p:nvGrpSpPr>
        <p:grpSpPr>
          <a:xfrm>
            <a:off x="285840" y="1428840"/>
            <a:ext cx="4000320" cy="4786200"/>
            <a:chOff x="285840" y="1428840"/>
            <a:chExt cx="4000320" cy="4786200"/>
          </a:xfrm>
        </p:grpSpPr>
        <p:sp>
          <p:nvSpPr>
            <p:cNvPr id="49" name="AutoShape 48"/>
            <p:cNvSpPr/>
            <p:nvPr/>
          </p:nvSpPr>
          <p:spPr>
            <a:xfrm>
              <a:off x="285840" y="1428840"/>
              <a:ext cx="4000320" cy="4786200"/>
            </a:xfrm>
            <a:custGeom>
              <a:avLst/>
              <a:gdLst>
                <a:gd name="textAreaLeft" fmla="*/ 195120 w 4000320"/>
                <a:gd name="textAreaRight" fmla="*/ 3805200 w 4000320"/>
                <a:gd name="textAreaTop" fmla="*/ 195120 h 4786200"/>
                <a:gd name="textAreaBottom" fmla="*/ 4591080 h 4786200"/>
              </a:gdLst>
              <a:ahLst/>
              <a:rect l="textAreaLeft" t="textAreaTop" r="textAreaRight" b="textAreaBottom"/>
              <a:pathLst>
                <a:path w="21600" h="25843">
                  <a:moveTo>
                    <a:pt x="3600" y="0"/>
                  </a:moveTo>
                  <a:arcTo wR="3600" hR="3600" stAng="16200000" swAng="-5400000"/>
                  <a:lnTo>
                    <a:pt x="0" y="22243"/>
                  </a:lnTo>
                  <a:arcTo wR="3600" hR="3600" stAng="10800000" swAng="-5400000"/>
                  <a:lnTo>
                    <a:pt x="18000" y="258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ce11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AutoShape 36"/>
            <p:cNvSpPr/>
            <p:nvPr/>
          </p:nvSpPr>
          <p:spPr>
            <a:xfrm>
              <a:off x="2224800" y="2008800"/>
              <a:ext cx="1938960" cy="3946680"/>
            </a:xfrm>
            <a:custGeom>
              <a:avLst/>
              <a:gdLst>
                <a:gd name="textAreaLeft" fmla="*/ 94320 w 1938960"/>
                <a:gd name="textAreaRight" fmla="*/ 1844640 w 1938960"/>
                <a:gd name="textAreaTop" fmla="*/ 94320 h 3946680"/>
                <a:gd name="textAreaBottom" fmla="*/ 3852360 h 3946680"/>
              </a:gdLst>
              <a:ahLst/>
              <a:rect l="textAreaLeft" t="textAreaTop" r="textAreaRight" b="textAreaBottom"/>
              <a:pathLst>
                <a:path w="21600" h="43962">
                  <a:moveTo>
                    <a:pt x="3600" y="0"/>
                  </a:moveTo>
                  <a:arcTo wR="3600" hR="3600" stAng="16200000" swAng="-5400000"/>
                  <a:lnTo>
                    <a:pt x="0" y="40362"/>
                  </a:lnTo>
                  <a:arcTo wR="3600" hR="3600" stAng="10800000" swAng="-5400000"/>
                  <a:lnTo>
                    <a:pt x="18000" y="439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a1a3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1" name="Picture 17" descr="SERVER"/>
            <p:cNvPicPr/>
            <p:nvPr/>
          </p:nvPicPr>
          <p:blipFill>
            <a:blip r:embed="rId3"/>
            <a:stretch/>
          </p:blipFill>
          <p:spPr>
            <a:xfrm>
              <a:off x="499320" y="2714040"/>
              <a:ext cx="1232640" cy="131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19" descr="SERVER"/>
            <p:cNvPicPr/>
            <p:nvPr/>
          </p:nvPicPr>
          <p:blipFill>
            <a:blip r:embed="rId4"/>
            <a:stretch/>
          </p:blipFill>
          <p:spPr>
            <a:xfrm>
              <a:off x="499320" y="4577040"/>
              <a:ext cx="1232640" cy="131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20" descr="SERVER"/>
            <p:cNvPicPr/>
            <p:nvPr/>
          </p:nvPicPr>
          <p:blipFill>
            <a:blip r:embed="rId5"/>
            <a:stretch/>
          </p:blipFill>
          <p:spPr>
            <a:xfrm>
              <a:off x="2408040" y="2008800"/>
              <a:ext cx="703800" cy="75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22" descr="SERVER"/>
            <p:cNvPicPr/>
            <p:nvPr/>
          </p:nvPicPr>
          <p:blipFill>
            <a:blip r:embed="rId6"/>
            <a:stretch/>
          </p:blipFill>
          <p:spPr>
            <a:xfrm>
              <a:off x="2408040" y="2761200"/>
              <a:ext cx="703800" cy="75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25" descr="SERVER"/>
            <p:cNvPicPr/>
            <p:nvPr/>
          </p:nvPicPr>
          <p:blipFill>
            <a:blip r:embed="rId7"/>
            <a:stretch/>
          </p:blipFill>
          <p:spPr>
            <a:xfrm>
              <a:off x="2408040" y="3574440"/>
              <a:ext cx="703800" cy="75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26" descr="SERVER"/>
            <p:cNvPicPr/>
            <p:nvPr/>
          </p:nvPicPr>
          <p:blipFill>
            <a:blip r:embed="rId8"/>
            <a:stretch/>
          </p:blipFill>
          <p:spPr>
            <a:xfrm>
              <a:off x="2408040" y="4389120"/>
              <a:ext cx="703800" cy="75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27" descr="SERVER"/>
            <p:cNvPicPr/>
            <p:nvPr/>
          </p:nvPicPr>
          <p:blipFill>
            <a:blip r:embed="rId9"/>
            <a:stretch/>
          </p:blipFill>
          <p:spPr>
            <a:xfrm>
              <a:off x="2408040" y="5140440"/>
              <a:ext cx="703800" cy="75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28" descr="SERVER"/>
            <p:cNvPicPr/>
            <p:nvPr/>
          </p:nvPicPr>
          <p:blipFill>
            <a:blip r:embed="rId10"/>
            <a:stretch/>
          </p:blipFill>
          <p:spPr>
            <a:xfrm>
              <a:off x="3256200" y="2008800"/>
              <a:ext cx="703800" cy="75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29" descr="SERVER"/>
            <p:cNvPicPr/>
            <p:nvPr/>
          </p:nvPicPr>
          <p:blipFill>
            <a:blip r:embed="rId11"/>
            <a:stretch/>
          </p:blipFill>
          <p:spPr>
            <a:xfrm>
              <a:off x="3256200" y="2761200"/>
              <a:ext cx="703800" cy="75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icture 30" descr="SERVER"/>
            <p:cNvPicPr/>
            <p:nvPr/>
          </p:nvPicPr>
          <p:blipFill>
            <a:blip r:embed="rId12"/>
            <a:stretch/>
          </p:blipFill>
          <p:spPr>
            <a:xfrm>
              <a:off x="3256200" y="3574440"/>
              <a:ext cx="703800" cy="75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31" descr="SERVER"/>
            <p:cNvPicPr/>
            <p:nvPr/>
          </p:nvPicPr>
          <p:blipFill>
            <a:blip r:embed="rId13"/>
            <a:stretch/>
          </p:blipFill>
          <p:spPr>
            <a:xfrm>
              <a:off x="3256200" y="4389120"/>
              <a:ext cx="703800" cy="75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32" descr="SERVER"/>
            <p:cNvPicPr/>
            <p:nvPr/>
          </p:nvPicPr>
          <p:blipFill>
            <a:blip r:embed="rId14"/>
            <a:stretch/>
          </p:blipFill>
          <p:spPr>
            <a:xfrm>
              <a:off x="3256200" y="5140440"/>
              <a:ext cx="70380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 Box 34"/>
            <p:cNvSpPr/>
            <p:nvPr/>
          </p:nvSpPr>
          <p:spPr>
            <a:xfrm>
              <a:off x="772200" y="1884240"/>
              <a:ext cx="1544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AutoShape 37"/>
            <p:cNvSpPr/>
            <p:nvPr/>
          </p:nvSpPr>
          <p:spPr>
            <a:xfrm>
              <a:off x="1558800" y="2885400"/>
              <a:ext cx="788040" cy="814680"/>
            </a:xfrm>
            <a:prstGeom prst="leftRightArrow">
              <a:avLst>
                <a:gd name="adj1" fmla="val 50000"/>
                <a:gd name="adj2" fmla="val 1990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NF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AutoShape 39"/>
            <p:cNvSpPr/>
            <p:nvPr/>
          </p:nvSpPr>
          <p:spPr>
            <a:xfrm>
              <a:off x="1558800" y="4828320"/>
              <a:ext cx="788040" cy="814680"/>
            </a:xfrm>
            <a:prstGeom prst="leftRightArrow">
              <a:avLst>
                <a:gd name="adj1" fmla="val 50000"/>
                <a:gd name="adj2" fmla="val 1990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NF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AutoShape 43"/>
            <p:cNvSpPr/>
            <p:nvPr/>
          </p:nvSpPr>
          <p:spPr>
            <a:xfrm>
              <a:off x="499320" y="2142720"/>
              <a:ext cx="1514520" cy="500760"/>
            </a:xfrm>
            <a:prstGeom prst="roundRect">
              <a:avLst>
                <a:gd name="adj" fmla="val 16667"/>
              </a:avLst>
            </a:pr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Condor  Server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(wn001)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AutoShape 46"/>
            <p:cNvSpPr/>
            <p:nvPr/>
          </p:nvSpPr>
          <p:spPr>
            <a:xfrm>
              <a:off x="356400" y="4071600"/>
              <a:ext cx="1785600" cy="501120"/>
            </a:xfrm>
            <a:prstGeom prst="roundRect">
              <a:avLst>
                <a:gd name="adj" fmla="val 16667"/>
              </a:avLst>
            </a:pr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orage &amp; Librar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erver (aa003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" name="角丸四角形 24"/>
          <p:cNvSpPr/>
          <p:nvPr/>
        </p:nvSpPr>
        <p:spPr>
          <a:xfrm>
            <a:off x="2428920" y="1571760"/>
            <a:ext cx="1500120" cy="3571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n001-00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日付プレースホルダ 2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09/4/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スライド番号プレースホルダ 2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F2987-7C84-4128-B446-029B2F98A0C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フッター プレースホルダ 3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LICE PostQM09 @ LBN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 &amp; Future Pl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cal Cluster @ University of Tsukuba for J-Cal study was established on this April ! This provides a baseline for the study of J-Cal 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-Jet &amp; photon-Jet study  has been started using this Local Cluster 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Local Cluster will be strongly helpful to study of physics performance of J-Cal and many calibration tasks 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日付プレースホルダ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09/4/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スライド番号プレースホルダ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36992-7430-4AFE-A86E-F58D9C4ECBD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フッター プレースホルダ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LICE PostQM09 @ LBN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7T07:57:14Z</dcterms:created>
  <dc:creator>takuma</dc:creator>
  <dc:description/>
  <dc:language>en-US</dc:language>
  <cp:lastModifiedBy>takuma</cp:lastModifiedBy>
  <dcterms:modified xsi:type="dcterms:W3CDTF">2009-04-07T21:49:28Z</dcterms:modified>
  <cp:revision>9</cp:revision>
  <dc:subject/>
  <dc:title>Preparation for the Di-Jet Study @ Tsukuba University</dc:title>
</cp:coreProperties>
</file>