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B500-94C8-4FF4-AA4A-0CA3AE47E3A8}" type="datetime">
              <a:rPr b="0" lang="ja-JP" sz="1200" spc="-1" strike="noStrike">
                <a:solidFill>
                  <a:srgbClr val="000000"/>
                </a:solidFill>
                <a:latin typeface="Arial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2B31-C0C1-4E41-861C-4C5519B0D2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B37A-7BB3-4CF7-B957-00060DEF34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E299-A611-4FA6-B5F5-C610191A92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5E7F-BF9E-4124-8350-811C6ED1C0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74B8-03EF-4E17-9F32-50BF16E4ED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99A8-C2CA-469A-A921-4F630D857D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2F1B-6CA0-405D-9058-BEC296C4AC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A1BE-A2F5-4B8A-B225-6F852F52A8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E3B9-F72A-4DD2-902E-D388A6D6C2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D82-CBB9-48A4-87B8-0B0E6507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B93-6E35-41B1-A9CE-0D738CC2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54C-CCEC-431B-85AD-980084C6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53F-E111-4573-82BA-7DFDC573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F7F3-F209-49E5-A418-F8FA4B00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C45F-7135-4970-8BFA-E15203C8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EA95-9058-4ED3-97B9-1B98818B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A00B-25E0-406A-A13B-9EDE7716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6327-F782-4900-AF9E-F029BA53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5A2A-B2F1-4068-A65E-A37935EA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FD63-901E-4AAD-9C2D-CA92173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B27-4A4A-4932-A6CE-D7E2ED80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D3DD-D427-4FBE-95FE-19702923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C0B6-CC05-4C10-9D6A-0EFA16D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7489-724C-403A-AF9F-2FD01AEF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7024-7B57-46FF-A928-6225803D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33D6-9CE7-4E5A-8C61-3F47CCC5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2CA5-134F-4041-9EE6-D7382904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8D43-50F3-47AD-B9A4-084753A5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F87B-EC07-4F9A-ACE1-A280FB6D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EDA3-6822-42B5-838F-36905807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EFB1-2849-4AE3-970D-24844379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5DE-88C7-4DA3-9426-18332BD8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AF31-52A3-4367-93BA-42F06638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F753-6F6F-4E5A-9BD1-55ADFB0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92C6-A081-471B-B8C6-A4C15C73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ED48-C5DE-479E-8077-A4D613E5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3838-68D3-4453-9245-C34A87A4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0ACD-1E76-4F7F-9E4E-5D7AC146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3BEB-2BDB-4ABE-92A3-A9043253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5F892-820D-4A23-9345-1DB2C3D4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514D-8E15-44B2-9AF1-917ADCB2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76F3-0E89-4000-AC9E-A9E2903B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895-806D-4364-BE20-80CE16D1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FC64-CD02-4532-AB37-637CCF7D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6110F-6B07-4579-AA78-B3AFFC6B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596B-6022-48BE-8296-16A6DD8C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DFF3-B784-4C88-A346-98ED326D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8B19-9BC1-4C74-BB58-10D167B9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FE3F7-8759-4BD8-AE11-C230172F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40D4-D781-4DD1-8185-4A0421E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14F0-5109-4D30-A4C6-291B571D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CEFF-AC94-448B-8293-CE1A8473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F9210-D7D3-4BB7-9ECA-1B0A4F8E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889-949E-42EC-96C1-2A8229E5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E5FF-A9AA-4021-8FEC-DE32F0A1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4AC25-B1AC-42A6-B00B-66F9386C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72DA1-21E6-442F-B696-1276F49A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249B6-A1CC-4F64-9CF9-1F73063E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00BB-8CA8-41EA-ACD2-C7DD9D38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C9974-45AF-432F-BEE2-1F248A6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1203A-1243-4679-9DBC-0BE7A610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FD52-C939-4023-BAAE-AA629042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5A7DF-5359-4417-9300-D4602E3C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C063-3ACA-40E2-A8F8-7BF22049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857-4968-4423-AC2E-BA656094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14CAE-919D-46A6-97DE-FA1BE463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B9889-02D7-450B-838C-87625264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F259-702B-4AD1-B313-7C9A9679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96B57-82FA-4163-BC5A-6686661A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C2A07-5DA5-4838-B378-7525F3CB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9504C-34A3-4A1A-849A-242D26D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9C7CA-00A9-413C-9B92-64A4B369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D89E8-7B78-4C0A-92A9-1C83AEAB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6BBF7-D7C3-4472-8638-403BE72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1F43A-EF1A-4B73-85E0-22E78C62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E0B-085F-4A5B-B6E1-98634FD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58D86-CF6C-491C-AEAC-6F89B304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9A767-00B0-449D-B83F-E09121A7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84A8A-238A-48EA-8E2A-2679D5EC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CA82E-8306-4D18-8FDA-4F3081E9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1837-7387-4038-A4F5-5F6311DA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B677F-6741-436E-95FC-3710B2B1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DC64-A937-4E59-9E8F-B72D60E9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C5026-44D4-491B-84C9-5A289B48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3B59-5BD6-4E34-9360-B2CB628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7ECF8-CC4D-431A-8F59-8D1509DE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F5C-9388-47D6-B642-A3B56076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BB7DA-0A37-4B9B-9E3F-2869ADF9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EFC0-1248-4B87-85D7-F109E4D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0D9B4-216D-44D3-BD24-4480F05D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1154-C310-479D-AF6C-E216AE4B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886B7-420A-46AB-8D15-57EC9823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2AE-44F8-46BC-ADF8-711668C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F830-03CD-4161-A83B-5B19845F55C2}" type="datetime">
              <a:rPr b="0" lang="en-US" sz="1200" spc="-1" strike="noStrike">
                <a:solidFill>
                  <a:srgbClr val="b5a788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2C04-772A-4320-9D4D-155C0029330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パイ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円/楕円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円/楕円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円/楕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62D5-B2E1-4D94-81C4-4F74FC54F55B}" type="datetime">
              <a:rPr b="0" lang="en-US" sz="1200" spc="-1" strike="noStrike">
                <a:solidFill>
                  <a:srgbClr val="b5a788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95D3-B63C-48B9-8CC5-E944C6F48F4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正方形/長方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正方形/長方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円/楕円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円/楕円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円/楕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8A40-D14E-44D1-9C78-05EF60FFC5E1}" type="datetime">
              <a:rPr b="0" lang="en-US" sz="1200" spc="-1" strike="noStrike">
                <a:solidFill>
                  <a:srgbClr val="b5a788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21F1-773F-485E-B8AF-037D11A1F74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B3DF-B171-4F8D-BDE6-9B3DBC22465C}" type="datetime">
              <a:rPr b="0" lang="en-US" sz="1200" spc="-1" strike="noStrike">
                <a:solidFill>
                  <a:srgbClr val="b5a788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C9A0-BC78-4993-AC09-CA471E0FDA9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正方形/長方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正方形/長方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DA13-BD31-40BF-B3C6-1373ABF90CA7}" type="datetime">
              <a:rPr b="0" lang="en-US" sz="1200" spc="-1" strike="noStrike">
                <a:solidFill>
                  <a:srgbClr val="b5a788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5F41-571E-4962-8A60-9A88456B8A6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429D-87DD-4D22-A91B-2AFB4DD28CB1}" type="datetime">
              <a:rPr b="0" lang="en-US" sz="1200" spc="-1" strike="noStrike">
                <a:solidFill>
                  <a:srgbClr val="b5a788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A4F-DB1D-4A33-832B-9B7D206DD94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正方形/長方形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正方形/長方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フローチャート: 処理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フローチャート: 処理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A544-C123-4E43-BD88-47DCA13C2C57}" type="datetime">
              <a:rPr b="0" lang="en-US" sz="1200" spc="-1" strike="noStrike">
                <a:solidFill>
                  <a:srgbClr val="b5a788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5397-A10D-4B0E-B075-DC2F15F71CD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Di-jet sim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ill Sans MT"/>
                <a:ea typeface="ＭＳ ゴシック"/>
              </a:rPr>
              <a:t>Hiroki Yokoy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ill Sans MT"/>
                <a:ea typeface="ＭＳ ゴシック"/>
              </a:rPr>
              <a:t>Univ. of  TSUKUB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ill Sans MT"/>
                <a:ea typeface="ＭＳ ゴシック"/>
              </a:rPr>
              <a:t>ALICE POST-QM0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Motiv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Dijet phi bal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Dijet energy bal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スライド番号プレースホルダ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5C51-195F-481C-A4E7-5FB5FF310BA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図 16" descr="phi_sample.gif"/>
          <p:cNvPicPr/>
          <p:nvPr/>
        </p:nvPicPr>
        <p:blipFill>
          <a:blip r:embed="rId2"/>
          <a:stretch/>
        </p:blipFill>
        <p:spPr>
          <a:xfrm>
            <a:off x="4800600" y="1193760"/>
            <a:ext cx="4194000" cy="2844720"/>
          </a:xfrm>
          <a:prstGeom prst="rect">
            <a:avLst/>
          </a:prstGeom>
          <a:ln w="0">
            <a:noFill/>
          </a:ln>
        </p:spPr>
      </p:pic>
      <p:pic>
        <p:nvPicPr>
          <p:cNvPr id="331" name="図 15" descr="dphi_wsmear.gif"/>
          <p:cNvPicPr/>
          <p:nvPr/>
        </p:nvPicPr>
        <p:blipFill>
          <a:blip r:embed="rId3"/>
          <a:stretch/>
        </p:blipFill>
        <p:spPr>
          <a:xfrm>
            <a:off x="1041480" y="2917800"/>
            <a:ext cx="4140000" cy="39402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Dijet Phi-Balance resolution </a:t>
            </a:r>
            <a:r>
              <a:rPr b="0" lang="en-US" sz="20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pp5500GeV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スライド番号プレースホルダ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5FE4-EBC5-4E5A-A1D3-8127234EC2B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990720" y="1295280"/>
            <a:ext cx="4343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2120" tIns="46800" bIns="46800" anchor="t">
            <a:no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YTHIA8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CellJet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=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Dijet phi balance = dphi - 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Including detector energy sme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正方形/長方形 8"/>
          <p:cNvGrpSpPr/>
          <p:nvPr/>
        </p:nvGrpSpPr>
        <p:grpSpPr>
          <a:xfrm>
            <a:off x="5254560" y="4363920"/>
            <a:ext cx="3816360" cy="2444760"/>
            <a:chOff x="5254560" y="4363920"/>
            <a:chExt cx="3816360" cy="2444760"/>
          </a:xfrm>
        </p:grpSpPr>
        <p:pic>
          <p:nvPicPr>
            <p:cNvPr id="336" name="正方形/長方形 8" descr=""/>
            <p:cNvPicPr/>
            <p:nvPr/>
          </p:nvPicPr>
          <p:blipFill>
            <a:blip r:embed="rId4"/>
            <a:stretch/>
          </p:blipFill>
          <p:spPr>
            <a:xfrm>
              <a:off x="5254560" y="4363920"/>
              <a:ext cx="381636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334120" y="4419720"/>
              <a:ext cx="3657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ＭＳ ゴシック"/>
                </a:rPr>
                <a:t>High energy Dije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ＭＳ ゴシック"/>
                </a:rPr>
                <a:t>have clean back-to-back shap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図 27" descr="dET_sample.gif"/>
          <p:cNvPicPr/>
          <p:nvPr/>
        </p:nvPicPr>
        <p:blipFill>
          <a:blip r:embed="rId2"/>
          <a:stretch/>
        </p:blipFill>
        <p:spPr>
          <a:xfrm>
            <a:off x="4952880" y="1143000"/>
            <a:ext cx="3733920" cy="2532240"/>
          </a:xfrm>
          <a:prstGeom prst="rect">
            <a:avLst/>
          </a:prstGeom>
          <a:ln w="0">
            <a:noFill/>
          </a:ln>
        </p:spPr>
      </p:pic>
      <p:pic>
        <p:nvPicPr>
          <p:cNvPr id="339" name="図 11" descr="dET_wsmear.gif"/>
          <p:cNvPicPr/>
          <p:nvPr/>
        </p:nvPicPr>
        <p:blipFill>
          <a:blip r:embed="rId3"/>
          <a:stretch/>
        </p:blipFill>
        <p:spPr>
          <a:xfrm>
            <a:off x="1295280" y="3014640"/>
            <a:ext cx="4038840" cy="38433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Dijet Energy Balance 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 pp 5500GeV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90360" y="12949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YTHIA8 simulation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CellJet algorith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6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=0.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6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Dijet energy balance =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Including detector energy smearing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429000" y="1981080"/>
                <a:ext cx="1289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3" name="正方形/長方形 8"/>
          <p:cNvGrpSpPr/>
          <p:nvPr/>
        </p:nvGrpSpPr>
        <p:grpSpPr>
          <a:xfrm>
            <a:off x="5254560" y="4211640"/>
            <a:ext cx="3359160" cy="2365200"/>
            <a:chOff x="5254560" y="4211640"/>
            <a:chExt cx="3359160" cy="2365200"/>
          </a:xfrm>
        </p:grpSpPr>
        <p:pic>
          <p:nvPicPr>
            <p:cNvPr id="344" name="正方形/長方形 8" descr=""/>
            <p:cNvPicPr/>
            <p:nvPr/>
          </p:nvPicPr>
          <p:blipFill>
            <a:blip r:embed="rId4"/>
            <a:stretch/>
          </p:blipFill>
          <p:spPr>
            <a:xfrm>
              <a:off x="5254560" y="4211640"/>
              <a:ext cx="335916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5334120" y="4267080"/>
              <a:ext cx="3200400" cy="22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ＭＳ ゴシック"/>
                </a:rPr>
                <a:t>Resolution of Dijet energy balance is improved by J-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図形グループ 18"/>
          <p:cNvGrpSpPr/>
          <p:nvPr/>
        </p:nvGrpSpPr>
        <p:grpSpPr>
          <a:xfrm>
            <a:off x="1716120" y="4303800"/>
            <a:ext cx="3160800" cy="1106280"/>
            <a:chOff x="1716120" y="4303800"/>
            <a:chExt cx="3160800" cy="1106280"/>
          </a:xfrm>
        </p:grpSpPr>
        <p:sp>
          <p:nvSpPr>
            <p:cNvPr id="347" name="フリーフォーム 16"/>
            <p:cNvSpPr/>
            <p:nvPr/>
          </p:nvSpPr>
          <p:spPr>
            <a:xfrm>
              <a:off x="1716120" y="4303800"/>
              <a:ext cx="3119760" cy="65556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miter/>
            </a:ln>
            <a:effectLst>
              <a:outerShdw dist="25560" dir="5400000" blurRad="0" rotWithShape="0">
                <a:srgbClr val="80808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フリーフォーム 17"/>
            <p:cNvSpPr/>
            <p:nvPr/>
          </p:nvSpPr>
          <p:spPr>
            <a:xfrm>
              <a:off x="1757160" y="4754520"/>
              <a:ext cx="3119760" cy="6555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5560" dir="5400000" blurRad="0" rotWithShape="0">
                <a:srgbClr val="80808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テキスト ボックス 19"/>
          <p:cNvSpPr/>
          <p:nvPr/>
        </p:nvSpPr>
        <p:spPr>
          <a:xfrm>
            <a:off x="3724200" y="41353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ff21"/>
                </a:solidFill>
                <a:latin typeface="Arial"/>
              </a:rPr>
              <a:t>TPC-T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テキスト ボックス 20"/>
          <p:cNvSpPr/>
          <p:nvPr/>
        </p:nvSpPr>
        <p:spPr>
          <a:xfrm>
            <a:off x="3724200" y="451656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PC-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22"/>
          <p:cNvSpPr/>
          <p:nvPr/>
        </p:nvSpPr>
        <p:spPr>
          <a:xfrm>
            <a:off x="3724200" y="498636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Cal-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テキスト ボックス 23"/>
          <p:cNvSpPr/>
          <p:nvPr/>
        </p:nvSpPr>
        <p:spPr>
          <a:xfrm>
            <a:off x="3665520" y="5504040"/>
            <a:ext cx="16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28f9"/>
                </a:solidFill>
                <a:latin typeface="Arial"/>
              </a:rPr>
              <a:t>γ-jet:JCal-E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26"/>
          <p:cNvSpPr/>
          <p:nvPr/>
        </p:nvSpPr>
        <p:spPr>
          <a:xfrm>
            <a:off x="3665520" y="5881680"/>
            <a:ext cx="16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ll part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7778880" y="3505320"/>
                <a:ext cx="90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図形グループ 12"/>
          <p:cNvGrpSpPr/>
          <p:nvPr/>
        </p:nvGrpSpPr>
        <p:grpSpPr>
          <a:xfrm>
            <a:off x="1295280" y="2133720"/>
            <a:ext cx="3759480" cy="3124080"/>
            <a:chOff x="1295280" y="2133720"/>
            <a:chExt cx="3759480" cy="3124080"/>
          </a:xfrm>
        </p:grpSpPr>
        <p:pic>
          <p:nvPicPr>
            <p:cNvPr id="356" name="図 4" descr="eTdist_R07.gif"/>
            <p:cNvPicPr/>
            <p:nvPr/>
          </p:nvPicPr>
          <p:blipFill>
            <a:blip r:embed="rId2"/>
            <a:stretch/>
          </p:blipFill>
          <p:spPr>
            <a:xfrm>
              <a:off x="1295280" y="2133720"/>
              <a:ext cx="375948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テキスト ボックス 5"/>
            <p:cNvSpPr/>
            <p:nvPr/>
          </p:nvSpPr>
          <p:spPr>
            <a:xfrm>
              <a:off x="1726200" y="2505600"/>
              <a:ext cx="6166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=0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テキスト ボックス 6"/>
            <p:cNvSpPr/>
            <p:nvPr/>
          </p:nvSpPr>
          <p:spPr>
            <a:xfrm>
              <a:off x="3504960" y="2438280"/>
              <a:ext cx="154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Red: Quench O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Blue: Quench 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図形グループ 11"/>
          <p:cNvGrpSpPr/>
          <p:nvPr/>
        </p:nvGrpSpPr>
        <p:grpSpPr>
          <a:xfrm>
            <a:off x="5232240" y="1981080"/>
            <a:ext cx="3683160" cy="3505320"/>
            <a:chOff x="5232240" y="1981080"/>
            <a:chExt cx="3683160" cy="3505320"/>
          </a:xfrm>
        </p:grpSpPr>
        <p:pic>
          <p:nvPicPr>
            <p:cNvPr id="360" name="図 5" descr="dEE_R02_100GeV.gif"/>
            <p:cNvPicPr/>
            <p:nvPr/>
          </p:nvPicPr>
          <p:blipFill>
            <a:blip r:embed="rId3"/>
            <a:stretch/>
          </p:blipFill>
          <p:spPr>
            <a:xfrm>
              <a:off x="5232240" y="1981080"/>
              <a:ext cx="36831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テキスト ボックス 10"/>
            <p:cNvSpPr/>
            <p:nvPr/>
          </p:nvSpPr>
          <p:spPr>
            <a:xfrm>
              <a:off x="5562360" y="2361960"/>
              <a:ext cx="1447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=0.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Arial"/>
                </a:rPr>
                <a:t>Tmean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100Ge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YQUEN 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pp5500GeV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920"/>
            <a:ext cx="7499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YTHIA6+Jet-Quen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スライド番号プレースホルダ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182A-E215-46E0-A1ED-F935C7576CE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正方形/長方形 7"/>
          <p:cNvGrpSpPr/>
          <p:nvPr/>
        </p:nvGrpSpPr>
        <p:grpSpPr>
          <a:xfrm>
            <a:off x="1596960" y="5510160"/>
            <a:ext cx="7169040" cy="1146240"/>
            <a:chOff x="1596960" y="5510160"/>
            <a:chExt cx="7169040" cy="1146240"/>
          </a:xfrm>
        </p:grpSpPr>
        <p:pic>
          <p:nvPicPr>
            <p:cNvPr id="366" name="正方形/長方形 7" descr=""/>
            <p:cNvPicPr/>
            <p:nvPr/>
          </p:nvPicPr>
          <p:blipFill>
            <a:blip r:embed="rId4"/>
            <a:stretch/>
          </p:blipFill>
          <p:spPr>
            <a:xfrm>
              <a:off x="1596960" y="5510160"/>
              <a:ext cx="71690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676520" y="5562720"/>
              <a:ext cx="701028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ＭＳ ゴシック"/>
                </a:rPr>
                <a:t>20GeV energy loss at central colli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ＭＳ ゴシック"/>
                </a:rPr>
                <a:t>Energy unbal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テキスト ボックス 8"/>
          <p:cNvSpPr/>
          <p:nvPr/>
        </p:nvSpPr>
        <p:spPr>
          <a:xfrm>
            <a:off x="6553080" y="1447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Hat=100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Summ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YTHIA8 simu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High energy jets make clean Back-to-B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The energy balance resolution is improved       when J-cal is instal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YQUEN simu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~20GeV energy loss at central colli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energy unbalanc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スライド番号プレースホルダ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2D29-6658-48A6-9BB6-B0CD69374A0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BACKUP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スライド番号プレースホルダ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2B94-74E9-4116-A33A-EDCCA627A68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jet energy balance/dphi resolution with PYTHIA8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3352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btob jet selection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HardQCD::all = on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p5500GeV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CellJet(MineT=20(13), eTseed=1.5(1.), coneRadius=0.2)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[0.1,0.1] cell (|eta|&lt;5.), particle ET(p) smearing by detector resolution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cellJet.size()==2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hi1&gt;0 &amp;&amp; phi2&lt;0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THat(40~180GeV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configuration (TPC-TPC, TPC-(EMC+TPC), (EMC+TPC)-(EMC+TPC)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energy correction (in case  TPC-(EMC+TPC) conf.)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スライド番号プレースホルダ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504F-DE3F-4155-8D4F-01FE3304142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図 8" descr="dET_wosmear.gif"/>
          <p:cNvPicPr/>
          <p:nvPr/>
        </p:nvPicPr>
        <p:blipFill>
          <a:blip r:embed="rId2"/>
          <a:stretch/>
        </p:blipFill>
        <p:spPr>
          <a:xfrm>
            <a:off x="762120" y="3276720"/>
            <a:ext cx="3709800" cy="3530520"/>
          </a:xfrm>
          <a:prstGeom prst="rect">
            <a:avLst/>
          </a:prstGeom>
          <a:ln w="0">
            <a:noFill/>
          </a:ln>
        </p:spPr>
      </p:pic>
      <p:pic>
        <p:nvPicPr>
          <p:cNvPr id="378" name="図 6" descr="dphi_wosmear.gif"/>
          <p:cNvPicPr/>
          <p:nvPr/>
        </p:nvPicPr>
        <p:blipFill>
          <a:blip r:embed="rId3"/>
          <a:stretch/>
        </p:blipFill>
        <p:spPr>
          <a:xfrm>
            <a:off x="4521240" y="3255840"/>
            <a:ext cx="378468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スライド番号プレースホルダ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0491-67A8-453D-A0D7-F959C545FD9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btob jet sel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p5500GeV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CellJet(MineT=20, eTseed=2., coneRadius=0.2, pTcut=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[0.1,0.1] cell (|eta|&lt;5.), partic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cellJet.size()==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each pTHat(20~100GeV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EMC+TPC partic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each configuration (w/o JQ, with JQ(4fm)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タイトル 4"/>
          <p:cNvSpPr/>
          <p:nvPr/>
        </p:nvSpPr>
        <p:spPr>
          <a:xfrm>
            <a:off x="380880" y="763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jet energy balance/dphi resolution with PYQU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図 6" descr="hdphi_R02_100GeV.gif"/>
          <p:cNvPicPr/>
          <p:nvPr/>
        </p:nvPicPr>
        <p:blipFill>
          <a:blip r:embed="rId2"/>
          <a:stretch/>
        </p:blipFill>
        <p:spPr>
          <a:xfrm>
            <a:off x="5181480" y="3370320"/>
            <a:ext cx="3886200" cy="3335400"/>
          </a:xfrm>
          <a:prstGeom prst="rect">
            <a:avLst/>
          </a:prstGeom>
          <a:ln w="0">
            <a:noFill/>
          </a:ln>
        </p:spPr>
      </p:pic>
      <p:sp>
        <p:nvSpPr>
          <p:cNvPr id="383" name="テキスト ボックス 8"/>
          <p:cNvSpPr/>
          <p:nvPr/>
        </p:nvSpPr>
        <p:spPr>
          <a:xfrm>
            <a:off x="5638680" y="3591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=0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GeV dij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5:54:06Z</dcterms:created>
  <dc:creator>横山 広樹</dc:creator>
  <dc:description/>
  <cp:keywords/>
  <dc:language>en-US</dc:language>
  <cp:lastModifiedBy>横山 広樹</cp:lastModifiedBy>
  <cp:lastPrinted>2009-03-22T08:22:26Z</cp:lastPrinted>
  <dcterms:modified xsi:type="dcterms:W3CDTF">2009-04-07T21:08:27Z</dcterms:modified>
  <cp:revision>22</cp:revision>
  <dc:subject/>
  <dc:title>J-Cal performance in ALICE</dc:title>
</cp:coreProperties>
</file>