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984-D043-4C7D-96ED-1BCC5395A5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7D7-512E-4D73-858C-DABEF1DD95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EC5-F59E-4DC6-8FEC-01AB5DE167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784-701F-4C37-B017-EED5B19B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6AE-B440-46CF-BEDE-CF667FF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6C8-5981-403C-A3CD-57FC2C18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70F-31BF-42D1-929A-8A9F67BA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98B-D821-4061-925A-13523F3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D8A-DE64-4609-8EA5-2A2F1C8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807-139B-430F-A484-0142490E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452-676B-4D7D-A7F4-B8F18AF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725-2AB6-4C8F-90DF-0FEE93F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5B3-7FB1-4B90-9DBF-2907EADF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3ED-1E8F-4D7C-8703-0DB4B94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D75-8BD2-4036-9BE9-CC6104B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4190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6720" y="6552720"/>
            <a:ext cx="4343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D83A-98AB-4B34-AC1B-A80F78DC901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49.pct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685800"/>
            <a:ext cx="5181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cent (and some old)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PHENIX (and RHIC, L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inIchi Esu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st. of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.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19560" y="3489480"/>
            <a:ext cx="6023880" cy="19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lk properties (Soft) :  collective expansion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ergy loss (Hard)     :  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/ jet sup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ft / Hard interplay   :  jet / bulk modifi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349-F8CF-4916-85BF-0DD7BA01E5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343400" cy="4775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23880" y="10969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L104, 252301 (2010), arXiv:1002.10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91000" cy="4195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3"/>
          <a:stretch/>
        </p:blipFill>
        <p:spPr>
          <a:xfrm>
            <a:off x="4800600" y="1073160"/>
            <a:ext cx="2133720" cy="5270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12"/>
          <p:cNvGrpSpPr/>
          <p:nvPr/>
        </p:nvGrpSpPr>
        <p:grpSpPr>
          <a:xfrm>
            <a:off x="7086600" y="0"/>
            <a:ext cx="2057400" cy="1295280"/>
            <a:chOff x="7086600" y="0"/>
            <a:chExt cx="2057400" cy="1295280"/>
          </a:xfrm>
        </p:grpSpPr>
        <p:pic>
          <p:nvPicPr>
            <p:cNvPr id="268" name="Picture 5" descr=""/>
            <p:cNvPicPr/>
            <p:nvPr/>
          </p:nvPicPr>
          <p:blipFill>
            <a:blip r:embed="rId4"/>
            <a:stretch/>
          </p:blipFill>
          <p:spPr>
            <a:xfrm>
              <a:off x="7086600" y="0"/>
              <a:ext cx="2057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9"/>
            <p:cNvSpPr/>
            <p:nvPr/>
          </p:nvSpPr>
          <p:spPr>
            <a:xfrm>
              <a:off x="8126640" y="67320"/>
              <a:ext cx="935280" cy="1014840"/>
            </a:xfrm>
            <a:prstGeom prst="rect">
              <a:avLst/>
            </a:prstGeom>
            <a:noFill/>
            <a:ln w="38160">
              <a:solidFill>
                <a:srgbClr val="09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8431920" y="87840"/>
              <a:ext cx="351360" cy="972000"/>
            </a:xfrm>
            <a:prstGeom prst="rect">
              <a:avLst/>
            </a:prstGeom>
            <a:noFill/>
            <a:ln w="38160">
              <a:solidFill>
                <a:srgbClr val="be00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06360" y="304920"/>
            <a:ext cx="6465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wo particle correlation (associate per trigg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two different features at low/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region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24600" y="1371600"/>
            <a:ext cx="214524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is slightly higher than R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ss suppressed than si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rface/tangential bias?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720" y="6019920"/>
            <a:ext cx="233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 / sup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 / un-modifie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5F5-1542-4877-A5BF-838C1110ECB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01520"/>
            <a:ext cx="7315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ction plane (path length) dependent energy loss</a:t>
            </a:r>
            <a:br>
              <a:rPr sz="24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one of dominant sources of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t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8669" t="3160" r="8288" b="0"/>
          <a:stretch/>
        </p:blipFill>
        <p:spPr>
          <a:xfrm>
            <a:off x="762120" y="3505320"/>
            <a:ext cx="3504960" cy="2993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48840" y="361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QM04: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28600" y="969840"/>
            <a:ext cx="2819520" cy="2459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95480" y="1844640"/>
            <a:ext cx="1752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ness dependence of penetration is more dominant than tangential surface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800600" y="838080"/>
            <a:ext cx="3855960" cy="300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985-9BA4-40CE-A3AA-50CF2C85C3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41600" cy="6705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505320" y="380880"/>
            <a:ext cx="162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1,0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68600" y="609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5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0,1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58672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00" y="76212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00" y="4181400"/>
            <a:ext cx="12596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05680" y="50594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27800" y="1219320"/>
            <a:ext cx="2562120" cy="2513880"/>
            <a:chOff x="6427800" y="1219320"/>
            <a:chExt cx="2562120" cy="2513880"/>
          </a:xfrm>
        </p:grpSpPr>
        <p:grpSp>
          <p:nvGrpSpPr>
            <p:cNvPr id="290" name=""/>
            <p:cNvGrpSpPr/>
            <p:nvPr/>
          </p:nvGrpSpPr>
          <p:grpSpPr>
            <a:xfrm>
              <a:off x="6635880" y="1219320"/>
              <a:ext cx="1623960" cy="2513880"/>
              <a:chOff x="6635880" y="1219320"/>
              <a:chExt cx="1623960" cy="25138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635880" y="1219320"/>
                <a:ext cx="1623960" cy="2513880"/>
                <a:chOff x="6635880" y="1219320"/>
                <a:chExt cx="1623960" cy="251388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7140960" y="1904760"/>
                  <a:ext cx="630720" cy="1255680"/>
                  <a:chOff x="7140960" y="1904760"/>
                  <a:chExt cx="630720" cy="12556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7140960" y="1904760"/>
                    <a:ext cx="630720" cy="1255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6635880" y="2521440"/>
                  <a:ext cx="16239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65680" y="1219320"/>
                  <a:ext cx="720" cy="251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6852240" y="1811880"/>
                  <a:ext cx="117288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6905520" y="1811880"/>
                  <a:ext cx="1174320" cy="148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7170840" y="1652400"/>
                <a:ext cx="611280" cy="178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6750000" y="2136600"/>
                <a:ext cx="145296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12560" y="2136600"/>
                <a:ext cx="15282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170840" y="1555200"/>
                <a:ext cx="611280" cy="18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69640" y="3274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07960" y="308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39360" y="28393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95160" y="2546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895160" y="2259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839360" y="200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707960" y="1739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69640" y="156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87040" y="1565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1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84000" y="17395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42880" y="200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73040" y="22597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73040" y="25196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5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42880" y="277992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6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84000" y="308124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87040" y="3274560"/>
                <a:ext cx="33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427800" y="2519640"/>
              <a:ext cx="20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65240" y="217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pl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800600" y="6248520"/>
            <a:ext cx="19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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sso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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2286000"/>
            <a:ext cx="8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-pl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soci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15720" y="3521160"/>
            <a:ext cx="134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g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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213080" y="1523520"/>
            <a:ext cx="968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361960" y="15235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96080" y="1752480"/>
            <a:ext cx="538200" cy="1751040"/>
          </a:xfrm>
          <a:custGeom>
            <a:avLst/>
            <a:gdLst/>
            <a:ahLst/>
            <a:rect l="l" t="t" r="r" b="b"/>
            <a:pathLst>
              <a:path w="339" h="1103">
                <a:moveTo>
                  <a:pt x="0" y="1103"/>
                </a:moveTo>
                <a:cubicBezTo>
                  <a:pt x="30" y="1087"/>
                  <a:pt x="126" y="1056"/>
                  <a:pt x="177" y="1000"/>
                </a:cubicBezTo>
                <a:cubicBezTo>
                  <a:pt x="228" y="944"/>
                  <a:pt x="283" y="846"/>
                  <a:pt x="309" y="763"/>
                </a:cubicBezTo>
                <a:cubicBezTo>
                  <a:pt x="335" y="680"/>
                  <a:pt x="334" y="593"/>
                  <a:pt x="335" y="500"/>
                </a:cubicBezTo>
                <a:cubicBezTo>
                  <a:pt x="336" y="407"/>
                  <a:pt x="339" y="287"/>
                  <a:pt x="313" y="204"/>
                </a:cubicBezTo>
                <a:cubicBezTo>
                  <a:pt x="287" y="121"/>
                  <a:pt x="209" y="43"/>
                  <a:pt x="182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8600" y="1752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6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1,2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68600" y="2895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7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2,3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68600" y="4038480"/>
            <a:ext cx="154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8)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=[3,4]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52388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2,-1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27280" y="2743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3,-2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27280" y="388620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=[-4,-3]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1066680"/>
            <a:ext cx="1752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00GeV Au+Au -&gt; h-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d-central : 2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2~4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1~2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-276120" y="2103840"/>
            <a:ext cx="199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ata)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472440" y="4260600"/>
            <a:ext cx="2295720" cy="2221560"/>
            <a:chOff x="6472440" y="4260600"/>
            <a:chExt cx="2295720" cy="2221560"/>
          </a:xfrm>
        </p:grpSpPr>
        <p:sp>
          <p:nvSpPr>
            <p:cNvPr id="335" name=""/>
            <p:cNvSpPr/>
            <p:nvPr/>
          </p:nvSpPr>
          <p:spPr>
            <a:xfrm>
              <a:off x="7035840" y="4546800"/>
              <a:ext cx="998640" cy="1609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18320" y="535140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34440" y="449892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534440" y="4783320"/>
              <a:ext cx="772920" cy="56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62600" y="5351040"/>
              <a:ext cx="771840" cy="5684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762600" y="5208840"/>
              <a:ext cx="771840" cy="14256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399080" y="5351400"/>
              <a:ext cx="135000" cy="80496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07320" y="4687920"/>
              <a:ext cx="576360" cy="663480"/>
            </a:xfrm>
            <a:custGeom>
              <a:avLst/>
              <a:gdLst/>
              <a:ahLst/>
              <a:rect l="l" t="t" r="r" b="b"/>
              <a:pathLst>
                <a:path w="609" h="672">
                  <a:moveTo>
                    <a:pt x="0" y="0"/>
                  </a:moveTo>
                  <a:cubicBezTo>
                    <a:pt x="35" y="18"/>
                    <a:pt x="134" y="98"/>
                    <a:pt x="211" y="111"/>
                  </a:cubicBezTo>
                  <a:cubicBezTo>
                    <a:pt x="288" y="124"/>
                    <a:pt x="400" y="84"/>
                    <a:pt x="464" y="76"/>
                  </a:cubicBezTo>
                  <a:cubicBezTo>
                    <a:pt x="528" y="68"/>
                    <a:pt x="585" y="46"/>
                    <a:pt x="597" y="62"/>
                  </a:cubicBezTo>
                  <a:cubicBezTo>
                    <a:pt x="609" y="78"/>
                    <a:pt x="569" y="128"/>
                    <a:pt x="534" y="174"/>
                  </a:cubicBezTo>
                  <a:cubicBezTo>
                    <a:pt x="499" y="220"/>
                    <a:pt x="425" y="285"/>
                    <a:pt x="384" y="336"/>
                  </a:cubicBezTo>
                  <a:cubicBezTo>
                    <a:pt x="343" y="387"/>
                    <a:pt x="312" y="424"/>
                    <a:pt x="288" y="480"/>
                  </a:cubicBezTo>
                  <a:cubicBezTo>
                    <a:pt x="264" y="536"/>
                    <a:pt x="252" y="604"/>
                    <a:pt x="240" y="672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70800" y="4897440"/>
              <a:ext cx="1137960" cy="1352520"/>
            </a:xfrm>
            <a:custGeom>
              <a:avLst/>
              <a:gdLst/>
              <a:ahLst/>
              <a:rect l="l" t="t" r="r" b="b"/>
              <a:pathLst>
                <a:path w="717" h="852">
                  <a:moveTo>
                    <a:pt x="271" y="0"/>
                  </a:moveTo>
                  <a:cubicBezTo>
                    <a:pt x="251" y="13"/>
                    <a:pt x="192" y="45"/>
                    <a:pt x="147" y="76"/>
                  </a:cubicBezTo>
                  <a:cubicBezTo>
                    <a:pt x="102" y="107"/>
                    <a:pt x="6" y="145"/>
                    <a:pt x="3" y="188"/>
                  </a:cubicBezTo>
                  <a:cubicBezTo>
                    <a:pt x="0" y="231"/>
                    <a:pt x="92" y="287"/>
                    <a:pt x="127" y="332"/>
                  </a:cubicBezTo>
                  <a:cubicBezTo>
                    <a:pt x="162" y="377"/>
                    <a:pt x="187" y="411"/>
                    <a:pt x="211" y="456"/>
                  </a:cubicBezTo>
                  <a:cubicBezTo>
                    <a:pt x="235" y="501"/>
                    <a:pt x="250" y="552"/>
                    <a:pt x="273" y="600"/>
                  </a:cubicBezTo>
                  <a:cubicBezTo>
                    <a:pt x="297" y="647"/>
                    <a:pt x="323" y="704"/>
                    <a:pt x="353" y="744"/>
                  </a:cubicBezTo>
                  <a:cubicBezTo>
                    <a:pt x="382" y="784"/>
                    <a:pt x="416" y="827"/>
                    <a:pt x="449" y="840"/>
                  </a:cubicBezTo>
                  <a:cubicBezTo>
                    <a:pt x="483" y="852"/>
                    <a:pt x="509" y="838"/>
                    <a:pt x="554" y="818"/>
                  </a:cubicBezTo>
                  <a:cubicBezTo>
                    <a:pt x="598" y="797"/>
                    <a:pt x="683" y="739"/>
                    <a:pt x="717" y="718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52000" y="4599000"/>
              <a:ext cx="183960" cy="279360"/>
            </a:xfrm>
            <a:custGeom>
              <a:avLst/>
              <a:gdLst/>
              <a:ahLst/>
              <a:rect l="l" t="t" r="r" b="b"/>
              <a:pathLst>
                <a:path w="116" h="176">
                  <a:moveTo>
                    <a:pt x="0" y="0"/>
                  </a:moveTo>
                  <a:cubicBezTo>
                    <a:pt x="19" y="29"/>
                    <a:pt x="92" y="139"/>
                    <a:pt x="116" y="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40480" y="4878360"/>
              <a:ext cx="471600" cy="679680"/>
            </a:xfrm>
            <a:custGeom>
              <a:avLst/>
              <a:gdLst/>
              <a:ahLst/>
              <a:rect l="l" t="t" r="r" b="b"/>
              <a:pathLst>
                <a:path w="297" h="428">
                  <a:moveTo>
                    <a:pt x="297" y="0"/>
                  </a:moveTo>
                  <a:cubicBezTo>
                    <a:pt x="272" y="13"/>
                    <a:pt x="197" y="48"/>
                    <a:pt x="149" y="80"/>
                  </a:cubicBezTo>
                  <a:cubicBezTo>
                    <a:pt x="101" y="112"/>
                    <a:pt x="18" y="157"/>
                    <a:pt x="9" y="192"/>
                  </a:cubicBezTo>
                  <a:cubicBezTo>
                    <a:pt x="0" y="227"/>
                    <a:pt x="58" y="253"/>
                    <a:pt x="93" y="292"/>
                  </a:cubicBezTo>
                  <a:cubicBezTo>
                    <a:pt x="128" y="331"/>
                    <a:pt x="194" y="400"/>
                    <a:pt x="221" y="4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1585000">
              <a:off x="6477120" y="4265640"/>
              <a:ext cx="2286000" cy="2211480"/>
            </a:xfrm>
            <a:prstGeom prst="ellipse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3157560"/>
            <a:ext cx="22860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latively lower 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ft/right trigger w.r.t. 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ft/right associate w.r.t.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rong preference of associate particle emission towards the in-plane (thinner)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significant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eversed tr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t out-of-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8760" y="1278000"/>
            <a:ext cx="287280" cy="2822400"/>
          </a:xfrm>
          <a:custGeom>
            <a:avLst/>
            <a:gdLst/>
            <a:ahLst/>
            <a:rect l="l" t="t" r="r" b="b"/>
            <a:pathLst>
              <a:path w="181" h="1778">
                <a:moveTo>
                  <a:pt x="174" y="1770"/>
                </a:moveTo>
                <a:cubicBezTo>
                  <a:pt x="173" y="1524"/>
                  <a:pt x="181" y="584"/>
                  <a:pt x="167" y="292"/>
                </a:cubicBezTo>
                <a:cubicBezTo>
                  <a:pt x="153" y="0"/>
                  <a:pt x="115" y="17"/>
                  <a:pt x="90" y="18"/>
                </a:cubicBezTo>
                <a:cubicBezTo>
                  <a:pt x="65" y="19"/>
                  <a:pt x="28" y="7"/>
                  <a:pt x="14" y="300"/>
                </a:cubicBezTo>
                <a:cubicBezTo>
                  <a:pt x="0" y="593"/>
                  <a:pt x="8" y="1470"/>
                  <a:pt x="7" y="177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54960" y="2286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SimSun"/>
              </a:rPr>
              <a:t>QM09: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52280"/>
            <a:ext cx="3733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eometrical dependence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r effect from expan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135-8529-4F65-AA85-9F883801551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57360" y="1138320"/>
            <a:ext cx="7827840" cy="4581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08680" y="838080"/>
            <a:ext cx="134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veraged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l trigger 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8281440" y="187920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-20%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8218080" y="326376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-50%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8238960" y="456156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-93%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1000" y="128520"/>
            <a:ext cx="5054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same data in polar plots (R.P. is x ax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associate distribution for a given trigger direction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3429000"/>
            <a:ext cx="6098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87400" y="3048120"/>
            <a:ext cx="47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1763640"/>
            <a:ext cx="533520" cy="3211560"/>
            <a:chOff x="1371600" y="1763640"/>
            <a:chExt cx="533520" cy="3211560"/>
          </a:xfrm>
        </p:grpSpPr>
        <p:sp>
          <p:nvSpPr>
            <p:cNvPr id="360" name=""/>
            <p:cNvSpPr/>
            <p:nvPr/>
          </p:nvSpPr>
          <p:spPr>
            <a:xfrm>
              <a:off x="1492200" y="3156120"/>
              <a:ext cx="304920" cy="53316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9040" y="4594320"/>
              <a:ext cx="109440" cy="38088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71600" y="1763640"/>
              <a:ext cx="533520" cy="60984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830680" y="1752480"/>
            <a:ext cx="533160" cy="3211560"/>
            <a:chOff x="2830680" y="1752480"/>
            <a:chExt cx="533160" cy="3211560"/>
          </a:xfrm>
        </p:grpSpPr>
        <p:sp>
          <p:nvSpPr>
            <p:cNvPr id="364" name=""/>
            <p:cNvSpPr/>
            <p:nvPr/>
          </p:nvSpPr>
          <p:spPr>
            <a:xfrm>
              <a:off x="2950920" y="3144960"/>
              <a:ext cx="304560" cy="53316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7760" y="4583160"/>
              <a:ext cx="109080" cy="38088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0680" y="1752480"/>
              <a:ext cx="533160" cy="60984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300560" y="1752480"/>
            <a:ext cx="533520" cy="3211560"/>
            <a:chOff x="4300560" y="1752480"/>
            <a:chExt cx="533520" cy="3211560"/>
          </a:xfrm>
        </p:grpSpPr>
        <p:sp>
          <p:nvSpPr>
            <p:cNvPr id="368" name=""/>
            <p:cNvSpPr/>
            <p:nvPr/>
          </p:nvSpPr>
          <p:spPr>
            <a:xfrm>
              <a:off x="4421160" y="3144960"/>
              <a:ext cx="304920" cy="53316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18000" y="4583160"/>
              <a:ext cx="109440" cy="38088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0560" y="1752480"/>
              <a:ext cx="533520" cy="60984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69000" y="1752480"/>
            <a:ext cx="533520" cy="3211560"/>
            <a:chOff x="5769000" y="1752480"/>
            <a:chExt cx="533520" cy="3211560"/>
          </a:xfrm>
        </p:grpSpPr>
        <p:sp>
          <p:nvSpPr>
            <p:cNvPr id="372" name=""/>
            <p:cNvSpPr/>
            <p:nvPr/>
          </p:nvSpPr>
          <p:spPr>
            <a:xfrm>
              <a:off x="5889600" y="3144960"/>
              <a:ext cx="304920" cy="53316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86440" y="4583160"/>
              <a:ext cx="109440" cy="38088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9000" y="1752480"/>
              <a:ext cx="533520" cy="60984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H="1" flipV="1">
            <a:off x="3581280" y="4267080"/>
            <a:ext cx="45720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581280" y="5334120"/>
            <a:ext cx="45720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57960" y="56386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86960" y="838080"/>
            <a:ext cx="1397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plane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0040" y="838080"/>
            <a:ext cx="1868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of-plane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8 &lt; |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.P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1066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6760" y="56386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62800" y="168120"/>
            <a:ext cx="2940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GeV Au+Au -&gt; h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2~4GeV/c,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819520" y="46479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38640" y="5638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943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5943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59436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1880" y="1981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520" y="1828800"/>
            <a:ext cx="6858000" cy="3200400"/>
            <a:chOff x="533520" y="1828800"/>
            <a:chExt cx="6858000" cy="3200400"/>
          </a:xfrm>
        </p:grpSpPr>
        <p:sp>
          <p:nvSpPr>
            <p:cNvPr id="390" name=""/>
            <p:cNvSpPr/>
            <p:nvPr/>
          </p:nvSpPr>
          <p:spPr>
            <a:xfrm>
              <a:off x="533520" y="1828800"/>
              <a:ext cx="6858000" cy="3200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685800" y="1981080"/>
              <a:ext cx="6540480" cy="2895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2" name=""/>
            <p:cNvSpPr/>
            <p:nvPr/>
          </p:nvSpPr>
          <p:spPr>
            <a:xfrm>
              <a:off x="2006640" y="3419640"/>
              <a:ext cx="1387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35040" y="3111480"/>
              <a:ext cx="4780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76520" y="2897280"/>
              <a:ext cx="660240" cy="104616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0360" y="2897280"/>
              <a:ext cx="660240" cy="104616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271600" y="2832120"/>
              <a:ext cx="1317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271600" y="2832120"/>
              <a:ext cx="2635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271600" y="3027240"/>
              <a:ext cx="263520" cy="26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71600" y="3289320"/>
              <a:ext cx="263520" cy="65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71600" y="3289320"/>
              <a:ext cx="131760" cy="58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71600" y="3289320"/>
              <a:ext cx="330480" cy="58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707080" y="2962440"/>
              <a:ext cx="461880" cy="32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707080" y="3027240"/>
              <a:ext cx="593640" cy="26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707080" y="3159000"/>
              <a:ext cx="528480" cy="130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979880" y="3289320"/>
              <a:ext cx="72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178600" y="3289320"/>
              <a:ext cx="528480" cy="6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111640" y="3159000"/>
              <a:ext cx="595440" cy="130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19560" y="2133720"/>
              <a:ext cx="9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ne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4320" y="213372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0D6-88F1-4C8C-AB51-91E094E2117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63960" cy="3195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352680" y="282600"/>
            <a:ext cx="5419800" cy="2917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762120" y="3400560"/>
            <a:ext cx="7543800" cy="322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867280" y="3230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ard Probe 2010, G. R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43320" y="208764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39160" y="2087640"/>
            <a:ext cx="10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4678200"/>
            <a:ext cx="358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P. dependence (left/right asymmetry)  still 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1D0-7F14-4196-97A9-6F32A5DE055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5680" y="428760"/>
            <a:ext cx="3245040" cy="3457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3166920" cy="3429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789160" y="1036800"/>
            <a:ext cx="273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MS, CERN Seminar, Sept. 21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ERN-PH-EP/2010-0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Xiv:1009.4122v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3319560" y="3657600"/>
            <a:ext cx="2624040" cy="28954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6095880" y="3657600"/>
            <a:ext cx="2667240" cy="2971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057400" y="57150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ard Probe 201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. Putsch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0" y="7632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ge is seen at high multiplicity p+p(LHC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4587840"/>
            <a:ext cx="32004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en in Au+Au at RHIC, but not in Cu+C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member a large 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in Cu+Cu at 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STD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~ 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Au+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ST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Cu+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400800" y="1828800"/>
            <a:ext cx="2590920" cy="824040"/>
            <a:chOff x="6400800" y="1828800"/>
            <a:chExt cx="2590920" cy="824040"/>
          </a:xfrm>
        </p:grpSpPr>
        <p:sp>
          <p:nvSpPr>
            <p:cNvPr id="426" name=""/>
            <p:cNvSpPr/>
            <p:nvPr/>
          </p:nvSpPr>
          <p:spPr>
            <a:xfrm>
              <a:off x="6400800" y="1828800"/>
              <a:ext cx="259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long range correlation is also seen at ISR, SppS, Fermi lab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consistent with CGC pictur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what if there is v2 in p+p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48640" y="212400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9D3-4075-4B1E-A9C5-15316567CCA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657600" cy="26733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247920" cy="327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211400" y="2666880"/>
            <a:ext cx="1981080" cy="320040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43600" y="2226960"/>
            <a:ext cx="2837520" cy="1628280"/>
            <a:chOff x="543600" y="2226960"/>
            <a:chExt cx="2837520" cy="1628280"/>
          </a:xfrm>
        </p:grpSpPr>
        <p:grpSp>
          <p:nvGrpSpPr>
            <p:cNvPr id="432" name=""/>
            <p:cNvGrpSpPr/>
            <p:nvPr/>
          </p:nvGrpSpPr>
          <p:grpSpPr>
            <a:xfrm>
              <a:off x="1849680" y="2283480"/>
              <a:ext cx="1447920" cy="882720"/>
              <a:chOff x="1849680" y="2283480"/>
              <a:chExt cx="1447920" cy="882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1849680" y="2984760"/>
                <a:ext cx="224640" cy="181440"/>
                <a:chOff x="1849680" y="2984760"/>
                <a:chExt cx="224640" cy="18144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1849680" y="3039120"/>
                  <a:ext cx="139320" cy="127080"/>
                  <a:chOff x="1849680" y="3039120"/>
                  <a:chExt cx="139320" cy="1270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9850400">
                    <a:off x="1863000" y="3062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19850400">
                    <a:off x="1869120" y="3059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934640" y="2984760"/>
                  <a:ext cx="139680" cy="127440"/>
                  <a:chOff x="1934640" y="2984760"/>
                  <a:chExt cx="139680" cy="12744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 rot="19850400">
                    <a:off x="1947960" y="3008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 rot="19850400">
                    <a:off x="1953360" y="30049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2025360" y="2886840"/>
                <a:ext cx="225000" cy="181440"/>
                <a:chOff x="2025360" y="2886840"/>
                <a:chExt cx="225000" cy="18144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025360" y="2941200"/>
                  <a:ext cx="139320" cy="127080"/>
                  <a:chOff x="2025360" y="2941200"/>
                  <a:chExt cx="139320" cy="127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19850400">
                    <a:off x="2038680" y="29649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rot="19850400">
                    <a:off x="2044800" y="2961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2110320" y="2886840"/>
                  <a:ext cx="140040" cy="127440"/>
                  <a:chOff x="2110320" y="2886840"/>
                  <a:chExt cx="140040" cy="1274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19850400">
                    <a:off x="2123640" y="29106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 rot="19850400">
                    <a:off x="2129400" y="29070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198880" y="2783520"/>
                <a:ext cx="224640" cy="181440"/>
                <a:chOff x="2198880" y="2783520"/>
                <a:chExt cx="224640" cy="18144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2198880" y="2837880"/>
                  <a:ext cx="138960" cy="127080"/>
                  <a:chOff x="2198880" y="2837880"/>
                  <a:chExt cx="138960" cy="1270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19850400">
                    <a:off x="2212200" y="28616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19850400">
                    <a:off x="2217960" y="28584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2283480" y="2783520"/>
                  <a:ext cx="140040" cy="127440"/>
                  <a:chOff x="2283480" y="2783520"/>
                  <a:chExt cx="140040" cy="12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 rot="19850400">
                    <a:off x="2296800" y="28072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 rot="19850400">
                    <a:off x="2302560" y="280368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2374560" y="2685240"/>
                <a:ext cx="224640" cy="181800"/>
                <a:chOff x="2374560" y="2685240"/>
                <a:chExt cx="224640" cy="18180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2374560" y="2739960"/>
                  <a:ext cx="138960" cy="127080"/>
                  <a:chOff x="2374560" y="2739960"/>
                  <a:chExt cx="138960" cy="1270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9850400">
                    <a:off x="2387880" y="27637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19850400">
                    <a:off x="2393640" y="2760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2459160" y="2685240"/>
                  <a:ext cx="140040" cy="127800"/>
                  <a:chOff x="2459160" y="2685240"/>
                  <a:chExt cx="140040" cy="1278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V="1" rot="19850400">
                    <a:off x="2472480" y="27093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flipV="1" rot="19850400">
                    <a:off x="2478240" y="2705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2547720" y="2582280"/>
                <a:ext cx="225000" cy="181800"/>
                <a:chOff x="2547720" y="2582280"/>
                <a:chExt cx="225000" cy="1818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2547720" y="2637000"/>
                  <a:ext cx="139320" cy="127080"/>
                  <a:chOff x="2547720" y="2637000"/>
                  <a:chExt cx="139320" cy="1270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19850400">
                    <a:off x="2561040" y="26607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9850400">
                    <a:off x="2567160" y="265752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2632680" y="2582280"/>
                  <a:ext cx="140040" cy="127800"/>
                  <a:chOff x="2632680" y="2582280"/>
                  <a:chExt cx="140040" cy="1278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19850400">
                    <a:off x="2646000" y="260640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flipV="1" rot="19850400">
                    <a:off x="2651760" y="26024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2723760" y="2484360"/>
                <a:ext cx="224640" cy="181440"/>
                <a:chOff x="2723760" y="2484360"/>
                <a:chExt cx="224640" cy="18144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2723760" y="2538720"/>
                  <a:ext cx="138960" cy="127080"/>
                  <a:chOff x="2723760" y="2538720"/>
                  <a:chExt cx="138960" cy="12708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9850400">
                    <a:off x="2737080" y="25624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rot="19850400">
                    <a:off x="2742840" y="255924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2808360" y="2484360"/>
                  <a:ext cx="140040" cy="127440"/>
                  <a:chOff x="2808360" y="2484360"/>
                  <a:chExt cx="140040" cy="1274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V="1" rot="19850400">
                    <a:off x="2821680" y="25081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 flipV="1" rot="19850400">
                    <a:off x="2827440" y="250452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2896920" y="2381400"/>
                <a:ext cx="224640" cy="181800"/>
                <a:chOff x="2896920" y="2381400"/>
                <a:chExt cx="224640" cy="18180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2896920" y="2435760"/>
                  <a:ext cx="139320" cy="127440"/>
                  <a:chOff x="2896920" y="2435760"/>
                  <a:chExt cx="139320" cy="1274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850400">
                    <a:off x="2910240" y="24598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19850400">
                    <a:off x="2916360" y="245628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2981880" y="2381400"/>
                  <a:ext cx="139680" cy="127440"/>
                  <a:chOff x="2981880" y="2381400"/>
                  <a:chExt cx="139680" cy="1274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V="1" rot="19850400">
                    <a:off x="2995200" y="24051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flipV="1" rot="19850400">
                    <a:off x="3000600" y="240156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3072600" y="2283480"/>
                <a:ext cx="225000" cy="181440"/>
                <a:chOff x="3072600" y="2283480"/>
                <a:chExt cx="225000" cy="18144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3072600" y="2337840"/>
                  <a:ext cx="139320" cy="127080"/>
                  <a:chOff x="3072600" y="2337840"/>
                  <a:chExt cx="139320" cy="1270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19850400">
                    <a:off x="3085920" y="236160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9850400">
                    <a:off x="3092040" y="2358360"/>
                    <a:ext cx="1065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3157560" y="2283480"/>
                  <a:ext cx="140040" cy="127440"/>
                  <a:chOff x="3157560" y="2283480"/>
                  <a:chExt cx="140040" cy="1274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V="1" rot="19850400">
                    <a:off x="3170880" y="23072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flipV="1" rot="19850400">
                    <a:off x="3176640" y="2303640"/>
                    <a:ext cx="1072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89" name=""/>
            <p:cNvSpPr/>
            <p:nvPr/>
          </p:nvSpPr>
          <p:spPr>
            <a:xfrm flipV="1">
              <a:off x="3277440" y="2226960"/>
              <a:ext cx="103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43600" y="312840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963360" y="317232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51680" y="3175560"/>
              <a:ext cx="97380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37200" y="3174120"/>
              <a:ext cx="109080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113120" y="3097440"/>
              <a:ext cx="618840" cy="104760"/>
              <a:chOff x="1113120" y="3097440"/>
              <a:chExt cx="618840" cy="1047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1362960" y="3103920"/>
                <a:ext cx="119160" cy="95040"/>
                <a:chOff x="1362960" y="3103920"/>
                <a:chExt cx="119160" cy="9504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1368000" y="3132360"/>
                  <a:ext cx="47160" cy="37800"/>
                  <a:chOff x="1368000" y="3132360"/>
                  <a:chExt cx="47160" cy="378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10813800">
                    <a:off x="136800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0813800">
                    <a:off x="1370520" y="31323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1362960" y="3103920"/>
                  <a:ext cx="119160" cy="95040"/>
                  <a:chOff x="1362960" y="3103920"/>
                  <a:chExt cx="119160" cy="9504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flipV="1" rot="10813800">
                    <a:off x="136260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V="1" rot="10813800">
                    <a:off x="1370160" y="31039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"/>
              <p:cNvGrpSpPr/>
              <p:nvPr/>
            </p:nvGrpSpPr>
            <p:grpSpPr>
              <a:xfrm>
                <a:off x="1300320" y="3101040"/>
                <a:ext cx="119160" cy="95040"/>
                <a:chOff x="1300320" y="3101040"/>
                <a:chExt cx="119160" cy="9504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1305360" y="3129840"/>
                  <a:ext cx="47160" cy="37800"/>
                  <a:chOff x="1305360" y="3129840"/>
                  <a:chExt cx="47160" cy="3780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flipH="1" rot="10813800">
                    <a:off x="130536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0813800">
                    <a:off x="1307880" y="31298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1300320" y="3101040"/>
                  <a:ext cx="119160" cy="95040"/>
                  <a:chOff x="1300320" y="3101040"/>
                  <a:chExt cx="119160" cy="950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 flipV="1" rot="10813800">
                    <a:off x="129996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 rot="10813800">
                    <a:off x="1307520" y="31010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1238040" y="3100680"/>
                <a:ext cx="119160" cy="95040"/>
                <a:chOff x="1238040" y="3100680"/>
                <a:chExt cx="119160" cy="9504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1243080" y="3129480"/>
                  <a:ext cx="47160" cy="37800"/>
                  <a:chOff x="1243080" y="3129480"/>
                  <a:chExt cx="47160" cy="3780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10813800">
                    <a:off x="124308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10813800">
                    <a:off x="1245600" y="3129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238040" y="3100680"/>
                  <a:ext cx="119160" cy="95040"/>
                  <a:chOff x="1238040" y="3100680"/>
                  <a:chExt cx="119160" cy="950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flipV="1" rot="10813800">
                    <a:off x="123768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 rot="10813800">
                    <a:off x="1245240" y="3100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175400" y="3097800"/>
                <a:ext cx="119160" cy="95400"/>
                <a:chOff x="1175400" y="3097800"/>
                <a:chExt cx="119160" cy="9540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1180440" y="3126600"/>
                  <a:ext cx="47160" cy="37800"/>
                  <a:chOff x="1180440" y="3126600"/>
                  <a:chExt cx="47160" cy="378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0813800">
                    <a:off x="118044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0813800">
                    <a:off x="1182960" y="31266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175400" y="3097800"/>
                  <a:ext cx="119160" cy="95400"/>
                  <a:chOff x="1175400" y="3097800"/>
                  <a:chExt cx="119160" cy="95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flipV="1" rot="10813800">
                    <a:off x="1175040" y="30978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 rot="10813800">
                    <a:off x="1182600" y="3098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1612800" y="3107160"/>
                <a:ext cx="119160" cy="95040"/>
                <a:chOff x="1612800" y="3107160"/>
                <a:chExt cx="119160" cy="9504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1617840" y="3135960"/>
                  <a:ext cx="47160" cy="37800"/>
                  <a:chOff x="1617840" y="3135960"/>
                  <a:chExt cx="47160" cy="37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10813800">
                    <a:off x="161784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10813800">
                    <a:off x="1620360" y="313596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1612800" y="3107160"/>
                  <a:ext cx="119160" cy="95040"/>
                  <a:chOff x="1612800" y="3107160"/>
                  <a:chExt cx="119160" cy="950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H="1" flipV="1" rot="10813800">
                    <a:off x="161244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 rot="10813800">
                    <a:off x="1620000" y="31071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1550520" y="3104640"/>
                <a:ext cx="119160" cy="95040"/>
                <a:chOff x="1550520" y="3104640"/>
                <a:chExt cx="119160" cy="950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1555560" y="3133080"/>
                  <a:ext cx="47160" cy="38160"/>
                  <a:chOff x="1555560" y="3133080"/>
                  <a:chExt cx="47160" cy="381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0813800">
                    <a:off x="155556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0813800">
                    <a:off x="1558080" y="31334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1550520" y="3104640"/>
                  <a:ext cx="119160" cy="95040"/>
                  <a:chOff x="1550520" y="3104640"/>
                  <a:chExt cx="119160" cy="950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flipV="1" rot="10813800">
                    <a:off x="155016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 rot="10813800">
                    <a:off x="1557720" y="31046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1487880" y="3104280"/>
                <a:ext cx="119160" cy="95040"/>
                <a:chOff x="1487880" y="3104280"/>
                <a:chExt cx="119160" cy="9504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1492920" y="3133080"/>
                  <a:ext cx="47160" cy="37800"/>
                  <a:chOff x="1492920" y="3133080"/>
                  <a:chExt cx="47160" cy="378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H="1" rot="10813800">
                    <a:off x="149292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0813800">
                    <a:off x="1495440" y="31330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1487880" y="3104280"/>
                  <a:ext cx="119160" cy="95040"/>
                  <a:chOff x="1487880" y="3104280"/>
                  <a:chExt cx="119160" cy="950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flipH="1" flipV="1" rot="10813800">
                    <a:off x="148752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V="1" rot="10813800">
                    <a:off x="1495080" y="31042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1425240" y="3101400"/>
                <a:ext cx="119160" cy="95040"/>
                <a:chOff x="1425240" y="3101400"/>
                <a:chExt cx="119160" cy="9504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1430280" y="3130200"/>
                  <a:ext cx="47160" cy="37800"/>
                  <a:chOff x="1430280" y="3130200"/>
                  <a:chExt cx="47160" cy="378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rot="10813800">
                    <a:off x="143028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0813800">
                    <a:off x="1432800" y="31302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425240" y="3101400"/>
                  <a:ext cx="119160" cy="95040"/>
                  <a:chOff x="1425240" y="3101400"/>
                  <a:chExt cx="119160" cy="9504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 rot="10813800">
                    <a:off x="142488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 rot="10813800">
                    <a:off x="1432440" y="31014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"/>
              <p:cNvGrpSpPr/>
              <p:nvPr/>
            </p:nvGrpSpPr>
            <p:grpSpPr>
              <a:xfrm>
                <a:off x="1113120" y="3097440"/>
                <a:ext cx="119160" cy="95040"/>
                <a:chOff x="1113120" y="3097440"/>
                <a:chExt cx="119160" cy="95040"/>
              </a:xfrm>
            </p:grpSpPr>
            <p:sp>
              <p:nvSpPr>
                <p:cNvPr id="552" name=""/>
                <p:cNvSpPr/>
                <p:nvPr/>
              </p:nvSpPr>
              <p:spPr>
                <a:xfrm flipH="1" flipV="1" rot="10813800">
                  <a:off x="111276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 rot="10813800">
                  <a:off x="1120320" y="309744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4" name=""/>
            <p:cNvSpPr/>
            <p:nvPr/>
          </p:nvSpPr>
          <p:spPr>
            <a:xfrm flipV="1">
              <a:off x="1727280" y="308628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2360" y="2997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458000" y="4389120"/>
            <a:ext cx="2882880" cy="1576080"/>
            <a:chOff x="1458000" y="4389120"/>
            <a:chExt cx="2882880" cy="1576080"/>
          </a:xfrm>
        </p:grpSpPr>
        <p:sp>
          <p:nvSpPr>
            <p:cNvPr id="557" name=""/>
            <p:cNvSpPr/>
            <p:nvPr/>
          </p:nvSpPr>
          <p:spPr>
            <a:xfrm flipV="1">
              <a:off x="4161600" y="438912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458000" y="52380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877760" y="5282280"/>
              <a:ext cx="76392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666080" y="52855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551600" y="5284080"/>
              <a:ext cx="109080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027520" y="5207760"/>
              <a:ext cx="618840" cy="105120"/>
              <a:chOff x="2027520" y="5207760"/>
              <a:chExt cx="618840" cy="1051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277360" y="5213880"/>
                <a:ext cx="119160" cy="95760"/>
                <a:chOff x="2277360" y="5213880"/>
                <a:chExt cx="119160" cy="9576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2282400" y="5241960"/>
                  <a:ext cx="47160" cy="38520"/>
                  <a:chOff x="2282400" y="5241960"/>
                  <a:chExt cx="47160" cy="3852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0813800">
                    <a:off x="228240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0813800">
                    <a:off x="2284920" y="52419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2277360" y="5213880"/>
                  <a:ext cx="119160" cy="95760"/>
                  <a:chOff x="2277360" y="5213880"/>
                  <a:chExt cx="119160" cy="957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flipV="1" rot="10813800">
                    <a:off x="227700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V="1" rot="10813800">
                    <a:off x="2284560" y="52138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2214720" y="5211000"/>
                <a:ext cx="119160" cy="95760"/>
                <a:chOff x="2214720" y="5211000"/>
                <a:chExt cx="119160" cy="957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2219760" y="5239440"/>
                  <a:ext cx="47160" cy="38520"/>
                  <a:chOff x="2219760" y="5239440"/>
                  <a:chExt cx="47160" cy="385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10813800">
                    <a:off x="221976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10813800">
                    <a:off x="2222280" y="52394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214720" y="5211000"/>
                  <a:ext cx="119160" cy="95760"/>
                  <a:chOff x="2214720" y="5211000"/>
                  <a:chExt cx="119160" cy="957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flipV="1" rot="10813800">
                    <a:off x="221436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V="1" rot="10813800">
                    <a:off x="2221920" y="52110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2152440" y="5210640"/>
                <a:ext cx="119160" cy="95760"/>
                <a:chOff x="2152440" y="5210640"/>
                <a:chExt cx="119160" cy="9576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2157480" y="5239080"/>
                  <a:ext cx="47160" cy="38520"/>
                  <a:chOff x="2157480" y="5239080"/>
                  <a:chExt cx="47160" cy="3852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10813800">
                    <a:off x="215748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0813800">
                    <a:off x="2160000" y="52390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2152440" y="5210640"/>
                  <a:ext cx="119160" cy="95760"/>
                  <a:chOff x="2152440" y="5210640"/>
                  <a:chExt cx="119160" cy="957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flipH="1" flipV="1" rot="10813800">
                    <a:off x="215208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V="1" rot="10813800">
                    <a:off x="2159640" y="52106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2089800" y="5207760"/>
                <a:ext cx="119160" cy="96120"/>
                <a:chOff x="2089800" y="5207760"/>
                <a:chExt cx="119160" cy="9612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2094840" y="5236200"/>
                  <a:ext cx="47160" cy="38520"/>
                  <a:chOff x="2094840" y="5236200"/>
                  <a:chExt cx="47160" cy="3852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 rot="10813800">
                    <a:off x="209484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0813800">
                    <a:off x="2097360" y="52362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2089800" y="5207760"/>
                  <a:ext cx="119160" cy="96120"/>
                  <a:chOff x="2089800" y="5207760"/>
                  <a:chExt cx="119160" cy="961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flipV="1" rot="10813800">
                    <a:off x="2089440" y="52077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 rot="10813800">
                    <a:off x="2097000" y="5208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2527200" y="5217120"/>
                <a:ext cx="119160" cy="95760"/>
                <a:chOff x="2527200" y="5217120"/>
                <a:chExt cx="119160" cy="9576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532240" y="5245560"/>
                  <a:ext cx="47160" cy="38520"/>
                  <a:chOff x="2532240" y="5245560"/>
                  <a:chExt cx="47160" cy="385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rot="10813800">
                    <a:off x="253224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rot="10813800">
                    <a:off x="2534760" y="52455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527200" y="5217120"/>
                  <a:ext cx="119160" cy="95760"/>
                  <a:chOff x="2527200" y="5217120"/>
                  <a:chExt cx="119160" cy="9576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H="1" flipV="1" rot="10813800">
                    <a:off x="252684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V="1" rot="10813800">
                    <a:off x="2534400" y="52171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8" name=""/>
              <p:cNvGrpSpPr/>
              <p:nvPr/>
            </p:nvGrpSpPr>
            <p:grpSpPr>
              <a:xfrm>
                <a:off x="2464920" y="5214600"/>
                <a:ext cx="119160" cy="95760"/>
                <a:chOff x="2464920" y="5214600"/>
                <a:chExt cx="119160" cy="9576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2469960" y="5242680"/>
                  <a:ext cx="47160" cy="38880"/>
                  <a:chOff x="2469960" y="5242680"/>
                  <a:chExt cx="47160" cy="388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rot="10813800">
                    <a:off x="246996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0813800">
                    <a:off x="2472480" y="52430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2464920" y="5214600"/>
                  <a:ext cx="119160" cy="95760"/>
                  <a:chOff x="2464920" y="5214600"/>
                  <a:chExt cx="119160" cy="9576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 rot="10813800">
                    <a:off x="246456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 rot="10813800">
                    <a:off x="2472120" y="52146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2402280" y="5214240"/>
                <a:ext cx="119160" cy="95760"/>
                <a:chOff x="2402280" y="5214240"/>
                <a:chExt cx="119160" cy="957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2407320" y="5242680"/>
                  <a:ext cx="47160" cy="38520"/>
                  <a:chOff x="2407320" y="5242680"/>
                  <a:chExt cx="47160" cy="3852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0813800">
                    <a:off x="240732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10813800">
                    <a:off x="2409840" y="52426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2402280" y="5214240"/>
                  <a:ext cx="119160" cy="95760"/>
                  <a:chOff x="2402280" y="5214240"/>
                  <a:chExt cx="119160" cy="957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flipV="1" rot="10813800">
                    <a:off x="240192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 rot="10813800">
                    <a:off x="2409480" y="52142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2339640" y="5211360"/>
                <a:ext cx="119160" cy="95760"/>
                <a:chOff x="2339640" y="5211360"/>
                <a:chExt cx="119160" cy="957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2344680" y="5239800"/>
                  <a:ext cx="47160" cy="38520"/>
                  <a:chOff x="2344680" y="5239800"/>
                  <a:chExt cx="47160" cy="3852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 rot="10813800">
                    <a:off x="234468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0813800">
                    <a:off x="2347200" y="52398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2339640" y="5211360"/>
                  <a:ext cx="119160" cy="95760"/>
                  <a:chOff x="2339640" y="5211360"/>
                  <a:chExt cx="119160" cy="9576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flipH="1" flipV="1" rot="10813800">
                    <a:off x="233928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V="1" rot="10813800">
                    <a:off x="2346840" y="52113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2027520" y="5207760"/>
                <a:ext cx="119160" cy="95760"/>
                <a:chOff x="2027520" y="5207760"/>
                <a:chExt cx="119160" cy="95760"/>
              </a:xfrm>
            </p:grpSpPr>
            <p:sp>
              <p:nvSpPr>
                <p:cNvPr id="620" name=""/>
                <p:cNvSpPr/>
                <p:nvPr/>
              </p:nvSpPr>
              <p:spPr>
                <a:xfrm flipH="1" flipV="1" rot="10813800">
                  <a:off x="202716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 rot="10813800">
                  <a:off x="2034720" y="52077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" name=""/>
            <p:cNvSpPr/>
            <p:nvPr/>
          </p:nvSpPr>
          <p:spPr>
            <a:xfrm flipV="1">
              <a:off x="2641680" y="5196240"/>
              <a:ext cx="14580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751120" y="445896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98840" y="51134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848520" y="2817720"/>
            <a:ext cx="2882880" cy="1699560"/>
            <a:chOff x="848520" y="2817720"/>
            <a:chExt cx="2882880" cy="1699560"/>
          </a:xfrm>
        </p:grpSpPr>
        <p:sp>
          <p:nvSpPr>
            <p:cNvPr id="626" name=""/>
            <p:cNvSpPr/>
            <p:nvPr/>
          </p:nvSpPr>
          <p:spPr>
            <a:xfrm flipV="1">
              <a:off x="3552120" y="294120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48520" y="3790440"/>
              <a:ext cx="1274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267920" y="3834720"/>
              <a:ext cx="76356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056600" y="383796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941400" y="3836160"/>
              <a:ext cx="1091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1418040" y="3759480"/>
              <a:ext cx="618840" cy="104760"/>
              <a:chOff x="1418040" y="3759480"/>
              <a:chExt cx="618840" cy="1047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1667880" y="3765960"/>
                <a:ext cx="119160" cy="95040"/>
                <a:chOff x="1667880" y="3765960"/>
                <a:chExt cx="119160" cy="9504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1672920" y="3794400"/>
                  <a:ext cx="47160" cy="37800"/>
                  <a:chOff x="1672920" y="3794400"/>
                  <a:chExt cx="47160" cy="3780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10813800">
                    <a:off x="167292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rot="10813800">
                    <a:off x="1675440" y="37944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1667880" y="3765960"/>
                  <a:ext cx="119160" cy="95040"/>
                  <a:chOff x="1667880" y="3765960"/>
                  <a:chExt cx="119160" cy="950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flipV="1" rot="10813800">
                    <a:off x="166752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 rot="10813800">
                    <a:off x="1675080" y="376596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9" name=""/>
              <p:cNvGrpSpPr/>
              <p:nvPr/>
            </p:nvGrpSpPr>
            <p:grpSpPr>
              <a:xfrm>
                <a:off x="1605240" y="3763080"/>
                <a:ext cx="119160" cy="95040"/>
                <a:chOff x="1605240" y="3763080"/>
                <a:chExt cx="119160" cy="9504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1610280" y="3791880"/>
                  <a:ext cx="47160" cy="37800"/>
                  <a:chOff x="1610280" y="3791880"/>
                  <a:chExt cx="47160" cy="3780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flipH="1" rot="10813800">
                    <a:off x="161028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0813800">
                    <a:off x="1612800" y="37918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1605240" y="3763080"/>
                  <a:ext cx="119160" cy="95040"/>
                  <a:chOff x="1605240" y="3763080"/>
                  <a:chExt cx="119160" cy="950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flipV="1" rot="10813800">
                    <a:off x="160488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 rot="10813800">
                    <a:off x="1612440" y="37630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6" name=""/>
              <p:cNvGrpSpPr/>
              <p:nvPr/>
            </p:nvGrpSpPr>
            <p:grpSpPr>
              <a:xfrm>
                <a:off x="1542960" y="3762720"/>
                <a:ext cx="119160" cy="95040"/>
                <a:chOff x="1542960" y="3762720"/>
                <a:chExt cx="119160" cy="9504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1548000" y="3791520"/>
                  <a:ext cx="47160" cy="37800"/>
                  <a:chOff x="1548000" y="3791520"/>
                  <a:chExt cx="47160" cy="378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10813800">
                    <a:off x="154800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0813800">
                    <a:off x="1550520" y="37915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1542960" y="3762720"/>
                  <a:ext cx="119160" cy="95040"/>
                  <a:chOff x="1542960" y="3762720"/>
                  <a:chExt cx="119160" cy="95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flipV="1" rot="10813800">
                    <a:off x="154260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V="1" rot="10813800">
                    <a:off x="1550160" y="37627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1480320" y="3759840"/>
                <a:ext cx="119160" cy="95400"/>
                <a:chOff x="1480320" y="3759840"/>
                <a:chExt cx="119160" cy="9540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1485360" y="3788640"/>
                  <a:ext cx="47160" cy="37800"/>
                  <a:chOff x="1485360" y="3788640"/>
                  <a:chExt cx="47160" cy="378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H="1" rot="10813800">
                    <a:off x="148536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0813800">
                    <a:off x="1487880" y="37886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1480320" y="3759840"/>
                  <a:ext cx="119160" cy="95400"/>
                  <a:chOff x="1480320" y="3759840"/>
                  <a:chExt cx="119160" cy="9540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flipH="1" flipV="1" rot="10813800">
                    <a:off x="1479960" y="37598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V="1" rot="10813800">
                    <a:off x="1487520" y="3760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1917720" y="3769200"/>
                <a:ext cx="119160" cy="95040"/>
                <a:chOff x="1917720" y="3769200"/>
                <a:chExt cx="119160" cy="9504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1922760" y="3798000"/>
                  <a:ext cx="47160" cy="37800"/>
                  <a:chOff x="1922760" y="3798000"/>
                  <a:chExt cx="47160" cy="378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flipH="1" rot="10813800">
                    <a:off x="192276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0813800">
                    <a:off x="1925280" y="379800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1917720" y="3769200"/>
                  <a:ext cx="119160" cy="95040"/>
                  <a:chOff x="1917720" y="3769200"/>
                  <a:chExt cx="119160" cy="9504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flipH="1" flipV="1" rot="10813800">
                    <a:off x="191736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V="1" rot="10813800">
                    <a:off x="1924920" y="376920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1855440" y="3766680"/>
                <a:ext cx="119160" cy="95040"/>
                <a:chOff x="1855440" y="3766680"/>
                <a:chExt cx="119160" cy="9504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1860480" y="3795120"/>
                  <a:ext cx="47160" cy="38160"/>
                  <a:chOff x="1860480" y="3795120"/>
                  <a:chExt cx="47160" cy="3816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 rot="10813800">
                    <a:off x="186048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10813800">
                    <a:off x="1863000" y="379548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1855440" y="3766680"/>
                  <a:ext cx="119160" cy="95040"/>
                  <a:chOff x="1855440" y="3766680"/>
                  <a:chExt cx="119160" cy="9504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H="1" flipV="1" rot="10813800">
                    <a:off x="185508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 rot="10813800">
                    <a:off x="1862640" y="376668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4" name=""/>
              <p:cNvGrpSpPr/>
              <p:nvPr/>
            </p:nvGrpSpPr>
            <p:grpSpPr>
              <a:xfrm>
                <a:off x="1792800" y="3766320"/>
                <a:ext cx="119160" cy="95040"/>
                <a:chOff x="1792800" y="3766320"/>
                <a:chExt cx="119160" cy="9504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1797840" y="3795120"/>
                  <a:ext cx="47160" cy="37800"/>
                  <a:chOff x="1797840" y="3795120"/>
                  <a:chExt cx="47160" cy="3780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H="1" rot="10813800">
                    <a:off x="179784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rot="10813800">
                    <a:off x="1800360" y="379512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1792800" y="3766320"/>
                  <a:ext cx="119160" cy="95040"/>
                  <a:chOff x="1792800" y="3766320"/>
                  <a:chExt cx="119160" cy="9504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flipH="1" flipV="1" rot="10813800">
                    <a:off x="179244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 rot="10813800">
                    <a:off x="1800000" y="376632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1" name=""/>
              <p:cNvGrpSpPr/>
              <p:nvPr/>
            </p:nvGrpSpPr>
            <p:grpSpPr>
              <a:xfrm>
                <a:off x="1730160" y="3763440"/>
                <a:ext cx="119160" cy="95040"/>
                <a:chOff x="1730160" y="3763440"/>
                <a:chExt cx="119160" cy="9504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1735200" y="3792240"/>
                  <a:ext cx="47160" cy="37800"/>
                  <a:chOff x="1735200" y="3792240"/>
                  <a:chExt cx="47160" cy="3780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flipH="1" rot="10813800">
                    <a:off x="173520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0813800">
                    <a:off x="1737720" y="3792240"/>
                    <a:ext cx="44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1730160" y="3763440"/>
                  <a:ext cx="119160" cy="95040"/>
                  <a:chOff x="1730160" y="3763440"/>
                  <a:chExt cx="119160" cy="950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flipH="1" flipV="1" rot="10813800">
                    <a:off x="172980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 rot="10813800">
                    <a:off x="1737360" y="3763440"/>
                    <a:ext cx="111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8" name=""/>
              <p:cNvGrpSpPr/>
              <p:nvPr/>
            </p:nvGrpSpPr>
            <p:grpSpPr>
              <a:xfrm>
                <a:off x="1418040" y="3759480"/>
                <a:ext cx="119160" cy="95040"/>
                <a:chOff x="1418040" y="3759480"/>
                <a:chExt cx="119160" cy="95040"/>
              </a:xfrm>
            </p:grpSpPr>
            <p:sp>
              <p:nvSpPr>
                <p:cNvPr id="689" name=""/>
                <p:cNvSpPr/>
                <p:nvPr/>
              </p:nvSpPr>
              <p:spPr>
                <a:xfrm flipH="1" flipV="1" rot="10813800">
                  <a:off x="141768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 rot="10813800">
                  <a:off x="1425240" y="3759480"/>
                  <a:ext cx="1116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"/>
            <p:cNvSpPr/>
            <p:nvPr/>
          </p:nvSpPr>
          <p:spPr>
            <a:xfrm flipV="1">
              <a:off x="2031840" y="3748680"/>
              <a:ext cx="146160" cy="8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141280" y="301104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89000" y="3665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133360" y="2906280"/>
              <a:ext cx="609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33360" y="38210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179800">
              <a:off x="2775960" y="2852280"/>
              <a:ext cx="38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153440" y="3692160"/>
            <a:ext cx="2912760" cy="1587240"/>
            <a:chOff x="1153440" y="3692160"/>
            <a:chExt cx="2912760" cy="1587240"/>
          </a:xfrm>
        </p:grpSpPr>
        <p:sp>
          <p:nvSpPr>
            <p:cNvPr id="698" name=""/>
            <p:cNvSpPr/>
            <p:nvPr/>
          </p:nvSpPr>
          <p:spPr>
            <a:xfrm flipV="1">
              <a:off x="3886920" y="3692160"/>
              <a:ext cx="179280" cy="8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153440" y="4552200"/>
              <a:ext cx="1274040" cy="72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572840" y="4596480"/>
              <a:ext cx="76356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1361520" y="4599720"/>
              <a:ext cx="973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1246680" y="4598280"/>
              <a:ext cx="109080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722960" y="4521960"/>
              <a:ext cx="618840" cy="105120"/>
              <a:chOff x="1722960" y="4521960"/>
              <a:chExt cx="618840" cy="10512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1972800" y="4528080"/>
                <a:ext cx="119160" cy="95760"/>
                <a:chOff x="1972800" y="4528080"/>
                <a:chExt cx="119160" cy="957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1977840" y="4556160"/>
                  <a:ext cx="47160" cy="38520"/>
                  <a:chOff x="1977840" y="4556160"/>
                  <a:chExt cx="47160" cy="385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rot="10813800">
                    <a:off x="197784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0813800">
                    <a:off x="1980360" y="45561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1972800" y="4528080"/>
                  <a:ext cx="119160" cy="95760"/>
                  <a:chOff x="1972800" y="4528080"/>
                  <a:chExt cx="119160" cy="957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H="1" flipV="1" rot="10813800">
                    <a:off x="197244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10813800">
                    <a:off x="1980000" y="452808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1910160" y="4525200"/>
                <a:ext cx="119160" cy="95760"/>
                <a:chOff x="1910160" y="4525200"/>
                <a:chExt cx="119160" cy="9576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1915200" y="4553640"/>
                  <a:ext cx="47160" cy="38520"/>
                  <a:chOff x="1915200" y="4553640"/>
                  <a:chExt cx="47160" cy="3852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H="1" rot="10813800">
                    <a:off x="191520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10813800">
                    <a:off x="1917720" y="45536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1910160" y="4525200"/>
                  <a:ext cx="119160" cy="95760"/>
                  <a:chOff x="1910160" y="4525200"/>
                  <a:chExt cx="119160" cy="957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 flipV="1" rot="10813800">
                    <a:off x="190980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 rot="10813800">
                    <a:off x="1917360" y="45252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1847880" y="4524840"/>
                <a:ext cx="119160" cy="95760"/>
                <a:chOff x="1847880" y="4524840"/>
                <a:chExt cx="119160" cy="9576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1852920" y="4553280"/>
                  <a:ext cx="47160" cy="38520"/>
                  <a:chOff x="1852920" y="4553280"/>
                  <a:chExt cx="47160" cy="3852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 flipH="1" rot="10813800">
                    <a:off x="185292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rot="10813800">
                    <a:off x="1855440" y="45532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1847880" y="4524840"/>
                  <a:ext cx="119160" cy="95760"/>
                  <a:chOff x="1847880" y="4524840"/>
                  <a:chExt cx="119160" cy="957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 flipV="1" rot="10813800">
                    <a:off x="184752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10813800">
                    <a:off x="1855080" y="45248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5" name=""/>
              <p:cNvGrpSpPr/>
              <p:nvPr/>
            </p:nvGrpSpPr>
            <p:grpSpPr>
              <a:xfrm>
                <a:off x="1785240" y="4521960"/>
                <a:ext cx="119160" cy="96120"/>
                <a:chOff x="1785240" y="4521960"/>
                <a:chExt cx="119160" cy="9612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1790280" y="4550400"/>
                  <a:ext cx="47160" cy="38520"/>
                  <a:chOff x="1790280" y="4550400"/>
                  <a:chExt cx="47160" cy="385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H="1" rot="10813800">
                    <a:off x="179028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rot="10813800">
                    <a:off x="1792800" y="45504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1785240" y="4521960"/>
                  <a:ext cx="119160" cy="96120"/>
                  <a:chOff x="1785240" y="4521960"/>
                  <a:chExt cx="119160" cy="9612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H="1" flipV="1" rot="10813800">
                    <a:off x="1784880" y="45219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 rot="10813800">
                    <a:off x="1792440" y="4522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2" name=""/>
              <p:cNvGrpSpPr/>
              <p:nvPr/>
            </p:nvGrpSpPr>
            <p:grpSpPr>
              <a:xfrm>
                <a:off x="2222640" y="4531320"/>
                <a:ext cx="119160" cy="95760"/>
                <a:chOff x="2222640" y="4531320"/>
                <a:chExt cx="119160" cy="9576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2227680" y="4559760"/>
                  <a:ext cx="47160" cy="38520"/>
                  <a:chOff x="2227680" y="4559760"/>
                  <a:chExt cx="47160" cy="3852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rot="10813800">
                    <a:off x="222768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10813800">
                    <a:off x="2230200" y="455976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2222640" y="4531320"/>
                  <a:ext cx="119160" cy="95760"/>
                  <a:chOff x="2222640" y="4531320"/>
                  <a:chExt cx="119160" cy="957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 flipV="1" rot="10813800">
                    <a:off x="222228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V="1" rot="10813800">
                    <a:off x="2229840" y="453132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2160360" y="4528800"/>
                <a:ext cx="119160" cy="95760"/>
                <a:chOff x="2160360" y="4528800"/>
                <a:chExt cx="119160" cy="957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2165400" y="4556880"/>
                  <a:ext cx="47160" cy="38880"/>
                  <a:chOff x="2165400" y="4556880"/>
                  <a:chExt cx="47160" cy="3888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flipH="1" rot="10813800">
                    <a:off x="216540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0813800">
                    <a:off x="2167920" y="455724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2160360" y="4528800"/>
                  <a:ext cx="119160" cy="95760"/>
                  <a:chOff x="2160360" y="4528800"/>
                  <a:chExt cx="119160" cy="9576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flipH="1" flipV="1" rot="10813800">
                    <a:off x="216000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V="1" rot="10813800">
                    <a:off x="2167560" y="452880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" name=""/>
              <p:cNvGrpSpPr/>
              <p:nvPr/>
            </p:nvGrpSpPr>
            <p:grpSpPr>
              <a:xfrm>
                <a:off x="2097720" y="4528440"/>
                <a:ext cx="119160" cy="95760"/>
                <a:chOff x="2097720" y="4528440"/>
                <a:chExt cx="119160" cy="9576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2102760" y="4556880"/>
                  <a:ext cx="47160" cy="38520"/>
                  <a:chOff x="2102760" y="4556880"/>
                  <a:chExt cx="47160" cy="385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H="1" rot="10813800">
                    <a:off x="210276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10813800">
                    <a:off x="2105280" y="455688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2097720" y="4528440"/>
                  <a:ext cx="119160" cy="95760"/>
                  <a:chOff x="2097720" y="4528440"/>
                  <a:chExt cx="119160" cy="9576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flipH="1" flipV="1" rot="10813800">
                    <a:off x="209736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 rot="10813800">
                    <a:off x="2104920" y="452844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3" name=""/>
              <p:cNvGrpSpPr/>
              <p:nvPr/>
            </p:nvGrpSpPr>
            <p:grpSpPr>
              <a:xfrm>
                <a:off x="2035080" y="4525560"/>
                <a:ext cx="119160" cy="95760"/>
                <a:chOff x="2035080" y="4525560"/>
                <a:chExt cx="119160" cy="9576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2040120" y="4554000"/>
                  <a:ext cx="47160" cy="38520"/>
                  <a:chOff x="2040120" y="4554000"/>
                  <a:chExt cx="47160" cy="3852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H="1" rot="10813800">
                    <a:off x="204012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rot="10813800">
                    <a:off x="2042640" y="4554000"/>
                    <a:ext cx="446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2035080" y="4525560"/>
                  <a:ext cx="119160" cy="95760"/>
                  <a:chOff x="2035080" y="4525560"/>
                  <a:chExt cx="119160" cy="9576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H="1" flipV="1" rot="10813800">
                    <a:off x="203472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V="1" rot="10813800">
                    <a:off x="2042280" y="4525560"/>
                    <a:ext cx="111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0" name=""/>
              <p:cNvGrpSpPr/>
              <p:nvPr/>
            </p:nvGrpSpPr>
            <p:grpSpPr>
              <a:xfrm>
                <a:off x="1722960" y="4521960"/>
                <a:ext cx="119160" cy="95760"/>
                <a:chOff x="1722960" y="4521960"/>
                <a:chExt cx="119160" cy="95760"/>
              </a:xfrm>
            </p:grpSpPr>
            <p:sp>
              <p:nvSpPr>
                <p:cNvPr id="761" name=""/>
                <p:cNvSpPr/>
                <p:nvPr/>
              </p:nvSpPr>
              <p:spPr>
                <a:xfrm flipH="1" flipV="1" rot="10813800">
                  <a:off x="172260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 rot="10813800">
                  <a:off x="1730160" y="4521960"/>
                  <a:ext cx="11160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 flipV="1">
              <a:off x="2336760" y="4510440"/>
              <a:ext cx="14616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476440" y="3762000"/>
              <a:ext cx="14479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93920" y="44276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2438280" y="42667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438280" y="3962520"/>
              <a:ext cx="7621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198400">
              <a:off x="3200400" y="3962160"/>
              <a:ext cx="1522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 rot="19919400">
            <a:off x="3708720" y="439236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dron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9919400">
            <a:off x="3279600" y="365724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small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9919400">
            <a:off x="3069720" y="28242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(large R)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919400">
            <a:off x="2862720" y="220788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ma 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657600" y="1752480"/>
            <a:ext cx="144792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9980000">
            <a:off x="1445760" y="1543320"/>
            <a:ext cx="24177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loser and clos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initial part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9969200">
            <a:off x="2977560" y="5029560"/>
            <a:ext cx="27075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re and more surface 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iven by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952880" y="228600"/>
            <a:ext cx="3810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212760"/>
            <a:ext cx="4267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Jet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- hadron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Comparisons are the most important! ---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24480" y="15228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ard Probe 2010, Yue Shi L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6320" y="990720"/>
            <a:ext cx="2209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ne size dependent jet suppression can be understood by recovering of energy loss with a larger c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n be u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 a controlled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as in analy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in trigg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BD2-D640-4840-A835-B9A7EF4E4E7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564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556160" y="228600"/>
            <a:ext cx="4587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Jet Calori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HC-ALIC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6084720" y="1219320"/>
            <a:ext cx="3059280" cy="36576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6784560" y="6095880"/>
            <a:ext cx="229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CAL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773-08A8-43A9-85BF-6CD2598185A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1219320"/>
            <a:ext cx="5029200" cy="4495320"/>
            <a:chOff x="0" y="1219320"/>
            <a:chExt cx="5029200" cy="4495320"/>
          </a:xfrm>
        </p:grpSpPr>
        <p:pic>
          <p:nvPicPr>
            <p:cNvPr id="785" name="" descr=""/>
            <p:cNvPicPr/>
            <p:nvPr/>
          </p:nvPicPr>
          <p:blipFill>
            <a:blip r:embed="rId1"/>
            <a:srcRect l="2324" t="8544" r="8455" b="0"/>
            <a:stretch/>
          </p:blipFill>
          <p:spPr>
            <a:xfrm>
              <a:off x="0" y="1219320"/>
              <a:ext cx="5029200" cy="44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2"/>
            <a:srcRect l="64975" t="73136" r="23991" b="18620"/>
            <a:stretch/>
          </p:blipFill>
          <p:spPr>
            <a:xfrm>
              <a:off x="4124880" y="4641840"/>
              <a:ext cx="685440" cy="49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3"/>
            <a:srcRect l="12968" t="54083" r="71512" b="40286"/>
            <a:stretch/>
          </p:blipFill>
          <p:spPr>
            <a:xfrm>
              <a:off x="1356480" y="3980520"/>
              <a:ext cx="1166040" cy="47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4"/>
            <a:srcRect l="24659" t="54290" r="62845" b="34257"/>
            <a:stretch/>
          </p:blipFill>
          <p:spPr>
            <a:xfrm>
              <a:off x="3494520" y="1792080"/>
              <a:ext cx="123084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5"/>
            <a:srcRect l="48880" t="43880" r="37063" b="43628"/>
            <a:stretch/>
          </p:blipFill>
          <p:spPr>
            <a:xfrm>
              <a:off x="3536280" y="3215520"/>
              <a:ext cx="1123920" cy="8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6"/>
            <a:srcRect l="24659" t="54290" r="62845" b="34257"/>
            <a:stretch/>
          </p:blipFill>
          <p:spPr>
            <a:xfrm>
              <a:off x="1740960" y="1502280"/>
              <a:ext cx="129816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7"/>
            <a:srcRect l="44191" t="20963" r="34719" b="69666"/>
            <a:stretch/>
          </p:blipFill>
          <p:spPr>
            <a:xfrm>
              <a:off x="3040920" y="1542240"/>
              <a:ext cx="17492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8"/>
            <a:srcRect l="17417" t="22006" r="57374" b="75917"/>
            <a:stretch/>
          </p:blipFill>
          <p:spPr>
            <a:xfrm>
              <a:off x="1055520" y="1419120"/>
              <a:ext cx="20905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9"/>
            <a:srcRect l="24659" t="54290" r="62845" b="34257"/>
            <a:stretch/>
          </p:blipFill>
          <p:spPr>
            <a:xfrm>
              <a:off x="3276000" y="1450080"/>
              <a:ext cx="7812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10"/>
            <a:srcRect l="24659" t="54290" r="62845" b="34257"/>
            <a:stretch/>
          </p:blipFill>
          <p:spPr>
            <a:xfrm>
              <a:off x="3949200" y="1366560"/>
              <a:ext cx="78120" cy="2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11"/>
            <a:srcRect l="24659" t="54290" r="62845" b="34257"/>
            <a:stretch/>
          </p:blipFill>
          <p:spPr>
            <a:xfrm>
              <a:off x="4582080" y="1450080"/>
              <a:ext cx="78120" cy="251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96" name=""/>
          <p:cNvGraphicFramePr/>
          <p:nvPr/>
        </p:nvGraphicFramePr>
        <p:xfrm>
          <a:off x="838080" y="5486400"/>
          <a:ext cx="1473480" cy="82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5486400"/>
                    <a:ext cx="14734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8" name="" descr=""/>
          <p:cNvPicPr/>
          <p:nvPr/>
        </p:nvPicPr>
        <p:blipFill>
          <a:blip r:embed="rId14"/>
          <a:srcRect l="20315" t="9376" r="27343" b="43131"/>
          <a:stretch/>
        </p:blipFill>
        <p:spPr>
          <a:xfrm>
            <a:off x="5562720" y="1384200"/>
            <a:ext cx="2892240" cy="196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7924680" y="2249640"/>
            <a:ext cx="490680" cy="811080"/>
          </a:xfrm>
          <a:prstGeom prst="rect">
            <a:avLst/>
          </a:prstGeom>
          <a:solidFill>
            <a:srgbClr val="4c5b79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2055600">
            <a:off x="7128000" y="68040"/>
            <a:ext cx="876240" cy="1379520"/>
          </a:xfrm>
          <a:prstGeom prst="ellipse">
            <a:avLst/>
          </a:prstGeom>
          <a:gradFill rotWithShape="0">
            <a:gsLst>
              <a:gs pos="0">
                <a:srgbClr val="ff0000">
                  <a:alpha val="82352"/>
                </a:srgbClr>
              </a:gs>
              <a:gs pos="100000">
                <a:srgbClr val="ff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629400" y="522000"/>
            <a:ext cx="1703520" cy="419400"/>
            <a:chOff x="6629400" y="522000"/>
            <a:chExt cx="1703520" cy="419400"/>
          </a:xfrm>
        </p:grpSpPr>
        <p:grpSp>
          <p:nvGrpSpPr>
            <p:cNvPr id="802" name=""/>
            <p:cNvGrpSpPr/>
            <p:nvPr/>
          </p:nvGrpSpPr>
          <p:grpSpPr>
            <a:xfrm>
              <a:off x="6817320" y="755280"/>
              <a:ext cx="718200" cy="60480"/>
              <a:chOff x="6817320" y="755280"/>
              <a:chExt cx="718200" cy="6048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7440480" y="755280"/>
                <a:ext cx="95040" cy="38520"/>
                <a:chOff x="7440480" y="755280"/>
                <a:chExt cx="95040" cy="3852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7484400" y="755280"/>
                  <a:ext cx="51120" cy="38160"/>
                  <a:chOff x="7484400" y="755280"/>
                  <a:chExt cx="51120" cy="381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21439200">
                    <a:off x="7487640" y="756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21439200">
                    <a:off x="7485120" y="75636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7440480" y="755640"/>
                  <a:ext cx="51120" cy="38160"/>
                  <a:chOff x="7440480" y="755640"/>
                  <a:chExt cx="51120" cy="3816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flipV="1" rot="21439200">
                    <a:off x="7444080" y="756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 rot="21439200">
                    <a:off x="7440840" y="75636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7351560" y="759600"/>
                <a:ext cx="95040" cy="38160"/>
                <a:chOff x="7351560" y="759600"/>
                <a:chExt cx="95040" cy="381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7395480" y="759600"/>
                  <a:ext cx="51120" cy="37800"/>
                  <a:chOff x="7395480" y="759600"/>
                  <a:chExt cx="51120" cy="3780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H="1" rot="21439200">
                    <a:off x="7398720" y="760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rot="21439200">
                    <a:off x="7396200" y="760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7351560" y="759960"/>
                  <a:ext cx="51120" cy="37800"/>
                  <a:chOff x="7351560" y="759960"/>
                  <a:chExt cx="51120" cy="3780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 flipH="1" flipV="1" rot="21439200">
                    <a:off x="7355160" y="760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V="1" rot="21439200">
                    <a:off x="7351920" y="760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7" name=""/>
              <p:cNvGrpSpPr/>
              <p:nvPr/>
            </p:nvGrpSpPr>
            <p:grpSpPr>
              <a:xfrm>
                <a:off x="7262640" y="761400"/>
                <a:ext cx="95040" cy="38160"/>
                <a:chOff x="7262640" y="761400"/>
                <a:chExt cx="95040" cy="3816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7306560" y="761400"/>
                  <a:ext cx="51120" cy="37800"/>
                  <a:chOff x="7306560" y="761400"/>
                  <a:chExt cx="51120" cy="3780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flipH="1" rot="21439200">
                    <a:off x="7309800" y="7621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21439200">
                    <a:off x="7307280" y="7621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7262640" y="761400"/>
                  <a:ext cx="51120" cy="38160"/>
                  <a:chOff x="7262640" y="761400"/>
                  <a:chExt cx="51120" cy="3816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flipH="1" flipV="1" rot="21439200">
                    <a:off x="7266240" y="76176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 rot="21439200">
                    <a:off x="7263000" y="7621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4" name=""/>
              <p:cNvGrpSpPr/>
              <p:nvPr/>
            </p:nvGrpSpPr>
            <p:grpSpPr>
              <a:xfrm>
                <a:off x="7173360" y="765360"/>
                <a:ext cx="95400" cy="38160"/>
                <a:chOff x="7173360" y="765360"/>
                <a:chExt cx="95400" cy="3816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7217640" y="765360"/>
                  <a:ext cx="51120" cy="37800"/>
                  <a:chOff x="7217640" y="765360"/>
                  <a:chExt cx="51120" cy="378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rot="21439200">
                    <a:off x="7220880" y="7660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1439200">
                    <a:off x="7218360" y="7660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7173360" y="765720"/>
                  <a:ext cx="51120" cy="37800"/>
                  <a:chOff x="7173360" y="765720"/>
                  <a:chExt cx="51120" cy="37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H="1" flipV="1" rot="21439200">
                    <a:off x="7176960" y="7660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21439200">
                    <a:off x="7173720" y="7660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1" name=""/>
              <p:cNvGrpSpPr/>
              <p:nvPr/>
            </p:nvGrpSpPr>
            <p:grpSpPr>
              <a:xfrm>
                <a:off x="7084080" y="767160"/>
                <a:ext cx="95400" cy="38160"/>
                <a:chOff x="7084080" y="767160"/>
                <a:chExt cx="95400" cy="3816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7128360" y="767160"/>
                  <a:ext cx="51120" cy="37800"/>
                  <a:chOff x="7128360" y="767160"/>
                  <a:chExt cx="51120" cy="3780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rot="21439200">
                    <a:off x="7131600" y="7678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21439200">
                    <a:off x="7129080" y="7678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084080" y="767160"/>
                  <a:ext cx="51120" cy="38160"/>
                  <a:chOff x="7084080" y="767160"/>
                  <a:chExt cx="51120" cy="3816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flipV="1" rot="21439200">
                    <a:off x="7087680" y="7675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 rot="21439200">
                    <a:off x="7084440" y="76788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8" name=""/>
              <p:cNvGrpSpPr/>
              <p:nvPr/>
            </p:nvGrpSpPr>
            <p:grpSpPr>
              <a:xfrm>
                <a:off x="6995520" y="771120"/>
                <a:ext cx="95040" cy="38160"/>
                <a:chOff x="6995520" y="771120"/>
                <a:chExt cx="95040" cy="3816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7039440" y="771120"/>
                  <a:ext cx="51120" cy="38160"/>
                  <a:chOff x="7039440" y="771120"/>
                  <a:chExt cx="51120" cy="3816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H="1" rot="21439200">
                    <a:off x="7042680" y="77184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21439200">
                    <a:off x="7040160" y="7722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995520" y="771480"/>
                  <a:ext cx="51120" cy="37800"/>
                  <a:chOff x="6995520" y="771480"/>
                  <a:chExt cx="51120" cy="3780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flipV="1" rot="21439200">
                    <a:off x="6999120" y="77184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 rot="21439200">
                    <a:off x="6995880" y="77184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5" name=""/>
              <p:cNvGrpSpPr/>
              <p:nvPr/>
            </p:nvGrpSpPr>
            <p:grpSpPr>
              <a:xfrm>
                <a:off x="6906600" y="773280"/>
                <a:ext cx="95040" cy="38160"/>
                <a:chOff x="6906600" y="773280"/>
                <a:chExt cx="95040" cy="3816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6950520" y="773280"/>
                  <a:ext cx="51120" cy="37800"/>
                  <a:chOff x="6950520" y="773280"/>
                  <a:chExt cx="51120" cy="3780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 flipH="1" rot="21439200">
                    <a:off x="6953760" y="774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21439200">
                    <a:off x="6951240" y="774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6906600" y="773640"/>
                  <a:ext cx="51120" cy="37800"/>
                  <a:chOff x="6906600" y="773640"/>
                  <a:chExt cx="51120" cy="3780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 flipH="1" flipV="1" rot="21439200">
                    <a:off x="6910200" y="774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 rot="21439200">
                    <a:off x="6906960" y="77400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2" name=""/>
              <p:cNvGrpSpPr/>
              <p:nvPr/>
            </p:nvGrpSpPr>
            <p:grpSpPr>
              <a:xfrm>
                <a:off x="6817320" y="777240"/>
                <a:ext cx="95040" cy="38520"/>
                <a:chOff x="6817320" y="777240"/>
                <a:chExt cx="95040" cy="3852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6861240" y="777240"/>
                  <a:ext cx="51120" cy="38160"/>
                  <a:chOff x="6861240" y="777240"/>
                  <a:chExt cx="51120" cy="3816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 flipH="1" rot="21439200">
                    <a:off x="6864480" y="77796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21439200">
                    <a:off x="6861960" y="778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6817320" y="777600"/>
                  <a:ext cx="51120" cy="38160"/>
                  <a:chOff x="6817320" y="777600"/>
                  <a:chExt cx="51120" cy="3816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flipH="1" flipV="1" rot="21439200">
                    <a:off x="6820920" y="77796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V="1" rot="21439200">
                    <a:off x="6817680" y="778320"/>
                    <a:ext cx="468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9" name=""/>
            <p:cNvSpPr/>
            <p:nvPr/>
          </p:nvSpPr>
          <p:spPr>
            <a:xfrm flipH="1">
              <a:off x="6629400" y="804600"/>
              <a:ext cx="1792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89520" y="752040"/>
              <a:ext cx="743400" cy="2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34160" y="745560"/>
              <a:ext cx="47664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34520" y="522000"/>
              <a:ext cx="46836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633800" y="676080"/>
              <a:ext cx="5227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7617240" y="577080"/>
              <a:ext cx="251640" cy="182520"/>
              <a:chOff x="7617240" y="577080"/>
              <a:chExt cx="251640" cy="1825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7710840" y="637920"/>
                <a:ext cx="65520" cy="61920"/>
                <a:chOff x="7710840" y="637920"/>
                <a:chExt cx="65520" cy="6192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7742160" y="649080"/>
                  <a:ext cx="26280" cy="24840"/>
                  <a:chOff x="7742160" y="649080"/>
                  <a:chExt cx="26280" cy="248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8875800">
                    <a:off x="7746120" y="65268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rot="8875800">
                    <a:off x="7745040" y="65376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710840" y="637920"/>
                  <a:ext cx="65520" cy="61920"/>
                  <a:chOff x="7710840" y="637920"/>
                  <a:chExt cx="65520" cy="6192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flipV="1" rot="8875800">
                    <a:off x="7720200" y="64764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 flipV="1" rot="8875800">
                    <a:off x="7717320" y="64908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2" name=""/>
              <p:cNvGrpSpPr/>
              <p:nvPr/>
            </p:nvGrpSpPr>
            <p:grpSpPr>
              <a:xfrm>
                <a:off x="7733520" y="622080"/>
                <a:ext cx="65520" cy="62280"/>
                <a:chOff x="7733520" y="622080"/>
                <a:chExt cx="65520" cy="6228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7765200" y="633600"/>
                  <a:ext cx="25920" cy="24480"/>
                  <a:chOff x="7765200" y="633600"/>
                  <a:chExt cx="25920" cy="2448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rot="8875800">
                    <a:off x="7768800" y="63720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rot="8875800">
                    <a:off x="7768080" y="63792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7733520" y="622080"/>
                  <a:ext cx="65520" cy="62280"/>
                  <a:chOff x="7733520" y="622080"/>
                  <a:chExt cx="65520" cy="6228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flipV="1" rot="8875800">
                    <a:off x="7742880" y="63180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 flipV="1" rot="8875800">
                    <a:off x="7740000" y="63360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7757280" y="607320"/>
                <a:ext cx="65160" cy="62280"/>
                <a:chOff x="7757280" y="607320"/>
                <a:chExt cx="65160" cy="62280"/>
              </a:xfrm>
            </p:grpSpPr>
            <p:grpSp>
              <p:nvGrpSpPr>
                <p:cNvPr id="880" name=""/>
                <p:cNvGrpSpPr/>
                <p:nvPr/>
              </p:nvGrpSpPr>
              <p:grpSpPr>
                <a:xfrm>
                  <a:off x="7788600" y="618840"/>
                  <a:ext cx="25920" cy="24480"/>
                  <a:chOff x="7788600" y="618840"/>
                  <a:chExt cx="25920" cy="244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rot="8875800">
                    <a:off x="7792200" y="62244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 rot="8875800">
                    <a:off x="7791480" y="62316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7757280" y="607320"/>
                  <a:ext cx="65160" cy="62280"/>
                  <a:chOff x="7757280" y="607320"/>
                  <a:chExt cx="65160" cy="622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flipV="1" rot="8875800">
                    <a:off x="7766280" y="61704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flipV="1" rot="8875800">
                    <a:off x="7763760" y="61884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6" name=""/>
              <p:cNvGrpSpPr/>
              <p:nvPr/>
            </p:nvGrpSpPr>
            <p:grpSpPr>
              <a:xfrm>
                <a:off x="7779960" y="591840"/>
                <a:ext cx="65520" cy="61920"/>
                <a:chOff x="7779960" y="591840"/>
                <a:chExt cx="65520" cy="61920"/>
              </a:xfrm>
            </p:grpSpPr>
            <p:grpSp>
              <p:nvGrpSpPr>
                <p:cNvPr id="887" name=""/>
                <p:cNvGrpSpPr/>
                <p:nvPr/>
              </p:nvGrpSpPr>
              <p:grpSpPr>
                <a:xfrm>
                  <a:off x="7811640" y="603000"/>
                  <a:ext cx="25920" cy="24840"/>
                  <a:chOff x="7811640" y="603000"/>
                  <a:chExt cx="25920" cy="2484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 rot="8875800">
                    <a:off x="7815240" y="60660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 rot="8875800">
                    <a:off x="7814520" y="60768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7779960" y="591840"/>
                  <a:ext cx="65520" cy="61920"/>
                  <a:chOff x="7779960" y="591840"/>
                  <a:chExt cx="65520" cy="6192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flipV="1" rot="8875800">
                    <a:off x="7789320" y="60156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flipV="1" rot="8875800">
                    <a:off x="7786440" y="60300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3" name=""/>
              <p:cNvGrpSpPr/>
              <p:nvPr/>
            </p:nvGrpSpPr>
            <p:grpSpPr>
              <a:xfrm>
                <a:off x="7617240" y="697680"/>
                <a:ext cx="65520" cy="61920"/>
                <a:chOff x="7617240" y="697680"/>
                <a:chExt cx="65520" cy="6192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7648920" y="708840"/>
                  <a:ext cx="25920" cy="24840"/>
                  <a:chOff x="7648920" y="708840"/>
                  <a:chExt cx="25920" cy="248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 rot="8875800">
                    <a:off x="7652520" y="71244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H="1" rot="8875800">
                    <a:off x="7651800" y="71352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7617240" y="697680"/>
                  <a:ext cx="65520" cy="61920"/>
                  <a:chOff x="7617240" y="697680"/>
                  <a:chExt cx="65520" cy="6192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 flipV="1" rot="8875800">
                    <a:off x="7626600" y="70740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 flipV="1" rot="8875800">
                    <a:off x="7623720" y="70884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0" name=""/>
              <p:cNvGrpSpPr/>
              <p:nvPr/>
            </p:nvGrpSpPr>
            <p:grpSpPr>
              <a:xfrm>
                <a:off x="7640280" y="681840"/>
                <a:ext cx="65520" cy="62280"/>
                <a:chOff x="7640280" y="681840"/>
                <a:chExt cx="65520" cy="62280"/>
              </a:xfrm>
            </p:grpSpPr>
            <p:grpSp>
              <p:nvGrpSpPr>
                <p:cNvPr id="901" name=""/>
                <p:cNvGrpSpPr/>
                <p:nvPr/>
              </p:nvGrpSpPr>
              <p:grpSpPr>
                <a:xfrm>
                  <a:off x="7671600" y="693360"/>
                  <a:ext cx="26280" cy="24480"/>
                  <a:chOff x="7671600" y="693360"/>
                  <a:chExt cx="26280" cy="2448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 rot="8875800">
                    <a:off x="7675560" y="69696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rot="8875800">
                    <a:off x="7674480" y="69768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"/>
                <p:cNvGrpSpPr/>
                <p:nvPr/>
              </p:nvGrpSpPr>
              <p:grpSpPr>
                <a:xfrm>
                  <a:off x="7640280" y="681840"/>
                  <a:ext cx="65520" cy="62280"/>
                  <a:chOff x="7640280" y="681840"/>
                  <a:chExt cx="65520" cy="6228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V="1" rot="8875800">
                    <a:off x="7649640" y="69156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 flipV="1" rot="8875800">
                    <a:off x="7646760" y="69336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"/>
              <p:cNvGrpSpPr/>
              <p:nvPr/>
            </p:nvGrpSpPr>
            <p:grpSpPr>
              <a:xfrm>
                <a:off x="7663680" y="667440"/>
                <a:ext cx="65520" cy="61920"/>
                <a:chOff x="7663680" y="667440"/>
                <a:chExt cx="65520" cy="61920"/>
              </a:xfrm>
            </p:grpSpPr>
            <p:grpSp>
              <p:nvGrpSpPr>
                <p:cNvPr id="908" name=""/>
                <p:cNvGrpSpPr/>
                <p:nvPr/>
              </p:nvGrpSpPr>
              <p:grpSpPr>
                <a:xfrm>
                  <a:off x="7695360" y="678600"/>
                  <a:ext cx="25920" cy="24840"/>
                  <a:chOff x="7695360" y="678600"/>
                  <a:chExt cx="25920" cy="2484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 rot="8875800">
                    <a:off x="7698960" y="68220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 rot="8875800">
                    <a:off x="7698240" y="68328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7663680" y="667440"/>
                  <a:ext cx="65520" cy="61920"/>
                  <a:chOff x="7663680" y="667440"/>
                  <a:chExt cx="65520" cy="6192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 flipV="1" rot="8875800">
                    <a:off x="7673040" y="67716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 rot="8875800">
                    <a:off x="7670160" y="67860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7686720" y="651600"/>
                <a:ext cx="65520" cy="61920"/>
                <a:chOff x="7686720" y="651600"/>
                <a:chExt cx="65520" cy="61920"/>
              </a:xfrm>
            </p:grpSpPr>
            <p:grpSp>
              <p:nvGrpSpPr>
                <p:cNvPr id="915" name=""/>
                <p:cNvGrpSpPr/>
                <p:nvPr/>
              </p:nvGrpSpPr>
              <p:grpSpPr>
                <a:xfrm>
                  <a:off x="7718040" y="663120"/>
                  <a:ext cx="26280" cy="24480"/>
                  <a:chOff x="7718040" y="663120"/>
                  <a:chExt cx="26280" cy="2448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 rot="8875800">
                    <a:off x="7722000" y="66672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 rot="8875800">
                    <a:off x="7720920" y="66744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7686720" y="651600"/>
                  <a:ext cx="65520" cy="61920"/>
                  <a:chOff x="7686720" y="651600"/>
                  <a:chExt cx="65520" cy="6192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 flipV="1" rot="8875800">
                    <a:off x="7696080" y="66132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 flipV="1" rot="8875800">
                    <a:off x="7693200" y="662760"/>
                    <a:ext cx="489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1" name=""/>
              <p:cNvGrpSpPr/>
              <p:nvPr/>
            </p:nvGrpSpPr>
            <p:grpSpPr>
              <a:xfrm>
                <a:off x="7803720" y="577080"/>
                <a:ext cx="65160" cy="61920"/>
                <a:chOff x="7803720" y="577080"/>
                <a:chExt cx="65160" cy="61920"/>
              </a:xfrm>
            </p:grpSpPr>
            <p:sp>
              <p:nvSpPr>
                <p:cNvPr id="922" name=""/>
                <p:cNvSpPr/>
                <p:nvPr/>
              </p:nvSpPr>
              <p:spPr>
                <a:xfrm flipV="1" rot="8875800">
                  <a:off x="7812720" y="586800"/>
                  <a:ext cx="48960" cy="4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flipV="1" rot="8875800">
                  <a:off x="7810200" y="588240"/>
                  <a:ext cx="48960" cy="4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 flipH="1">
              <a:off x="7520040" y="746280"/>
              <a:ext cx="114120" cy="4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734640" y="9144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09 PHE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43200" y="5638680"/>
                <a:ext cx="175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916920" y="4495680"/>
            <a:ext cx="228204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+p: </a:t>
            </a: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= 6.89 ± 0.6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: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9.49 ±1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6240" y="152280"/>
            <a:ext cx="53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iggered Away-side Correla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Fragmentation Function in p+p and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5"/>
          <a:srcRect l="0" t="2451" r="1236" b="1842"/>
          <a:stretch/>
        </p:blipFill>
        <p:spPr>
          <a:xfrm>
            <a:off x="4952880" y="3443400"/>
            <a:ext cx="3962520" cy="257652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4876920" y="5943600"/>
            <a:ext cx="3657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-ha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~ R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ha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s naively expected and confi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lightly higher I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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-ha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from surface/tangential bi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469560" y="228600"/>
            <a:ext cx="122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tal jet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s carried by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rot="1975200">
            <a:off x="1597320" y="2849400"/>
            <a:ext cx="186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ftning of F.F. in Au+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C35-C16C-48D3-9D45-87AC7F1F84D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5181480" cy="34498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5" descr="C:\Documents and Settings\Stefan Bathe\My Documents\PHENIX\MyTalks\WWND2009BigSkyMontana\material\papers\PPG086_src\Fig4_noframe.gif"/>
          <p:cNvPicPr/>
          <p:nvPr/>
        </p:nvPicPr>
        <p:blipFill>
          <a:blip r:embed="rId2"/>
          <a:srcRect l="0" t="0" r="6878" b="0"/>
          <a:stretch/>
        </p:blipFill>
        <p:spPr>
          <a:xfrm>
            <a:off x="5246640" y="1143000"/>
            <a:ext cx="3897360" cy="426708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5635800" y="5334120"/>
            <a:ext cx="25124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 parameter (0-20%):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(221 ± 23 ± 18) Me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arious Hydro mode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nitial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300~600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9"/>
          <p:cNvSpPr/>
          <p:nvPr/>
        </p:nvSpPr>
        <p:spPr>
          <a:xfrm>
            <a:off x="7466400" y="68580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L104, 132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rXiv:0804.4168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0880" y="228600"/>
            <a:ext cx="47246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 photon at low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path to the initial temperature --- 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thermal photon radiation from QGP ---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of these photons for further tests ---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5105520"/>
            <a:ext cx="49528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mpt photon production from initial binary collisions can explain the measured direct photon spectra at p+p and d+Au for entire 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region and also at Au+Au for high 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region, however not at mid-central to central Au+Au collisions especially for lower 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region below 3GeV/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D6E-B368-4A45-95C7-EAAD4172A46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72200" y="290520"/>
            <a:ext cx="2362320" cy="2986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495680" y="3276720"/>
            <a:ext cx="4419720" cy="3241440"/>
            <a:chOff x="4495680" y="3276720"/>
            <a:chExt cx="4419720" cy="32414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495680" y="3306600"/>
              <a:ext cx="4121280" cy="32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870520" y="4365720"/>
              <a:ext cx="2201760" cy="1395360"/>
            </a:xfrm>
            <a:custGeom>
              <a:avLst/>
              <a:gdLst/>
              <a:ahLst/>
              <a:rect l="l" t="t" r="r" b="b"/>
              <a:pathLst>
                <a:path w="1215" h="724">
                  <a:moveTo>
                    <a:pt x="35" y="512"/>
                  </a:moveTo>
                  <a:cubicBezTo>
                    <a:pt x="192" y="534"/>
                    <a:pt x="352" y="526"/>
                    <a:pt x="510" y="539"/>
                  </a:cubicBezTo>
                  <a:cubicBezTo>
                    <a:pt x="889" y="534"/>
                    <a:pt x="1215" y="724"/>
                    <a:pt x="1113" y="448"/>
                  </a:cubicBezTo>
                  <a:cubicBezTo>
                    <a:pt x="1103" y="388"/>
                    <a:pt x="1115" y="314"/>
                    <a:pt x="1049" y="293"/>
                  </a:cubicBezTo>
                  <a:cubicBezTo>
                    <a:pt x="1021" y="264"/>
                    <a:pt x="1016" y="225"/>
                    <a:pt x="995" y="192"/>
                  </a:cubicBezTo>
                  <a:cubicBezTo>
                    <a:pt x="977" y="163"/>
                    <a:pt x="883" y="76"/>
                    <a:pt x="848" y="55"/>
                  </a:cubicBezTo>
                  <a:cubicBezTo>
                    <a:pt x="828" y="43"/>
                    <a:pt x="769" y="39"/>
                    <a:pt x="757" y="37"/>
                  </a:cubicBezTo>
                  <a:cubicBezTo>
                    <a:pt x="739" y="31"/>
                    <a:pt x="721" y="23"/>
                    <a:pt x="702" y="18"/>
                  </a:cubicBezTo>
                  <a:cubicBezTo>
                    <a:pt x="678" y="12"/>
                    <a:pt x="629" y="0"/>
                    <a:pt x="629" y="0"/>
                  </a:cubicBezTo>
                  <a:cubicBezTo>
                    <a:pt x="470" y="3"/>
                    <a:pt x="311" y="1"/>
                    <a:pt x="153" y="9"/>
                  </a:cubicBezTo>
                  <a:cubicBezTo>
                    <a:pt x="124" y="10"/>
                    <a:pt x="71" y="37"/>
                    <a:pt x="71" y="37"/>
                  </a:cubicBezTo>
                  <a:cubicBezTo>
                    <a:pt x="0" y="131"/>
                    <a:pt x="37" y="266"/>
                    <a:pt x="44" y="375"/>
                  </a:cubicBezTo>
                  <a:cubicBezTo>
                    <a:pt x="45" y="387"/>
                    <a:pt x="54" y="399"/>
                    <a:pt x="53" y="411"/>
                  </a:cubicBezTo>
                  <a:cubicBezTo>
                    <a:pt x="51" y="445"/>
                    <a:pt x="41" y="478"/>
                    <a:pt x="35" y="5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3960" y="3406680"/>
              <a:ext cx="215640" cy="247680"/>
            </a:xfrm>
            <a:custGeom>
              <a:avLst/>
              <a:gdLst/>
              <a:ahLst/>
              <a:rect l="l" t="t" r="r" b="b"/>
              <a:pathLst>
                <a:path w="233" h="241">
                  <a:moveTo>
                    <a:pt x="0" y="45"/>
                  </a:moveTo>
                  <a:cubicBezTo>
                    <a:pt x="49" y="98"/>
                    <a:pt x="98" y="151"/>
                    <a:pt x="136" y="181"/>
                  </a:cubicBezTo>
                  <a:cubicBezTo>
                    <a:pt x="174" y="211"/>
                    <a:pt x="219" y="241"/>
                    <a:pt x="226" y="226"/>
                  </a:cubicBezTo>
                  <a:cubicBezTo>
                    <a:pt x="233" y="211"/>
                    <a:pt x="204" y="127"/>
                    <a:pt x="181" y="90"/>
                  </a:cubicBezTo>
                  <a:cubicBezTo>
                    <a:pt x="158" y="53"/>
                    <a:pt x="124" y="26"/>
                    <a:pt x="90" y="0"/>
                  </a:cubicBezTo>
                </a:path>
              </a:pathLst>
            </a:custGeom>
            <a:noFill/>
            <a:ln cap="rnd" w="25560">
              <a:solidFill>
                <a:srgbClr val="ff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0880" y="3429000"/>
              <a:ext cx="434880" cy="601560"/>
            </a:xfrm>
            <a:custGeom>
              <a:avLst/>
              <a:gdLst/>
              <a:ahLst/>
              <a:rect l="l" t="t" r="r" b="b"/>
              <a:pathLst>
                <a:path w="370" h="408">
                  <a:moveTo>
                    <a:pt x="0" y="45"/>
                  </a:moveTo>
                  <a:cubicBezTo>
                    <a:pt x="83" y="132"/>
                    <a:pt x="167" y="219"/>
                    <a:pt x="227" y="272"/>
                  </a:cubicBezTo>
                  <a:cubicBezTo>
                    <a:pt x="287" y="325"/>
                    <a:pt x="370" y="408"/>
                    <a:pt x="363" y="363"/>
                  </a:cubicBezTo>
                  <a:cubicBezTo>
                    <a:pt x="356" y="318"/>
                    <a:pt x="269" y="159"/>
                    <a:pt x="182" y="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14880" y="3429000"/>
              <a:ext cx="941400" cy="1278000"/>
            </a:xfrm>
            <a:custGeom>
              <a:avLst/>
              <a:gdLst/>
              <a:ahLst/>
              <a:rect l="l" t="t" r="r" b="b"/>
              <a:pathLst>
                <a:path w="892" h="870">
                  <a:moveTo>
                    <a:pt x="0" y="0"/>
                  </a:moveTo>
                  <a:cubicBezTo>
                    <a:pt x="200" y="200"/>
                    <a:pt x="401" y="401"/>
                    <a:pt x="545" y="545"/>
                  </a:cubicBezTo>
                  <a:cubicBezTo>
                    <a:pt x="689" y="689"/>
                    <a:pt x="832" y="870"/>
                    <a:pt x="862" y="862"/>
                  </a:cubicBezTo>
                  <a:cubicBezTo>
                    <a:pt x="892" y="854"/>
                    <a:pt x="801" y="642"/>
                    <a:pt x="726" y="499"/>
                  </a:cubicBezTo>
                  <a:cubicBezTo>
                    <a:pt x="651" y="356"/>
                    <a:pt x="530" y="178"/>
                    <a:pt x="409" y="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77000" y="5006880"/>
              <a:ext cx="243000" cy="30168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7" y="106"/>
                  </a:moveTo>
                  <a:cubicBezTo>
                    <a:pt x="104" y="85"/>
                    <a:pt x="108" y="61"/>
                    <a:pt x="98" y="42"/>
                  </a:cubicBezTo>
                  <a:cubicBezTo>
                    <a:pt x="94" y="33"/>
                    <a:pt x="71" y="33"/>
                    <a:pt x="71" y="33"/>
                  </a:cubicBezTo>
                  <a:lnTo>
                    <a:pt x="0" y="0"/>
                  </a:lnTo>
                  <a:lnTo>
                    <a:pt x="0" y="90"/>
                  </a:lnTo>
                  <a:lnTo>
                    <a:pt x="107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49640" y="3276720"/>
              <a:ext cx="106992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harm had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6760" y="5560920"/>
              <a:ext cx="192564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75480" y="3578400"/>
              <a:ext cx="38556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7400000">
              <a:off x="6114960" y="3696840"/>
              <a:ext cx="2158560" cy="22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90600" y="5554800"/>
              <a:ext cx="102492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, K, 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7480" y="3276720"/>
              <a:ext cx="144792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trangeness had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6641640" y="3578040"/>
              <a:ext cx="439560" cy="9180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22080" y="559440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QM06, Yifei Zha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136280" y="114480"/>
            <a:ext cx="13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QM06, Yifei Zh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400000">
            <a:off x="5183640" y="42822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stor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adron freeze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2041560"/>
            <a:ext cx="3882960" cy="443556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733920" y="152280"/>
            <a:ext cx="2209680" cy="2337120"/>
            <a:chOff x="3733920" y="152280"/>
            <a:chExt cx="2209680" cy="233712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3733920" y="152280"/>
              <a:ext cx="1380240" cy="22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735360" y="193320"/>
              <a:ext cx="127800" cy="21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38960" y="1581120"/>
              <a:ext cx="258120" cy="24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2400" y="1643400"/>
              <a:ext cx="258480" cy="248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715640" y="1631880"/>
              <a:ext cx="1288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057200" y="1704960"/>
              <a:ext cx="128880" cy="12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448160" y="2138040"/>
              <a:ext cx="353880" cy="351360"/>
              <a:chOff x="4448160" y="2138040"/>
              <a:chExt cx="353880" cy="351360"/>
            </a:xfrm>
          </p:grpSpPr>
          <p:sp>
            <p:nvSpPr>
              <p:cNvPr id="77" name=""/>
              <p:cNvSpPr/>
              <p:nvPr/>
            </p:nvSpPr>
            <p:spPr>
              <a:xfrm rot="2100000">
                <a:off x="4495680" y="2189520"/>
                <a:ext cx="258480" cy="2480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08000" y="2225520"/>
                <a:ext cx="3420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842000" y="1589040"/>
              <a:ext cx="774720" cy="788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079960" y="1563120"/>
              <a:ext cx="863640" cy="843840"/>
              <a:chOff x="5079960" y="1563120"/>
              <a:chExt cx="863640" cy="843840"/>
            </a:xfrm>
          </p:grpSpPr>
          <p:sp>
            <p:nvSpPr>
              <p:cNvPr id="81" name=""/>
              <p:cNvSpPr/>
              <p:nvPr/>
            </p:nvSpPr>
            <p:spPr>
              <a:xfrm rot="900000">
                <a:off x="5155920" y="1643400"/>
                <a:ext cx="711000" cy="683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14120" y="1681560"/>
                <a:ext cx="56880" cy="348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57240" y="2008440"/>
                <a:ext cx="271440" cy="106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437440" y="1736280"/>
                <a:ext cx="278640" cy="296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5289480" y="1801440"/>
                <a:ext cx="88560" cy="293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4040" y="1920240"/>
                <a:ext cx="147960" cy="306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5317560" y="2188800"/>
                <a:ext cx="384840" cy="64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59640" y="1875960"/>
                <a:ext cx="53280" cy="322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5169960" y="2032920"/>
                <a:ext cx="294840" cy="147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5369040" y="1780560"/>
                <a:ext cx="348840" cy="195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773960" y="1814760"/>
              <a:ext cx="517680" cy="4564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44920" y="835560"/>
              <a:ext cx="258120" cy="24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509360" y="885600"/>
              <a:ext cx="141120" cy="13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647960" y="644760"/>
              <a:ext cx="642960" cy="19872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996080" y="537120"/>
              <a:ext cx="726120" cy="726120"/>
              <a:chOff x="4996080" y="537120"/>
              <a:chExt cx="726120" cy="726120"/>
            </a:xfrm>
          </p:grpSpPr>
          <p:sp>
            <p:nvSpPr>
              <p:cNvPr id="96" name=""/>
              <p:cNvSpPr/>
              <p:nvPr/>
            </p:nvSpPr>
            <p:spPr>
              <a:xfrm rot="2700000">
                <a:off x="5101560" y="644040"/>
                <a:ext cx="515160" cy="511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362920" y="683640"/>
                <a:ext cx="38160" cy="23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96320" y="919800"/>
                <a:ext cx="131040" cy="16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228640" y="862200"/>
                <a:ext cx="285120" cy="79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230080" y="658800"/>
                <a:ext cx="54720" cy="22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92000" y="759240"/>
                <a:ext cx="11520" cy="230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5166360" y="972000"/>
                <a:ext cx="271440" cy="106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374800" y="905040"/>
                <a:ext cx="155520" cy="188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5114520" y="780120"/>
                <a:ext cx="131040" cy="199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5432760" y="726480"/>
                <a:ext cx="147240" cy="249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582080" y="1067040"/>
              <a:ext cx="761040" cy="777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9960" y="457200"/>
            <a:ext cx="3278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freeze-out time dependence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C6C-B4C5-4599-9785-DE3246467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1226160" y="1219320"/>
            <a:ext cx="638352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Transverse momentum distribution --- rad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Elliptic and higher order event anisotropy --- elliptic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Charge asymmetry --- possible parity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jet suppression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--- energy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Jet modification via correlation --- feed back to bulk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Ridge, Mach-cone like structure vs triangular aniso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Controlled biases with direct photon, jet and single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 Initial temperature with thermal photon (and lepton pair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8CD-FA9B-4CC6-A243-2135BB2B3C3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84400" cy="23497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 rot="20953800">
            <a:off x="7736040" y="2300400"/>
            <a:ext cx="95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rot="2032800">
            <a:off x="6325920" y="2147400"/>
            <a:ext cx="4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rot="20878800">
            <a:off x="6705720" y="380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THIA p+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752480" y="0"/>
            <a:ext cx="3941280" cy="1882800"/>
            <a:chOff x="1752480" y="0"/>
            <a:chExt cx="3941280" cy="1882800"/>
          </a:xfrm>
        </p:grpSpPr>
        <p:sp>
          <p:nvSpPr>
            <p:cNvPr id="945" name=""/>
            <p:cNvSpPr/>
            <p:nvPr/>
          </p:nvSpPr>
          <p:spPr>
            <a:xfrm flipH="1" flipV="1">
              <a:off x="2800080" y="663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3561840" y="739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3104640" y="1044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333600" y="1197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3485520" y="5108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0" y="11970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2266560" y="358200"/>
              <a:ext cx="19814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48000" y="119700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4248000" y="11206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48000" y="119700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48000" y="119700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48000" y="11970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48000" y="11970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46160" y="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rig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01880" y="1244520"/>
              <a:ext cx="90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ar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707000" y="78408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way 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752480" y="882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52480" y="1568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72640" y="653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63400" y="1263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455640" y="615960"/>
              <a:ext cx="157320" cy="231480"/>
            </a:xfrm>
            <a:custGeom>
              <a:avLst/>
              <a:gdLst/>
              <a:ahLst/>
              <a:rect l="l" t="t" r="r" b="b"/>
              <a:pathLst>
                <a:path w="99" h="146">
                  <a:moveTo>
                    <a:pt x="99" y="0"/>
                  </a:moveTo>
                  <a:cubicBezTo>
                    <a:pt x="85" y="9"/>
                    <a:pt x="32" y="32"/>
                    <a:pt x="16" y="56"/>
                  </a:cubicBezTo>
                  <a:cubicBezTo>
                    <a:pt x="0" y="80"/>
                    <a:pt x="6" y="127"/>
                    <a:pt x="3" y="14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19400" y="1038240"/>
              <a:ext cx="457200" cy="133200"/>
            </a:xfrm>
            <a:custGeom>
              <a:avLst/>
              <a:gdLst/>
              <a:ahLst/>
              <a:rect l="l" t="t" r="r" b="b"/>
              <a:pathLst>
                <a:path w="288" h="84">
                  <a:moveTo>
                    <a:pt x="0" y="40"/>
                  </a:moveTo>
                  <a:cubicBezTo>
                    <a:pt x="16" y="33"/>
                    <a:pt x="61" y="8"/>
                    <a:pt x="96" y="4"/>
                  </a:cubicBezTo>
                  <a:cubicBezTo>
                    <a:pt x="131" y="0"/>
                    <a:pt x="176" y="3"/>
                    <a:pt x="208" y="16"/>
                  </a:cubicBezTo>
                  <a:cubicBezTo>
                    <a:pt x="240" y="29"/>
                    <a:pt x="271" y="70"/>
                    <a:pt x="288" y="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96800" y="6778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3623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969" name=""/>
          <p:cNvGrpSpPr/>
          <p:nvPr/>
        </p:nvGrpSpPr>
        <p:grpSpPr>
          <a:xfrm>
            <a:off x="7467480" y="4876920"/>
            <a:ext cx="901800" cy="609120"/>
            <a:chOff x="7467480" y="4876920"/>
            <a:chExt cx="901800" cy="609120"/>
          </a:xfrm>
        </p:grpSpPr>
        <p:sp>
          <p:nvSpPr>
            <p:cNvPr id="970" name=""/>
            <p:cNvSpPr/>
            <p:nvPr/>
          </p:nvSpPr>
          <p:spPr>
            <a:xfrm>
              <a:off x="7467480" y="4876920"/>
              <a:ext cx="533520" cy="60912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cubicBezTo>
                    <a:pt x="17" y="19"/>
                    <a:pt x="65" y="77"/>
                    <a:pt x="100" y="116"/>
                  </a:cubicBezTo>
                  <a:cubicBezTo>
                    <a:pt x="135" y="155"/>
                    <a:pt x="169" y="203"/>
                    <a:pt x="208" y="232"/>
                  </a:cubicBezTo>
                  <a:cubicBezTo>
                    <a:pt x="247" y="261"/>
                    <a:pt x="309" y="276"/>
                    <a:pt x="336" y="288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0120" y="5113800"/>
              <a:ext cx="749160" cy="279000"/>
            </a:xfrm>
            <a:custGeom>
              <a:avLst/>
              <a:gdLst/>
              <a:ahLst/>
              <a:rect l="l" t="t" r="r" b="b"/>
              <a:pathLst>
                <a:path w="472" h="132">
                  <a:moveTo>
                    <a:pt x="472" y="0"/>
                  </a:moveTo>
                  <a:cubicBezTo>
                    <a:pt x="451" y="2"/>
                    <a:pt x="389" y="1"/>
                    <a:pt x="348" y="12"/>
                  </a:cubicBezTo>
                  <a:cubicBezTo>
                    <a:pt x="307" y="23"/>
                    <a:pt x="263" y="50"/>
                    <a:pt x="228" y="64"/>
                  </a:cubicBezTo>
                  <a:cubicBezTo>
                    <a:pt x="193" y="78"/>
                    <a:pt x="174" y="85"/>
                    <a:pt x="136" y="96"/>
                  </a:cubicBezTo>
                  <a:cubicBezTo>
                    <a:pt x="98" y="107"/>
                    <a:pt x="28" y="124"/>
                    <a:pt x="0" y="13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20120" y="5105520"/>
              <a:ext cx="425160" cy="145800"/>
            </a:xfrm>
            <a:custGeom>
              <a:avLst/>
              <a:gdLst/>
              <a:ahLst/>
              <a:rect l="l" t="t" r="r" b="b"/>
              <a:pathLst>
                <a:path w="268" h="69">
                  <a:moveTo>
                    <a:pt x="0" y="0"/>
                  </a:moveTo>
                  <a:cubicBezTo>
                    <a:pt x="6" y="6"/>
                    <a:pt x="18" y="25"/>
                    <a:pt x="36" y="36"/>
                  </a:cubicBezTo>
                  <a:cubicBezTo>
                    <a:pt x="54" y="47"/>
                    <a:pt x="84" y="59"/>
                    <a:pt x="108" y="64"/>
                  </a:cubicBezTo>
                  <a:cubicBezTo>
                    <a:pt x="132" y="69"/>
                    <a:pt x="153" y="67"/>
                    <a:pt x="180" y="64"/>
                  </a:cubicBezTo>
                  <a:cubicBezTo>
                    <a:pt x="207" y="61"/>
                    <a:pt x="250" y="51"/>
                    <a:pt x="268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7437600" y="5133960"/>
            <a:ext cx="933120" cy="155520"/>
          </a:xfrm>
          <a:custGeom>
            <a:avLst/>
            <a:gdLst/>
            <a:ahLst/>
            <a:rect l="l" t="t" r="r" b="b"/>
            <a:pathLst>
              <a:path w="588" h="82">
                <a:moveTo>
                  <a:pt x="0" y="0"/>
                </a:moveTo>
                <a:cubicBezTo>
                  <a:pt x="21" y="3"/>
                  <a:pt x="88" y="14"/>
                  <a:pt x="124" y="24"/>
                </a:cubicBezTo>
                <a:cubicBezTo>
                  <a:pt x="160" y="34"/>
                  <a:pt x="179" y="51"/>
                  <a:pt x="216" y="60"/>
                </a:cubicBezTo>
                <a:cubicBezTo>
                  <a:pt x="253" y="69"/>
                  <a:pt x="301" y="82"/>
                  <a:pt x="344" y="76"/>
                </a:cubicBezTo>
                <a:cubicBezTo>
                  <a:pt x="387" y="70"/>
                  <a:pt x="435" y="37"/>
                  <a:pt x="476" y="24"/>
                </a:cubicBezTo>
                <a:cubicBezTo>
                  <a:pt x="517" y="11"/>
                  <a:pt x="565" y="5"/>
                  <a:pt x="588" y="0"/>
                </a:cubicBezTo>
              </a:path>
            </a:pathLst>
          </a:custGeom>
          <a:noFill/>
          <a:ln w="255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280" y="1905120"/>
            <a:ext cx="617220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way side of a back-to-back(b-t-b) jet is wider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than 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there are two parallel b-t-b jets, away side of one b-t-b jet can be near side of the another b-t-b 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uppression as well as modification of b-t-b jet would depend on relative angle w.r.t. almond geometry, we know this from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measurement and believe this is the major source of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t high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Therefore, there should be inter b-t-b jets correlation give by the geometry from (3), this could make near side ridge like effect, especially if the effect (3) has shaper dependence than v</a:t>
            </a:r>
            <a:r>
              <a:rPr b="0" lang="ja-JP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(=cos2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always measure inclusive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which includes the effect (3).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Therefore any modification which could generates the elliptic anisotropy would be included in the measured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e subtract BG contribution with this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from (5) by maximizing BG contribution assuming zero jet yield at minimum at any d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If near and away side jets overlap each other, this subtraction underestimates the jet yield and can change the extracted jet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If you extract angular dependence of jet w.r.t. R.P., the results will easily be affected by the choice of v</a:t>
            </a:r>
            <a:r>
              <a:rPr b="0" lang="ja-JP" sz="1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333399"/>
                </a:solidFill>
                <a:latin typeface="Times New Roman"/>
              </a:rPr>
              <a:t> from (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6477120" y="2590920"/>
            <a:ext cx="1752480" cy="2133360"/>
            <a:chOff x="6477120" y="2590920"/>
            <a:chExt cx="1752480" cy="2133360"/>
          </a:xfrm>
        </p:grpSpPr>
        <p:sp>
          <p:nvSpPr>
            <p:cNvPr id="976" name=""/>
            <p:cNvSpPr/>
            <p:nvPr/>
          </p:nvSpPr>
          <p:spPr>
            <a:xfrm>
              <a:off x="6858000" y="2819160"/>
              <a:ext cx="99072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7636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477120" y="3504960"/>
              <a:ext cx="1752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7162920" y="2590920"/>
              <a:ext cx="3808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7239240" y="2666880"/>
              <a:ext cx="38088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352680"/>
              <a:ext cx="152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29400" y="365724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477120" y="342864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629400" y="3885480"/>
              <a:ext cx="1447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82040" y="2971440"/>
              <a:ext cx="1218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705720" y="3047760"/>
              <a:ext cx="121932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629400" y="2895120"/>
              <a:ext cx="12956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782040" y="4038120"/>
              <a:ext cx="1295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77400" y="90360"/>
            <a:ext cx="111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sukub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E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D1F-8E7E-4B3C-BF27-271ADF46132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943600" cy="4697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20520" y="457200"/>
            <a:ext cx="4361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ark momentu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extracted from multi-strange hadron ratio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554880" y="1371600"/>
            <a:ext cx="2097000" cy="2514600"/>
            <a:chOff x="6554880" y="1371600"/>
            <a:chExt cx="2097000" cy="25146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594480" y="1371600"/>
              <a:ext cx="2057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597720" y="1524240"/>
              <a:ext cx="76176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4880" y="144792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Arial"/>
                </a:rPr>
                <a:t>Had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325200" y="4276800"/>
            <a:ext cx="2655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llective radial expan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uring the partonic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efore the hadronic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Quark coalescenc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combination mechani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the hadro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0880" y="1325520"/>
            <a:ext cx="188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Xiv:0801.2265 [nucl-t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462800">
            <a:off x="4005720" y="22539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-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525800">
            <a:off x="3864240" y="4006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-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200200">
            <a:off x="1678680" y="2374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-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262600">
            <a:off x="1765440" y="40827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-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915-8349-4404-BA80-31BB5E847EE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86400" y="3594240"/>
            <a:ext cx="3505320" cy="295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05480" y="3594240"/>
            <a:ext cx="804600" cy="213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48680" y="405144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6240" y="373392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160" y="304920"/>
            <a:ext cx="2769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onic col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particle identified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413000"/>
            <a:ext cx="35053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mber of constituent quark scaling in hadron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s well as multi-strange baryon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is already established during the quark phase before the hadronization. This seems to be true even for heavy quark like char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8600" y="3643200"/>
            <a:ext cx="4267080" cy="2833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29000" y="34434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M08: A.D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15200" y="3776760"/>
            <a:ext cx="609480" cy="49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733920" y="76320"/>
            <a:ext cx="5333760" cy="33112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7603200" y="76320"/>
            <a:ext cx="1464480" cy="1600200"/>
            <a:chOff x="7603200" y="76320"/>
            <a:chExt cx="1464480" cy="1600200"/>
          </a:xfrm>
        </p:grpSpPr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7620120" y="76320"/>
              <a:ext cx="14475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20120" y="150840"/>
              <a:ext cx="525240" cy="154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03200" y="7632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Had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BFB-CE8F-40B2-B3CE-04252A37CF5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40" y="1676520"/>
            <a:ext cx="4554360" cy="437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97280" y="487440"/>
            <a:ext cx="4446720" cy="5532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360" y="304920"/>
            <a:ext cx="43916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er order anisotropy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s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relation with hydro expansion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143000"/>
            <a:ext cx="6858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143000"/>
            <a:ext cx="6858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6858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143000"/>
            <a:ext cx="6858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1218960" y="1294920"/>
            <a:ext cx="685800" cy="3808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1219320"/>
            <a:ext cx="620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4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4760" y="1219320"/>
            <a:ext cx="610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219320"/>
            <a:ext cx="53352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8029200">
            <a:off x="2895480" y="1230120"/>
            <a:ext cx="533160" cy="53352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533520"/>
              <a:gd name="textAreaBottom" fmla="*/ 507600 h 53352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1218960" y="1294920"/>
            <a:ext cx="6858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57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L105, 062301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6CF-1B80-40FB-91E5-008DC4D6840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6172200" cy="576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rcRect l="0" t="64107" r="19973" b="2564"/>
          <a:stretch/>
        </p:blipFill>
        <p:spPr>
          <a:xfrm>
            <a:off x="76320" y="1260360"/>
            <a:ext cx="3047760" cy="232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9840" y="289080"/>
            <a:ext cx="331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 violation sig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charge asymmetry w.r.t. R.P.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32"/>
          <p:cNvGrpSpPr/>
          <p:nvPr/>
        </p:nvGrpSpPr>
        <p:grpSpPr>
          <a:xfrm>
            <a:off x="152280" y="3505320"/>
            <a:ext cx="3200400" cy="2209320"/>
            <a:chOff x="152280" y="3505320"/>
            <a:chExt cx="3200400" cy="2209320"/>
          </a:xfrm>
        </p:grpSpPr>
        <p:sp>
          <p:nvSpPr>
            <p:cNvPr id="152" name="AutoShape 133"/>
            <p:cNvSpPr/>
            <p:nvPr/>
          </p:nvSpPr>
          <p:spPr>
            <a:xfrm rot="10800000">
              <a:off x="2543400" y="3505320"/>
              <a:ext cx="353160" cy="3096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4"/>
            <p:cNvSpPr/>
            <p:nvPr/>
          </p:nvSpPr>
          <p:spPr>
            <a:xfrm flipH="1">
              <a:off x="725760" y="3828960"/>
              <a:ext cx="613440" cy="9183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5"/>
            <p:cNvSpPr/>
            <p:nvPr/>
          </p:nvSpPr>
          <p:spPr>
            <a:xfrm flipH="1">
              <a:off x="1022400" y="3828960"/>
              <a:ext cx="601200" cy="9046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6"/>
            <p:cNvSpPr/>
            <p:nvPr/>
          </p:nvSpPr>
          <p:spPr>
            <a:xfrm>
              <a:off x="1212480" y="4020840"/>
              <a:ext cx="2015280" cy="25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7"/>
            <p:cNvSpPr/>
            <p:nvPr/>
          </p:nvSpPr>
          <p:spPr>
            <a:xfrm>
              <a:off x="1163520" y="4984560"/>
              <a:ext cx="1416240" cy="1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38"/>
            <p:cNvSpPr/>
            <p:nvPr/>
          </p:nvSpPr>
          <p:spPr>
            <a:xfrm>
              <a:off x="152280" y="3823560"/>
              <a:ext cx="3200400" cy="1784880"/>
            </a:xfrm>
            <a:prstGeom prst="pi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9"/>
            <p:cNvSpPr/>
            <p:nvPr/>
          </p:nvSpPr>
          <p:spPr>
            <a:xfrm flipH="1">
              <a:off x="152280" y="5224320"/>
              <a:ext cx="256320" cy="388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0"/>
            <p:cNvSpPr/>
            <p:nvPr/>
          </p:nvSpPr>
          <p:spPr>
            <a:xfrm flipH="1">
              <a:off x="1163520" y="3828960"/>
              <a:ext cx="745920" cy="11188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41"/>
            <p:cNvSpPr/>
            <p:nvPr/>
          </p:nvSpPr>
          <p:spPr>
            <a:xfrm flipH="1">
              <a:off x="1135800" y="4841280"/>
              <a:ext cx="246240" cy="7110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42"/>
            <p:cNvSpPr/>
            <p:nvPr/>
          </p:nvSpPr>
          <p:spPr>
            <a:xfrm flipH="1">
              <a:off x="1000800" y="4782600"/>
              <a:ext cx="548280" cy="8229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43"/>
            <p:cNvGrpSpPr/>
            <p:nvPr/>
          </p:nvGrpSpPr>
          <p:grpSpPr>
            <a:xfrm>
              <a:off x="1983600" y="3660480"/>
              <a:ext cx="1015200" cy="996480"/>
              <a:chOff x="1983600" y="3660480"/>
              <a:chExt cx="1015200" cy="996480"/>
            </a:xfrm>
          </p:grpSpPr>
          <p:grpSp>
            <p:nvGrpSpPr>
              <p:cNvPr id="163" name="Group 144"/>
              <p:cNvGrpSpPr/>
              <p:nvPr/>
            </p:nvGrpSpPr>
            <p:grpSpPr>
              <a:xfrm>
                <a:off x="1983600" y="3660480"/>
                <a:ext cx="1015200" cy="996480"/>
                <a:chOff x="1983600" y="3660480"/>
                <a:chExt cx="1015200" cy="996480"/>
              </a:xfrm>
            </p:grpSpPr>
            <p:sp>
              <p:nvSpPr>
                <p:cNvPr id="164" name="Oval 145"/>
                <p:cNvSpPr/>
                <p:nvPr/>
              </p:nvSpPr>
              <p:spPr>
                <a:xfrm>
                  <a:off x="2005200" y="3661200"/>
                  <a:ext cx="970560" cy="98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146"/>
                <p:cNvSpPr/>
                <p:nvPr/>
              </p:nvSpPr>
              <p:spPr>
                <a:xfrm>
                  <a:off x="2005200" y="3660480"/>
                  <a:ext cx="970560" cy="981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147"/>
                <p:cNvSpPr/>
                <p:nvPr/>
              </p:nvSpPr>
              <p:spPr>
                <a:xfrm>
                  <a:off x="1983600" y="4067280"/>
                  <a:ext cx="1015200" cy="58968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AutoShape 148"/>
                <p:cNvSpPr/>
                <p:nvPr/>
              </p:nvSpPr>
              <p:spPr>
                <a:xfrm>
                  <a:off x="2005200" y="4084560"/>
                  <a:ext cx="969120" cy="2566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AutoShape 149"/>
              <p:cNvSpPr/>
              <p:nvPr/>
            </p:nvSpPr>
            <p:spPr>
              <a:xfrm>
                <a:off x="2000520" y="3801240"/>
                <a:ext cx="246960" cy="708840"/>
              </a:xfrm>
              <a:prstGeom prst="pie">
                <a:avLst/>
              </a:prstGeom>
              <a:solidFill>
                <a:srgbClr val="ffffff"/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150"/>
            <p:cNvSpPr/>
            <p:nvPr/>
          </p:nvSpPr>
          <p:spPr>
            <a:xfrm>
              <a:off x="1354680" y="3824640"/>
              <a:ext cx="828720" cy="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1"/>
            <p:cNvSpPr/>
            <p:nvPr/>
          </p:nvSpPr>
          <p:spPr>
            <a:xfrm>
              <a:off x="1656720" y="4022640"/>
              <a:ext cx="594720" cy="1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2"/>
            <p:cNvSpPr/>
            <p:nvPr/>
          </p:nvSpPr>
          <p:spPr>
            <a:xfrm>
              <a:off x="1081440" y="4213440"/>
              <a:ext cx="1180080" cy="1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3"/>
            <p:cNvSpPr/>
            <p:nvPr/>
          </p:nvSpPr>
          <p:spPr>
            <a:xfrm flipH="1">
              <a:off x="1938240" y="4140000"/>
              <a:ext cx="321840" cy="4820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4"/>
            <p:cNvSpPr/>
            <p:nvPr/>
          </p:nvSpPr>
          <p:spPr>
            <a:xfrm>
              <a:off x="937080" y="4447440"/>
              <a:ext cx="2018160" cy="39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5"/>
            <p:cNvSpPr/>
            <p:nvPr/>
          </p:nvSpPr>
          <p:spPr>
            <a:xfrm flipH="1">
              <a:off x="1003320" y="3824640"/>
              <a:ext cx="1181160" cy="17780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56"/>
            <p:cNvSpPr/>
            <p:nvPr/>
          </p:nvSpPr>
          <p:spPr>
            <a:xfrm>
              <a:off x="823680" y="4598640"/>
              <a:ext cx="2019240" cy="39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57"/>
            <p:cNvGrpSpPr/>
            <p:nvPr/>
          </p:nvGrpSpPr>
          <p:grpSpPr>
            <a:xfrm>
              <a:off x="1458000" y="4218840"/>
              <a:ext cx="482760" cy="983880"/>
              <a:chOff x="1458000" y="4218840"/>
              <a:chExt cx="482760" cy="983880"/>
            </a:xfrm>
          </p:grpSpPr>
          <p:sp>
            <p:nvSpPr>
              <p:cNvPr id="177" name="Oval 158"/>
              <p:cNvSpPr/>
              <p:nvPr/>
            </p:nvSpPr>
            <p:spPr>
              <a:xfrm>
                <a:off x="1458000" y="4219560"/>
                <a:ext cx="482760" cy="98316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59"/>
              <p:cNvSpPr/>
              <p:nvPr/>
            </p:nvSpPr>
            <p:spPr>
              <a:xfrm>
                <a:off x="1458000" y="4694760"/>
                <a:ext cx="482760" cy="5068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60"/>
              <p:cNvSpPr/>
              <p:nvPr/>
            </p:nvSpPr>
            <p:spPr>
              <a:xfrm>
                <a:off x="1458000" y="4691160"/>
                <a:ext cx="481320" cy="1094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61"/>
              <p:cNvSpPr/>
              <p:nvPr/>
            </p:nvSpPr>
            <p:spPr>
              <a:xfrm>
                <a:off x="1458000" y="4218840"/>
                <a:ext cx="482760" cy="983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162"/>
            <p:cNvSpPr/>
            <p:nvPr/>
          </p:nvSpPr>
          <p:spPr>
            <a:xfrm flipH="1">
              <a:off x="1870200" y="4272120"/>
              <a:ext cx="886680" cy="1333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3"/>
            <p:cNvSpPr/>
            <p:nvPr/>
          </p:nvSpPr>
          <p:spPr>
            <a:xfrm flipH="1">
              <a:off x="1584720" y="4346640"/>
              <a:ext cx="836640" cy="12560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4"/>
            <p:cNvSpPr/>
            <p:nvPr/>
          </p:nvSpPr>
          <p:spPr>
            <a:xfrm>
              <a:off x="1783800" y="4790880"/>
              <a:ext cx="928080" cy="25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5"/>
            <p:cNvSpPr/>
            <p:nvPr/>
          </p:nvSpPr>
          <p:spPr>
            <a:xfrm flipH="1">
              <a:off x="1284120" y="4766760"/>
              <a:ext cx="562320" cy="8427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66"/>
            <p:cNvSpPr/>
            <p:nvPr/>
          </p:nvSpPr>
          <p:spPr>
            <a:xfrm flipH="1">
              <a:off x="1412280" y="4781160"/>
              <a:ext cx="137160" cy="207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7"/>
            <p:cNvSpPr/>
            <p:nvPr/>
          </p:nvSpPr>
          <p:spPr>
            <a:xfrm>
              <a:off x="1103040" y="4790880"/>
              <a:ext cx="470520" cy="25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68"/>
            <p:cNvGrpSpPr/>
            <p:nvPr/>
          </p:nvGrpSpPr>
          <p:grpSpPr>
            <a:xfrm>
              <a:off x="397440" y="4709520"/>
              <a:ext cx="1003680" cy="999720"/>
              <a:chOff x="397440" y="4709520"/>
              <a:chExt cx="1003680" cy="999720"/>
            </a:xfrm>
          </p:grpSpPr>
          <p:sp>
            <p:nvSpPr>
              <p:cNvPr id="188" name="Oval 169"/>
              <p:cNvSpPr/>
              <p:nvPr/>
            </p:nvSpPr>
            <p:spPr>
              <a:xfrm>
                <a:off x="411120" y="4710240"/>
                <a:ext cx="972720" cy="983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70"/>
              <p:cNvSpPr/>
              <p:nvPr/>
            </p:nvSpPr>
            <p:spPr>
              <a:xfrm>
                <a:off x="408600" y="4709520"/>
                <a:ext cx="971640" cy="983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171"/>
              <p:cNvSpPr/>
              <p:nvPr/>
            </p:nvSpPr>
            <p:spPr>
              <a:xfrm>
                <a:off x="397440" y="5124240"/>
                <a:ext cx="1003680" cy="5850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172"/>
              <p:cNvSpPr/>
              <p:nvPr/>
            </p:nvSpPr>
            <p:spPr>
              <a:xfrm flipH="1">
                <a:off x="1136880" y="4834440"/>
                <a:ext cx="246960" cy="70992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73"/>
              <p:cNvSpPr/>
              <p:nvPr/>
            </p:nvSpPr>
            <p:spPr>
              <a:xfrm>
                <a:off x="1112760" y="4830840"/>
                <a:ext cx="110880" cy="72036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4"/>
              <p:cNvSpPr/>
              <p:nvPr/>
            </p:nvSpPr>
            <p:spPr>
              <a:xfrm>
                <a:off x="411120" y="5213160"/>
                <a:ext cx="782640" cy="178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175"/>
            <p:cNvSpPr/>
            <p:nvPr/>
          </p:nvSpPr>
          <p:spPr>
            <a:xfrm flipH="1">
              <a:off x="1172160" y="4601520"/>
              <a:ext cx="223920" cy="3351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6"/>
            <p:cNvSpPr/>
            <p:nvPr/>
          </p:nvSpPr>
          <p:spPr>
            <a:xfrm>
              <a:off x="1162440" y="4985640"/>
              <a:ext cx="1249200" cy="1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77"/>
            <p:cNvSpPr/>
            <p:nvPr/>
          </p:nvSpPr>
          <p:spPr>
            <a:xfrm>
              <a:off x="1070640" y="5365800"/>
              <a:ext cx="1253880" cy="43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78"/>
            <p:cNvSpPr/>
            <p:nvPr/>
          </p:nvSpPr>
          <p:spPr>
            <a:xfrm>
              <a:off x="1145880" y="5176440"/>
              <a:ext cx="1323360" cy="25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79"/>
            <p:cNvSpPr/>
            <p:nvPr/>
          </p:nvSpPr>
          <p:spPr>
            <a:xfrm flipH="1">
              <a:off x="998640" y="4973400"/>
              <a:ext cx="422640" cy="6364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0"/>
            <p:cNvSpPr/>
            <p:nvPr/>
          </p:nvSpPr>
          <p:spPr>
            <a:xfrm flipH="1">
              <a:off x="724320" y="5402160"/>
              <a:ext cx="139680" cy="2073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81"/>
            <p:cNvSpPr/>
            <p:nvPr/>
          </p:nvSpPr>
          <p:spPr>
            <a:xfrm flipH="1">
              <a:off x="443520" y="5354640"/>
              <a:ext cx="164520" cy="2505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2"/>
            <p:cNvSpPr/>
            <p:nvPr/>
          </p:nvSpPr>
          <p:spPr>
            <a:xfrm>
              <a:off x="190800" y="5608440"/>
              <a:ext cx="1972800" cy="396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83"/>
            <p:cNvSpPr/>
            <p:nvPr/>
          </p:nvSpPr>
          <p:spPr>
            <a:xfrm>
              <a:off x="484200" y="5406480"/>
              <a:ext cx="354600" cy="3081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84"/>
            <p:cNvGrpSpPr/>
            <p:nvPr/>
          </p:nvGrpSpPr>
          <p:grpSpPr>
            <a:xfrm>
              <a:off x="1178280" y="4177800"/>
              <a:ext cx="1086120" cy="540720"/>
              <a:chOff x="1178280" y="4177800"/>
              <a:chExt cx="1086120" cy="540720"/>
            </a:xfrm>
          </p:grpSpPr>
          <p:sp>
            <p:nvSpPr>
              <p:cNvPr id="204" name="Line 185"/>
              <p:cNvSpPr/>
              <p:nvPr/>
            </p:nvSpPr>
            <p:spPr>
              <a:xfrm flipV="1">
                <a:off x="1761840" y="4280760"/>
                <a:ext cx="65160" cy="1616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86"/>
              <p:cNvSpPr/>
              <p:nvPr/>
            </p:nvSpPr>
            <p:spPr>
              <a:xfrm flipV="1">
                <a:off x="1881000" y="4177800"/>
                <a:ext cx="170280" cy="244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87"/>
              <p:cNvSpPr/>
              <p:nvPr/>
            </p:nvSpPr>
            <p:spPr>
              <a:xfrm flipV="1">
                <a:off x="1956600" y="4444560"/>
                <a:ext cx="267840" cy="1195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88"/>
              <p:cNvSpPr/>
              <p:nvPr/>
            </p:nvSpPr>
            <p:spPr>
              <a:xfrm flipV="1">
                <a:off x="1955880" y="4636080"/>
                <a:ext cx="308520" cy="327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89"/>
              <p:cNvSpPr/>
              <p:nvPr/>
            </p:nvSpPr>
            <p:spPr>
              <a:xfrm flipH="1" flipV="1">
                <a:off x="1285560" y="4219920"/>
                <a:ext cx="276480" cy="1969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90"/>
              <p:cNvSpPr/>
              <p:nvPr/>
            </p:nvSpPr>
            <p:spPr>
              <a:xfrm flipH="1" flipV="1">
                <a:off x="1198800" y="4463280"/>
                <a:ext cx="300240" cy="1213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91"/>
              <p:cNvSpPr/>
              <p:nvPr/>
            </p:nvSpPr>
            <p:spPr>
              <a:xfrm flipH="1" flipV="1">
                <a:off x="1178280" y="4709520"/>
                <a:ext cx="266760" cy="90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92"/>
              <p:cNvSpPr/>
              <p:nvPr/>
            </p:nvSpPr>
            <p:spPr>
              <a:xfrm flipH="1" flipV="1">
                <a:off x="1424160" y="4628880"/>
                <a:ext cx="191520" cy="331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93"/>
              <p:cNvSpPr/>
              <p:nvPr/>
            </p:nvSpPr>
            <p:spPr>
              <a:xfrm flipH="1" flipV="1">
                <a:off x="1445040" y="4428360"/>
                <a:ext cx="170280" cy="86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94"/>
              <p:cNvSpPr/>
              <p:nvPr/>
            </p:nvSpPr>
            <p:spPr>
              <a:xfrm flipH="1" flipV="1">
                <a:off x="1615320" y="4317480"/>
                <a:ext cx="63000" cy="1249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95"/>
              <p:cNvSpPr/>
              <p:nvPr/>
            </p:nvSpPr>
            <p:spPr>
              <a:xfrm flipV="1">
                <a:off x="1828080" y="4417200"/>
                <a:ext cx="116640" cy="698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96"/>
              <p:cNvSpPr/>
              <p:nvPr/>
            </p:nvSpPr>
            <p:spPr>
              <a:xfrm flipV="1">
                <a:off x="1818720" y="4586400"/>
                <a:ext cx="191520" cy="198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97"/>
              <p:cNvSpPr/>
              <p:nvPr/>
            </p:nvSpPr>
            <p:spPr>
              <a:xfrm flipH="1" flipV="1">
                <a:off x="1584360" y="4549680"/>
                <a:ext cx="106920" cy="565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98"/>
            <p:cNvGrpSpPr/>
            <p:nvPr/>
          </p:nvGrpSpPr>
          <p:grpSpPr>
            <a:xfrm>
              <a:off x="1178280" y="4830120"/>
              <a:ext cx="1026360" cy="491760"/>
              <a:chOff x="1178280" y="4830120"/>
              <a:chExt cx="1026360" cy="491760"/>
            </a:xfrm>
          </p:grpSpPr>
          <p:sp>
            <p:nvSpPr>
              <p:cNvPr id="218" name="Line 199"/>
              <p:cNvSpPr/>
              <p:nvPr/>
            </p:nvSpPr>
            <p:spPr>
              <a:xfrm flipH="1">
                <a:off x="1557360" y="5023440"/>
                <a:ext cx="69480" cy="19476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200"/>
              <p:cNvSpPr/>
              <p:nvPr/>
            </p:nvSpPr>
            <p:spPr>
              <a:xfrm flipH="1">
                <a:off x="1345680" y="5096880"/>
                <a:ext cx="167040" cy="22500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201"/>
              <p:cNvSpPr/>
              <p:nvPr/>
            </p:nvSpPr>
            <p:spPr>
              <a:xfrm flipH="1">
                <a:off x="1178280" y="4969800"/>
                <a:ext cx="261000" cy="10980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202"/>
              <p:cNvSpPr/>
              <p:nvPr/>
            </p:nvSpPr>
            <p:spPr>
              <a:xfrm flipH="1">
                <a:off x="1241640" y="4873320"/>
                <a:ext cx="198720" cy="2304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203"/>
              <p:cNvSpPr/>
              <p:nvPr/>
            </p:nvSpPr>
            <p:spPr>
              <a:xfrm>
                <a:off x="1829160" y="5105160"/>
                <a:ext cx="271440" cy="18000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04"/>
              <p:cNvSpPr/>
              <p:nvPr/>
            </p:nvSpPr>
            <p:spPr>
              <a:xfrm>
                <a:off x="1890360" y="4951800"/>
                <a:ext cx="294840" cy="10980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5"/>
              <p:cNvSpPr/>
              <p:nvPr/>
            </p:nvSpPr>
            <p:spPr>
              <a:xfrm>
                <a:off x="1944000" y="4830120"/>
                <a:ext cx="260640" cy="64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06"/>
              <p:cNvSpPr/>
              <p:nvPr/>
            </p:nvSpPr>
            <p:spPr>
              <a:xfrm>
                <a:off x="1776600" y="4881600"/>
                <a:ext cx="188280" cy="298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07"/>
              <p:cNvSpPr/>
              <p:nvPr/>
            </p:nvSpPr>
            <p:spPr>
              <a:xfrm>
                <a:off x="1776600" y="5016960"/>
                <a:ext cx="167040" cy="766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8"/>
              <p:cNvSpPr/>
              <p:nvPr/>
            </p:nvSpPr>
            <p:spPr>
              <a:xfrm>
                <a:off x="1714680" y="5078520"/>
                <a:ext cx="61920" cy="11484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09"/>
              <p:cNvSpPr/>
              <p:nvPr/>
            </p:nvSpPr>
            <p:spPr>
              <a:xfrm flipH="1">
                <a:off x="1450800" y="5041800"/>
                <a:ext cx="114840" cy="6336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10"/>
              <p:cNvSpPr/>
              <p:nvPr/>
            </p:nvSpPr>
            <p:spPr>
              <a:xfrm flipH="1">
                <a:off x="1388520" y="4930200"/>
                <a:ext cx="188280" cy="1980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11"/>
              <p:cNvSpPr/>
              <p:nvPr/>
            </p:nvSpPr>
            <p:spPr>
              <a:xfrm>
                <a:off x="1699560" y="4931640"/>
                <a:ext cx="105120" cy="496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Line 212"/>
            <p:cNvSpPr/>
            <p:nvPr/>
          </p:nvSpPr>
          <p:spPr>
            <a:xfrm>
              <a:off x="314280" y="5368680"/>
              <a:ext cx="326880" cy="1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3"/>
            <p:cNvSpPr/>
            <p:nvPr/>
          </p:nvSpPr>
          <p:spPr>
            <a:xfrm>
              <a:off x="2848320" y="4214520"/>
              <a:ext cx="246240" cy="1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14"/>
            <p:cNvSpPr/>
            <p:nvPr/>
          </p:nvSpPr>
          <p:spPr>
            <a:xfrm flipH="1">
              <a:off x="2953440" y="3824640"/>
              <a:ext cx="100440" cy="15408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15"/>
            <p:cNvSpPr/>
            <p:nvPr/>
          </p:nvSpPr>
          <p:spPr>
            <a:xfrm>
              <a:off x="1601280" y="4379760"/>
              <a:ext cx="181080" cy="201600"/>
            </a:xfrm>
            <a:prstGeom prst="plus">
              <a:avLst>
                <a:gd name="adj" fmla="val 3472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16"/>
            <p:cNvSpPr/>
            <p:nvPr/>
          </p:nvSpPr>
          <p:spPr>
            <a:xfrm>
              <a:off x="1601280" y="4918680"/>
              <a:ext cx="181080" cy="66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17"/>
            <p:cNvSpPr/>
            <p:nvPr/>
          </p:nvSpPr>
          <p:spPr>
            <a:xfrm>
              <a:off x="1646640" y="3625560"/>
              <a:ext cx="120960" cy="471240"/>
            </a:xfrm>
            <a:prstGeom prst="upArrow">
              <a:avLst>
                <a:gd name="adj1" fmla="val 50000"/>
                <a:gd name="adj2" fmla="val 973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18"/>
            <p:cNvSpPr/>
            <p:nvPr/>
          </p:nvSpPr>
          <p:spPr>
            <a:xfrm>
              <a:off x="1057680" y="3656520"/>
              <a:ext cx="499320" cy="231120"/>
            </a:xfrm>
            <a:prstGeom prst="rect">
              <a:avLst/>
            </a:prstGeom>
            <a:solidFill>
              <a:srgbClr val="ffffcc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2a7e50"/>
                  </a:solidFill>
                  <a:latin typeface="Arial"/>
                </a:rPr>
                <a:t>L</a:t>
              </a:r>
              <a:r>
                <a:rPr b="0" lang="en-US" sz="900" spc="-1" strike="noStrike">
                  <a:solidFill>
                    <a:srgbClr val="2a7e50"/>
                  </a:solidFill>
                  <a:latin typeface="Arial"/>
                </a:rPr>
                <a:t> or </a:t>
              </a:r>
              <a:r>
                <a:rPr b="1" i="1" lang="en-US" sz="900" spc="-1" strike="noStrike">
                  <a:solidFill>
                    <a:srgbClr val="2a7e5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523880" y="586728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uqiang Wa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769-8352-482D-B0BC-122CE78CCC0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495680" cy="3287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613400" cy="329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627600" y="533412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672160" y="76320"/>
            <a:ext cx="3090960" cy="2697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67040" y="1776240"/>
            <a:ext cx="2362320" cy="824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Arial"/>
              </a:rPr>
              <a:t>Energy loss for quark </a:t>
            </a:r>
            <a:br>
              <a:rPr sz="1600"/>
            </a:br>
            <a:r>
              <a:rPr b="1" lang="de-DE" sz="1600" spc="-1" strike="noStrike">
                <a:solidFill>
                  <a:srgbClr val="cc0000"/>
                </a:solidFill>
                <a:latin typeface="Arial"/>
              </a:rPr>
              <a:t>and gluon jets (similar even for heavy qua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977080" y="1752480"/>
            <a:ext cx="1143000" cy="39384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67040" y="455760"/>
            <a:ext cx="2438640" cy="3373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No energy loss for </a:t>
            </a:r>
            <a:r>
              <a:rPr b="1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‘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29360" y="685800"/>
            <a:ext cx="11430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80880" y="1730520"/>
                <a:ext cx="2971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387720" y="380880"/>
            <a:ext cx="4722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et quen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energy loss of parton in QGP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difference between hadron and direct photon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 rot="16200000">
            <a:off x="24840" y="3233520"/>
            <a:ext cx="6606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 rot="16200000">
            <a:off x="4293720" y="3030480"/>
            <a:ext cx="5079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8305560" y="4343040"/>
            <a:ext cx="685800" cy="380880"/>
          </a:xfrm>
          <a:prstGeom prst="ellipse">
            <a:avLst/>
          </a:prstGeom>
          <a:solidFill>
            <a:srgbClr val="e3e25a"/>
          </a:solidFill>
          <a:ln w="2556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D63-022D-4BFA-A514-D24D5EDDFC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100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02480" y="380880"/>
            <a:ext cx="69688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icle species dependence of suppression (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some quark flavor difference?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93B-7013-4807-A1E8-8A50F5D3F31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62320" y="947880"/>
            <a:ext cx="6325920" cy="540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23720" y="241200"/>
            <a:ext cx="75276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nderstanding of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imultaneous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-- assumption of a common origin : energy los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7621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L105, 142301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5627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iangyong J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aftern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2514600"/>
            <a:ext cx="2590920" cy="1773360"/>
            <a:chOff x="0" y="2514600"/>
            <a:chExt cx="2590920" cy="177336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0" y="2514600"/>
              <a:ext cx="259092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0" y="4148280"/>
              <a:ext cx="259092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996120" y="4287960"/>
            <a:ext cx="887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480" y="4952880"/>
            <a:ext cx="2606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dels explaining measured R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do not usually explain measured v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E9E-2626-4F3B-8252-152824B3D2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10, 18/Oct/2010, Wuhan, Chi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1:24:54Z</dcterms:created>
  <dc:creator>Esumi ShinIchi</dc:creator>
  <dc:description/>
  <dc:language>en-US</dc:language>
  <cp:lastModifiedBy>Esumi ShinIchi</cp:lastModifiedBy>
  <dcterms:modified xsi:type="dcterms:W3CDTF">2010-10-18T00:07:53Z</dcterms:modified>
  <cp:revision>30</cp:revision>
  <dc:subject/>
  <dc:title>Thermal freeze-out</dc:title>
</cp:coreProperties>
</file>