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61726-75AA-4CB4-BB6E-448B00AB41C3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CDA0B-E9B7-4BFA-A974-41A4978653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4A2AB-0665-475A-BE7A-8C75FD83D9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E81F8-8DF5-4F59-B8DD-7E7E3F6DEF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FA8-F38F-43DE-AE2E-8AAB6DA1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92962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553920"/>
            <a:ext cx="92962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21C-B549-4B3A-867E-9488C99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08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539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080" y="35539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58E-6062-40F1-8BFF-ED88456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7720" y="9907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0880" y="9907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5539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7720" y="35539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0880" y="3553920"/>
            <a:ext cx="29930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6A6-AE5C-46EE-9D70-E3B49448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6DB-71CD-45C3-88CF-C9746E0D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537-757D-422F-81E6-703D39A4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53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080" y="990720"/>
            <a:ext cx="453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87D-5435-4BB1-8093-5EF2AB02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DDF-9708-4DD5-BE8A-98F4F771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92962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1B0-1D1E-43D1-9D1F-54DAB53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080" y="990720"/>
            <a:ext cx="453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5539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FCC-BCE1-41B7-9757-E405E44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53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08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080" y="35539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4F6-CCE8-4314-B0EB-EBF8729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080" y="990720"/>
            <a:ext cx="45363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553920"/>
            <a:ext cx="92962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24E-58B4-4164-B30E-166455A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7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28600">
              <a:spcBef>
                <a:spcPts val="601"/>
              </a:spcBef>
              <a:buClr>
                <a:srgbClr val="000000"/>
              </a:buClr>
              <a:buFont typeface="ヒラギノ角ゴ ProN W3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617400" indent="-228600"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228600">
              <a:spcBef>
                <a:spcPts val="601"/>
              </a:spcBef>
              <a:buClr>
                <a:srgbClr val="558ed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AD903-E24B-4A5D-957F-1BBDFD40A5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particle correlations with higher harmonic reaction plane in Au+Au 200 GeV collisions at RHIC-PHEN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27672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. Todoroki for the                      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Tsukuba, RIKEN Nishina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PS 2011 Autumn Meeting at Hirosaki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ッター プレースホルダ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スライド番号プレースホルダ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A7C9A-3887-4EA8-80F2-50E57801D0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"/>
          <p:cNvPicPr/>
          <p:nvPr/>
        </p:nvPicPr>
        <p:blipFill>
          <a:blip r:embed="rId1"/>
          <a:stretch/>
        </p:blipFill>
        <p:spPr>
          <a:xfrm>
            <a:off x="2514600" y="4940280"/>
            <a:ext cx="2374920" cy="660600"/>
          </a:xfrm>
          <a:prstGeom prst="rect">
            <a:avLst/>
          </a:prstGeom>
          <a:ln w="0">
            <a:noFill/>
          </a:ln>
        </p:spPr>
      </p:pic>
      <p:pic>
        <p:nvPicPr>
          <p:cNvPr id="54" name="図 7" descr=""/>
          <p:cNvPicPr/>
          <p:nvPr/>
        </p:nvPicPr>
        <p:blipFill>
          <a:blip r:embed="rId2"/>
          <a:stretch/>
        </p:blipFill>
        <p:spPr>
          <a:xfrm>
            <a:off x="5460840" y="4800600"/>
            <a:ext cx="2082960" cy="901800"/>
          </a:xfrm>
          <a:prstGeom prst="rect">
            <a:avLst/>
          </a:prstGeom>
          <a:ln w="0">
            <a:noFill/>
          </a:ln>
        </p:spPr>
      </p:pic>
      <p:pic>
        <p:nvPicPr>
          <p:cNvPr id="55" name="図 8" descr=""/>
          <p:cNvPicPr/>
          <p:nvPr/>
        </p:nvPicPr>
        <p:blipFill>
          <a:blip r:embed="rId3"/>
          <a:stretch/>
        </p:blipFill>
        <p:spPr>
          <a:xfrm>
            <a:off x="4525920" y="3200400"/>
            <a:ext cx="14619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図 15" descr=""/>
          <p:cNvPicPr/>
          <p:nvPr/>
        </p:nvPicPr>
        <p:blipFill>
          <a:blip r:embed="rId1"/>
          <a:stretch/>
        </p:blipFill>
        <p:spPr>
          <a:xfrm>
            <a:off x="441360" y="833400"/>
            <a:ext cx="8854920" cy="4195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ting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low subtrac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96984-EB88-462E-9033-7614F34567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図形グループ 11"/>
          <p:cNvGrpSpPr/>
          <p:nvPr/>
        </p:nvGrpSpPr>
        <p:grpSpPr>
          <a:xfrm>
            <a:off x="1359000" y="1147680"/>
            <a:ext cx="3627360" cy="381240"/>
            <a:chOff x="1359000" y="1147680"/>
            <a:chExt cx="3627360" cy="381240"/>
          </a:xfrm>
        </p:grpSpPr>
        <p:pic>
          <p:nvPicPr>
            <p:cNvPr id="187" name="図 11" descr=""/>
            <p:cNvPicPr/>
            <p:nvPr/>
          </p:nvPicPr>
          <p:blipFill>
            <a:blip r:embed="rId2"/>
            <a:stretch/>
          </p:blipFill>
          <p:spPr>
            <a:xfrm>
              <a:off x="2666880" y="1165320"/>
              <a:ext cx="23194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0"/>
            <p:cNvSpPr/>
            <p:nvPr/>
          </p:nvSpPr>
          <p:spPr>
            <a:xfrm>
              <a:off x="1359000" y="1147680"/>
              <a:ext cx="14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it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13"/>
          <p:cNvSpPr/>
          <p:nvPr/>
        </p:nvSpPr>
        <p:spPr>
          <a:xfrm>
            <a:off x="3733920" y="1538280"/>
            <a:ext cx="2743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3,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co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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=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/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2044800" y="1562040"/>
            <a:ext cx="176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2050920" y="188604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rk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419720" y="20620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560" y="4965480"/>
            <a:ext cx="929628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survives both in central and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has plus value in central but does almost 0 in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dip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s emphasize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7724880" y="8017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s indicates systematic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&amp; Out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560" y="9907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Measured v2, v3 and v4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22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} ZYAM subtracted correlations withi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</a:t>
            </a:r>
            <a:r>
              <a:rPr b="0" lang="en-US" sz="2200" spc="-1" strike="noStrike">
                <a:solidFill>
                  <a:srgbClr val="000000"/>
                </a:solidFill>
                <a:latin typeface="Calibri (本文)"/>
                <a:ea typeface="Calibri (本文)"/>
              </a:rPr>
              <a:t> up to centrality 5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er almost disappeared in central collisions as bef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” shoulder emerge in peripheral coll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survives in both in central and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survives in central but disappeared in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17400" indent="-228600"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dip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s emphasized at peripher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28600">
              <a:spcBef>
                <a:spcPts val="550"/>
              </a:spcBef>
              <a:buClr>
                <a:srgbClr val="000000"/>
              </a:buClr>
              <a:buFont typeface="ヒラギノ角ゴ ProN W3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relatively-large systematic error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utlo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reduce systematic error wid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ore peripheral centrality r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159A1-F6B1-43BB-A6ED-70D75657B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48436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ckup Sli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F284E-70A8-4F70-87A8-CA60AB952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図 7" descr=""/>
          <p:cNvPicPr/>
          <p:nvPr/>
        </p:nvPicPr>
        <p:blipFill>
          <a:blip r:embed="rId1"/>
          <a:stretch/>
        </p:blipFill>
        <p:spPr>
          <a:xfrm>
            <a:off x="5334120" y="1116000"/>
            <a:ext cx="4390920" cy="4903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resolutio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orrel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560" y="990720"/>
            <a:ext cx="9296280" cy="4906800"/>
          </a:xfrm>
          <a:prstGeom prst="rect">
            <a:avLst/>
          </a:prstGeom>
          <a:ln w="0">
            <a:noFill/>
          </a:ln>
        </p:spPr>
      </p:pic>
      <p:sp>
        <p:nvSpPr>
          <p:cNvPr id="207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AF575-6DA7-4053-9310-45773FF56B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図 6" descr=""/>
          <p:cNvPicPr/>
          <p:nvPr/>
        </p:nvPicPr>
        <p:blipFill>
          <a:blip r:embed="rId3"/>
          <a:stretch/>
        </p:blipFill>
        <p:spPr>
          <a:xfrm>
            <a:off x="281160" y="1407960"/>
            <a:ext cx="5433840" cy="40784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6416640" y="762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harmonic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560" y="990720"/>
            <a:ext cx="9296280" cy="4906800"/>
          </a:xfrm>
          <a:prstGeom prst="rect">
            <a:avLst/>
          </a:prstGeom>
          <a:ln w="0">
            <a:noFill/>
          </a:ln>
        </p:spPr>
      </p:pic>
      <p:sp>
        <p:nvSpPr>
          <p:cNvPr id="214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12F88-CC36-4B23-BAD5-01A28CAF3C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図 6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867120" cy="5705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"/>
          <p:cNvSpPr/>
          <p:nvPr/>
        </p:nvSpPr>
        <p:spPr>
          <a:xfrm>
            <a:off x="6248520" y="10778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図 11" descr=""/>
          <p:cNvPicPr/>
          <p:nvPr/>
        </p:nvPicPr>
        <p:blipFill>
          <a:blip r:embed="rId1"/>
          <a:stretch/>
        </p:blipFill>
        <p:spPr>
          <a:xfrm>
            <a:off x="228600" y="1657440"/>
            <a:ext cx="5068800" cy="3524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 with model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1D22D-0314-47F1-8556-F87BEF7DC7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図 6" descr=""/>
          <p:cNvPicPr/>
          <p:nvPr/>
        </p:nvPicPr>
        <p:blipFill>
          <a:blip r:embed="rId2"/>
          <a:stretch/>
        </p:blipFill>
        <p:spPr>
          <a:xfrm>
            <a:off x="5003640" y="1098720"/>
            <a:ext cx="4902480" cy="4311360"/>
          </a:xfrm>
          <a:prstGeom prst="rect">
            <a:avLst/>
          </a:prstGeom>
          <a:ln w="0">
            <a:noFill/>
          </a:ln>
        </p:spPr>
      </p:pic>
      <p:pic>
        <p:nvPicPr>
          <p:cNvPr id="225" name="図 8" descr=""/>
          <p:cNvPicPr/>
          <p:nvPr/>
        </p:nvPicPr>
        <p:blipFill>
          <a:blip r:embed="rId3"/>
          <a:stretch/>
        </p:blipFill>
        <p:spPr>
          <a:xfrm>
            <a:off x="5181480" y="5334120"/>
            <a:ext cx="2789280" cy="377640"/>
          </a:xfrm>
          <a:prstGeom prst="rect">
            <a:avLst/>
          </a:prstGeom>
          <a:ln w="0">
            <a:noFill/>
          </a:ln>
        </p:spPr>
      </p:pic>
      <p:pic>
        <p:nvPicPr>
          <p:cNvPr id="226" name="図 9" descr=""/>
          <p:cNvPicPr/>
          <p:nvPr/>
        </p:nvPicPr>
        <p:blipFill>
          <a:blip r:embed="rId4"/>
          <a:stretch/>
        </p:blipFill>
        <p:spPr>
          <a:xfrm>
            <a:off x="5200560" y="5726160"/>
            <a:ext cx="2552760" cy="114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5524560" y="906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1105.3928v1 [nucl-e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762120" y="1154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M2011 Flow Plenary S. Es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560" y="990720"/>
            <a:ext cx="9296280" cy="4906800"/>
          </a:xfrm>
          <a:prstGeom prst="rect">
            <a:avLst/>
          </a:prstGeom>
          <a:ln w="0">
            <a:noFill/>
          </a:ln>
        </p:spPr>
      </p:pic>
      <p:sp>
        <p:nvSpPr>
          <p:cNvPr id="231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31815-1C47-4B2E-AC49-D0B313CC77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295280" y="763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76320" y="5343480"/>
            <a:ext cx="198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gyong, J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11’ Flow Ple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Fourier analysis of the per trigger yield jet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560" y="990720"/>
            <a:ext cx="9296280" cy="4906800"/>
          </a:xfrm>
          <a:prstGeom prst="rect">
            <a:avLst/>
          </a:prstGeom>
          <a:ln w="0">
            <a:noFill/>
          </a:ln>
        </p:spPr>
      </p:pic>
      <p:sp>
        <p:nvSpPr>
          <p:cNvPr id="238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08BC7-6A5C-4788-B500-0A7F1A3C64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fourier_coeff_trig_20_30_part_10_20"/>
          <p:cNvPicPr/>
          <p:nvPr/>
        </p:nvPicPr>
        <p:blipFill>
          <a:blip r:embed="rId2"/>
          <a:stretch/>
        </p:blipFill>
        <p:spPr>
          <a:xfrm>
            <a:off x="990720" y="952560"/>
            <a:ext cx="7581960" cy="5448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228600" y="53593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iond QCD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-Chin-Hao-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372280" y="4202280"/>
            <a:ext cx="24382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rm from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円/楕円 9"/>
          <p:cNvSpPr/>
          <p:nvPr/>
        </p:nvSpPr>
        <p:spPr>
          <a:xfrm>
            <a:off x="4152960" y="4202280"/>
            <a:ext cx="685800" cy="598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円/楕円 10"/>
          <p:cNvSpPr/>
          <p:nvPr/>
        </p:nvSpPr>
        <p:spPr>
          <a:xfrm>
            <a:off x="4152960" y="2362320"/>
            <a:ext cx="685800" cy="1207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6286680" y="2416320"/>
            <a:ext cx="339084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erm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Jet+bulk+Jet-bulk interp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線矢印コネクタ 13"/>
          <p:cNvCxnSpPr>
            <a:stCxn id="246" idx="1"/>
          </p:cNvCxnSpPr>
          <p:nvPr/>
        </p:nvCxnSpPr>
        <p:spPr>
          <a:xfrm flipH="1">
            <a:off x="4838400" y="2770200"/>
            <a:ext cx="1448640" cy="12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48" name="直線矢印コネクタ 19"/>
          <p:cNvCxnSpPr>
            <a:stCxn id="243" idx="1"/>
          </p:cNvCxnSpPr>
          <p:nvPr/>
        </p:nvCxnSpPr>
        <p:spPr>
          <a:xfrm flipH="1">
            <a:off x="4838400" y="4387680"/>
            <a:ext cx="534240" cy="185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560" y="990720"/>
            <a:ext cx="9296280" cy="4906800"/>
          </a:xfrm>
          <a:prstGeom prst="rect">
            <a:avLst/>
          </a:prstGeom>
          <a:ln w="0">
            <a:noFill/>
          </a:ln>
        </p:spPr>
      </p:pic>
      <p:sp>
        <p:nvSpPr>
          <p:cNvPr id="251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5A794-51FF-49D3-98E6-4AE4E6E778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図 6" descr=""/>
          <p:cNvPicPr/>
          <p:nvPr/>
        </p:nvPicPr>
        <p:blipFill>
          <a:blip r:embed="rId2"/>
          <a:stretch/>
        </p:blipFill>
        <p:spPr>
          <a:xfrm>
            <a:off x="2530440" y="1152360"/>
            <a:ext cx="47847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図形グループ 69"/>
          <p:cNvGrpSpPr/>
          <p:nvPr/>
        </p:nvGrpSpPr>
        <p:grpSpPr>
          <a:xfrm>
            <a:off x="2850840" y="1879560"/>
            <a:ext cx="3702240" cy="2579040"/>
            <a:chOff x="2850840" y="1879560"/>
            <a:chExt cx="3702240" cy="2579040"/>
          </a:xfrm>
        </p:grpSpPr>
        <p:pic>
          <p:nvPicPr>
            <p:cNvPr id="57" name="図 37" descr=""/>
            <p:cNvPicPr/>
            <p:nvPr/>
          </p:nvPicPr>
          <p:blipFill>
            <a:blip r:embed="rId1"/>
            <a:stretch/>
          </p:blipFill>
          <p:spPr>
            <a:xfrm>
              <a:off x="3058560" y="1879560"/>
              <a:ext cx="3134160" cy="25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図形グループ 27"/>
            <p:cNvGrpSpPr/>
            <p:nvPr/>
          </p:nvGrpSpPr>
          <p:grpSpPr>
            <a:xfrm>
              <a:off x="4161240" y="2361960"/>
              <a:ext cx="2391840" cy="1905120"/>
              <a:chOff x="4161240" y="2361960"/>
              <a:chExt cx="2391840" cy="1905120"/>
            </a:xfrm>
          </p:grpSpPr>
          <p:grpSp>
            <p:nvGrpSpPr>
              <p:cNvPr id="59" name="図形グループ 21"/>
              <p:cNvGrpSpPr/>
              <p:nvPr/>
            </p:nvGrpSpPr>
            <p:grpSpPr>
              <a:xfrm>
                <a:off x="4161240" y="2361960"/>
                <a:ext cx="2144160" cy="1905120"/>
                <a:chOff x="4161240" y="2361960"/>
                <a:chExt cx="2144160" cy="1905120"/>
              </a:xfrm>
            </p:grpSpPr>
            <p:sp>
              <p:nvSpPr>
                <p:cNvPr id="60" name="円/楕円 50"/>
                <p:cNvSpPr/>
                <p:nvPr/>
              </p:nvSpPr>
              <p:spPr>
                <a:xfrm>
                  <a:off x="4161240" y="2361960"/>
                  <a:ext cx="1217160" cy="1905120"/>
                </a:xfrm>
                <a:prstGeom prst="ellipse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1" name="直線矢印コネクタ 51"/>
                <p:cNvCxnSpPr/>
                <p:nvPr/>
              </p:nvCxnSpPr>
              <p:spPr>
                <a:xfrm>
                  <a:off x="5392440" y="3276360"/>
                  <a:ext cx="91332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62" name="TextBox 24"/>
              <p:cNvSpPr/>
              <p:nvPr/>
            </p:nvSpPr>
            <p:spPr>
              <a:xfrm>
                <a:off x="5868720" y="33087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図形グループ 29"/>
            <p:cNvGrpSpPr/>
            <p:nvPr/>
          </p:nvGrpSpPr>
          <p:grpSpPr>
            <a:xfrm>
              <a:off x="2850840" y="2090880"/>
              <a:ext cx="3084840" cy="2210760"/>
              <a:chOff x="2850840" y="2090880"/>
              <a:chExt cx="3084840" cy="2210760"/>
            </a:xfrm>
          </p:grpSpPr>
          <p:grpSp>
            <p:nvGrpSpPr>
              <p:cNvPr id="64" name="図形グループ 22"/>
              <p:cNvGrpSpPr/>
              <p:nvPr/>
            </p:nvGrpSpPr>
            <p:grpSpPr>
              <a:xfrm>
                <a:off x="3354480" y="2090880"/>
                <a:ext cx="2581200" cy="2210760"/>
                <a:chOff x="3354480" y="2090880"/>
                <a:chExt cx="2581200" cy="2210760"/>
              </a:xfrm>
            </p:grpSpPr>
            <p:sp>
              <p:nvSpPr>
                <p:cNvPr id="65" name="フリーフォーム 46"/>
                <p:cNvSpPr/>
                <p:nvPr/>
              </p:nvSpPr>
              <p:spPr>
                <a:xfrm rot="817800">
                  <a:off x="3712680" y="2306160"/>
                  <a:ext cx="2041920" cy="1779840"/>
                </a:xfrm>
                <a:prstGeom prst="pie">
                  <a:avLst/>
                </a:prstGeom>
                <a:noFill/>
                <a:ln w="50760">
                  <a:solidFill>
                    <a:srgbClr val="3366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" name="直線矢印コネクタ 47"/>
                <p:cNvCxnSpPr/>
                <p:nvPr/>
              </p:nvCxnSpPr>
              <p:spPr>
                <a:xfrm flipH="1" flipV="1">
                  <a:off x="3354480" y="2347560"/>
                  <a:ext cx="775080" cy="509400"/>
                </a:xfrm>
                <a:prstGeom prst="straightConnector1">
                  <a:avLst/>
                </a:prstGeom>
                <a:ln w="38160">
                  <a:solidFill>
                    <a:srgbClr val="3366ff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67" name="TextBox 25"/>
              <p:cNvSpPr/>
              <p:nvPr/>
            </p:nvSpPr>
            <p:spPr>
              <a:xfrm>
                <a:off x="2850840" y="233676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3366ff"/>
                    </a:solidFill>
                    <a:latin typeface="Symbol"/>
                    <a:ea typeface="Symbol"/>
                  </a:rPr>
                  <a:t>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図形グループ 37"/>
            <p:cNvGrpSpPr/>
            <p:nvPr/>
          </p:nvGrpSpPr>
          <p:grpSpPr>
            <a:xfrm>
              <a:off x="3734280" y="2327760"/>
              <a:ext cx="2634840" cy="2130840"/>
              <a:chOff x="3734280" y="2327760"/>
              <a:chExt cx="2634840" cy="2130840"/>
            </a:xfrm>
          </p:grpSpPr>
          <p:cxnSp>
            <p:nvCxnSpPr>
              <p:cNvPr id="69" name="直線矢印コネクタ 41"/>
              <p:cNvCxnSpPr/>
              <p:nvPr/>
            </p:nvCxnSpPr>
            <p:spPr>
              <a:xfrm>
                <a:off x="5301000" y="3812400"/>
                <a:ext cx="465120" cy="465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  <p:sp>
            <p:nvSpPr>
              <p:cNvPr id="70" name="TextBox 26"/>
              <p:cNvSpPr/>
              <p:nvPr/>
            </p:nvSpPr>
            <p:spPr>
              <a:xfrm>
                <a:off x="5684760" y="3983400"/>
                <a:ext cx="6843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</a:t>
                </a:r>
                <a:r>
                  <a:rPr b="1" lang="en-US" sz="22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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フリーフォーム 43"/>
              <p:cNvSpPr/>
              <p:nvPr/>
            </p:nvSpPr>
            <p:spPr>
              <a:xfrm rot="292200">
                <a:off x="3809160" y="2399760"/>
                <a:ext cx="1775160" cy="1845360"/>
              </a:xfrm>
              <a:prstGeom prst="pie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harmonic plane &amp;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320" y="928440"/>
            <a:ext cx="952488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uctuations of initial collision geometry result in higher harmonic de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red to momentum space by collective expansion (hydrodynami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884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harmonic anisotropy emer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フッター プレースホルダ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スライド番号プレースホルダ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94D17-AFE9-4128-AC50-450E121B2F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152280" y="4444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imuth.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図 38" descr=""/>
          <p:cNvPicPr/>
          <p:nvPr/>
        </p:nvPicPr>
        <p:blipFill>
          <a:blip r:embed="rId2"/>
          <a:stretch/>
        </p:blipFill>
        <p:spPr>
          <a:xfrm>
            <a:off x="1928880" y="5181480"/>
            <a:ext cx="237492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図 39" descr=""/>
          <p:cNvPicPr/>
          <p:nvPr/>
        </p:nvPicPr>
        <p:blipFill>
          <a:blip r:embed="rId3"/>
          <a:stretch/>
        </p:blipFill>
        <p:spPr>
          <a:xfrm>
            <a:off x="4343400" y="5149800"/>
            <a:ext cx="3809880" cy="419040"/>
          </a:xfrm>
          <a:prstGeom prst="rect">
            <a:avLst/>
          </a:prstGeom>
          <a:ln w="0">
            <a:noFill/>
          </a:ln>
        </p:spPr>
      </p:pic>
      <p:pic>
        <p:nvPicPr>
          <p:cNvPr id="80" name="図 41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7873920" cy="71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6"/>
          <p:cNvSpPr/>
          <p:nvPr/>
        </p:nvSpPr>
        <p:spPr>
          <a:xfrm>
            <a:off x="-88920" y="5054760"/>
            <a:ext cx="2133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ion am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図形グループ 24"/>
          <p:cNvGrpSpPr/>
          <p:nvPr/>
        </p:nvGrpSpPr>
        <p:grpSpPr>
          <a:xfrm>
            <a:off x="623880" y="1371600"/>
            <a:ext cx="4100400" cy="3103560"/>
            <a:chOff x="623880" y="1371600"/>
            <a:chExt cx="4100400" cy="3103560"/>
          </a:xfrm>
        </p:grpSpPr>
        <p:grpSp>
          <p:nvGrpSpPr>
            <p:cNvPr id="83" name="図形グループ 27"/>
            <p:cNvGrpSpPr/>
            <p:nvPr/>
          </p:nvGrpSpPr>
          <p:grpSpPr>
            <a:xfrm>
              <a:off x="623880" y="1371600"/>
              <a:ext cx="4100400" cy="3103560"/>
              <a:chOff x="623880" y="1371600"/>
              <a:chExt cx="4100400" cy="3103560"/>
            </a:xfrm>
          </p:grpSpPr>
          <p:pic>
            <p:nvPicPr>
              <p:cNvPr id="84" name="図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" y="1371600"/>
                <a:ext cx="3871800" cy="31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フリーフォーム 8"/>
              <p:cNvSpPr/>
              <p:nvPr/>
            </p:nvSpPr>
            <p:spPr>
              <a:xfrm>
                <a:off x="1622160" y="2646360"/>
                <a:ext cx="1958760" cy="1066680"/>
              </a:xfrm>
              <a:prstGeom prst="pie">
                <a:avLst/>
              </a:prstGeom>
              <a:solidFill>
                <a:srgbClr val="ff0000">
                  <a:alpha val="30000"/>
                </a:srgbClr>
              </a:solidFill>
              <a:ln w="38160">
                <a:solidFill>
                  <a:srgbClr val="ff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28"/>
              <p:cNvSpPr/>
              <p:nvPr/>
            </p:nvSpPr>
            <p:spPr>
              <a:xfrm>
                <a:off x="3325680" y="2417760"/>
                <a:ext cx="7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Rid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30"/>
              <p:cNvSpPr/>
              <p:nvPr/>
            </p:nvSpPr>
            <p:spPr>
              <a:xfrm>
                <a:off x="638280" y="1818720"/>
                <a:ext cx="2031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ass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&lt; 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ri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eV/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8"/>
              <p:cNvSpPr/>
              <p:nvPr/>
            </p:nvSpPr>
            <p:spPr>
              <a:xfrm>
                <a:off x="1931760" y="1416240"/>
                <a:ext cx="2792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80, 064912 (200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直線コネクタ 9"/>
            <p:cNvSpPr/>
            <p:nvPr/>
          </p:nvSpPr>
          <p:spPr>
            <a:xfrm>
              <a:off x="1941480" y="3216240"/>
              <a:ext cx="19188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possible source of “Ridge” and “Shoulde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5019840"/>
            <a:ext cx="92962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 correlation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rm 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btraction would reduce Ridge and Shoulder ⇒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ossible sourc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DC115-01E7-4809-AA9F-E4E5A1157D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19" descr=""/>
          <p:cNvPicPr/>
          <p:nvPr/>
        </p:nvPicPr>
        <p:blipFill>
          <a:blip r:embed="rId2"/>
          <a:stretch/>
        </p:blipFill>
        <p:spPr>
          <a:xfrm>
            <a:off x="4648320" y="4921200"/>
            <a:ext cx="326376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1"/>
          <p:cNvSpPr/>
          <p:nvPr/>
        </p:nvSpPr>
        <p:spPr>
          <a:xfrm>
            <a:off x="533520" y="4343400"/>
            <a:ext cx="403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dge : near side long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4883040" y="4343400"/>
            <a:ext cx="48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er: double hump at away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so long in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図形グループ 30"/>
          <p:cNvGrpSpPr/>
          <p:nvPr/>
        </p:nvGrpSpPr>
        <p:grpSpPr>
          <a:xfrm>
            <a:off x="4800600" y="1676520"/>
            <a:ext cx="5015520" cy="2527200"/>
            <a:chOff x="4800600" y="1676520"/>
            <a:chExt cx="5015520" cy="2527200"/>
          </a:xfrm>
        </p:grpSpPr>
        <p:grpSp>
          <p:nvGrpSpPr>
            <p:cNvPr id="99" name="図形グループ 23"/>
            <p:cNvGrpSpPr/>
            <p:nvPr/>
          </p:nvGrpSpPr>
          <p:grpSpPr>
            <a:xfrm>
              <a:off x="4800600" y="1676520"/>
              <a:ext cx="5015520" cy="2289240"/>
              <a:chOff x="4800600" y="1676520"/>
              <a:chExt cx="5015520" cy="2289240"/>
            </a:xfrm>
          </p:grpSpPr>
          <p:grpSp>
            <p:nvGrpSpPr>
              <p:cNvPr id="100" name="図形グループ 24"/>
              <p:cNvGrpSpPr/>
              <p:nvPr/>
            </p:nvGrpSpPr>
            <p:grpSpPr>
              <a:xfrm>
                <a:off x="4800600" y="1882440"/>
                <a:ext cx="4590720" cy="2083320"/>
                <a:chOff x="4800600" y="1882440"/>
                <a:chExt cx="4590720" cy="2083320"/>
              </a:xfrm>
            </p:grpSpPr>
            <p:pic>
              <p:nvPicPr>
                <p:cNvPr id="101" name="図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37280" y="1996560"/>
                  <a:ext cx="4101480" cy="166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図 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00600" y="1882440"/>
                  <a:ext cx="425160" cy="203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図 2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5000" y="3643560"/>
                  <a:ext cx="36763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" name="TextBox 8"/>
              <p:cNvSpPr/>
              <p:nvPr/>
            </p:nvSpPr>
            <p:spPr>
              <a:xfrm>
                <a:off x="5970600" y="1676520"/>
                <a:ext cx="2792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ys. Rev. C 78, 014901 (2008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18"/>
              <p:cNvSpPr/>
              <p:nvPr/>
            </p:nvSpPr>
            <p:spPr>
              <a:xfrm>
                <a:off x="8841240" y="1842120"/>
                <a:ext cx="97488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p+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●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: Au+A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25"/>
            <p:cNvSpPr/>
            <p:nvPr/>
          </p:nvSpPr>
          <p:spPr>
            <a:xfrm>
              <a:off x="7848720" y="383544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houl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直線矢印コネクタ 27"/>
            <p:cNvCxnSpPr>
              <a:stCxn id="106" idx="0"/>
            </p:cNvCxnSpPr>
            <p:nvPr/>
          </p:nvCxnSpPr>
          <p:spPr>
            <a:xfrm flipV="1">
              <a:off x="8463600" y="3377880"/>
              <a:ext cx="61668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08" name="直線矢印コネクタ 29"/>
            <p:cNvCxnSpPr>
              <a:stCxn id="106" idx="0"/>
            </p:cNvCxnSpPr>
            <p:nvPr/>
          </p:nvCxnSpPr>
          <p:spPr>
            <a:xfrm flipH="1" flipV="1">
              <a:off x="7848000" y="3377880"/>
              <a:ext cx="61668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9" name="TextBox 32"/>
            <p:cNvSpPr/>
            <p:nvPr/>
          </p:nvSpPr>
          <p:spPr>
            <a:xfrm>
              <a:off x="7010280" y="2311200"/>
              <a:ext cx="1663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図 33" descr=""/>
          <p:cNvPicPr/>
          <p:nvPr/>
        </p:nvPicPr>
        <p:blipFill>
          <a:blip r:embed="rId6"/>
          <a:stretch/>
        </p:blipFill>
        <p:spPr>
          <a:xfrm>
            <a:off x="2330280" y="800280"/>
            <a:ext cx="5245200" cy="571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1" name="フリーフォーム 32"/>
          <p:cNvSpPr/>
          <p:nvPr/>
        </p:nvSpPr>
        <p:spPr>
          <a:xfrm rot="883800">
            <a:off x="941040" y="3495600"/>
            <a:ext cx="1474920" cy="56376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35"/>
          <p:cNvSpPr/>
          <p:nvPr/>
        </p:nvSpPr>
        <p:spPr>
          <a:xfrm>
            <a:off x="5707080" y="3218040"/>
            <a:ext cx="3591000" cy="36324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92962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particle correlations 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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measured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bt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4881600"/>
            <a:ext cx="92962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ulder structures almost disappeared at 0-2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} explains shoulder at sm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EEEDE-D77B-4FE2-92DA-CDB20884A9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図 7" descr=""/>
          <p:cNvPicPr/>
          <p:nvPr/>
        </p:nvPicPr>
        <p:blipFill>
          <a:blip r:embed="rId1"/>
          <a:stretch/>
        </p:blipFill>
        <p:spPr>
          <a:xfrm>
            <a:off x="1371600" y="1413000"/>
            <a:ext cx="6656400" cy="3387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7"/>
          <p:cNvSpPr/>
          <p:nvPr/>
        </p:nvSpPr>
        <p:spPr>
          <a:xfrm>
            <a:off x="6781680" y="939960"/>
            <a:ext cx="307980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central track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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with forward EP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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991120" y="2863800"/>
            <a:ext cx="15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3⊗1-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uperposition of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ontributions reprodu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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rrelation at larg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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560" y="5760720"/>
            <a:ext cx="9296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plain ridge and shoulder at larg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35B0E-38BA-46FA-8F62-571656E8A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図 8" descr=""/>
          <p:cNvPicPr/>
          <p:nvPr/>
        </p:nvPicPr>
        <p:blipFill>
          <a:blip r:embed="rId1"/>
          <a:stretch/>
        </p:blipFill>
        <p:spPr>
          <a:xfrm>
            <a:off x="6324480" y="2798640"/>
            <a:ext cx="1920960" cy="1457280"/>
          </a:xfrm>
          <a:prstGeom prst="rect">
            <a:avLst/>
          </a:prstGeom>
          <a:ln w="0">
            <a:noFill/>
          </a:ln>
        </p:spPr>
      </p:pic>
      <p:pic>
        <p:nvPicPr>
          <p:cNvPr id="127" name="図 11" descr=""/>
          <p:cNvPicPr/>
          <p:nvPr/>
        </p:nvPicPr>
        <p:blipFill>
          <a:blip r:embed="rId2"/>
          <a:stretch/>
        </p:blipFill>
        <p:spPr>
          <a:xfrm>
            <a:off x="6705720" y="533520"/>
            <a:ext cx="2666880" cy="1854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8153280" y="311292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k a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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with EP from full FCAL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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6324480" y="2438280"/>
            <a:ext cx="316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EP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629400" y="4343400"/>
            <a:ext cx="316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2Par. Cor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902280" y="4737240"/>
            <a:ext cx="254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harged particle pair with large rapidity gap e.g.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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図 13" descr=""/>
          <p:cNvPicPr/>
          <p:nvPr/>
        </p:nvPicPr>
        <p:blipFill>
          <a:blip r:embed="rId3"/>
          <a:stretch/>
        </p:blipFill>
        <p:spPr>
          <a:xfrm>
            <a:off x="304920" y="1790640"/>
            <a:ext cx="5914800" cy="3906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4495680" y="420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b+Pb 2.76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図 15" descr=""/>
          <p:cNvPicPr/>
          <p:nvPr/>
        </p:nvPicPr>
        <p:blipFill>
          <a:blip r:embed="rId4"/>
          <a:stretch/>
        </p:blipFill>
        <p:spPr>
          <a:xfrm>
            <a:off x="1484280" y="1011240"/>
            <a:ext cx="4703760" cy="81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6"/>
          <p:cNvSpPr/>
          <p:nvPr/>
        </p:nvSpPr>
        <p:spPr>
          <a:xfrm rot="16200000">
            <a:off x="-259560" y="3663360"/>
            <a:ext cx="2219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No Flow Sub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803680" y="1936800"/>
            <a:ext cx="255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d corre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線矢印コネクタ 20"/>
          <p:cNvCxnSpPr/>
          <p:nvPr/>
        </p:nvCxnSpPr>
        <p:spPr>
          <a:xfrm flipH="1">
            <a:off x="4876200" y="1954080"/>
            <a:ext cx="2299320" cy="1704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9907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dge and shoulder explained by higher harmonic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central coll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Ridge and Shoulder explained by higher harmonic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peripheral collis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analysis focus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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28600">
              <a:spcBef>
                <a:spcPts val="601"/>
              </a:spcBef>
              <a:buClr>
                <a:srgbClr val="000000"/>
              </a:buClr>
              <a:buFont typeface="ヒラギノ角ゴ ProN W3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firm shoulder explained b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or not at periph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26927-50D9-4935-BB74-56C5BBA08D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95360" y="1947960"/>
          <a:ext cx="9105840" cy="1252440"/>
        </p:xfrm>
        <a:graphic>
          <a:graphicData uri="http://schemas.openxmlformats.org/drawingml/2006/table">
            <a:tbl>
              <a:tblPr/>
              <a:tblGrid>
                <a:gridCol w="3035160"/>
                <a:gridCol w="3035520"/>
                <a:gridCol w="30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tral colli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u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Au+Au 200G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xpl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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Pb+Pb 2.76T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xpl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xpl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図 11" descr=""/>
          <p:cNvPicPr/>
          <p:nvPr/>
        </p:nvPicPr>
        <p:blipFill>
          <a:blip r:embed="rId1"/>
          <a:stretch/>
        </p:blipFill>
        <p:spPr>
          <a:xfrm>
            <a:off x="152280" y="2700360"/>
            <a:ext cx="3784680" cy="3632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731880"/>
            <a:ext cx="96012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7, Au+Au 200GeV, Minimum Bias  Events, 3.2 billion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particle charged hadr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rrelations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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entrality : 0- 5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gger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2~4 GeV, Associate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1~2 Ge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} measurements by central track with forward Event Plane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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フッター プレースホルダ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47D2A-4F4D-49C0-8EAC-B94D684E3C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図 9" descr=""/>
          <p:cNvPicPr/>
          <p:nvPr/>
        </p:nvPicPr>
        <p:blipFill>
          <a:blip r:embed="rId2"/>
          <a:stretch/>
        </p:blipFill>
        <p:spPr>
          <a:xfrm>
            <a:off x="669960" y="2514600"/>
            <a:ext cx="259092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図 10" descr=""/>
          <p:cNvPicPr/>
          <p:nvPr/>
        </p:nvPicPr>
        <p:blipFill>
          <a:blip r:embed="rId3"/>
          <a:stretch/>
        </p:blipFill>
        <p:spPr>
          <a:xfrm>
            <a:off x="3886200" y="3352680"/>
            <a:ext cx="2424240" cy="5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Box 12"/>
          <p:cNvSpPr/>
          <p:nvPr/>
        </p:nvSpPr>
        <p:spPr>
          <a:xfrm>
            <a:off x="593640" y="3886200"/>
            <a:ext cx="2911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data]:jet+flow+cross term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47640" y="5345280"/>
            <a:ext cx="3162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mulated Flow with measured v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Calibri"/>
              </a:rPr>
              <a:t>-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j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cor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線矢印コネクタ 15"/>
          <p:cNvCxnSpPr/>
          <p:nvPr/>
        </p:nvCxnSpPr>
        <p:spPr>
          <a:xfrm flipH="1">
            <a:off x="1010880" y="4255560"/>
            <a:ext cx="2160" cy="546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直線矢印コネクタ 17"/>
          <p:cNvCxnSpPr/>
          <p:nvPr/>
        </p:nvCxnSpPr>
        <p:spPr>
          <a:xfrm flipV="1">
            <a:off x="810000" y="4851000"/>
            <a:ext cx="3960" cy="49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56" name="図形グループ 20"/>
          <p:cNvGrpSpPr/>
          <p:nvPr/>
        </p:nvGrpSpPr>
        <p:grpSpPr>
          <a:xfrm>
            <a:off x="2583000" y="4921200"/>
            <a:ext cx="3633480" cy="335160"/>
            <a:chOff x="2583000" y="4921200"/>
            <a:chExt cx="3633480" cy="335160"/>
          </a:xfrm>
        </p:grpSpPr>
        <p:sp>
          <p:nvSpPr>
            <p:cNvPr id="157" name="TextBox 18"/>
            <p:cNvSpPr/>
            <p:nvPr/>
          </p:nvSpPr>
          <p:spPr>
            <a:xfrm>
              <a:off x="3084480" y="4921200"/>
              <a:ext cx="31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Zero Yield at Minimum Subt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正方形/長方形 22"/>
            <p:cNvSpPr/>
            <p:nvPr/>
          </p:nvSpPr>
          <p:spPr>
            <a:xfrm>
              <a:off x="2583000" y="4940280"/>
              <a:ext cx="390240" cy="316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右矢印 29"/>
          <p:cNvSpPr/>
          <p:nvPr/>
        </p:nvSpPr>
        <p:spPr>
          <a:xfrm>
            <a:off x="3733920" y="3962520"/>
            <a:ext cx="2955960" cy="54432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6765840" y="3886200"/>
            <a:ext cx="283536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r yield per a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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ri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pai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コンテンツ プレースホルダ 2"/>
          <p:cNvSpPr/>
          <p:nvPr/>
        </p:nvSpPr>
        <p:spPr>
          <a:xfrm>
            <a:off x="76320" y="4403880"/>
            <a:ext cx="97534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houlder almost disappeared at centrality 0-10% as bef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New” shoulder emerge in peripheral colli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relatively-large systematic error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図 18" descr=""/>
          <p:cNvPicPr/>
          <p:nvPr/>
        </p:nvPicPr>
        <p:blipFill>
          <a:blip r:embed="rId1"/>
          <a:stretch/>
        </p:blipFill>
        <p:spPr>
          <a:xfrm>
            <a:off x="31680" y="1255680"/>
            <a:ext cx="9872640" cy="3070080"/>
          </a:xfrm>
          <a:prstGeom prst="rect">
            <a:avLst/>
          </a:prstGeom>
          <a:ln w="0">
            <a:noFill/>
          </a:ln>
        </p:spPr>
      </p:pic>
      <p:sp>
        <p:nvSpPr>
          <p:cNvPr id="163" name="日付プレースホルダ 5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フッター プレースホルダ 7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スライド番号プレースホルダ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3E216-2BCC-4B11-8349-37C001A836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92962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2, v3 and v4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  subtracted cor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図 16" descr=""/>
          <p:cNvPicPr/>
          <p:nvPr/>
        </p:nvPicPr>
        <p:blipFill>
          <a:blip r:embed="rId1"/>
          <a:stretch/>
        </p:blipFill>
        <p:spPr>
          <a:xfrm>
            <a:off x="442800" y="831960"/>
            <a:ext cx="8855280" cy="419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92962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ting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low subtrac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日付プレースホルダ 3"/>
          <p:cNvSpPr/>
          <p:nvPr/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フッター プレースホルダ 4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JPS 2011 Aut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BE1A3-3E41-446D-88D0-749C7A627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図形グループ 11"/>
          <p:cNvGrpSpPr/>
          <p:nvPr/>
        </p:nvGrpSpPr>
        <p:grpSpPr>
          <a:xfrm>
            <a:off x="1359000" y="1147680"/>
            <a:ext cx="3627360" cy="381240"/>
            <a:chOff x="1359000" y="1147680"/>
            <a:chExt cx="3627360" cy="381240"/>
          </a:xfrm>
        </p:grpSpPr>
        <p:pic>
          <p:nvPicPr>
            <p:cNvPr id="173" name="図 11" descr=""/>
            <p:cNvPicPr/>
            <p:nvPr/>
          </p:nvPicPr>
          <p:blipFill>
            <a:blip r:embed="rId2"/>
            <a:stretch/>
          </p:blipFill>
          <p:spPr>
            <a:xfrm>
              <a:off x="2666880" y="1165320"/>
              <a:ext cx="23194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10"/>
            <p:cNvSpPr/>
            <p:nvPr/>
          </p:nvSpPr>
          <p:spPr>
            <a:xfrm>
              <a:off x="1359000" y="1147680"/>
              <a:ext cx="14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it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13"/>
          <p:cNvSpPr/>
          <p:nvPr/>
        </p:nvSpPr>
        <p:spPr>
          <a:xfrm>
            <a:off x="3733920" y="1538280"/>
            <a:ext cx="2743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3,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co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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=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/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2044800" y="1562040"/>
            <a:ext cx="176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v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 v4{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Symbo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ubtr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2050920" y="188604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rk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4419720" y="20620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560" y="4965480"/>
            <a:ext cx="929628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3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survives both in central and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4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term has plus value in central but does almost 0 in periph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dip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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s emphasize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7724880" y="8017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s indicates systematic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3:36:55Z</dcterms:created>
  <dc:creator>轟木 貴人</dc:creator>
  <dc:description/>
  <dc:language>en-US</dc:language>
  <cp:lastModifiedBy>轟木 貴人</cp:lastModifiedBy>
  <dcterms:modified xsi:type="dcterms:W3CDTF">2011-09-27T10:17:55Z</dcterms:modified>
  <cp:revision>1208</cp:revision>
  <dc:subject/>
  <dc:title>スライド 1</dc:title>
</cp:coreProperties>
</file>