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dt" idx="48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ftr" idx="49"/>
          </p:nvPr>
        </p:nvSpPr>
        <p:spPr>
          <a:xfrm>
            <a:off x="0" y="1015488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 type="sldNum" idx="50"/>
          </p:nvPr>
        </p:nvSpPr>
        <p:spPr>
          <a:xfrm>
            <a:off x="4278240" y="1015488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803E4-F4D8-4C4C-800E-4787ED7E1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68818-7EE3-422D-B983-9B6D82762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C035C-9466-4785-8B3D-6E3B01E45F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CE3D3-1491-4DBF-8B68-2E03D191B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0" y="-22896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D64AF-20CD-4DCB-B7C6-2044EDEB7B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86F-AF44-4E43-92FF-22D6EDB8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836-26D7-4117-AD5D-33E46B6C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E45AB-26B0-4388-9358-86A58698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73055-7A34-40D3-BEC6-50D6E7BE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AB589-7A9E-4616-9247-1652859D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8D64F-8354-422A-BF9A-DA0E7186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3E8BE-4315-4D7B-85A2-EAE6890E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39D1A-CE38-4EBD-AA84-EC42B52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3A077-13C1-49E8-8DA4-4FB5E0AA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D4598-10FC-4460-9F6B-B1B70039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5BBCA-909A-4BFF-847E-AD1A1416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DB873-B3DA-4F23-BF70-120547B4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573-F98B-4D43-923D-B3CDA114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63AEA-0538-49D5-A14C-1EB540EB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B5D0A-00B6-4251-A431-B57F532B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C09C3-ECD6-47DA-A9CC-C366AEB5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CEB25-525C-4915-908F-2C00CA50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FE6C3-0525-454A-B0DB-721CF8C1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268F9-D899-4843-B765-43730062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4BB08-2BC6-4B8C-AAB3-6E49DB9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39244-FEDD-4372-A156-94BCF6EA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A2E74-0BDC-41B4-8948-62C37929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9E170-410D-4F4C-81C4-EF332B6A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B48-98D2-4941-8F88-AD60DE91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DE0A8-ADFC-463B-BB9F-0097A8EE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FB694D-DD62-482B-868B-3D4AEE944C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D1397-9508-4E3B-9169-5279D7DB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E1375A-E90E-42D0-A0EB-B5860773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CD4C17-3DFD-4922-9F58-EF7C98DA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5FBDA8-9C8E-48B6-888A-1D3A212A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167C0D-1824-4701-80FF-458B807E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CF8384-266F-4CC2-BE5C-CE30A61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083D45-7F0B-4986-BAC6-6B256AD7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5DDE6F-9C1C-4D6A-9EB4-9C4263DF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A68C-8352-4996-A190-54AE5596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359E8E-C098-4539-A116-5CA7FD81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D2B167-356B-454D-A2FE-962AA24E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676738-EBF7-4437-8DA2-35124BD674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34605B-ACCE-4EE2-81E4-A8008FE2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AF9A96-6DEE-4047-93AA-6C568021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EB92B9-4887-49FE-8493-467F0613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C7ECF7-7C4A-4D09-83B5-41FBD77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D7C6D7-F221-4D3F-A532-92108601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4C8794-32D7-4D28-B30C-D6CCCB96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F20DD1-C0FF-4CD8-B765-87BD073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83DC-9E45-454C-84FF-CFE8C71E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277FAC-F16F-4BE8-BC6D-0763902B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642ECE-2B77-461A-AE21-040306CA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EC2591-66D3-4939-9495-22D773B4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537835-D9AD-41E9-8A79-063A4993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0FFB82-5A6A-474D-B9A1-D83C02EA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CF24F1-B4E9-4124-9C7B-D121636C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CCB7AF-BE53-432B-A0E7-BA6EBF08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184561-FC58-4280-A815-F3A0F7F2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C8BB20-28D4-4A9A-B0EA-00682E88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D9BB7D-27B8-4A09-B269-A35ACB0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BC47-6BB6-4B8E-9DA6-8B651D7F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D5C54C-43BA-4802-8C70-9DEF7991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76CA09-54A9-405C-B336-7E941F0B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DC531E-3439-410F-9880-C05A22C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013B40-E948-4BCE-B39D-1A5F066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B8EF18-C492-4BFE-B441-192C4037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3DEC5B-5F56-4A8F-AC84-695E7419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283FB4-027F-4E4C-87EC-00951F89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CD36FC-F23C-49BD-8D15-D5FDF70D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3650F7-5F02-4548-B783-4E2DA62C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2CA58A-198E-4D8D-AE79-8776F0B6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640C-94D2-4503-A31D-2A5D30EF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030FF5-B89A-4E43-BD97-69B26A01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862A0A-33A0-48B5-8095-47C753C2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A873C7-582E-44D0-8811-D6962711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5C6949-E135-4F98-9F25-14F82F8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9405E9-6A80-45BE-B382-BBCBBE59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C59391-EFB8-4336-91C6-AD8ECEFA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1D8365-19B7-4A0E-8919-56E878F3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E6CB90-A0BE-49C1-8A89-4DDDBD4D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F820C6-E4CA-42EF-BC94-D091F309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FB6081-A779-4324-BD54-0BC58254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34D2-364F-4A00-85AE-8A72985B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AA8F1D-E4CA-44B0-994A-98ED5831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313E5B-7527-49B5-A635-33B1FF97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5433A8-E21F-4CC1-98E2-ADF6091F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8C2A7A-4951-4402-9393-FDD3F0CE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C7110F-90E7-4A8F-9E18-01017311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E387B8-D8F7-4852-9AAE-0CB43A5A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113C3A-172E-4F6D-9CCF-F33D190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CC11D0-52A1-4372-A3AE-17F1E97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AB9535-E989-48F6-8490-331C75D2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6488DC-E7D4-4511-AFF5-DDAEC911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5A78-7E48-46E2-AE2B-748FEC5E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92FF53-A1E8-496A-A138-0347E07E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76347E-F045-48CE-8E8D-7414C60F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7AD5C7-B3DA-40AF-AE06-0DB17EAB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DDA6D3-1B11-416D-A68B-8AAC0D2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A8D77A-4664-4944-9536-D7263879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0B342A-15DF-498F-AA73-67FC3A7E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D83B45-61FE-461C-99B1-EE7B9FBC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8FFD35-5A85-4DB2-ABFD-3790AF5A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11CB9B-7C15-48E9-A25F-F2CF27D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B0E206-8615-4B43-8551-CB9BD69E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8199-1ECB-4718-B96A-C4A9B8AB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C15368-3D19-46F0-8AAC-122AA315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E086E8-5533-49FF-9E84-9857EB79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540D78-17AA-4EE1-A54B-B7870A22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32BBD4-83BE-4606-B6E4-F66F4FFD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E2886E-6D4E-4745-AFF0-788622C4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18DDE0-4C03-4D5A-8932-9879766F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27FA46-5AB3-4C9B-B89F-7E60249D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6F14DA-2765-42E2-8535-796A2025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1E68C9-8353-4D56-8091-AECAB024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AB2E1A-3C72-417D-BAB8-8F98BDD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702-8CB0-4688-8A5D-385ED420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D775-765E-49D2-8926-169C52D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C66CFF-9B04-400E-9792-B796F458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A3B248-0F65-41AD-A8BF-92319F8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6965EC-49D6-4829-98AC-45277D11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7181D8-3C1C-410B-BAB6-8884F54F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C4C52B-A342-42A5-9464-C400BE17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49D6-950F-4814-B419-56763607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685D-3F4B-445F-94AE-FB4F3909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131-9A59-4B06-A820-39F8ABBE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68A7-C919-4DBF-80EF-495978BD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246B-6A3B-4584-B4C2-2D04448F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6614-61BE-4C4C-8E7B-C2D8EE7C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03AC-95C3-476E-9A48-CDF31285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838C-54E6-407D-AA69-32B07E1E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D1021-5610-4777-AEA8-CE141762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9D5-5872-4732-B7A3-782053B7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5C3B-A5C6-4450-9AFD-9A85176E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EDEB-1033-40DA-AE75-70153AAE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2155-7675-4FB0-9B20-9AFA5C7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4521-A182-4A24-A989-90222BA4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56C9-F302-4930-818E-48DA3184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F88E-F9C5-474A-BF69-56947325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C78C-BDF1-4319-9270-3924BFBD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8F8-699D-430C-9C02-7E3FA00E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89EFF-3477-4532-813D-AB7D38D5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E33-1BCF-4EAE-9767-FAB37A72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60CD13-09EF-43C0-9464-950AC05D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186F46-5B7E-458F-BBB8-42DEDBFA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A8251-CFB6-4F75-B85F-8817AF47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E33E6-B449-4D46-8C21-E1916AEA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040E92-54AE-4E43-8449-B0B5A77A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93361A-2E36-436B-A0FC-9D9591F4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C68C11-05E5-4815-9CBE-CB53C1BD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E1D1C1-25C6-4CAC-B652-EB2197D6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99BE1D-73B4-475E-A7D3-6DF2B5EF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DDF2C3-82CD-40A3-8DCE-8991DD5F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645-D5ED-448F-B64E-0B4CBDAE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BDF09D-BC19-488A-9CE9-C0672FF3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AD1C1-26FF-4730-A41B-321E3A61B6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FA97-2D13-4DFD-8B01-5F7A2C0D2E5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52B9C-987C-431D-BF1E-6A6EB040583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685BF-6682-4060-B15B-E3C78B26E21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0E4E1-6DE9-4DC3-AB82-7E77D7ED18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B6732-C17C-424D-A002-9438286907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FB593-C71A-48FB-9F25-B88F450495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2C01-7B44-4501-AF08-73C13ECBE2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C191-654D-4E87-B17D-462F65C9D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844-CFD5-4D0E-AC17-7B5B50C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6D9F-4690-4290-9133-0A2FEED4ED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0F3F-F050-49E4-8582-3AF5BA3516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C7624-59E7-4E30-8948-2683DFAFC4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CC65-3B4F-47F3-B70F-8A83DDA7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8B58-2CE9-4A9E-8822-33FA8C8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CB684-3B58-4AEB-938B-F9E6CF36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290A-4747-424F-B6A6-258F5DE6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350ED-6826-4B48-A5C1-EA97890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9E747-2945-4824-9438-82844D3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FB9D7-1A57-4D45-9784-CFC5D98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625-B81B-46F2-90D5-2B3B36A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2032C-0530-4695-B1CC-4F290035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43366-3C47-4821-9B92-04E6C94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9CAC5-4572-46D0-9897-59D712A1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F849-9499-4105-93E7-A8E6DA37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98891-5B7B-42C6-A318-4777E9E5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23EAA-78A0-4BBD-A723-CE0771F6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4BF35-6CC2-452F-8D11-FFA27011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CA91E-0D7A-4A01-A927-7D3DFC90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7A41F-FFD6-47B2-8F34-C7F16275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759F7-7741-4CD1-8A69-663AC3BC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02A-4684-4768-A717-DB0D60A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005D0-8611-4798-BD6B-F95F18FF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C481-96DA-4627-B016-35CF28F5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E86F2-E478-40EB-AF7D-E42BA17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F4311-E7A6-4D7A-B703-924F2C9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445920"/>
            <a:ext cx="822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71BAF-D862-42DA-B422-8F4CC22C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880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445920"/>
            <a:ext cx="40158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75857-FD6A-4B3B-9BA3-1BF378DB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880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445920"/>
            <a:ext cx="2649600" cy="23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E101E-DA91-4FA9-B34B-525139C4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7C059-D87E-468B-97C8-890957B6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F83C3-D054-4B11-BC60-3812B3A5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A56E3-9D29-4196-AC5F-17308EA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F94194-BB2D-4409-B471-3CEEE57A4CD5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C68AC6-0B61-4463-AAA1-8B84E28B86D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4897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7600" y="6603120"/>
            <a:ext cx="1922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直線コネクタ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3CE900-7532-4E79-84DF-059B517980CB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635FCA-D7CB-4FE5-AD92-6152380678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直線コネクタ 27"/>
          <p:cNvSpPr/>
          <p:nvPr/>
        </p:nvSpPr>
        <p:spPr>
          <a:xfrm>
            <a:off x="457200" y="64897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直線コネクタ 28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二等辺三角形 9"/>
          <p:cNvSpPr/>
          <p:nvPr/>
        </p:nvSpPr>
        <p:spPr>
          <a:xfrm rot="5400000">
            <a:off x="417600" y="6603120"/>
            <a:ext cx="1922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172200" y="6171840"/>
            <a:ext cx="25020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3A13F3-A5EC-4327-8830-FDB1D359C6A4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9"/>
          </p:nvPr>
        </p:nvSpPr>
        <p:spPr>
          <a:xfrm>
            <a:off x="3809520" y="6171840"/>
            <a:ext cx="18162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03F1A9-6DB4-4A2A-ADDE-D3D2F5A1B7E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6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正方形/長方形 7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正方形/長方形 8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正方形/長方形 9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0C29A5-9156-4978-8DC7-84FC653BC697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2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2C4DDF-82AC-4666-8E11-03B237ED8A8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964142-1E82-404D-B984-5C13695EFD4B}" type="datetime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4FE448-40DE-4AEE-95F1-C171CCE7F4E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6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E70B1C-22A6-4E61-AD81-C49C0C0FA5FF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7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8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C1F15A-C3DB-4008-98D3-F9EC1C84B40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直線コネクタ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9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2F47D8-7D74-4F18-99F2-388E0B26197B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0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1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C225B4-F18E-4E2D-B5EF-A34F56FFCDC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正方形/長方形 8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2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DB082A-5F80-4ED3-B7EA-388416647226}" type="datetime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3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4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DE1D17-DBAF-425F-8919-1FDF27F3876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5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8FBB86-18D5-4F6E-BEC5-F323E2198BB9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6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7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42F8C7-CEC4-46FB-A92A-17D40027DE0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651149-F57E-48FF-A5FC-97C38CCB824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LHF PWG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7CB402-376A-4203-BCA4-8FF7C382CCB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440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A44339-5026-4182-9427-BED29C225002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6FBF9B-1478-48D9-9EDB-1F2E678A850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10"/>
          <p:cNvSpPr/>
          <p:nvPr/>
        </p:nvSpPr>
        <p:spPr>
          <a:xfrm>
            <a:off x="905040" y="21337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正方形/長方形 11"/>
          <p:cNvSpPr/>
          <p:nvPr/>
        </p:nvSpPr>
        <p:spPr>
          <a:xfrm>
            <a:off x="914400" y="353376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正方形/長方形 12"/>
          <p:cNvSpPr/>
          <p:nvPr/>
        </p:nvSpPr>
        <p:spPr>
          <a:xfrm>
            <a:off x="905040" y="21337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正方形/長方形 14"/>
          <p:cNvSpPr/>
          <p:nvPr/>
        </p:nvSpPr>
        <p:spPr>
          <a:xfrm>
            <a:off x="914400" y="353376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6877080" y="6524280"/>
            <a:ext cx="216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464653"/>
                </a:solidFill>
                <a:latin typeface="Times New Roman"/>
              </a:rPr>
              <a:t>JPS Fall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正方形/長方形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正方形/長方形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A49191-CCA7-42EE-936B-FD3993DC2102}" type="datetime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50AF42-4DF4-461A-823D-1FA7A92F52F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直線コネクタ 27"/>
          <p:cNvSpPr/>
          <p:nvPr/>
        </p:nvSpPr>
        <p:spPr>
          <a:xfrm>
            <a:off x="457200" y="64897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直線コネクタ 28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二等辺三角形 9"/>
          <p:cNvSpPr/>
          <p:nvPr/>
        </p:nvSpPr>
        <p:spPr>
          <a:xfrm rot="5400000">
            <a:off x="119880" y="6611040"/>
            <a:ext cx="191880" cy="6984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t" anchorCtr="1" vert="eaVert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4"/>
          </p:nvPr>
        </p:nvSpPr>
        <p:spPr>
          <a:xfrm>
            <a:off x="7093080" y="6524640"/>
            <a:ext cx="19922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464653"/>
                </a:solidFill>
                <a:latin typeface="Times New Roman"/>
              </a:rPr>
              <a:t>JPS Fall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5"/>
          </p:nvPr>
        </p:nvSpPr>
        <p:spPr>
          <a:xfrm>
            <a:off x="266760" y="6492960"/>
            <a:ext cx="488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8D2399-FD23-4ACF-A328-6F060E73858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168872-DAC8-4F51-AA29-4D6EFC3BE8BA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F20F83-88BD-4D95-8FE6-087271363C7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直線コネクタ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二等辺三角形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AC9E51-5D78-4573-AF01-733D3A7614F0}" type="datetime"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C096C0-1DC9-4A4C-A8B2-DE891C247E7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正方形/長方形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857640" y="649296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CF4B4E-1242-429F-8BA2-93BD01476ECC}" type="datetime"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26/07/31</a:t>
            </a:fld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5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898360" y="649296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PLHF P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1236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A3806F-D855-47A2-9BD1-6C9E53AE782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26920" y="210348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zimuthal</a:t>
            </a:r>
            <a:r>
              <a:rPr b="0" lang="ja-JP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BT measure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f charged pions and kaons in Au+Au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200GeV collisions at RHIC-PHENIX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ＭＳ 明朝"/>
              </a:rPr>
              <a:t>Takafumi Niida from Univ. of Tsukub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ＭＳ 明朝"/>
              </a:rPr>
              <a:t>for the PHENIX Collabor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1619280" y="5580000"/>
            <a:ext cx="2357280" cy="6555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5068800" y="5435640"/>
            <a:ext cx="2455920" cy="8017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631600" y="4508640"/>
            <a:ext cx="3849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S Fall 2011 @ Hirosaki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rrelation function for ka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w c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sinyukov’ fitting functio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ity: 20-60%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4246560" y="1268280"/>
            <a:ext cx="4862520" cy="5480280"/>
          </a:xfrm>
          <a:prstGeom prst="rect">
            <a:avLst/>
          </a:prstGeom>
          <a:ln w="0">
            <a:noFill/>
          </a:ln>
        </p:spPr>
      </p:pic>
      <p:grpSp>
        <p:nvGrpSpPr>
          <p:cNvPr id="906" name=""/>
          <p:cNvGrpSpPr/>
          <p:nvPr/>
        </p:nvGrpSpPr>
        <p:grpSpPr>
          <a:xfrm>
            <a:off x="2384280" y="1519200"/>
            <a:ext cx="1825560" cy="4919760"/>
            <a:chOff x="2384280" y="1519200"/>
            <a:chExt cx="1825560" cy="4919760"/>
          </a:xfrm>
        </p:grpSpPr>
        <p:grpSp>
          <p:nvGrpSpPr>
            <p:cNvPr id="907" name=""/>
            <p:cNvGrpSpPr/>
            <p:nvPr/>
          </p:nvGrpSpPr>
          <p:grpSpPr>
            <a:xfrm>
              <a:off x="2419200" y="1519200"/>
              <a:ext cx="1790640" cy="901800"/>
              <a:chOff x="2419200" y="1519200"/>
              <a:chExt cx="1790640" cy="901800"/>
            </a:xfrm>
          </p:grpSpPr>
          <p:sp>
            <p:nvSpPr>
              <p:cNvPr id="908" name=""/>
              <p:cNvSpPr/>
              <p:nvPr/>
            </p:nvSpPr>
            <p:spPr>
              <a:xfrm>
                <a:off x="2482920" y="1519200"/>
                <a:ext cx="900000" cy="90180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963880" y="1519200"/>
                <a:ext cx="900000" cy="90180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0" name=""/>
              <p:cNvGrpSpPr/>
              <p:nvPr/>
            </p:nvGrpSpPr>
            <p:grpSpPr>
              <a:xfrm>
                <a:off x="3173400" y="1852560"/>
                <a:ext cx="523800" cy="233280"/>
                <a:chOff x="3173400" y="1852560"/>
                <a:chExt cx="523800" cy="233280"/>
              </a:xfrm>
            </p:grpSpPr>
            <p:sp>
              <p:nvSpPr>
                <p:cNvPr id="911" name=""/>
                <p:cNvSpPr/>
                <p:nvPr/>
              </p:nvSpPr>
              <p:spPr>
                <a:xfrm rot="16200000">
                  <a:off x="3292560" y="1733400"/>
                  <a:ext cx="233280" cy="4716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598200" y="1854000"/>
                  <a:ext cx="99000" cy="23040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"/>
              <p:cNvSpPr/>
              <p:nvPr/>
            </p:nvSpPr>
            <p:spPr>
              <a:xfrm>
                <a:off x="2419200" y="1969920"/>
                <a:ext cx="152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90720" y="19098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2384280" y="2860920"/>
              <a:ext cx="1825560" cy="928440"/>
              <a:chOff x="2384280" y="2860920"/>
              <a:chExt cx="1825560" cy="928440"/>
            </a:xfrm>
          </p:grpSpPr>
          <p:sp>
            <p:nvSpPr>
              <p:cNvPr id="916" name=""/>
              <p:cNvSpPr/>
              <p:nvPr/>
            </p:nvSpPr>
            <p:spPr>
              <a:xfrm>
                <a:off x="2449440" y="286704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41560" y="286704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8" name=""/>
              <p:cNvGrpSpPr/>
              <p:nvPr/>
            </p:nvGrpSpPr>
            <p:grpSpPr>
              <a:xfrm>
                <a:off x="3086640" y="2860920"/>
                <a:ext cx="547200" cy="546840"/>
                <a:chOff x="3086640" y="2860920"/>
                <a:chExt cx="547200" cy="546840"/>
              </a:xfrm>
            </p:grpSpPr>
            <p:sp>
              <p:nvSpPr>
                <p:cNvPr id="919" name=""/>
                <p:cNvSpPr/>
                <p:nvPr/>
              </p:nvSpPr>
              <p:spPr>
                <a:xfrm rot="13500000">
                  <a:off x="3222360" y="2910960"/>
                  <a:ext cx="23832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rot="18900000">
                  <a:off x="3463560" y="2862000"/>
                  <a:ext cx="101520" cy="23544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2384280" y="332892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690720" y="32655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2384280" y="4076280"/>
              <a:ext cx="1825560" cy="991080"/>
              <a:chOff x="2384280" y="4076280"/>
              <a:chExt cx="1825560" cy="991080"/>
            </a:xfrm>
          </p:grpSpPr>
          <p:sp>
            <p:nvSpPr>
              <p:cNvPr id="924" name=""/>
              <p:cNvSpPr/>
              <p:nvPr/>
            </p:nvSpPr>
            <p:spPr>
              <a:xfrm>
                <a:off x="2449440" y="414504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941560" y="414504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3046320" y="4076280"/>
                <a:ext cx="239760" cy="536760"/>
                <a:chOff x="3046320" y="4076280"/>
                <a:chExt cx="239760" cy="536760"/>
              </a:xfrm>
            </p:grpSpPr>
            <p:sp>
              <p:nvSpPr>
                <p:cNvPr id="927" name=""/>
                <p:cNvSpPr/>
                <p:nvPr/>
              </p:nvSpPr>
              <p:spPr>
                <a:xfrm rot="10800000">
                  <a:off x="3046320" y="4129920"/>
                  <a:ext cx="23976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rot="16200000">
                  <a:off x="3115440" y="4008600"/>
                  <a:ext cx="101520" cy="23688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2384280" y="460692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90720" y="45435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2384280" y="5512320"/>
              <a:ext cx="1825560" cy="926640"/>
              <a:chOff x="2384280" y="5512320"/>
              <a:chExt cx="1825560" cy="926640"/>
            </a:xfrm>
          </p:grpSpPr>
          <p:sp>
            <p:nvSpPr>
              <p:cNvPr id="932" name=""/>
              <p:cNvSpPr/>
              <p:nvPr/>
            </p:nvSpPr>
            <p:spPr>
              <a:xfrm>
                <a:off x="2449440" y="551664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941560" y="551664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4" name=""/>
              <p:cNvGrpSpPr/>
              <p:nvPr/>
            </p:nvGrpSpPr>
            <p:grpSpPr>
              <a:xfrm>
                <a:off x="2700720" y="5512320"/>
                <a:ext cx="546120" cy="546120"/>
                <a:chOff x="2700720" y="5512320"/>
                <a:chExt cx="546120" cy="546120"/>
              </a:xfrm>
            </p:grpSpPr>
            <p:sp>
              <p:nvSpPr>
                <p:cNvPr id="935" name=""/>
                <p:cNvSpPr/>
                <p:nvPr/>
              </p:nvSpPr>
              <p:spPr>
                <a:xfrm rot="8100000">
                  <a:off x="2872800" y="5562360"/>
                  <a:ext cx="237960" cy="4827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rot="13500000">
                  <a:off x="2769120" y="5513400"/>
                  <a:ext cx="101160" cy="23508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7" name=""/>
              <p:cNvSpPr/>
              <p:nvPr/>
            </p:nvSpPr>
            <p:spPr>
              <a:xfrm>
                <a:off x="2384280" y="597852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0720" y="59148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"/>
          <p:cNvGrpSpPr/>
          <p:nvPr/>
        </p:nvGrpSpPr>
        <p:grpSpPr>
          <a:xfrm>
            <a:off x="4211640" y="1224000"/>
            <a:ext cx="4752720" cy="5373720"/>
            <a:chOff x="4211640" y="1224000"/>
            <a:chExt cx="4752720" cy="5373720"/>
          </a:xfrm>
        </p:grpSpPr>
        <p:sp>
          <p:nvSpPr>
            <p:cNvPr id="940" name=""/>
            <p:cNvSpPr/>
            <p:nvPr/>
          </p:nvSpPr>
          <p:spPr>
            <a:xfrm>
              <a:off x="4211640" y="1224000"/>
              <a:ext cx="0" cy="537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11640" y="1224000"/>
              <a:ext cx="47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778640" y="722160"/>
            <a:ext cx="3759120" cy="563400"/>
            <a:chOff x="4778640" y="722160"/>
            <a:chExt cx="3759120" cy="563400"/>
          </a:xfrm>
        </p:grpSpPr>
        <p:sp>
          <p:nvSpPr>
            <p:cNvPr id="943" name=""/>
            <p:cNvSpPr/>
            <p:nvPr/>
          </p:nvSpPr>
          <p:spPr>
            <a:xfrm>
              <a:off x="4778640" y="722160"/>
              <a:ext cx="473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10040" y="722160"/>
              <a:ext cx="609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89680" y="722160"/>
              <a:ext cx="528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863120" y="722160"/>
              <a:ext cx="6746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19FF7-F4E1-4137-BA71-A5FD5CC4D7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Azimuthal dependence of HBT radii for ka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Observed the oscillation for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side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os 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as well as pio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Data points are fitted by cosine series fun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044800" y="1565280"/>
                <a:ext cx="3612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Δφ</m:t>
                            </m:r>
                          </m:e>
                        </m:d>
                        <m:m>
                          <m:mr>
                            <m:e/>
                            <m:e>
                              <m:r>
                                <m:t xml:space="preserve">μ</m:t>
                              </m:r>
                              <m:r>
                                <m:t xml:space="preserve">=</m:t>
                              </m:r>
                              <m:r>
                                <m:t xml:space="preserve">s</m:t>
                              </m:r>
                              <m:r>
                                <m:t xml:space="preserve">,</m:t>
                              </m:r>
                              <m:r>
                                <m:t xml:space="preserve">o</m:t>
                              </m:r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Δφ</m:t>
                            </m:r>
                          </m:e>
                        </m:d>
                        <m:m>
                          <m:mr>
                            <m:e/>
                            <m:e>
                              <m:r>
                                <m:t xml:space="preserve">μ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s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58449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951" name=""/>
          <p:cNvGrpSpPr/>
          <p:nvPr/>
        </p:nvGrpSpPr>
        <p:grpSpPr>
          <a:xfrm>
            <a:off x="6411960" y="3141720"/>
            <a:ext cx="2516760" cy="2482920"/>
            <a:chOff x="6411960" y="3141720"/>
            <a:chExt cx="2516760" cy="2482920"/>
          </a:xfrm>
        </p:grpSpPr>
        <p:sp>
          <p:nvSpPr>
            <p:cNvPr id="952" name=""/>
            <p:cNvSpPr/>
            <p:nvPr/>
          </p:nvSpPr>
          <p:spPr>
            <a:xfrm>
              <a:off x="6411960" y="3936960"/>
              <a:ext cx="1174680" cy="1687680"/>
            </a:xfrm>
            <a:prstGeom prst="ellipse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63040" y="4721400"/>
              <a:ext cx="48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07880" y="437508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In-plane (⊿φ=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983280" y="3365640"/>
              <a:ext cx="0" cy="54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69240" y="3438720"/>
              <a:ext cx="112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Out-of-plane </a:t>
              </a:r>
              <a:br>
                <a:rPr sz="1200"/>
              </a:b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(⊿φ=π/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52080" y="4889520"/>
              <a:ext cx="12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ion pl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06640" y="4068720"/>
              <a:ext cx="45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⊿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54720" y="4449960"/>
              <a:ext cx="331920" cy="72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7013520" y="4260960"/>
              <a:ext cx="1235160" cy="541440"/>
              <a:chOff x="7013520" y="4260960"/>
              <a:chExt cx="1235160" cy="541440"/>
            </a:xfrm>
          </p:grpSpPr>
          <p:sp>
            <p:nvSpPr>
              <p:cNvPr id="961" name=""/>
              <p:cNvSpPr/>
              <p:nvPr/>
            </p:nvSpPr>
            <p:spPr>
              <a:xfrm>
                <a:off x="7013520" y="4802400"/>
                <a:ext cx="12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7013520" y="4260960"/>
                <a:ext cx="421560" cy="54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7354800" y="4479840"/>
              <a:ext cx="131760" cy="692280"/>
            </a:xfrm>
            <a:prstGeom prst="upDownArrow">
              <a:avLst>
                <a:gd name="adj1" fmla="val 50000"/>
                <a:gd name="adj2" fmla="val 104595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5400000">
              <a:off x="7354440" y="4656240"/>
              <a:ext cx="131760" cy="299880"/>
            </a:xfrm>
            <a:prstGeom prst="upDownArrow">
              <a:avLst>
                <a:gd name="adj1" fmla="val 50000"/>
                <a:gd name="adj2" fmla="val 45308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73760" y="3936960"/>
              <a:ext cx="451080" cy="45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5400000">
              <a:off x="6932880" y="3942360"/>
              <a:ext cx="131760" cy="422280"/>
            </a:xfrm>
            <a:prstGeom prst="upDownArrow">
              <a:avLst>
                <a:gd name="adj1" fmla="val 50000"/>
                <a:gd name="adj2" fmla="val 63801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923160" y="3936960"/>
              <a:ext cx="131760" cy="452520"/>
            </a:xfrm>
            <a:prstGeom prst="upDownArrow">
              <a:avLst>
                <a:gd name="adj1" fmla="val 50000"/>
                <a:gd name="adj2" fmla="val 6837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8145000" y="3141720"/>
              <a:ext cx="747720" cy="799920"/>
              <a:chOff x="8145000" y="3141720"/>
              <a:chExt cx="747720" cy="799920"/>
            </a:xfrm>
          </p:grpSpPr>
          <p:sp>
            <p:nvSpPr>
              <p:cNvPr id="969" name=""/>
              <p:cNvSpPr/>
              <p:nvPr/>
            </p:nvSpPr>
            <p:spPr>
              <a:xfrm rot="5400000">
                <a:off x="8355240" y="2931480"/>
                <a:ext cx="327240" cy="747720"/>
              </a:xfrm>
              <a:prstGeom prst="upDownArrow">
                <a:avLst>
                  <a:gd name="adj1" fmla="val 50000"/>
                  <a:gd name="adj2" fmla="val 45487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5400000">
                <a:off x="8355240" y="3404160"/>
                <a:ext cx="327240" cy="747720"/>
              </a:xfrm>
              <a:prstGeom prst="upDownArrow">
                <a:avLst>
                  <a:gd name="adj1" fmla="val 50000"/>
                  <a:gd name="adj2" fmla="val 4548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63A0-C05D-4945-9BBA-F8BA6D5454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ccentricity at freeze-ou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894960"/>
            <a:ext cx="82296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eccentricity is difined as                           by Blast-wave mod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Text Box 2"/>
          <p:cNvSpPr/>
          <p:nvPr/>
        </p:nvSpPr>
        <p:spPr>
          <a:xfrm>
            <a:off x="4282920" y="1512720"/>
            <a:ext cx="4465800" cy="62100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nitial eccentricity calculated by Glauber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final eccentricity calculated by ab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Object 2"/>
              <p:cNvSpPr txBox="1"/>
              <p:nvPr/>
            </p:nvSpPr>
            <p:spPr>
              <a:xfrm>
                <a:off x="3968640" y="766800"/>
                <a:ext cx="1324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in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>
            <a:off x="979560" y="5589720"/>
            <a:ext cx="6973920" cy="92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ENIX result is consitent with STAR result for p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ε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fin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of kaon is larger than that of pion and close to ε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initi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ue to different average m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 or different cross s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79280" y="1916280"/>
            <a:ext cx="2232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 ε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fina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= ε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ni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81800" y="2306520"/>
            <a:ext cx="2809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source shape betwe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tate and freeze-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9280" y="3125880"/>
            <a:ext cx="2087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 ε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fina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 ε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ni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81800" y="3516480"/>
            <a:ext cx="348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expands to In-plane dir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116000" y="3919680"/>
            <a:ext cx="1301760" cy="1331640"/>
            <a:chOff x="1116000" y="3919680"/>
            <a:chExt cx="1301760" cy="1331640"/>
          </a:xfrm>
        </p:grpSpPr>
        <p:sp>
          <p:nvSpPr>
            <p:cNvPr id="981" name=""/>
            <p:cNvSpPr/>
            <p:nvPr/>
          </p:nvSpPr>
          <p:spPr>
            <a:xfrm>
              <a:off x="1338120" y="3919680"/>
              <a:ext cx="851760" cy="133164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116000" y="3919680"/>
              <a:ext cx="1296360" cy="1331640"/>
            </a:xfrm>
            <a:prstGeom prst="ellipse">
              <a:avLst/>
            </a:prstGeom>
            <a:solidFill>
              <a:srgbClr val="ff99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92320" y="4507920"/>
              <a:ext cx="325440" cy="197280"/>
            </a:xfrm>
            <a:prstGeom prst="rightArrow">
              <a:avLst>
                <a:gd name="adj1" fmla="val 50000"/>
                <a:gd name="adj2" fmla="val 41241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700000">
              <a:off x="2055960" y="4259880"/>
              <a:ext cx="289080" cy="197280"/>
            </a:xfrm>
            <a:prstGeom prst="rightArrow">
              <a:avLst>
                <a:gd name="adj1" fmla="val 50000"/>
                <a:gd name="adj2" fmla="val 3663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900000">
              <a:off x="2055960" y="4725000"/>
              <a:ext cx="289080" cy="197280"/>
            </a:xfrm>
            <a:prstGeom prst="rightArrow">
              <a:avLst>
                <a:gd name="adj1" fmla="val 50000"/>
                <a:gd name="adj2" fmla="val 3663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0800000">
              <a:off x="1116000" y="4476960"/>
              <a:ext cx="325440" cy="197280"/>
            </a:xfrm>
            <a:prstGeom prst="rightArrow">
              <a:avLst>
                <a:gd name="adj1" fmla="val 50000"/>
                <a:gd name="adj2" fmla="val 41241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11700000">
              <a:off x="1187280" y="4259880"/>
              <a:ext cx="289080" cy="197280"/>
            </a:xfrm>
            <a:prstGeom prst="rightArrow">
              <a:avLst>
                <a:gd name="adj1" fmla="val 50000"/>
                <a:gd name="adj2" fmla="val 3663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9900000">
              <a:off x="1187280" y="4713120"/>
              <a:ext cx="289080" cy="197280"/>
            </a:xfrm>
            <a:prstGeom prst="rightArrow">
              <a:avLst>
                <a:gd name="adj1" fmla="val 50000"/>
                <a:gd name="adj2" fmla="val 3663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3746520" y="1809720"/>
            <a:ext cx="5578560" cy="37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88F0-3C43-484A-B5CB-474A78E8DF5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mary &amp; Next to d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s of azimuthal dependence of HBT radii for pion and kaon in Au+Au 200GeV colli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Observed the oscillation of R</a:t>
            </a:r>
            <a:r>
              <a:rPr b="0" lang="en-US" sz="1900" spc="-1" strike="noStrike" baseline="-25000">
                <a:solidFill>
                  <a:srgbClr val="464653"/>
                </a:solidFill>
                <a:latin typeface="Arial"/>
              </a:rPr>
              <a:t>side</a:t>
            </a: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 and R</a:t>
            </a:r>
            <a:r>
              <a:rPr b="0" lang="en-US" sz="1900" spc="-1" strike="noStrike" baseline="-25000">
                <a:solidFill>
                  <a:srgbClr val="464653"/>
                </a:solidFill>
                <a:latin typeface="Arial"/>
              </a:rPr>
              <a:t>out</a:t>
            </a: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 for kaon as well as for pion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4</a:t>
            </a:r>
            <a:r>
              <a:rPr b="0" lang="en-US" sz="1900" spc="-1" strike="noStrike" baseline="30000">
                <a:solidFill>
                  <a:srgbClr val="464653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 order in oscillation of R</a:t>
            </a:r>
            <a:r>
              <a:rPr b="0" lang="en-US" sz="1900" spc="-1" strike="noStrike" baseline="-25000">
                <a:solidFill>
                  <a:srgbClr val="464653"/>
                </a:solidFill>
                <a:latin typeface="Arial"/>
              </a:rPr>
              <a:t>side</a:t>
            </a: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 for pion is zero within systematic error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Final eccentricity of pion is consitent with STAR result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Final eccentricity of kaon is larger than that of pion  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to 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Need to check m</a:t>
            </a:r>
            <a:r>
              <a:rPr b="0" lang="en-US" sz="2100" spc="-1" strike="noStrike" baseline="-25000">
                <a:solidFill>
                  <a:srgbClr val="464653"/>
                </a:solidFill>
                <a:latin typeface="Arial"/>
              </a:rPr>
              <a:t>T</a:t>
            </a: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 dependence of final eccentricity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to understand the difference of pion and kaon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Comparison with model (ex.blast wave model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Arial"/>
              </a:rPr>
              <a:t>Azimuthal HBT w.r.t higher order event plan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using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 event plane is in progres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ides information about rel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urce shape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6620040" y="4467240"/>
            <a:ext cx="2490840" cy="1914120"/>
            <a:chOff x="6620040" y="4467240"/>
            <a:chExt cx="2490840" cy="1914120"/>
          </a:xfrm>
        </p:grpSpPr>
        <p:sp>
          <p:nvSpPr>
            <p:cNvPr id="993" name="Freeform 6"/>
            <p:cNvSpPr/>
            <p:nvPr/>
          </p:nvSpPr>
          <p:spPr>
            <a:xfrm rot="3696600">
              <a:off x="6844680" y="4987440"/>
              <a:ext cx="1010520" cy="111384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1113840"/>
                <a:gd name="textAreaBottom" fmla="*/ 1113840 h 1113840"/>
              </a:gdLst>
              <a:ahLst/>
              <a:rect l="textAreaLeft" t="textAreaTop" r="textAreaRight" b="textAreaBottom"/>
              <a:pathLst>
                <a:path w="673" h="741">
                  <a:moveTo>
                    <a:pt x="666" y="372"/>
                  </a:moveTo>
                  <a:cubicBezTo>
                    <a:pt x="660" y="445"/>
                    <a:pt x="514" y="537"/>
                    <a:pt x="416" y="592"/>
                  </a:cubicBezTo>
                  <a:cubicBezTo>
                    <a:pt x="318" y="647"/>
                    <a:pt x="149" y="741"/>
                    <a:pt x="80" y="703"/>
                  </a:cubicBezTo>
                  <a:cubicBezTo>
                    <a:pt x="11" y="665"/>
                    <a:pt x="2" y="478"/>
                    <a:pt x="1" y="366"/>
                  </a:cubicBezTo>
                  <a:cubicBezTo>
                    <a:pt x="1" y="255"/>
                    <a:pt x="0" y="70"/>
                    <a:pt x="75" y="35"/>
                  </a:cubicBezTo>
                  <a:cubicBezTo>
                    <a:pt x="150" y="0"/>
                    <a:pt x="356" y="99"/>
                    <a:pt x="455" y="156"/>
                  </a:cubicBezTo>
                  <a:cubicBezTo>
                    <a:pt x="553" y="212"/>
                    <a:pt x="673" y="285"/>
                    <a:pt x="666" y="37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4" name="Group 7"/>
            <p:cNvGrpSpPr/>
            <p:nvPr/>
          </p:nvGrpSpPr>
          <p:grpSpPr>
            <a:xfrm>
              <a:off x="6732720" y="4543560"/>
              <a:ext cx="1868040" cy="1837800"/>
              <a:chOff x="6732720" y="4543560"/>
              <a:chExt cx="1868040" cy="1837800"/>
            </a:xfrm>
          </p:grpSpPr>
          <p:sp>
            <p:nvSpPr>
              <p:cNvPr id="995" name="Line 8"/>
              <p:cNvSpPr/>
              <p:nvPr/>
            </p:nvSpPr>
            <p:spPr>
              <a:xfrm>
                <a:off x="7303680" y="5519880"/>
                <a:ext cx="129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Line 9"/>
              <p:cNvSpPr/>
              <p:nvPr/>
            </p:nvSpPr>
            <p:spPr>
              <a:xfrm flipH="1" flipV="1">
                <a:off x="6732720" y="4543560"/>
                <a:ext cx="574560" cy="9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0"/>
              <p:cNvSpPr/>
              <p:nvPr/>
            </p:nvSpPr>
            <p:spPr>
              <a:xfrm flipH="1">
                <a:off x="6732720" y="5519880"/>
                <a:ext cx="574560" cy="86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8" name="Group 11"/>
            <p:cNvGrpSpPr/>
            <p:nvPr/>
          </p:nvGrpSpPr>
          <p:grpSpPr>
            <a:xfrm>
              <a:off x="6977880" y="4663800"/>
              <a:ext cx="1178280" cy="967680"/>
              <a:chOff x="6977880" y="4663800"/>
              <a:chExt cx="1178280" cy="967680"/>
            </a:xfrm>
          </p:grpSpPr>
          <p:sp>
            <p:nvSpPr>
              <p:cNvPr id="999" name="Line 12"/>
              <p:cNvSpPr/>
              <p:nvPr/>
            </p:nvSpPr>
            <p:spPr>
              <a:xfrm>
                <a:off x="7301520" y="5526360"/>
                <a:ext cx="854640" cy="1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3"/>
              <p:cNvSpPr/>
              <p:nvPr/>
            </p:nvSpPr>
            <p:spPr>
              <a:xfrm flipV="1">
                <a:off x="7301520" y="5417280"/>
                <a:ext cx="854640" cy="1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Line 14"/>
              <p:cNvSpPr/>
              <p:nvPr/>
            </p:nvSpPr>
            <p:spPr>
              <a:xfrm flipV="1">
                <a:off x="7305480" y="5197320"/>
                <a:ext cx="7984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Line 15"/>
              <p:cNvSpPr/>
              <p:nvPr/>
            </p:nvSpPr>
            <p:spPr>
              <a:xfrm flipV="1">
                <a:off x="7305840" y="4987080"/>
                <a:ext cx="678240" cy="52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6"/>
              <p:cNvSpPr/>
              <p:nvPr/>
            </p:nvSpPr>
            <p:spPr>
              <a:xfrm flipV="1">
                <a:off x="7302960" y="4841640"/>
                <a:ext cx="530640" cy="67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Line 17"/>
              <p:cNvSpPr/>
              <p:nvPr/>
            </p:nvSpPr>
            <p:spPr>
              <a:xfrm flipV="1">
                <a:off x="7301880" y="4728240"/>
                <a:ext cx="336960" cy="79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8"/>
              <p:cNvSpPr/>
              <p:nvPr/>
            </p:nvSpPr>
            <p:spPr>
              <a:xfrm flipV="1">
                <a:off x="7300080" y="4668480"/>
                <a:ext cx="120240" cy="85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Line 19"/>
              <p:cNvSpPr/>
              <p:nvPr/>
            </p:nvSpPr>
            <p:spPr>
              <a:xfrm flipH="1" flipV="1">
                <a:off x="7196400" y="4663800"/>
                <a:ext cx="105120" cy="85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Line 20"/>
              <p:cNvSpPr/>
              <p:nvPr/>
            </p:nvSpPr>
            <p:spPr>
              <a:xfrm flipH="1" flipV="1">
                <a:off x="6977880" y="4720320"/>
                <a:ext cx="322560" cy="79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8" name="Text Box 21"/>
            <p:cNvSpPr/>
            <p:nvPr/>
          </p:nvSpPr>
          <p:spPr>
            <a:xfrm>
              <a:off x="8054280" y="538416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Text Box 22"/>
            <p:cNvSpPr/>
            <p:nvPr/>
          </p:nvSpPr>
          <p:spPr>
            <a:xfrm>
              <a:off x="8041680" y="51559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Text Box 23"/>
            <p:cNvSpPr/>
            <p:nvPr/>
          </p:nvSpPr>
          <p:spPr>
            <a:xfrm>
              <a:off x="7927560" y="49262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4"/>
            <p:cNvSpPr/>
            <p:nvPr/>
          </p:nvSpPr>
          <p:spPr>
            <a:xfrm>
              <a:off x="7755840" y="47545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5"/>
            <p:cNvSpPr/>
            <p:nvPr/>
          </p:nvSpPr>
          <p:spPr>
            <a:xfrm>
              <a:off x="7542000" y="463896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6"/>
            <p:cNvSpPr/>
            <p:nvPr/>
          </p:nvSpPr>
          <p:spPr>
            <a:xfrm>
              <a:off x="7354440" y="4524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7"/>
            <p:cNvSpPr/>
            <p:nvPr/>
          </p:nvSpPr>
          <p:spPr>
            <a:xfrm>
              <a:off x="7124400" y="44672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8"/>
            <p:cNvSpPr/>
            <p:nvPr/>
          </p:nvSpPr>
          <p:spPr>
            <a:xfrm>
              <a:off x="6895440" y="4524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⑧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Text Box 29"/>
            <p:cNvSpPr/>
            <p:nvPr/>
          </p:nvSpPr>
          <p:spPr>
            <a:xfrm>
              <a:off x="8486640" y="53787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創英角ﾎﾟｯﾌﾟ体"/>
                </a:rPr>
                <a:t>Psi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5836D-BDBC-4214-9E35-694C329404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ack u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933C-9FCA-4542-A708-D7D22F07ED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ＭＳ 明朝"/>
              </a:rPr>
              <a:t>Data sele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un7 Au+Au 200GeV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rack Cu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quality: 63 or 31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pion : pt &gt; 0.2[GeV/c] &amp;&amp; mom&lt;2.0[GeV/c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kaon : pt &gt; 0.3[GeV/c] &amp;&amp; mom&lt;2.0[GeV/c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mc &lt; 50[nsec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σ matching cut @ PC3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σ matching cut @ EMC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ecent &gt; 0.1[GeV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EMC-west(all sectors)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pion:  Pi&lt;2σ &amp;&amp; K&gt;2σ &amp;&amp; P&gt;2σ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kaon: Pi&gt;2σ &amp;&amp; K&lt;2σ &amp;&amp; P&gt;2σ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vent mix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Zvertex: 30[bins]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entrality: 20[bins] (10[bins] for kaon)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410400" indent="-2044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action plane by RxP: 30[bins] (20[bins] for kaon)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04480" indent="-2044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EE1D-3598-46A7-B45B-837BD49999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ENIX Detect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, Centra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BBC, ZDC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pla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Reaction Plane Detector(RxNP)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Drift Chamber, Pad Chamber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by EMC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Arial"/>
              </a:rPr>
              <a:t>Used all sectors in west arm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959280" cy="49467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2"/>
          <a:stretch/>
        </p:blipFill>
        <p:spPr>
          <a:xfrm>
            <a:off x="755640" y="3886200"/>
            <a:ext cx="3890880" cy="26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E8C3D-A7A6-4739-9C7F-7590730EB1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Correction of reaction plane resolut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6985080" cy="67500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1116000" y="2058840"/>
            <a:ext cx="5299200" cy="15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85D7D-E8B5-4F6E-909F-4A5F7704FD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s Motiv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is flo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1DF41-CC77-4905-ADF3-8373FF9577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895320"/>
            <a:ext cx="822960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HBT 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Quantum interference between identical two particle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Powerful tool to explore space-time evolution in HI collision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Correlation function c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2 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is defined as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tsch-Pratt parameterization at LCMS fram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side 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: transverse size of source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out   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: transverse size of source + emission duration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long  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: longitudinal size of souce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464653"/>
                </a:solidFill>
                <a:latin typeface="Arial"/>
              </a:rPr>
              <a:t>os</a:t>
            </a:r>
            <a:r>
              <a:rPr b="0" lang="en-US" sz="1600" spc="-1" strike="noStrike">
                <a:solidFill>
                  <a:srgbClr val="464653"/>
                </a:solidFill>
                <a:latin typeface="Arial"/>
              </a:rPr>
              <a:t>    : cross term between side and out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36480" y="4365720"/>
                <a:ext cx="57358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n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n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974880" y="2492280"/>
                <a:ext cx="33811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m>
                          <m:mr>
                            <m:e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ρ</m:t>
                                          </m:r>
                                        </m:e>
                                      </m:acc>
                                      <m:r>
                                        <m:t xml:space="preserve">(</m:t>
                                      </m:r>
                                      <m:r>
                                        <m:t xml:space="preserve">q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v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v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1" name=""/>
          <p:cNvSpPr/>
          <p:nvPr/>
        </p:nvSpPr>
        <p:spPr>
          <a:xfrm>
            <a:off x="1780200" y="3573360"/>
            <a:ext cx="2219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assuming gaussian sourc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7451640" y="1216080"/>
                <a:ext cx="8654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 rot="4203600">
            <a:off x="5084280" y="2201760"/>
            <a:ext cx="1271880" cy="2008440"/>
          </a:xfrm>
          <a:prstGeom prst="ellipse">
            <a:avLst/>
          </a:prstGeom>
          <a:solidFill>
            <a:srgbClr val="ff99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555040" y="2894040"/>
            <a:ext cx="519120" cy="36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555040" y="3595680"/>
            <a:ext cx="519120" cy="36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7639200" y="2637000"/>
                <a:ext cx="2808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7620120" y="3757680"/>
                <a:ext cx="2808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8" name=""/>
          <p:cNvSpPr/>
          <p:nvPr/>
        </p:nvSpPr>
        <p:spPr>
          <a:xfrm rot="20118600">
            <a:off x="5383080" y="3045960"/>
            <a:ext cx="1011240" cy="63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19575600">
            <a:off x="5013720" y="2555280"/>
            <a:ext cx="62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033520" y="3095280"/>
            <a:ext cx="405000" cy="52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903640" y="2572920"/>
            <a:ext cx="407880" cy="52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5149800" y="2630160"/>
            <a:ext cx="754200" cy="52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54600" y="3038400"/>
            <a:ext cx="38124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5916600" y="3096720"/>
            <a:ext cx="44640" cy="51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754960" y="3329280"/>
            <a:ext cx="377280" cy="5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013440" y="3057480"/>
            <a:ext cx="2482920" cy="743040"/>
            <a:chOff x="6013440" y="3057480"/>
            <a:chExt cx="2482920" cy="743040"/>
          </a:xfrm>
        </p:grpSpPr>
        <p:sp>
          <p:nvSpPr>
            <p:cNvPr id="777" name=""/>
            <p:cNvSpPr/>
            <p:nvPr/>
          </p:nvSpPr>
          <p:spPr>
            <a:xfrm flipV="1">
              <a:off x="6201720" y="3057480"/>
              <a:ext cx="229464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13440" y="3571560"/>
              <a:ext cx="2429280" cy="22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013440" y="3076560"/>
              <a:ext cx="2482920" cy="494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01720" y="3247560"/>
              <a:ext cx="224064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6446880" y="4660920"/>
            <a:ext cx="1336680" cy="1440000"/>
          </a:xfrm>
          <a:prstGeom prst="ellipse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304040" y="4968720"/>
            <a:ext cx="471600" cy="82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440480" y="5003640"/>
            <a:ext cx="189000" cy="789120"/>
          </a:xfrm>
          <a:prstGeom prst="upDownArrow">
            <a:avLst>
              <a:gd name="adj1" fmla="val 50000"/>
              <a:gd name="adj2" fmla="val 831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5400000">
            <a:off x="7468200" y="5161680"/>
            <a:ext cx="149400" cy="426960"/>
          </a:xfrm>
          <a:prstGeom prst="upDownArrow">
            <a:avLst>
              <a:gd name="adj1" fmla="val 50000"/>
              <a:gd name="adj2" fmla="val 568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543800" y="496872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543800" y="579276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968600" y="519120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954920" y="4968720"/>
            <a:ext cx="0" cy="824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304040" y="541656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773840" y="541656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304040" y="595008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53640" y="59850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822640" y="3819600"/>
            <a:ext cx="623880" cy="15904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5686560" y="2573280"/>
            <a:ext cx="1728720" cy="21448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80360" y="1628640"/>
                <a:ext cx="13683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m>
                              <m:mr>
                                <m:e>
                                  <m:r>
                                    <m:t xml:space="preserve">,</m:t>
                                  </m:r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out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/ {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1258920" y="2060640"/>
            <a:ext cx="4105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    : Probability of detecting a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: Probability of detecting pair parti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422F1-B7CA-4AD8-AEDC-A408ADA17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s 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894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muthal HBT analysi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Measures the source shape w.r.t Reaction Plane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Source shape at freeze-out is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Sensitive to “system lifetime”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Related to momentum anistropy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T Results for charged pion and ka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Centrality and m</a:t>
            </a:r>
            <a:r>
              <a:rPr b="0" lang="en-US" sz="1700" spc="-1" strike="noStrike" baseline="-25000">
                <a:solidFill>
                  <a:srgbClr val="464653"/>
                </a:solidFill>
                <a:latin typeface="Arial"/>
              </a:rPr>
              <a:t>T</a:t>
            </a: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 dependence were measured for pion and kaon</a:t>
            </a:r>
            <a:br>
              <a:rPr sz="1700"/>
            </a:br>
            <a:r>
              <a:rPr b="0" lang="ja-JP" sz="1700" spc="-1" strike="noStrike">
                <a:solidFill>
                  <a:srgbClr val="464653"/>
                </a:solidFill>
                <a:latin typeface="Arial"/>
              </a:rPr>
              <a:t>→</a:t>
            </a:r>
            <a:r>
              <a:rPr b="0" lang="en-US" sz="1700" spc="-1" strike="noStrike">
                <a:solidFill>
                  <a:srgbClr val="464653"/>
                </a:solidFill>
                <a:latin typeface="Arial"/>
              </a:rPr>
              <a:t>no significant difference between both specie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How about azimuthal dependence?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5580000" y="836640"/>
            <a:ext cx="3441600" cy="223848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716360" y="4246560"/>
            <a:ext cx="3816360" cy="268920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3816360" cy="268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DA20-95AA-4C0B-8E0A-D3A6E7DC26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nalysis flo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00000" y="894960"/>
            <a:ext cx="806472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Measure the experimantal C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Correct Event Plane resol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Finite resolution reduce the oscillation </a:t>
            </a:r>
            <a:br>
              <a:rPr sz="1900"/>
            </a:b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amplitude of HBT radii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U.Heinz et al, PRC66, 044903 (2002) 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itting C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Sinyukov fitting method </a:t>
            </a:r>
            <a:br>
              <a:rPr sz="1900"/>
            </a:br>
            <a:r>
              <a:rPr b="0" lang="en-US" sz="1900" spc="-1" strike="noStrike">
                <a:solidFill>
                  <a:srgbClr val="c0c0c0"/>
                </a:solidFill>
                <a:latin typeface="Arial"/>
              </a:rPr>
              <a:t>(includes coulomb correction and effect of long lived decay)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Get HBT radii(R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side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,R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,R</a:t>
            </a:r>
            <a:r>
              <a:rPr b="0" lang="en-US" sz="2000" spc="-1" strike="noStrike" baseline="-25000">
                <a:solidFill>
                  <a:srgbClr val="c0c0c0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,…) as a fitting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1476360" y="1341360"/>
                <a:ext cx="144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1488960" y="4724280"/>
                <a:ext cx="577692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e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alo</m:t>
                            </m:r>
                          </m:sup>
                        </m:sSubSup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[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n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n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6" name=""/>
          <p:cNvGrpSpPr/>
          <p:nvPr/>
        </p:nvGrpSpPr>
        <p:grpSpPr>
          <a:xfrm>
            <a:off x="74160" y="949320"/>
            <a:ext cx="825480" cy="5503320"/>
            <a:chOff x="74160" y="949320"/>
            <a:chExt cx="825480" cy="5503320"/>
          </a:xfrm>
        </p:grpSpPr>
        <p:sp>
          <p:nvSpPr>
            <p:cNvPr id="807" name=""/>
            <p:cNvSpPr/>
            <p:nvPr/>
          </p:nvSpPr>
          <p:spPr>
            <a:xfrm>
              <a:off x="479160" y="949320"/>
              <a:ext cx="419400" cy="4448880"/>
            </a:xfrm>
            <a:prstGeom prst="rect">
              <a:avLst/>
            </a:prstGeom>
            <a:solidFill>
              <a:srgbClr val="00b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0800000">
              <a:off x="74160" y="5396040"/>
              <a:ext cx="825480" cy="1056600"/>
            </a:xfrm>
            <a:prstGeom prst="rtTriangle">
              <a:avLst/>
            </a:prstGeom>
            <a:solidFill>
              <a:srgbClr val="00b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74160" y="949320"/>
            <a:ext cx="825480" cy="5503320"/>
            <a:chOff x="74160" y="949320"/>
            <a:chExt cx="825480" cy="5503320"/>
          </a:xfrm>
        </p:grpSpPr>
        <p:sp>
          <p:nvSpPr>
            <p:cNvPr id="810" name=""/>
            <p:cNvSpPr/>
            <p:nvPr/>
          </p:nvSpPr>
          <p:spPr>
            <a:xfrm>
              <a:off x="479160" y="949320"/>
              <a:ext cx="419400" cy="4448880"/>
            </a:xfrm>
            <a:prstGeom prst="rect">
              <a:avLst/>
            </a:prstGeom>
            <a:solidFill>
              <a:srgbClr val="ff33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0800000">
              <a:off x="74160" y="5396040"/>
              <a:ext cx="825480" cy="1056600"/>
            </a:xfrm>
            <a:prstGeom prst="rtTriangle">
              <a:avLst/>
            </a:prstGeom>
            <a:solidFill>
              <a:srgbClr val="ff33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80960" y="949320"/>
            <a:ext cx="419040" cy="1569960"/>
          </a:xfrm>
          <a:prstGeom prst="rect">
            <a:avLst/>
          </a:prstGeom>
          <a:solidFill>
            <a:srgbClr val="ff33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80960" y="946080"/>
            <a:ext cx="419040" cy="3024360"/>
          </a:xfrm>
          <a:prstGeom prst="rect">
            <a:avLst/>
          </a:prstGeom>
          <a:solidFill>
            <a:srgbClr val="ff33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4840" y="941400"/>
            <a:ext cx="419040" cy="4465800"/>
          </a:xfrm>
          <a:prstGeom prst="rect">
            <a:avLst/>
          </a:prstGeom>
          <a:solidFill>
            <a:srgbClr val="ff33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265200" y="1628640"/>
            <a:ext cx="357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(q): relative momentum dist. of Real pai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q): that of mixed pai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6372360" y="2397240"/>
            <a:ext cx="2050920" cy="19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B784-3D54-464E-B006-D510CA697B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8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8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8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8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rrelation function for p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894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c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inyukov’ fitting fun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ty:30-60%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4716360" y="861840"/>
            <a:ext cx="4368960" cy="595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042B-D898-418E-9EE1-D792123DC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rrelation 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894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Raw c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With sinyukov’ fitting fun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Centrality:30-60%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4716360" y="861840"/>
            <a:ext cx="4368960" cy="5951880"/>
          </a:xfrm>
          <a:prstGeom prst="rect">
            <a:avLst/>
          </a:prstGeom>
          <a:ln w="0">
            <a:noFill/>
          </a:ln>
        </p:spPr>
      </p:pic>
      <p:grpSp>
        <p:nvGrpSpPr>
          <p:cNvPr id="823" name=""/>
          <p:cNvGrpSpPr/>
          <p:nvPr/>
        </p:nvGrpSpPr>
        <p:grpSpPr>
          <a:xfrm>
            <a:off x="2744640" y="836640"/>
            <a:ext cx="1825560" cy="5256360"/>
            <a:chOff x="2744640" y="836640"/>
            <a:chExt cx="1825560" cy="5256360"/>
          </a:xfrm>
        </p:grpSpPr>
        <p:grpSp>
          <p:nvGrpSpPr>
            <p:cNvPr id="824" name=""/>
            <p:cNvGrpSpPr/>
            <p:nvPr/>
          </p:nvGrpSpPr>
          <p:grpSpPr>
            <a:xfrm>
              <a:off x="2779560" y="836640"/>
              <a:ext cx="1790640" cy="901800"/>
              <a:chOff x="2779560" y="836640"/>
              <a:chExt cx="1790640" cy="901800"/>
            </a:xfrm>
          </p:grpSpPr>
          <p:sp>
            <p:nvSpPr>
              <p:cNvPr id="825" name=""/>
              <p:cNvSpPr/>
              <p:nvPr/>
            </p:nvSpPr>
            <p:spPr>
              <a:xfrm>
                <a:off x="2843280" y="836640"/>
                <a:ext cx="900000" cy="90180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324240" y="836640"/>
                <a:ext cx="900000" cy="90180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3533760" y="1170000"/>
                <a:ext cx="523800" cy="233280"/>
                <a:chOff x="3533760" y="1170000"/>
                <a:chExt cx="523800" cy="233280"/>
              </a:xfrm>
            </p:grpSpPr>
            <p:sp>
              <p:nvSpPr>
                <p:cNvPr id="828" name=""/>
                <p:cNvSpPr/>
                <p:nvPr/>
              </p:nvSpPr>
              <p:spPr>
                <a:xfrm rot="16200000">
                  <a:off x="3652920" y="1050840"/>
                  <a:ext cx="233280" cy="4716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958560" y="1171440"/>
                  <a:ext cx="99000" cy="23040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"/>
              <p:cNvSpPr/>
              <p:nvPr/>
            </p:nvSpPr>
            <p:spPr>
              <a:xfrm>
                <a:off x="2779560" y="1287360"/>
                <a:ext cx="152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051080" y="12272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2744640" y="2284560"/>
              <a:ext cx="1825560" cy="928440"/>
              <a:chOff x="2744640" y="2284560"/>
              <a:chExt cx="1825560" cy="928440"/>
            </a:xfrm>
          </p:grpSpPr>
          <p:sp>
            <p:nvSpPr>
              <p:cNvPr id="833" name=""/>
              <p:cNvSpPr/>
              <p:nvPr/>
            </p:nvSpPr>
            <p:spPr>
              <a:xfrm>
                <a:off x="2809800" y="229068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01920" y="229068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447000" y="2284560"/>
                <a:ext cx="547200" cy="546840"/>
                <a:chOff x="3447000" y="2284560"/>
                <a:chExt cx="547200" cy="546840"/>
              </a:xfrm>
            </p:grpSpPr>
            <p:sp>
              <p:nvSpPr>
                <p:cNvPr id="836" name=""/>
                <p:cNvSpPr/>
                <p:nvPr/>
              </p:nvSpPr>
              <p:spPr>
                <a:xfrm rot="13500000">
                  <a:off x="3582720" y="2334600"/>
                  <a:ext cx="23832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18900000">
                  <a:off x="3823920" y="2285640"/>
                  <a:ext cx="101520" cy="23544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"/>
              <p:cNvSpPr/>
              <p:nvPr/>
            </p:nvSpPr>
            <p:spPr>
              <a:xfrm>
                <a:off x="2744640" y="275256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080" y="26892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744640" y="3661920"/>
              <a:ext cx="1825560" cy="991080"/>
              <a:chOff x="2744640" y="3661920"/>
              <a:chExt cx="1825560" cy="991080"/>
            </a:xfrm>
          </p:grpSpPr>
          <p:sp>
            <p:nvSpPr>
              <p:cNvPr id="841" name=""/>
              <p:cNvSpPr/>
              <p:nvPr/>
            </p:nvSpPr>
            <p:spPr>
              <a:xfrm>
                <a:off x="2809800" y="3730680"/>
                <a:ext cx="92088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01920" y="3730680"/>
                <a:ext cx="922320" cy="92232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3406680" y="3661920"/>
                <a:ext cx="239760" cy="536760"/>
                <a:chOff x="3406680" y="3661920"/>
                <a:chExt cx="239760" cy="536760"/>
              </a:xfrm>
            </p:grpSpPr>
            <p:sp>
              <p:nvSpPr>
                <p:cNvPr id="844" name=""/>
                <p:cNvSpPr/>
                <p:nvPr/>
              </p:nvSpPr>
              <p:spPr>
                <a:xfrm rot="10800000">
                  <a:off x="3406680" y="3715560"/>
                  <a:ext cx="23976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rot="16200000">
                  <a:off x="3475800" y="3594240"/>
                  <a:ext cx="101520" cy="23688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>
                <a:off x="2744640" y="419256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051080" y="41292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2744640" y="5165280"/>
              <a:ext cx="1825560" cy="927720"/>
              <a:chOff x="2744640" y="5165280"/>
              <a:chExt cx="1825560" cy="927720"/>
            </a:xfrm>
          </p:grpSpPr>
          <p:sp>
            <p:nvSpPr>
              <p:cNvPr id="849" name=""/>
              <p:cNvSpPr/>
              <p:nvPr/>
            </p:nvSpPr>
            <p:spPr>
              <a:xfrm>
                <a:off x="2809800" y="5170320"/>
                <a:ext cx="920880" cy="92268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01920" y="5170320"/>
                <a:ext cx="922320" cy="922680"/>
              </a:xfrm>
              <a:prstGeom prst="ellipse">
                <a:avLst/>
              </a:prstGeom>
              <a:solidFill>
                <a:srgbClr val="ff993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3060720" y="5165280"/>
                <a:ext cx="546480" cy="546840"/>
                <a:chOff x="3060720" y="5165280"/>
                <a:chExt cx="546480" cy="546840"/>
              </a:xfrm>
            </p:grpSpPr>
            <p:sp>
              <p:nvSpPr>
                <p:cNvPr id="852" name=""/>
                <p:cNvSpPr/>
                <p:nvPr/>
              </p:nvSpPr>
              <p:spPr>
                <a:xfrm rot="8100000">
                  <a:off x="3233160" y="5215680"/>
                  <a:ext cx="237960" cy="483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13500000">
                  <a:off x="3128760" y="5166360"/>
                  <a:ext cx="101520" cy="23508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"/>
              <p:cNvSpPr/>
              <p:nvPr/>
            </p:nvSpPr>
            <p:spPr>
              <a:xfrm>
                <a:off x="2744640" y="5632560"/>
                <a:ext cx="156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051080" y="55688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.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56" name=""/>
          <p:cNvGrpSpPr/>
          <p:nvPr/>
        </p:nvGrpSpPr>
        <p:grpSpPr>
          <a:xfrm>
            <a:off x="4572000" y="765000"/>
            <a:ext cx="4464000" cy="5950080"/>
            <a:chOff x="4572000" y="765000"/>
            <a:chExt cx="4464000" cy="5950080"/>
          </a:xfrm>
        </p:grpSpPr>
        <p:sp>
          <p:nvSpPr>
            <p:cNvPr id="857" name=""/>
            <p:cNvSpPr/>
            <p:nvPr/>
          </p:nvSpPr>
          <p:spPr>
            <a:xfrm>
              <a:off x="4572000" y="765000"/>
              <a:ext cx="0" cy="595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572000" y="765000"/>
              <a:ext cx="44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005080" y="138240"/>
            <a:ext cx="3825360" cy="623160"/>
            <a:chOff x="5005080" y="138240"/>
            <a:chExt cx="3825360" cy="623160"/>
          </a:xfrm>
        </p:grpSpPr>
        <p:sp>
          <p:nvSpPr>
            <p:cNvPr id="860" name=""/>
            <p:cNvSpPr/>
            <p:nvPr/>
          </p:nvSpPr>
          <p:spPr>
            <a:xfrm>
              <a:off x="5005080" y="141120"/>
              <a:ext cx="5115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36840" y="141120"/>
              <a:ext cx="6638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114680" y="138240"/>
              <a:ext cx="57528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88840" y="138240"/>
              <a:ext cx="741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A0EA-4EEC-4E8E-8C31-C475E4A134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Azimuthal dependence of HBT radii for p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Observed the oscillation for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side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46465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Different emission duration between in-plane and out-of-plane at 0-10%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Arial"/>
              </a:rPr>
              <a:t>Data points are fitted by cosine series fun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116000" y="1924200"/>
                <a:ext cx="518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Δφ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Δφ</m:t>
                            </m:r>
                          </m:e>
                        </m:d>
                        <m:m>
                          <m:mr>
                            <m:e/>
                            <m:e>
                              <m:r>
                                <m:t xml:space="preserve">μ</m:t>
                              </m:r>
                              <m:r>
                                <m:t xml:space="preserve">=</m:t>
                              </m:r>
                              <m:r>
                                <m:t xml:space="preserve">s</m:t>
                              </m:r>
                              <m:r>
                                <m:t xml:space="preserve">,</m:t>
                              </m:r>
                              <m:r>
                                <m:t xml:space="preserve">o</m:t>
                              </m:r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Δφ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Δφ</m:t>
                            </m:r>
                          </m:e>
                        </m:d>
                        <m:m>
                          <m:mr>
                            <m:e/>
                            <m:e>
                              <m:r>
                                <m:t xml:space="preserve">μ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s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382680" y="2781360"/>
            <a:ext cx="58449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868" name=""/>
          <p:cNvGrpSpPr/>
          <p:nvPr/>
        </p:nvGrpSpPr>
        <p:grpSpPr>
          <a:xfrm>
            <a:off x="6411960" y="3060720"/>
            <a:ext cx="2516760" cy="2482920"/>
            <a:chOff x="6411960" y="3060720"/>
            <a:chExt cx="2516760" cy="2482920"/>
          </a:xfrm>
        </p:grpSpPr>
        <p:sp>
          <p:nvSpPr>
            <p:cNvPr id="869" name=""/>
            <p:cNvSpPr/>
            <p:nvPr/>
          </p:nvSpPr>
          <p:spPr>
            <a:xfrm>
              <a:off x="6411960" y="3855960"/>
              <a:ext cx="1174680" cy="1687680"/>
            </a:xfrm>
            <a:prstGeom prst="ellipse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763040" y="4640400"/>
              <a:ext cx="48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07880" y="429408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In-plane (⊿φ=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983280" y="3284640"/>
              <a:ext cx="0" cy="54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69240" y="3357720"/>
              <a:ext cx="112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Out-of-plane </a:t>
              </a:r>
              <a:br>
                <a:rPr sz="1200"/>
              </a:b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(⊿φ=π/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552080" y="4808520"/>
              <a:ext cx="12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ion pl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06640" y="3987720"/>
              <a:ext cx="45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⊿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54720" y="4368960"/>
              <a:ext cx="331920" cy="72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7013520" y="4179960"/>
              <a:ext cx="1235160" cy="541440"/>
              <a:chOff x="7013520" y="4179960"/>
              <a:chExt cx="1235160" cy="541440"/>
            </a:xfrm>
          </p:grpSpPr>
          <p:sp>
            <p:nvSpPr>
              <p:cNvPr id="878" name=""/>
              <p:cNvSpPr/>
              <p:nvPr/>
            </p:nvSpPr>
            <p:spPr>
              <a:xfrm>
                <a:off x="7013520" y="4721400"/>
                <a:ext cx="12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7013520" y="4179960"/>
                <a:ext cx="421560" cy="54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7354800" y="4398840"/>
              <a:ext cx="131760" cy="692280"/>
            </a:xfrm>
            <a:prstGeom prst="upDownArrow">
              <a:avLst>
                <a:gd name="adj1" fmla="val 50000"/>
                <a:gd name="adj2" fmla="val 104595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5400000">
              <a:off x="7354440" y="4575240"/>
              <a:ext cx="131760" cy="299880"/>
            </a:xfrm>
            <a:prstGeom prst="upDownArrow">
              <a:avLst>
                <a:gd name="adj1" fmla="val 50000"/>
                <a:gd name="adj2" fmla="val 45308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773760" y="3855960"/>
              <a:ext cx="451080" cy="45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5400000">
              <a:off x="6932880" y="3861360"/>
              <a:ext cx="131760" cy="422280"/>
            </a:xfrm>
            <a:prstGeom prst="upDownArrow">
              <a:avLst>
                <a:gd name="adj1" fmla="val 50000"/>
                <a:gd name="adj2" fmla="val 63801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23160" y="3855960"/>
              <a:ext cx="131760" cy="452520"/>
            </a:xfrm>
            <a:prstGeom prst="upDownArrow">
              <a:avLst>
                <a:gd name="adj1" fmla="val 50000"/>
                <a:gd name="adj2" fmla="val 6837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8145000" y="3060720"/>
              <a:ext cx="747720" cy="799920"/>
              <a:chOff x="8145000" y="3060720"/>
              <a:chExt cx="747720" cy="799920"/>
            </a:xfrm>
          </p:grpSpPr>
          <p:sp>
            <p:nvSpPr>
              <p:cNvPr id="886" name=""/>
              <p:cNvSpPr/>
              <p:nvPr/>
            </p:nvSpPr>
            <p:spPr>
              <a:xfrm rot="5400000">
                <a:off x="8355240" y="2850480"/>
                <a:ext cx="327240" cy="747720"/>
              </a:xfrm>
              <a:prstGeom prst="upDownArrow">
                <a:avLst>
                  <a:gd name="adj1" fmla="val 50000"/>
                  <a:gd name="adj2" fmla="val 45487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5400000">
                <a:off x="8355240" y="3323160"/>
                <a:ext cx="327240" cy="747720"/>
              </a:xfrm>
              <a:prstGeom prst="upDownArrow">
                <a:avLst>
                  <a:gd name="adj1" fmla="val 50000"/>
                  <a:gd name="adj2" fmla="val 4548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AD20-FA1B-49C3-B3A6-AB99264F21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Fourier components of azimuthal HBT radii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88092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ier component for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aluculated by the following f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5948280" y="3392640"/>
            <a:ext cx="1144800" cy="1476360"/>
            <a:chOff x="5948280" y="3392640"/>
            <a:chExt cx="1144800" cy="1476360"/>
          </a:xfrm>
        </p:grpSpPr>
        <p:sp>
          <p:nvSpPr>
            <p:cNvPr id="891" name=""/>
            <p:cNvSpPr/>
            <p:nvPr/>
          </p:nvSpPr>
          <p:spPr>
            <a:xfrm>
              <a:off x="5992920" y="3392640"/>
              <a:ext cx="1042200" cy="14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48280" y="3595320"/>
              <a:ext cx="1144800" cy="1127160"/>
            </a:xfrm>
            <a:custGeom>
              <a:avLst/>
              <a:gdLst/>
              <a:ahLst/>
              <a:rect l="l" t="t" r="r" b="b"/>
              <a:pathLst>
                <a:path w="1898" h="1869">
                  <a:moveTo>
                    <a:pt x="25" y="1496"/>
                  </a:moveTo>
                  <a:cubicBezTo>
                    <a:pt x="50" y="1366"/>
                    <a:pt x="194" y="1124"/>
                    <a:pt x="198" y="946"/>
                  </a:cubicBezTo>
                  <a:cubicBezTo>
                    <a:pt x="202" y="768"/>
                    <a:pt x="64" y="567"/>
                    <a:pt x="50" y="426"/>
                  </a:cubicBezTo>
                  <a:cubicBezTo>
                    <a:pt x="36" y="285"/>
                    <a:pt x="54" y="165"/>
                    <a:pt x="116" y="97"/>
                  </a:cubicBezTo>
                  <a:cubicBezTo>
                    <a:pt x="178" y="29"/>
                    <a:pt x="279" y="0"/>
                    <a:pt x="420" y="15"/>
                  </a:cubicBezTo>
                  <a:cubicBezTo>
                    <a:pt x="561" y="30"/>
                    <a:pt x="774" y="186"/>
                    <a:pt x="963" y="189"/>
                  </a:cubicBezTo>
                  <a:cubicBezTo>
                    <a:pt x="1152" y="192"/>
                    <a:pt x="1409" y="43"/>
                    <a:pt x="1556" y="33"/>
                  </a:cubicBezTo>
                  <a:cubicBezTo>
                    <a:pt x="1703" y="23"/>
                    <a:pt x="1796" y="56"/>
                    <a:pt x="1847" y="126"/>
                  </a:cubicBezTo>
                  <a:cubicBezTo>
                    <a:pt x="1898" y="196"/>
                    <a:pt x="1886" y="319"/>
                    <a:pt x="1860" y="451"/>
                  </a:cubicBezTo>
                  <a:cubicBezTo>
                    <a:pt x="1834" y="583"/>
                    <a:pt x="1688" y="737"/>
                    <a:pt x="1688" y="921"/>
                  </a:cubicBezTo>
                  <a:cubicBezTo>
                    <a:pt x="1688" y="1105"/>
                    <a:pt x="1879" y="1401"/>
                    <a:pt x="1860" y="1555"/>
                  </a:cubicBezTo>
                  <a:cubicBezTo>
                    <a:pt x="1841" y="1709"/>
                    <a:pt x="1730" y="1817"/>
                    <a:pt x="1572" y="1843"/>
                  </a:cubicBezTo>
                  <a:cubicBezTo>
                    <a:pt x="1414" y="1869"/>
                    <a:pt x="1122" y="1711"/>
                    <a:pt x="914" y="1711"/>
                  </a:cubicBezTo>
                  <a:cubicBezTo>
                    <a:pt x="706" y="1711"/>
                    <a:pt x="468" y="1841"/>
                    <a:pt x="324" y="1843"/>
                  </a:cubicBezTo>
                  <a:cubicBezTo>
                    <a:pt x="180" y="1845"/>
                    <a:pt x="100" y="1784"/>
                    <a:pt x="50" y="1726"/>
                  </a:cubicBezTo>
                  <a:cubicBezTo>
                    <a:pt x="0" y="1668"/>
                    <a:pt x="30" y="1544"/>
                    <a:pt x="25" y="1496"/>
                  </a:cubicBez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7356600" y="3335400"/>
            <a:ext cx="1606320" cy="1606320"/>
            <a:chOff x="7356600" y="3335400"/>
            <a:chExt cx="1606320" cy="1606320"/>
          </a:xfrm>
        </p:grpSpPr>
        <p:sp>
          <p:nvSpPr>
            <p:cNvPr id="894" name=""/>
            <p:cNvSpPr/>
            <p:nvPr/>
          </p:nvSpPr>
          <p:spPr>
            <a:xfrm>
              <a:off x="7632360" y="3392640"/>
              <a:ext cx="1041840" cy="14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700000">
              <a:off x="7587000" y="3574800"/>
              <a:ext cx="1144800" cy="1126800"/>
            </a:xfrm>
            <a:custGeom>
              <a:avLst/>
              <a:gdLst/>
              <a:ahLst/>
              <a:rect l="l" t="t" r="r" b="b"/>
              <a:pathLst>
                <a:path w="1898" h="1869">
                  <a:moveTo>
                    <a:pt x="25" y="1496"/>
                  </a:moveTo>
                  <a:cubicBezTo>
                    <a:pt x="50" y="1366"/>
                    <a:pt x="194" y="1124"/>
                    <a:pt x="198" y="946"/>
                  </a:cubicBezTo>
                  <a:cubicBezTo>
                    <a:pt x="202" y="768"/>
                    <a:pt x="64" y="567"/>
                    <a:pt x="50" y="426"/>
                  </a:cubicBezTo>
                  <a:cubicBezTo>
                    <a:pt x="36" y="285"/>
                    <a:pt x="54" y="165"/>
                    <a:pt x="116" y="97"/>
                  </a:cubicBezTo>
                  <a:cubicBezTo>
                    <a:pt x="178" y="29"/>
                    <a:pt x="279" y="0"/>
                    <a:pt x="420" y="15"/>
                  </a:cubicBezTo>
                  <a:cubicBezTo>
                    <a:pt x="561" y="30"/>
                    <a:pt x="774" y="186"/>
                    <a:pt x="963" y="189"/>
                  </a:cubicBezTo>
                  <a:cubicBezTo>
                    <a:pt x="1152" y="192"/>
                    <a:pt x="1409" y="43"/>
                    <a:pt x="1556" y="33"/>
                  </a:cubicBezTo>
                  <a:cubicBezTo>
                    <a:pt x="1703" y="23"/>
                    <a:pt x="1796" y="56"/>
                    <a:pt x="1847" y="126"/>
                  </a:cubicBezTo>
                  <a:cubicBezTo>
                    <a:pt x="1898" y="196"/>
                    <a:pt x="1886" y="319"/>
                    <a:pt x="1860" y="451"/>
                  </a:cubicBezTo>
                  <a:cubicBezTo>
                    <a:pt x="1834" y="583"/>
                    <a:pt x="1688" y="737"/>
                    <a:pt x="1688" y="921"/>
                  </a:cubicBezTo>
                  <a:cubicBezTo>
                    <a:pt x="1688" y="1105"/>
                    <a:pt x="1879" y="1401"/>
                    <a:pt x="1860" y="1555"/>
                  </a:cubicBezTo>
                  <a:cubicBezTo>
                    <a:pt x="1841" y="1709"/>
                    <a:pt x="1730" y="1817"/>
                    <a:pt x="1572" y="1843"/>
                  </a:cubicBezTo>
                  <a:cubicBezTo>
                    <a:pt x="1414" y="1869"/>
                    <a:pt x="1122" y="1711"/>
                    <a:pt x="914" y="1711"/>
                  </a:cubicBezTo>
                  <a:cubicBezTo>
                    <a:pt x="706" y="1711"/>
                    <a:pt x="468" y="1841"/>
                    <a:pt x="324" y="1843"/>
                  </a:cubicBezTo>
                  <a:cubicBezTo>
                    <a:pt x="180" y="1845"/>
                    <a:pt x="100" y="1784"/>
                    <a:pt x="50" y="1726"/>
                  </a:cubicBezTo>
                  <a:cubicBezTo>
                    <a:pt x="0" y="1668"/>
                    <a:pt x="30" y="1544"/>
                    <a:pt x="25" y="1496"/>
                  </a:cubicBez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964480" y="2840040"/>
            <a:ext cx="9626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,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4760" y="2835360"/>
            <a:ext cx="9900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,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900000" y="5734080"/>
            <a:ext cx="7986960" cy="647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order Fourier component seems to have negative valu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t it’s zero within systematic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332000" y="1341360"/>
                <a:ext cx="482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de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de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Δφ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de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Δ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4572000" y="1341360"/>
            <a:ext cx="576360" cy="503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00360" y="1341360"/>
            <a:ext cx="57636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555480" y="1844640"/>
            <a:ext cx="557856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CEAC-D4F8-432B-A854-1F1147E41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8:07:25Z</dcterms:created>
  <dc:creator/>
  <dc:description/>
  <dc:language>en-US</dc:language>
  <cp:lastModifiedBy>niida</cp:lastModifiedBy>
  <dcterms:modified xsi:type="dcterms:W3CDTF">2011-09-15T16:25:57Z</dcterms:modified>
  <cp:revision>131</cp:revision>
  <dc:subject/>
  <dc:title>Azimuthal HBT Analysis  @ Run7Au+Au 200GeV </dc:title>
</cp:coreProperties>
</file>