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3232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 type="dt" idx="48"/>
          </p:nvPr>
        </p:nvSpPr>
        <p:spPr>
          <a:xfrm>
            <a:off x="4278240" y="-36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 type="ftr" idx="49"/>
          </p:nvPr>
        </p:nvSpPr>
        <p:spPr>
          <a:xfrm>
            <a:off x="0" y="1015488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 type="sldNum" idx="50"/>
          </p:nvPr>
        </p:nvSpPr>
        <p:spPr>
          <a:xfrm>
            <a:off x="4278240" y="1015488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BD50B2-D833-4080-BED4-C0AA39368B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13"/>
          <p:cNvSpPr/>
          <p:nvPr/>
        </p:nvSpPr>
        <p:spPr>
          <a:xfrm>
            <a:off x="4278240" y="1015524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1DCB5D-4400-4725-8A5F-93E4EE67E5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0" y="-130032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90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AE946F-D0CF-4909-BA37-1C4C51B5B4C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13"/>
          <p:cNvSpPr/>
          <p:nvPr/>
        </p:nvSpPr>
        <p:spPr>
          <a:xfrm>
            <a:off x="4278240" y="1015524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FCE45F-CB53-43BD-A197-176FFCF38F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0" y="-228960"/>
            <a:ext cx="1440" cy="32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90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39DF90-5A39-4B79-8406-94CB78CB1D8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0183-5050-4E66-AE30-7585C033C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7D63-6BE3-4837-89E6-EE6C2C71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F476B-D5C1-4183-AA49-E81887F7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5F2A9-5AAA-489D-99D9-B5FDF5B7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500F7-18D6-4EFD-BC70-F2607191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811E7-2C22-4DF5-BB8F-08748F09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8F264-19C2-4360-B8D7-B2D2A7C5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13D0D-AD45-47E2-94AD-8518A797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B2B24-6822-4B99-82C2-0B35DE72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954B2-2E6E-48AE-BC61-C3C7C5F19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11610-2E75-4F44-992B-E6D6F79B3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21D24C-C6A8-4E32-A2A7-F91475BA6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B9EA-8026-43DF-BEE8-194034D57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EBCFBD-DD49-4ED2-8DE1-FFCF307D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0CAA59-3B99-4353-98FB-24A65F2B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83EE2-B4F1-4858-A1F0-887DFE6B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1E5AAA-2239-4362-BACC-AC14B148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FE8DF7-AE93-4B1C-8F2E-4C072336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DD8EC-8D98-43CE-A2A1-88F1A989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FCBDEA-B8B2-4FF3-91E8-4CD12C0A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77BEA5-2D17-4414-A85D-0CA49CC4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EF0FD0-AFF0-4FC7-AFF2-20D68472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29E2D9-D828-40FB-8EE1-ECF01101A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D13D-5DD9-422F-BF94-DEC17D050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9DD046-86FE-4093-9413-59240C3BC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433AB5-A731-41B6-B185-C970B4EDF9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71A67F-89D6-42C3-B893-57F9FCD1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2242E8-7AF8-4686-8246-3B3AA337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BC7E19-BFD5-4D90-9C7F-2AC272BD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AE0BDE-46B0-489B-8F9E-448A8BE0D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98BFEB-5056-4934-924A-088AAD259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CBBEE7-56E9-404A-9331-12F64B81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F87376-8033-4F45-BEEE-C9A57F4A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C32708-1E8C-4DCD-AC92-747D286A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6D7C0-2141-439E-BE6F-EB664A0EE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E64931-568C-402A-9F36-3D3A4EDD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1F2269-FCB6-45C3-B2E7-D1D1579E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15639A-FBE9-4E8B-BB92-00E2BE1B79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B421801-9A5E-44D6-AA37-C2ED2E4C0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B731B8-E29C-47DB-9B80-9222D6E7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0382B1D-5791-4F36-BDAA-FF4C17F1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43BBE2F-6F52-44D5-B067-CFB6FD2B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156E30F-B3EE-4CFB-B912-0D2A032E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142BD89-0644-4563-8A6B-FD42AA87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8D3A923-52E4-45A6-9F2F-DFB3835B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C637-971E-44B0-B637-71B0F442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E5B783-4532-4295-ACAC-E59D874A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B51989D-D627-494E-BCB6-3C9718DB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46BF61D-9497-4877-8119-D446CA0E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71D0E8E-94B5-43B7-B932-E578C2527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0C25C79-3863-414E-A5FC-EF0CF48DC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7ABF079-19D9-414D-B6F5-D459D60B5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3BBEF6D-5303-4140-8FF7-E2608C02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5C01EE6-2993-4016-A892-BEB51188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A338717-C477-4CEF-A443-1883E7C1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2D10047-0056-4A1B-A4B2-A1E7EDA5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BC7B8-9E4A-4F12-B4E1-AEA6B446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211876A-F4A9-4228-9A28-3A62A3A0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1986312-A50D-49FD-BF66-9FD6E2DA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26178B6-8FA1-444C-807C-96F9F9DF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F1F8590-33D1-45B5-BBEC-DFBFE986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FCE8B61-4229-4AEE-84D1-E8366C70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EB0447D-53CD-48D1-9A9F-7A7FD409A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AB6B498-5122-466D-AA85-B84AC2FBA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EF0FAF-4433-46F7-9CCB-56CD0EEAD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CAE9ABE-39E7-4310-AAEB-1CD8F1AF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C71BED-AB2D-4F86-B754-54340D02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F4AC-1967-449A-86BB-1C93CAC4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2F4FF3B-DC3B-4575-9B3E-610A6970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1AD04B-AE54-4E68-A4D0-3C5FD9F4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DBCF0B6-3281-4E8E-AC5D-71A90459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40FBD1-D116-4FAA-85D8-D0073340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A920A5-B98D-4F60-B8A9-68F8B0C0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8DE7513-8404-427E-A9D1-D00CA46B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CD5FDE4-26F6-484D-9F4A-DDA9162A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C782D2F-98EE-4885-8F60-DA18313AA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964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208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720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964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208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D952878-37B1-468A-B987-E094F69DC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1EDB837-D3F3-4973-A503-958C1CC0B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56F9-45B1-4A2C-80B0-92A5AB9C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1614E64-6593-487A-82C1-303B676F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059DCBC-FDDF-4FEC-9B65-5F3CD3C7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356C38D-0FFB-458F-8E69-D54D2C43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43A5110-8697-4206-890B-A022B1CA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2C4762F-A685-4C98-87CA-F48B18DC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33279D1-E55A-48B1-A9D5-E1CBF9AE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5D9E3D7-121C-474F-95C4-FADBBB87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8CDBA72-D460-4529-9790-BDE404B8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0284442-7DA8-4488-A267-D4C2211C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7711F31-FF70-4CEA-8D67-CF560357C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C5C0-C4BD-4061-8FF7-6A1CC486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4A7F61C-E0F4-4374-87D4-09A6DD164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890A891-2018-4F80-9A8F-7ADA0ECB6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B163ACE-25FA-483D-8FFA-7B3D27FF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61E1A31-C243-4CB6-A336-70AEBE78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D2BD776-0361-4519-BB04-10ECEC3F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A396A73-5708-4204-AF10-390A74F2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1711FCC-33E8-4752-99DC-C0CAF3CC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2CA7F0C-55A5-4FB2-80F3-BF76A5D4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ACA5737-EE12-48C3-A46C-C9E43DB2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1DD179F-ED84-4F3F-AFEF-B8C7EE70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16D2-C64E-4E73-8412-1655D235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2595354-5404-4EA8-8965-B8ABA908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33A6383-EFFA-4D6C-84EB-53B693ECB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947F737-78FD-4B37-8636-4D155ECD2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50E3985-7383-4959-8806-19B986E29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168B9ED-E718-4462-8945-D379C299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11E131B-C6B6-4232-AB88-3E691CBB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157444E-0D3A-4746-9B1E-FACC8D3C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3B3CCF1-2EB3-4171-A5E2-34D27409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2D9371F-21B8-4810-A873-DFFA9E29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A0021CC-34A2-4BC6-8127-1927C555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D5BB-DAAD-41E9-B7E6-50BFB5FE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6982-1548-424A-99C5-11B1B53A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730DC55-CC0B-45AB-BC0D-65DDAD34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AB0CE89-7C7B-4124-A089-58108427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C4B2C5C-6512-43F9-BBF7-D2025A82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4101C88-82B6-47E1-A70C-0331A9BEA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CEF6981-3776-44CB-BEDE-A73FCECAE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EB411-9216-4E60-87A6-11106A9B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9AA9-5671-4011-AA7F-D07FFACA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3C951-5705-49DE-BF74-85B4392DF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1780-31ED-4934-9246-085314006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FCF44-6CCF-4AFF-A1DA-1BB154E3D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DC72A-A0E4-45DC-B995-5EEADD2B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616C8-A027-40E8-94A8-B2B20CA1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59A1F-D71C-45F3-AA74-A9652A59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EDFD1-3EF0-4246-9FE1-754E2CBC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1587-796F-4764-8C33-DE2A401E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F25DF-D330-4589-808F-1C1E2E8A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33BE5-79C0-48C6-A1AD-B14DAC59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278BC-1F32-42AB-8CF4-3891CB85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574A8-A883-45A4-BED9-6D1F9108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5ED23-CF58-4BF0-9618-AF9E989F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A6334-FEF9-41F9-8DF9-B20F98065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90B80-D9BE-47CD-A2BA-AA268EF50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F911-5E85-4DAC-A520-C2668952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49CFEC-96D0-4842-BF54-D871132F2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46F9-AA91-46AE-9CD3-8D354E74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E37D65-B52A-4951-A0D6-5BFC5615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28691A-46D5-4C62-8F97-B50922AC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A8C9CF-5396-487B-8449-E604F7ED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AA22DC-4EE0-4D9E-8D0F-8182A448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160AE5-9280-471E-926D-4969ED55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B06187-883C-4A84-B61B-DD9A475A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23EC0B-DB62-4E50-9B47-2DBD2887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0104C7-CD2D-4F7D-88D3-A48C0540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EBF6EB-D9EC-4D42-9648-55FAB7DE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D37C39-A215-4093-BD6E-15F84CA03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8400-73A4-479F-BDDA-3C5CD862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E9152F-F191-4DC0-B66E-58AF19717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E62D7-C9C7-4C69-8D22-B772FD33409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59BD5-08D0-4BC8-A635-062ABD4742A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60E87-B221-48F5-B0A9-A0D79F1A882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65992-55EA-44E8-BDAD-578F1F56491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645EB-5C98-4B21-8304-A37AD88A2ED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5CE75-C668-4873-9F82-96C94EE3674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93418-0526-41B6-ABD3-C98FEEAF7AD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6C6BC-5AF4-48F9-9B27-5B73CD6C6DF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0578D-302A-4BE4-83FB-A12D73AD2D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9AEB-D6CC-476E-8DAC-033FF93C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6BEC6-3C76-4CD1-867C-D8807CD4920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5F23A-13AD-4ECC-ACAB-F9CB09F9729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3D1CE-94F3-433E-8F83-9655A84A502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924BA-05F4-42AC-8AA8-9B85D7707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AABDA-7388-445F-9AC1-4481B54F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65E43-3E66-4A1E-9BF6-6B77B70A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446DB-662B-490F-A161-E6320EB4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5F1B8-191E-4EDE-8463-C499619C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2CD4E-7C9B-469F-BF15-7FF82D34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6A839-381B-4196-8E55-2B5F91FF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9020-9277-4BBC-A736-AABE9AD9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E0765-88DE-4E4A-86E4-C17B51B8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C637B-3C5E-4D29-83DF-58FF42BE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DC08B-E879-47D4-B3DD-BF0982E4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FBE07-424D-4821-A91B-5E46B21C4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81E44-8907-4FCE-B8DF-80886696A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80101-62B3-4EC0-98B3-EF112E3AD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2E205-C575-4239-B0C0-A0DE3A9B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377AB-8EE6-403C-AA1B-E067F701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B0F59-3F40-429F-B465-32D15E10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C0C2E-FDE1-4488-AEDF-DEFB95E7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A2BD-4A3C-45BC-9A9B-AFC74AAB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B85B9-6192-4E6E-A9B1-9C7AB352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157DE-C401-42B4-A167-D60DDB28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A3796-DFCD-4B6C-A0CE-541B178B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85BF1-273D-444A-AE1C-6C61EFD4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77975-2586-4B16-A5D7-36A89276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14779-64FA-4CCD-887E-2C947C14C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C38F7-702B-4B2D-9557-5B35386BF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1B94F-0869-4C85-8EA4-A39FC47DE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8C8BB-F5C9-4631-A8D2-5346A7AB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3BA2D-2528-4119-AD6E-CB5D6348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7640" y="649296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0F6C25C-98F3-4B44-A95C-095F2C6BEAE4}" type="datetime"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26/07/31</a:t>
            </a:fld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5/10/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49296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PLHF PWG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49296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23E554F-685A-42FA-A572-63BAF93FD0D6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直線コネクタ 27"/>
          <p:cNvSpPr/>
          <p:nvPr/>
        </p:nvSpPr>
        <p:spPr>
          <a:xfrm>
            <a:off x="457200" y="648972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直線コネクタ 28"/>
          <p:cNvSpPr/>
          <p:nvPr/>
        </p:nvSpPr>
        <p:spPr>
          <a:xfrm>
            <a:off x="457200" y="76212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二等辺三角形 9"/>
          <p:cNvSpPr/>
          <p:nvPr/>
        </p:nvSpPr>
        <p:spPr>
          <a:xfrm rot="5400000">
            <a:off x="417600" y="6603120"/>
            <a:ext cx="1922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直線コネクタ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二等辺三角形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直線コネクタ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857640" y="649296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0A1B861-42E3-4A03-A173-2E638B1F093D}" type="datetime"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26/07/31</a:t>
            </a:fld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5/10/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2898360" y="649296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PLHF PWG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612360" y="649296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B065CE0-C318-423C-8DAF-79AEAC74DA6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直線コネクタ 27"/>
          <p:cNvSpPr/>
          <p:nvPr/>
        </p:nvSpPr>
        <p:spPr>
          <a:xfrm>
            <a:off x="457200" y="648972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直線コネクタ 28"/>
          <p:cNvSpPr/>
          <p:nvPr/>
        </p:nvSpPr>
        <p:spPr>
          <a:xfrm>
            <a:off x="457200" y="76212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二等辺三角形 9"/>
          <p:cNvSpPr/>
          <p:nvPr/>
        </p:nvSpPr>
        <p:spPr>
          <a:xfrm rot="5400000">
            <a:off x="417600" y="6603120"/>
            <a:ext cx="1922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172200" y="6171840"/>
            <a:ext cx="250200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128024D-FE2D-4316-9032-10C783102CF6}" type="datetime"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26/07/31</a:t>
            </a:fld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5/10/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sldNum" idx="29"/>
          </p:nvPr>
        </p:nvSpPr>
        <p:spPr>
          <a:xfrm>
            <a:off x="3809520" y="6171840"/>
            <a:ext cx="181620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D0355C1-AD22-44C3-A0D7-71EAE1C435A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正方形/長方形 6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正方形/長方形 7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正方形/長方形 8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正方形/長方形 9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0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A21E406-4044-40D3-A8E2-372D5AE79359}" type="datetime"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26/07/31</a:t>
            </a:fld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5/10/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1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PLHF PWG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2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86459C2-5A77-4BFC-8C8B-3E276BC08BC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正方形/長方形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正方形/長方形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3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3CF1328-5E7F-4E0B-9573-1BFCF3861935}" type="datetime"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26/07/31</a:t>
            </a:fld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5/10/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4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PLHF PWG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5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AD886AD-F773-41FD-BD7D-4F375F0AC7FB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直線コネクタ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二等辺三角形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36"/>
          </p:nvPr>
        </p:nvSpPr>
        <p:spPr>
          <a:xfrm>
            <a:off x="6854400" y="649296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A938086-156F-45D0-B789-4AD769099D94}" type="datetime"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26/07/31</a:t>
            </a:fld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5/10/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37"/>
          </p:nvPr>
        </p:nvSpPr>
        <p:spPr>
          <a:xfrm>
            <a:off x="2898360" y="649296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PLHF PWG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38"/>
          </p:nvPr>
        </p:nvSpPr>
        <p:spPr>
          <a:xfrm>
            <a:off x="612360" y="649296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24A8B59-D0A8-4065-8456-77E5410F521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直線コネクタ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直線コネクタ 7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39"/>
          </p:nvPr>
        </p:nvSpPr>
        <p:spPr>
          <a:xfrm>
            <a:off x="6854400" y="649296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652D634-EA41-4B94-8BDF-A94C1233B8C2}" type="datetime"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26/07/31</a:t>
            </a:fld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5/10/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0"/>
          </p:nvPr>
        </p:nvSpPr>
        <p:spPr>
          <a:xfrm>
            <a:off x="2898360" y="649296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PLHF PWG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1"/>
          </p:nvPr>
        </p:nvSpPr>
        <p:spPr>
          <a:xfrm>
            <a:off x="612360" y="649296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49C487B-CADE-4F92-8672-7AEA0616E8EA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直線コネクタ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二等辺三角形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正方形/長方形 8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2"/>
          </p:nvPr>
        </p:nvSpPr>
        <p:spPr>
          <a:xfrm>
            <a:off x="6854400" y="649296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A88FA97-68A7-467E-8EF4-47A91DF70B6B}" type="datetime"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26/07/31</a:t>
            </a:fld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5/10/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3"/>
          </p:nvPr>
        </p:nvSpPr>
        <p:spPr>
          <a:xfrm>
            <a:off x="2898360" y="649296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PLHF PWG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4"/>
          </p:nvPr>
        </p:nvSpPr>
        <p:spPr>
          <a:xfrm>
            <a:off x="612360" y="649296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22EB191-F37D-4683-832C-EE0368EFE936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直線コネクタ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二等辺三角形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直線コネクタ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5"/>
          </p:nvPr>
        </p:nvSpPr>
        <p:spPr>
          <a:xfrm>
            <a:off x="6854400" y="649296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0E93B1A-2C01-4BC6-9946-27A888EB42E7}" type="datetime"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26/07/31</a:t>
            </a:fld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5/10/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6"/>
          </p:nvPr>
        </p:nvSpPr>
        <p:spPr>
          <a:xfrm>
            <a:off x="2898360" y="649296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PLHF PWG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7"/>
          </p:nvPr>
        </p:nvSpPr>
        <p:spPr>
          <a:xfrm>
            <a:off x="612360" y="649296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9B174D5-ACEC-40E1-9DA1-D3285CA77F4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5F37A78-2236-4AC9-8EF6-C39EBA417E25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LHF PWG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E698B50-E2CC-4C7D-A30B-AE4CBBF356E0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4400" y="649296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AA9B085-6557-4A99-B9B0-3B80E4EBB99E}" type="datetime"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26/07/31</a:t>
            </a:fld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5/10/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898360" y="649296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PLHF PWG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12360" y="649296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4C5A56B-1D8B-43FA-956A-364514C1A1A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正方形/長方形 10"/>
          <p:cNvSpPr/>
          <p:nvPr/>
        </p:nvSpPr>
        <p:spPr>
          <a:xfrm>
            <a:off x="905040" y="21337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正方形/長方形 11"/>
          <p:cNvSpPr/>
          <p:nvPr/>
        </p:nvSpPr>
        <p:spPr>
          <a:xfrm>
            <a:off x="914400" y="353376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正方形/長方形 12"/>
          <p:cNvSpPr/>
          <p:nvPr/>
        </p:nvSpPr>
        <p:spPr>
          <a:xfrm>
            <a:off x="905040" y="21337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正方形/長方形 14"/>
          <p:cNvSpPr/>
          <p:nvPr/>
        </p:nvSpPr>
        <p:spPr>
          <a:xfrm>
            <a:off x="914400" y="353376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10"/>
          </p:nvPr>
        </p:nvSpPr>
        <p:spPr>
          <a:xfrm>
            <a:off x="6877080" y="6524280"/>
            <a:ext cx="2160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464653"/>
                </a:solidFill>
                <a:latin typeface="Times New Roman"/>
              </a:rPr>
              <a:t>JPS Fall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正方形/長方形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正方形/長方形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1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FB3E4BB-32F5-48AC-9A74-6AAE18452B2A}" type="datetime"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26/07/31</a:t>
            </a:fld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5/10/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2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PLHF PWG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3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7A7D73B-9878-424F-9B15-4E3624756DF0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直線コネクタ 27"/>
          <p:cNvSpPr/>
          <p:nvPr/>
        </p:nvSpPr>
        <p:spPr>
          <a:xfrm>
            <a:off x="457200" y="648972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直線コネクタ 28"/>
          <p:cNvSpPr/>
          <p:nvPr/>
        </p:nvSpPr>
        <p:spPr>
          <a:xfrm>
            <a:off x="457200" y="76212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二等辺三角形 9"/>
          <p:cNvSpPr/>
          <p:nvPr/>
        </p:nvSpPr>
        <p:spPr>
          <a:xfrm rot="5400000">
            <a:off x="119880" y="6611040"/>
            <a:ext cx="191880" cy="6984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t" anchorCtr="1" vert="eaVert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ftr" idx="14"/>
          </p:nvPr>
        </p:nvSpPr>
        <p:spPr>
          <a:xfrm>
            <a:off x="7093080" y="6524640"/>
            <a:ext cx="199224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Times New Roman"/>
              </a:rPr>
              <a:t>WPCF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5"/>
          </p:nvPr>
        </p:nvSpPr>
        <p:spPr>
          <a:xfrm>
            <a:off x="266760" y="6492960"/>
            <a:ext cx="488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9FB808F-F9E1-4117-BDAE-691BEC85E592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直線コネクタ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二等辺三角形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6"/>
          </p:nvPr>
        </p:nvSpPr>
        <p:spPr>
          <a:xfrm>
            <a:off x="6857640" y="649296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655CCF9-1511-4796-9974-E51D4DE631D9}" type="datetime"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26/07/31</a:t>
            </a:fld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5/10/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7"/>
          </p:nvPr>
        </p:nvSpPr>
        <p:spPr>
          <a:xfrm>
            <a:off x="2898360" y="649296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PLHF PWG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8"/>
          </p:nvPr>
        </p:nvSpPr>
        <p:spPr>
          <a:xfrm>
            <a:off x="612360" y="649296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32CAD87-A04C-44BF-830A-074BA03088ED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直線コネクタ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直線コネクタ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二等辺三角形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9"/>
          </p:nvPr>
        </p:nvSpPr>
        <p:spPr>
          <a:xfrm>
            <a:off x="6857640" y="649296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548E946-806F-48D0-80F8-847577E5892A}" type="datetime"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26/07/31</a:t>
            </a:fld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5/10/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0"/>
          </p:nvPr>
        </p:nvSpPr>
        <p:spPr>
          <a:xfrm>
            <a:off x="2898360" y="649296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PLHF PWG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1"/>
          </p:nvPr>
        </p:nvSpPr>
        <p:spPr>
          <a:xfrm>
            <a:off x="612360" y="649296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0FA2E64-809D-4697-AABC-604284C31C7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直線コネクタ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二等辺三角形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正方形/長方形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857640" y="649296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F2C07EF-3314-42C9-965E-170E99128B9A}" type="datetime"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26/07/31</a:t>
            </a:fld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5/10/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2898360" y="649296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PLHF PWG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612360" y="649296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44258F2-C018-46EB-9BED-D355CA7C3C89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826920" y="2103480"/>
            <a:ext cx="7772400" cy="12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Azimuthal</a:t>
            </a:r>
            <a:r>
              <a:rPr b="0" lang="ja-JP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HBT measuremen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of charged pions and kaons in Au+Au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200GeV collisions at RHIC-PHENIX</a:t>
            </a:r>
            <a:br>
              <a:rPr sz="2400"/>
            </a:br>
            <a:endParaRPr b="0" lang="en-US" sz="2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1371600" y="357300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ＭＳ 明朝"/>
              </a:rPr>
              <a:t>Takafumi Niida from Univ. of Tsukub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ＭＳ 明朝"/>
              </a:rPr>
              <a:t>for the PHENIX Collaboration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52" name="" descr=""/>
          <p:cNvPicPr/>
          <p:nvPr/>
        </p:nvPicPr>
        <p:blipFill>
          <a:blip r:embed="rId1"/>
          <a:stretch/>
        </p:blipFill>
        <p:spPr>
          <a:xfrm>
            <a:off x="1619280" y="5580000"/>
            <a:ext cx="2357280" cy="655560"/>
          </a:xfrm>
          <a:prstGeom prst="rect">
            <a:avLst/>
          </a:prstGeom>
          <a:ln w="0">
            <a:noFill/>
          </a:ln>
        </p:spPr>
      </p:pic>
      <p:pic>
        <p:nvPicPr>
          <p:cNvPr id="753" name="" descr=""/>
          <p:cNvPicPr/>
          <p:nvPr/>
        </p:nvPicPr>
        <p:blipFill>
          <a:blip r:embed="rId2"/>
          <a:stretch/>
        </p:blipFill>
        <p:spPr>
          <a:xfrm>
            <a:off x="5068800" y="5435640"/>
            <a:ext cx="2455920" cy="80172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2962080" y="4508640"/>
            <a:ext cx="3407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PCF2011 @ Tokyo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Bookman Old Style"/>
              </a:rPr>
              <a:t>Fourier components of azimuthal HBT radii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ier component for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id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calculated by the following fi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5948280" y="3392640"/>
            <a:ext cx="1144800" cy="1476360"/>
            <a:chOff x="5948280" y="3392640"/>
            <a:chExt cx="1144800" cy="1476360"/>
          </a:xfrm>
        </p:grpSpPr>
        <p:sp>
          <p:nvSpPr>
            <p:cNvPr id="928" name=""/>
            <p:cNvSpPr/>
            <p:nvPr/>
          </p:nvSpPr>
          <p:spPr>
            <a:xfrm>
              <a:off x="5992920" y="3392640"/>
              <a:ext cx="1042200" cy="14763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948280" y="3595320"/>
              <a:ext cx="1144800" cy="1127160"/>
            </a:xfrm>
            <a:custGeom>
              <a:avLst/>
              <a:gdLst/>
              <a:ahLst/>
              <a:rect l="l" t="t" r="r" b="b"/>
              <a:pathLst>
                <a:path w="1898" h="1869">
                  <a:moveTo>
                    <a:pt x="25" y="1496"/>
                  </a:moveTo>
                  <a:cubicBezTo>
                    <a:pt x="50" y="1366"/>
                    <a:pt x="194" y="1124"/>
                    <a:pt x="198" y="946"/>
                  </a:cubicBezTo>
                  <a:cubicBezTo>
                    <a:pt x="202" y="768"/>
                    <a:pt x="64" y="567"/>
                    <a:pt x="50" y="426"/>
                  </a:cubicBezTo>
                  <a:cubicBezTo>
                    <a:pt x="36" y="285"/>
                    <a:pt x="54" y="165"/>
                    <a:pt x="116" y="97"/>
                  </a:cubicBezTo>
                  <a:cubicBezTo>
                    <a:pt x="178" y="29"/>
                    <a:pt x="279" y="0"/>
                    <a:pt x="420" y="15"/>
                  </a:cubicBezTo>
                  <a:cubicBezTo>
                    <a:pt x="561" y="30"/>
                    <a:pt x="774" y="186"/>
                    <a:pt x="963" y="189"/>
                  </a:cubicBezTo>
                  <a:cubicBezTo>
                    <a:pt x="1152" y="192"/>
                    <a:pt x="1409" y="43"/>
                    <a:pt x="1556" y="33"/>
                  </a:cubicBezTo>
                  <a:cubicBezTo>
                    <a:pt x="1703" y="23"/>
                    <a:pt x="1796" y="56"/>
                    <a:pt x="1847" y="126"/>
                  </a:cubicBezTo>
                  <a:cubicBezTo>
                    <a:pt x="1898" y="196"/>
                    <a:pt x="1886" y="319"/>
                    <a:pt x="1860" y="451"/>
                  </a:cubicBezTo>
                  <a:cubicBezTo>
                    <a:pt x="1834" y="583"/>
                    <a:pt x="1688" y="737"/>
                    <a:pt x="1688" y="921"/>
                  </a:cubicBezTo>
                  <a:cubicBezTo>
                    <a:pt x="1688" y="1105"/>
                    <a:pt x="1879" y="1401"/>
                    <a:pt x="1860" y="1555"/>
                  </a:cubicBezTo>
                  <a:cubicBezTo>
                    <a:pt x="1841" y="1709"/>
                    <a:pt x="1730" y="1817"/>
                    <a:pt x="1572" y="1843"/>
                  </a:cubicBezTo>
                  <a:cubicBezTo>
                    <a:pt x="1414" y="1869"/>
                    <a:pt x="1122" y="1711"/>
                    <a:pt x="914" y="1711"/>
                  </a:cubicBezTo>
                  <a:cubicBezTo>
                    <a:pt x="706" y="1711"/>
                    <a:pt x="468" y="1841"/>
                    <a:pt x="324" y="1843"/>
                  </a:cubicBezTo>
                  <a:cubicBezTo>
                    <a:pt x="180" y="1845"/>
                    <a:pt x="100" y="1784"/>
                    <a:pt x="50" y="1726"/>
                  </a:cubicBezTo>
                  <a:cubicBezTo>
                    <a:pt x="0" y="1668"/>
                    <a:pt x="30" y="1544"/>
                    <a:pt x="25" y="1496"/>
                  </a:cubicBezTo>
                  <a:close/>
                </a:path>
              </a:pathLst>
            </a:custGeom>
            <a:noFill/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7356600" y="3335400"/>
            <a:ext cx="1606320" cy="1606320"/>
            <a:chOff x="7356600" y="3335400"/>
            <a:chExt cx="1606320" cy="1606320"/>
          </a:xfrm>
        </p:grpSpPr>
        <p:sp>
          <p:nvSpPr>
            <p:cNvPr id="931" name=""/>
            <p:cNvSpPr/>
            <p:nvPr/>
          </p:nvSpPr>
          <p:spPr>
            <a:xfrm>
              <a:off x="7632360" y="3392640"/>
              <a:ext cx="1041840" cy="14763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 rot="2700000">
              <a:off x="7587000" y="3574800"/>
              <a:ext cx="1144800" cy="1126800"/>
            </a:xfrm>
            <a:custGeom>
              <a:avLst/>
              <a:gdLst/>
              <a:ahLst/>
              <a:rect l="l" t="t" r="r" b="b"/>
              <a:pathLst>
                <a:path w="1898" h="1869">
                  <a:moveTo>
                    <a:pt x="25" y="1496"/>
                  </a:moveTo>
                  <a:cubicBezTo>
                    <a:pt x="50" y="1366"/>
                    <a:pt x="194" y="1124"/>
                    <a:pt x="198" y="946"/>
                  </a:cubicBezTo>
                  <a:cubicBezTo>
                    <a:pt x="202" y="768"/>
                    <a:pt x="64" y="567"/>
                    <a:pt x="50" y="426"/>
                  </a:cubicBezTo>
                  <a:cubicBezTo>
                    <a:pt x="36" y="285"/>
                    <a:pt x="54" y="165"/>
                    <a:pt x="116" y="97"/>
                  </a:cubicBezTo>
                  <a:cubicBezTo>
                    <a:pt x="178" y="29"/>
                    <a:pt x="279" y="0"/>
                    <a:pt x="420" y="15"/>
                  </a:cubicBezTo>
                  <a:cubicBezTo>
                    <a:pt x="561" y="30"/>
                    <a:pt x="774" y="186"/>
                    <a:pt x="963" y="189"/>
                  </a:cubicBezTo>
                  <a:cubicBezTo>
                    <a:pt x="1152" y="192"/>
                    <a:pt x="1409" y="43"/>
                    <a:pt x="1556" y="33"/>
                  </a:cubicBezTo>
                  <a:cubicBezTo>
                    <a:pt x="1703" y="23"/>
                    <a:pt x="1796" y="56"/>
                    <a:pt x="1847" y="126"/>
                  </a:cubicBezTo>
                  <a:cubicBezTo>
                    <a:pt x="1898" y="196"/>
                    <a:pt x="1886" y="319"/>
                    <a:pt x="1860" y="451"/>
                  </a:cubicBezTo>
                  <a:cubicBezTo>
                    <a:pt x="1834" y="583"/>
                    <a:pt x="1688" y="737"/>
                    <a:pt x="1688" y="921"/>
                  </a:cubicBezTo>
                  <a:cubicBezTo>
                    <a:pt x="1688" y="1105"/>
                    <a:pt x="1879" y="1401"/>
                    <a:pt x="1860" y="1555"/>
                  </a:cubicBezTo>
                  <a:cubicBezTo>
                    <a:pt x="1841" y="1709"/>
                    <a:pt x="1730" y="1817"/>
                    <a:pt x="1572" y="1843"/>
                  </a:cubicBezTo>
                  <a:cubicBezTo>
                    <a:pt x="1414" y="1869"/>
                    <a:pt x="1122" y="1711"/>
                    <a:pt x="914" y="1711"/>
                  </a:cubicBezTo>
                  <a:cubicBezTo>
                    <a:pt x="706" y="1711"/>
                    <a:pt x="468" y="1841"/>
                    <a:pt x="324" y="1843"/>
                  </a:cubicBezTo>
                  <a:cubicBezTo>
                    <a:pt x="180" y="1845"/>
                    <a:pt x="100" y="1784"/>
                    <a:pt x="50" y="1726"/>
                  </a:cubicBezTo>
                  <a:cubicBezTo>
                    <a:pt x="0" y="1668"/>
                    <a:pt x="30" y="1544"/>
                    <a:pt x="25" y="1496"/>
                  </a:cubicBezTo>
                  <a:close/>
                </a:path>
              </a:pathLst>
            </a:custGeom>
            <a:noFill/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3" name=""/>
          <p:cNvSpPr/>
          <p:nvPr/>
        </p:nvSpPr>
        <p:spPr>
          <a:xfrm>
            <a:off x="5964480" y="2840040"/>
            <a:ext cx="962640" cy="3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,4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7664760" y="2835360"/>
            <a:ext cx="990000" cy="3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,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900000" y="5734080"/>
            <a:ext cx="7632720" cy="6476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ative 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order radius seems to have negative valu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ut it’s zero within systematic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6" name=""/>
              <p:cNvSpPr txBox="1"/>
              <p:nvPr/>
            </p:nvSpPr>
            <p:spPr>
              <a:xfrm>
                <a:off x="1332000" y="1341360"/>
                <a:ext cx="48243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de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de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Δφ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de</m:t>
                        </m:r>
                        <m:r>
                          <m:t xml:space="preserve">,</m:t>
                        </m:r>
                        <m:r>
                          <m:t xml:space="preserve">4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Δφ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7" name=""/>
          <p:cNvSpPr/>
          <p:nvPr/>
        </p:nvSpPr>
        <p:spPr>
          <a:xfrm>
            <a:off x="4572000" y="1341360"/>
            <a:ext cx="576360" cy="503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2700360" y="1341360"/>
            <a:ext cx="576360" cy="50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1"/>
          <a:stretch/>
        </p:blipFill>
        <p:spPr>
          <a:xfrm>
            <a:off x="555480" y="1844640"/>
            <a:ext cx="5578560" cy="377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43F45-89D3-4AF3-919C-D1541CE29C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orrelation function for ka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w c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sinyukov’ fitting function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rality: 20-60%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42" name="" descr=""/>
          <p:cNvPicPr/>
          <p:nvPr/>
        </p:nvPicPr>
        <p:blipFill>
          <a:blip r:embed="rId1"/>
          <a:stretch/>
        </p:blipFill>
        <p:spPr>
          <a:xfrm>
            <a:off x="4246560" y="1268280"/>
            <a:ext cx="4862520" cy="5480280"/>
          </a:xfrm>
          <a:prstGeom prst="rect">
            <a:avLst/>
          </a:prstGeom>
          <a:ln w="0">
            <a:noFill/>
          </a:ln>
        </p:spPr>
      </p:pic>
      <p:grpSp>
        <p:nvGrpSpPr>
          <p:cNvPr id="943" name=""/>
          <p:cNvGrpSpPr/>
          <p:nvPr/>
        </p:nvGrpSpPr>
        <p:grpSpPr>
          <a:xfrm>
            <a:off x="2384280" y="1519200"/>
            <a:ext cx="1825560" cy="4919760"/>
            <a:chOff x="2384280" y="1519200"/>
            <a:chExt cx="1825560" cy="4919760"/>
          </a:xfrm>
        </p:grpSpPr>
        <p:grpSp>
          <p:nvGrpSpPr>
            <p:cNvPr id="944" name=""/>
            <p:cNvGrpSpPr/>
            <p:nvPr/>
          </p:nvGrpSpPr>
          <p:grpSpPr>
            <a:xfrm>
              <a:off x="2419200" y="1519200"/>
              <a:ext cx="1790640" cy="901800"/>
              <a:chOff x="2419200" y="1519200"/>
              <a:chExt cx="1790640" cy="901800"/>
            </a:xfrm>
          </p:grpSpPr>
          <p:sp>
            <p:nvSpPr>
              <p:cNvPr id="945" name=""/>
              <p:cNvSpPr/>
              <p:nvPr/>
            </p:nvSpPr>
            <p:spPr>
              <a:xfrm>
                <a:off x="2482920" y="1519200"/>
                <a:ext cx="900000" cy="901800"/>
              </a:xfrm>
              <a:prstGeom prst="ellipse">
                <a:avLst/>
              </a:prstGeom>
              <a:solidFill>
                <a:srgbClr val="ff993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2963880" y="1519200"/>
                <a:ext cx="900000" cy="901800"/>
              </a:xfrm>
              <a:prstGeom prst="ellipse">
                <a:avLst/>
              </a:prstGeom>
              <a:solidFill>
                <a:srgbClr val="ff993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47" name=""/>
              <p:cNvGrpSpPr/>
              <p:nvPr/>
            </p:nvGrpSpPr>
            <p:grpSpPr>
              <a:xfrm>
                <a:off x="3173400" y="1852560"/>
                <a:ext cx="523800" cy="233280"/>
                <a:chOff x="3173400" y="1852560"/>
                <a:chExt cx="523800" cy="233280"/>
              </a:xfrm>
            </p:grpSpPr>
            <p:sp>
              <p:nvSpPr>
                <p:cNvPr id="948" name=""/>
                <p:cNvSpPr/>
                <p:nvPr/>
              </p:nvSpPr>
              <p:spPr>
                <a:xfrm rot="16200000">
                  <a:off x="3292560" y="1733400"/>
                  <a:ext cx="233280" cy="47160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3598200" y="1854000"/>
                  <a:ext cx="99000" cy="230400"/>
                </a:xfrm>
                <a:prstGeom prst="ellipse">
                  <a:avLst/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0" name=""/>
              <p:cNvSpPr/>
              <p:nvPr/>
            </p:nvSpPr>
            <p:spPr>
              <a:xfrm>
                <a:off x="2419200" y="1969920"/>
                <a:ext cx="1528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690720" y="190980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.P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2" name=""/>
            <p:cNvGrpSpPr/>
            <p:nvPr/>
          </p:nvGrpSpPr>
          <p:grpSpPr>
            <a:xfrm>
              <a:off x="2384280" y="2860920"/>
              <a:ext cx="1825560" cy="928440"/>
              <a:chOff x="2384280" y="2860920"/>
              <a:chExt cx="1825560" cy="928440"/>
            </a:xfrm>
          </p:grpSpPr>
          <p:sp>
            <p:nvSpPr>
              <p:cNvPr id="953" name=""/>
              <p:cNvSpPr/>
              <p:nvPr/>
            </p:nvSpPr>
            <p:spPr>
              <a:xfrm>
                <a:off x="2449440" y="2867040"/>
                <a:ext cx="920880" cy="922320"/>
              </a:xfrm>
              <a:prstGeom prst="ellipse">
                <a:avLst/>
              </a:prstGeom>
              <a:solidFill>
                <a:srgbClr val="ff993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2941560" y="2867040"/>
                <a:ext cx="922320" cy="922320"/>
              </a:xfrm>
              <a:prstGeom prst="ellipse">
                <a:avLst/>
              </a:prstGeom>
              <a:solidFill>
                <a:srgbClr val="ff993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55" name=""/>
              <p:cNvGrpSpPr/>
              <p:nvPr/>
            </p:nvGrpSpPr>
            <p:grpSpPr>
              <a:xfrm>
                <a:off x="3086640" y="2860920"/>
                <a:ext cx="547200" cy="546840"/>
                <a:chOff x="3086640" y="2860920"/>
                <a:chExt cx="547200" cy="546840"/>
              </a:xfrm>
            </p:grpSpPr>
            <p:sp>
              <p:nvSpPr>
                <p:cNvPr id="956" name=""/>
                <p:cNvSpPr/>
                <p:nvPr/>
              </p:nvSpPr>
              <p:spPr>
                <a:xfrm rot="13500000">
                  <a:off x="3222360" y="2910960"/>
                  <a:ext cx="238320" cy="4831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 rot="18900000">
                  <a:off x="3463560" y="2862000"/>
                  <a:ext cx="101520" cy="235440"/>
                </a:xfrm>
                <a:prstGeom prst="ellipse">
                  <a:avLst/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8" name=""/>
              <p:cNvSpPr/>
              <p:nvPr/>
            </p:nvSpPr>
            <p:spPr>
              <a:xfrm>
                <a:off x="2384280" y="3328920"/>
                <a:ext cx="1567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690720" y="326556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.P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0" name=""/>
            <p:cNvGrpSpPr/>
            <p:nvPr/>
          </p:nvGrpSpPr>
          <p:grpSpPr>
            <a:xfrm>
              <a:off x="2384280" y="4076280"/>
              <a:ext cx="1825560" cy="991080"/>
              <a:chOff x="2384280" y="4076280"/>
              <a:chExt cx="1825560" cy="991080"/>
            </a:xfrm>
          </p:grpSpPr>
          <p:sp>
            <p:nvSpPr>
              <p:cNvPr id="961" name=""/>
              <p:cNvSpPr/>
              <p:nvPr/>
            </p:nvSpPr>
            <p:spPr>
              <a:xfrm>
                <a:off x="2449440" y="4145040"/>
                <a:ext cx="920880" cy="922320"/>
              </a:xfrm>
              <a:prstGeom prst="ellipse">
                <a:avLst/>
              </a:prstGeom>
              <a:solidFill>
                <a:srgbClr val="ff993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2941560" y="4145040"/>
                <a:ext cx="922320" cy="922320"/>
              </a:xfrm>
              <a:prstGeom prst="ellipse">
                <a:avLst/>
              </a:prstGeom>
              <a:solidFill>
                <a:srgbClr val="ff993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63" name=""/>
              <p:cNvGrpSpPr/>
              <p:nvPr/>
            </p:nvGrpSpPr>
            <p:grpSpPr>
              <a:xfrm>
                <a:off x="3046320" y="4076280"/>
                <a:ext cx="239760" cy="536760"/>
                <a:chOff x="3046320" y="4076280"/>
                <a:chExt cx="239760" cy="536760"/>
              </a:xfrm>
            </p:grpSpPr>
            <p:sp>
              <p:nvSpPr>
                <p:cNvPr id="964" name=""/>
                <p:cNvSpPr/>
                <p:nvPr/>
              </p:nvSpPr>
              <p:spPr>
                <a:xfrm rot="10800000">
                  <a:off x="3046320" y="4129920"/>
                  <a:ext cx="239760" cy="4831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 rot="16200000">
                  <a:off x="3115440" y="4008600"/>
                  <a:ext cx="101520" cy="236880"/>
                </a:xfrm>
                <a:prstGeom prst="ellipse">
                  <a:avLst/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6" name=""/>
              <p:cNvSpPr/>
              <p:nvPr/>
            </p:nvSpPr>
            <p:spPr>
              <a:xfrm>
                <a:off x="2384280" y="4606920"/>
                <a:ext cx="1567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690720" y="454356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.P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8" name=""/>
            <p:cNvGrpSpPr/>
            <p:nvPr/>
          </p:nvGrpSpPr>
          <p:grpSpPr>
            <a:xfrm>
              <a:off x="2384280" y="5512320"/>
              <a:ext cx="1825560" cy="926640"/>
              <a:chOff x="2384280" y="5512320"/>
              <a:chExt cx="1825560" cy="926640"/>
            </a:xfrm>
          </p:grpSpPr>
          <p:sp>
            <p:nvSpPr>
              <p:cNvPr id="969" name=""/>
              <p:cNvSpPr/>
              <p:nvPr/>
            </p:nvSpPr>
            <p:spPr>
              <a:xfrm>
                <a:off x="2449440" y="5516640"/>
                <a:ext cx="920880" cy="922320"/>
              </a:xfrm>
              <a:prstGeom prst="ellipse">
                <a:avLst/>
              </a:prstGeom>
              <a:solidFill>
                <a:srgbClr val="ff993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2941560" y="5516640"/>
                <a:ext cx="922320" cy="922320"/>
              </a:xfrm>
              <a:prstGeom prst="ellipse">
                <a:avLst/>
              </a:prstGeom>
              <a:solidFill>
                <a:srgbClr val="ff993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71" name=""/>
              <p:cNvGrpSpPr/>
              <p:nvPr/>
            </p:nvGrpSpPr>
            <p:grpSpPr>
              <a:xfrm>
                <a:off x="2700720" y="5512320"/>
                <a:ext cx="546120" cy="546120"/>
                <a:chOff x="2700720" y="5512320"/>
                <a:chExt cx="546120" cy="546120"/>
              </a:xfrm>
            </p:grpSpPr>
            <p:sp>
              <p:nvSpPr>
                <p:cNvPr id="972" name=""/>
                <p:cNvSpPr/>
                <p:nvPr/>
              </p:nvSpPr>
              <p:spPr>
                <a:xfrm rot="8100000">
                  <a:off x="2872800" y="5562360"/>
                  <a:ext cx="237960" cy="4827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 rot="13500000">
                  <a:off x="2769120" y="5513400"/>
                  <a:ext cx="101160" cy="235080"/>
                </a:xfrm>
                <a:prstGeom prst="ellipse">
                  <a:avLst/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4" name=""/>
              <p:cNvSpPr/>
              <p:nvPr/>
            </p:nvSpPr>
            <p:spPr>
              <a:xfrm>
                <a:off x="2384280" y="5978520"/>
                <a:ext cx="1567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3690720" y="591480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.P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76" name=""/>
          <p:cNvGrpSpPr/>
          <p:nvPr/>
        </p:nvGrpSpPr>
        <p:grpSpPr>
          <a:xfrm>
            <a:off x="4211640" y="1224000"/>
            <a:ext cx="4752720" cy="5373720"/>
            <a:chOff x="4211640" y="1224000"/>
            <a:chExt cx="4752720" cy="5373720"/>
          </a:xfrm>
        </p:grpSpPr>
        <p:sp>
          <p:nvSpPr>
            <p:cNvPr id="977" name=""/>
            <p:cNvSpPr/>
            <p:nvPr/>
          </p:nvSpPr>
          <p:spPr>
            <a:xfrm>
              <a:off x="4211640" y="1224000"/>
              <a:ext cx="0" cy="537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211640" y="1224000"/>
              <a:ext cx="475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4778640" y="722160"/>
            <a:ext cx="3759120" cy="563400"/>
            <a:chOff x="4778640" y="722160"/>
            <a:chExt cx="3759120" cy="563400"/>
          </a:xfrm>
        </p:grpSpPr>
        <p:sp>
          <p:nvSpPr>
            <p:cNvPr id="980" name=""/>
            <p:cNvSpPr/>
            <p:nvPr/>
          </p:nvSpPr>
          <p:spPr>
            <a:xfrm>
              <a:off x="4778640" y="722160"/>
              <a:ext cx="4734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810040" y="722160"/>
              <a:ext cx="6091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id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889680" y="722160"/>
              <a:ext cx="5281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863120" y="722160"/>
              <a:ext cx="67464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o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A9A99-E3DF-47F8-8848-D5A0F764E4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Bookman Old Style"/>
              </a:rPr>
              <a:t>Azimuthal dependence of HBT radii for kaon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Arial"/>
              </a:rPr>
              <a:t>Observed the oscillation for R</a:t>
            </a:r>
            <a:r>
              <a:rPr b="0" lang="en-US" sz="1800" spc="-1" strike="noStrike" baseline="-25000">
                <a:solidFill>
                  <a:srgbClr val="464653"/>
                </a:solidFill>
                <a:latin typeface="Arial"/>
              </a:rPr>
              <a:t>side</a:t>
            </a:r>
            <a:r>
              <a:rPr b="0" lang="en-US" sz="1800" spc="-1" strike="noStrike">
                <a:solidFill>
                  <a:srgbClr val="464653"/>
                </a:solidFill>
                <a:latin typeface="Arial"/>
              </a:rPr>
              <a:t>, R</a:t>
            </a:r>
            <a:r>
              <a:rPr b="0" lang="en-US" sz="1800" spc="-1" strike="noStrike" baseline="-25000">
                <a:solidFill>
                  <a:srgbClr val="464653"/>
                </a:solidFill>
                <a:latin typeface="Arial"/>
              </a:rPr>
              <a:t>out</a:t>
            </a:r>
            <a:r>
              <a:rPr b="0" lang="en-US" sz="1800" spc="-1" strike="noStrike">
                <a:solidFill>
                  <a:srgbClr val="464653"/>
                </a:solidFill>
                <a:latin typeface="Arial"/>
              </a:rPr>
              <a:t>, R</a:t>
            </a:r>
            <a:r>
              <a:rPr b="0" lang="en-US" sz="1800" spc="-1" strike="noStrike" baseline="-25000">
                <a:solidFill>
                  <a:srgbClr val="464653"/>
                </a:solidFill>
                <a:latin typeface="Arial"/>
              </a:rPr>
              <a:t>os </a:t>
            </a:r>
            <a:r>
              <a:rPr b="0" lang="en-US" sz="1800" spc="-1" strike="noStrike">
                <a:solidFill>
                  <a:srgbClr val="464653"/>
                </a:solidFill>
                <a:latin typeface="Arial"/>
              </a:rPr>
              <a:t>as well as pion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Arial"/>
              </a:rPr>
              <a:t>Data points are fitted by cosine series func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2044800" y="1565280"/>
                <a:ext cx="36129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μ</m:t>
                            </m:r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μ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Δφ</m:t>
                            </m:r>
                          </m:e>
                        </m:d>
                        <m:m>
                          <m:mr>
                            <m:e/>
                            <m:e>
                              <m:r>
                                <m:t xml:space="preserve">μ</m:t>
                              </m:r>
                              <m:r>
                                <m:t xml:space="preserve">=</m:t>
                              </m:r>
                              <m:r>
                                <m:t xml:space="preserve">s</m:t>
                              </m:r>
                              <m:r>
                                <m:t xml:space="preserve">,</m:t>
                              </m:r>
                              <m:r>
                                <m:t xml:space="preserve">o</m:t>
                              </m:r>
                              <m:r>
                                <m:t xml:space="preserve">,</m:t>
                              </m:r>
                              <m:r>
                                <m:t xml:space="preserve">l</m:t>
                              </m:r>
                            </m:e>
                          </m:mr>
                        </m:m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μ</m:t>
                            </m:r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μ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Δφ</m:t>
                            </m:r>
                          </m:e>
                        </m:d>
                        <m:m>
                          <m:mr>
                            <m:e/>
                            <m:e>
                              <m:r>
                                <m:t xml:space="preserve">μ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s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87" name="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5844960" cy="3959280"/>
          </a:xfrm>
          <a:prstGeom prst="rect">
            <a:avLst/>
          </a:prstGeom>
          <a:ln w="0">
            <a:noFill/>
          </a:ln>
        </p:spPr>
      </p:pic>
      <p:grpSp>
        <p:nvGrpSpPr>
          <p:cNvPr id="988" name=""/>
          <p:cNvGrpSpPr/>
          <p:nvPr/>
        </p:nvGrpSpPr>
        <p:grpSpPr>
          <a:xfrm>
            <a:off x="6411960" y="3141720"/>
            <a:ext cx="2516760" cy="2482920"/>
            <a:chOff x="6411960" y="3141720"/>
            <a:chExt cx="2516760" cy="2482920"/>
          </a:xfrm>
        </p:grpSpPr>
        <p:sp>
          <p:nvSpPr>
            <p:cNvPr id="989" name=""/>
            <p:cNvSpPr/>
            <p:nvPr/>
          </p:nvSpPr>
          <p:spPr>
            <a:xfrm>
              <a:off x="6411960" y="3936960"/>
              <a:ext cx="1174680" cy="1687680"/>
            </a:xfrm>
            <a:prstGeom prst="ellipse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763040" y="4721400"/>
              <a:ext cx="48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607880" y="4375080"/>
              <a:ext cx="1320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In-plane (⊿φ=0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6983280" y="3365640"/>
              <a:ext cx="0" cy="542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969240" y="3438720"/>
              <a:ext cx="1128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Out-of-plane </a:t>
              </a:r>
              <a:br>
                <a:rPr sz="1200"/>
              </a:b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(⊿φ=π/2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552080" y="4889520"/>
              <a:ext cx="126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ion plan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406640" y="4068720"/>
              <a:ext cx="45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Arial"/>
                </a:rPr>
                <a:t>⊿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φ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254720" y="4449960"/>
              <a:ext cx="331920" cy="72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97" name=""/>
            <p:cNvGrpSpPr/>
            <p:nvPr/>
          </p:nvGrpSpPr>
          <p:grpSpPr>
            <a:xfrm>
              <a:off x="7013520" y="4260960"/>
              <a:ext cx="1235160" cy="541440"/>
              <a:chOff x="7013520" y="4260960"/>
              <a:chExt cx="1235160" cy="541440"/>
            </a:xfrm>
          </p:grpSpPr>
          <p:sp>
            <p:nvSpPr>
              <p:cNvPr id="998" name=""/>
              <p:cNvSpPr/>
              <p:nvPr/>
            </p:nvSpPr>
            <p:spPr>
              <a:xfrm>
                <a:off x="7013520" y="4802400"/>
                <a:ext cx="1235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V="1">
                <a:off x="7013520" y="4260960"/>
                <a:ext cx="421560" cy="54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0" name=""/>
            <p:cNvSpPr/>
            <p:nvPr/>
          </p:nvSpPr>
          <p:spPr>
            <a:xfrm>
              <a:off x="7354800" y="4479840"/>
              <a:ext cx="131760" cy="692280"/>
            </a:xfrm>
            <a:prstGeom prst="upDownArrow">
              <a:avLst>
                <a:gd name="adj1" fmla="val 50000"/>
                <a:gd name="adj2" fmla="val 104595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 rot="5400000">
              <a:off x="7354440" y="4656240"/>
              <a:ext cx="131760" cy="299880"/>
            </a:xfrm>
            <a:prstGeom prst="upDownArrow">
              <a:avLst>
                <a:gd name="adj1" fmla="val 50000"/>
                <a:gd name="adj2" fmla="val 45308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773760" y="3936960"/>
              <a:ext cx="451080" cy="45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 rot="5400000">
              <a:off x="6932880" y="3942360"/>
              <a:ext cx="131760" cy="422280"/>
            </a:xfrm>
            <a:prstGeom prst="upDownArrow">
              <a:avLst>
                <a:gd name="adj1" fmla="val 50000"/>
                <a:gd name="adj2" fmla="val 63801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923160" y="3936960"/>
              <a:ext cx="131760" cy="452520"/>
            </a:xfrm>
            <a:prstGeom prst="upDownArrow">
              <a:avLst>
                <a:gd name="adj1" fmla="val 50000"/>
                <a:gd name="adj2" fmla="val 6837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5" name=""/>
            <p:cNvGrpSpPr/>
            <p:nvPr/>
          </p:nvGrpSpPr>
          <p:grpSpPr>
            <a:xfrm>
              <a:off x="8145000" y="3141720"/>
              <a:ext cx="747720" cy="799920"/>
              <a:chOff x="8145000" y="3141720"/>
              <a:chExt cx="747720" cy="799920"/>
            </a:xfrm>
          </p:grpSpPr>
          <p:sp>
            <p:nvSpPr>
              <p:cNvPr id="1006" name=""/>
              <p:cNvSpPr/>
              <p:nvPr/>
            </p:nvSpPr>
            <p:spPr>
              <a:xfrm rot="5400000">
                <a:off x="8355240" y="2931480"/>
                <a:ext cx="327240" cy="747720"/>
              </a:xfrm>
              <a:prstGeom prst="upDownArrow">
                <a:avLst>
                  <a:gd name="adj1" fmla="val 50000"/>
                  <a:gd name="adj2" fmla="val 45487"/>
                </a:avLst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id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rot="5400000">
                <a:off x="8355240" y="3404160"/>
                <a:ext cx="327240" cy="747720"/>
              </a:xfrm>
              <a:prstGeom prst="upDownArrow">
                <a:avLst>
                  <a:gd name="adj1" fmla="val 50000"/>
                  <a:gd name="adj2" fmla="val 45487"/>
                </a:avLst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ou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08" name=""/>
          <p:cNvGrpSpPr/>
          <p:nvPr/>
        </p:nvGrpSpPr>
        <p:grpSpPr>
          <a:xfrm>
            <a:off x="8742600" y="4590720"/>
            <a:ext cx="380160" cy="277200"/>
            <a:chOff x="8742600" y="4590720"/>
            <a:chExt cx="380160" cy="277200"/>
          </a:xfrm>
        </p:grpSpPr>
        <p:sp>
          <p:nvSpPr>
            <p:cNvPr id="1009" name=""/>
            <p:cNvSpPr/>
            <p:nvPr/>
          </p:nvSpPr>
          <p:spPr>
            <a:xfrm>
              <a:off x="8742600" y="4665600"/>
              <a:ext cx="37188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8752320" y="4765680"/>
              <a:ext cx="370440" cy="10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 rot="21120000">
              <a:off x="8774640" y="4683960"/>
              <a:ext cx="38520" cy="167400"/>
            </a:xfrm>
            <a:custGeom>
              <a:avLst/>
              <a:gdLst/>
              <a:ahLst/>
              <a:rect l="l" t="t" r="r" b="b"/>
              <a:pathLst>
                <a:path w="63" h="288">
                  <a:moveTo>
                    <a:pt x="63" y="0"/>
                  </a:moveTo>
                  <a:cubicBezTo>
                    <a:pt x="54" y="21"/>
                    <a:pt x="16" y="77"/>
                    <a:pt x="8" y="125"/>
                  </a:cubicBezTo>
                  <a:cubicBezTo>
                    <a:pt x="0" y="173"/>
                    <a:pt x="14" y="254"/>
                    <a:pt x="15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 rot="21480000">
              <a:off x="8782560" y="4729680"/>
              <a:ext cx="2916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 rot="21120000">
              <a:off x="8793360" y="4596840"/>
              <a:ext cx="34200" cy="88560"/>
            </a:xfrm>
            <a:custGeom>
              <a:avLst/>
              <a:gdLst/>
              <a:ahLst/>
              <a:rect l="l" t="t" r="r" b="b"/>
              <a:pathLst>
                <a:path w="56" h="144">
                  <a:moveTo>
                    <a:pt x="8" y="144"/>
                  </a:moveTo>
                  <a:cubicBezTo>
                    <a:pt x="4" y="108"/>
                    <a:pt x="0" y="72"/>
                    <a:pt x="8" y="48"/>
                  </a:cubicBezTo>
                  <a:cubicBezTo>
                    <a:pt x="16" y="24"/>
                    <a:pt x="48" y="8"/>
                    <a:pt x="5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2840" bIns="42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 rot="21120000">
              <a:off x="8823240" y="4592520"/>
              <a:ext cx="34200" cy="88560"/>
            </a:xfrm>
            <a:custGeom>
              <a:avLst/>
              <a:gdLst/>
              <a:ahLst/>
              <a:rect l="l" t="t" r="r" b="b"/>
              <a:pathLst>
                <a:path w="56" h="144">
                  <a:moveTo>
                    <a:pt x="8" y="144"/>
                  </a:moveTo>
                  <a:cubicBezTo>
                    <a:pt x="4" y="108"/>
                    <a:pt x="0" y="72"/>
                    <a:pt x="8" y="48"/>
                  </a:cubicBezTo>
                  <a:cubicBezTo>
                    <a:pt x="16" y="24"/>
                    <a:pt x="48" y="8"/>
                    <a:pt x="5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2840" bIns="42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6804000" y="2773440"/>
            <a:ext cx="260640" cy="380880"/>
            <a:chOff x="6804000" y="2773440"/>
            <a:chExt cx="260640" cy="380880"/>
          </a:xfrm>
        </p:grpSpPr>
        <p:sp>
          <p:nvSpPr>
            <p:cNvPr id="1016" name=""/>
            <p:cNvSpPr/>
            <p:nvPr/>
          </p:nvSpPr>
          <p:spPr>
            <a:xfrm flipV="1">
              <a:off x="6863040" y="2781000"/>
              <a:ext cx="147600" cy="35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 flipV="1">
              <a:off x="7014960" y="2773440"/>
              <a:ext cx="496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rot="16200000">
              <a:off x="6951960" y="3015360"/>
              <a:ext cx="38520" cy="167400"/>
            </a:xfrm>
            <a:custGeom>
              <a:avLst/>
              <a:gdLst/>
              <a:ahLst/>
              <a:rect l="l" t="t" r="r" b="b"/>
              <a:pathLst>
                <a:path w="63" h="288">
                  <a:moveTo>
                    <a:pt x="63" y="0"/>
                  </a:moveTo>
                  <a:cubicBezTo>
                    <a:pt x="54" y="21"/>
                    <a:pt x="16" y="77"/>
                    <a:pt x="8" y="125"/>
                  </a:cubicBezTo>
                  <a:cubicBezTo>
                    <a:pt x="0" y="173"/>
                    <a:pt x="14" y="254"/>
                    <a:pt x="15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 rot="16560000">
              <a:off x="6963480" y="3052440"/>
              <a:ext cx="2916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 rot="16200000">
              <a:off x="6831000" y="3020400"/>
              <a:ext cx="34200" cy="88560"/>
            </a:xfrm>
            <a:custGeom>
              <a:avLst/>
              <a:gdLst/>
              <a:ahLst/>
              <a:rect l="l" t="t" r="r" b="b"/>
              <a:pathLst>
                <a:path w="56" h="144">
                  <a:moveTo>
                    <a:pt x="8" y="144"/>
                  </a:moveTo>
                  <a:cubicBezTo>
                    <a:pt x="4" y="108"/>
                    <a:pt x="0" y="72"/>
                    <a:pt x="8" y="48"/>
                  </a:cubicBezTo>
                  <a:cubicBezTo>
                    <a:pt x="16" y="24"/>
                    <a:pt x="48" y="8"/>
                    <a:pt x="5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2840" bIns="42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 rot="16200000">
              <a:off x="6831000" y="2990520"/>
              <a:ext cx="34200" cy="88560"/>
            </a:xfrm>
            <a:custGeom>
              <a:avLst/>
              <a:gdLst/>
              <a:ahLst/>
              <a:rect l="l" t="t" r="r" b="b"/>
              <a:pathLst>
                <a:path w="56" h="144">
                  <a:moveTo>
                    <a:pt x="8" y="144"/>
                  </a:moveTo>
                  <a:cubicBezTo>
                    <a:pt x="4" y="108"/>
                    <a:pt x="0" y="72"/>
                    <a:pt x="8" y="48"/>
                  </a:cubicBezTo>
                  <a:cubicBezTo>
                    <a:pt x="16" y="24"/>
                    <a:pt x="48" y="8"/>
                    <a:pt x="5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2840" bIns="42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16CC5-6E04-4B1C-AC38-E371CD69EA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Eccentricity at freeze-ou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894960"/>
            <a:ext cx="82296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eccentricity is defined as                           by Blast-wave mod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4" name="Text Box 2"/>
          <p:cNvSpPr/>
          <p:nvPr/>
        </p:nvSpPr>
        <p:spPr>
          <a:xfrm>
            <a:off x="4282920" y="1512720"/>
            <a:ext cx="4465800" cy="621000"/>
          </a:xfrm>
          <a:prstGeom prst="rect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n-US" sz="1400" spc="-1" strike="noStrike" baseline="-33000">
                <a:solidFill>
                  <a:srgbClr val="000000"/>
                </a:solidFill>
                <a:latin typeface="Arial"/>
              </a:rPr>
              <a:t>initia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initial eccentricity calculated by Glauber mod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final</a:t>
            </a:r>
            <a:r>
              <a:rPr b="0" lang="en-US" sz="1400" spc="-1" strike="noStrike" baseline="-33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final eccentricity calculated by abo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5" name="Object 2"/>
              <p:cNvSpPr txBox="1"/>
              <p:nvPr/>
            </p:nvSpPr>
            <p:spPr>
              <a:xfrm>
                <a:off x="3968640" y="766800"/>
                <a:ext cx="132408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fin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6" name=""/>
          <p:cNvSpPr/>
          <p:nvPr/>
        </p:nvSpPr>
        <p:spPr>
          <a:xfrm>
            <a:off x="979560" y="5589720"/>
            <a:ext cx="6973920" cy="9284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・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HENIX result is consistent with STAR result for p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・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ε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final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of kaon is larger than that of pion and close to ε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initial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Due to different average m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? or different cross sec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79280" y="1916280"/>
            <a:ext cx="22320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f  ε</a:t>
            </a:r>
            <a:r>
              <a:rPr b="1" lang="en-US" sz="1800" spc="-1" strike="noStrike" u="sng" baseline="-25000">
                <a:solidFill>
                  <a:srgbClr val="000000"/>
                </a:solidFill>
                <a:uFillTx/>
                <a:latin typeface="Arial"/>
              </a:rPr>
              <a:t>final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= ε</a:t>
            </a:r>
            <a:r>
              <a:rPr b="1" lang="en-US" sz="1800" spc="-1" strike="noStrike" u="sng" baseline="-25000">
                <a:solidFill>
                  <a:srgbClr val="000000"/>
                </a:solidFill>
                <a:uFillTx/>
                <a:latin typeface="Arial"/>
              </a:rPr>
              <a:t>init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81800" y="2306520"/>
            <a:ext cx="28098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e source shape betwe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state and freeze-ou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79280" y="3125880"/>
            <a:ext cx="20876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f  ε</a:t>
            </a:r>
            <a:r>
              <a:rPr b="1" lang="en-US" sz="1800" spc="-1" strike="noStrike" u="sng" baseline="-25000">
                <a:solidFill>
                  <a:srgbClr val="000000"/>
                </a:solidFill>
                <a:uFillTx/>
                <a:latin typeface="Arial"/>
              </a:rPr>
              <a:t>final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&lt; ε</a:t>
            </a:r>
            <a:r>
              <a:rPr b="1" lang="en-US" sz="1800" spc="-1" strike="noStrike" u="sng" baseline="-25000">
                <a:solidFill>
                  <a:srgbClr val="000000"/>
                </a:solidFill>
                <a:uFillTx/>
                <a:latin typeface="Arial"/>
              </a:rPr>
              <a:t>init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181800" y="3516480"/>
            <a:ext cx="34876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 expands to In-plane dir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1" name=""/>
          <p:cNvGrpSpPr/>
          <p:nvPr/>
        </p:nvGrpSpPr>
        <p:grpSpPr>
          <a:xfrm>
            <a:off x="1116000" y="3919680"/>
            <a:ext cx="1301760" cy="1331640"/>
            <a:chOff x="1116000" y="3919680"/>
            <a:chExt cx="1301760" cy="1331640"/>
          </a:xfrm>
        </p:grpSpPr>
        <p:sp>
          <p:nvSpPr>
            <p:cNvPr id="1032" name=""/>
            <p:cNvSpPr/>
            <p:nvPr/>
          </p:nvSpPr>
          <p:spPr>
            <a:xfrm>
              <a:off x="1338120" y="3919680"/>
              <a:ext cx="851760" cy="1331640"/>
            </a:xfrm>
            <a:prstGeom prst="ellipse">
              <a:avLst/>
            </a:prstGeom>
            <a:solidFill>
              <a:srgbClr val="ff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116000" y="3919680"/>
              <a:ext cx="1296360" cy="1331640"/>
            </a:xfrm>
            <a:prstGeom prst="ellipse">
              <a:avLst/>
            </a:prstGeom>
            <a:solidFill>
              <a:srgbClr val="ff993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092320" y="4507920"/>
              <a:ext cx="325440" cy="197280"/>
            </a:xfrm>
            <a:prstGeom prst="rightArrow">
              <a:avLst>
                <a:gd name="adj1" fmla="val 50000"/>
                <a:gd name="adj2" fmla="val 41241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 rot="20700000">
              <a:off x="2055960" y="4259880"/>
              <a:ext cx="289080" cy="197280"/>
            </a:xfrm>
            <a:prstGeom prst="rightArrow">
              <a:avLst>
                <a:gd name="adj1" fmla="val 50000"/>
                <a:gd name="adj2" fmla="val 36633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 rot="900000">
              <a:off x="2055960" y="4725000"/>
              <a:ext cx="289080" cy="197280"/>
            </a:xfrm>
            <a:prstGeom prst="rightArrow">
              <a:avLst>
                <a:gd name="adj1" fmla="val 50000"/>
                <a:gd name="adj2" fmla="val 36633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 rot="10800000">
              <a:off x="1116000" y="4476960"/>
              <a:ext cx="325440" cy="197280"/>
            </a:xfrm>
            <a:prstGeom prst="rightArrow">
              <a:avLst>
                <a:gd name="adj1" fmla="val 50000"/>
                <a:gd name="adj2" fmla="val 41241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 rot="11700000">
              <a:off x="1187280" y="4259880"/>
              <a:ext cx="289080" cy="197280"/>
            </a:xfrm>
            <a:prstGeom prst="rightArrow">
              <a:avLst>
                <a:gd name="adj1" fmla="val 50000"/>
                <a:gd name="adj2" fmla="val 36633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 rot="9900000">
              <a:off x="1187280" y="4713120"/>
              <a:ext cx="289080" cy="197280"/>
            </a:xfrm>
            <a:prstGeom prst="rightArrow">
              <a:avLst>
                <a:gd name="adj1" fmla="val 50000"/>
                <a:gd name="adj2" fmla="val 36633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40" name="" descr=""/>
          <p:cNvPicPr/>
          <p:nvPr/>
        </p:nvPicPr>
        <p:blipFill>
          <a:blip r:embed="rId1"/>
          <a:stretch/>
        </p:blipFill>
        <p:spPr>
          <a:xfrm>
            <a:off x="3746520" y="1809720"/>
            <a:ext cx="5578560" cy="378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57CDD-621B-4F87-9A89-2C981AB9235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ummary &amp; Outlook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ments of azimuthal dependence of HBT radii for pion and kaon in Au+Au 200GeV collis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Arial"/>
              </a:rPr>
              <a:t>Observed the oscillation of R</a:t>
            </a:r>
            <a:r>
              <a:rPr b="0" lang="en-US" sz="1900" spc="-1" strike="noStrike" baseline="-25000">
                <a:solidFill>
                  <a:srgbClr val="464653"/>
                </a:solidFill>
                <a:latin typeface="Arial"/>
              </a:rPr>
              <a:t>side</a:t>
            </a:r>
            <a:r>
              <a:rPr b="0" lang="en-US" sz="1900" spc="-1" strike="noStrike">
                <a:solidFill>
                  <a:srgbClr val="464653"/>
                </a:solidFill>
                <a:latin typeface="Arial"/>
              </a:rPr>
              <a:t> and R</a:t>
            </a:r>
            <a:r>
              <a:rPr b="0" lang="en-US" sz="1900" spc="-1" strike="noStrike" baseline="-25000">
                <a:solidFill>
                  <a:srgbClr val="464653"/>
                </a:solidFill>
                <a:latin typeface="Arial"/>
              </a:rPr>
              <a:t>out</a:t>
            </a:r>
            <a:r>
              <a:rPr b="0" lang="en-US" sz="1900" spc="-1" strike="noStrike">
                <a:solidFill>
                  <a:srgbClr val="464653"/>
                </a:solidFill>
                <a:latin typeface="Arial"/>
              </a:rPr>
              <a:t> for kaon as well as for pion</a:t>
            </a:r>
            <a:endParaRPr b="0" lang="en-US" sz="1900" spc="-1" strike="noStrike">
              <a:solidFill>
                <a:srgbClr val="464653"/>
              </a:solidFill>
              <a:latin typeface="Gill Sans MT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Arial"/>
              </a:rPr>
              <a:t>4</a:t>
            </a:r>
            <a:r>
              <a:rPr b="0" lang="en-US" sz="1900" spc="-1" strike="noStrike" baseline="30000">
                <a:solidFill>
                  <a:srgbClr val="464653"/>
                </a:solidFill>
                <a:latin typeface="Arial"/>
              </a:rPr>
              <a:t>th</a:t>
            </a:r>
            <a:r>
              <a:rPr b="0" lang="en-US" sz="1900" spc="-1" strike="noStrike">
                <a:solidFill>
                  <a:srgbClr val="464653"/>
                </a:solidFill>
                <a:latin typeface="Arial"/>
              </a:rPr>
              <a:t> order in oscillation of R</a:t>
            </a:r>
            <a:r>
              <a:rPr b="0" lang="en-US" sz="1900" spc="-1" strike="noStrike" baseline="-25000">
                <a:solidFill>
                  <a:srgbClr val="464653"/>
                </a:solidFill>
                <a:latin typeface="Arial"/>
              </a:rPr>
              <a:t>side</a:t>
            </a:r>
            <a:r>
              <a:rPr b="0" lang="en-US" sz="1900" spc="-1" strike="noStrike">
                <a:solidFill>
                  <a:srgbClr val="464653"/>
                </a:solidFill>
                <a:latin typeface="Arial"/>
              </a:rPr>
              <a:t> for pion is zero within systematic error</a:t>
            </a:r>
            <a:endParaRPr b="0" lang="en-US" sz="1900" spc="-1" strike="noStrike">
              <a:solidFill>
                <a:srgbClr val="464653"/>
              </a:solidFill>
              <a:latin typeface="Gill Sans MT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Arial"/>
              </a:rPr>
              <a:t>Final eccentricity of pion is consistent with STAR result</a:t>
            </a:r>
            <a:endParaRPr b="0" lang="en-US" sz="1900" spc="-1" strike="noStrike">
              <a:solidFill>
                <a:srgbClr val="464653"/>
              </a:solidFill>
              <a:latin typeface="Gill Sans MT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Arial"/>
              </a:rPr>
              <a:t>Final eccentricity of kaon is larger than that of pion  </a:t>
            </a:r>
            <a:endParaRPr b="0" lang="en-US" sz="1900" spc="-1" strike="noStrike">
              <a:solidFill>
                <a:srgbClr val="464653"/>
              </a:solidFill>
              <a:latin typeface="Gill Sans MT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64653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Arial"/>
              </a:rPr>
              <a:t>Need to check m</a:t>
            </a:r>
            <a:r>
              <a:rPr b="0" lang="en-US" sz="2100" spc="-1" strike="noStrike" baseline="-25000">
                <a:solidFill>
                  <a:srgbClr val="464653"/>
                </a:solidFill>
                <a:latin typeface="Arial"/>
              </a:rPr>
              <a:t>T</a:t>
            </a:r>
            <a:r>
              <a:rPr b="0" lang="en-US" sz="2100" spc="-1" strike="noStrike">
                <a:solidFill>
                  <a:srgbClr val="464653"/>
                </a:solidFill>
                <a:latin typeface="Arial"/>
              </a:rPr>
              <a:t> dependence of final eccentricity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e to understand the difference of pion and kaon?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Arial"/>
              </a:rPr>
              <a:t>Comparison with model (ex. blast wave model)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Arial"/>
              </a:rPr>
              <a:t>Azimuthal HBT w.r.t higher order event plane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using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der event plane is in progres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information about relatio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ween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source shape?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43" name=""/>
          <p:cNvGrpSpPr/>
          <p:nvPr/>
        </p:nvGrpSpPr>
        <p:grpSpPr>
          <a:xfrm>
            <a:off x="6620040" y="4467240"/>
            <a:ext cx="2490840" cy="1914120"/>
            <a:chOff x="6620040" y="4467240"/>
            <a:chExt cx="2490840" cy="1914120"/>
          </a:xfrm>
        </p:grpSpPr>
        <p:sp>
          <p:nvSpPr>
            <p:cNvPr id="1044" name="Freeform 6"/>
            <p:cNvSpPr/>
            <p:nvPr/>
          </p:nvSpPr>
          <p:spPr>
            <a:xfrm rot="3696600">
              <a:off x="6844680" y="4987440"/>
              <a:ext cx="1010520" cy="1113840"/>
            </a:xfrm>
            <a:custGeom>
              <a:avLst/>
              <a:gdLst>
                <a:gd name="textAreaLeft" fmla="*/ 0 w 1010520"/>
                <a:gd name="textAreaRight" fmla="*/ 1010880 w 1010520"/>
                <a:gd name="textAreaTop" fmla="*/ 0 h 1113840"/>
                <a:gd name="textAreaBottom" fmla="*/ 1113840 h 1113840"/>
              </a:gdLst>
              <a:ahLst/>
              <a:rect l="textAreaLeft" t="textAreaTop" r="textAreaRight" b="textAreaBottom"/>
              <a:pathLst>
                <a:path w="673" h="741">
                  <a:moveTo>
                    <a:pt x="666" y="372"/>
                  </a:moveTo>
                  <a:cubicBezTo>
                    <a:pt x="660" y="445"/>
                    <a:pt x="514" y="537"/>
                    <a:pt x="416" y="592"/>
                  </a:cubicBezTo>
                  <a:cubicBezTo>
                    <a:pt x="318" y="647"/>
                    <a:pt x="149" y="741"/>
                    <a:pt x="80" y="703"/>
                  </a:cubicBezTo>
                  <a:cubicBezTo>
                    <a:pt x="11" y="665"/>
                    <a:pt x="2" y="478"/>
                    <a:pt x="1" y="366"/>
                  </a:cubicBezTo>
                  <a:cubicBezTo>
                    <a:pt x="1" y="255"/>
                    <a:pt x="0" y="70"/>
                    <a:pt x="75" y="35"/>
                  </a:cubicBezTo>
                  <a:cubicBezTo>
                    <a:pt x="150" y="0"/>
                    <a:pt x="356" y="99"/>
                    <a:pt x="455" y="156"/>
                  </a:cubicBezTo>
                  <a:cubicBezTo>
                    <a:pt x="553" y="212"/>
                    <a:pt x="673" y="285"/>
                    <a:pt x="666" y="372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45" name="Group 7"/>
            <p:cNvGrpSpPr/>
            <p:nvPr/>
          </p:nvGrpSpPr>
          <p:grpSpPr>
            <a:xfrm>
              <a:off x="6732720" y="4543560"/>
              <a:ext cx="1868040" cy="1837800"/>
              <a:chOff x="6732720" y="4543560"/>
              <a:chExt cx="1868040" cy="1837800"/>
            </a:xfrm>
          </p:grpSpPr>
          <p:sp>
            <p:nvSpPr>
              <p:cNvPr id="1046" name="Line 8"/>
              <p:cNvSpPr/>
              <p:nvPr/>
            </p:nvSpPr>
            <p:spPr>
              <a:xfrm>
                <a:off x="7303680" y="5519880"/>
                <a:ext cx="1297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Line 9"/>
              <p:cNvSpPr/>
              <p:nvPr/>
            </p:nvSpPr>
            <p:spPr>
              <a:xfrm flipH="1" flipV="1">
                <a:off x="6732720" y="4543560"/>
                <a:ext cx="574560" cy="9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Line 10"/>
              <p:cNvSpPr/>
              <p:nvPr/>
            </p:nvSpPr>
            <p:spPr>
              <a:xfrm flipH="1">
                <a:off x="6732720" y="5519880"/>
                <a:ext cx="574560" cy="861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9" name="Group 11"/>
            <p:cNvGrpSpPr/>
            <p:nvPr/>
          </p:nvGrpSpPr>
          <p:grpSpPr>
            <a:xfrm>
              <a:off x="6977880" y="4663800"/>
              <a:ext cx="1178280" cy="967680"/>
              <a:chOff x="6977880" y="4663800"/>
              <a:chExt cx="1178280" cy="967680"/>
            </a:xfrm>
          </p:grpSpPr>
          <p:sp>
            <p:nvSpPr>
              <p:cNvPr id="1050" name="Line 12"/>
              <p:cNvSpPr/>
              <p:nvPr/>
            </p:nvSpPr>
            <p:spPr>
              <a:xfrm>
                <a:off x="7301520" y="5526360"/>
                <a:ext cx="854640" cy="105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Line 13"/>
              <p:cNvSpPr/>
              <p:nvPr/>
            </p:nvSpPr>
            <p:spPr>
              <a:xfrm flipV="1">
                <a:off x="7301520" y="5417280"/>
                <a:ext cx="854640" cy="105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Line 14"/>
              <p:cNvSpPr/>
              <p:nvPr/>
            </p:nvSpPr>
            <p:spPr>
              <a:xfrm flipV="1">
                <a:off x="7305480" y="5197320"/>
                <a:ext cx="798480" cy="32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Line 15"/>
              <p:cNvSpPr/>
              <p:nvPr/>
            </p:nvSpPr>
            <p:spPr>
              <a:xfrm flipV="1">
                <a:off x="7305840" y="4987080"/>
                <a:ext cx="678240" cy="529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Line 16"/>
              <p:cNvSpPr/>
              <p:nvPr/>
            </p:nvSpPr>
            <p:spPr>
              <a:xfrm flipV="1">
                <a:off x="7302960" y="4841640"/>
                <a:ext cx="530640" cy="678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Line 17"/>
              <p:cNvSpPr/>
              <p:nvPr/>
            </p:nvSpPr>
            <p:spPr>
              <a:xfrm flipV="1">
                <a:off x="7301880" y="4728240"/>
                <a:ext cx="336960" cy="793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Line 18"/>
              <p:cNvSpPr/>
              <p:nvPr/>
            </p:nvSpPr>
            <p:spPr>
              <a:xfrm flipV="1">
                <a:off x="7300080" y="4668480"/>
                <a:ext cx="120240" cy="85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Line 19"/>
              <p:cNvSpPr/>
              <p:nvPr/>
            </p:nvSpPr>
            <p:spPr>
              <a:xfrm flipH="1" flipV="1">
                <a:off x="7196400" y="4663800"/>
                <a:ext cx="105120" cy="85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Line 20"/>
              <p:cNvSpPr/>
              <p:nvPr/>
            </p:nvSpPr>
            <p:spPr>
              <a:xfrm flipH="1" flipV="1">
                <a:off x="6977880" y="4720320"/>
                <a:ext cx="322560" cy="799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59" name="Text Box 21"/>
            <p:cNvSpPr/>
            <p:nvPr/>
          </p:nvSpPr>
          <p:spPr>
            <a:xfrm>
              <a:off x="8054280" y="538416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Arial"/>
                </a:rPr>
                <a:t>①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Text Box 22"/>
            <p:cNvSpPr/>
            <p:nvPr/>
          </p:nvSpPr>
          <p:spPr>
            <a:xfrm>
              <a:off x="8041680" y="515592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Arial"/>
                </a:rPr>
                <a:t>②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Text Box 23"/>
            <p:cNvSpPr/>
            <p:nvPr/>
          </p:nvSpPr>
          <p:spPr>
            <a:xfrm>
              <a:off x="7927560" y="492624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Arial"/>
                </a:rPr>
                <a:t>③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Text Box 24"/>
            <p:cNvSpPr/>
            <p:nvPr/>
          </p:nvSpPr>
          <p:spPr>
            <a:xfrm>
              <a:off x="7755840" y="475452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Arial"/>
                </a:rPr>
                <a:t>④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Text Box 25"/>
            <p:cNvSpPr/>
            <p:nvPr/>
          </p:nvSpPr>
          <p:spPr>
            <a:xfrm>
              <a:off x="7542000" y="463896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Arial"/>
                </a:rPr>
                <a:t>⑤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Text Box 26"/>
            <p:cNvSpPr/>
            <p:nvPr/>
          </p:nvSpPr>
          <p:spPr>
            <a:xfrm>
              <a:off x="7354440" y="452484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Arial"/>
                </a:rPr>
                <a:t>⑥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Text Box 27"/>
            <p:cNvSpPr/>
            <p:nvPr/>
          </p:nvSpPr>
          <p:spPr>
            <a:xfrm>
              <a:off x="7124400" y="446724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Arial"/>
                </a:rPr>
                <a:t>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Text Box 28"/>
            <p:cNvSpPr/>
            <p:nvPr/>
          </p:nvSpPr>
          <p:spPr>
            <a:xfrm>
              <a:off x="6895440" y="452484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Arial"/>
                </a:rPr>
                <a:t>⑧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Text Box 29"/>
            <p:cNvSpPr/>
            <p:nvPr/>
          </p:nvSpPr>
          <p:spPr>
            <a:xfrm>
              <a:off x="8486640" y="537876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GP創英角ﾎﾟｯﾌﾟ体"/>
                </a:rPr>
                <a:t>Psi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D6F9D-40AE-43CB-B41E-42E77A2B56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0" name=""/>
          <p:cNvSpPr/>
          <p:nvPr/>
        </p:nvSpPr>
        <p:spPr>
          <a:xfrm>
            <a:off x="3494160" y="3141720"/>
            <a:ext cx="1942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ank you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E7177-9CEB-483E-84D4-BFA85F7F6E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Back up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EBC70-81ED-48B5-86C8-0BB80A1B53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ＭＳ 明朝"/>
              </a:rPr>
              <a:t>Data selec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457200" y="980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04480" indent="-2044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410400" indent="-2044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Run7 Au+Au 200GeV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marL="204480" indent="-2044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Track Cu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410400" indent="-2044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quality: 63 or 31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410400" indent="-2044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pion : pt &gt; 0.2[GeV/c] &amp;&amp; mom&lt;2.0[GeV/c]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410400" indent="-2044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kaon : pt &gt; 0.3[GeV/c] &amp;&amp; mom&lt;2.0[GeV/c]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410400" indent="-2044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temc &lt; 50[nsec]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410400" indent="-2044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3σ matching cut @ PC3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410400" indent="-2044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3σ matching cut @ EMC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410400" indent="-2044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ecent &gt; 0.1[GeV]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410400" indent="-2044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EMC-west(all sectors)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410400" indent="-2044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marL="204480" indent="-2044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PID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410400" indent="-2044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pion:  Pi&lt;2σ &amp;&amp; K&gt;2σ &amp;&amp; P&gt;2σ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410400" indent="-2044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kaon: Pi&gt;2σ &amp;&amp; K&lt;2σ &amp;&amp; P&gt;2σ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410400" indent="-2044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marL="204480" indent="-2044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Event mixing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410400" indent="-2044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Zvertex: 30[bins]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410400" indent="-2044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Centrality: 20[bins] (10[bins] for kaon)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410400" indent="-2044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Reaction plane by RxP: 30[bins] (20[bins] for kaon)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marL="204480" indent="-2044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D698C-B9F1-468B-B2B6-F2C591ACCA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Outlin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ysics Motiva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Arial"/>
              </a:rPr>
              <a:t>PHENIX Detector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Arial"/>
              </a:rPr>
              <a:t>Analysis flow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Arial"/>
              </a:rPr>
              <a:t>Pion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muthal dependence of HBT radii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ier component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Arial"/>
              </a:rPr>
              <a:t>Kaon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muthal dependence of HBT radii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Arial"/>
              </a:rPr>
              <a:t>Eccentricity at freeze-out comparing between pion and kaon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mmary &amp; Outlook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FEFED-5A7B-4993-BC75-56E812FD23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 flipV="1">
            <a:off x="6329880" y="2433960"/>
            <a:ext cx="772200" cy="497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ntroduc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74760" y="895320"/>
            <a:ext cx="8229600" cy="51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HBT ?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Arial"/>
              </a:rPr>
              <a:t>Quantum interference between identical two particles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Arial"/>
              </a:rPr>
              <a:t>Powerful tool to explore space-time evolution in HI collisions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Arial"/>
              </a:rPr>
              <a:t>Correlation function c</a:t>
            </a:r>
            <a:r>
              <a:rPr b="0" lang="en-US" sz="1600" spc="-1" strike="noStrike" baseline="-25000">
                <a:solidFill>
                  <a:srgbClr val="464653"/>
                </a:solidFill>
                <a:latin typeface="Arial"/>
              </a:rPr>
              <a:t>2  </a:t>
            </a:r>
            <a:r>
              <a:rPr b="0" lang="en-US" sz="1600" spc="-1" strike="noStrike">
                <a:solidFill>
                  <a:srgbClr val="464653"/>
                </a:solidFill>
                <a:latin typeface="Arial"/>
              </a:rPr>
              <a:t>is defined as</a:t>
            </a:r>
            <a:r>
              <a:rPr b="0" lang="en-US" sz="1600" spc="-1" strike="noStrike" baseline="-25000">
                <a:solidFill>
                  <a:srgbClr val="464653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464653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marL="253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tsch-Pratt parameterization at LCMS fram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464653"/>
                </a:solidFill>
                <a:latin typeface="Arial"/>
              </a:rPr>
              <a:t>side  </a:t>
            </a:r>
            <a:r>
              <a:rPr b="0" lang="en-US" sz="1600" spc="-1" strike="noStrike">
                <a:solidFill>
                  <a:srgbClr val="464653"/>
                </a:solidFill>
                <a:latin typeface="Arial"/>
              </a:rPr>
              <a:t>: transverse size of source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464653"/>
                </a:solidFill>
                <a:latin typeface="Arial"/>
              </a:rPr>
              <a:t>out    </a:t>
            </a:r>
            <a:r>
              <a:rPr b="0" lang="en-US" sz="1600" spc="-1" strike="noStrike">
                <a:solidFill>
                  <a:srgbClr val="464653"/>
                </a:solidFill>
                <a:latin typeface="Arial"/>
              </a:rPr>
              <a:t>: transverse size of source + emission duration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464653"/>
                </a:solidFill>
                <a:latin typeface="Arial"/>
              </a:rPr>
              <a:t>long  </a:t>
            </a:r>
            <a:r>
              <a:rPr b="0" lang="en-US" sz="1600" spc="-1" strike="noStrike">
                <a:solidFill>
                  <a:srgbClr val="464653"/>
                </a:solidFill>
                <a:latin typeface="Arial"/>
              </a:rPr>
              <a:t>: longitudinal size of source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464653"/>
                </a:solidFill>
                <a:latin typeface="Arial"/>
              </a:rPr>
              <a:t>os</a:t>
            </a:r>
            <a:r>
              <a:rPr b="0" lang="en-US" sz="1600" spc="-1" strike="noStrike">
                <a:solidFill>
                  <a:srgbClr val="464653"/>
                </a:solidFill>
                <a:latin typeface="Arial"/>
              </a:rPr>
              <a:t>    : cross term between side and out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marL="253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636480" y="4365720"/>
                <a:ext cx="573588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λ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v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v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  <m:e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λ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id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id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ng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ng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ide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974880" y="2492280"/>
                <a:ext cx="338112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m>
                          <m:mr>
                            <m:e/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sSup>
                                <m:e>
                                  <m:d>
                                    <m:dPr>
                                      <m:begChr m:val="|"/>
                                      <m:endChr m:val="|"/>
                                    </m:dPr>
                                    <m:e>
                                      <m:acc>
                                        <m:accPr>
                                          <m:chr m:val="~"/>
                                        </m:accPr>
                                        <m:e>
                                          <m:r>
                                            <m:t xml:space="preserve">ρ</m:t>
                                          </m:r>
                                        </m:e>
                                      </m:acc>
                                      <m:r>
                                        <m:t xml:space="preserve">(</m:t>
                                      </m:r>
                                      <m:r>
                                        <m:t xml:space="preserve">q</m:t>
                                      </m:r>
                                      <m:r>
                                        <m:t xml:space="preserve">)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xp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v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sSubSup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v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62" name=""/>
          <p:cNvSpPr/>
          <p:nvPr/>
        </p:nvSpPr>
        <p:spPr>
          <a:xfrm>
            <a:off x="1780200" y="3573360"/>
            <a:ext cx="22197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f assuming gaussian sourc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7451640" y="1216080"/>
                <a:ext cx="86544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64" name=""/>
          <p:cNvSpPr/>
          <p:nvPr/>
        </p:nvSpPr>
        <p:spPr>
          <a:xfrm rot="4203600">
            <a:off x="5084280" y="2201760"/>
            <a:ext cx="1271880" cy="2008440"/>
          </a:xfrm>
          <a:prstGeom prst="ellipse">
            <a:avLst/>
          </a:prstGeom>
          <a:solidFill>
            <a:srgbClr val="ff9933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8555040" y="2894040"/>
            <a:ext cx="519120" cy="3697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8555040" y="3595680"/>
            <a:ext cx="519120" cy="3697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7639200" y="2637000"/>
                <a:ext cx="280800" cy="33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7620120" y="3757680"/>
                <a:ext cx="28080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69" name=""/>
          <p:cNvSpPr/>
          <p:nvPr/>
        </p:nvSpPr>
        <p:spPr>
          <a:xfrm rot="20118600">
            <a:off x="5383080" y="3045960"/>
            <a:ext cx="1011240" cy="63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rot="19575600">
            <a:off x="5013720" y="2555280"/>
            <a:ext cx="624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lo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H="1" flipV="1">
            <a:off x="5033520" y="3095280"/>
            <a:ext cx="405000" cy="52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H="1" flipV="1">
            <a:off x="5903640" y="2572920"/>
            <a:ext cx="407880" cy="52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5140800" y="2643480"/>
            <a:ext cx="772200" cy="497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754600" y="3038400"/>
            <a:ext cx="381240" cy="638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5916600" y="3096720"/>
            <a:ext cx="44640" cy="51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754960" y="3329280"/>
            <a:ext cx="377280" cy="53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6013440" y="3057480"/>
            <a:ext cx="2482920" cy="743040"/>
            <a:chOff x="6013440" y="3057480"/>
            <a:chExt cx="2482920" cy="743040"/>
          </a:xfrm>
        </p:grpSpPr>
        <p:sp>
          <p:nvSpPr>
            <p:cNvPr id="778" name=""/>
            <p:cNvSpPr/>
            <p:nvPr/>
          </p:nvSpPr>
          <p:spPr>
            <a:xfrm flipV="1">
              <a:off x="6201720" y="3057480"/>
              <a:ext cx="2294640" cy="19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013440" y="3571560"/>
              <a:ext cx="2429280" cy="22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6013440" y="3076560"/>
              <a:ext cx="2482920" cy="4946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201720" y="3247560"/>
              <a:ext cx="2240640" cy="5335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2" name=""/>
          <p:cNvSpPr/>
          <p:nvPr/>
        </p:nvSpPr>
        <p:spPr>
          <a:xfrm>
            <a:off x="6446880" y="4660920"/>
            <a:ext cx="1336680" cy="1440000"/>
          </a:xfrm>
          <a:prstGeom prst="ellipse">
            <a:avLst/>
          </a:prstGeom>
          <a:solidFill>
            <a:srgbClr val="ff9933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7304040" y="4968720"/>
            <a:ext cx="471600" cy="824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7440480" y="5003640"/>
            <a:ext cx="189000" cy="789120"/>
          </a:xfrm>
          <a:prstGeom prst="upDownArrow">
            <a:avLst>
              <a:gd name="adj1" fmla="val 50000"/>
              <a:gd name="adj2" fmla="val 83118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rot="5400000">
            <a:off x="7468200" y="5161680"/>
            <a:ext cx="149400" cy="426960"/>
          </a:xfrm>
          <a:prstGeom prst="upDownArrow">
            <a:avLst>
              <a:gd name="adj1" fmla="val 50000"/>
              <a:gd name="adj2" fmla="val 568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7543800" y="4968720"/>
            <a:ext cx="68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7543800" y="5792760"/>
            <a:ext cx="68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7968600" y="5191200"/>
            <a:ext cx="63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7954920" y="4968720"/>
            <a:ext cx="0" cy="824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7304040" y="5416560"/>
            <a:ext cx="0" cy="82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7773840" y="5416560"/>
            <a:ext cx="0" cy="82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7304040" y="5950080"/>
            <a:ext cx="4795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7253640" y="5985000"/>
            <a:ext cx="570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H="1" flipV="1">
            <a:off x="5822640" y="3819600"/>
            <a:ext cx="623880" cy="159048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H="1" flipV="1">
            <a:off x="5686560" y="2573280"/>
            <a:ext cx="1728720" cy="214488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7380360" y="1628640"/>
                <a:ext cx="136836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ide</m:t>
                            </m:r>
                          </m:sub>
                        </m:sSub>
                        <m:r>
                          <m:t xml:space="preserve">⊥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m>
                              <m:mr>
                                <m:e>
                                  <m:r>
                                    <m:t xml:space="preserve">,</m:t>
                                  </m:r>
                                </m:e>
                                <m:e>
                                  <m:sSub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out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// {</m:t>
                                  </m:r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</m:acc>
                                </m:e>
                              </m:mr>
                            </m:m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97" name=""/>
          <p:cNvSpPr/>
          <p:nvPr/>
        </p:nvSpPr>
        <p:spPr>
          <a:xfrm>
            <a:off x="1258920" y="2060640"/>
            <a:ext cx="41050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    : Probability of detecting a partic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: Probability of detecting pair partic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8627760" y="5170320"/>
            <a:ext cx="499320" cy="363240"/>
            <a:chOff x="8627760" y="5170320"/>
            <a:chExt cx="499320" cy="363240"/>
          </a:xfrm>
        </p:grpSpPr>
        <p:sp>
          <p:nvSpPr>
            <p:cNvPr id="799" name=""/>
            <p:cNvSpPr/>
            <p:nvPr/>
          </p:nvSpPr>
          <p:spPr>
            <a:xfrm>
              <a:off x="8627760" y="5268240"/>
              <a:ext cx="48816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8640720" y="5399280"/>
              <a:ext cx="486360" cy="13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rot="21120000">
              <a:off x="8670600" y="5292360"/>
              <a:ext cx="50760" cy="219960"/>
            </a:xfrm>
            <a:custGeom>
              <a:avLst/>
              <a:gdLst/>
              <a:ahLst/>
              <a:rect l="l" t="t" r="r" b="b"/>
              <a:pathLst>
                <a:path w="63" h="288">
                  <a:moveTo>
                    <a:pt x="63" y="0"/>
                  </a:moveTo>
                  <a:cubicBezTo>
                    <a:pt x="54" y="21"/>
                    <a:pt x="16" y="77"/>
                    <a:pt x="8" y="125"/>
                  </a:cubicBezTo>
                  <a:cubicBezTo>
                    <a:pt x="0" y="173"/>
                    <a:pt x="14" y="254"/>
                    <a:pt x="15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rot="21480000">
              <a:off x="8680680" y="5352840"/>
              <a:ext cx="38520" cy="116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rot="21120000">
              <a:off x="8695080" y="5177880"/>
              <a:ext cx="45000" cy="116280"/>
            </a:xfrm>
            <a:custGeom>
              <a:avLst/>
              <a:gdLst/>
              <a:ahLst/>
              <a:rect l="l" t="t" r="r" b="b"/>
              <a:pathLst>
                <a:path w="56" h="144">
                  <a:moveTo>
                    <a:pt x="8" y="144"/>
                  </a:moveTo>
                  <a:cubicBezTo>
                    <a:pt x="4" y="108"/>
                    <a:pt x="0" y="72"/>
                    <a:pt x="8" y="48"/>
                  </a:cubicBezTo>
                  <a:cubicBezTo>
                    <a:pt x="16" y="24"/>
                    <a:pt x="48" y="8"/>
                    <a:pt x="5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rot="21120000">
              <a:off x="8733600" y="5172480"/>
              <a:ext cx="45000" cy="116280"/>
            </a:xfrm>
            <a:custGeom>
              <a:avLst/>
              <a:gdLst/>
              <a:ahLst/>
              <a:rect l="l" t="t" r="r" b="b"/>
              <a:pathLst>
                <a:path w="56" h="144">
                  <a:moveTo>
                    <a:pt x="8" y="144"/>
                  </a:moveTo>
                  <a:cubicBezTo>
                    <a:pt x="4" y="108"/>
                    <a:pt x="0" y="72"/>
                    <a:pt x="8" y="48"/>
                  </a:cubicBezTo>
                  <a:cubicBezTo>
                    <a:pt x="16" y="24"/>
                    <a:pt x="48" y="8"/>
                    <a:pt x="5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5" name=""/>
          <p:cNvSpPr/>
          <p:nvPr/>
        </p:nvSpPr>
        <p:spPr>
          <a:xfrm>
            <a:off x="6155640" y="4422600"/>
            <a:ext cx="11988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liced vie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rot="19920000">
            <a:off x="6451920" y="2205000"/>
            <a:ext cx="7110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Be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76BAA-5A6F-444F-9410-1C0AEE6DFB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hysics Motiva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894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muthal HBT analysi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Arial"/>
              </a:rPr>
              <a:t>Measures the source shape w.r.t Reaction Plane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Arial"/>
              </a:rPr>
              <a:t>Source shape at freeze-out is 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Sensitive to “system lifetime”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Related to momentum anisotropy</a:t>
            </a:r>
            <a:r>
              <a:rPr b="0" lang="en-US" sz="1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BT Results for charged pion and ka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Arial"/>
              </a:rPr>
              <a:t>Centrality and m</a:t>
            </a:r>
            <a:r>
              <a:rPr b="0" lang="en-US" sz="1700" spc="-1" strike="noStrike" baseline="-25000">
                <a:solidFill>
                  <a:srgbClr val="464653"/>
                </a:solidFill>
                <a:latin typeface="Arial"/>
              </a:rPr>
              <a:t>T</a:t>
            </a:r>
            <a:r>
              <a:rPr b="0" lang="en-US" sz="1700" spc="-1" strike="noStrike">
                <a:solidFill>
                  <a:srgbClr val="464653"/>
                </a:solidFill>
                <a:latin typeface="Arial"/>
              </a:rPr>
              <a:t> dependence were measured for pion and kaon</a:t>
            </a:r>
            <a:br>
              <a:rPr sz="1700"/>
            </a:br>
            <a:r>
              <a:rPr b="0" lang="ja-JP" sz="1700" spc="-1" strike="noStrike">
                <a:solidFill>
                  <a:srgbClr val="464653"/>
                </a:solidFill>
                <a:latin typeface="Arial"/>
              </a:rPr>
              <a:t>→</a:t>
            </a:r>
            <a:r>
              <a:rPr b="0" lang="en-US" sz="1700" spc="-1" strike="noStrike">
                <a:solidFill>
                  <a:srgbClr val="464653"/>
                </a:solidFill>
                <a:latin typeface="Arial"/>
              </a:rPr>
              <a:t>No significant difference between both species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How about azimuthal dependence?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809" name="" descr=""/>
          <p:cNvPicPr/>
          <p:nvPr/>
        </p:nvPicPr>
        <p:blipFill>
          <a:blip r:embed="rId1"/>
          <a:stretch/>
        </p:blipFill>
        <p:spPr>
          <a:xfrm>
            <a:off x="5580000" y="836640"/>
            <a:ext cx="3441600" cy="2238480"/>
          </a:xfrm>
          <a:prstGeom prst="rect">
            <a:avLst/>
          </a:prstGeom>
          <a:ln w="0">
            <a:noFill/>
          </a:ln>
        </p:spPr>
      </p:pic>
      <p:pic>
        <p:nvPicPr>
          <p:cNvPr id="810" name="" descr=""/>
          <p:cNvPicPr/>
          <p:nvPr/>
        </p:nvPicPr>
        <p:blipFill>
          <a:blip r:embed="rId2"/>
          <a:stretch/>
        </p:blipFill>
        <p:spPr>
          <a:xfrm>
            <a:off x="4716360" y="4246560"/>
            <a:ext cx="3816360" cy="2689200"/>
          </a:xfrm>
          <a:prstGeom prst="rect">
            <a:avLst/>
          </a:prstGeom>
          <a:ln w="0">
            <a:noFill/>
          </a:ln>
        </p:spPr>
      </p:pic>
      <p:pic>
        <p:nvPicPr>
          <p:cNvPr id="811" name="" descr=""/>
          <p:cNvPicPr/>
          <p:nvPr/>
        </p:nvPicPr>
        <p:blipFill>
          <a:blip r:embed="rId3"/>
          <a:stretch/>
        </p:blipFill>
        <p:spPr>
          <a:xfrm>
            <a:off x="755640" y="4221000"/>
            <a:ext cx="3816360" cy="2689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FD4BB-E104-411D-AB11-4E7DB17F58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HENIX Detector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tex, Centrality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Arial"/>
              </a:rPr>
              <a:t>BBC, ZDC</a:t>
            </a:r>
            <a:endParaRPr b="0" lang="en-US" sz="15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t plan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Arial"/>
              </a:rPr>
              <a:t>Reaction Plane Detector(RxNP)</a:t>
            </a:r>
            <a:endParaRPr b="0" lang="en-US" sz="15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&lt;|η|&lt;2.8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king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Arial"/>
              </a:rPr>
              <a:t>Drift Chamber, Pad Chamber</a:t>
            </a:r>
            <a:endParaRPr b="0" lang="en-US" sz="15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D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Arial"/>
              </a:rPr>
              <a:t>EMCal (all sectors in west arm)</a:t>
            </a:r>
            <a:endParaRPr b="0" lang="en-US" sz="15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|η|&lt;0.35, </a:t>
            </a: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⊿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φ=90°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814" name="" descr=""/>
          <p:cNvPicPr/>
          <p:nvPr/>
        </p:nvPicPr>
        <p:blipFill>
          <a:blip r:embed="rId1"/>
          <a:stretch/>
        </p:blipFill>
        <p:spPr>
          <a:xfrm>
            <a:off x="5076720" y="1197000"/>
            <a:ext cx="3959280" cy="4946760"/>
          </a:xfrm>
          <a:prstGeom prst="rect">
            <a:avLst/>
          </a:prstGeom>
          <a:ln w="0">
            <a:noFill/>
          </a:ln>
        </p:spPr>
      </p:pic>
      <p:pic>
        <p:nvPicPr>
          <p:cNvPr id="815" name="" descr=""/>
          <p:cNvPicPr/>
          <p:nvPr/>
        </p:nvPicPr>
        <p:blipFill>
          <a:blip r:embed="rId2"/>
          <a:stretch/>
        </p:blipFill>
        <p:spPr>
          <a:xfrm>
            <a:off x="755640" y="3860640"/>
            <a:ext cx="3890880" cy="2638440"/>
          </a:xfrm>
          <a:prstGeom prst="rect">
            <a:avLst/>
          </a:prstGeom>
          <a:ln w="0">
            <a:noFill/>
          </a:ln>
        </p:spPr>
      </p:pic>
      <p:sp>
        <p:nvSpPr>
          <p:cNvPr id="816" name=""/>
          <p:cNvSpPr/>
          <p:nvPr/>
        </p:nvSpPr>
        <p:spPr>
          <a:xfrm>
            <a:off x="3595680" y="5157720"/>
            <a:ext cx="405000" cy="7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503360" y="5157720"/>
            <a:ext cx="375840" cy="7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409840" y="6307200"/>
            <a:ext cx="1922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rge x moment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rot="16200000">
            <a:off x="263160" y="4564800"/>
            <a:ext cx="1270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ss squa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877080" y="4869000"/>
            <a:ext cx="7308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375160" y="1184400"/>
            <a:ext cx="1068480" cy="2485800"/>
          </a:xfrm>
          <a:custGeom>
            <a:avLst/>
            <a:gdLst/>
            <a:ahLst/>
            <a:rect l="l" t="t" r="r" b="b"/>
            <a:pathLst>
              <a:path w="673" h="1566">
                <a:moveTo>
                  <a:pt x="529" y="8"/>
                </a:moveTo>
                <a:cubicBezTo>
                  <a:pt x="453" y="16"/>
                  <a:pt x="294" y="167"/>
                  <a:pt x="211" y="280"/>
                </a:cubicBezTo>
                <a:cubicBezTo>
                  <a:pt x="128" y="393"/>
                  <a:pt x="60" y="560"/>
                  <a:pt x="30" y="688"/>
                </a:cubicBezTo>
                <a:cubicBezTo>
                  <a:pt x="0" y="816"/>
                  <a:pt x="0" y="915"/>
                  <a:pt x="30" y="1051"/>
                </a:cubicBezTo>
                <a:cubicBezTo>
                  <a:pt x="60" y="1187"/>
                  <a:pt x="143" y="1444"/>
                  <a:pt x="211" y="1505"/>
                </a:cubicBezTo>
                <a:cubicBezTo>
                  <a:pt x="279" y="1566"/>
                  <a:pt x="423" y="1490"/>
                  <a:pt x="438" y="1414"/>
                </a:cubicBezTo>
                <a:cubicBezTo>
                  <a:pt x="453" y="1338"/>
                  <a:pt x="325" y="1164"/>
                  <a:pt x="302" y="1051"/>
                </a:cubicBezTo>
                <a:cubicBezTo>
                  <a:pt x="279" y="938"/>
                  <a:pt x="279" y="832"/>
                  <a:pt x="302" y="734"/>
                </a:cubicBezTo>
                <a:cubicBezTo>
                  <a:pt x="325" y="636"/>
                  <a:pt x="378" y="544"/>
                  <a:pt x="438" y="461"/>
                </a:cubicBezTo>
                <a:cubicBezTo>
                  <a:pt x="498" y="378"/>
                  <a:pt x="657" y="310"/>
                  <a:pt x="665" y="235"/>
                </a:cubicBezTo>
                <a:cubicBezTo>
                  <a:pt x="673" y="160"/>
                  <a:pt x="605" y="0"/>
                  <a:pt x="529" y="8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655240" y="882720"/>
            <a:ext cx="11484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west-EM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7020000" y="4869000"/>
            <a:ext cx="7308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660720" y="5342040"/>
            <a:ext cx="7218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xN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4B0B0-CE22-4279-96B7-E17EBFEACB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Analysis flow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900000" y="894960"/>
            <a:ext cx="8064720" cy="55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Measure the experimental C</a:t>
            </a:r>
            <a:r>
              <a:rPr b="0" lang="en-US" sz="2000" spc="-1" strike="noStrike" baseline="-25000">
                <a:solidFill>
                  <a:srgbClr val="c0c0c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Correct Event Plane resolu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0c0c0"/>
                </a:solidFill>
                <a:latin typeface="Arial"/>
              </a:rPr>
              <a:t>Finite resolution reduce the oscillation </a:t>
            </a:r>
            <a:br>
              <a:rPr sz="1900"/>
            </a:br>
            <a:r>
              <a:rPr b="0" lang="en-US" sz="1900" spc="-1" strike="noStrike">
                <a:solidFill>
                  <a:srgbClr val="c0c0c0"/>
                </a:solidFill>
                <a:latin typeface="Arial"/>
              </a:rPr>
              <a:t>amplitude of HBT radii</a:t>
            </a:r>
            <a:endParaRPr b="0" lang="en-US" sz="1900" spc="-1" strike="noStrike">
              <a:solidFill>
                <a:srgbClr val="464653"/>
              </a:solidFill>
              <a:latin typeface="Gill Sans MT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0c0c0"/>
                </a:solidFill>
                <a:latin typeface="Arial"/>
              </a:rPr>
              <a:t>U.Heinz et al, PRC66, 044903 (2002) </a:t>
            </a:r>
            <a:endParaRPr b="0" lang="en-US" sz="1900" spc="-1" strike="noStrike">
              <a:solidFill>
                <a:srgbClr val="464653"/>
              </a:solidFill>
              <a:latin typeface="Gill Sans MT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Fitting C</a:t>
            </a:r>
            <a:r>
              <a:rPr b="0" lang="en-US" sz="2000" spc="-1" strike="noStrike" baseline="-25000">
                <a:solidFill>
                  <a:srgbClr val="c0c0c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0c0c0"/>
                </a:solidFill>
                <a:latin typeface="Arial"/>
              </a:rPr>
              <a:t>Sinyukov fitting method </a:t>
            </a:r>
            <a:br>
              <a:rPr sz="1900"/>
            </a:br>
            <a:r>
              <a:rPr b="0" lang="en-US" sz="1900" spc="-1" strike="noStrike">
                <a:solidFill>
                  <a:srgbClr val="c0c0c0"/>
                </a:solidFill>
                <a:latin typeface="Arial"/>
              </a:rPr>
              <a:t>(includes coulomb correction and effect of long lived resonance decay)</a:t>
            </a:r>
            <a:endParaRPr b="0" lang="en-US" sz="1900" spc="-1" strike="noStrike">
              <a:solidFill>
                <a:srgbClr val="464653"/>
              </a:solidFill>
              <a:latin typeface="Gill Sans MT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Get HBT radii(R</a:t>
            </a:r>
            <a:r>
              <a:rPr b="0" lang="en-US" sz="2000" spc="-1" strike="noStrike" baseline="-25000">
                <a:solidFill>
                  <a:srgbClr val="c0c0c0"/>
                </a:solidFill>
                <a:latin typeface="Arial"/>
              </a:rPr>
              <a:t>side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,R</a:t>
            </a:r>
            <a:r>
              <a:rPr b="0" lang="en-US" sz="2000" spc="-1" strike="noStrike" baseline="-25000">
                <a:solidFill>
                  <a:srgbClr val="c0c0c0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,R</a:t>
            </a:r>
            <a:r>
              <a:rPr b="0" lang="en-US" sz="2000" spc="-1" strike="noStrike" baseline="-25000">
                <a:solidFill>
                  <a:srgbClr val="c0c0c0"/>
                </a:solidFill>
                <a:latin typeface="Arial"/>
              </a:rPr>
              <a:t>long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,…) as a fitting resul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7" name=""/>
              <p:cNvSpPr txBox="1"/>
              <p:nvPr/>
            </p:nvSpPr>
            <p:spPr>
              <a:xfrm>
                <a:off x="1476360" y="1341360"/>
                <a:ext cx="14400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1488960" y="4581360"/>
                <a:ext cx="577692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core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halo</m:t>
                            </m:r>
                          </m:sup>
                        </m:sSubSup>
                      </m:e>
                      <m:e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[</m:t>
                        </m:r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id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id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ng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ng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ide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29" name=""/>
          <p:cNvGrpSpPr/>
          <p:nvPr/>
        </p:nvGrpSpPr>
        <p:grpSpPr>
          <a:xfrm>
            <a:off x="74160" y="949320"/>
            <a:ext cx="825480" cy="5503320"/>
            <a:chOff x="74160" y="949320"/>
            <a:chExt cx="825480" cy="5503320"/>
          </a:xfrm>
        </p:grpSpPr>
        <p:sp>
          <p:nvSpPr>
            <p:cNvPr id="830" name=""/>
            <p:cNvSpPr/>
            <p:nvPr/>
          </p:nvSpPr>
          <p:spPr>
            <a:xfrm>
              <a:off x="479160" y="949320"/>
              <a:ext cx="419400" cy="4448880"/>
            </a:xfrm>
            <a:prstGeom prst="rect">
              <a:avLst/>
            </a:prstGeom>
            <a:solidFill>
              <a:srgbClr val="00b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 rot="10800000">
              <a:off x="74160" y="5396040"/>
              <a:ext cx="825480" cy="1056600"/>
            </a:xfrm>
            <a:prstGeom prst="rtTriangle">
              <a:avLst/>
            </a:prstGeom>
            <a:solidFill>
              <a:srgbClr val="00b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74160" y="949320"/>
            <a:ext cx="825480" cy="5503320"/>
            <a:chOff x="74160" y="949320"/>
            <a:chExt cx="825480" cy="5503320"/>
          </a:xfrm>
        </p:grpSpPr>
        <p:sp>
          <p:nvSpPr>
            <p:cNvPr id="833" name=""/>
            <p:cNvSpPr/>
            <p:nvPr/>
          </p:nvSpPr>
          <p:spPr>
            <a:xfrm>
              <a:off x="479160" y="949320"/>
              <a:ext cx="419400" cy="4448880"/>
            </a:xfrm>
            <a:prstGeom prst="rect">
              <a:avLst/>
            </a:prstGeom>
            <a:solidFill>
              <a:srgbClr val="ff33cc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rot="10800000">
              <a:off x="74160" y="5396040"/>
              <a:ext cx="825480" cy="1056600"/>
            </a:xfrm>
            <a:prstGeom prst="rtTriangle">
              <a:avLst/>
            </a:prstGeom>
            <a:solidFill>
              <a:srgbClr val="ff33cc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5" name=""/>
          <p:cNvSpPr/>
          <p:nvPr/>
        </p:nvSpPr>
        <p:spPr>
          <a:xfrm>
            <a:off x="480960" y="949320"/>
            <a:ext cx="419040" cy="1569960"/>
          </a:xfrm>
          <a:prstGeom prst="rect">
            <a:avLst/>
          </a:prstGeom>
          <a:solidFill>
            <a:srgbClr val="ff33c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480960" y="946080"/>
            <a:ext cx="419040" cy="3024360"/>
          </a:xfrm>
          <a:prstGeom prst="rect">
            <a:avLst/>
          </a:prstGeom>
          <a:solidFill>
            <a:srgbClr val="ff33c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74840" y="941400"/>
            <a:ext cx="419040" cy="4465800"/>
          </a:xfrm>
          <a:prstGeom prst="rect">
            <a:avLst/>
          </a:prstGeom>
          <a:solidFill>
            <a:srgbClr val="ff33c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265200" y="1628640"/>
            <a:ext cx="3576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(q): relative momentum dist. of Real pai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(q): that of mixed pai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9" name="" descr=""/>
          <p:cNvPicPr/>
          <p:nvPr/>
        </p:nvPicPr>
        <p:blipFill>
          <a:blip r:embed="rId1"/>
          <a:stretch/>
        </p:blipFill>
        <p:spPr>
          <a:xfrm>
            <a:off x="6372360" y="2205000"/>
            <a:ext cx="2050920" cy="19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79891-7CD7-42E3-BA5C-59C14DEAD8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8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c0c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8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c0c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8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c0c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8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c0c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8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c0c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8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c0c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8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8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8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500" fill="hold"/>
                                        <p:tgtEl>
                                          <p:spTgt spid="8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500" fill="hold"/>
                                        <p:tgtEl>
                                          <p:spTgt spid="8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500" fill="hold"/>
                                        <p:tgtEl>
                                          <p:spTgt spid="8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orrelation function for p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894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c2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sinyukov’ fitting functio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ity:30-60%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842" name="" descr=""/>
          <p:cNvPicPr/>
          <p:nvPr/>
        </p:nvPicPr>
        <p:blipFill>
          <a:blip r:embed="rId1"/>
          <a:stretch/>
        </p:blipFill>
        <p:spPr>
          <a:xfrm>
            <a:off x="4716360" y="861840"/>
            <a:ext cx="4368960" cy="595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42439-0B96-49B0-A67D-7BB9E74FB0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orrelation func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894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Raw c2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With sinyukov’ fitting functio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Centrality:30-60%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845" name="" descr=""/>
          <p:cNvPicPr/>
          <p:nvPr/>
        </p:nvPicPr>
        <p:blipFill>
          <a:blip r:embed="rId1"/>
          <a:stretch/>
        </p:blipFill>
        <p:spPr>
          <a:xfrm>
            <a:off x="4716360" y="861840"/>
            <a:ext cx="4368960" cy="5951880"/>
          </a:xfrm>
          <a:prstGeom prst="rect">
            <a:avLst/>
          </a:prstGeom>
          <a:ln w="0">
            <a:noFill/>
          </a:ln>
        </p:spPr>
      </p:pic>
      <p:grpSp>
        <p:nvGrpSpPr>
          <p:cNvPr id="846" name=""/>
          <p:cNvGrpSpPr/>
          <p:nvPr/>
        </p:nvGrpSpPr>
        <p:grpSpPr>
          <a:xfrm>
            <a:off x="2744640" y="836640"/>
            <a:ext cx="1825560" cy="5256360"/>
            <a:chOff x="2744640" y="836640"/>
            <a:chExt cx="1825560" cy="5256360"/>
          </a:xfrm>
        </p:grpSpPr>
        <p:grpSp>
          <p:nvGrpSpPr>
            <p:cNvPr id="847" name=""/>
            <p:cNvGrpSpPr/>
            <p:nvPr/>
          </p:nvGrpSpPr>
          <p:grpSpPr>
            <a:xfrm>
              <a:off x="2779560" y="836640"/>
              <a:ext cx="1790640" cy="901800"/>
              <a:chOff x="2779560" y="836640"/>
              <a:chExt cx="1790640" cy="901800"/>
            </a:xfrm>
          </p:grpSpPr>
          <p:sp>
            <p:nvSpPr>
              <p:cNvPr id="848" name=""/>
              <p:cNvSpPr/>
              <p:nvPr/>
            </p:nvSpPr>
            <p:spPr>
              <a:xfrm>
                <a:off x="2843280" y="836640"/>
                <a:ext cx="900000" cy="901800"/>
              </a:xfrm>
              <a:prstGeom prst="ellipse">
                <a:avLst/>
              </a:prstGeom>
              <a:solidFill>
                <a:srgbClr val="ff993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324240" y="836640"/>
                <a:ext cx="900000" cy="901800"/>
              </a:xfrm>
              <a:prstGeom prst="ellipse">
                <a:avLst/>
              </a:prstGeom>
              <a:solidFill>
                <a:srgbClr val="ff993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50" name=""/>
              <p:cNvGrpSpPr/>
              <p:nvPr/>
            </p:nvGrpSpPr>
            <p:grpSpPr>
              <a:xfrm>
                <a:off x="3533760" y="1170000"/>
                <a:ext cx="523800" cy="233280"/>
                <a:chOff x="3533760" y="1170000"/>
                <a:chExt cx="523800" cy="233280"/>
              </a:xfrm>
            </p:grpSpPr>
            <p:sp>
              <p:nvSpPr>
                <p:cNvPr id="851" name=""/>
                <p:cNvSpPr/>
                <p:nvPr/>
              </p:nvSpPr>
              <p:spPr>
                <a:xfrm rot="16200000">
                  <a:off x="3652920" y="1050840"/>
                  <a:ext cx="233280" cy="47160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3958560" y="1171440"/>
                  <a:ext cx="99000" cy="230400"/>
                </a:xfrm>
                <a:prstGeom prst="ellipse">
                  <a:avLst/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3" name=""/>
              <p:cNvSpPr/>
              <p:nvPr/>
            </p:nvSpPr>
            <p:spPr>
              <a:xfrm>
                <a:off x="2779560" y="1287360"/>
                <a:ext cx="1528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4051080" y="122724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.P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5" name=""/>
            <p:cNvGrpSpPr/>
            <p:nvPr/>
          </p:nvGrpSpPr>
          <p:grpSpPr>
            <a:xfrm>
              <a:off x="2744640" y="2284560"/>
              <a:ext cx="1825560" cy="928440"/>
              <a:chOff x="2744640" y="2284560"/>
              <a:chExt cx="1825560" cy="928440"/>
            </a:xfrm>
          </p:grpSpPr>
          <p:sp>
            <p:nvSpPr>
              <p:cNvPr id="856" name=""/>
              <p:cNvSpPr/>
              <p:nvPr/>
            </p:nvSpPr>
            <p:spPr>
              <a:xfrm>
                <a:off x="2809800" y="2290680"/>
                <a:ext cx="920880" cy="922320"/>
              </a:xfrm>
              <a:prstGeom prst="ellipse">
                <a:avLst/>
              </a:prstGeom>
              <a:solidFill>
                <a:srgbClr val="ff993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301920" y="2290680"/>
                <a:ext cx="922320" cy="922320"/>
              </a:xfrm>
              <a:prstGeom prst="ellipse">
                <a:avLst/>
              </a:prstGeom>
              <a:solidFill>
                <a:srgbClr val="ff993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58" name=""/>
              <p:cNvGrpSpPr/>
              <p:nvPr/>
            </p:nvGrpSpPr>
            <p:grpSpPr>
              <a:xfrm>
                <a:off x="3447000" y="2284560"/>
                <a:ext cx="547200" cy="546840"/>
                <a:chOff x="3447000" y="2284560"/>
                <a:chExt cx="547200" cy="546840"/>
              </a:xfrm>
            </p:grpSpPr>
            <p:sp>
              <p:nvSpPr>
                <p:cNvPr id="859" name=""/>
                <p:cNvSpPr/>
                <p:nvPr/>
              </p:nvSpPr>
              <p:spPr>
                <a:xfrm rot="13500000">
                  <a:off x="3582720" y="2334600"/>
                  <a:ext cx="238320" cy="4831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 rot="18900000">
                  <a:off x="3823920" y="2285640"/>
                  <a:ext cx="101520" cy="235440"/>
                </a:xfrm>
                <a:prstGeom prst="ellipse">
                  <a:avLst/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"/>
              <p:cNvSpPr/>
              <p:nvPr/>
            </p:nvSpPr>
            <p:spPr>
              <a:xfrm>
                <a:off x="2744640" y="2752560"/>
                <a:ext cx="1567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051080" y="268920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.P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63" name=""/>
            <p:cNvGrpSpPr/>
            <p:nvPr/>
          </p:nvGrpSpPr>
          <p:grpSpPr>
            <a:xfrm>
              <a:off x="2744640" y="3661920"/>
              <a:ext cx="1825560" cy="991080"/>
              <a:chOff x="2744640" y="3661920"/>
              <a:chExt cx="1825560" cy="991080"/>
            </a:xfrm>
          </p:grpSpPr>
          <p:sp>
            <p:nvSpPr>
              <p:cNvPr id="864" name=""/>
              <p:cNvSpPr/>
              <p:nvPr/>
            </p:nvSpPr>
            <p:spPr>
              <a:xfrm>
                <a:off x="2809800" y="3730680"/>
                <a:ext cx="920880" cy="922320"/>
              </a:xfrm>
              <a:prstGeom prst="ellipse">
                <a:avLst/>
              </a:prstGeom>
              <a:solidFill>
                <a:srgbClr val="ff993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301920" y="3730680"/>
                <a:ext cx="922320" cy="922320"/>
              </a:xfrm>
              <a:prstGeom prst="ellipse">
                <a:avLst/>
              </a:prstGeom>
              <a:solidFill>
                <a:srgbClr val="ff993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66" name=""/>
              <p:cNvGrpSpPr/>
              <p:nvPr/>
            </p:nvGrpSpPr>
            <p:grpSpPr>
              <a:xfrm>
                <a:off x="3406680" y="3661920"/>
                <a:ext cx="239760" cy="536760"/>
                <a:chOff x="3406680" y="3661920"/>
                <a:chExt cx="239760" cy="536760"/>
              </a:xfrm>
            </p:grpSpPr>
            <p:sp>
              <p:nvSpPr>
                <p:cNvPr id="867" name=""/>
                <p:cNvSpPr/>
                <p:nvPr/>
              </p:nvSpPr>
              <p:spPr>
                <a:xfrm rot="10800000">
                  <a:off x="3406680" y="3715560"/>
                  <a:ext cx="239760" cy="4831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 rot="16200000">
                  <a:off x="3475800" y="3594240"/>
                  <a:ext cx="101520" cy="236880"/>
                </a:xfrm>
                <a:prstGeom prst="ellipse">
                  <a:avLst/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"/>
              <p:cNvSpPr/>
              <p:nvPr/>
            </p:nvSpPr>
            <p:spPr>
              <a:xfrm>
                <a:off x="2744640" y="4192560"/>
                <a:ext cx="1567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051080" y="412920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.P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71" name=""/>
            <p:cNvGrpSpPr/>
            <p:nvPr/>
          </p:nvGrpSpPr>
          <p:grpSpPr>
            <a:xfrm>
              <a:off x="2744640" y="5165280"/>
              <a:ext cx="1825560" cy="927720"/>
              <a:chOff x="2744640" y="5165280"/>
              <a:chExt cx="1825560" cy="927720"/>
            </a:xfrm>
          </p:grpSpPr>
          <p:sp>
            <p:nvSpPr>
              <p:cNvPr id="872" name=""/>
              <p:cNvSpPr/>
              <p:nvPr/>
            </p:nvSpPr>
            <p:spPr>
              <a:xfrm>
                <a:off x="2809800" y="5170320"/>
                <a:ext cx="920880" cy="922680"/>
              </a:xfrm>
              <a:prstGeom prst="ellipse">
                <a:avLst/>
              </a:prstGeom>
              <a:solidFill>
                <a:srgbClr val="ff993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301920" y="5170320"/>
                <a:ext cx="922320" cy="922680"/>
              </a:xfrm>
              <a:prstGeom prst="ellipse">
                <a:avLst/>
              </a:prstGeom>
              <a:solidFill>
                <a:srgbClr val="ff993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74" name=""/>
              <p:cNvGrpSpPr/>
              <p:nvPr/>
            </p:nvGrpSpPr>
            <p:grpSpPr>
              <a:xfrm>
                <a:off x="3060720" y="5165280"/>
                <a:ext cx="546480" cy="546840"/>
                <a:chOff x="3060720" y="5165280"/>
                <a:chExt cx="546480" cy="546840"/>
              </a:xfrm>
            </p:grpSpPr>
            <p:sp>
              <p:nvSpPr>
                <p:cNvPr id="875" name=""/>
                <p:cNvSpPr/>
                <p:nvPr/>
              </p:nvSpPr>
              <p:spPr>
                <a:xfrm rot="8100000">
                  <a:off x="3233160" y="5215680"/>
                  <a:ext cx="237960" cy="4831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rot="13500000">
                  <a:off x="3128760" y="5166360"/>
                  <a:ext cx="101520" cy="235080"/>
                </a:xfrm>
                <a:prstGeom prst="ellipse">
                  <a:avLst/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7" name=""/>
              <p:cNvSpPr/>
              <p:nvPr/>
            </p:nvSpPr>
            <p:spPr>
              <a:xfrm>
                <a:off x="2744640" y="5632560"/>
                <a:ext cx="1567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051080" y="556884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.P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79" name=""/>
          <p:cNvGrpSpPr/>
          <p:nvPr/>
        </p:nvGrpSpPr>
        <p:grpSpPr>
          <a:xfrm>
            <a:off x="4572000" y="765000"/>
            <a:ext cx="4464000" cy="5950080"/>
            <a:chOff x="4572000" y="765000"/>
            <a:chExt cx="4464000" cy="5950080"/>
          </a:xfrm>
        </p:grpSpPr>
        <p:sp>
          <p:nvSpPr>
            <p:cNvPr id="880" name=""/>
            <p:cNvSpPr/>
            <p:nvPr/>
          </p:nvSpPr>
          <p:spPr>
            <a:xfrm>
              <a:off x="4572000" y="765000"/>
              <a:ext cx="0" cy="595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572000" y="765000"/>
              <a:ext cx="446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5005080" y="138240"/>
            <a:ext cx="3825360" cy="623160"/>
            <a:chOff x="5005080" y="138240"/>
            <a:chExt cx="3825360" cy="623160"/>
          </a:xfrm>
        </p:grpSpPr>
        <p:sp>
          <p:nvSpPr>
            <p:cNvPr id="883" name=""/>
            <p:cNvSpPr/>
            <p:nvPr/>
          </p:nvSpPr>
          <p:spPr>
            <a:xfrm>
              <a:off x="5005080" y="141120"/>
              <a:ext cx="51156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036840" y="141120"/>
              <a:ext cx="66384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id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114680" y="138240"/>
              <a:ext cx="575280" cy="62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088840" y="138240"/>
              <a:ext cx="741600" cy="62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o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2D9E0-3F2B-4B2B-8817-76FF0FB80F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Bookman Old Style"/>
              </a:rPr>
              <a:t>Azimuthal dependence of HBT radii for pion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Arial"/>
              </a:rPr>
              <a:t>Observed the oscillation for R</a:t>
            </a:r>
            <a:r>
              <a:rPr b="0" lang="en-US" sz="1800" spc="-1" strike="noStrike" baseline="-25000">
                <a:solidFill>
                  <a:srgbClr val="464653"/>
                </a:solidFill>
                <a:latin typeface="Arial"/>
              </a:rPr>
              <a:t>side</a:t>
            </a:r>
            <a:r>
              <a:rPr b="0" lang="en-US" sz="1800" spc="-1" strike="noStrike">
                <a:solidFill>
                  <a:srgbClr val="464653"/>
                </a:solidFill>
                <a:latin typeface="Arial"/>
              </a:rPr>
              <a:t>, R</a:t>
            </a:r>
            <a:r>
              <a:rPr b="0" lang="en-US" sz="1800" spc="-1" strike="noStrike" baseline="-25000">
                <a:solidFill>
                  <a:srgbClr val="464653"/>
                </a:solidFill>
                <a:latin typeface="Arial"/>
              </a:rPr>
              <a:t>out</a:t>
            </a:r>
            <a:r>
              <a:rPr b="0" lang="en-US" sz="1800" spc="-1" strike="noStrike">
                <a:solidFill>
                  <a:srgbClr val="464653"/>
                </a:solidFill>
                <a:latin typeface="Arial"/>
              </a:rPr>
              <a:t>, R</a:t>
            </a:r>
            <a:r>
              <a:rPr b="0" lang="en-US" sz="1800" spc="-1" strike="noStrike" baseline="-25000">
                <a:solidFill>
                  <a:srgbClr val="464653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Arial"/>
              </a:rPr>
              <a:t>Different emission duration between in-plane and out-of-plane at 0-10%?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Arial"/>
              </a:rPr>
              <a:t>Data points are fitted by cosine series func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1116000" y="1924200"/>
                <a:ext cx="51847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μ</m:t>
                            </m:r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μ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Δφ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μ</m:t>
                            </m:r>
                            <m:r>
                              <m:t xml:space="preserve">,</m:t>
                            </m:r>
                            <m:r>
                              <m:t xml:space="preserve">4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Δφ</m:t>
                            </m:r>
                          </m:e>
                        </m:d>
                        <m:m>
                          <m:mr>
                            <m:e/>
                            <m:e>
                              <m:r>
                                <m:t xml:space="preserve">μ</m:t>
                              </m:r>
                              <m:r>
                                <m:t xml:space="preserve">=</m:t>
                              </m:r>
                              <m:r>
                                <m:t xml:space="preserve">s</m:t>
                              </m:r>
                              <m:r>
                                <m:t xml:space="preserve">,</m:t>
                              </m:r>
                              <m:r>
                                <m:t xml:space="preserve">o</m:t>
                              </m:r>
                              <m:r>
                                <m:t xml:space="preserve">,</m:t>
                              </m:r>
                              <m:r>
                                <m:t xml:space="preserve">l</m:t>
                              </m:r>
                            </m:e>
                          </m:mr>
                        </m:m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μ</m:t>
                            </m:r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μ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Δφ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μ</m:t>
                            </m:r>
                            <m:r>
                              <m:t xml:space="preserve">,</m:t>
                            </m:r>
                            <m:r>
                              <m:t xml:space="preserve">4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Δφ</m:t>
                            </m:r>
                          </m:e>
                        </m:d>
                        <m:m>
                          <m:mr>
                            <m:e/>
                            <m:e>
                              <m:r>
                                <m:t xml:space="preserve">μ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s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90" name="" descr=""/>
          <p:cNvPicPr/>
          <p:nvPr/>
        </p:nvPicPr>
        <p:blipFill>
          <a:blip r:embed="rId1"/>
          <a:stretch/>
        </p:blipFill>
        <p:spPr>
          <a:xfrm>
            <a:off x="382680" y="2781360"/>
            <a:ext cx="5844960" cy="3959280"/>
          </a:xfrm>
          <a:prstGeom prst="rect">
            <a:avLst/>
          </a:prstGeom>
          <a:ln w="0">
            <a:noFill/>
          </a:ln>
        </p:spPr>
      </p:pic>
      <p:grpSp>
        <p:nvGrpSpPr>
          <p:cNvPr id="891" name=""/>
          <p:cNvGrpSpPr/>
          <p:nvPr/>
        </p:nvGrpSpPr>
        <p:grpSpPr>
          <a:xfrm>
            <a:off x="6411960" y="3060720"/>
            <a:ext cx="2516760" cy="2482920"/>
            <a:chOff x="6411960" y="3060720"/>
            <a:chExt cx="2516760" cy="2482920"/>
          </a:xfrm>
        </p:grpSpPr>
        <p:sp>
          <p:nvSpPr>
            <p:cNvPr id="892" name=""/>
            <p:cNvSpPr/>
            <p:nvPr/>
          </p:nvSpPr>
          <p:spPr>
            <a:xfrm>
              <a:off x="6411960" y="3855960"/>
              <a:ext cx="1174680" cy="1687680"/>
            </a:xfrm>
            <a:prstGeom prst="ellipse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763040" y="4640400"/>
              <a:ext cx="48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607880" y="4294080"/>
              <a:ext cx="1320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In-plane (⊿φ=0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6983280" y="3284640"/>
              <a:ext cx="0" cy="542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969240" y="3357720"/>
              <a:ext cx="1128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Out-of-plane </a:t>
              </a:r>
              <a:br>
                <a:rPr sz="1200"/>
              </a:b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(⊿φ=π/2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552080" y="4808520"/>
              <a:ext cx="126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ion plan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406640" y="3987720"/>
              <a:ext cx="45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Arial"/>
                </a:rPr>
                <a:t>⊿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φ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254720" y="4368960"/>
              <a:ext cx="331920" cy="72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00" name=""/>
            <p:cNvGrpSpPr/>
            <p:nvPr/>
          </p:nvGrpSpPr>
          <p:grpSpPr>
            <a:xfrm>
              <a:off x="7013520" y="4179960"/>
              <a:ext cx="1235160" cy="541440"/>
              <a:chOff x="7013520" y="4179960"/>
              <a:chExt cx="1235160" cy="541440"/>
            </a:xfrm>
          </p:grpSpPr>
          <p:sp>
            <p:nvSpPr>
              <p:cNvPr id="901" name=""/>
              <p:cNvSpPr/>
              <p:nvPr/>
            </p:nvSpPr>
            <p:spPr>
              <a:xfrm>
                <a:off x="7013520" y="4721400"/>
                <a:ext cx="1235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V="1">
                <a:off x="7013520" y="4179960"/>
                <a:ext cx="421560" cy="54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03" name=""/>
            <p:cNvSpPr/>
            <p:nvPr/>
          </p:nvSpPr>
          <p:spPr>
            <a:xfrm>
              <a:off x="7354800" y="4398840"/>
              <a:ext cx="131760" cy="692280"/>
            </a:xfrm>
            <a:prstGeom prst="upDownArrow">
              <a:avLst>
                <a:gd name="adj1" fmla="val 50000"/>
                <a:gd name="adj2" fmla="val 104595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rot="5400000">
              <a:off x="7354440" y="4575240"/>
              <a:ext cx="131760" cy="299880"/>
            </a:xfrm>
            <a:prstGeom prst="upDownArrow">
              <a:avLst>
                <a:gd name="adj1" fmla="val 50000"/>
                <a:gd name="adj2" fmla="val 45308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773760" y="3855960"/>
              <a:ext cx="451080" cy="45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 rot="5400000">
              <a:off x="6932880" y="3861360"/>
              <a:ext cx="131760" cy="422280"/>
            </a:xfrm>
            <a:prstGeom prst="upDownArrow">
              <a:avLst>
                <a:gd name="adj1" fmla="val 50000"/>
                <a:gd name="adj2" fmla="val 63801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923160" y="3855960"/>
              <a:ext cx="131760" cy="452520"/>
            </a:xfrm>
            <a:prstGeom prst="upDownArrow">
              <a:avLst>
                <a:gd name="adj1" fmla="val 50000"/>
                <a:gd name="adj2" fmla="val 6837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08" name=""/>
            <p:cNvGrpSpPr/>
            <p:nvPr/>
          </p:nvGrpSpPr>
          <p:grpSpPr>
            <a:xfrm>
              <a:off x="8145000" y="3060720"/>
              <a:ext cx="747720" cy="799920"/>
              <a:chOff x="8145000" y="3060720"/>
              <a:chExt cx="747720" cy="799920"/>
            </a:xfrm>
          </p:grpSpPr>
          <p:sp>
            <p:nvSpPr>
              <p:cNvPr id="909" name=""/>
              <p:cNvSpPr/>
              <p:nvPr/>
            </p:nvSpPr>
            <p:spPr>
              <a:xfrm rot="5400000">
                <a:off x="8355240" y="2850480"/>
                <a:ext cx="327240" cy="747720"/>
              </a:xfrm>
              <a:prstGeom prst="upDownArrow">
                <a:avLst>
                  <a:gd name="adj1" fmla="val 50000"/>
                  <a:gd name="adj2" fmla="val 45487"/>
                </a:avLst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id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5400000">
                <a:off x="8355240" y="3323160"/>
                <a:ext cx="327240" cy="747720"/>
              </a:xfrm>
              <a:prstGeom prst="upDownArrow">
                <a:avLst>
                  <a:gd name="adj1" fmla="val 50000"/>
                  <a:gd name="adj2" fmla="val 45487"/>
                </a:avLst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ou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11" name=""/>
          <p:cNvGrpSpPr/>
          <p:nvPr/>
        </p:nvGrpSpPr>
        <p:grpSpPr>
          <a:xfrm>
            <a:off x="8747280" y="4568760"/>
            <a:ext cx="380160" cy="277200"/>
            <a:chOff x="8747280" y="4568760"/>
            <a:chExt cx="380160" cy="277200"/>
          </a:xfrm>
        </p:grpSpPr>
        <p:sp>
          <p:nvSpPr>
            <p:cNvPr id="912" name=""/>
            <p:cNvSpPr/>
            <p:nvPr/>
          </p:nvSpPr>
          <p:spPr>
            <a:xfrm>
              <a:off x="8747280" y="4643640"/>
              <a:ext cx="37188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 flipV="1">
              <a:off x="8757000" y="4743720"/>
              <a:ext cx="370440" cy="10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 rot="21120000">
              <a:off x="8779320" y="4662000"/>
              <a:ext cx="38520" cy="167400"/>
            </a:xfrm>
            <a:custGeom>
              <a:avLst/>
              <a:gdLst/>
              <a:ahLst/>
              <a:rect l="l" t="t" r="r" b="b"/>
              <a:pathLst>
                <a:path w="63" h="288">
                  <a:moveTo>
                    <a:pt x="63" y="0"/>
                  </a:moveTo>
                  <a:cubicBezTo>
                    <a:pt x="54" y="21"/>
                    <a:pt x="16" y="77"/>
                    <a:pt x="8" y="125"/>
                  </a:cubicBezTo>
                  <a:cubicBezTo>
                    <a:pt x="0" y="173"/>
                    <a:pt x="14" y="254"/>
                    <a:pt x="15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 rot="21480000">
              <a:off x="8787240" y="4707720"/>
              <a:ext cx="2916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rot="21120000">
              <a:off x="8798040" y="4574880"/>
              <a:ext cx="34200" cy="88560"/>
            </a:xfrm>
            <a:custGeom>
              <a:avLst/>
              <a:gdLst/>
              <a:ahLst/>
              <a:rect l="l" t="t" r="r" b="b"/>
              <a:pathLst>
                <a:path w="56" h="144">
                  <a:moveTo>
                    <a:pt x="8" y="144"/>
                  </a:moveTo>
                  <a:cubicBezTo>
                    <a:pt x="4" y="108"/>
                    <a:pt x="0" y="72"/>
                    <a:pt x="8" y="48"/>
                  </a:cubicBezTo>
                  <a:cubicBezTo>
                    <a:pt x="16" y="24"/>
                    <a:pt x="48" y="8"/>
                    <a:pt x="5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2840" bIns="42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rot="21120000">
              <a:off x="8827920" y="4570560"/>
              <a:ext cx="34200" cy="88560"/>
            </a:xfrm>
            <a:custGeom>
              <a:avLst/>
              <a:gdLst/>
              <a:ahLst/>
              <a:rect l="l" t="t" r="r" b="b"/>
              <a:pathLst>
                <a:path w="56" h="144">
                  <a:moveTo>
                    <a:pt x="8" y="144"/>
                  </a:moveTo>
                  <a:cubicBezTo>
                    <a:pt x="4" y="108"/>
                    <a:pt x="0" y="72"/>
                    <a:pt x="8" y="48"/>
                  </a:cubicBezTo>
                  <a:cubicBezTo>
                    <a:pt x="16" y="24"/>
                    <a:pt x="48" y="8"/>
                    <a:pt x="5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2840" bIns="42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6804000" y="2700360"/>
            <a:ext cx="260640" cy="380880"/>
            <a:chOff x="6804000" y="2700360"/>
            <a:chExt cx="260640" cy="380880"/>
          </a:xfrm>
        </p:grpSpPr>
        <p:sp>
          <p:nvSpPr>
            <p:cNvPr id="919" name=""/>
            <p:cNvSpPr/>
            <p:nvPr/>
          </p:nvSpPr>
          <p:spPr>
            <a:xfrm flipV="1">
              <a:off x="6863040" y="2707920"/>
              <a:ext cx="147600" cy="35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 flipV="1">
              <a:off x="7014960" y="2700360"/>
              <a:ext cx="496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 rot="16200000">
              <a:off x="6951960" y="2942280"/>
              <a:ext cx="38520" cy="167400"/>
            </a:xfrm>
            <a:custGeom>
              <a:avLst/>
              <a:gdLst/>
              <a:ahLst/>
              <a:rect l="l" t="t" r="r" b="b"/>
              <a:pathLst>
                <a:path w="63" h="288">
                  <a:moveTo>
                    <a:pt x="63" y="0"/>
                  </a:moveTo>
                  <a:cubicBezTo>
                    <a:pt x="54" y="21"/>
                    <a:pt x="16" y="77"/>
                    <a:pt x="8" y="125"/>
                  </a:cubicBezTo>
                  <a:cubicBezTo>
                    <a:pt x="0" y="173"/>
                    <a:pt x="14" y="254"/>
                    <a:pt x="15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 rot="16560000">
              <a:off x="6963480" y="2979360"/>
              <a:ext cx="2916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 rot="16200000">
              <a:off x="6831000" y="2947320"/>
              <a:ext cx="34200" cy="88560"/>
            </a:xfrm>
            <a:custGeom>
              <a:avLst/>
              <a:gdLst/>
              <a:ahLst/>
              <a:rect l="l" t="t" r="r" b="b"/>
              <a:pathLst>
                <a:path w="56" h="144">
                  <a:moveTo>
                    <a:pt x="8" y="144"/>
                  </a:moveTo>
                  <a:cubicBezTo>
                    <a:pt x="4" y="108"/>
                    <a:pt x="0" y="72"/>
                    <a:pt x="8" y="48"/>
                  </a:cubicBezTo>
                  <a:cubicBezTo>
                    <a:pt x="16" y="24"/>
                    <a:pt x="48" y="8"/>
                    <a:pt x="5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2840" bIns="42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rot="16200000">
              <a:off x="6831000" y="2917440"/>
              <a:ext cx="34200" cy="88560"/>
            </a:xfrm>
            <a:custGeom>
              <a:avLst/>
              <a:gdLst/>
              <a:ahLst/>
              <a:rect l="l" t="t" r="r" b="b"/>
              <a:pathLst>
                <a:path w="56" h="144">
                  <a:moveTo>
                    <a:pt x="8" y="144"/>
                  </a:moveTo>
                  <a:cubicBezTo>
                    <a:pt x="4" y="108"/>
                    <a:pt x="0" y="72"/>
                    <a:pt x="8" y="48"/>
                  </a:cubicBezTo>
                  <a:cubicBezTo>
                    <a:pt x="16" y="24"/>
                    <a:pt x="48" y="8"/>
                    <a:pt x="5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2840" bIns="42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35C3F-488A-482B-849E-780ABDC327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2T08:07:25Z</dcterms:created>
  <dc:creator/>
  <dc:description/>
  <dc:language>en-US</dc:language>
  <cp:lastModifiedBy>niida</cp:lastModifiedBy>
  <dcterms:modified xsi:type="dcterms:W3CDTF">2011-09-19T17:34:03Z</dcterms:modified>
  <cp:revision>153</cp:revision>
  <dc:subject/>
  <dc:title>Azimuthal HBT Analysis  @ Run7Au+Au 200GeV </dc:title>
</cp:coreProperties>
</file>