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28B5B-3764-423B-9657-F0C774F744BE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A7380-578E-48D5-87D6-36EA2C95E9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FE012-A3B1-4B8A-9D55-8125B0B7FD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picture of heavy collisions, we adopted Psi2 plane which is determined by impact parameter as ba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27728-F42C-40D6-9433-FBE2F64486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A60-48B1-4809-812B-7383B246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9F3-F2BF-452F-81CA-EA87313C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3C59-CABD-4280-998E-F06C2D8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DD377-83E8-4294-9BF2-BCBFFB7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57EDF-0888-4690-A549-91D8507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9C7A-8670-43CF-97DA-EC6773C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C3B58-47BD-421F-B974-AE43BFD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163B-58D6-470E-80BD-A96102A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17566-E066-4C53-9860-E3EB6A89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BE55-3098-4FBA-ABB5-BC61BDE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223C-D81D-407A-A925-73D2803F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0A9A-C6AA-4EA1-B170-2F5DA2CC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08D-4BFB-437F-B3DE-200D5DF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F4575-937E-4CF3-8D7C-3D510C9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9A0D4-0D77-4BA7-8B6D-FE4A8711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DDBEA-211F-464F-A454-572477B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6D73A-162A-42FD-BF95-545C3A2C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5ACF6-4108-408B-B337-3954C0A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73F5-8669-45A9-BE6C-D75F4A8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DE1A6-91FC-48E9-8F60-622352F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50291-9B17-42AF-BA6C-88683CAD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2819-C983-4840-B0C4-5A90E5F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5C975-EB3C-4F10-BF4B-F3943B45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40C-5870-4BC4-931F-324E65B6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5859B-CB71-440B-B1CF-7CDCAF80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0FCC-25E7-4920-9A24-56783E87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F54D3-4477-404F-BBA4-38407AFA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D9183-317F-4EF4-B176-46E1B4F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11CED-87E6-4C0C-95EC-066EA8F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8F51D-E47C-4BC4-A50E-BA0ACBE2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9B037-8F2D-48F5-8A0D-BE35EA75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D3F41-EEA2-4162-B1F7-CE019B4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1B00D-4EC0-436C-85F0-0686C7A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005F2-C207-49FF-B4EB-883E6C6C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8F7A9-77E1-473E-A155-5A99868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E646A-47C4-40A6-90CA-27189413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94CFE-E241-4986-8BB4-F9522640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71BAA-34FB-4FA8-991D-DB5C6CA5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48B4-A0DA-4ED0-81D9-4CBEDC3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A2BBD-D724-4F84-B5FD-FA146BAB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FB478-F32F-4BBA-BA1F-701E19E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6747-0621-4332-8787-3A1AA5D7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A6D6A-25E4-41A8-A647-FF5BE8D0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B7F34-C81F-4D63-BAF4-94F68D9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67DA4-325F-464D-8ED5-B869CF1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AEE7-B7AE-442D-AE25-91A5051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FA170-1CF7-4CA8-AC93-B2B2BC6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2B656-2491-42D4-B98E-798D7E5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BD8C-0699-4754-BFC2-1D2EF576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DF2-1329-430D-8D21-D8FE737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49AC-2BCC-43E9-B6D0-AF4E9CA3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492-9CB4-4C2B-8F50-547D567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1A1F-1B40-4CA8-8D5D-1F9ADEA7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AFDD-CE24-4464-A303-3233AEEA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AC7-0A9B-45D0-A9CA-A91C140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C3F-B319-4EBB-88F2-8A90AE5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9A25-8663-42F9-8450-05FD34FB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C150-AC3F-420A-BAEA-5E0AD58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FF0B-5FD4-4A98-8D8D-B9461A6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B220-06CD-47B9-994F-7A77C06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C306-867D-4EEB-B1EA-0E38327B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E9ED-FC08-4D98-946E-AD5ADB08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321-6402-4AFF-AA82-1B814998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EE70-991B-4D54-9D6A-E0B69B00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ADB9-DDF3-476D-B5F0-24E4FEFA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4565-5617-4EEF-A911-A2B13AC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6C5-AB2D-4F2D-98AA-6CDC0ADC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2331-209C-4903-9445-0091848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E064-903C-468D-9A74-BA72217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8510-C3A6-45E8-8B70-34BD5624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DE04-587A-4DE3-8A66-A407ED8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FAC0-A3F5-45C1-898C-ED79710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B194-0F27-4911-8225-C8284494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C6BE-473B-41B9-9E81-118BC29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F916-C468-4E1F-8519-CA93938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F314-23DA-4465-B4D6-6A0D934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852E-8063-457A-AE71-7C146F7C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392-7BAD-4581-8320-AC180A7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FCDF-AADB-4650-A353-99A08FA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1EE3-B445-4FAB-9481-0097D52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D450-53BC-4F0B-8952-4C0EE39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502B-920F-45A0-851C-42A39BA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407D-A5FE-4EAA-BE7E-AF423D66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42C0-1AB3-46C4-850D-4584406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9DCC-30D0-4B3F-B8A5-5E48288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8E0F-60F4-4D59-8964-3F38845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5844-4AA1-4DEC-8D17-3CC3E75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9609-98D5-4277-8809-E263EA70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029-0FDC-4240-9101-E3CC8913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58FA-DE5B-4DB8-BFF1-CD1F1C26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E097-15AF-440C-935D-28BC7ACA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EE24-C699-4CB6-89C8-319B64B7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5876-87AF-4F75-B984-8AB36CD0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5A7C-88E5-43A8-B6B9-2143713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C8B7-FCCE-4330-9BF3-9817B8CD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C41B-7CB3-4FD1-A687-832BE8E2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A819-7584-403A-AFDF-2E468F0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E536-9A37-4F02-BF79-4297E83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49F9-36FB-420A-AED5-CA47DC83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3ED-F5DC-4B75-9B12-9E91FAE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F3B6-EE2C-4808-931D-91EF874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05F9-A72A-4BD3-844E-BD14479A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6A6A-2BE5-4DE4-B6CF-49289872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ABD7A-1E23-4ACD-B26F-BC31284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255B-8276-4199-A0BA-76A73DF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13B2-E751-40E0-97F3-3D02238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C6E9-EE3F-4112-A92D-B14DE5EE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1AC3-C53B-46BE-A794-B2FDABD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525E-218C-4F2C-B8EA-C926283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54003-F62C-45C8-A90C-FE29403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E7A-12E1-4D05-BB0F-4D9B52C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8C4A-F495-4387-A4FC-3058C39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C7281-2F7B-4C8A-863E-3ED5837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F7302-BBB8-49F7-B55E-F715565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8F3C-5C19-4A4C-8186-C7D4FDF0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C1BC-E57A-449F-ABE9-5DA16E33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86B3-E7DD-44D2-8F1E-7A4AB342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6BC76-FA85-4801-800B-A7D96E6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CC2F-87F4-4747-925D-817D79B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6492-94AE-4665-8F42-235E808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A2AD-47AD-4C3C-8AEF-3ED2061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5C5-C769-4D5F-973A-EE86324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0D4FA-560F-42E9-A7EA-8DD0C3F8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92717-13C0-44EE-87CC-D5A9BA3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834B-EC9E-44E4-8CD4-B99372A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A236-2C01-4010-8312-9848E00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000" y="3638160"/>
            <a:ext cx="89154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10A37-02DA-4A11-9010-478840B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91440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3400" y="3638160"/>
            <a:ext cx="4350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47B9-250A-467C-9554-47F5CE5A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964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4280" y="91440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00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0964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4280" y="3638160"/>
            <a:ext cx="28706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DAFE-D302-494D-B69F-BACD18E8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C81E9-D296-4868-9536-356CDCEA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7EF1-2A23-475F-9688-C2403EC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644FF-B2C7-4C7A-A54B-FF158516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00B5C-42B1-4380-816E-9415058CDDD6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線コネクタ 8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二等辺三角形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10"/>
          <p:cNvSpPr/>
          <p:nvPr/>
        </p:nvSpPr>
        <p:spPr>
          <a:xfrm>
            <a:off x="495360" y="500040"/>
            <a:ext cx="19836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f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C988E-C532-4EF0-AE2B-B76C0724C9BF}" type="slidenum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12ECE-D5DE-4834-BB6F-879FFEF4DAE5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直線コネクタ 8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二等辺三角形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線コネクタ 10"/>
          <p:cNvSpPr/>
          <p:nvPr/>
        </p:nvSpPr>
        <p:spPr>
          <a:xfrm>
            <a:off x="71024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132E7-5554-42F2-8D87-C3217108375D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528DD-1C0E-4902-8CB2-C66068B47806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正方形/長方形 8"/>
          <p:cNvSpPr/>
          <p:nvPr/>
        </p:nvSpPr>
        <p:spPr>
          <a:xfrm>
            <a:off x="990720" y="2819520"/>
            <a:ext cx="79246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9"/>
          <p:cNvSpPr/>
          <p:nvPr/>
        </p:nvSpPr>
        <p:spPr>
          <a:xfrm>
            <a:off x="990720" y="2819520"/>
            <a:ext cx="24768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f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933960" y="6354360"/>
            <a:ext cx="247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39920" y="6354360"/>
            <a:ext cx="3764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158480" y="6354360"/>
            <a:ext cx="1647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194CA-42A1-47AB-B631-7A713DA1ED04}" type="slidenum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2CF05-A956-407E-8D45-F981D86DD846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29C9C-12AD-484B-A1F5-9A9A3B06E4E7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コネクタ 27"/>
          <p:cNvSpPr/>
          <p:nvPr/>
        </p:nvSpPr>
        <p:spPr>
          <a:xfrm>
            <a:off x="45720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線コネクタ 28"/>
          <p:cNvSpPr/>
          <p:nvPr/>
        </p:nvSpPr>
        <p:spPr>
          <a:xfrm>
            <a:off x="495360" y="9144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二等辺三角形 8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2F86F-D525-483C-B590-1B4644FD24E1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直線コネクタ 8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二等辺三角形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F922-34C8-463D-B643-A4E8A9C025DD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直線コネクタ 8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線コネクタ 9"/>
          <p:cNvSpPr/>
          <p:nvPr/>
        </p:nvSpPr>
        <p:spPr>
          <a:xfrm>
            <a:off x="669276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二等辺三角形 10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95000" y="91440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252864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891504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645CD-9463-4DA3-9575-8B66B1EEEFD5}" type="slidenum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図 7" descr=""/>
          <p:cNvPicPr/>
          <p:nvPr/>
        </p:nvPicPr>
        <p:blipFill>
          <a:blip r:embed="rId1"/>
          <a:stretch/>
        </p:blipFill>
        <p:spPr>
          <a:xfrm>
            <a:off x="6756480" y="5118120"/>
            <a:ext cx="2082600" cy="9018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Two particle hadron correlations with higher harmonic reaction plane in Au+Au 200 GeV collisions at RHIC-PHENIX</a:t>
            </a:r>
            <a:endParaRPr b="1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485720" y="327672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. Todoroki for the PHENIX Collabo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niversity of  Tsukuba, RIKEN Nishina Ce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PCF 2011 at University of  Toky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図 6" descr=""/>
          <p:cNvPicPr/>
          <p:nvPr/>
        </p:nvPicPr>
        <p:blipFill>
          <a:blip r:embed="rId2"/>
          <a:stretch/>
        </p:blipFill>
        <p:spPr>
          <a:xfrm>
            <a:off x="3886200" y="5316480"/>
            <a:ext cx="2255760" cy="627120"/>
          </a:xfrm>
          <a:prstGeom prst="rect">
            <a:avLst/>
          </a:prstGeom>
          <a:ln w="0">
            <a:noFill/>
          </a:ln>
        </p:spPr>
      </p:pic>
      <p:pic>
        <p:nvPicPr>
          <p:cNvPr id="526" name="図 8" descr=""/>
          <p:cNvPicPr/>
          <p:nvPr/>
        </p:nvPicPr>
        <p:blipFill>
          <a:blip r:embed="rId3"/>
          <a:stretch/>
        </p:blipFill>
        <p:spPr>
          <a:xfrm>
            <a:off x="1308240" y="5229360"/>
            <a:ext cx="201276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図 16" descr=""/>
          <p:cNvPicPr/>
          <p:nvPr/>
        </p:nvPicPr>
        <p:blipFill>
          <a:blip r:embed="rId1"/>
          <a:stretch/>
        </p:blipFill>
        <p:spPr>
          <a:xfrm>
            <a:off x="1533600" y="909720"/>
            <a:ext cx="7076880" cy="41958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itting to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flow subtracted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orrelations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F14FF-0B6F-4683-AB78-ECF6B99F92C0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4560" y="4965480"/>
            <a:ext cx="929628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and 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s are balanced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Symbo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 central coll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 is almost 0 in peripheral coll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and 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s aren’t balanced, dip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Symbol"/>
              </a:rPr>
              <a:t> is emphasiz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56" name="図形グループ 11"/>
          <p:cNvGrpSpPr/>
          <p:nvPr/>
        </p:nvGrpSpPr>
        <p:grpSpPr>
          <a:xfrm>
            <a:off x="2119320" y="1219320"/>
            <a:ext cx="3627360" cy="380880"/>
            <a:chOff x="2119320" y="1219320"/>
            <a:chExt cx="3627360" cy="380880"/>
          </a:xfrm>
        </p:grpSpPr>
        <p:pic>
          <p:nvPicPr>
            <p:cNvPr id="657" name="図 11" descr=""/>
            <p:cNvPicPr/>
            <p:nvPr/>
          </p:nvPicPr>
          <p:blipFill>
            <a:blip r:embed="rId2"/>
            <a:stretch/>
          </p:blipFill>
          <p:spPr>
            <a:xfrm>
              <a:off x="3427200" y="1236960"/>
              <a:ext cx="23194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Box 10"/>
            <p:cNvSpPr/>
            <p:nvPr/>
          </p:nvSpPr>
          <p:spPr>
            <a:xfrm>
              <a:off x="2119320" y="1219320"/>
              <a:ext cx="14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it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Box 13"/>
          <p:cNvSpPr/>
          <p:nvPr/>
        </p:nvSpPr>
        <p:spPr>
          <a:xfrm>
            <a:off x="2330280" y="1698480"/>
            <a:ext cx="2743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3,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co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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=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/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6"/>
          <p:cNvSpPr/>
          <p:nvPr/>
        </p:nvSpPr>
        <p:spPr>
          <a:xfrm>
            <a:off x="3016080" y="2222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7"/>
          <p:cNvSpPr/>
          <p:nvPr/>
        </p:nvSpPr>
        <p:spPr>
          <a:xfrm>
            <a:off x="7620120" y="19922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s indicates systematic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日付プレースホルダ 15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フッター プレースホルダ 16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図 17" descr=""/>
          <p:cNvPicPr/>
          <p:nvPr/>
        </p:nvPicPr>
        <p:blipFill>
          <a:blip r:embed="rId1"/>
          <a:stretch/>
        </p:blipFill>
        <p:spPr>
          <a:xfrm>
            <a:off x="1533600" y="911160"/>
            <a:ext cx="7076880" cy="41958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itting to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flow subtracted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correlations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BD3C8-7862-42E6-B230-8249323E5C7D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560" y="4965480"/>
            <a:ext cx="929628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and 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s are balanced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Symbo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 central coll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 is almost 0 in peripheral coll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and 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terms aren’t balanced, dip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Symbol"/>
              </a:rPr>
              <a:t> is emphasiz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8" name="図形グループ 11"/>
          <p:cNvGrpSpPr/>
          <p:nvPr/>
        </p:nvGrpSpPr>
        <p:grpSpPr>
          <a:xfrm>
            <a:off x="2119320" y="1219320"/>
            <a:ext cx="3627360" cy="380880"/>
            <a:chOff x="2119320" y="1219320"/>
            <a:chExt cx="3627360" cy="380880"/>
          </a:xfrm>
        </p:grpSpPr>
        <p:pic>
          <p:nvPicPr>
            <p:cNvPr id="669" name="図 11" descr=""/>
            <p:cNvPicPr/>
            <p:nvPr/>
          </p:nvPicPr>
          <p:blipFill>
            <a:blip r:embed="rId2"/>
            <a:stretch/>
          </p:blipFill>
          <p:spPr>
            <a:xfrm>
              <a:off x="3427200" y="1236960"/>
              <a:ext cx="23194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10"/>
            <p:cNvSpPr/>
            <p:nvPr/>
          </p:nvSpPr>
          <p:spPr>
            <a:xfrm>
              <a:off x="2119320" y="1219320"/>
              <a:ext cx="14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it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Box 13"/>
          <p:cNvSpPr/>
          <p:nvPr/>
        </p:nvSpPr>
        <p:spPr>
          <a:xfrm>
            <a:off x="2330280" y="1698480"/>
            <a:ext cx="2743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3,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co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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=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/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6"/>
          <p:cNvSpPr/>
          <p:nvPr/>
        </p:nvSpPr>
        <p:spPr>
          <a:xfrm>
            <a:off x="3016080" y="2222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7620120" y="19922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s indicates systematic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日付プレースホルダ 15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フッター プレースホルダ 16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Symbol"/>
                <a:ea typeface="Symbol"/>
              </a:rPr>
              <a:t>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  <a:ea typeface="Symbol"/>
              </a:rPr>
              <a:t>&amp;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Symbol"/>
                <a:ea typeface="Symbol"/>
              </a:rPr>
              <a:t></a:t>
            </a:r>
            <a:r>
              <a:rPr b="1" lang="en-US" sz="3200" spc="-1" strike="noStrike">
                <a:solidFill>
                  <a:srgbClr val="464653"/>
                </a:solidFill>
                <a:latin typeface="Calibri"/>
                <a:ea typeface="Calibri"/>
              </a:rPr>
              <a:t>dependent analyses are in progress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日付プレースホルダ 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フッター プレースホルダ 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53039-C2F7-474F-BA0F-41779884A64C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図 12" descr=""/>
          <p:cNvPicPr/>
          <p:nvPr/>
        </p:nvPicPr>
        <p:blipFill>
          <a:blip r:embed="rId1"/>
          <a:stretch/>
        </p:blipFill>
        <p:spPr>
          <a:xfrm>
            <a:off x="0" y="898560"/>
            <a:ext cx="87328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95000" y="4495320"/>
            <a:ext cx="8915400" cy="18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igg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select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orrelation could be the probe to survey the geometry and/or dynamics of QGP bulk in pseudo rapidity directions with same analogy of Reaction Plane depende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Symbol"/>
              </a:rPr>
              <a:t> correl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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Gill Sans MT"/>
                <a:ea typeface="Symbol"/>
              </a:rPr>
              <a:t>trig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dependent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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correlations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3" name="日付プレースホルダ 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フッター プレースホルダ 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84B01-7A09-4713-AFC7-7071F308590F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図形グループ 76"/>
          <p:cNvGrpSpPr/>
          <p:nvPr/>
        </p:nvGrpSpPr>
        <p:grpSpPr>
          <a:xfrm>
            <a:off x="5543640" y="1219320"/>
            <a:ext cx="3068640" cy="2514600"/>
            <a:chOff x="5543640" y="1219320"/>
            <a:chExt cx="3068640" cy="2514600"/>
          </a:xfrm>
        </p:grpSpPr>
        <p:sp>
          <p:nvSpPr>
            <p:cNvPr id="687" name="AutoShape 24"/>
            <p:cNvSpPr/>
            <p:nvPr/>
          </p:nvSpPr>
          <p:spPr>
            <a:xfrm rot="16200000">
              <a:off x="6114960" y="2016720"/>
              <a:ext cx="1371600" cy="2057400"/>
            </a:xfrm>
            <a:prstGeom prst="can">
              <a:avLst>
                <a:gd name="adj" fmla="val 16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5"/>
            <p:cNvSpPr/>
            <p:nvPr/>
          </p:nvSpPr>
          <p:spPr>
            <a:xfrm>
              <a:off x="782964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6"/>
            <p:cNvSpPr/>
            <p:nvPr/>
          </p:nvSpPr>
          <p:spPr>
            <a:xfrm>
              <a:off x="554364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7"/>
            <p:cNvSpPr/>
            <p:nvPr/>
          </p:nvSpPr>
          <p:spPr>
            <a:xfrm>
              <a:off x="6000840" y="3048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28"/>
            <p:cNvSpPr/>
            <p:nvPr/>
          </p:nvSpPr>
          <p:spPr>
            <a:xfrm>
              <a:off x="7486560" y="2362320"/>
              <a:ext cx="34272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1"/>
            <p:cNvSpPr/>
            <p:nvPr/>
          </p:nvSpPr>
          <p:spPr>
            <a:xfrm flipV="1">
              <a:off x="6800760" y="213372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2"/>
            <p:cNvSpPr/>
            <p:nvPr/>
          </p:nvSpPr>
          <p:spPr>
            <a:xfrm flipV="1">
              <a:off x="680076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3"/>
            <p:cNvSpPr/>
            <p:nvPr/>
          </p:nvSpPr>
          <p:spPr>
            <a:xfrm flipV="1">
              <a:off x="6800760" y="21337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4"/>
            <p:cNvSpPr/>
            <p:nvPr/>
          </p:nvSpPr>
          <p:spPr>
            <a:xfrm flipV="1">
              <a:off x="6800760" y="21337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5"/>
            <p:cNvSpPr/>
            <p:nvPr/>
          </p:nvSpPr>
          <p:spPr>
            <a:xfrm flipV="1">
              <a:off x="6800760" y="21337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36"/>
            <p:cNvSpPr/>
            <p:nvPr/>
          </p:nvSpPr>
          <p:spPr>
            <a:xfrm flipH="1" flipV="1">
              <a:off x="6114600" y="213372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8"/>
            <p:cNvSpPr/>
            <p:nvPr/>
          </p:nvSpPr>
          <p:spPr>
            <a:xfrm flipH="1" flipV="1">
              <a:off x="6343560" y="21337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9"/>
            <p:cNvSpPr/>
            <p:nvPr/>
          </p:nvSpPr>
          <p:spPr>
            <a:xfrm flipH="1" flipV="1">
              <a:off x="6571800" y="21337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 flipV="1">
              <a:off x="5886360" y="21337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1"/>
            <p:cNvSpPr/>
            <p:nvPr/>
          </p:nvSpPr>
          <p:spPr>
            <a:xfrm>
              <a:off x="7675200" y="1219320"/>
              <a:ext cx="9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Jet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Tri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2"/>
            <p:cNvSpPr/>
            <p:nvPr/>
          </p:nvSpPr>
          <p:spPr>
            <a:xfrm>
              <a:off x="588636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3"/>
            <p:cNvSpPr/>
            <p:nvPr/>
          </p:nvSpPr>
          <p:spPr>
            <a:xfrm>
              <a:off x="619344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4"/>
            <p:cNvSpPr/>
            <p:nvPr/>
          </p:nvSpPr>
          <p:spPr>
            <a:xfrm>
              <a:off x="634356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5"/>
            <p:cNvSpPr/>
            <p:nvPr/>
          </p:nvSpPr>
          <p:spPr>
            <a:xfrm>
              <a:off x="657216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6"/>
            <p:cNvSpPr/>
            <p:nvPr/>
          </p:nvSpPr>
          <p:spPr>
            <a:xfrm>
              <a:off x="680076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7"/>
            <p:cNvSpPr/>
            <p:nvPr/>
          </p:nvSpPr>
          <p:spPr>
            <a:xfrm>
              <a:off x="699372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8"/>
            <p:cNvSpPr/>
            <p:nvPr/>
          </p:nvSpPr>
          <p:spPr>
            <a:xfrm>
              <a:off x="725796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9"/>
            <p:cNvSpPr/>
            <p:nvPr/>
          </p:nvSpPr>
          <p:spPr>
            <a:xfrm>
              <a:off x="740808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0"/>
            <p:cNvSpPr/>
            <p:nvPr/>
          </p:nvSpPr>
          <p:spPr>
            <a:xfrm flipV="1">
              <a:off x="7143840" y="1447560"/>
              <a:ext cx="22860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図形グループ 35"/>
          <p:cNvGrpSpPr/>
          <p:nvPr/>
        </p:nvGrpSpPr>
        <p:grpSpPr>
          <a:xfrm>
            <a:off x="1600200" y="838080"/>
            <a:ext cx="3200400" cy="3086280"/>
            <a:chOff x="1600200" y="838080"/>
            <a:chExt cx="3200400" cy="3086280"/>
          </a:xfrm>
        </p:grpSpPr>
        <p:sp>
          <p:nvSpPr>
            <p:cNvPr id="712" name="Oval 7"/>
            <p:cNvSpPr/>
            <p:nvPr/>
          </p:nvSpPr>
          <p:spPr>
            <a:xfrm>
              <a:off x="1828800" y="1866960"/>
              <a:ext cx="13716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8"/>
            <p:cNvSpPr/>
            <p:nvPr/>
          </p:nvSpPr>
          <p:spPr>
            <a:xfrm flipV="1">
              <a:off x="2514600" y="152388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>
              <a:off x="1600200" y="278136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2"/>
            <p:cNvSpPr/>
            <p:nvPr/>
          </p:nvSpPr>
          <p:spPr>
            <a:xfrm flipV="1">
              <a:off x="2514600" y="20952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3"/>
            <p:cNvSpPr/>
            <p:nvPr/>
          </p:nvSpPr>
          <p:spPr>
            <a:xfrm>
              <a:off x="2514600" y="1776240"/>
              <a:ext cx="426240" cy="10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"/>
            <p:cNvSpPr/>
            <p:nvPr/>
          </p:nvSpPr>
          <p:spPr>
            <a:xfrm flipV="1">
              <a:off x="2514600" y="243828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5"/>
            <p:cNvSpPr/>
            <p:nvPr/>
          </p:nvSpPr>
          <p:spPr>
            <a:xfrm>
              <a:off x="2514600" y="278136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6"/>
            <p:cNvSpPr/>
            <p:nvPr/>
          </p:nvSpPr>
          <p:spPr>
            <a:xfrm flipV="1">
              <a:off x="2514600" y="2780640"/>
              <a:ext cx="426240" cy="10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7"/>
            <p:cNvSpPr/>
            <p:nvPr/>
          </p:nvSpPr>
          <p:spPr>
            <a:xfrm>
              <a:off x="2514600" y="27813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2581200" y="3557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9"/>
            <p:cNvSpPr/>
            <p:nvPr/>
          </p:nvSpPr>
          <p:spPr>
            <a:xfrm>
              <a:off x="2869200" y="335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0"/>
            <p:cNvSpPr/>
            <p:nvPr/>
          </p:nvSpPr>
          <p:spPr>
            <a:xfrm>
              <a:off x="3074040" y="3124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1"/>
            <p:cNvSpPr/>
            <p:nvPr/>
          </p:nvSpPr>
          <p:spPr>
            <a:xfrm>
              <a:off x="3133800" y="2817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22"/>
            <p:cNvSpPr/>
            <p:nvPr/>
          </p:nvSpPr>
          <p:spPr>
            <a:xfrm>
              <a:off x="3133800" y="2529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23"/>
            <p:cNvSpPr/>
            <p:nvPr/>
          </p:nvSpPr>
          <p:spPr>
            <a:xfrm>
              <a:off x="3074040" y="2209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24"/>
            <p:cNvSpPr/>
            <p:nvPr/>
          </p:nvSpPr>
          <p:spPr>
            <a:xfrm>
              <a:off x="2905200" y="1957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25"/>
            <p:cNvSpPr/>
            <p:nvPr/>
          </p:nvSpPr>
          <p:spPr>
            <a:xfrm>
              <a:off x="2585880" y="1752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2"/>
            <p:cNvSpPr/>
            <p:nvPr/>
          </p:nvSpPr>
          <p:spPr>
            <a:xfrm flipV="1">
              <a:off x="3085920" y="1294920"/>
              <a:ext cx="45720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3"/>
            <p:cNvSpPr/>
            <p:nvPr/>
          </p:nvSpPr>
          <p:spPr>
            <a:xfrm>
              <a:off x="3200400" y="838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Jet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,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Tri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図 7" descr=""/>
          <p:cNvPicPr/>
          <p:nvPr/>
        </p:nvPicPr>
        <p:blipFill>
          <a:blip r:embed="rId1"/>
          <a:stretch/>
        </p:blipFill>
        <p:spPr>
          <a:xfrm>
            <a:off x="115920" y="533520"/>
            <a:ext cx="9486720" cy="35431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8"/>
          <p:cNvSpPr/>
          <p:nvPr/>
        </p:nvSpPr>
        <p:spPr>
          <a:xfrm>
            <a:off x="3733920" y="3287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ne Trigg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Triggered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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correlations 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95000" y="3943080"/>
            <a:ext cx="8915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us/minus triggered correlations have same shape with none triggered correl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jet-bulk interaction was not observed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erimental sensitivity might be not enough due to limited pseudo rapidity coverag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日付プレースホルダ 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フッター プレースホルダ 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15E3-A63A-4110-A28A-34382AA026FF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図 6" descr=""/>
          <p:cNvPicPr/>
          <p:nvPr/>
        </p:nvPicPr>
        <p:blipFill>
          <a:blip r:embed="rId1"/>
          <a:stretch/>
        </p:blipFill>
        <p:spPr>
          <a:xfrm>
            <a:off x="15840" y="533520"/>
            <a:ext cx="9601200" cy="354312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Triggered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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correlations 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95000" y="3943080"/>
            <a:ext cx="8915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us/minus triggered correlations have same shape with none triggered correl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jet-bulk interaction was not observed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erimental sensitivity might be not enough due to limited pseudo rapidity coverag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日付プレースホルダ 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フッター プレースホルダ 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204FB-82C5-47AA-A7E4-6F421AFAAC7E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ummary &amp; Outlook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5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CE91A-FBEC-47A0-BABC-EBECFB96346F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95000" y="914040"/>
            <a:ext cx="89154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v2 v3 and v4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} subtract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 correlations are measured within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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ymbol"/>
              </a:rPr>
              <a:t>in Au+Au 200GeV colli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oulder almost disappeared in central collisions as previous resul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w” shoulder emerged in peripheral coll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s was due to the imbalance of cos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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  <a:ea typeface="Symbol"/>
              </a:rPr>
              <a:t>and cos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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  <a:ea typeface="Symbol"/>
              </a:rPr>
              <a:t>component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tri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pend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rrel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Jet correlation might be independen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trig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erimental sensitivity might be not enoug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Calibri"/>
              </a:rPr>
              <a:t>Outlook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 correl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reduce systematic error width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include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  <a:ea typeface="Calibri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 and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  <a:ea typeface="Calibri"/>
              </a:rPr>
              <a:t>6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Calibri"/>
              </a:rPr>
              <a:t>contrib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Symbol"/>
              </a:rPr>
              <a:t>&amp;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pendent analyses are in progress!!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7" name="日付プレースホルダ 6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フッター プレースホルダ 7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560" y="248436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Bookman Old Style"/>
              </a:rPr>
              <a:t>Backup Slides</a:t>
            </a:r>
            <a:endParaRPr b="1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0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48A25-277D-403D-A6AF-B8836F4C5CA1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日付プレースホルダ 5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フッター プレースホルダ 6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図 7" descr=""/>
          <p:cNvPicPr/>
          <p:nvPr/>
        </p:nvPicPr>
        <p:blipFill>
          <a:blip r:embed="rId1"/>
          <a:stretch/>
        </p:blipFill>
        <p:spPr>
          <a:xfrm>
            <a:off x="5334120" y="1116000"/>
            <a:ext cx="4390920" cy="490392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  <a:ea typeface="Calibri"/>
              </a:rPr>
              <a:t>n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  <a:ea typeface="Calibri"/>
              </a:rPr>
              <a:t> resolution and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  <a:ea typeface="Calibri"/>
              </a:rPr>
              <a:t>i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  <a:ea typeface="Calibri"/>
              </a:rPr>
              <a:t>-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  <a:ea typeface="Calibri"/>
              </a:rPr>
              <a:t>j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  <a:ea typeface="Calibri"/>
              </a:rPr>
              <a:t> correlations 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5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EC47A-92AC-49BD-A3D3-A5721B2069BA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95000" y="121932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7" name="図 6" descr=""/>
          <p:cNvPicPr/>
          <p:nvPr/>
        </p:nvPicPr>
        <p:blipFill>
          <a:blip r:embed="rId2"/>
          <a:stretch/>
        </p:blipFill>
        <p:spPr>
          <a:xfrm>
            <a:off x="281160" y="1407960"/>
            <a:ext cx="5433840" cy="4078440"/>
          </a:xfrm>
          <a:prstGeom prst="rect">
            <a:avLst/>
          </a:prstGeom>
          <a:ln w="0">
            <a:noFill/>
          </a:ln>
        </p:spPr>
      </p:pic>
      <p:sp>
        <p:nvSpPr>
          <p:cNvPr id="758" name="TextBox 8"/>
          <p:cNvSpPr/>
          <p:nvPr/>
        </p:nvSpPr>
        <p:spPr>
          <a:xfrm>
            <a:off x="6416640" y="762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日付プレースホルダ 9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フッター プレースホルダ 10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図 9" descr=""/>
          <p:cNvPicPr/>
          <p:nvPr/>
        </p:nvPicPr>
        <p:blipFill>
          <a:blip r:embed="rId1"/>
          <a:stretch/>
        </p:blipFill>
        <p:spPr>
          <a:xfrm>
            <a:off x="3801960" y="1036800"/>
            <a:ext cx="5875560" cy="54403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Higher harmonic flow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56CC3-A88A-4DD1-9631-242B404AEDC9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図 6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867120" cy="5705280"/>
          </a:xfrm>
          <a:prstGeom prst="rect">
            <a:avLst/>
          </a:prstGeom>
          <a:ln w="0">
            <a:noFill/>
          </a:ln>
        </p:spPr>
      </p:pic>
      <p:sp>
        <p:nvSpPr>
          <p:cNvPr id="765" name="TextBox 8"/>
          <p:cNvSpPr/>
          <p:nvPr/>
        </p:nvSpPr>
        <p:spPr>
          <a:xfrm>
            <a:off x="650880" y="685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日付プレースホルダ 8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フッター プレースホルダ 9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8"/>
          <p:cNvSpPr/>
          <p:nvPr/>
        </p:nvSpPr>
        <p:spPr>
          <a:xfrm>
            <a:off x="5124600" y="762120"/>
            <a:ext cx="34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L 105, 062301(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95000" y="93348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igher harmonic plane and flo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idge and Should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Previous 2 particle correlation resul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set and measured valu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and 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subtracted correla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trig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dependent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correla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日付プレースホルダ 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フッター プレースホルダ 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334A9-758F-463E-9742-98B43324ABBB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図 11" descr=""/>
          <p:cNvPicPr/>
          <p:nvPr/>
        </p:nvPicPr>
        <p:blipFill>
          <a:blip r:embed="rId1"/>
          <a:stretch/>
        </p:blipFill>
        <p:spPr>
          <a:xfrm>
            <a:off x="228600" y="1657440"/>
            <a:ext cx="5068800" cy="352404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v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</a:rPr>
              <a:t>2 ,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v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</a:rPr>
              <a:t>3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 and v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Bookman Old Style"/>
              </a:rPr>
              <a:t>4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{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464653"/>
                </a:solidFill>
                <a:latin typeface="Symbol"/>
                <a:ea typeface="Symbol"/>
              </a:rPr>
              <a:t>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} with model comparison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1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464DB-ACE0-48DA-9CEA-730547F22AEF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図 6" descr=""/>
          <p:cNvPicPr/>
          <p:nvPr/>
        </p:nvPicPr>
        <p:blipFill>
          <a:blip r:embed="rId2"/>
          <a:stretch/>
        </p:blipFill>
        <p:spPr>
          <a:xfrm>
            <a:off x="5003640" y="1098720"/>
            <a:ext cx="4902480" cy="4311360"/>
          </a:xfrm>
          <a:prstGeom prst="rect">
            <a:avLst/>
          </a:prstGeom>
          <a:ln w="0">
            <a:noFill/>
          </a:ln>
        </p:spPr>
      </p:pic>
      <p:pic>
        <p:nvPicPr>
          <p:cNvPr id="773" name="図 8" descr=""/>
          <p:cNvPicPr/>
          <p:nvPr/>
        </p:nvPicPr>
        <p:blipFill>
          <a:blip r:embed="rId3"/>
          <a:stretch/>
        </p:blipFill>
        <p:spPr>
          <a:xfrm>
            <a:off x="5181480" y="5334120"/>
            <a:ext cx="2789280" cy="377640"/>
          </a:xfrm>
          <a:prstGeom prst="rect">
            <a:avLst/>
          </a:prstGeom>
          <a:ln w="0">
            <a:noFill/>
          </a:ln>
        </p:spPr>
      </p:pic>
      <p:pic>
        <p:nvPicPr>
          <p:cNvPr id="774" name="図 9" descr=""/>
          <p:cNvPicPr/>
          <p:nvPr/>
        </p:nvPicPr>
        <p:blipFill>
          <a:blip r:embed="rId4"/>
          <a:stretch/>
        </p:blipFill>
        <p:spPr>
          <a:xfrm>
            <a:off x="5200560" y="5726160"/>
            <a:ext cx="2552760" cy="114120"/>
          </a:xfrm>
          <a:prstGeom prst="rect">
            <a:avLst/>
          </a:prstGeom>
          <a:ln w="0">
            <a:noFill/>
          </a:ln>
        </p:spPr>
      </p:pic>
      <p:sp>
        <p:nvSpPr>
          <p:cNvPr id="775" name="TextBox 8"/>
          <p:cNvSpPr/>
          <p:nvPr/>
        </p:nvSpPr>
        <p:spPr>
          <a:xfrm>
            <a:off x="5524560" y="906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"/>
          <p:cNvSpPr/>
          <p:nvPr/>
        </p:nvSpPr>
        <p:spPr>
          <a:xfrm>
            <a:off x="762120" y="1154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2011 Flow Plenary S. Es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日付プレースホルダ 11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フッター プレースホルダ 12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0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E3946-3A06-4281-85CF-A2E0C86C62CC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95000" y="121932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83" name="TextBox 7"/>
          <p:cNvSpPr/>
          <p:nvPr/>
        </p:nvSpPr>
        <p:spPr>
          <a:xfrm>
            <a:off x="76320" y="5343480"/>
            <a:ext cx="198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gyong, J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11’ Flow Ple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日付プレースホルダ 8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フッター プレースホルダ 9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man Old Style"/>
              </a:rPr>
              <a:t>Fourier analysis of the per trigger yield jet function </a:t>
            </a:r>
            <a:endParaRPr b="1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7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EEE65-87F6-4F51-BBD9-2AED2D2E3D6F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95000" y="121932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9" name="Picture 2" descr="fourier_coeff_trig_20_30_part_10_20"/>
          <p:cNvPicPr/>
          <p:nvPr/>
        </p:nvPicPr>
        <p:blipFill>
          <a:blip r:embed="rId1"/>
          <a:stretch/>
        </p:blipFill>
        <p:spPr>
          <a:xfrm>
            <a:off x="990720" y="952560"/>
            <a:ext cx="7581960" cy="5448240"/>
          </a:xfrm>
          <a:prstGeom prst="rect">
            <a:avLst/>
          </a:prstGeom>
          <a:ln w="0">
            <a:noFill/>
          </a:ln>
        </p:spPr>
      </p:pic>
      <p:sp>
        <p:nvSpPr>
          <p:cNvPr id="790" name="TextBox 7"/>
          <p:cNvSpPr/>
          <p:nvPr/>
        </p:nvSpPr>
        <p:spPr>
          <a:xfrm>
            <a:off x="228600" y="53593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iond QCD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-Chin-Hao-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5372280" y="4202280"/>
            <a:ext cx="24382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rm from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円/楕円 9"/>
          <p:cNvGrpSpPr/>
          <p:nvPr/>
        </p:nvGrpSpPr>
        <p:grpSpPr>
          <a:xfrm>
            <a:off x="4065480" y="4157640"/>
            <a:ext cx="854280" cy="768240"/>
            <a:chOff x="4065480" y="4157640"/>
            <a:chExt cx="854280" cy="768240"/>
          </a:xfrm>
        </p:grpSpPr>
        <p:pic>
          <p:nvPicPr>
            <p:cNvPr id="793" name="円/楕円 9" descr=""/>
            <p:cNvPicPr/>
            <p:nvPr/>
          </p:nvPicPr>
          <p:blipFill>
            <a:blip r:embed="rId2"/>
            <a:stretch/>
          </p:blipFill>
          <p:spPr>
            <a:xfrm>
              <a:off x="4065480" y="4157640"/>
              <a:ext cx="85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4253040" y="4289400"/>
              <a:ext cx="485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円/楕円 10"/>
          <p:cNvGrpSpPr/>
          <p:nvPr/>
        </p:nvGrpSpPr>
        <p:grpSpPr>
          <a:xfrm>
            <a:off x="4065480" y="2316240"/>
            <a:ext cx="854280" cy="1377720"/>
            <a:chOff x="4065480" y="2316240"/>
            <a:chExt cx="854280" cy="1377720"/>
          </a:xfrm>
        </p:grpSpPr>
        <p:pic>
          <p:nvPicPr>
            <p:cNvPr id="796" name="円/楕円 10" descr=""/>
            <p:cNvPicPr/>
            <p:nvPr/>
          </p:nvPicPr>
          <p:blipFill>
            <a:blip r:embed="rId3"/>
            <a:stretch/>
          </p:blipFill>
          <p:spPr>
            <a:xfrm>
              <a:off x="4065480" y="2316240"/>
              <a:ext cx="8542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4253040" y="2538360"/>
              <a:ext cx="485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Box 11"/>
          <p:cNvSpPr/>
          <p:nvPr/>
        </p:nvSpPr>
        <p:spPr>
          <a:xfrm>
            <a:off x="6286680" y="2416320"/>
            <a:ext cx="339084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erm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Jet+bulk+Jet-bulk interp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直線矢印コネクタ 13"/>
          <p:cNvCxnSpPr>
            <a:stCxn id="798" idx="1"/>
          </p:cNvCxnSpPr>
          <p:nvPr/>
        </p:nvCxnSpPr>
        <p:spPr>
          <a:xfrm flipH="1">
            <a:off x="4838400" y="2770200"/>
            <a:ext cx="1448640" cy="12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00" name="直線矢印コネクタ 19"/>
          <p:cNvCxnSpPr>
            <a:stCxn id="791" idx="1"/>
          </p:cNvCxnSpPr>
          <p:nvPr/>
        </p:nvCxnSpPr>
        <p:spPr>
          <a:xfrm flipH="1">
            <a:off x="4838400" y="4387680"/>
            <a:ext cx="534240" cy="18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日付プレースホルダ 14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フッター プレースホルダ 15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A3F2C-E1CF-41B3-9789-BED85BCC139D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95000" y="121932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6" name="図 6" descr=""/>
          <p:cNvPicPr/>
          <p:nvPr/>
        </p:nvPicPr>
        <p:blipFill>
          <a:blip r:embed="rId1"/>
          <a:stretch/>
        </p:blipFill>
        <p:spPr>
          <a:xfrm>
            <a:off x="1866960" y="838080"/>
            <a:ext cx="5981760" cy="5702400"/>
          </a:xfrm>
          <a:prstGeom prst="rect">
            <a:avLst/>
          </a:prstGeom>
          <a:ln w="0">
            <a:noFill/>
          </a:ln>
        </p:spPr>
      </p:pic>
      <p:sp>
        <p:nvSpPr>
          <p:cNvPr id="807" name="日付プレースホルダ 7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フッター プレースホルダ 8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図形グループ 69"/>
          <p:cNvGrpSpPr/>
          <p:nvPr/>
        </p:nvGrpSpPr>
        <p:grpSpPr>
          <a:xfrm>
            <a:off x="2850840" y="1879560"/>
            <a:ext cx="3702240" cy="2583720"/>
            <a:chOff x="2850840" y="1879560"/>
            <a:chExt cx="3702240" cy="2583720"/>
          </a:xfrm>
        </p:grpSpPr>
        <p:pic>
          <p:nvPicPr>
            <p:cNvPr id="533" name="図 37" descr=""/>
            <p:cNvPicPr/>
            <p:nvPr/>
          </p:nvPicPr>
          <p:blipFill>
            <a:blip r:embed="rId1"/>
            <a:stretch/>
          </p:blipFill>
          <p:spPr>
            <a:xfrm>
              <a:off x="3058560" y="1879560"/>
              <a:ext cx="3134160" cy="25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4" name="図形グループ 27"/>
            <p:cNvGrpSpPr/>
            <p:nvPr/>
          </p:nvGrpSpPr>
          <p:grpSpPr>
            <a:xfrm>
              <a:off x="4161240" y="2361960"/>
              <a:ext cx="2391840" cy="1905120"/>
              <a:chOff x="4161240" y="2361960"/>
              <a:chExt cx="2391840" cy="1905120"/>
            </a:xfrm>
          </p:grpSpPr>
          <p:grpSp>
            <p:nvGrpSpPr>
              <p:cNvPr id="535" name="図形グループ 21"/>
              <p:cNvGrpSpPr/>
              <p:nvPr/>
            </p:nvGrpSpPr>
            <p:grpSpPr>
              <a:xfrm>
                <a:off x="4161240" y="2361960"/>
                <a:ext cx="2144520" cy="1905120"/>
                <a:chOff x="4161240" y="2361960"/>
                <a:chExt cx="2144520" cy="1905120"/>
              </a:xfrm>
            </p:grpSpPr>
            <p:grpSp>
              <p:nvGrpSpPr>
                <p:cNvPr id="536" name="円/楕円 50"/>
                <p:cNvGrpSpPr/>
                <p:nvPr/>
              </p:nvGrpSpPr>
              <p:grpSpPr>
                <a:xfrm>
                  <a:off x="4161240" y="2361960"/>
                  <a:ext cx="1342440" cy="1905120"/>
                  <a:chOff x="4161240" y="2361960"/>
                  <a:chExt cx="1342440" cy="1905120"/>
                </a:xfrm>
              </p:grpSpPr>
              <p:pic>
                <p:nvPicPr>
                  <p:cNvPr id="537" name="円/楕円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1240" y="2361960"/>
                    <a:ext cx="1342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"/>
                  <p:cNvSpPr/>
                  <p:nvPr/>
                </p:nvSpPr>
                <p:spPr>
                  <a:xfrm>
                    <a:off x="4422600" y="2663280"/>
                    <a:ext cx="824400" cy="122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39" name="直線矢印コネクタ 51"/>
                <p:cNvCxnSpPr/>
                <p:nvPr/>
              </p:nvCxnSpPr>
              <p:spPr>
                <a:xfrm>
                  <a:off x="5431320" y="3242160"/>
                  <a:ext cx="87480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540" name="TextBox 24"/>
              <p:cNvSpPr/>
              <p:nvPr/>
            </p:nvSpPr>
            <p:spPr>
              <a:xfrm>
                <a:off x="5868720" y="33087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図形グループ 29"/>
            <p:cNvGrpSpPr/>
            <p:nvPr/>
          </p:nvGrpSpPr>
          <p:grpSpPr>
            <a:xfrm>
              <a:off x="2850840" y="2124720"/>
              <a:ext cx="3067560" cy="2055600"/>
              <a:chOff x="2850840" y="2124720"/>
              <a:chExt cx="3067560" cy="2055600"/>
            </a:xfrm>
          </p:grpSpPr>
          <p:grpSp>
            <p:nvGrpSpPr>
              <p:cNvPr id="542" name="図形グループ 22"/>
              <p:cNvGrpSpPr/>
              <p:nvPr/>
            </p:nvGrpSpPr>
            <p:grpSpPr>
              <a:xfrm>
                <a:off x="3361680" y="2124720"/>
                <a:ext cx="2556720" cy="2055600"/>
                <a:chOff x="3361680" y="2124720"/>
                <a:chExt cx="2556720" cy="2055600"/>
              </a:xfrm>
            </p:grpSpPr>
            <p:grpSp>
              <p:nvGrpSpPr>
                <p:cNvPr id="543" name="フリーフォーム 46"/>
                <p:cNvGrpSpPr/>
                <p:nvPr/>
              </p:nvGrpSpPr>
              <p:grpSpPr>
                <a:xfrm>
                  <a:off x="3586320" y="2124720"/>
                  <a:ext cx="2332080" cy="2055600"/>
                  <a:chOff x="3586320" y="2124720"/>
                  <a:chExt cx="2332080" cy="2055600"/>
                </a:xfrm>
              </p:grpSpPr>
              <p:pic>
                <p:nvPicPr>
                  <p:cNvPr id="544" name="フリーフォーム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599400">
                    <a:off x="3672360" y="2308320"/>
                    <a:ext cx="190944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5" name=""/>
                  <p:cNvSpPr/>
                  <p:nvPr/>
                </p:nvSpPr>
                <p:spPr>
                  <a:xfrm rot="818400">
                    <a:off x="3749760" y="2337840"/>
                    <a:ext cx="2004480" cy="162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46" name="直線矢印コネクタ 47"/>
                <p:cNvCxnSpPr/>
                <p:nvPr/>
              </p:nvCxnSpPr>
              <p:spPr>
                <a:xfrm flipH="1" flipV="1">
                  <a:off x="3361680" y="2347560"/>
                  <a:ext cx="825840" cy="542520"/>
                </a:xfrm>
                <a:prstGeom prst="straightConnector1">
                  <a:avLst/>
                </a:prstGeom>
                <a:ln w="38160">
                  <a:solidFill>
                    <a:srgbClr val="3366ff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547" name="TextBox 25"/>
              <p:cNvSpPr/>
              <p:nvPr/>
            </p:nvSpPr>
            <p:spPr>
              <a:xfrm>
                <a:off x="2850840" y="23367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3366ff"/>
                    </a:solidFill>
                    <a:latin typeface="Symbol"/>
                    <a:ea typeface="Symbol"/>
                  </a:rPr>
                  <a:t>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図形グループ 37"/>
            <p:cNvGrpSpPr/>
            <p:nvPr/>
          </p:nvGrpSpPr>
          <p:grpSpPr>
            <a:xfrm>
              <a:off x="3800520" y="2351880"/>
              <a:ext cx="2568600" cy="2111400"/>
              <a:chOff x="3800520" y="2351880"/>
              <a:chExt cx="2568600" cy="2111400"/>
            </a:xfrm>
          </p:grpSpPr>
          <p:cxnSp>
            <p:nvCxnSpPr>
              <p:cNvPr id="549" name="直線矢印コネクタ 41"/>
              <p:cNvCxnSpPr/>
              <p:nvPr/>
            </p:nvCxnSpPr>
            <p:spPr>
              <a:xfrm>
                <a:off x="5325120" y="3818880"/>
                <a:ext cx="459720" cy="460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  <p:sp>
            <p:nvSpPr>
              <p:cNvPr id="550" name="TextBox 26"/>
              <p:cNvSpPr/>
              <p:nvPr/>
            </p:nvSpPr>
            <p:spPr>
              <a:xfrm>
                <a:off x="5702400" y="3988080"/>
                <a:ext cx="66672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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フリーフォーム 43"/>
              <p:cNvGrpSpPr/>
              <p:nvPr/>
            </p:nvGrpSpPr>
            <p:grpSpPr>
              <a:xfrm>
                <a:off x="3800520" y="2351880"/>
                <a:ext cx="1878480" cy="1995480"/>
                <a:chOff x="3800520" y="2351880"/>
                <a:chExt cx="1878480" cy="1995480"/>
              </a:xfrm>
            </p:grpSpPr>
            <p:pic>
              <p:nvPicPr>
                <p:cNvPr id="552" name="フリーフォーム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09520" y="2399760"/>
                  <a:ext cx="1859400" cy="194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"/>
                <p:cNvSpPr/>
                <p:nvPr/>
              </p:nvSpPr>
              <p:spPr>
                <a:xfrm rot="292200">
                  <a:off x="3874680" y="2421720"/>
                  <a:ext cx="1729800" cy="182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Higher harmonic plane &amp; flow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スライド番号プレースホルダ 4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D4962-F2AB-4027-A7E3-67AA1A766C3C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320" y="928440"/>
            <a:ext cx="952488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luctuations of initial collision geometry lead to higher harmonic deformation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eformation is transferred to momentum space by collective expansion (hydrodynamics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higher harmonic anisotropy emerged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TextBox 26"/>
          <p:cNvSpPr/>
          <p:nvPr/>
        </p:nvSpPr>
        <p:spPr>
          <a:xfrm>
            <a:off x="152280" y="4444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imuth.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図 38" descr=""/>
          <p:cNvPicPr/>
          <p:nvPr/>
        </p:nvPicPr>
        <p:blipFill>
          <a:blip r:embed="rId5"/>
          <a:stretch/>
        </p:blipFill>
        <p:spPr>
          <a:xfrm>
            <a:off x="1928880" y="5181480"/>
            <a:ext cx="2374920" cy="368280"/>
          </a:xfrm>
          <a:prstGeom prst="rect">
            <a:avLst/>
          </a:prstGeom>
          <a:ln w="0">
            <a:noFill/>
          </a:ln>
        </p:spPr>
      </p:pic>
      <p:pic>
        <p:nvPicPr>
          <p:cNvPr id="559" name="図 39" descr=""/>
          <p:cNvPicPr/>
          <p:nvPr/>
        </p:nvPicPr>
        <p:blipFill>
          <a:blip r:embed="rId6"/>
          <a:stretch/>
        </p:blipFill>
        <p:spPr>
          <a:xfrm>
            <a:off x="4343400" y="5149800"/>
            <a:ext cx="3809880" cy="419040"/>
          </a:xfrm>
          <a:prstGeom prst="rect">
            <a:avLst/>
          </a:prstGeom>
          <a:ln w="0">
            <a:noFill/>
          </a:ln>
        </p:spPr>
      </p:pic>
      <p:pic>
        <p:nvPicPr>
          <p:cNvPr id="560" name="図 41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7873920" cy="711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6"/>
          <p:cNvSpPr/>
          <p:nvPr/>
        </p:nvSpPr>
        <p:spPr>
          <a:xfrm>
            <a:off x="-88920" y="5054760"/>
            <a:ext cx="213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ion am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日付プレースホルダ 27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フッター プレースホルダ 28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図形グループ 24"/>
          <p:cNvGrpSpPr/>
          <p:nvPr/>
        </p:nvGrpSpPr>
        <p:grpSpPr>
          <a:xfrm>
            <a:off x="623880" y="1523880"/>
            <a:ext cx="4100400" cy="3103560"/>
            <a:chOff x="623880" y="1523880"/>
            <a:chExt cx="4100400" cy="3103560"/>
          </a:xfrm>
        </p:grpSpPr>
        <p:grpSp>
          <p:nvGrpSpPr>
            <p:cNvPr id="565" name="図形グループ 27"/>
            <p:cNvGrpSpPr/>
            <p:nvPr/>
          </p:nvGrpSpPr>
          <p:grpSpPr>
            <a:xfrm>
              <a:off x="623880" y="1523880"/>
              <a:ext cx="4100400" cy="3103560"/>
              <a:chOff x="623880" y="1523880"/>
              <a:chExt cx="4100400" cy="3103560"/>
            </a:xfrm>
          </p:grpSpPr>
          <p:pic>
            <p:nvPicPr>
              <p:cNvPr id="566" name="図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" y="1523880"/>
                <a:ext cx="3871800" cy="3103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7" name="フリーフォーム 8"/>
              <p:cNvGrpSpPr/>
              <p:nvPr/>
            </p:nvGrpSpPr>
            <p:grpSpPr>
              <a:xfrm>
                <a:off x="1536120" y="2755080"/>
                <a:ext cx="2127600" cy="1237320"/>
                <a:chOff x="1536120" y="2755080"/>
                <a:chExt cx="2127600" cy="1237320"/>
              </a:xfrm>
            </p:grpSpPr>
            <p:pic>
              <p:nvPicPr>
                <p:cNvPr id="568" name="フリーフォーム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6120" y="2755080"/>
                  <a:ext cx="2127600" cy="123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>
                  <a:off x="1622160" y="2798280"/>
                  <a:ext cx="19591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TextBox 28"/>
              <p:cNvSpPr/>
              <p:nvPr/>
            </p:nvSpPr>
            <p:spPr>
              <a:xfrm>
                <a:off x="3325680" y="2570040"/>
                <a:ext cx="7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Rid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Box 30"/>
              <p:cNvSpPr/>
              <p:nvPr/>
            </p:nvSpPr>
            <p:spPr>
              <a:xfrm>
                <a:off x="638280" y="1971000"/>
                <a:ext cx="2031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ass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ri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eV/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Box 8"/>
              <p:cNvSpPr/>
              <p:nvPr/>
            </p:nvSpPr>
            <p:spPr>
              <a:xfrm>
                <a:off x="1931760" y="1568520"/>
                <a:ext cx="2792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80, 064912 (200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直線コネクタ 9"/>
            <p:cNvSpPr/>
            <p:nvPr/>
          </p:nvSpPr>
          <p:spPr>
            <a:xfrm>
              <a:off x="1941480" y="3368520"/>
              <a:ext cx="19188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v</a:t>
            </a:r>
            <a:r>
              <a:rPr b="1" lang="en-US" sz="2800" spc="-1" strike="noStrike" baseline="-25000">
                <a:solidFill>
                  <a:srgbClr val="464653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 : possible source of “Ridge” and “Shoulder”</a:t>
            </a:r>
            <a:endParaRPr b="1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5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C4994-046D-4F03-BAF1-EE949530EE67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560" y="5172120"/>
            <a:ext cx="92962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 correlation from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erm ~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subtraction would reduce Ridge and Shoulder ⇒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possible source 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図 19" descr=""/>
          <p:cNvPicPr/>
          <p:nvPr/>
        </p:nvPicPr>
        <p:blipFill>
          <a:blip r:embed="rId3"/>
          <a:stretch/>
        </p:blipFill>
        <p:spPr>
          <a:xfrm>
            <a:off x="4965840" y="5105520"/>
            <a:ext cx="3263760" cy="609480"/>
          </a:xfrm>
          <a:prstGeom prst="rect">
            <a:avLst/>
          </a:prstGeom>
          <a:ln w="0">
            <a:noFill/>
          </a:ln>
        </p:spPr>
      </p:pic>
      <p:sp>
        <p:nvSpPr>
          <p:cNvPr id="578" name="TextBox 21"/>
          <p:cNvSpPr/>
          <p:nvPr/>
        </p:nvSpPr>
        <p:spPr>
          <a:xfrm>
            <a:off x="533520" y="4495680"/>
            <a:ext cx="403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dge : near side long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2"/>
          <p:cNvSpPr/>
          <p:nvPr/>
        </p:nvSpPr>
        <p:spPr>
          <a:xfrm>
            <a:off x="4883040" y="4495680"/>
            <a:ext cx="48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er: double hump at away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rrel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lso long in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図形グループ 30"/>
          <p:cNvGrpSpPr/>
          <p:nvPr/>
        </p:nvGrpSpPr>
        <p:grpSpPr>
          <a:xfrm>
            <a:off x="4800600" y="1828800"/>
            <a:ext cx="5015520" cy="2527560"/>
            <a:chOff x="4800600" y="1828800"/>
            <a:chExt cx="5015520" cy="2527560"/>
          </a:xfrm>
        </p:grpSpPr>
        <p:grpSp>
          <p:nvGrpSpPr>
            <p:cNvPr id="581" name="図形グループ 23"/>
            <p:cNvGrpSpPr/>
            <p:nvPr/>
          </p:nvGrpSpPr>
          <p:grpSpPr>
            <a:xfrm>
              <a:off x="4800600" y="1828800"/>
              <a:ext cx="5015520" cy="2289600"/>
              <a:chOff x="4800600" y="1828800"/>
              <a:chExt cx="5015520" cy="2289600"/>
            </a:xfrm>
          </p:grpSpPr>
          <p:grpSp>
            <p:nvGrpSpPr>
              <p:cNvPr id="582" name="図形グループ 24"/>
              <p:cNvGrpSpPr/>
              <p:nvPr/>
            </p:nvGrpSpPr>
            <p:grpSpPr>
              <a:xfrm>
                <a:off x="4800600" y="2034720"/>
                <a:ext cx="4590720" cy="2083680"/>
                <a:chOff x="4800600" y="2034720"/>
                <a:chExt cx="4590720" cy="2083680"/>
              </a:xfrm>
            </p:grpSpPr>
            <p:pic>
              <p:nvPicPr>
                <p:cNvPr id="583" name="図 1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37280" y="2148840"/>
                  <a:ext cx="4101480" cy="1660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図 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00600" y="2034720"/>
                  <a:ext cx="425160" cy="2031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図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15000" y="3796200"/>
                  <a:ext cx="36763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6" name="TextBox 8"/>
              <p:cNvSpPr/>
              <p:nvPr/>
            </p:nvSpPr>
            <p:spPr>
              <a:xfrm>
                <a:off x="5970600" y="1828800"/>
                <a:ext cx="2792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78, 014901 (2008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Box 18"/>
              <p:cNvSpPr/>
              <p:nvPr/>
            </p:nvSpPr>
            <p:spPr>
              <a:xfrm>
                <a:off x="8841240" y="1994400"/>
                <a:ext cx="97488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p+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●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 Au+A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TextBox 25"/>
            <p:cNvSpPr/>
            <p:nvPr/>
          </p:nvSpPr>
          <p:spPr>
            <a:xfrm>
              <a:off x="7848720" y="398808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houl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直線矢印コネクタ 27"/>
            <p:cNvCxnSpPr>
              <a:stCxn id="588" idx="0"/>
            </p:cNvCxnSpPr>
            <p:nvPr/>
          </p:nvCxnSpPr>
          <p:spPr>
            <a:xfrm flipV="1">
              <a:off x="8463600" y="3530520"/>
              <a:ext cx="616680" cy="457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0" name="直線矢印コネクタ 29"/>
            <p:cNvCxnSpPr>
              <a:stCxn id="588" idx="0"/>
            </p:cNvCxnSpPr>
            <p:nvPr/>
          </p:nvCxnSpPr>
          <p:spPr>
            <a:xfrm flipH="1" flipV="1">
              <a:off x="7848000" y="3530520"/>
              <a:ext cx="616680" cy="457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91" name="TextBox 32"/>
            <p:cNvSpPr/>
            <p:nvPr/>
          </p:nvSpPr>
          <p:spPr>
            <a:xfrm>
              <a:off x="7010280" y="2463840"/>
              <a:ext cx="1663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図 33" descr=""/>
          <p:cNvPicPr/>
          <p:nvPr/>
        </p:nvPicPr>
        <p:blipFill>
          <a:blip r:embed="rId7"/>
          <a:stretch/>
        </p:blipFill>
        <p:spPr>
          <a:xfrm>
            <a:off x="2330280" y="952560"/>
            <a:ext cx="5245200" cy="571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93" name="フリーフォーム 32"/>
          <p:cNvSpPr/>
          <p:nvPr/>
        </p:nvSpPr>
        <p:spPr>
          <a:xfrm rot="883800">
            <a:off x="941040" y="3648240"/>
            <a:ext cx="1474920" cy="56340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フリーフォーム 35"/>
          <p:cNvSpPr/>
          <p:nvPr/>
        </p:nvSpPr>
        <p:spPr>
          <a:xfrm>
            <a:off x="5707080" y="3370320"/>
            <a:ext cx="3591000" cy="36360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日付プレースホルダ 3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フッター プレースホルダ 3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91440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2 particle correlations at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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8AC0-F87B-4AAE-84BD-7E43559C43F8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560" y="4881600"/>
            <a:ext cx="92962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oulder structures almost disappeared at 0-20%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oulder is described by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nd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} at sm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図 7" descr=""/>
          <p:cNvPicPr/>
          <p:nvPr/>
        </p:nvPicPr>
        <p:blipFill>
          <a:blip r:embed="rId1"/>
          <a:stretch/>
        </p:blipFill>
        <p:spPr>
          <a:xfrm>
            <a:off x="1371600" y="1413000"/>
            <a:ext cx="6656400" cy="33876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7"/>
          <p:cNvSpPr/>
          <p:nvPr/>
        </p:nvSpPr>
        <p:spPr>
          <a:xfrm>
            <a:off x="6781680" y="984240"/>
            <a:ext cx="307980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central track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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with forward EP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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"/>
          <p:cNvSpPr/>
          <p:nvPr/>
        </p:nvSpPr>
        <p:spPr>
          <a:xfrm>
            <a:off x="5991120" y="2863800"/>
            <a:ext cx="15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3⊗1-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日付プレースホルダ 9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フッター プレースホルダ 10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1240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2 particle correlations at </a:t>
            </a:r>
            <a:r>
              <a:rPr b="1" lang="en-US" sz="3200" spc="-1" strike="noStrike">
                <a:solidFill>
                  <a:srgbClr val="464653"/>
                </a:solidFill>
                <a:latin typeface="Symbol"/>
                <a:ea typeface="Symbol"/>
              </a:rPr>
              <a:t>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6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D9D92-203B-4440-9BC1-F28B244FCC6C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560" y="5760720"/>
            <a:ext cx="9296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dge and Shoulder are described by higher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 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8" name="図 8" descr=""/>
          <p:cNvPicPr/>
          <p:nvPr/>
        </p:nvPicPr>
        <p:blipFill>
          <a:blip r:embed="rId1"/>
          <a:stretch/>
        </p:blipFill>
        <p:spPr>
          <a:xfrm>
            <a:off x="6286680" y="3114720"/>
            <a:ext cx="1920600" cy="1457280"/>
          </a:xfrm>
          <a:prstGeom prst="rect">
            <a:avLst/>
          </a:prstGeom>
          <a:ln w="0">
            <a:noFill/>
          </a:ln>
        </p:spPr>
      </p:pic>
      <p:pic>
        <p:nvPicPr>
          <p:cNvPr id="609" name="図 11" descr=""/>
          <p:cNvPicPr/>
          <p:nvPr/>
        </p:nvPicPr>
        <p:blipFill>
          <a:blip r:embed="rId2"/>
          <a:stretch/>
        </p:blipFill>
        <p:spPr>
          <a:xfrm>
            <a:off x="6667560" y="888840"/>
            <a:ext cx="2666880" cy="1854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2"/>
          <p:cNvSpPr/>
          <p:nvPr/>
        </p:nvSpPr>
        <p:spPr>
          <a:xfrm>
            <a:off x="8115480" y="34290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k a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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with EP from full FCAL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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6286680" y="2754360"/>
            <a:ext cx="316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EP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6591240" y="4513320"/>
            <a:ext cx="316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2Par. Cor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5"/>
          <p:cNvSpPr/>
          <p:nvPr/>
        </p:nvSpPr>
        <p:spPr>
          <a:xfrm>
            <a:off x="6864480" y="4906800"/>
            <a:ext cx="25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harged particle pair with large rapidity gap e.g.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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図 13" descr=""/>
          <p:cNvPicPr/>
          <p:nvPr/>
        </p:nvPicPr>
        <p:blipFill>
          <a:blip r:embed="rId3"/>
          <a:stretch/>
        </p:blipFill>
        <p:spPr>
          <a:xfrm>
            <a:off x="266760" y="1960560"/>
            <a:ext cx="5914800" cy="390672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4"/>
          <p:cNvSpPr/>
          <p:nvPr/>
        </p:nvSpPr>
        <p:spPr>
          <a:xfrm>
            <a:off x="4457880" y="43718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b+Pb 2.76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図 15" descr=""/>
          <p:cNvPicPr/>
          <p:nvPr/>
        </p:nvPicPr>
        <p:blipFill>
          <a:blip r:embed="rId4"/>
          <a:stretch/>
        </p:blipFill>
        <p:spPr>
          <a:xfrm>
            <a:off x="1446120" y="1181160"/>
            <a:ext cx="4703760" cy="817560"/>
          </a:xfrm>
          <a:prstGeom prst="rect">
            <a:avLst/>
          </a:prstGeom>
          <a:ln w="0">
            <a:noFill/>
          </a:ln>
        </p:spPr>
      </p:pic>
      <p:sp>
        <p:nvSpPr>
          <p:cNvPr id="617" name="TextBox 16"/>
          <p:cNvSpPr/>
          <p:nvPr/>
        </p:nvSpPr>
        <p:spPr>
          <a:xfrm rot="16200000">
            <a:off x="-297720" y="3833280"/>
            <a:ext cx="2219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No Flow Sub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7"/>
          <p:cNvSpPr/>
          <p:nvPr/>
        </p:nvSpPr>
        <p:spPr>
          <a:xfrm>
            <a:off x="2765520" y="2106720"/>
            <a:ext cx="255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d corre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直線矢印コネクタ 20"/>
          <p:cNvCxnSpPr/>
          <p:nvPr/>
        </p:nvCxnSpPr>
        <p:spPr>
          <a:xfrm flipH="1">
            <a:off x="4838040" y="2124000"/>
            <a:ext cx="2299320" cy="170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0" name="日付プレースホルダ 18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フッター プレースホルダ 19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95000" y="914040"/>
            <a:ext cx="89154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dge and Shoulder can be described by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 central collis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Ridge and Shoulder can be described by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peripheral collision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ow is the correlation changed depending on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gap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ulder structure in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Symbol"/>
              </a:rPr>
              <a:t>gap is tested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Symbo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Symbol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Symbo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Symbol"/>
              </a:rPr>
              <a:t> subtract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8600" y="4691160"/>
          <a:ext cx="9410760" cy="1252440"/>
        </p:xfrm>
        <a:graphic>
          <a:graphicData uri="http://schemas.openxmlformats.org/drawingml/2006/table">
            <a:tbl>
              <a:tblPr/>
              <a:tblGrid>
                <a:gridCol w="3137040"/>
                <a:gridCol w="3136680"/>
                <a:gridCol w="313704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eripheral collis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hou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mal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te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rg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t y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t y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228600" y="1523880"/>
          <a:ext cx="9410760" cy="1252800"/>
        </p:xfrm>
        <a:graphic>
          <a:graphicData uri="http://schemas.openxmlformats.org/drawingml/2006/table">
            <a:tbl>
              <a:tblPr/>
              <a:tblGrid>
                <a:gridCol w="3137040"/>
                <a:gridCol w="3136680"/>
                <a:gridCol w="3137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entral collis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hou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mal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Au+Au 200G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escri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rg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Pb+Pb 2.76T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escri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escri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1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スライド番号プレースホルダ 5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20815-6E40-4365-98CE-CC1C02740E76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日付プレースホルダ 7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フッター プレースホルダ 8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図 11" descr=""/>
          <p:cNvPicPr/>
          <p:nvPr/>
        </p:nvPicPr>
        <p:blipFill>
          <a:blip r:embed="rId1"/>
          <a:stretch/>
        </p:blipFill>
        <p:spPr>
          <a:xfrm>
            <a:off x="152280" y="2700360"/>
            <a:ext cx="3784680" cy="363204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Data set &amp; measured value</a:t>
            </a:r>
            <a:endParaRPr b="1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1" name="スライド番号プレースホルダ 4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4771E-2823-451A-A598-64289BD1EAF5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927000"/>
            <a:ext cx="96012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+Au 200GeV, 3.2 billion Minimum Bias  Events taken in 200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2 particle charged hadron correlations at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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, Centrality : 0-50%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72880">
              <a:spcBef>
                <a:spcPts val="499"/>
              </a:spcBef>
              <a:buClr>
                <a:srgbClr val="ff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rigger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= 2~4 GeV,  Associate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= 1~2 GeV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ill Sans MT"/>
                <a:ea typeface="Calibri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} of central tracks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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was measured with Event Plane method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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3" name="図 9" descr=""/>
          <p:cNvPicPr/>
          <p:nvPr/>
        </p:nvPicPr>
        <p:blipFill>
          <a:blip r:embed="rId2"/>
          <a:stretch/>
        </p:blipFill>
        <p:spPr>
          <a:xfrm>
            <a:off x="3809880" y="5334120"/>
            <a:ext cx="2590920" cy="590400"/>
          </a:xfrm>
          <a:prstGeom prst="rect">
            <a:avLst/>
          </a:prstGeom>
          <a:ln w="0">
            <a:noFill/>
          </a:ln>
        </p:spPr>
      </p:pic>
      <p:pic>
        <p:nvPicPr>
          <p:cNvPr id="634" name="図 10" descr=""/>
          <p:cNvPicPr/>
          <p:nvPr/>
        </p:nvPicPr>
        <p:blipFill>
          <a:blip r:embed="rId3"/>
          <a:stretch/>
        </p:blipFill>
        <p:spPr>
          <a:xfrm>
            <a:off x="3886200" y="3352680"/>
            <a:ext cx="2424240" cy="5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Box 12"/>
          <p:cNvSpPr/>
          <p:nvPr/>
        </p:nvSpPr>
        <p:spPr>
          <a:xfrm>
            <a:off x="593640" y="3886200"/>
            <a:ext cx="2911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data]:jet+flow+cross term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47640" y="5345280"/>
            <a:ext cx="3162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mulated Flow with measured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Calibri"/>
              </a:rPr>
              <a:t>-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j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cor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直線矢印コネクタ 15"/>
          <p:cNvCxnSpPr/>
          <p:nvPr/>
        </p:nvCxnSpPr>
        <p:spPr>
          <a:xfrm flipH="1">
            <a:off x="1010880" y="4255560"/>
            <a:ext cx="216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直線矢印コネクタ 17"/>
          <p:cNvCxnSpPr/>
          <p:nvPr/>
        </p:nvCxnSpPr>
        <p:spPr>
          <a:xfrm flipV="1">
            <a:off x="810000" y="4851000"/>
            <a:ext cx="3960" cy="49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9" name="TextBox 18"/>
          <p:cNvSpPr/>
          <p:nvPr/>
        </p:nvSpPr>
        <p:spPr>
          <a:xfrm>
            <a:off x="3589200" y="4724280"/>
            <a:ext cx="31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YAM Method Subtraction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右矢印 29"/>
          <p:cNvGrpSpPr/>
          <p:nvPr/>
        </p:nvGrpSpPr>
        <p:grpSpPr>
          <a:xfrm>
            <a:off x="3657600" y="3932280"/>
            <a:ext cx="3103560" cy="682560"/>
            <a:chOff x="3657600" y="3932280"/>
            <a:chExt cx="3103560" cy="682560"/>
          </a:xfrm>
        </p:grpSpPr>
        <p:pic>
          <p:nvPicPr>
            <p:cNvPr id="641" name="右矢印 29" descr=""/>
            <p:cNvPicPr/>
            <p:nvPr/>
          </p:nvPicPr>
          <p:blipFill>
            <a:blip r:embed="rId4"/>
            <a:stretch/>
          </p:blipFill>
          <p:spPr>
            <a:xfrm>
              <a:off x="3657600" y="3932280"/>
              <a:ext cx="3103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733920" y="4098960"/>
              <a:ext cx="2819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Box 19"/>
          <p:cNvSpPr/>
          <p:nvPr/>
        </p:nvSpPr>
        <p:spPr>
          <a:xfrm>
            <a:off x="6765840" y="3886200"/>
            <a:ext cx="283536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r yield per a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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ri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pai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日付プレースホルダ 18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フッター プレースホルダ 19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図 18" descr=""/>
          <p:cNvPicPr/>
          <p:nvPr/>
        </p:nvPicPr>
        <p:blipFill>
          <a:blip r:embed="rId1"/>
          <a:stretch/>
        </p:blipFill>
        <p:spPr>
          <a:xfrm>
            <a:off x="1440" y="1425600"/>
            <a:ext cx="9872640" cy="30700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92962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v2, v3 and v4{</a:t>
            </a:r>
            <a:r>
              <a:rPr b="1" lang="en-US" sz="2600" spc="-1" strike="noStrike">
                <a:solidFill>
                  <a:srgbClr val="464653"/>
                </a:solidFill>
                <a:latin typeface="Symbol"/>
                <a:ea typeface="Symbol"/>
              </a:rPr>
              <a:t></a:t>
            </a:r>
            <a:r>
              <a:rPr b="1" lang="en-US" sz="2600" spc="-1" strike="noStrike" baseline="-25000">
                <a:solidFill>
                  <a:srgbClr val="464653"/>
                </a:solidFill>
                <a:latin typeface="Symbol"/>
                <a:ea typeface="Symbol"/>
              </a:rPr>
              <a:t>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}  subtracted correlations at </a:t>
            </a:r>
            <a:r>
              <a:rPr b="1" lang="en-US" sz="2600" spc="-1" strike="noStrike">
                <a:solidFill>
                  <a:srgbClr val="464653"/>
                </a:solidFill>
                <a:latin typeface="Symbol"/>
                <a:ea typeface="Symbol"/>
              </a:rPr>
              <a:t></a:t>
            </a:r>
            <a:endParaRPr b="1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8" name="スライド番号プレースホルダ 6"/>
          <p:cNvSpPr/>
          <p:nvPr/>
        </p:nvSpPr>
        <p:spPr>
          <a:xfrm>
            <a:off x="8915400" y="6356520"/>
            <a:ext cx="53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A369-CD38-4E9E-8D28-C1C463992B00}" type="slidenum">
              <a:rPr b="0" lang="ja-JP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日付プレースホルダ 13"/>
          <p:cNvSpPr/>
          <p:nvPr/>
        </p:nvSpPr>
        <p:spPr>
          <a:xfrm>
            <a:off x="457200" y="6356520"/>
            <a:ext cx="14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2011-Sep.21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フッター プレースホルダ 14"/>
          <p:cNvSpPr/>
          <p:nvPr/>
        </p:nvSpPr>
        <p:spPr>
          <a:xfrm>
            <a:off x="2529000" y="6356520"/>
            <a:ext cx="47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T.Todoroki, Univ. of Tsukuba, WPCF 2011 @Hongo 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95000" y="4616280"/>
            <a:ext cx="8915400" cy="14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ulder almost disappeared at centrality 0-10% as previous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” shoulders emerged in peripheral colli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0000f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atic error is relatively lar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1:19:36Z</dcterms:created>
  <dc:creator>轟木 貴人</dc:creator>
  <dc:description/>
  <dc:language>en-US</dc:language>
  <cp:lastModifiedBy>轟木 貴人</cp:lastModifiedBy>
  <dcterms:modified xsi:type="dcterms:W3CDTF">2011-09-22T01:34:54Z</dcterms:modified>
  <cp:revision>1618</cp:revision>
  <dc:subject/>
  <dc:title>スライド 1</dc:title>
</cp:coreProperties>
</file>