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29.png" ContentType="image/png"/>
  <Override PartName="/ppt/media/image24.wmf" ContentType="image/x-wmf"/>
  <Override PartName="/ppt/media/image23.wmf" ContentType="image/x-wmf"/>
  <Override PartName="/ppt/media/image15.wmf" ContentType="image/x-wmf"/>
  <Override PartName="/ppt/media/image7.png" ContentType="image/png"/>
  <Override PartName="/ppt/media/image6.wmf" ContentType="image/x-wmf"/>
  <Override PartName="/ppt/media/image31.wmf" ContentType="image/x-wmf"/>
  <Override PartName="/ppt/media/image11.wmf" ContentType="image/x-wmf"/>
  <Override PartName="/ppt/media/image26.png" ContentType="image/png"/>
  <Override PartName="/ppt/media/image3.png" ContentType="image/png"/>
  <Override PartName="/ppt/media/image27.png" ContentType="image/png"/>
  <Override PartName="/ppt/media/image4.png" ContentType="image/png"/>
  <Override PartName="/ppt/media/image12.wmf" ContentType="image/x-wmf"/>
  <Override PartName="/ppt/media/image8.png" ContentType="image/png"/>
  <Override PartName="/ppt/media/image13.png" ContentType="image/png"/>
  <Override PartName="/ppt/media/image9.png" ContentType="image/png"/>
  <Override PartName="/ppt/media/image10.png" ContentType="image/png"/>
  <Override PartName="/ppt/media/image28.wmf" ContentType="image/x-wmf"/>
  <Override PartName="/ppt/media/image30.png" ContentType="image/png"/>
  <Override PartName="/ppt/media/image5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3A47A-5572-477D-9085-A63038A09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960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774360"/>
            <a:ext cx="8229600" cy="249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504960"/>
            <a:ext cx="8229600" cy="249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F8CAA-C893-4F2E-8BC8-976CCF9A0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960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774360"/>
            <a:ext cx="4015800" cy="52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774360"/>
            <a:ext cx="4015800" cy="52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2638F3-B210-48B0-A53D-97E5BC209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960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300A74-24EB-4784-B540-5222BA412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457200" y="150480"/>
            <a:ext cx="8229600" cy="28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388D30-46D4-478A-8EEA-898767B19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960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774360"/>
            <a:ext cx="4015800" cy="249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774360"/>
            <a:ext cx="4015800" cy="52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504960"/>
            <a:ext cx="4015800" cy="249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680465-ABA2-4E99-9669-22D8F1A40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960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774360"/>
            <a:ext cx="4015800" cy="52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774360"/>
            <a:ext cx="4015800" cy="249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674240" y="3504960"/>
            <a:ext cx="4015800" cy="249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16D92A-A3BF-4ADF-B9EA-171C3DE90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960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774360"/>
            <a:ext cx="4015800" cy="249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774360"/>
            <a:ext cx="4015800" cy="249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504960"/>
            <a:ext cx="8229600" cy="249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7F0294-9ABE-49B7-8EB5-FB6F3EADE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960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774360"/>
            <a:ext cx="8229600" cy="249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57200" y="3504960"/>
            <a:ext cx="8229600" cy="249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6ECC2A-5C70-4D2A-9132-70A9FE484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960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774360"/>
            <a:ext cx="4015800" cy="249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774360"/>
            <a:ext cx="4015800" cy="249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504960"/>
            <a:ext cx="4015800" cy="249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674240" y="3504960"/>
            <a:ext cx="4015800" cy="249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EC9796-22C2-4604-A474-99B3E99ED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960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774360"/>
            <a:ext cx="2649600" cy="249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239640" y="774360"/>
            <a:ext cx="2649600" cy="249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022080" y="774360"/>
            <a:ext cx="2649600" cy="249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57200" y="3504960"/>
            <a:ext cx="2649600" cy="249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239640" y="3504960"/>
            <a:ext cx="2649600" cy="249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6022080" y="3504960"/>
            <a:ext cx="2649600" cy="249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5AFB60-793C-4F90-85E5-9B7E32A56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9ECD02-18FE-4C44-B664-DF306B496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960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774360"/>
            <a:ext cx="4015800" cy="249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774360"/>
            <a:ext cx="4015800" cy="249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504960"/>
            <a:ext cx="4015800" cy="249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504960"/>
            <a:ext cx="4015800" cy="249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81003-A1E9-4759-B884-D7DFE4C3A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960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774360"/>
            <a:ext cx="8229600" cy="52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99A45D-3123-4772-808A-57D832C83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960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774360"/>
            <a:ext cx="8229600" cy="52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8DE5F1-AD99-4387-9A90-D5F2B6A8F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960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774360"/>
            <a:ext cx="4015800" cy="52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774360"/>
            <a:ext cx="4015800" cy="52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CFC8C7-A676-4919-94E5-833458AFD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960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4D2AFD-753C-48FC-AAB7-75BFB89EF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150480"/>
            <a:ext cx="8229600" cy="28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5D5E4D-E2D3-46E8-8F25-BF54F8657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960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774360"/>
            <a:ext cx="4015800" cy="249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774360"/>
            <a:ext cx="4015800" cy="52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504960"/>
            <a:ext cx="4015800" cy="249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8CB9F0-3285-4864-BEEC-0CD592464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960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774360"/>
            <a:ext cx="4015800" cy="52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774360"/>
            <a:ext cx="4015800" cy="249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504960"/>
            <a:ext cx="4015800" cy="249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DB9DE1-BAE3-4910-9601-7B86B75A3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960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774360"/>
            <a:ext cx="4015800" cy="249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774360"/>
            <a:ext cx="4015800" cy="249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504960"/>
            <a:ext cx="8229600" cy="249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C3766B-20D0-4CF3-988A-9B0F9C054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960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774360"/>
            <a:ext cx="8229600" cy="249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504960"/>
            <a:ext cx="8229600" cy="249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F9892E-54C2-490D-8062-44FA86B76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960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774360"/>
            <a:ext cx="4015800" cy="249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774360"/>
            <a:ext cx="4015800" cy="249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504960"/>
            <a:ext cx="4015800" cy="249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504960"/>
            <a:ext cx="4015800" cy="249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52F817-6665-4B30-A314-E41BE4306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960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774360"/>
            <a:ext cx="2649600" cy="249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774360"/>
            <a:ext cx="2649600" cy="249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774360"/>
            <a:ext cx="2649600" cy="249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504960"/>
            <a:ext cx="2649600" cy="249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504960"/>
            <a:ext cx="2649600" cy="249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504960"/>
            <a:ext cx="2649600" cy="249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CDD11-2B11-4606-BD0F-8A9772B60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960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774360"/>
            <a:ext cx="2649600" cy="249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774360"/>
            <a:ext cx="2649600" cy="249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774360"/>
            <a:ext cx="2649600" cy="249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504960"/>
            <a:ext cx="2649600" cy="249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504960"/>
            <a:ext cx="2649600" cy="249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504960"/>
            <a:ext cx="2649600" cy="249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F804B8-DCF8-4452-B770-731C2558D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C8A72D-2CC5-4330-AF78-4F851CA7A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960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457200" y="774360"/>
            <a:ext cx="8229600" cy="52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A2CA90-BD0E-4C09-9608-31976BC4B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960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774360"/>
            <a:ext cx="8229600" cy="52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1CF265-0DD0-44CC-B116-999E52A9D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960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774360"/>
            <a:ext cx="4015800" cy="52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774360"/>
            <a:ext cx="4015800" cy="52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C2F431-7CE4-46A5-BCBE-24629684E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960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69A95F-FB7A-4A18-9D84-858764764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457200" y="150480"/>
            <a:ext cx="8229600" cy="28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6FEBB6-B3CD-4163-AC4F-8B8427EDE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960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774360"/>
            <a:ext cx="4015800" cy="249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774360"/>
            <a:ext cx="4015800" cy="52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504960"/>
            <a:ext cx="4015800" cy="249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3D30EC-365A-4E9A-9668-EB0B6E4BA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960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774360"/>
            <a:ext cx="4015800" cy="52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774360"/>
            <a:ext cx="4015800" cy="249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674240" y="3504960"/>
            <a:ext cx="4015800" cy="249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70D273-6097-4D15-B2CC-D29462F76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960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774360"/>
            <a:ext cx="4015800" cy="249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774360"/>
            <a:ext cx="4015800" cy="249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504960"/>
            <a:ext cx="8229600" cy="249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2AC8E0-C653-4B68-9A14-76132F563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DFA57-079A-4752-ABA2-7500C2BD6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960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774360"/>
            <a:ext cx="8229600" cy="249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57200" y="3504960"/>
            <a:ext cx="8229600" cy="249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62A054-DD77-4EB3-B2A6-C5A374DA3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960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774360"/>
            <a:ext cx="4015800" cy="249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774360"/>
            <a:ext cx="4015800" cy="249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3504960"/>
            <a:ext cx="4015800" cy="249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674240" y="3504960"/>
            <a:ext cx="4015800" cy="249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0938A8-78B7-4250-BF71-0FBBDB34E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960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774360"/>
            <a:ext cx="2649600" cy="249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239640" y="774360"/>
            <a:ext cx="2649600" cy="249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022080" y="774360"/>
            <a:ext cx="2649600" cy="249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57200" y="3504960"/>
            <a:ext cx="2649600" cy="249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239640" y="3504960"/>
            <a:ext cx="2649600" cy="249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6022080" y="3504960"/>
            <a:ext cx="2649600" cy="249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E6A811-FC31-4BBC-BE0D-9F7A3F306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58203F-4402-4176-983A-364AF1F68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960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457200" y="774360"/>
            <a:ext cx="8229600" cy="52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EF2E19-F5C5-4094-B2C3-A502014A0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960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774360"/>
            <a:ext cx="8229600" cy="52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8114F8-22D1-4113-A020-5F2040189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960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774360"/>
            <a:ext cx="4015800" cy="52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774360"/>
            <a:ext cx="4015800" cy="52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0BC757-D522-4B93-B093-E5D5B7685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960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219A01-E8D7-495C-B03D-A43AC7C6D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457200" y="150480"/>
            <a:ext cx="8229600" cy="28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F79CFF-D699-49E4-B979-5FD18B0CA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960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774360"/>
            <a:ext cx="4015800" cy="249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774360"/>
            <a:ext cx="4015800" cy="52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3504960"/>
            <a:ext cx="4015800" cy="249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FCC39D-A549-4B5B-A31B-65E70B98C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960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774360"/>
            <a:ext cx="8229600" cy="52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82E13-FEDB-41C3-95D9-5D77DC3AB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960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774360"/>
            <a:ext cx="4015800" cy="52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774360"/>
            <a:ext cx="4015800" cy="249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674240" y="3504960"/>
            <a:ext cx="4015800" cy="249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EC76AF-10C6-41E8-8D57-0D9211CED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960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774360"/>
            <a:ext cx="4015800" cy="249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774360"/>
            <a:ext cx="4015800" cy="249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3504960"/>
            <a:ext cx="8229600" cy="249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C57129-62C0-4CCA-AF6A-96303A736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960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774360"/>
            <a:ext cx="8229600" cy="249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57200" y="3504960"/>
            <a:ext cx="8229600" cy="249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3E1313-29AE-4F31-B423-80C2FB77B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960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774360"/>
            <a:ext cx="4015800" cy="249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774360"/>
            <a:ext cx="4015800" cy="249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504960"/>
            <a:ext cx="4015800" cy="249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674240" y="3504960"/>
            <a:ext cx="4015800" cy="249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04B148-8D3F-4E34-A3FD-A7E1F42FB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960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774360"/>
            <a:ext cx="2649600" cy="249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3239640" y="774360"/>
            <a:ext cx="2649600" cy="249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6022080" y="774360"/>
            <a:ext cx="2649600" cy="249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457200" y="3504960"/>
            <a:ext cx="2649600" cy="249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3239640" y="3504960"/>
            <a:ext cx="2649600" cy="249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6022080" y="3504960"/>
            <a:ext cx="2649600" cy="249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D51CC4-E0B4-4E53-BAB7-4520B45E0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960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774360"/>
            <a:ext cx="8229600" cy="52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1B675-8B5A-4177-9475-2633AF0F2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960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774360"/>
            <a:ext cx="4015800" cy="52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774360"/>
            <a:ext cx="4015800" cy="52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6A4FB-3756-4169-91F9-CC4F5937A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960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FEA8B-395B-4740-9114-1FA0737EA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150480"/>
            <a:ext cx="8229600" cy="28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13863-5D05-421D-9FEF-99DDAD78A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960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774360"/>
            <a:ext cx="4015800" cy="249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774360"/>
            <a:ext cx="4015800" cy="52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504960"/>
            <a:ext cx="4015800" cy="249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2F08D-9A5D-4B5A-8061-F6974EFB3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960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774360"/>
            <a:ext cx="8229600" cy="52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8A353-5FDF-4803-A7D5-E15C4508D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960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774360"/>
            <a:ext cx="4015800" cy="52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774360"/>
            <a:ext cx="4015800" cy="249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504960"/>
            <a:ext cx="4015800" cy="249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D2BA2-F4A1-4B1E-ADDD-6D24360F9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960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774360"/>
            <a:ext cx="4015800" cy="249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774360"/>
            <a:ext cx="4015800" cy="249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504960"/>
            <a:ext cx="8229600" cy="249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9B6AA-56B1-45BF-A078-B9B9ED0F7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960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774360"/>
            <a:ext cx="8229600" cy="249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504960"/>
            <a:ext cx="8229600" cy="249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5B0D1-4BC3-4B68-B090-44B36DF7A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960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774360"/>
            <a:ext cx="4015800" cy="249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774360"/>
            <a:ext cx="4015800" cy="249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504960"/>
            <a:ext cx="4015800" cy="249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504960"/>
            <a:ext cx="4015800" cy="249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F702B-29F1-41FE-B7FD-D5F00C7B2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960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774360"/>
            <a:ext cx="2649600" cy="249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774360"/>
            <a:ext cx="2649600" cy="249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774360"/>
            <a:ext cx="2649600" cy="249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504960"/>
            <a:ext cx="2649600" cy="249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504960"/>
            <a:ext cx="2649600" cy="249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504960"/>
            <a:ext cx="2649600" cy="249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76C8B-965D-477E-90FC-7FBC71B11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CCFD37-C1F8-41C3-AEBB-1B91D7CCC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960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774360"/>
            <a:ext cx="8229600" cy="52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6F644C-7766-4154-BC6D-958F622FE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960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774360"/>
            <a:ext cx="8229600" cy="52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9528C5-B835-40B8-B3CC-EAF86042C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960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774360"/>
            <a:ext cx="4015800" cy="52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774360"/>
            <a:ext cx="4015800" cy="52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663067-8822-4B5B-A838-830787716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960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931772-C252-4B29-874D-C1FCDAB5C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960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774360"/>
            <a:ext cx="8229600" cy="52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4D439-6F0D-4A92-A21F-1141F1F92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150480"/>
            <a:ext cx="8229600" cy="28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F6DB44-0141-405A-83FC-5E617D374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960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774360"/>
            <a:ext cx="4015800" cy="249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774360"/>
            <a:ext cx="4015800" cy="52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504960"/>
            <a:ext cx="4015800" cy="249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220BA3-CA9D-48AF-B62D-E6E326462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960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774360"/>
            <a:ext cx="4015800" cy="52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774360"/>
            <a:ext cx="4015800" cy="249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504960"/>
            <a:ext cx="4015800" cy="249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134AB2-C8F3-4801-A729-991001473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960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774360"/>
            <a:ext cx="4015800" cy="249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774360"/>
            <a:ext cx="4015800" cy="249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504960"/>
            <a:ext cx="8229600" cy="249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267AFC-55D1-49D1-8165-B484EFF4D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960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774360"/>
            <a:ext cx="8229600" cy="249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504960"/>
            <a:ext cx="8229600" cy="249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841D9D-3A3D-4367-885C-6ACC1969A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960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774360"/>
            <a:ext cx="4015800" cy="249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774360"/>
            <a:ext cx="4015800" cy="249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504960"/>
            <a:ext cx="4015800" cy="249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504960"/>
            <a:ext cx="4015800" cy="249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DE2A39-7D00-46F6-A8BD-AAE54339E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960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774360"/>
            <a:ext cx="2649600" cy="249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774360"/>
            <a:ext cx="2649600" cy="249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774360"/>
            <a:ext cx="2649600" cy="249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504960"/>
            <a:ext cx="2649600" cy="249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504960"/>
            <a:ext cx="2649600" cy="249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504960"/>
            <a:ext cx="2649600" cy="249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5D3532-4731-425E-A15B-FD0714E2A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D1A3B8-1BC1-4CC2-8E36-21B05BB7D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960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774360"/>
            <a:ext cx="8229600" cy="52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2C85FD-9E02-4149-B8EC-B58F7C668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960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774360"/>
            <a:ext cx="8229600" cy="52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D7AFCD-E598-44B2-84C7-EF7BF2114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960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774360"/>
            <a:ext cx="4015800" cy="52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774360"/>
            <a:ext cx="4015800" cy="52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765E8-EC1A-41D9-84B8-BA72D57BF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960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774360"/>
            <a:ext cx="4015800" cy="52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774360"/>
            <a:ext cx="4015800" cy="52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AAFF44-37A9-45EB-BD9E-BD4E9951C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960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1317D8-88D7-4790-B782-94B823FD2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57200" y="150480"/>
            <a:ext cx="8229600" cy="28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185038-CB52-4AEF-923D-65A36C1D3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960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774360"/>
            <a:ext cx="4015800" cy="249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774360"/>
            <a:ext cx="4015800" cy="52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504960"/>
            <a:ext cx="4015800" cy="249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59AF65-3385-4680-A63F-80F7E124F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960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774360"/>
            <a:ext cx="4015800" cy="52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774360"/>
            <a:ext cx="4015800" cy="249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504960"/>
            <a:ext cx="4015800" cy="249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B885FA-FC1D-4349-8632-F78CC9BE2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960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774360"/>
            <a:ext cx="4015800" cy="249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774360"/>
            <a:ext cx="4015800" cy="249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504960"/>
            <a:ext cx="8229600" cy="249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F3943D-FEB4-4C9B-B315-07C28486E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960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774360"/>
            <a:ext cx="8229600" cy="249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504960"/>
            <a:ext cx="8229600" cy="249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3254EF-3B8F-4121-A1B2-55692ABB8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960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774360"/>
            <a:ext cx="4015800" cy="249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774360"/>
            <a:ext cx="4015800" cy="249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504960"/>
            <a:ext cx="4015800" cy="249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504960"/>
            <a:ext cx="4015800" cy="249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9BF085-EE73-47CE-A8A1-6EBCFAC67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960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774360"/>
            <a:ext cx="2649600" cy="249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774360"/>
            <a:ext cx="2649600" cy="249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774360"/>
            <a:ext cx="2649600" cy="249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504960"/>
            <a:ext cx="2649600" cy="249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504960"/>
            <a:ext cx="2649600" cy="249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504960"/>
            <a:ext cx="2649600" cy="249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823487-B245-45F9-85F6-30ECA104C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6B765A-A798-479D-AD8F-9AA74DFE8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960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6A90C-A540-4983-AD13-CA2858BF2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960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774360"/>
            <a:ext cx="8229600" cy="52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79AA22-D17D-4A13-8791-35B0AA5ED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960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774360"/>
            <a:ext cx="8229600" cy="52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E95D06-0D47-4574-A931-4A371BDBE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960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774360"/>
            <a:ext cx="4015800" cy="52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774360"/>
            <a:ext cx="4015800" cy="52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AD37C8-5937-4BE0-B02E-27D17FE64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960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FF8C0A-23E8-47AB-8FB0-590146815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150480"/>
            <a:ext cx="8229600" cy="28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C83B4E-7599-4164-920B-BA2ABD7F8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960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774360"/>
            <a:ext cx="4015800" cy="249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774360"/>
            <a:ext cx="4015800" cy="52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504960"/>
            <a:ext cx="4015800" cy="249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2F00F2-C781-4571-B3DC-C4A4DFFF3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960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774360"/>
            <a:ext cx="4015800" cy="52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774360"/>
            <a:ext cx="4015800" cy="249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504960"/>
            <a:ext cx="4015800" cy="249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FE6041-A033-4379-85B9-57F0EA823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960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774360"/>
            <a:ext cx="4015800" cy="249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774360"/>
            <a:ext cx="4015800" cy="249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504960"/>
            <a:ext cx="8229600" cy="249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606F0F-D1FE-40EA-8359-AF82EEA68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960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774360"/>
            <a:ext cx="8229600" cy="249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504960"/>
            <a:ext cx="8229600" cy="249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1A4962-261C-40FC-8A99-0F37E19BE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960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774360"/>
            <a:ext cx="4015800" cy="249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774360"/>
            <a:ext cx="4015800" cy="249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504960"/>
            <a:ext cx="4015800" cy="249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504960"/>
            <a:ext cx="4015800" cy="249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E3001D-CA35-41DF-B5A1-C26666668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150480"/>
            <a:ext cx="8229600" cy="28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DFA74-7B8D-4F44-825B-74CE2B80F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960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774360"/>
            <a:ext cx="2649600" cy="249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774360"/>
            <a:ext cx="2649600" cy="249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774360"/>
            <a:ext cx="2649600" cy="249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504960"/>
            <a:ext cx="2649600" cy="249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504960"/>
            <a:ext cx="2649600" cy="249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504960"/>
            <a:ext cx="2649600" cy="249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D5B1A3-C1FE-48B8-9416-68B3F76F8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3E9878-0267-4907-B2F4-DAD44F03A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960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774360"/>
            <a:ext cx="8229600" cy="52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6FF814-96A7-4019-B1F0-E1AEDE1FB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960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774360"/>
            <a:ext cx="8229600" cy="52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9D8F9A-0418-4E9E-9011-DF29F75D7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960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774360"/>
            <a:ext cx="4015800" cy="52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774360"/>
            <a:ext cx="4015800" cy="52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8383D5-B0FA-421E-9F70-71284D334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960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54BE65-2CA6-4CC7-A3E0-FD75D5AD2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150480"/>
            <a:ext cx="8229600" cy="28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CC1D3D-D28E-4761-8F75-C851932B9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960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774360"/>
            <a:ext cx="4015800" cy="249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774360"/>
            <a:ext cx="4015800" cy="52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504960"/>
            <a:ext cx="4015800" cy="249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9ADB2C-7B46-4B6F-85D8-359E01639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960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774360"/>
            <a:ext cx="4015800" cy="52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774360"/>
            <a:ext cx="4015800" cy="249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504960"/>
            <a:ext cx="4015800" cy="249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5DCCAC-226F-47CF-9EB4-094543C56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960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774360"/>
            <a:ext cx="4015800" cy="249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774360"/>
            <a:ext cx="4015800" cy="249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504960"/>
            <a:ext cx="8229600" cy="249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ED1657-6864-46CE-83A8-72ED850B8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960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774360"/>
            <a:ext cx="4015800" cy="249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774360"/>
            <a:ext cx="4015800" cy="52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504960"/>
            <a:ext cx="4015800" cy="249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E27CD-9DE7-48B3-AACE-A27A06BF1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960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774360"/>
            <a:ext cx="8229600" cy="249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504960"/>
            <a:ext cx="8229600" cy="249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3D379E-82F5-4D64-A0F3-1CFE2A63E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960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774360"/>
            <a:ext cx="4015800" cy="249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774360"/>
            <a:ext cx="4015800" cy="249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504960"/>
            <a:ext cx="4015800" cy="249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504960"/>
            <a:ext cx="4015800" cy="249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9D5597-FB70-42E2-9FE2-D2E174D27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960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774360"/>
            <a:ext cx="2649600" cy="249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774360"/>
            <a:ext cx="2649600" cy="249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774360"/>
            <a:ext cx="2649600" cy="249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504960"/>
            <a:ext cx="2649600" cy="249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504960"/>
            <a:ext cx="2649600" cy="249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504960"/>
            <a:ext cx="2649600" cy="249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4731CA-2386-4165-B73D-004A6D5CD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3BF85D-B685-4B0C-A6AB-B340BCB5A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960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457200" y="774360"/>
            <a:ext cx="8229600" cy="52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F8EE19-444A-41AA-BBD7-9F2B79BCA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960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774360"/>
            <a:ext cx="8229600" cy="52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B5BE6D-3C22-4E0B-9E73-D2419F1B8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960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774360"/>
            <a:ext cx="4015800" cy="52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774360"/>
            <a:ext cx="4015800" cy="52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11BAFC-E754-4BB9-BABD-C6344B922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960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23B0BD-7BF4-4FA5-BF59-F2E5944E5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457200" y="150480"/>
            <a:ext cx="8229600" cy="28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93D1BC-B1E8-4D62-9D8B-C114FCF5B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960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774360"/>
            <a:ext cx="4015800" cy="249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774360"/>
            <a:ext cx="4015800" cy="52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504960"/>
            <a:ext cx="4015800" cy="249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F84A9A-7B8A-4810-AE44-5383B33C9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960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774360"/>
            <a:ext cx="4015800" cy="52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774360"/>
            <a:ext cx="4015800" cy="249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504960"/>
            <a:ext cx="4015800" cy="249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86CC1-4EE5-4573-ADF3-0D2162CA9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960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774360"/>
            <a:ext cx="4015800" cy="52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774360"/>
            <a:ext cx="4015800" cy="249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74240" y="3504960"/>
            <a:ext cx="4015800" cy="249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52D46B-87BB-4F2B-B740-03FAA90DD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960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774360"/>
            <a:ext cx="4015800" cy="249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774360"/>
            <a:ext cx="4015800" cy="249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504960"/>
            <a:ext cx="8229600" cy="249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A9A52F-D62E-4D5F-84A2-3DBD7F501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960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774360"/>
            <a:ext cx="8229600" cy="249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57200" y="3504960"/>
            <a:ext cx="8229600" cy="249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4ACFDA-AE08-4EE1-92E7-A50F5482C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960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774360"/>
            <a:ext cx="4015800" cy="249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774360"/>
            <a:ext cx="4015800" cy="249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504960"/>
            <a:ext cx="4015800" cy="249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74240" y="3504960"/>
            <a:ext cx="4015800" cy="249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AE9422-B17C-4F75-AE65-F92F80231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960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774360"/>
            <a:ext cx="2649600" cy="249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239640" y="774360"/>
            <a:ext cx="2649600" cy="249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022080" y="774360"/>
            <a:ext cx="2649600" cy="249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57200" y="3504960"/>
            <a:ext cx="2649600" cy="249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239640" y="3504960"/>
            <a:ext cx="2649600" cy="249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6022080" y="3504960"/>
            <a:ext cx="2649600" cy="249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9200B5-0C24-4512-B762-CD359679C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238495-A07A-4682-B9C0-BF5B1A293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960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774360"/>
            <a:ext cx="8229600" cy="52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F00166-2DD4-4212-8CD6-BC199148F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960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774360"/>
            <a:ext cx="8229600" cy="52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BD77ED-102E-4CC4-85C0-688A8587E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960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774360"/>
            <a:ext cx="4015800" cy="52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774360"/>
            <a:ext cx="4015800" cy="52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3A5BBD-BBFC-46ED-9832-825F3B304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960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262481-9EC1-4B58-A6E9-573076AFA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960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774360"/>
            <a:ext cx="4015800" cy="249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774360"/>
            <a:ext cx="4015800" cy="249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504960"/>
            <a:ext cx="8229600" cy="249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83757-F4CA-487C-B483-29C091DEC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150480"/>
            <a:ext cx="8229600" cy="28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E03C41-FBE9-48E0-BC8B-F32DEE27F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960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774360"/>
            <a:ext cx="4015800" cy="249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774360"/>
            <a:ext cx="4015800" cy="52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504960"/>
            <a:ext cx="4015800" cy="249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D2EF62-75CB-4056-A987-2A767F8C5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960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774360"/>
            <a:ext cx="4015800" cy="52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774360"/>
            <a:ext cx="4015800" cy="249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504960"/>
            <a:ext cx="4015800" cy="249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4116D0-F3A4-47BE-B1AF-2C1EAE19B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960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774360"/>
            <a:ext cx="4015800" cy="249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774360"/>
            <a:ext cx="4015800" cy="249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504960"/>
            <a:ext cx="8229600" cy="249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715BB7-36B4-4427-9078-F8EDA91C8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960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774360"/>
            <a:ext cx="8229600" cy="249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504960"/>
            <a:ext cx="8229600" cy="249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044CD3-B59F-4746-9224-25DA2F8CE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960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774360"/>
            <a:ext cx="4015800" cy="249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774360"/>
            <a:ext cx="4015800" cy="249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504960"/>
            <a:ext cx="4015800" cy="249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504960"/>
            <a:ext cx="4015800" cy="249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506838-345A-4AA2-B7E1-2DF6F8EF6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960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774360"/>
            <a:ext cx="2649600" cy="249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774360"/>
            <a:ext cx="2649600" cy="249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774360"/>
            <a:ext cx="2649600" cy="249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504960"/>
            <a:ext cx="2649600" cy="249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504960"/>
            <a:ext cx="2649600" cy="249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504960"/>
            <a:ext cx="2649600" cy="249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C14C16-2474-482A-B505-07C32B2C2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2FCE4E-EFCE-4461-836B-F7B9D676E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960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457200" y="774360"/>
            <a:ext cx="8229600" cy="52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88B4F0-8929-4FF3-887A-3428760C5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960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774360"/>
            <a:ext cx="8229600" cy="52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D0AB30-4359-4612-9E0B-1231D1605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正方形/長方形 1"/>
          <p:cNvSpPr/>
          <p:nvPr/>
        </p:nvSpPr>
        <p:spPr>
          <a:xfrm>
            <a:off x="5200560" y="6575400"/>
            <a:ext cx="3943440" cy="282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960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774360"/>
            <a:ext cx="8229600" cy="52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1f497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1f497d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1f497d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ヒラギノ角ゴ ProN W3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1f497d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1f497d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1f497d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1f497d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1f497d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5362560" y="6575040"/>
            <a:ext cx="1185840" cy="28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26 Mar.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6511680" y="6575040"/>
            <a:ext cx="191124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ja-JP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ja-JP" sz="1200" spc="-1" strike="noStrike">
                <a:solidFill>
                  <a:srgbClr val="ffffff"/>
                </a:solidFill>
                <a:latin typeface="Times New Roman"/>
              </a:rPr>
              <a:t>物理学会年次大会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8422920" y="6517800"/>
            <a:ext cx="6620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1200" spc="-1" strike="noStrike">
                <a:solidFill>
                  <a:srgbClr val="ffffff"/>
                </a:solidFill>
                <a:latin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1238B13-57AF-4B4A-901F-D644098F9E69}" type="slidenum"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/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正方形/長方形 1"/>
          <p:cNvSpPr/>
          <p:nvPr/>
        </p:nvSpPr>
        <p:spPr>
          <a:xfrm>
            <a:off x="5200560" y="6575400"/>
            <a:ext cx="3943440" cy="282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960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457200" y="774360"/>
            <a:ext cx="8229600" cy="52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1f497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1f497d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1f497d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ヒラギノ角ゴ ProN W3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1f497d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1f497d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1f497d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1f497d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1f497d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 type="dt" idx="28"/>
          </p:nvPr>
        </p:nvSpPr>
        <p:spPr>
          <a:xfrm>
            <a:off x="5362560" y="6575040"/>
            <a:ext cx="1185840" cy="28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26 Mar.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 type="ftr" idx="29"/>
          </p:nvPr>
        </p:nvSpPr>
        <p:spPr>
          <a:xfrm>
            <a:off x="6511680" y="6575040"/>
            <a:ext cx="191124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ja-JP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ja-JP" sz="1200" spc="-1" strike="noStrike">
                <a:solidFill>
                  <a:srgbClr val="ffffff"/>
                </a:solidFill>
                <a:latin typeface="Times New Roman"/>
              </a:rPr>
              <a:t>物理学会年次大会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 type="sldNum" idx="30"/>
          </p:nvPr>
        </p:nvSpPr>
        <p:spPr>
          <a:xfrm>
            <a:off x="8422920" y="6517800"/>
            <a:ext cx="6620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1200" spc="-1" strike="noStrike">
                <a:solidFill>
                  <a:srgbClr val="ffffff"/>
                </a:solidFill>
                <a:latin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7B23CE-EE8A-4111-89FB-66A51CF46B39}" type="slidenum"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正方形/長方形 1"/>
          <p:cNvSpPr/>
          <p:nvPr/>
        </p:nvSpPr>
        <p:spPr>
          <a:xfrm>
            <a:off x="5200560" y="6575400"/>
            <a:ext cx="3943440" cy="282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960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457200" y="774360"/>
            <a:ext cx="8229600" cy="52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1f497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1f497d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1f497d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ヒラギノ角ゴ ProN W3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1f497d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1f497d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1f497d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1f497d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1f497d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dt" idx="31"/>
          </p:nvPr>
        </p:nvSpPr>
        <p:spPr>
          <a:xfrm>
            <a:off x="5362560" y="6575040"/>
            <a:ext cx="1185840" cy="28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26 Mar.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 type="ftr" idx="32"/>
          </p:nvPr>
        </p:nvSpPr>
        <p:spPr>
          <a:xfrm>
            <a:off x="6511680" y="6575040"/>
            <a:ext cx="191124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ja-JP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ja-JP" sz="1200" spc="-1" strike="noStrike">
                <a:solidFill>
                  <a:srgbClr val="ffffff"/>
                </a:solidFill>
                <a:latin typeface="Times New Roman"/>
              </a:rPr>
              <a:t>物理学会年次大会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 type="sldNum" idx="33"/>
          </p:nvPr>
        </p:nvSpPr>
        <p:spPr>
          <a:xfrm>
            <a:off x="8422920" y="6517800"/>
            <a:ext cx="6620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1200" spc="-1" strike="noStrike">
                <a:solidFill>
                  <a:srgbClr val="ffffff"/>
                </a:solidFill>
                <a:latin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267D893-A4C8-4D96-99D8-A89CAF9461E7}" type="slidenum"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正方形/長方形 1"/>
          <p:cNvSpPr/>
          <p:nvPr/>
        </p:nvSpPr>
        <p:spPr>
          <a:xfrm>
            <a:off x="5200560" y="6575400"/>
            <a:ext cx="3943440" cy="282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960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457200" y="774360"/>
            <a:ext cx="8229600" cy="52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1f497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1f497d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1f497d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ヒラギノ角ゴ ProN W3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1f497d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1f497d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1f497d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1f497d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1f497d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 type="dt" idx="34"/>
          </p:nvPr>
        </p:nvSpPr>
        <p:spPr>
          <a:xfrm>
            <a:off x="5362560" y="6575040"/>
            <a:ext cx="1185840" cy="28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26 Mar.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 type="ftr" idx="35"/>
          </p:nvPr>
        </p:nvSpPr>
        <p:spPr>
          <a:xfrm>
            <a:off x="6511680" y="6575040"/>
            <a:ext cx="191124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ja-JP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ja-JP" sz="1200" spc="-1" strike="noStrike">
                <a:solidFill>
                  <a:srgbClr val="ffffff"/>
                </a:solidFill>
                <a:latin typeface="Times New Roman"/>
              </a:rPr>
              <a:t>物理学会年次大会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 type="sldNum" idx="36"/>
          </p:nvPr>
        </p:nvSpPr>
        <p:spPr>
          <a:xfrm>
            <a:off x="8422920" y="6517800"/>
            <a:ext cx="6620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1200" spc="-1" strike="noStrike">
                <a:solidFill>
                  <a:srgbClr val="ffffff"/>
                </a:solidFill>
                <a:latin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4D51E5B-222C-469D-AA4C-52003A15D21B}" type="slidenum"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正方形/長方形 1"/>
          <p:cNvSpPr/>
          <p:nvPr/>
        </p:nvSpPr>
        <p:spPr>
          <a:xfrm>
            <a:off x="5200560" y="6575400"/>
            <a:ext cx="3943440" cy="282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960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774360"/>
            <a:ext cx="8229600" cy="52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1f497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1f497d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1f497d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ヒラギノ角ゴ ProN W3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1f497d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1f497d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1f497d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1f497d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1f497d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5362560" y="6575040"/>
            <a:ext cx="1185840" cy="28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26 Mar.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6511680" y="6575040"/>
            <a:ext cx="191124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ja-JP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ja-JP" sz="1200" spc="-1" strike="noStrike">
                <a:solidFill>
                  <a:srgbClr val="ffffff"/>
                </a:solidFill>
                <a:latin typeface="Times New Roman"/>
              </a:rPr>
              <a:t>物理学会年次大会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8422920" y="6517800"/>
            <a:ext cx="6620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1200" spc="-1" strike="noStrike">
                <a:solidFill>
                  <a:srgbClr val="ffffff"/>
                </a:solidFill>
                <a:latin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E9672E-2C72-4B40-99E2-D8B4F30F2CDC}" type="slidenum"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/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正方形/長方形 1"/>
          <p:cNvSpPr/>
          <p:nvPr/>
        </p:nvSpPr>
        <p:spPr>
          <a:xfrm>
            <a:off x="5200560" y="6575400"/>
            <a:ext cx="3943440" cy="282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960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774360"/>
            <a:ext cx="8229600" cy="52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1f497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1f497d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1f497d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ヒラギノ角ゴ ProN W3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1f497d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1f497d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1f497d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1f497d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1f497d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5362560" y="6575040"/>
            <a:ext cx="1185840" cy="28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26 Mar.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6511680" y="6575040"/>
            <a:ext cx="191124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ja-JP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ja-JP" sz="1200" spc="-1" strike="noStrike">
                <a:solidFill>
                  <a:srgbClr val="ffffff"/>
                </a:solidFill>
                <a:latin typeface="Times New Roman"/>
              </a:rPr>
              <a:t>物理学会年次大会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8422920" y="6517800"/>
            <a:ext cx="6620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1200" spc="-1" strike="noStrike">
                <a:solidFill>
                  <a:srgbClr val="ffffff"/>
                </a:solidFill>
                <a:latin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FEDA066-2435-48F5-8C77-54BED0A178C5}" type="slidenum"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/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正方形/長方形 1"/>
          <p:cNvSpPr/>
          <p:nvPr/>
        </p:nvSpPr>
        <p:spPr>
          <a:xfrm>
            <a:off x="5200560" y="6575400"/>
            <a:ext cx="3943440" cy="282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960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457200" y="774360"/>
            <a:ext cx="8229600" cy="52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1f497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1f497d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1f497d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ヒラギノ角ゴ ProN W3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1f497d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1f497d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1f497d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1f497d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1f497d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0"/>
          </p:nvPr>
        </p:nvSpPr>
        <p:spPr>
          <a:xfrm>
            <a:off x="5362560" y="6575040"/>
            <a:ext cx="1185840" cy="28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26 Mar.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11"/>
          </p:nvPr>
        </p:nvSpPr>
        <p:spPr>
          <a:xfrm>
            <a:off x="6511680" y="6575040"/>
            <a:ext cx="191124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ja-JP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ja-JP" sz="1200" spc="-1" strike="noStrike">
                <a:solidFill>
                  <a:srgbClr val="ffffff"/>
                </a:solidFill>
                <a:latin typeface="Times New Roman"/>
              </a:rPr>
              <a:t>物理学会年次大会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12"/>
          </p:nvPr>
        </p:nvSpPr>
        <p:spPr>
          <a:xfrm>
            <a:off x="8422920" y="6517800"/>
            <a:ext cx="6620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1200" spc="-1" strike="noStrike">
                <a:solidFill>
                  <a:srgbClr val="ffffff"/>
                </a:solidFill>
                <a:latin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DC0855F-4EF3-4D0D-A8B6-FDAFF3C564F7}" type="slidenum"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正方形/長方形 1"/>
          <p:cNvSpPr/>
          <p:nvPr/>
        </p:nvSpPr>
        <p:spPr>
          <a:xfrm>
            <a:off x="5200560" y="6575400"/>
            <a:ext cx="3943440" cy="282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960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774360"/>
            <a:ext cx="8229600" cy="52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1f497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1f497d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1f497d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ヒラギノ角ゴ ProN W3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1f497d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1f497d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1f497d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1f497d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1f497d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5362560" y="6575040"/>
            <a:ext cx="1185840" cy="28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26 Mar.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6511680" y="6575040"/>
            <a:ext cx="191124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ja-JP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ja-JP" sz="1200" spc="-1" strike="noStrike">
                <a:solidFill>
                  <a:srgbClr val="ffffff"/>
                </a:solidFill>
                <a:latin typeface="Times New Roman"/>
              </a:rPr>
              <a:t>物理学会年次大会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8422920" y="6517800"/>
            <a:ext cx="6620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1200" spc="-1" strike="noStrike">
                <a:solidFill>
                  <a:srgbClr val="ffffff"/>
                </a:solidFill>
                <a:latin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1E6274-4D18-4759-8AFF-AA132C823C2E}" type="slidenum"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正方形/長方形 1"/>
          <p:cNvSpPr/>
          <p:nvPr/>
        </p:nvSpPr>
        <p:spPr>
          <a:xfrm>
            <a:off x="5200560" y="6575400"/>
            <a:ext cx="3943440" cy="282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960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457200" y="774360"/>
            <a:ext cx="8229600" cy="52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1f497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1f497d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1f497d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ヒラギノ角ゴ ProN W3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1f497d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1f497d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1f497d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1f497d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1f497d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5362560" y="6575040"/>
            <a:ext cx="1185840" cy="28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26 Mar.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ftr" idx="17"/>
          </p:nvPr>
        </p:nvSpPr>
        <p:spPr>
          <a:xfrm>
            <a:off x="6511680" y="6575040"/>
            <a:ext cx="191124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ja-JP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ja-JP" sz="1200" spc="-1" strike="noStrike">
                <a:solidFill>
                  <a:srgbClr val="ffffff"/>
                </a:solidFill>
                <a:latin typeface="Times New Roman"/>
              </a:rPr>
              <a:t>物理学会年次大会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sldNum" idx="18"/>
          </p:nvPr>
        </p:nvSpPr>
        <p:spPr>
          <a:xfrm>
            <a:off x="8422920" y="6517800"/>
            <a:ext cx="6620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1200" spc="-1" strike="noStrike">
                <a:solidFill>
                  <a:srgbClr val="ffffff"/>
                </a:solidFill>
                <a:latin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19B89EF-DBDD-47E1-AE35-5CB4CD201F08}" type="slidenum"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正方形/長方形 1"/>
          <p:cNvSpPr/>
          <p:nvPr/>
        </p:nvSpPr>
        <p:spPr>
          <a:xfrm>
            <a:off x="5200560" y="6575400"/>
            <a:ext cx="3943440" cy="282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960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457200" y="774360"/>
            <a:ext cx="8229600" cy="52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1f497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1f497d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1f497d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ヒラギノ角ゴ ProN W3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1f497d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1f497d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1f497d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1f497d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1f497d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dt" idx="19"/>
          </p:nvPr>
        </p:nvSpPr>
        <p:spPr>
          <a:xfrm>
            <a:off x="5362560" y="6575040"/>
            <a:ext cx="1185840" cy="28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26 Mar.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ftr" idx="20"/>
          </p:nvPr>
        </p:nvSpPr>
        <p:spPr>
          <a:xfrm>
            <a:off x="6511680" y="6575040"/>
            <a:ext cx="191124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ja-JP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ja-JP" sz="1200" spc="-1" strike="noStrike">
                <a:solidFill>
                  <a:srgbClr val="ffffff"/>
                </a:solidFill>
                <a:latin typeface="Times New Roman"/>
              </a:rPr>
              <a:t>物理学会年次大会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 type="sldNum" idx="21"/>
          </p:nvPr>
        </p:nvSpPr>
        <p:spPr>
          <a:xfrm>
            <a:off x="8422920" y="6517800"/>
            <a:ext cx="6620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1200" spc="-1" strike="noStrike">
                <a:solidFill>
                  <a:srgbClr val="ffffff"/>
                </a:solidFill>
                <a:latin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7CBA4C-E1FF-4F86-B666-B9AB90EF891D}" type="slidenum"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正方形/長方形 1"/>
          <p:cNvSpPr/>
          <p:nvPr/>
        </p:nvSpPr>
        <p:spPr>
          <a:xfrm>
            <a:off x="5200560" y="6575400"/>
            <a:ext cx="3943440" cy="282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960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457200" y="774360"/>
            <a:ext cx="8229600" cy="52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1f497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1f497d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1f497d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ヒラギノ角ゴ ProN W3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1f497d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1f497d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1f497d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1f497d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1f497d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22"/>
          </p:nvPr>
        </p:nvSpPr>
        <p:spPr>
          <a:xfrm>
            <a:off x="5362560" y="6575040"/>
            <a:ext cx="1185840" cy="28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26 Mar.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ftr" idx="23"/>
          </p:nvPr>
        </p:nvSpPr>
        <p:spPr>
          <a:xfrm>
            <a:off x="6511680" y="6575040"/>
            <a:ext cx="191124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ja-JP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ja-JP" sz="1200" spc="-1" strike="noStrike">
                <a:solidFill>
                  <a:srgbClr val="ffffff"/>
                </a:solidFill>
                <a:latin typeface="Times New Roman"/>
              </a:rPr>
              <a:t>物理学会年次大会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sldNum" idx="24"/>
          </p:nvPr>
        </p:nvSpPr>
        <p:spPr>
          <a:xfrm>
            <a:off x="8422920" y="6517800"/>
            <a:ext cx="6620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1200" spc="-1" strike="noStrike">
                <a:solidFill>
                  <a:srgbClr val="ffffff"/>
                </a:solidFill>
                <a:latin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DE347C-53DB-419A-A4EE-F02E2C5B12D1}" type="slidenum"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正方形/長方形 1"/>
          <p:cNvSpPr/>
          <p:nvPr/>
        </p:nvSpPr>
        <p:spPr>
          <a:xfrm>
            <a:off x="5200560" y="6575400"/>
            <a:ext cx="3943440" cy="282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960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457200" y="774360"/>
            <a:ext cx="8229600" cy="52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1f497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1f497d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1f497d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ヒラギノ角ゴ ProN W3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1f497d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1f497d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1f497d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1f497d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1f497d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dt" idx="25"/>
          </p:nvPr>
        </p:nvSpPr>
        <p:spPr>
          <a:xfrm>
            <a:off x="5362560" y="6575040"/>
            <a:ext cx="1185840" cy="28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26 Mar.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ftr" idx="26"/>
          </p:nvPr>
        </p:nvSpPr>
        <p:spPr>
          <a:xfrm>
            <a:off x="6511680" y="6575040"/>
            <a:ext cx="191124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ja-JP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ja-JP" sz="1200" spc="-1" strike="noStrike">
                <a:solidFill>
                  <a:srgbClr val="ffffff"/>
                </a:solidFill>
                <a:latin typeface="Times New Roman"/>
              </a:rPr>
              <a:t>物理学会年次大会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 type="sldNum" idx="27"/>
          </p:nvPr>
        </p:nvSpPr>
        <p:spPr>
          <a:xfrm>
            <a:off x="8422920" y="6517800"/>
            <a:ext cx="6620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1200" spc="-1" strike="noStrike">
                <a:solidFill>
                  <a:srgbClr val="ffffff"/>
                </a:solidFill>
                <a:latin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CEF7F3-309E-4D31-86F3-AE78160E46A8}" type="slidenum"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wmf"/><Relationship Id="rId4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wmf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1146240"/>
            <a:ext cx="7772400" cy="2216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wo particle correlations with respect to higher harmonic plane in Au+Au 200 GeV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ollisions at RHIC-PHENIX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subTitle"/>
          </p:nvPr>
        </p:nvSpPr>
        <p:spPr>
          <a:xfrm>
            <a:off x="685440" y="3513240"/>
            <a:ext cx="68389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1f497d"/>
                </a:solidFill>
                <a:latin typeface="Arial"/>
              </a:rPr>
              <a:t>Takahito Todoroki for the PHENIX Collaboration</a:t>
            </a: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1f497d"/>
                </a:solidFill>
                <a:latin typeface="Arial"/>
              </a:rPr>
              <a:t>Univ. of Tsukuba, RIKEN Nishina Center</a:t>
            </a: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JPS Annual Meeting 2012, Mar. 24-27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@Kwansei Gakuin </a:t>
            </a: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06" name="日付プレースホルダー 1"/>
          <p:cNvSpPr/>
          <p:nvPr/>
        </p:nvSpPr>
        <p:spPr>
          <a:xfrm>
            <a:off x="5362560" y="6575400"/>
            <a:ext cx="118584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26 Mar. 20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7" name="図 8" descr=""/>
          <p:cNvPicPr/>
          <p:nvPr/>
        </p:nvPicPr>
        <p:blipFill>
          <a:blip r:embed="rId1"/>
          <a:stretch/>
        </p:blipFill>
        <p:spPr>
          <a:xfrm>
            <a:off x="816120" y="5376960"/>
            <a:ext cx="1954080" cy="636480"/>
          </a:xfrm>
          <a:prstGeom prst="rect">
            <a:avLst/>
          </a:prstGeom>
          <a:ln w="0">
            <a:noFill/>
          </a:ln>
        </p:spPr>
      </p:pic>
      <p:pic>
        <p:nvPicPr>
          <p:cNvPr id="508" name="図 6" descr=""/>
          <p:cNvPicPr/>
          <p:nvPr/>
        </p:nvPicPr>
        <p:blipFill>
          <a:blip r:embed="rId2"/>
          <a:stretch/>
        </p:blipFill>
        <p:spPr>
          <a:xfrm>
            <a:off x="3357720" y="5376960"/>
            <a:ext cx="2619360" cy="728640"/>
          </a:xfrm>
          <a:prstGeom prst="rect">
            <a:avLst/>
          </a:prstGeom>
          <a:ln w="0">
            <a:noFill/>
          </a:ln>
        </p:spPr>
      </p:pic>
      <p:pic>
        <p:nvPicPr>
          <p:cNvPr id="509" name="図 7" descr=""/>
          <p:cNvPicPr/>
          <p:nvPr/>
        </p:nvPicPr>
        <p:blipFill>
          <a:blip r:embed="rId3"/>
          <a:stretch/>
        </p:blipFill>
        <p:spPr>
          <a:xfrm>
            <a:off x="6361200" y="5265720"/>
            <a:ext cx="2082600" cy="901800"/>
          </a:xfrm>
          <a:prstGeom prst="rect">
            <a:avLst/>
          </a:prstGeom>
          <a:ln w="0">
            <a:noFill/>
          </a:ln>
        </p:spPr>
      </p:pic>
      <p:sp>
        <p:nvSpPr>
          <p:cNvPr id="510" name="フッター プレースホルダー 4"/>
          <p:cNvSpPr/>
          <p:nvPr/>
        </p:nvSpPr>
        <p:spPr>
          <a:xfrm>
            <a:off x="6512040" y="6575400"/>
            <a:ext cx="191124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ja-JP" sz="1200" spc="-1" strike="noStrike">
                <a:solidFill>
                  <a:srgbClr val="ffffff"/>
                </a:solidFill>
                <a:latin typeface="Calibri"/>
              </a:rPr>
              <a:t>物理学会年次大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スライド番号プレースホルダー 7"/>
          <p:cNvSpPr/>
          <p:nvPr/>
        </p:nvSpPr>
        <p:spPr>
          <a:xfrm>
            <a:off x="8423280" y="6518160"/>
            <a:ext cx="6620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F9831B0-21E8-43C5-BBA1-13FB4C60FD86}" type="slidenum"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/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9600" cy="6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 txBox="1"/>
          <p:nvPr/>
        </p:nvSpPr>
        <p:spPr>
          <a:xfrm>
            <a:off x="457200" y="774720"/>
            <a:ext cx="8229600" cy="574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1f497d"/>
                </a:solidFill>
                <a:latin typeface="Arial"/>
              </a:rPr>
              <a:t>Measured two particle correlations with trigger selection relative to </a:t>
            </a:r>
            <a:r>
              <a:rPr b="1" lang="en-US" sz="2600" spc="-1" strike="noStrike">
                <a:solidFill>
                  <a:srgbClr val="1f497d"/>
                </a:solidFill>
                <a:latin typeface="Symbol"/>
                <a:ea typeface="Symbol"/>
              </a:rPr>
              <a:t></a:t>
            </a:r>
            <a:r>
              <a:rPr b="1" lang="en-US" sz="2600" spc="-1" strike="noStrike" baseline="-25000">
                <a:solidFill>
                  <a:srgbClr val="1f497d"/>
                </a:solidFill>
                <a:latin typeface="Symbol"/>
                <a:ea typeface="Symbol"/>
              </a:rPr>
              <a:t></a:t>
            </a:r>
            <a:r>
              <a:rPr b="1" lang="en-US" sz="2600" spc="-1" strike="noStrike">
                <a:solidFill>
                  <a:srgbClr val="1f497d"/>
                </a:solidFill>
                <a:latin typeface="Arial"/>
                <a:ea typeface="ＭＳ Ｐゴシック"/>
              </a:rPr>
              <a:t> &amp; </a:t>
            </a:r>
            <a:r>
              <a:rPr b="1" lang="en-US" sz="2600" spc="-1" strike="noStrike">
                <a:solidFill>
                  <a:srgbClr val="1f497d"/>
                </a:solidFill>
                <a:latin typeface="Symbol"/>
                <a:ea typeface="Symbol"/>
              </a:rPr>
              <a:t></a:t>
            </a:r>
            <a:r>
              <a:rPr b="1" lang="en-US" sz="2600" spc="-1" strike="noStrike" baseline="-25000">
                <a:solidFill>
                  <a:srgbClr val="1f497d"/>
                </a:solidFill>
                <a:latin typeface="Symbol"/>
                <a:ea typeface="Symbol"/>
              </a:rPr>
              <a:t></a:t>
            </a:r>
            <a:endParaRPr b="1" lang="en-US" sz="2600" spc="-1" strike="noStrike">
              <a:solidFill>
                <a:srgbClr val="1f497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1f497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1f497d"/>
                </a:solidFill>
                <a:latin typeface="Symbol"/>
                <a:ea typeface="Symbol"/>
              </a:rPr>
              <a:t></a:t>
            </a:r>
            <a:r>
              <a:rPr b="1" lang="en-US" sz="2600" spc="-1" strike="noStrike" baseline="-25000">
                <a:solidFill>
                  <a:srgbClr val="1f497d"/>
                </a:solidFill>
                <a:latin typeface="Symbol"/>
                <a:ea typeface="Symbol"/>
              </a:rPr>
              <a:t></a:t>
            </a:r>
            <a:r>
              <a:rPr b="1" lang="en-US" sz="2600" spc="-1" strike="noStrike">
                <a:solidFill>
                  <a:srgbClr val="1f497d"/>
                </a:solidFill>
                <a:latin typeface="Arial"/>
              </a:rPr>
              <a:t>dependent correlations show two competitive effects</a:t>
            </a:r>
            <a:endParaRPr b="1" lang="en-US" sz="2600" spc="-1" strike="noStrike">
              <a:solidFill>
                <a:srgbClr val="1f497d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way-side peak shift to in/out of plane with in/out of plane trig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1f497d"/>
                </a:solidFill>
                <a:latin typeface="Symbol"/>
                <a:ea typeface="Symbol"/>
              </a:rPr>
              <a:t></a:t>
            </a:r>
            <a:r>
              <a:rPr b="1" lang="en-US" sz="2600" spc="-1" strike="noStrike" baseline="-25000">
                <a:solidFill>
                  <a:srgbClr val="1f497d"/>
                </a:solidFill>
                <a:latin typeface="Symbol"/>
                <a:ea typeface="Symbol"/>
              </a:rPr>
              <a:t></a:t>
            </a:r>
            <a:r>
              <a:rPr b="1" lang="en-US" sz="26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1f497d"/>
                </a:solidFill>
                <a:latin typeface="Arial"/>
              </a:rPr>
              <a:t>harmonic plane dependence wouldn’t be seen</a:t>
            </a:r>
            <a:endParaRPr b="1" lang="en-US" sz="2600" spc="-1" strike="noStrike">
              <a:solidFill>
                <a:srgbClr val="1f497d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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ominated by almond sha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ominated by fluctu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27" name="日付プレースホルダー 3"/>
          <p:cNvSpPr/>
          <p:nvPr/>
        </p:nvSpPr>
        <p:spPr>
          <a:xfrm>
            <a:off x="5362560" y="6575400"/>
            <a:ext cx="118584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26 Mar. 20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フッター プレースホルダー 1"/>
          <p:cNvSpPr/>
          <p:nvPr/>
        </p:nvSpPr>
        <p:spPr>
          <a:xfrm>
            <a:off x="6512040" y="6575400"/>
            <a:ext cx="191124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ja-JP" sz="1200" spc="-1" strike="noStrike">
                <a:solidFill>
                  <a:srgbClr val="ffffff"/>
                </a:solidFill>
                <a:latin typeface="Calibri"/>
              </a:rPr>
              <a:t>物理学会年次大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スライド番号プレースホルダー 6"/>
          <p:cNvSpPr/>
          <p:nvPr/>
        </p:nvSpPr>
        <p:spPr>
          <a:xfrm>
            <a:off x="8423280" y="6518160"/>
            <a:ext cx="6620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FBDF51-505F-4E9B-BCA3-D28778BC8270}" type="slidenum"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/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2688840"/>
            <a:ext cx="8229600" cy="6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Back Up Slides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日付プレースホルダー 3"/>
          <p:cNvSpPr/>
          <p:nvPr/>
        </p:nvSpPr>
        <p:spPr>
          <a:xfrm>
            <a:off x="5362560" y="6575400"/>
            <a:ext cx="118584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26 Mar. 20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フッター プレースホルダー 1"/>
          <p:cNvSpPr/>
          <p:nvPr/>
        </p:nvSpPr>
        <p:spPr>
          <a:xfrm>
            <a:off x="6512040" y="6575400"/>
            <a:ext cx="191124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ja-JP" sz="1200" spc="-1" strike="noStrike">
                <a:solidFill>
                  <a:srgbClr val="ffffff"/>
                </a:solidFill>
                <a:latin typeface="Calibri"/>
              </a:rPr>
              <a:t>物理学会年次大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スライド番号プレースホルダー 6"/>
          <p:cNvSpPr/>
          <p:nvPr/>
        </p:nvSpPr>
        <p:spPr>
          <a:xfrm>
            <a:off x="8423280" y="6518160"/>
            <a:ext cx="6620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F9425E-6283-4BDB-9F29-8E46E1112D04}" type="slidenum"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/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"/>
          <p:cNvSpPr txBox="1"/>
          <p:nvPr/>
        </p:nvSpPr>
        <p:spPr>
          <a:xfrm>
            <a:off x="457200" y="4960440"/>
            <a:ext cx="8229600" cy="116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550"/>
              </a:spcBef>
              <a:buClr>
                <a:srgbClr val="1f497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1f497d"/>
                </a:solidFill>
                <a:latin typeface="Arial"/>
              </a:rPr>
              <a:t>v</a:t>
            </a:r>
            <a:r>
              <a:rPr b="1" lang="en-US" sz="2200" spc="-1" strike="noStrike" baseline="-25000">
                <a:solidFill>
                  <a:srgbClr val="1f497d"/>
                </a:solidFill>
                <a:latin typeface="Arial"/>
              </a:rPr>
              <a:t>3</a:t>
            </a:r>
            <a:r>
              <a:rPr b="1" lang="en-US" sz="2200" spc="-1" strike="noStrike">
                <a:solidFill>
                  <a:srgbClr val="1f497d"/>
                </a:solidFill>
                <a:latin typeface="Arial"/>
              </a:rPr>
              <a:t> is comparable to v</a:t>
            </a:r>
            <a:r>
              <a:rPr b="1" lang="en-US" sz="2200" spc="-1" strike="noStrike" baseline="-25000">
                <a:solidFill>
                  <a:srgbClr val="1f497d"/>
                </a:solidFill>
                <a:latin typeface="Arial"/>
              </a:rPr>
              <a:t>2</a:t>
            </a:r>
            <a:r>
              <a:rPr b="1" lang="en-US" sz="2200" spc="-1" strike="noStrike">
                <a:solidFill>
                  <a:srgbClr val="1f497d"/>
                </a:solidFill>
                <a:latin typeface="Arial"/>
              </a:rPr>
              <a:t> at 0~10%</a:t>
            </a: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  <a:p>
            <a:pPr marL="284400" indent="-284400">
              <a:spcBef>
                <a:spcPts val="550"/>
              </a:spcBef>
              <a:buClr>
                <a:srgbClr val="1f497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1f497d"/>
                </a:solidFill>
                <a:latin typeface="Arial"/>
              </a:rPr>
              <a:t>v</a:t>
            </a:r>
            <a:r>
              <a:rPr b="1" lang="en-US" sz="2200" spc="-1" strike="noStrike" baseline="-25000">
                <a:solidFill>
                  <a:srgbClr val="1f497d"/>
                </a:solidFill>
                <a:latin typeface="Arial"/>
              </a:rPr>
              <a:t>2</a:t>
            </a:r>
            <a:r>
              <a:rPr b="1" lang="en-US" sz="2200" spc="-1" strike="noStrike">
                <a:solidFill>
                  <a:srgbClr val="1f497d"/>
                </a:solidFill>
                <a:latin typeface="Arial"/>
              </a:rPr>
              <a:t> rises up when centrality goes up, but v</a:t>
            </a:r>
            <a:r>
              <a:rPr b="1" lang="en-US" sz="2200" spc="-1" strike="noStrike" baseline="-25000">
                <a:solidFill>
                  <a:srgbClr val="1f497d"/>
                </a:solidFill>
                <a:latin typeface="Arial"/>
              </a:rPr>
              <a:t>3</a:t>
            </a:r>
            <a:r>
              <a:rPr b="1" lang="en-US" sz="2200" spc="-1" strike="noStrike">
                <a:solidFill>
                  <a:srgbClr val="1f497d"/>
                </a:solidFill>
                <a:latin typeface="Arial"/>
              </a:rPr>
              <a:t> hardly does</a:t>
            </a: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  <a:p>
            <a:pPr marL="284400" indent="-284400">
              <a:spcBef>
                <a:spcPts val="550"/>
              </a:spcBef>
              <a:buClr>
                <a:srgbClr val="1f497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1f497d"/>
                </a:solidFill>
                <a:latin typeface="Arial"/>
              </a:rPr>
              <a:t>v</a:t>
            </a:r>
            <a:r>
              <a:rPr b="1" lang="en-US" sz="2200" spc="-1" strike="noStrike" baseline="-25000">
                <a:solidFill>
                  <a:srgbClr val="1f497d"/>
                </a:solidFill>
                <a:latin typeface="Arial"/>
              </a:rPr>
              <a:t>4</a:t>
            </a:r>
            <a:r>
              <a:rPr b="1" lang="en-US" sz="2200" spc="-1" strike="noStrike">
                <a:solidFill>
                  <a:srgbClr val="1f497d"/>
                </a:solidFill>
                <a:latin typeface="Arial"/>
              </a:rPr>
              <a:t>{</a:t>
            </a:r>
            <a:r>
              <a:rPr b="1" lang="en-US" sz="2200" spc="-1" strike="noStrike">
                <a:solidFill>
                  <a:srgbClr val="1f497d"/>
                </a:solidFill>
                <a:latin typeface="Symbol"/>
                <a:ea typeface="Symbol"/>
              </a:rPr>
              <a:t></a:t>
            </a:r>
            <a:r>
              <a:rPr b="1" lang="en-US" sz="2200" spc="-1" strike="noStrike" baseline="-25000">
                <a:solidFill>
                  <a:srgbClr val="1f497d"/>
                </a:solidFill>
                <a:latin typeface="Arial"/>
              </a:rPr>
              <a:t>4</a:t>
            </a:r>
            <a:r>
              <a:rPr b="1" lang="en-US" sz="2200" spc="-1" strike="noStrike">
                <a:solidFill>
                  <a:srgbClr val="1f497d"/>
                </a:solidFill>
                <a:latin typeface="Arial"/>
              </a:rPr>
              <a:t>} ~ 2 x v</a:t>
            </a:r>
            <a:r>
              <a:rPr b="1" lang="en-US" sz="2200" spc="-1" strike="noStrike" baseline="-25000">
                <a:solidFill>
                  <a:srgbClr val="1f497d"/>
                </a:solidFill>
                <a:latin typeface="Arial"/>
              </a:rPr>
              <a:t>4</a:t>
            </a:r>
            <a:r>
              <a:rPr b="1" lang="en-US" sz="2200" spc="-1" strike="noStrike">
                <a:solidFill>
                  <a:srgbClr val="1f497d"/>
                </a:solidFill>
                <a:latin typeface="Arial"/>
              </a:rPr>
              <a:t>{</a:t>
            </a:r>
            <a:r>
              <a:rPr b="1" lang="en-US" sz="2200" spc="-1" strike="noStrike">
                <a:solidFill>
                  <a:srgbClr val="1f497d"/>
                </a:solidFill>
                <a:latin typeface="Symbol"/>
                <a:ea typeface="Symbol"/>
              </a:rPr>
              <a:t></a:t>
            </a:r>
            <a:r>
              <a:rPr b="1" lang="en-US" sz="2200" spc="-1" strike="noStrike" baseline="-25000">
                <a:solidFill>
                  <a:srgbClr val="1f497d"/>
                </a:solidFill>
                <a:latin typeface="Arial"/>
              </a:rPr>
              <a:t>2</a:t>
            </a:r>
            <a:r>
              <a:rPr b="1" lang="en-US" sz="2200" spc="-1" strike="noStrike">
                <a:solidFill>
                  <a:srgbClr val="1f497d"/>
                </a:solidFill>
                <a:latin typeface="Arial"/>
              </a:rPr>
              <a:t>}</a:t>
            </a: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  <a:p>
            <a:pPr marL="284400" indent="-284400">
              <a:spcBef>
                <a:spcPts val="550"/>
              </a:spcBef>
              <a:buClr>
                <a:srgbClr val="1f497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35" name="日付プレースホルダー 3"/>
          <p:cNvSpPr/>
          <p:nvPr/>
        </p:nvSpPr>
        <p:spPr>
          <a:xfrm>
            <a:off x="5362560" y="6575400"/>
            <a:ext cx="118584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26 Mar. 20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6" name="Picture 2" descr="new_vncom_plot2"/>
          <p:cNvPicPr/>
          <p:nvPr/>
        </p:nvPicPr>
        <p:blipFill>
          <a:blip r:embed="rId1"/>
          <a:stretch/>
        </p:blipFill>
        <p:spPr>
          <a:xfrm>
            <a:off x="844560" y="982800"/>
            <a:ext cx="7648560" cy="3978000"/>
          </a:xfrm>
          <a:prstGeom prst="rect">
            <a:avLst/>
          </a:prstGeom>
          <a:ln w="0">
            <a:noFill/>
          </a:ln>
        </p:spPr>
      </p:pic>
      <p:sp>
        <p:nvSpPr>
          <p:cNvPr id="737" name="Rectangle 4"/>
          <p:cNvSpPr/>
          <p:nvPr/>
        </p:nvSpPr>
        <p:spPr>
          <a:xfrm>
            <a:off x="6453360" y="4710240"/>
            <a:ext cx="26632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charged particle v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Calibri"/>
              </a:rPr>
              <a:t>n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 : |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|&lt;0.35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event plane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Calibri"/>
              </a:rPr>
              <a:t>n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 : |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|=1.0~2.8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Text Box 8"/>
          <p:cNvSpPr/>
          <p:nvPr/>
        </p:nvSpPr>
        <p:spPr>
          <a:xfrm>
            <a:off x="5893560" y="789120"/>
            <a:ext cx="25855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RL.107.252301 (ppg13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9600" cy="6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Charged hadron v</a:t>
            </a:r>
            <a:r>
              <a:rPr b="1" lang="en-US" sz="2300" spc="-1" strike="noStrike" baseline="-25000">
                <a:solidFill>
                  <a:srgbClr val="000000"/>
                </a:solidFill>
                <a:latin typeface="Arial"/>
              </a:rPr>
              <a:t>n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Centrality and p</a:t>
            </a:r>
            <a:r>
              <a:rPr b="1" lang="en-US" sz="23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dependences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フッター プレースホルダー 1"/>
          <p:cNvSpPr/>
          <p:nvPr/>
        </p:nvSpPr>
        <p:spPr>
          <a:xfrm>
            <a:off x="6512040" y="6575400"/>
            <a:ext cx="191124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ja-JP" sz="1200" spc="-1" strike="noStrike">
                <a:solidFill>
                  <a:srgbClr val="ffffff"/>
                </a:solidFill>
                <a:latin typeface="Calibri"/>
              </a:rPr>
              <a:t>物理学会年次大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スライド番号プレースホルダー 6"/>
          <p:cNvSpPr/>
          <p:nvPr/>
        </p:nvSpPr>
        <p:spPr>
          <a:xfrm>
            <a:off x="8423280" y="6518160"/>
            <a:ext cx="6620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118B130-37CE-4090-A015-78C443AB323B}" type="slidenum"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/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9600" cy="6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egeneracy among models disentangled by v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 txBox="1"/>
          <p:nvPr/>
        </p:nvSpPr>
        <p:spPr>
          <a:xfrm>
            <a:off x="457200" y="4662360"/>
            <a:ext cx="8229600" cy="14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550"/>
              </a:spcBef>
              <a:buClr>
                <a:srgbClr val="1f497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1f497d"/>
                </a:solidFill>
                <a:latin typeface="Arial"/>
              </a:rPr>
              <a:t>v</a:t>
            </a:r>
            <a:r>
              <a:rPr b="1" lang="en-US" sz="2200" spc="-1" strike="noStrike" baseline="-25000">
                <a:solidFill>
                  <a:srgbClr val="1f497d"/>
                </a:solidFill>
                <a:latin typeface="Arial"/>
              </a:rPr>
              <a:t>3</a:t>
            </a:r>
            <a:r>
              <a:rPr b="1" lang="en-US" sz="2200" spc="-1" strike="noStrike">
                <a:solidFill>
                  <a:srgbClr val="1f497d"/>
                </a:solidFill>
                <a:latin typeface="Arial"/>
              </a:rPr>
              <a:t> seems to prefer low viscosity</a:t>
            </a: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  <a:p>
            <a:pPr lvl="1" marL="639000" indent="-24552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lauber+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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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orks bet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GC-KLN+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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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fail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550"/>
              </a:spcBef>
              <a:buClr>
                <a:srgbClr val="1f497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1f497d"/>
                </a:solidFill>
                <a:latin typeface="Arial"/>
              </a:rPr>
              <a:t>v</a:t>
            </a:r>
            <a:r>
              <a:rPr b="1" lang="en-US" sz="2200" spc="-1" strike="noStrike" baseline="-25000">
                <a:solidFill>
                  <a:srgbClr val="1f497d"/>
                </a:solidFill>
                <a:latin typeface="Arial"/>
              </a:rPr>
              <a:t>n</a:t>
            </a:r>
            <a:r>
              <a:rPr b="1" lang="en-US" sz="2200" spc="-1" strike="noStrike">
                <a:solidFill>
                  <a:srgbClr val="1f497d"/>
                </a:solidFill>
                <a:latin typeface="Arial"/>
              </a:rPr>
              <a:t> provides more constraints to hydrodynamics calculations</a:t>
            </a: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  <a:p>
            <a:pPr lvl="1" marL="639000" indent="-24552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日付プレースホルダー 5"/>
          <p:cNvSpPr/>
          <p:nvPr/>
        </p:nvSpPr>
        <p:spPr>
          <a:xfrm>
            <a:off x="5362560" y="6575400"/>
            <a:ext cx="118584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26 Mar. 20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45" name="図形グループ 11"/>
          <p:cNvGrpSpPr/>
          <p:nvPr/>
        </p:nvGrpSpPr>
        <p:grpSpPr>
          <a:xfrm>
            <a:off x="1411200" y="790560"/>
            <a:ext cx="5762880" cy="3871800"/>
            <a:chOff x="1411200" y="790560"/>
            <a:chExt cx="5762880" cy="3871800"/>
          </a:xfrm>
        </p:grpSpPr>
        <p:pic>
          <p:nvPicPr>
            <p:cNvPr id="746" name="図 3" descr=""/>
            <p:cNvPicPr/>
            <p:nvPr/>
          </p:nvPicPr>
          <p:blipFill>
            <a:blip r:embed="rId1"/>
            <a:stretch/>
          </p:blipFill>
          <p:spPr>
            <a:xfrm>
              <a:off x="1411200" y="790560"/>
              <a:ext cx="5762880" cy="387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7" name="テキスト ボックス 8"/>
            <p:cNvSpPr/>
            <p:nvPr/>
          </p:nvSpPr>
          <p:spPr>
            <a:xfrm>
              <a:off x="4216320" y="1544760"/>
              <a:ext cx="522000" cy="4057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V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8" name="テキスト ボックス 9"/>
            <p:cNvSpPr/>
            <p:nvPr/>
          </p:nvSpPr>
          <p:spPr>
            <a:xfrm>
              <a:off x="4216320" y="3079800"/>
              <a:ext cx="522000" cy="4057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V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Calibri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49" name="Text Box 8"/>
          <p:cNvSpPr/>
          <p:nvPr/>
        </p:nvSpPr>
        <p:spPr>
          <a:xfrm>
            <a:off x="6710760" y="952560"/>
            <a:ext cx="2645280" cy="70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PRL.107.252301 (ppg132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Arial"/>
              </a:rPr>
              <a:t>B.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lver et. al</a:t>
            </a:r>
            <a:r>
              <a:rPr b="1" lang="ja-JP" sz="1000" spc="-1" strike="noStrike">
                <a:solidFill>
                  <a:srgbClr val="000000"/>
                </a:solidFill>
                <a:latin typeface="Arial"/>
              </a:rPr>
              <a:t>., P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ja-JP" sz="1000" spc="-1" strike="noStrike">
                <a:solidFill>
                  <a:srgbClr val="000000"/>
                </a:solidFill>
                <a:latin typeface="Arial"/>
              </a:rPr>
              <a:t>C82, 034913(2010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Arial"/>
              </a:rPr>
              <a:t>B.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chenke et. al</a:t>
            </a:r>
            <a:r>
              <a:rPr b="1" lang="ja-JP" sz="1000" spc="-1" strike="noStrike">
                <a:solidFill>
                  <a:srgbClr val="000000"/>
                </a:solidFill>
                <a:latin typeface="Arial"/>
              </a:rPr>
              <a:t>., PRL106, 042301(2011)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Arial"/>
              </a:rPr>
              <a:t>H.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etersen et. al</a:t>
            </a:r>
            <a:r>
              <a:rPr b="1" lang="ja-JP" sz="1000" spc="-1" strike="noStrike">
                <a:solidFill>
                  <a:srgbClr val="000000"/>
                </a:solidFill>
                <a:latin typeface="Arial"/>
              </a:rPr>
              <a:t>., PRC82, 041901(2010)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テキスト ボックス 12"/>
          <p:cNvSpPr/>
          <p:nvPr/>
        </p:nvSpPr>
        <p:spPr>
          <a:xfrm>
            <a:off x="2836800" y="1200240"/>
            <a:ext cx="198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(Event Plane Method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フッター プレースホルダー 1"/>
          <p:cNvSpPr/>
          <p:nvPr/>
        </p:nvSpPr>
        <p:spPr>
          <a:xfrm>
            <a:off x="6512040" y="6575400"/>
            <a:ext cx="191124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ja-JP" sz="1200" spc="-1" strike="noStrike">
                <a:solidFill>
                  <a:srgbClr val="ffffff"/>
                </a:solidFill>
                <a:latin typeface="Calibri"/>
              </a:rPr>
              <a:t>物理学会年次大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スライド番号プレースホルダー 6"/>
          <p:cNvSpPr/>
          <p:nvPr/>
        </p:nvSpPr>
        <p:spPr>
          <a:xfrm>
            <a:off x="8423280" y="6518160"/>
            <a:ext cx="6620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5DC3ED-4B4B-45DB-A2D4-F9033CE5900B}" type="slidenum"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/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960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ja-JP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 txBox="1"/>
          <p:nvPr/>
        </p:nvSpPr>
        <p:spPr>
          <a:xfrm>
            <a:off x="457200" y="774360"/>
            <a:ext cx="8229600" cy="52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1f497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55" name="日付プレースホルダー 3"/>
          <p:cNvSpPr/>
          <p:nvPr/>
        </p:nvSpPr>
        <p:spPr>
          <a:xfrm>
            <a:off x="5362560" y="6575400"/>
            <a:ext cx="118584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26 Mar. 20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6" name="Picture 2" descr=""/>
          <p:cNvPicPr/>
          <p:nvPr/>
        </p:nvPicPr>
        <p:blipFill>
          <a:blip r:embed="rId1"/>
          <a:stretch/>
        </p:blipFill>
        <p:spPr>
          <a:xfrm>
            <a:off x="457200" y="150840"/>
            <a:ext cx="8229600" cy="6172200"/>
          </a:xfrm>
          <a:prstGeom prst="rect">
            <a:avLst/>
          </a:prstGeom>
          <a:ln w="0">
            <a:noFill/>
          </a:ln>
        </p:spPr>
      </p:pic>
      <p:sp>
        <p:nvSpPr>
          <p:cNvPr id="757" name="フッター プレースホルダー 1"/>
          <p:cNvSpPr/>
          <p:nvPr/>
        </p:nvSpPr>
        <p:spPr>
          <a:xfrm>
            <a:off x="6512040" y="6575400"/>
            <a:ext cx="191124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ja-JP" sz="1200" spc="-1" strike="noStrike">
                <a:solidFill>
                  <a:srgbClr val="ffffff"/>
                </a:solidFill>
                <a:latin typeface="Calibri"/>
              </a:rPr>
              <a:t>物理学会年次大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スライド番号プレースホルダー 6"/>
          <p:cNvSpPr/>
          <p:nvPr/>
        </p:nvSpPr>
        <p:spPr>
          <a:xfrm>
            <a:off x="8423280" y="6518160"/>
            <a:ext cx="6620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71C2AFE-2648-4009-AA00-CD9125767631}" type="slidenum"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/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テキスト ボックス 2"/>
          <p:cNvSpPr/>
          <p:nvPr/>
        </p:nvSpPr>
        <p:spPr>
          <a:xfrm>
            <a:off x="209520" y="816120"/>
            <a:ext cx="134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QM2011, ATLA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9600" cy="6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ier decomposition of flow subtracted correl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 txBox="1"/>
          <p:nvPr/>
        </p:nvSpPr>
        <p:spPr>
          <a:xfrm>
            <a:off x="457200" y="774360"/>
            <a:ext cx="8229600" cy="52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1f497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62" name="日付プレースホルダー 3"/>
          <p:cNvSpPr/>
          <p:nvPr/>
        </p:nvSpPr>
        <p:spPr>
          <a:xfrm>
            <a:off x="5362560" y="6575400"/>
            <a:ext cx="118584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26 Mar. 20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フッター プレースホルダー 1"/>
          <p:cNvSpPr/>
          <p:nvPr/>
        </p:nvSpPr>
        <p:spPr>
          <a:xfrm>
            <a:off x="6512040" y="6575400"/>
            <a:ext cx="191124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ja-JP" sz="1200" spc="-1" strike="noStrike">
                <a:solidFill>
                  <a:srgbClr val="ffffff"/>
                </a:solidFill>
                <a:latin typeface="Calibri"/>
              </a:rPr>
              <a:t>物理学会年次大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スライド番号プレースホルダー 6"/>
          <p:cNvSpPr/>
          <p:nvPr/>
        </p:nvSpPr>
        <p:spPr>
          <a:xfrm>
            <a:off x="8423280" y="6518160"/>
            <a:ext cx="6620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639AAB8-3146-4B19-AF42-DB26D7FB6B0B}" type="slidenum"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/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5" name="図 2" descr=""/>
          <p:cNvPicPr/>
          <p:nvPr/>
        </p:nvPicPr>
        <p:blipFill>
          <a:blip r:embed="rId1"/>
          <a:stretch/>
        </p:blipFill>
        <p:spPr>
          <a:xfrm>
            <a:off x="1398600" y="934920"/>
            <a:ext cx="606600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9600" cy="6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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ependence with v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&amp; v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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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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subtraction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 txBox="1"/>
          <p:nvPr/>
        </p:nvSpPr>
        <p:spPr>
          <a:xfrm>
            <a:off x="228600" y="3768840"/>
            <a:ext cx="7391520" cy="25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1f497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68" name="日付プレースホルダー 3"/>
          <p:cNvSpPr/>
          <p:nvPr/>
        </p:nvSpPr>
        <p:spPr>
          <a:xfrm>
            <a:off x="5362560" y="6575400"/>
            <a:ext cx="118584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26 Mar. 20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69" name="図形グループ 12"/>
          <p:cNvGrpSpPr/>
          <p:nvPr/>
        </p:nvGrpSpPr>
        <p:grpSpPr>
          <a:xfrm>
            <a:off x="0" y="998640"/>
            <a:ext cx="9144000" cy="2655720"/>
            <a:chOff x="0" y="998640"/>
            <a:chExt cx="9144000" cy="2655720"/>
          </a:xfrm>
        </p:grpSpPr>
        <p:pic>
          <p:nvPicPr>
            <p:cNvPr id="770" name="図 9" descr=""/>
            <p:cNvPicPr/>
            <p:nvPr/>
          </p:nvPicPr>
          <p:blipFill>
            <a:blip r:embed="rId1"/>
            <a:stretch/>
          </p:blipFill>
          <p:spPr>
            <a:xfrm>
              <a:off x="0" y="1396080"/>
              <a:ext cx="9144000" cy="225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1" name="図 11" descr=""/>
            <p:cNvPicPr/>
            <p:nvPr/>
          </p:nvPicPr>
          <p:blipFill>
            <a:blip r:embed="rId2"/>
            <a:stretch/>
          </p:blipFill>
          <p:spPr>
            <a:xfrm>
              <a:off x="0" y="998640"/>
              <a:ext cx="9144000" cy="4395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72" name="図 1" descr=""/>
          <p:cNvPicPr/>
          <p:nvPr/>
        </p:nvPicPr>
        <p:blipFill>
          <a:blip r:embed="rId3"/>
          <a:stretch/>
        </p:blipFill>
        <p:spPr>
          <a:xfrm>
            <a:off x="7042320" y="3486240"/>
            <a:ext cx="2044440" cy="2235240"/>
          </a:xfrm>
          <a:prstGeom prst="rect">
            <a:avLst/>
          </a:prstGeom>
          <a:ln w="0">
            <a:noFill/>
          </a:ln>
        </p:spPr>
      </p:pic>
      <p:sp>
        <p:nvSpPr>
          <p:cNvPr id="773" name="TextBox 86"/>
          <p:cNvSpPr/>
          <p:nvPr/>
        </p:nvSpPr>
        <p:spPr>
          <a:xfrm>
            <a:off x="1122480" y="1506600"/>
            <a:ext cx="65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3366ff"/>
                </a:solidFill>
                <a:latin typeface="Arial"/>
              </a:rPr>
              <a:t>➊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➇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TextBox 87"/>
          <p:cNvSpPr/>
          <p:nvPr/>
        </p:nvSpPr>
        <p:spPr>
          <a:xfrm>
            <a:off x="2793960" y="1514520"/>
            <a:ext cx="65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3366ff"/>
                </a:solidFill>
                <a:latin typeface="Arial"/>
              </a:rPr>
              <a:t>➋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TextBox 88"/>
          <p:cNvSpPr/>
          <p:nvPr/>
        </p:nvSpPr>
        <p:spPr>
          <a:xfrm>
            <a:off x="4465800" y="1506600"/>
            <a:ext cx="65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3366ff"/>
                </a:solidFill>
                <a:latin typeface="Arial"/>
              </a:rPr>
              <a:t>➌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TextBox 89"/>
          <p:cNvSpPr/>
          <p:nvPr/>
        </p:nvSpPr>
        <p:spPr>
          <a:xfrm>
            <a:off x="6093000" y="1544760"/>
            <a:ext cx="65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3366ff"/>
                </a:solidFill>
                <a:latin typeface="Arial"/>
              </a:rPr>
              <a:t>➍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フッター プレースホルダー 1"/>
          <p:cNvSpPr/>
          <p:nvPr/>
        </p:nvSpPr>
        <p:spPr>
          <a:xfrm>
            <a:off x="6512040" y="6575400"/>
            <a:ext cx="191124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ja-JP" sz="1200" spc="-1" strike="noStrike">
                <a:solidFill>
                  <a:srgbClr val="ffffff"/>
                </a:solidFill>
                <a:latin typeface="Calibri"/>
              </a:rPr>
              <a:t>物理学会年次大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スライド番号プレースホルダー 6"/>
          <p:cNvSpPr/>
          <p:nvPr/>
        </p:nvSpPr>
        <p:spPr>
          <a:xfrm>
            <a:off x="8423280" y="6518160"/>
            <a:ext cx="6620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7471CD6-F60E-4819-BF23-60C0816CB1A3}" type="slidenum"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/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9600" cy="6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rigger dependence relative to event plan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 txBox="1"/>
          <p:nvPr/>
        </p:nvSpPr>
        <p:spPr>
          <a:xfrm>
            <a:off x="457200" y="774360"/>
            <a:ext cx="8229600" cy="52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1f497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81" name="日付プレースホルダー 3"/>
          <p:cNvSpPr/>
          <p:nvPr/>
        </p:nvSpPr>
        <p:spPr>
          <a:xfrm>
            <a:off x="5362560" y="6575400"/>
            <a:ext cx="118584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26 Mar. 20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2" name="Picture 2" descr="phenix-hh-asym00"/>
          <p:cNvPicPr/>
          <p:nvPr/>
        </p:nvPicPr>
        <p:blipFill>
          <a:blip r:embed="rId1"/>
          <a:stretch/>
        </p:blipFill>
        <p:spPr>
          <a:xfrm>
            <a:off x="1593720" y="2013120"/>
            <a:ext cx="6248520" cy="3047760"/>
          </a:xfrm>
          <a:prstGeom prst="rect">
            <a:avLst/>
          </a:prstGeom>
          <a:ln w="0">
            <a:noFill/>
          </a:ln>
        </p:spPr>
      </p:pic>
      <p:sp>
        <p:nvSpPr>
          <p:cNvPr id="783" name="Line 3"/>
          <p:cNvSpPr/>
          <p:nvPr/>
        </p:nvSpPr>
        <p:spPr>
          <a:xfrm>
            <a:off x="2895480" y="3568680"/>
            <a:ext cx="1387440" cy="0"/>
          </a:xfrm>
          <a:prstGeom prst="line">
            <a:avLst/>
          </a:prstGeom>
          <a:ln w="633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Rectangle 4"/>
          <p:cNvSpPr/>
          <p:nvPr/>
        </p:nvSpPr>
        <p:spPr>
          <a:xfrm>
            <a:off x="3931560" y="3127320"/>
            <a:ext cx="613800" cy="301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R.P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Oval 5"/>
          <p:cNvSpPr/>
          <p:nvPr/>
        </p:nvSpPr>
        <p:spPr>
          <a:xfrm>
            <a:off x="2508120" y="3003480"/>
            <a:ext cx="685800" cy="1046160"/>
          </a:xfrm>
          <a:prstGeom prst="ellipse">
            <a:avLst/>
          </a:prstGeom>
          <a:noFill/>
          <a:ln w="63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Oval 6"/>
          <p:cNvSpPr/>
          <p:nvPr/>
        </p:nvSpPr>
        <p:spPr>
          <a:xfrm>
            <a:off x="6013440" y="3024360"/>
            <a:ext cx="660240" cy="1046160"/>
          </a:xfrm>
          <a:prstGeom prst="ellipse">
            <a:avLst/>
          </a:prstGeom>
          <a:noFill/>
          <a:ln w="63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87" name="Group 7"/>
          <p:cNvGrpSpPr/>
          <p:nvPr/>
        </p:nvGrpSpPr>
        <p:grpSpPr>
          <a:xfrm>
            <a:off x="3092400" y="2927160"/>
            <a:ext cx="330120" cy="1110960"/>
            <a:chOff x="3092400" y="2927160"/>
            <a:chExt cx="330120" cy="1110960"/>
          </a:xfrm>
        </p:grpSpPr>
        <p:sp>
          <p:nvSpPr>
            <p:cNvPr id="788" name="Line 8"/>
            <p:cNvSpPr/>
            <p:nvPr/>
          </p:nvSpPr>
          <p:spPr>
            <a:xfrm flipV="1">
              <a:off x="3092400" y="2927160"/>
              <a:ext cx="131760" cy="456840"/>
            </a:xfrm>
            <a:prstGeom prst="line">
              <a:avLst/>
            </a:prstGeom>
            <a:ln w="25560">
              <a:solidFill>
                <a:srgbClr val="ff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9" name="Line 9"/>
            <p:cNvSpPr/>
            <p:nvPr/>
          </p:nvSpPr>
          <p:spPr>
            <a:xfrm flipV="1">
              <a:off x="3092400" y="2927160"/>
              <a:ext cx="263520" cy="456840"/>
            </a:xfrm>
            <a:prstGeom prst="line">
              <a:avLst/>
            </a:prstGeom>
            <a:ln w="25560">
              <a:solidFill>
                <a:srgbClr val="ff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0" name="Line 10"/>
            <p:cNvSpPr/>
            <p:nvPr/>
          </p:nvSpPr>
          <p:spPr>
            <a:xfrm flipV="1">
              <a:off x="3092400" y="3126960"/>
              <a:ext cx="260280" cy="256680"/>
            </a:xfrm>
            <a:prstGeom prst="line">
              <a:avLst/>
            </a:prstGeom>
            <a:ln w="25560">
              <a:solidFill>
                <a:srgbClr val="ff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1" name="Line 11"/>
            <p:cNvSpPr/>
            <p:nvPr/>
          </p:nvSpPr>
          <p:spPr>
            <a:xfrm>
              <a:off x="3092400" y="3384360"/>
              <a:ext cx="263520" cy="653760"/>
            </a:xfrm>
            <a:prstGeom prst="line">
              <a:avLst/>
            </a:prstGeom>
            <a:ln w="25560">
              <a:solidFill>
                <a:srgbClr val="ff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2" name="Line 12"/>
            <p:cNvSpPr/>
            <p:nvPr/>
          </p:nvSpPr>
          <p:spPr>
            <a:xfrm>
              <a:off x="3092400" y="3384360"/>
              <a:ext cx="131760" cy="588600"/>
            </a:xfrm>
            <a:prstGeom prst="line">
              <a:avLst/>
            </a:prstGeom>
            <a:ln w="25560">
              <a:solidFill>
                <a:srgbClr val="ff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3" name="Line 13"/>
            <p:cNvSpPr/>
            <p:nvPr/>
          </p:nvSpPr>
          <p:spPr>
            <a:xfrm>
              <a:off x="3092400" y="3384360"/>
              <a:ext cx="330120" cy="588600"/>
            </a:xfrm>
            <a:prstGeom prst="line">
              <a:avLst/>
            </a:prstGeom>
            <a:ln w="25560">
              <a:solidFill>
                <a:srgbClr val="ff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94" name="Group 14"/>
          <p:cNvGrpSpPr/>
          <p:nvPr/>
        </p:nvGrpSpPr>
        <p:grpSpPr>
          <a:xfrm>
            <a:off x="5682960" y="3088800"/>
            <a:ext cx="1321200" cy="392400"/>
            <a:chOff x="5682960" y="3088800"/>
            <a:chExt cx="1321200" cy="392400"/>
          </a:xfrm>
        </p:grpSpPr>
        <p:sp>
          <p:nvSpPr>
            <p:cNvPr id="795" name="Line 15"/>
            <p:cNvSpPr/>
            <p:nvPr/>
          </p:nvSpPr>
          <p:spPr>
            <a:xfrm flipV="1">
              <a:off x="6410160" y="3088800"/>
              <a:ext cx="462240" cy="327240"/>
            </a:xfrm>
            <a:prstGeom prst="line">
              <a:avLst/>
            </a:prstGeom>
            <a:ln w="25560">
              <a:solidFill>
                <a:srgbClr val="ff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6" name="Line 16"/>
            <p:cNvSpPr/>
            <p:nvPr/>
          </p:nvSpPr>
          <p:spPr>
            <a:xfrm flipV="1">
              <a:off x="6410160" y="3154320"/>
              <a:ext cx="594000" cy="262080"/>
            </a:xfrm>
            <a:prstGeom prst="line">
              <a:avLst/>
            </a:prstGeom>
            <a:ln w="25560">
              <a:solidFill>
                <a:srgbClr val="ff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7" name="Line 17"/>
            <p:cNvSpPr/>
            <p:nvPr/>
          </p:nvSpPr>
          <p:spPr>
            <a:xfrm flipV="1">
              <a:off x="6410160" y="3286080"/>
              <a:ext cx="528840" cy="130320"/>
            </a:xfrm>
            <a:prstGeom prst="line">
              <a:avLst/>
            </a:prstGeom>
            <a:ln w="25560">
              <a:solidFill>
                <a:srgbClr val="ff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8" name="Line 18"/>
            <p:cNvSpPr/>
            <p:nvPr/>
          </p:nvSpPr>
          <p:spPr>
            <a:xfrm flipH="1">
              <a:off x="5682960" y="3416400"/>
              <a:ext cx="726840" cy="0"/>
            </a:xfrm>
            <a:prstGeom prst="line">
              <a:avLst/>
            </a:prstGeom>
            <a:ln w="25560">
              <a:solidFill>
                <a:srgbClr val="ff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9" name="Line 19"/>
            <p:cNvSpPr/>
            <p:nvPr/>
          </p:nvSpPr>
          <p:spPr>
            <a:xfrm flipH="1">
              <a:off x="5881680" y="3416400"/>
              <a:ext cx="528480" cy="64800"/>
            </a:xfrm>
            <a:prstGeom prst="line">
              <a:avLst/>
            </a:prstGeom>
            <a:ln w="25560">
              <a:solidFill>
                <a:srgbClr val="ff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0" name="Line 20"/>
            <p:cNvSpPr/>
            <p:nvPr/>
          </p:nvSpPr>
          <p:spPr>
            <a:xfrm flipH="1" flipV="1">
              <a:off x="5814720" y="3286080"/>
              <a:ext cx="595080" cy="130320"/>
            </a:xfrm>
            <a:prstGeom prst="line">
              <a:avLst/>
            </a:prstGeom>
            <a:ln w="25560">
              <a:solidFill>
                <a:srgbClr val="ff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01" name="Rectangle 21"/>
          <p:cNvSpPr/>
          <p:nvPr/>
        </p:nvSpPr>
        <p:spPr>
          <a:xfrm>
            <a:off x="5046840" y="5257800"/>
            <a:ext cx="2619000" cy="3988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enetration dominan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Rectangle 22"/>
          <p:cNvSpPr/>
          <p:nvPr/>
        </p:nvSpPr>
        <p:spPr>
          <a:xfrm>
            <a:off x="1786680" y="5257800"/>
            <a:ext cx="2148120" cy="3988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urface dominan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Line 23"/>
          <p:cNvSpPr/>
          <p:nvPr/>
        </p:nvSpPr>
        <p:spPr>
          <a:xfrm>
            <a:off x="6334200" y="3546360"/>
            <a:ext cx="1387440" cy="0"/>
          </a:xfrm>
          <a:prstGeom prst="line">
            <a:avLst/>
          </a:prstGeom>
          <a:ln w="633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Rectangle 24"/>
          <p:cNvSpPr/>
          <p:nvPr/>
        </p:nvSpPr>
        <p:spPr>
          <a:xfrm>
            <a:off x="7741440" y="3127320"/>
            <a:ext cx="613800" cy="301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R.P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Line 25"/>
          <p:cNvSpPr/>
          <p:nvPr/>
        </p:nvSpPr>
        <p:spPr>
          <a:xfrm flipV="1">
            <a:off x="3662280" y="1892160"/>
            <a:ext cx="304920" cy="457200"/>
          </a:xfrm>
          <a:prstGeom prst="line">
            <a:avLst/>
          </a:prstGeom>
          <a:ln w="442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6" name="Line 26"/>
          <p:cNvSpPr/>
          <p:nvPr/>
        </p:nvSpPr>
        <p:spPr>
          <a:xfrm>
            <a:off x="3639960" y="4711680"/>
            <a:ext cx="304920" cy="457200"/>
          </a:xfrm>
          <a:prstGeom prst="line">
            <a:avLst/>
          </a:prstGeom>
          <a:ln w="442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Line 27"/>
          <p:cNvSpPr/>
          <p:nvPr/>
        </p:nvSpPr>
        <p:spPr>
          <a:xfrm>
            <a:off x="7385040" y="4254480"/>
            <a:ext cx="544680" cy="347760"/>
          </a:xfrm>
          <a:prstGeom prst="line">
            <a:avLst/>
          </a:prstGeom>
          <a:ln w="442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Line 28"/>
          <p:cNvSpPr/>
          <p:nvPr/>
        </p:nvSpPr>
        <p:spPr>
          <a:xfrm flipV="1">
            <a:off x="7418520" y="2457360"/>
            <a:ext cx="544320" cy="347760"/>
          </a:xfrm>
          <a:prstGeom prst="line">
            <a:avLst/>
          </a:prstGeom>
          <a:ln w="442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Text Box 29"/>
          <p:cNvSpPr/>
          <p:nvPr/>
        </p:nvSpPr>
        <p:spPr>
          <a:xfrm>
            <a:off x="3899160" y="1892160"/>
            <a:ext cx="50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alibri"/>
              </a:rPr>
              <a:t>Trig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Text Box 30"/>
          <p:cNvSpPr/>
          <p:nvPr/>
        </p:nvSpPr>
        <p:spPr>
          <a:xfrm>
            <a:off x="7861680" y="2502000"/>
            <a:ext cx="50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alibri"/>
              </a:rPr>
              <a:t>Trig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Text Box 31"/>
          <p:cNvSpPr/>
          <p:nvPr/>
        </p:nvSpPr>
        <p:spPr>
          <a:xfrm>
            <a:off x="3893040" y="4940280"/>
            <a:ext cx="50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Calibri"/>
              </a:rPr>
              <a:t>Trig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Text Box 32"/>
          <p:cNvSpPr/>
          <p:nvPr/>
        </p:nvSpPr>
        <p:spPr>
          <a:xfrm>
            <a:off x="7855200" y="4406760"/>
            <a:ext cx="50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Calibri"/>
              </a:rPr>
              <a:t>Trig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Rectangle 33"/>
          <p:cNvSpPr/>
          <p:nvPr/>
        </p:nvSpPr>
        <p:spPr>
          <a:xfrm>
            <a:off x="76320" y="2895480"/>
            <a:ext cx="1523880" cy="161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rigger angle selected 2-part. corr. data are plotted in polar coordinate by rotating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R.P. angle as X-axis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Line 34"/>
          <p:cNvSpPr/>
          <p:nvPr/>
        </p:nvSpPr>
        <p:spPr>
          <a:xfrm flipH="1">
            <a:off x="6324480" y="3432240"/>
            <a:ext cx="76320" cy="609480"/>
          </a:xfrm>
          <a:prstGeom prst="line">
            <a:avLst/>
          </a:prstGeom>
          <a:ln w="63360">
            <a:solidFill>
              <a:srgbClr val="ff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Line 35"/>
          <p:cNvSpPr/>
          <p:nvPr/>
        </p:nvSpPr>
        <p:spPr>
          <a:xfrm flipH="1">
            <a:off x="2514240" y="3355920"/>
            <a:ext cx="609480" cy="152280"/>
          </a:xfrm>
          <a:prstGeom prst="line">
            <a:avLst/>
          </a:prstGeom>
          <a:ln w="63360">
            <a:solidFill>
              <a:srgbClr val="ff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Text Box 37"/>
          <p:cNvSpPr/>
          <p:nvPr/>
        </p:nvSpPr>
        <p:spPr>
          <a:xfrm>
            <a:off x="5183640" y="1530360"/>
            <a:ext cx="1259640" cy="6426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-plan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rigger ca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Text Box 38"/>
          <p:cNvSpPr/>
          <p:nvPr/>
        </p:nvSpPr>
        <p:spPr>
          <a:xfrm>
            <a:off x="1523880" y="1530360"/>
            <a:ext cx="1506600" cy="6426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ut-of-plan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rigger ca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Line 39"/>
          <p:cNvSpPr/>
          <p:nvPr/>
        </p:nvSpPr>
        <p:spPr>
          <a:xfrm>
            <a:off x="641520" y="5351400"/>
            <a:ext cx="761760" cy="0"/>
          </a:xfrm>
          <a:prstGeom prst="line">
            <a:avLst/>
          </a:prstGeom>
          <a:ln w="63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Text Box 40"/>
          <p:cNvSpPr/>
          <p:nvPr/>
        </p:nvSpPr>
        <p:spPr>
          <a:xfrm>
            <a:off x="76320" y="4543560"/>
            <a:ext cx="16002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Flow subtracted yield is shown radially with base line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Rectangle 41"/>
          <p:cNvSpPr/>
          <p:nvPr/>
        </p:nvSpPr>
        <p:spPr>
          <a:xfrm>
            <a:off x="6545520" y="457200"/>
            <a:ext cx="2442240" cy="100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00GeV Au+Au -&gt; h-h, 20-50%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(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alibri"/>
              </a:rPr>
              <a:t>Trig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=2~4, 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alibri"/>
              </a:rPr>
              <a:t>Asso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=1~2GeV/c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,v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{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} only subtrac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alibri"/>
              </a:rPr>
              <a:t>PHENIX prelim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Rectangle 42"/>
          <p:cNvSpPr/>
          <p:nvPr/>
        </p:nvSpPr>
        <p:spPr>
          <a:xfrm>
            <a:off x="2932920" y="5867280"/>
            <a:ext cx="307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wo competing processes see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Rectangle 43"/>
          <p:cNvSpPr/>
          <p:nvPr/>
        </p:nvSpPr>
        <p:spPr>
          <a:xfrm>
            <a:off x="76320" y="1676520"/>
            <a:ext cx="1447560" cy="11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rigger angle selection w.r.t.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separately for</a:t>
            </a:r>
            <a:r>
              <a:rPr b="0" lang="en-US" sz="1400" spc="-1" strike="noStrike">
                <a:solidFill>
                  <a:srgbClr val="ff0000"/>
                </a:solidFill>
                <a:latin typeface="Calibri"/>
              </a:rPr>
              <a:t> left(up)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/ </a:t>
            </a:r>
            <a:r>
              <a:rPr b="0" lang="en-US" sz="1400" spc="-1" strike="noStrike">
                <a:solidFill>
                  <a:srgbClr val="0000ff"/>
                </a:solidFill>
                <a:latin typeface="Calibri"/>
              </a:rPr>
              <a:t>right(down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フッター プレースホルダー 1"/>
          <p:cNvSpPr/>
          <p:nvPr/>
        </p:nvSpPr>
        <p:spPr>
          <a:xfrm>
            <a:off x="6512040" y="6575400"/>
            <a:ext cx="191124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ja-JP" sz="1200" spc="-1" strike="noStrike">
                <a:solidFill>
                  <a:srgbClr val="ffffff"/>
                </a:solidFill>
                <a:latin typeface="Calibri"/>
              </a:rPr>
              <a:t>物理学会年次大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Text Box 3"/>
          <p:cNvSpPr/>
          <p:nvPr/>
        </p:nvSpPr>
        <p:spPr>
          <a:xfrm>
            <a:off x="218520" y="5715000"/>
            <a:ext cx="1258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RHIC-PHENIX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low plena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.E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スライド番号プレースホルダー 6"/>
          <p:cNvSpPr/>
          <p:nvPr/>
        </p:nvSpPr>
        <p:spPr>
          <a:xfrm>
            <a:off x="8423280" y="6518160"/>
            <a:ext cx="6620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446DD59-7F63-459D-99CD-432DC1EA0C04}" type="slidenum"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/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"/>
          <p:cNvSpPr txBox="1"/>
          <p:nvPr/>
        </p:nvSpPr>
        <p:spPr>
          <a:xfrm>
            <a:off x="457200" y="3509640"/>
            <a:ext cx="8229600" cy="261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1f497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27" name="日付プレースホルダー 3"/>
          <p:cNvSpPr/>
          <p:nvPr/>
        </p:nvSpPr>
        <p:spPr>
          <a:xfrm>
            <a:off x="5362560" y="6575400"/>
            <a:ext cx="118584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26 Mar. 20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8" name="図 15" descr=""/>
          <p:cNvPicPr/>
          <p:nvPr/>
        </p:nvPicPr>
        <p:blipFill>
          <a:blip r:embed="rId1"/>
          <a:stretch/>
        </p:blipFill>
        <p:spPr>
          <a:xfrm>
            <a:off x="806400" y="1201680"/>
            <a:ext cx="6997680" cy="2198880"/>
          </a:xfrm>
          <a:prstGeom prst="rect">
            <a:avLst/>
          </a:prstGeom>
          <a:ln w="0">
            <a:noFill/>
          </a:ln>
        </p:spPr>
      </p:pic>
      <p:sp>
        <p:nvSpPr>
          <p:cNvPr id="829" name="テキスト ボックス 5"/>
          <p:cNvSpPr/>
          <p:nvPr/>
        </p:nvSpPr>
        <p:spPr>
          <a:xfrm rot="16200000">
            <a:off x="-565920" y="2181960"/>
            <a:ext cx="21668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1/N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alibri"/>
              </a:rPr>
              <a:t>trig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dN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alibri"/>
              </a:rPr>
              <a:t>pair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/d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0" name="図 24" descr=""/>
          <p:cNvPicPr/>
          <p:nvPr/>
        </p:nvPicPr>
        <p:blipFill>
          <a:blip r:embed="rId2"/>
          <a:stretch/>
        </p:blipFill>
        <p:spPr>
          <a:xfrm>
            <a:off x="7545240" y="1565280"/>
            <a:ext cx="1400400" cy="1511280"/>
          </a:xfrm>
          <a:prstGeom prst="rect">
            <a:avLst/>
          </a:prstGeom>
          <a:ln w="0">
            <a:noFill/>
          </a:ln>
        </p:spPr>
      </p:pic>
      <p:sp>
        <p:nvSpPr>
          <p:cNvPr id="831" name="TextBox 86"/>
          <p:cNvSpPr/>
          <p:nvPr/>
        </p:nvSpPr>
        <p:spPr>
          <a:xfrm>
            <a:off x="979560" y="1455840"/>
            <a:ext cx="65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➊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➇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TextBox 87"/>
          <p:cNvSpPr/>
          <p:nvPr/>
        </p:nvSpPr>
        <p:spPr>
          <a:xfrm>
            <a:off x="2690640" y="1455840"/>
            <a:ext cx="659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➋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TextBox 88"/>
          <p:cNvSpPr/>
          <p:nvPr/>
        </p:nvSpPr>
        <p:spPr>
          <a:xfrm>
            <a:off x="4319640" y="1442880"/>
            <a:ext cx="65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➌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TextBox 89"/>
          <p:cNvSpPr/>
          <p:nvPr/>
        </p:nvSpPr>
        <p:spPr>
          <a:xfrm>
            <a:off x="6013440" y="1452600"/>
            <a:ext cx="65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➍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テキスト ボックス 23"/>
          <p:cNvSpPr/>
          <p:nvPr/>
        </p:nvSpPr>
        <p:spPr>
          <a:xfrm>
            <a:off x="7304040" y="3414600"/>
            <a:ext cx="100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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ymbol"/>
              </a:rPr>
              <a:t>[rad]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テキスト ボックス 6"/>
          <p:cNvSpPr/>
          <p:nvPr/>
        </p:nvSpPr>
        <p:spPr>
          <a:xfrm>
            <a:off x="1146240" y="3089160"/>
            <a:ext cx="1339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out-of-pla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テキスト ボックス 24"/>
          <p:cNvSpPr/>
          <p:nvPr/>
        </p:nvSpPr>
        <p:spPr>
          <a:xfrm>
            <a:off x="5991120" y="3106800"/>
            <a:ext cx="1339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In-pla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38" name="直線矢印コネクタ 35"/>
          <p:cNvCxnSpPr>
            <a:stCxn id="836" idx="3"/>
            <a:endCxn id="837" idx="1"/>
          </p:cNvCxnSpPr>
          <p:nvPr/>
        </p:nvCxnSpPr>
        <p:spPr>
          <a:xfrm>
            <a:off x="2486160" y="3242880"/>
            <a:ext cx="350568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sp>
        <p:nvSpPr>
          <p:cNvPr id="839" name="テキスト ボックス 37"/>
          <p:cNvSpPr/>
          <p:nvPr/>
        </p:nvSpPr>
        <p:spPr>
          <a:xfrm>
            <a:off x="806400" y="1038240"/>
            <a:ext cx="334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PHENIX Work in progr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Rectangle 41"/>
          <p:cNvSpPr/>
          <p:nvPr/>
        </p:nvSpPr>
        <p:spPr>
          <a:xfrm>
            <a:off x="6646680" y="592200"/>
            <a:ext cx="2442240" cy="79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00GeV Au+Au -&gt; h-h, 20-50%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(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alibri"/>
              </a:rPr>
              <a:t>Trig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=2~4, 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alibri"/>
              </a:rPr>
              <a:t>Asso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=1~2GeV/c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v2,v3,v4{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} subtrac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9600" cy="6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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ependence with v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&amp; v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&amp; v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ubtraction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フッター プレースホルダー 1"/>
          <p:cNvSpPr/>
          <p:nvPr/>
        </p:nvSpPr>
        <p:spPr>
          <a:xfrm>
            <a:off x="6512040" y="6575400"/>
            <a:ext cx="191124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ja-JP" sz="1200" spc="-1" strike="noStrike">
                <a:solidFill>
                  <a:srgbClr val="ffffff"/>
                </a:solidFill>
                <a:latin typeface="Calibri"/>
              </a:rPr>
              <a:t>物理学会年次大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スライド番号プレースホルダー 6"/>
          <p:cNvSpPr/>
          <p:nvPr/>
        </p:nvSpPr>
        <p:spPr>
          <a:xfrm>
            <a:off x="8423280" y="6518160"/>
            <a:ext cx="6620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0235025-880A-4314-989F-8E2DD781B942}" type="slidenum"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/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960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ja-JP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 txBox="1"/>
          <p:nvPr/>
        </p:nvSpPr>
        <p:spPr>
          <a:xfrm>
            <a:off x="457200" y="774360"/>
            <a:ext cx="8229600" cy="52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1f497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46" name="日付プレースホルダー 3"/>
          <p:cNvSpPr/>
          <p:nvPr/>
        </p:nvSpPr>
        <p:spPr>
          <a:xfrm>
            <a:off x="5362560" y="6575400"/>
            <a:ext cx="118584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26 Mar. 20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7" name="図 6" descr=""/>
          <p:cNvPicPr/>
          <p:nvPr/>
        </p:nvPicPr>
        <p:blipFill>
          <a:blip r:embed="rId1"/>
          <a:stretch/>
        </p:blipFill>
        <p:spPr>
          <a:xfrm>
            <a:off x="0" y="546120"/>
            <a:ext cx="9144000" cy="5761080"/>
          </a:xfrm>
          <a:prstGeom prst="rect">
            <a:avLst/>
          </a:prstGeom>
          <a:ln w="0">
            <a:noFill/>
          </a:ln>
        </p:spPr>
      </p:pic>
      <p:sp>
        <p:nvSpPr>
          <p:cNvPr id="848" name="フッター プレースホルダー 1"/>
          <p:cNvSpPr/>
          <p:nvPr/>
        </p:nvSpPr>
        <p:spPr>
          <a:xfrm>
            <a:off x="6512040" y="6575400"/>
            <a:ext cx="191124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ja-JP" sz="1200" spc="-1" strike="noStrike">
                <a:solidFill>
                  <a:srgbClr val="ffffff"/>
                </a:solidFill>
                <a:latin typeface="Calibri"/>
              </a:rPr>
              <a:t>物理学会年次大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スライド番号プレースホルダー 6"/>
          <p:cNvSpPr/>
          <p:nvPr/>
        </p:nvSpPr>
        <p:spPr>
          <a:xfrm>
            <a:off x="8423280" y="6518160"/>
            <a:ext cx="6620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DEAA92-408B-4950-83F4-DF6593F206EE}" type="slidenum"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/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9600" cy="6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457200" y="774360"/>
            <a:ext cx="8229600" cy="52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51"/>
              </a:spcBef>
              <a:buClr>
                <a:srgbClr val="1f497d"/>
              </a:buClr>
              <a:buFont typeface="Helvetica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3000" spc="-1" strike="noStrike">
                <a:solidFill>
                  <a:srgbClr val="1f497d"/>
                </a:solidFill>
                <a:latin typeface="Arial"/>
              </a:rPr>
              <a:t>Introduction</a:t>
            </a:r>
            <a:endParaRPr b="1" lang="en-US" sz="3000" spc="-1" strike="noStrike">
              <a:solidFill>
                <a:srgbClr val="1f497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er harmonic event plane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&amp; flow(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kgrounds from 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corre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ubtracted corre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51"/>
              </a:spcBef>
              <a:buClr>
                <a:srgbClr val="1f497d"/>
              </a:buClr>
              <a:buFont typeface="Helvetica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3000" spc="-1" strike="noStrike">
                <a:solidFill>
                  <a:srgbClr val="1f497d"/>
                </a:solidFill>
                <a:latin typeface="Arial"/>
              </a:rPr>
              <a:t>Physics Motivation</a:t>
            </a:r>
            <a:endParaRPr b="1" lang="en-US" sz="3000" spc="-1" strike="noStrike">
              <a:solidFill>
                <a:srgbClr val="1f497d"/>
              </a:solidFill>
              <a:latin typeface="Arial"/>
            </a:endParaRPr>
          </a:p>
          <a:p>
            <a:pPr marL="514440" indent="-514440">
              <a:spcBef>
                <a:spcPts val="751"/>
              </a:spcBef>
              <a:buClr>
                <a:srgbClr val="1f497d"/>
              </a:buClr>
              <a:buFont typeface="Helvetica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3000" spc="-1" strike="noStrike">
                <a:solidFill>
                  <a:srgbClr val="1f497d"/>
                </a:solidFill>
                <a:latin typeface="Arial"/>
              </a:rPr>
              <a:t>Analysis Overview</a:t>
            </a:r>
            <a:endParaRPr b="1" lang="en-US" sz="3000" spc="-1" strike="noStrike">
              <a:solidFill>
                <a:srgbClr val="1f497d"/>
              </a:solidFill>
              <a:latin typeface="Arial"/>
            </a:endParaRPr>
          </a:p>
          <a:p>
            <a:pPr marL="514440" indent="-514440">
              <a:spcBef>
                <a:spcPts val="751"/>
              </a:spcBef>
              <a:buClr>
                <a:srgbClr val="1f497d"/>
              </a:buClr>
              <a:buFont typeface="Helvetica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3000" spc="-1" strike="noStrike">
                <a:solidFill>
                  <a:srgbClr val="1f497d"/>
                </a:solidFill>
                <a:latin typeface="Arial"/>
              </a:rPr>
              <a:t>Results</a:t>
            </a:r>
            <a:endParaRPr b="1" lang="en-US" sz="3000" spc="-1" strike="noStrike">
              <a:solidFill>
                <a:srgbClr val="1f497d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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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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penden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51"/>
              </a:spcBef>
              <a:buClr>
                <a:srgbClr val="1f497d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3000" spc="-1" strike="noStrike">
                <a:solidFill>
                  <a:srgbClr val="1f497d"/>
                </a:solidFill>
                <a:latin typeface="Arial"/>
              </a:rPr>
              <a:t>Summary</a:t>
            </a:r>
            <a:endParaRPr b="1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14" name="日付プレースホルダー 3"/>
          <p:cNvSpPr/>
          <p:nvPr/>
        </p:nvSpPr>
        <p:spPr>
          <a:xfrm>
            <a:off x="5362560" y="6575400"/>
            <a:ext cx="118584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26 Mar. 20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フッター プレースホルダー 1"/>
          <p:cNvSpPr/>
          <p:nvPr/>
        </p:nvSpPr>
        <p:spPr>
          <a:xfrm>
            <a:off x="6512040" y="6575400"/>
            <a:ext cx="191124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ja-JP" sz="1200" spc="-1" strike="noStrike">
                <a:solidFill>
                  <a:srgbClr val="ffffff"/>
                </a:solidFill>
                <a:latin typeface="Calibri"/>
              </a:rPr>
              <a:t>物理学会年次大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スライド番号プレースホルダー 6"/>
          <p:cNvSpPr/>
          <p:nvPr/>
        </p:nvSpPr>
        <p:spPr>
          <a:xfrm>
            <a:off x="8423280" y="6518160"/>
            <a:ext cx="6620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28B968C-01EF-4A73-96AB-21CFA54A707B}" type="slidenum"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/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7" name="図 5" descr=""/>
          <p:cNvPicPr/>
          <p:nvPr/>
        </p:nvPicPr>
        <p:blipFill>
          <a:blip r:embed="rId1"/>
          <a:stretch/>
        </p:blipFill>
        <p:spPr>
          <a:xfrm>
            <a:off x="1135080" y="3027240"/>
            <a:ext cx="3368520" cy="2189160"/>
          </a:xfrm>
          <a:prstGeom prst="rect">
            <a:avLst/>
          </a:prstGeom>
          <a:ln w="0">
            <a:noFill/>
          </a:ln>
        </p:spPr>
      </p:pic>
      <p:grpSp>
        <p:nvGrpSpPr>
          <p:cNvPr id="518" name="図形グループ 69"/>
          <p:cNvGrpSpPr/>
          <p:nvPr/>
        </p:nvGrpSpPr>
        <p:grpSpPr>
          <a:xfrm>
            <a:off x="4944600" y="2739960"/>
            <a:ext cx="3702600" cy="2579040"/>
            <a:chOff x="4944600" y="2739960"/>
            <a:chExt cx="3702600" cy="2579040"/>
          </a:xfrm>
        </p:grpSpPr>
        <p:pic>
          <p:nvPicPr>
            <p:cNvPr id="519" name="図 37" descr=""/>
            <p:cNvPicPr/>
            <p:nvPr/>
          </p:nvPicPr>
          <p:blipFill>
            <a:blip r:embed="rId2"/>
            <a:stretch/>
          </p:blipFill>
          <p:spPr>
            <a:xfrm>
              <a:off x="5152320" y="2739960"/>
              <a:ext cx="3134160" cy="2540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20" name="図形グループ 27"/>
            <p:cNvGrpSpPr/>
            <p:nvPr/>
          </p:nvGrpSpPr>
          <p:grpSpPr>
            <a:xfrm>
              <a:off x="6255360" y="3222360"/>
              <a:ext cx="2391840" cy="1905120"/>
              <a:chOff x="6255360" y="3222360"/>
              <a:chExt cx="2391840" cy="1905120"/>
            </a:xfrm>
          </p:grpSpPr>
          <p:grpSp>
            <p:nvGrpSpPr>
              <p:cNvPr id="521" name="図形グループ 21"/>
              <p:cNvGrpSpPr/>
              <p:nvPr/>
            </p:nvGrpSpPr>
            <p:grpSpPr>
              <a:xfrm>
                <a:off x="6255360" y="3222360"/>
                <a:ext cx="2144160" cy="1905120"/>
                <a:chOff x="6255360" y="3222360"/>
                <a:chExt cx="2144160" cy="1905120"/>
              </a:xfrm>
            </p:grpSpPr>
            <p:sp>
              <p:nvSpPr>
                <p:cNvPr id="522" name="円/楕円 41"/>
                <p:cNvSpPr/>
                <p:nvPr/>
              </p:nvSpPr>
              <p:spPr>
                <a:xfrm>
                  <a:off x="6255360" y="3222360"/>
                  <a:ext cx="1217160" cy="1905120"/>
                </a:xfrm>
                <a:prstGeom prst="ellipse">
                  <a:avLst/>
                </a:prstGeom>
                <a:noFill/>
                <a:ln w="50760">
                  <a:solidFill>
                    <a:srgbClr val="000000"/>
                  </a:solidFill>
                  <a:miter/>
                </a:ln>
                <a:effectLst>
                  <a:outerShdw dist="23040" dir="5400000" blurRad="0" rotWithShape="0">
                    <a:srgbClr val="80808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cxnSp>
              <p:nvCxnSpPr>
                <p:cNvPr id="523" name="直線矢印コネクタ 42"/>
                <p:cNvCxnSpPr/>
                <p:nvPr/>
              </p:nvCxnSpPr>
              <p:spPr>
                <a:xfrm>
                  <a:off x="7486560" y="4136760"/>
                  <a:ext cx="913320" cy="2160"/>
                </a:xfrm>
                <a:prstGeom prst="straightConnector1">
                  <a:avLst/>
                </a:prstGeom>
                <a:ln w="38160">
                  <a:solidFill>
                    <a:srgbClr val="000000"/>
                  </a:solidFill>
                  <a:miter/>
                  <a:tailEnd len="lg" type="arrow" w="lg"/>
                </a:ln>
              </p:spPr>
            </p:cxnSp>
          </p:grpSp>
          <p:sp>
            <p:nvSpPr>
              <p:cNvPr id="524" name="TextBox 24"/>
              <p:cNvSpPr/>
              <p:nvPr/>
            </p:nvSpPr>
            <p:spPr>
              <a:xfrm>
                <a:off x="7962840" y="4169160"/>
                <a:ext cx="684360" cy="475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2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</a:t>
                </a:r>
                <a:r>
                  <a:rPr b="1" lang="en-US" sz="2200" spc="-1" strike="noStrike" baseline="-25000">
                    <a:solidFill>
                      <a:srgbClr val="000000"/>
                    </a:solidFill>
                    <a:latin typeface="Symbol"/>
                    <a:ea typeface="Symbol"/>
                  </a:rPr>
                  <a:t></a:t>
                </a:r>
                <a:endParaRPr b="0" lang="en-US" sz="2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25" name="図形グループ 29"/>
            <p:cNvGrpSpPr/>
            <p:nvPr/>
          </p:nvGrpSpPr>
          <p:grpSpPr>
            <a:xfrm>
              <a:off x="4944600" y="2952360"/>
              <a:ext cx="3085560" cy="2205720"/>
              <a:chOff x="4944600" y="2952360"/>
              <a:chExt cx="3085560" cy="2205720"/>
            </a:xfrm>
          </p:grpSpPr>
          <p:grpSp>
            <p:nvGrpSpPr>
              <p:cNvPr id="526" name="図形グループ 22"/>
              <p:cNvGrpSpPr/>
              <p:nvPr/>
            </p:nvGrpSpPr>
            <p:grpSpPr>
              <a:xfrm>
                <a:off x="5446440" y="2952360"/>
                <a:ext cx="2583720" cy="2205720"/>
                <a:chOff x="5446440" y="2952360"/>
                <a:chExt cx="2583720" cy="2205720"/>
              </a:xfrm>
            </p:grpSpPr>
            <p:sp>
              <p:nvSpPr>
                <p:cNvPr id="527" name="フリーフォーム 37"/>
                <p:cNvSpPr/>
                <p:nvPr/>
              </p:nvSpPr>
              <p:spPr>
                <a:xfrm rot="817800">
                  <a:off x="5829120" y="3165120"/>
                  <a:ext cx="2019600" cy="1779840"/>
                </a:xfrm>
                <a:custGeom>
                  <a:avLst/>
                  <a:gdLst/>
                  <a:ahLst/>
                  <a:rect l="l" t="t" r="r" b="b"/>
                  <a:pathLst>
                    <a:path w="1701026" h="1481752">
                      <a:moveTo>
                        <a:pt x="843981" y="0"/>
                      </a:moveTo>
                      <a:cubicBezTo>
                        <a:pt x="600977" y="0"/>
                        <a:pt x="0" y="1058394"/>
                        <a:pt x="122808" y="1270073"/>
                      </a:cubicBezTo>
                      <a:cubicBezTo>
                        <a:pt x="245616" y="1481752"/>
                        <a:pt x="1460636" y="1481752"/>
                        <a:pt x="1580831" y="1270073"/>
                      </a:cubicBezTo>
                      <a:cubicBezTo>
                        <a:pt x="1701026" y="1058394"/>
                        <a:pt x="1086985" y="0"/>
                        <a:pt x="843981" y="0"/>
                      </a:cubicBezTo>
                      <a:close/>
                    </a:path>
                  </a:pathLst>
                </a:custGeom>
                <a:noFill/>
                <a:ln w="50760">
                  <a:solidFill>
                    <a:srgbClr val="3366ff"/>
                  </a:solidFill>
                  <a:round/>
                </a:ln>
                <a:effectLst>
                  <a:outerShdw dist="23040" dir="5400000" blurRad="0" rotWithShape="0">
                    <a:srgbClr val="00000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cxnSp>
              <p:nvCxnSpPr>
                <p:cNvPr id="528" name="直線矢印コネクタ 38"/>
                <p:cNvCxnSpPr/>
                <p:nvPr/>
              </p:nvCxnSpPr>
              <p:spPr>
                <a:xfrm flipH="1" flipV="1">
                  <a:off x="5446440" y="3204720"/>
                  <a:ext cx="763560" cy="502200"/>
                </a:xfrm>
                <a:prstGeom prst="straightConnector1">
                  <a:avLst/>
                </a:prstGeom>
                <a:ln w="38160">
                  <a:solidFill>
                    <a:srgbClr val="3366ff"/>
                  </a:solidFill>
                  <a:miter/>
                  <a:tailEnd len="lg" type="arrow" w="lg"/>
                </a:ln>
              </p:spPr>
            </p:cxnSp>
          </p:grpSp>
          <p:sp>
            <p:nvSpPr>
              <p:cNvPr id="529" name="TextBox 25"/>
              <p:cNvSpPr/>
              <p:nvPr/>
            </p:nvSpPr>
            <p:spPr>
              <a:xfrm>
                <a:off x="4944600" y="3197160"/>
                <a:ext cx="684360" cy="475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2200" spc="-1" strike="noStrike">
                    <a:solidFill>
                      <a:srgbClr val="3366ff"/>
                    </a:solidFill>
                    <a:latin typeface="Symbol"/>
                    <a:ea typeface="Symbol"/>
                  </a:rPr>
                  <a:t></a:t>
                </a:r>
                <a:r>
                  <a:rPr b="1" lang="en-US" sz="2200" spc="-1" strike="noStrike" baseline="-25000">
                    <a:solidFill>
                      <a:srgbClr val="3366ff"/>
                    </a:solidFill>
                    <a:latin typeface="Symbol"/>
                    <a:ea typeface="Symbol"/>
                  </a:rPr>
                  <a:t></a:t>
                </a:r>
                <a:endParaRPr b="0" lang="en-US" sz="2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30" name="図形グループ 37"/>
            <p:cNvGrpSpPr/>
            <p:nvPr/>
          </p:nvGrpSpPr>
          <p:grpSpPr>
            <a:xfrm>
              <a:off x="5828400" y="3188160"/>
              <a:ext cx="2635200" cy="2130840"/>
              <a:chOff x="5828400" y="3188160"/>
              <a:chExt cx="2635200" cy="2130840"/>
            </a:xfrm>
          </p:grpSpPr>
          <p:cxnSp>
            <p:nvCxnSpPr>
              <p:cNvPr id="531" name="直線矢印コネクタ 32"/>
              <p:cNvCxnSpPr/>
              <p:nvPr/>
            </p:nvCxnSpPr>
            <p:spPr>
              <a:xfrm>
                <a:off x="7395480" y="4672800"/>
                <a:ext cx="465120" cy="465840"/>
              </a:xfrm>
              <a:prstGeom prst="straightConnector1">
                <a:avLst/>
              </a:prstGeom>
              <a:ln w="38160">
                <a:solidFill>
                  <a:srgbClr val="ff0000"/>
                </a:solidFill>
                <a:miter/>
                <a:tailEnd len="lg" type="arrow" w="lg"/>
              </a:ln>
            </p:spPr>
          </p:cxnSp>
          <p:sp>
            <p:nvSpPr>
              <p:cNvPr id="532" name="TextBox 26"/>
              <p:cNvSpPr/>
              <p:nvPr/>
            </p:nvSpPr>
            <p:spPr>
              <a:xfrm>
                <a:off x="7779240" y="4843800"/>
                <a:ext cx="684360" cy="475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2200" spc="-1" strike="noStrike">
                    <a:solidFill>
                      <a:srgbClr val="ff0000"/>
                    </a:solidFill>
                    <a:latin typeface="Symbol"/>
                    <a:ea typeface="Symbol"/>
                  </a:rPr>
                  <a:t></a:t>
                </a:r>
                <a:r>
                  <a:rPr b="1" lang="en-US" sz="2200" spc="-1" strike="noStrike" baseline="-25000">
                    <a:solidFill>
                      <a:srgbClr val="ff0000"/>
                    </a:solidFill>
                    <a:latin typeface="Symbol"/>
                    <a:ea typeface="Symbol"/>
                  </a:rPr>
                  <a:t></a:t>
                </a:r>
                <a:endParaRPr b="0" lang="en-US" sz="2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33" name="フリーフォーム 34"/>
              <p:cNvSpPr/>
              <p:nvPr/>
            </p:nvSpPr>
            <p:spPr>
              <a:xfrm rot="292200">
                <a:off x="5903280" y="3260160"/>
                <a:ext cx="1775160" cy="1845360"/>
              </a:xfrm>
              <a:custGeom>
                <a:avLst/>
                <a:gdLst/>
                <a:ahLst/>
                <a:rect l="l" t="t" r="r" b="b"/>
                <a:pathLst>
                  <a:path w="2223982" h="2304947">
                    <a:moveTo>
                      <a:pt x="1215220" y="2265747"/>
                    </a:moveTo>
                    <a:cubicBezTo>
                      <a:pt x="1573252" y="2226547"/>
                      <a:pt x="2223982" y="1366765"/>
                      <a:pt x="2187395" y="995674"/>
                    </a:cubicBezTo>
                    <a:cubicBezTo>
                      <a:pt x="2150808" y="624583"/>
                      <a:pt x="1353728" y="0"/>
                      <a:pt x="995696" y="39200"/>
                    </a:cubicBezTo>
                    <a:cubicBezTo>
                      <a:pt x="637664" y="78400"/>
                      <a:pt x="0" y="862395"/>
                      <a:pt x="39201" y="1230873"/>
                    </a:cubicBezTo>
                    <a:cubicBezTo>
                      <a:pt x="78402" y="1599351"/>
                      <a:pt x="857188" y="2304947"/>
                      <a:pt x="1215220" y="2265747"/>
                    </a:cubicBezTo>
                    <a:close/>
                  </a:path>
                </a:pathLst>
              </a:custGeom>
              <a:noFill/>
              <a:ln w="50760">
                <a:solidFill>
                  <a:srgbClr val="ff0000"/>
                </a:solidFill>
                <a:round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534" name=""/>
          <p:cNvSpPr txBox="1"/>
          <p:nvPr/>
        </p:nvSpPr>
        <p:spPr>
          <a:xfrm>
            <a:off x="456840" y="712440"/>
            <a:ext cx="8404200" cy="285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Arial"/>
              </a:rPr>
              <a:t>Previous picture; Assumed a “reaction plane” defined by impact parameter vector and beam axis vector</a:t>
            </a:r>
            <a:endParaRPr b="1" lang="en-US" sz="2400" spc="-1" strike="noStrike">
              <a:solidFill>
                <a:srgbClr val="1f497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Arial"/>
              </a:rPr>
              <a:t>Recent picture; </a:t>
            </a:r>
            <a:r>
              <a:rPr b="1" lang="en-US" sz="2400" spc="-1" strike="noStrike">
                <a:solidFill>
                  <a:srgbClr val="1f497d"/>
                </a:solidFill>
                <a:latin typeface="Arial"/>
              </a:rPr>
              <a:t>Higher harmonic deformation due to fluctuations of collision geometry</a:t>
            </a:r>
            <a:endParaRPr b="1" lang="en-US" sz="2400" spc="-1" strike="noStrike">
              <a:solidFill>
                <a:srgbClr val="1f497d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formation transferred to momentum space by collective expansion → higher harmonic flow(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9600" cy="6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Higher harmonic event plane &amp; flow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TextBox 26"/>
          <p:cNvSpPr/>
          <p:nvPr/>
        </p:nvSpPr>
        <p:spPr>
          <a:xfrm>
            <a:off x="-149400" y="5711760"/>
            <a:ext cx="1752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zimuth. distributio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7" name="図 41" descr=""/>
          <p:cNvPicPr/>
          <p:nvPr/>
        </p:nvPicPr>
        <p:blipFill>
          <a:blip r:embed="rId3"/>
          <a:stretch/>
        </p:blipFill>
        <p:spPr>
          <a:xfrm>
            <a:off x="1434960" y="5692680"/>
            <a:ext cx="7480440" cy="67644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sp>
        <p:nvSpPr>
          <p:cNvPr id="538" name="日付プレースホルダー 1"/>
          <p:cNvSpPr/>
          <p:nvPr/>
        </p:nvSpPr>
        <p:spPr>
          <a:xfrm>
            <a:off x="5362560" y="6575400"/>
            <a:ext cx="118584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26 Mar. 20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フッター プレースホルダー 3"/>
          <p:cNvSpPr/>
          <p:nvPr/>
        </p:nvSpPr>
        <p:spPr>
          <a:xfrm>
            <a:off x="6512040" y="6575400"/>
            <a:ext cx="191124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ja-JP" sz="1200" spc="-1" strike="noStrike">
                <a:solidFill>
                  <a:srgbClr val="ffffff"/>
                </a:solidFill>
                <a:latin typeface="Calibri"/>
              </a:rPr>
              <a:t>物理学会年次大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スライド番号プレースホルダー 6"/>
          <p:cNvSpPr/>
          <p:nvPr/>
        </p:nvSpPr>
        <p:spPr>
          <a:xfrm>
            <a:off x="8423280" y="6518160"/>
            <a:ext cx="6620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1662DD0-F9C1-44A3-BF48-34F7B16D7146}" type="slidenum"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/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9600" cy="6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ckgrounds from 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in 2 particle correla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 txBox="1"/>
          <p:nvPr/>
        </p:nvSpPr>
        <p:spPr>
          <a:xfrm>
            <a:off x="457200" y="5175000"/>
            <a:ext cx="8229600" cy="95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243360" indent="-243360">
              <a:spcBef>
                <a:spcPts val="550"/>
              </a:spcBef>
              <a:buClr>
                <a:srgbClr val="1f497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1f497d"/>
                </a:solidFill>
                <a:latin typeface="Arial"/>
              </a:rPr>
              <a:t>Backgrounds from v</a:t>
            </a:r>
            <a:r>
              <a:rPr b="1" lang="en-US" sz="2200" spc="-1" strike="noStrike" baseline="-25000">
                <a:solidFill>
                  <a:srgbClr val="1f497d"/>
                </a:solidFill>
                <a:latin typeface="Arial"/>
              </a:rPr>
              <a:t>n</a:t>
            </a:r>
            <a:r>
              <a:rPr b="1" lang="en-US" sz="2200" spc="-1" strike="noStrike">
                <a:solidFill>
                  <a:srgbClr val="1f497d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  <a:p>
            <a:pPr lvl="1" marL="527400" indent="-2026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(especially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) subtraction reduce “Ridge” and “Shoulder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27400" indent="-2026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subtractions help to see more “real” correlation sha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日付プレースホルダー 3"/>
          <p:cNvSpPr/>
          <p:nvPr/>
        </p:nvSpPr>
        <p:spPr>
          <a:xfrm>
            <a:off x="5362560" y="6575400"/>
            <a:ext cx="118584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26 Mar. 20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44" name="図形グループ 24"/>
          <p:cNvGrpSpPr/>
          <p:nvPr/>
        </p:nvGrpSpPr>
        <p:grpSpPr>
          <a:xfrm>
            <a:off x="576360" y="1523880"/>
            <a:ext cx="3968640" cy="3103560"/>
            <a:chOff x="576360" y="1523880"/>
            <a:chExt cx="3968640" cy="3103560"/>
          </a:xfrm>
        </p:grpSpPr>
        <p:grpSp>
          <p:nvGrpSpPr>
            <p:cNvPr id="545" name="図形グループ 27"/>
            <p:cNvGrpSpPr/>
            <p:nvPr/>
          </p:nvGrpSpPr>
          <p:grpSpPr>
            <a:xfrm>
              <a:off x="576360" y="1523880"/>
              <a:ext cx="3968640" cy="3103560"/>
              <a:chOff x="576360" y="1523880"/>
              <a:chExt cx="3968640" cy="3103560"/>
            </a:xfrm>
          </p:grpSpPr>
          <p:pic>
            <p:nvPicPr>
              <p:cNvPr id="546" name="図 8" descr=""/>
              <p:cNvPicPr/>
              <p:nvPr/>
            </p:nvPicPr>
            <p:blipFill>
              <a:blip r:embed="rId1"/>
              <a:stretch/>
            </p:blipFill>
            <p:spPr>
              <a:xfrm>
                <a:off x="576360" y="1523880"/>
                <a:ext cx="3574440" cy="3103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7" name="フリーフォーム 10"/>
              <p:cNvSpPr/>
              <p:nvPr/>
            </p:nvSpPr>
            <p:spPr>
              <a:xfrm>
                <a:off x="1498680" y="2798640"/>
                <a:ext cx="1806480" cy="1066680"/>
              </a:xfrm>
              <a:custGeom>
                <a:avLst/>
                <a:gdLst/>
                <a:ahLst/>
                <a:rect l="l" t="t" r="r" b="b"/>
                <a:pathLst>
                  <a:path w="2175933" h="1185333">
                    <a:moveTo>
                      <a:pt x="541867" y="1185333"/>
                    </a:moveTo>
                    <a:lnTo>
                      <a:pt x="2175933" y="550333"/>
                    </a:lnTo>
                    <a:lnTo>
                      <a:pt x="1879600" y="0"/>
                    </a:lnTo>
                    <a:lnTo>
                      <a:pt x="330200" y="626533"/>
                    </a:lnTo>
                    <a:lnTo>
                      <a:pt x="0" y="1016000"/>
                    </a:lnTo>
                    <a:lnTo>
                      <a:pt x="541867" y="1185333"/>
                    </a:lnTo>
                    <a:close/>
                  </a:path>
                </a:pathLst>
              </a:custGeom>
              <a:solidFill>
                <a:srgbClr val="ff0000">
                  <a:alpha val="30000"/>
                </a:srgbClr>
              </a:solidFill>
              <a:ln w="38160">
                <a:solidFill>
                  <a:srgbClr val="ff0000"/>
                </a:solidFill>
                <a:round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8" name="TextBox 28"/>
              <p:cNvSpPr/>
              <p:nvPr/>
            </p:nvSpPr>
            <p:spPr>
              <a:xfrm>
                <a:off x="3070440" y="2570040"/>
                <a:ext cx="881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"/>
                  </a:rPr>
                  <a:t>Ridge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9" name="TextBox 30"/>
              <p:cNvSpPr/>
              <p:nvPr/>
            </p:nvSpPr>
            <p:spPr>
              <a:xfrm>
                <a:off x="589680" y="1971000"/>
                <a:ext cx="187524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2&lt; p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Arial"/>
                  </a:rPr>
                  <a:t>T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Arial"/>
                  </a:rPr>
                  <a:t>asso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 &lt; p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Arial"/>
                  </a:rPr>
                  <a:t>T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Arial"/>
                  </a:rPr>
                  <a:t>trig 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GeV/C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0" name="TextBox 8"/>
              <p:cNvSpPr/>
              <p:nvPr/>
            </p:nvSpPr>
            <p:spPr>
              <a:xfrm>
                <a:off x="1580760" y="1596600"/>
                <a:ext cx="296424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Phys. Rev. C 80, 064912 (2009)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51" name="直線コネクタ 8"/>
            <p:cNvSpPr/>
            <p:nvPr/>
          </p:nvSpPr>
          <p:spPr>
            <a:xfrm>
              <a:off x="1792440" y="3368520"/>
              <a:ext cx="177480" cy="5032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52" name="TextBox 21"/>
          <p:cNvSpPr/>
          <p:nvPr/>
        </p:nvSpPr>
        <p:spPr>
          <a:xfrm>
            <a:off x="492120" y="4495680"/>
            <a:ext cx="3727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idge : near side long ran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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rrelation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TextBox 22"/>
          <p:cNvSpPr/>
          <p:nvPr/>
        </p:nvSpPr>
        <p:spPr>
          <a:xfrm>
            <a:off x="4506840" y="4495680"/>
            <a:ext cx="4486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oulder: double hump at away sid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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rrelation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(also long in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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4" name="図形グループ 30"/>
          <p:cNvGrpSpPr/>
          <p:nvPr/>
        </p:nvGrpSpPr>
        <p:grpSpPr>
          <a:xfrm>
            <a:off x="4430880" y="1828800"/>
            <a:ext cx="4705920" cy="2527920"/>
            <a:chOff x="4430880" y="1828800"/>
            <a:chExt cx="4705920" cy="2527920"/>
          </a:xfrm>
        </p:grpSpPr>
        <p:grpSp>
          <p:nvGrpSpPr>
            <p:cNvPr id="555" name="図形グループ 23"/>
            <p:cNvGrpSpPr/>
            <p:nvPr/>
          </p:nvGrpSpPr>
          <p:grpSpPr>
            <a:xfrm>
              <a:off x="4430880" y="1828800"/>
              <a:ext cx="4705920" cy="2289960"/>
              <a:chOff x="4430880" y="1828800"/>
              <a:chExt cx="4705920" cy="2289960"/>
            </a:xfrm>
          </p:grpSpPr>
          <p:grpSp>
            <p:nvGrpSpPr>
              <p:cNvPr id="556" name="図形グループ 24"/>
              <p:cNvGrpSpPr/>
              <p:nvPr/>
            </p:nvGrpSpPr>
            <p:grpSpPr>
              <a:xfrm>
                <a:off x="4430880" y="2034720"/>
                <a:ext cx="4238280" cy="2084040"/>
                <a:chOff x="4430880" y="2034720"/>
                <a:chExt cx="4238280" cy="2084040"/>
              </a:xfrm>
            </p:grpSpPr>
            <p:pic>
              <p:nvPicPr>
                <p:cNvPr id="557" name="図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4833720" y="2148840"/>
                  <a:ext cx="3786840" cy="1661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58" name="図 22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4430880" y="2034720"/>
                  <a:ext cx="392400" cy="20314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59" name="図 23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5275080" y="3796200"/>
                  <a:ext cx="3394080" cy="3225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560" name="TextBox 8"/>
              <p:cNvSpPr/>
              <p:nvPr/>
            </p:nvSpPr>
            <p:spPr>
              <a:xfrm>
                <a:off x="5275080" y="1828800"/>
                <a:ext cx="281412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Phys. Rev. C 78, 014901 (2008)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1" name="TextBox 18"/>
              <p:cNvSpPr/>
              <p:nvPr/>
            </p:nvSpPr>
            <p:spPr>
              <a:xfrm>
                <a:off x="8161920" y="1994400"/>
                <a:ext cx="974880" cy="520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○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:p+p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●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: Au+Au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62" name="TextBox 25"/>
            <p:cNvSpPr/>
            <p:nvPr/>
          </p:nvSpPr>
          <p:spPr>
            <a:xfrm>
              <a:off x="7245000" y="3988440"/>
              <a:ext cx="137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Shoulder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63" name="直線矢印コネクタ 19"/>
            <p:cNvCxnSpPr>
              <a:stCxn id="562" idx="0"/>
            </p:cNvCxnSpPr>
            <p:nvPr/>
          </p:nvCxnSpPr>
          <p:spPr>
            <a:xfrm flipV="1">
              <a:off x="7932960" y="3530520"/>
              <a:ext cx="450000" cy="457920"/>
            </a:xfrm>
            <a:prstGeom prst="straightConnector1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564" name="直線矢印コネクタ 20"/>
            <p:cNvCxnSpPr>
              <a:stCxn id="562" idx="0"/>
            </p:cNvCxnSpPr>
            <p:nvPr/>
          </p:nvCxnSpPr>
          <p:spPr>
            <a:xfrm flipH="1" flipV="1">
              <a:off x="7244640" y="3530520"/>
              <a:ext cx="687960" cy="457920"/>
            </a:xfrm>
            <a:prstGeom prst="straightConnector1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</p:cxnSp>
        <p:sp>
          <p:nvSpPr>
            <p:cNvPr id="565" name="TextBox 32"/>
            <p:cNvSpPr/>
            <p:nvPr/>
          </p:nvSpPr>
          <p:spPr>
            <a:xfrm>
              <a:off x="6553440" y="2463840"/>
              <a:ext cx="17136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2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ubtracte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66" name="フリーフォーム 29"/>
          <p:cNvSpPr/>
          <p:nvPr/>
        </p:nvSpPr>
        <p:spPr>
          <a:xfrm rot="883800">
            <a:off x="867960" y="3648240"/>
            <a:ext cx="1362240" cy="563400"/>
          </a:xfrm>
          <a:custGeom>
            <a:avLst/>
            <a:gdLst/>
            <a:ahLst/>
            <a:rect l="l" t="t" r="r" b="b"/>
            <a:pathLst>
              <a:path w="1473944" h="564477">
                <a:moveTo>
                  <a:pt x="0" y="156799"/>
                </a:moveTo>
                <a:cubicBezTo>
                  <a:pt x="71867" y="78399"/>
                  <a:pt x="143735" y="0"/>
                  <a:pt x="219523" y="15680"/>
                </a:cubicBezTo>
                <a:cubicBezTo>
                  <a:pt x="295311" y="31360"/>
                  <a:pt x="360645" y="227359"/>
                  <a:pt x="454727" y="250879"/>
                </a:cubicBezTo>
                <a:cubicBezTo>
                  <a:pt x="548809" y="274399"/>
                  <a:pt x="687318" y="125439"/>
                  <a:pt x="784013" y="156799"/>
                </a:cubicBezTo>
                <a:cubicBezTo>
                  <a:pt x="880708" y="188159"/>
                  <a:pt x="938202" y="399837"/>
                  <a:pt x="1034897" y="439037"/>
                </a:cubicBezTo>
                <a:cubicBezTo>
                  <a:pt x="1131592" y="478237"/>
                  <a:pt x="1291008" y="371091"/>
                  <a:pt x="1364182" y="391998"/>
                </a:cubicBezTo>
                <a:cubicBezTo>
                  <a:pt x="1437357" y="412905"/>
                  <a:pt x="1455650" y="488691"/>
                  <a:pt x="1473944" y="564477"/>
                </a:cubicBezTo>
              </a:path>
            </a:pathLst>
          </a:custGeom>
          <a:noFill/>
          <a:ln w="38160">
            <a:solidFill>
              <a:srgbClr val="ff00ff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フリーフォーム 30"/>
          <p:cNvSpPr/>
          <p:nvPr/>
        </p:nvSpPr>
        <p:spPr>
          <a:xfrm>
            <a:off x="5267160" y="3370320"/>
            <a:ext cx="3314880" cy="363600"/>
          </a:xfrm>
          <a:custGeom>
            <a:avLst/>
            <a:gdLst/>
            <a:ahLst/>
            <a:rect l="l" t="t" r="r" b="b"/>
            <a:pathLst>
              <a:path w="3590778" h="363251">
                <a:moveTo>
                  <a:pt x="0" y="143732"/>
                </a:moveTo>
                <a:cubicBezTo>
                  <a:pt x="81014" y="253491"/>
                  <a:pt x="162029" y="363251"/>
                  <a:pt x="313605" y="347571"/>
                </a:cubicBezTo>
                <a:cubicBezTo>
                  <a:pt x="465181" y="331891"/>
                  <a:pt x="710838" y="54880"/>
                  <a:pt x="909455" y="49653"/>
                </a:cubicBezTo>
                <a:cubicBezTo>
                  <a:pt x="1108072" y="44426"/>
                  <a:pt x="1306689" y="321438"/>
                  <a:pt x="1505305" y="316211"/>
                </a:cubicBezTo>
                <a:cubicBezTo>
                  <a:pt x="1703921" y="310984"/>
                  <a:pt x="1899924" y="15680"/>
                  <a:pt x="2101154" y="18293"/>
                </a:cubicBezTo>
                <a:cubicBezTo>
                  <a:pt x="2302384" y="20906"/>
                  <a:pt x="2503614" y="331891"/>
                  <a:pt x="2712684" y="331891"/>
                </a:cubicBezTo>
                <a:cubicBezTo>
                  <a:pt x="2921754" y="331891"/>
                  <a:pt x="3209225" y="36586"/>
                  <a:pt x="3355574" y="18293"/>
                </a:cubicBezTo>
                <a:cubicBezTo>
                  <a:pt x="3501923" y="0"/>
                  <a:pt x="3546350" y="111066"/>
                  <a:pt x="3590778" y="222132"/>
                </a:cubicBezTo>
              </a:path>
            </a:pathLst>
          </a:custGeom>
          <a:noFill/>
          <a:ln w="38160">
            <a:solidFill>
              <a:srgbClr val="ff00ff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テキスト ボックス 4"/>
          <p:cNvSpPr/>
          <p:nvPr/>
        </p:nvSpPr>
        <p:spPr>
          <a:xfrm>
            <a:off x="149400" y="3503520"/>
            <a:ext cx="61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00ff"/>
                </a:solidFill>
                <a:latin typeface="Calibri"/>
              </a:rPr>
              <a:t>n=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テキスト ボックス 36"/>
          <p:cNvSpPr/>
          <p:nvPr/>
        </p:nvSpPr>
        <p:spPr>
          <a:xfrm>
            <a:off x="4640400" y="3527280"/>
            <a:ext cx="61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00ff"/>
                </a:solidFill>
                <a:latin typeface="Calibri"/>
              </a:rPr>
              <a:t>n=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0" name="図 3" descr=""/>
          <p:cNvPicPr/>
          <p:nvPr/>
        </p:nvPicPr>
        <p:blipFill>
          <a:blip r:embed="rId5"/>
          <a:stretch/>
        </p:blipFill>
        <p:spPr>
          <a:xfrm>
            <a:off x="3745080" y="4986360"/>
            <a:ext cx="4165560" cy="762120"/>
          </a:xfrm>
          <a:prstGeom prst="rect">
            <a:avLst/>
          </a:prstGeom>
          <a:ln w="0">
            <a:noFill/>
          </a:ln>
        </p:spPr>
      </p:pic>
      <p:sp>
        <p:nvSpPr>
          <p:cNvPr id="571" name="フッター プレースホルダー 1"/>
          <p:cNvSpPr/>
          <p:nvPr/>
        </p:nvSpPr>
        <p:spPr>
          <a:xfrm>
            <a:off x="6512040" y="6575400"/>
            <a:ext cx="191124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ja-JP" sz="1200" spc="-1" strike="noStrike">
                <a:solidFill>
                  <a:srgbClr val="ffffff"/>
                </a:solidFill>
                <a:latin typeface="Calibri"/>
              </a:rPr>
              <a:t>物理学会年次大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スライド番号プレースホルダー 6"/>
          <p:cNvSpPr/>
          <p:nvPr/>
        </p:nvSpPr>
        <p:spPr>
          <a:xfrm>
            <a:off x="8423280" y="6518160"/>
            <a:ext cx="6620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CC321F1-A079-48CF-9A8E-179CF7B8394B}" type="slidenum"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/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3" name="図 2" descr=""/>
          <p:cNvPicPr/>
          <p:nvPr/>
        </p:nvPicPr>
        <p:blipFill>
          <a:blip r:embed="rId6"/>
          <a:stretch/>
        </p:blipFill>
        <p:spPr>
          <a:xfrm>
            <a:off x="930240" y="768240"/>
            <a:ext cx="7493040" cy="78768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4" name="図 10" descr=""/>
          <p:cNvPicPr/>
          <p:nvPr/>
        </p:nvPicPr>
        <p:blipFill>
          <a:blip r:embed="rId1"/>
          <a:stretch/>
        </p:blipFill>
        <p:spPr>
          <a:xfrm>
            <a:off x="179280" y="590400"/>
            <a:ext cx="8353440" cy="2598840"/>
          </a:xfrm>
          <a:prstGeom prst="rect">
            <a:avLst/>
          </a:prstGeom>
          <a:ln w="0">
            <a:noFill/>
          </a:ln>
        </p:spPr>
      </p:pic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9600" cy="6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subtracted correl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 txBox="1"/>
          <p:nvPr/>
        </p:nvSpPr>
        <p:spPr>
          <a:xfrm>
            <a:off x="457200" y="541620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Arial"/>
              </a:rPr>
              <a:t>Shoulder is described by v</a:t>
            </a:r>
            <a:r>
              <a:rPr b="1" lang="en-US" sz="2400" spc="-1" strike="noStrike" baseline="-25000">
                <a:solidFill>
                  <a:srgbClr val="1f497d"/>
                </a:solidFill>
                <a:latin typeface="Arial"/>
              </a:rPr>
              <a:t>n</a:t>
            </a:r>
            <a:r>
              <a:rPr b="1" lang="en-US" sz="2400" spc="-1" strike="noStrike">
                <a:solidFill>
                  <a:srgbClr val="1f497d"/>
                </a:solidFill>
                <a:latin typeface="Arial"/>
              </a:rPr>
              <a:t> in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entral</a:t>
            </a:r>
            <a:r>
              <a:rPr b="1" lang="en-US" sz="2400" spc="-1" strike="noStrike">
                <a:solidFill>
                  <a:srgbClr val="1f497d"/>
                </a:solidFill>
                <a:latin typeface="Arial"/>
              </a:rPr>
              <a:t> collisions</a:t>
            </a:r>
            <a:endParaRPr b="1" lang="en-US" sz="2400" spc="-1" strike="noStrike">
              <a:solidFill>
                <a:srgbClr val="1f497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Arial"/>
              </a:rPr>
              <a:t>Shoulder is still seen </a:t>
            </a:r>
            <a:r>
              <a:rPr b="1" lang="en-US" sz="2400" spc="-1" strike="noStrike">
                <a:solidFill>
                  <a:srgbClr val="1f497d"/>
                </a:solidFill>
                <a:latin typeface="Arial"/>
              </a:rPr>
              <a:t>in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mid-central </a:t>
            </a:r>
            <a:r>
              <a:rPr b="1" lang="en-US" sz="2400" spc="-1" strike="noStrike">
                <a:solidFill>
                  <a:srgbClr val="1f497d"/>
                </a:solidFill>
                <a:latin typeface="Arial"/>
              </a:rPr>
              <a:t>collisions </a:t>
            </a:r>
            <a:endParaRPr b="1" lang="en-US" sz="2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77" name="日付プレースホルダー 3"/>
          <p:cNvSpPr/>
          <p:nvPr/>
        </p:nvSpPr>
        <p:spPr>
          <a:xfrm>
            <a:off x="5362560" y="6575400"/>
            <a:ext cx="118584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26 Mar. 20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8" name="図 18" descr=""/>
          <p:cNvPicPr/>
          <p:nvPr/>
        </p:nvPicPr>
        <p:blipFill>
          <a:blip r:embed="rId2"/>
          <a:stretch/>
        </p:blipFill>
        <p:spPr>
          <a:xfrm>
            <a:off x="155520" y="2855880"/>
            <a:ext cx="8355240" cy="2598840"/>
          </a:xfrm>
          <a:prstGeom prst="rect">
            <a:avLst/>
          </a:prstGeom>
          <a:ln w="0">
            <a:noFill/>
          </a:ln>
        </p:spPr>
      </p:pic>
      <p:sp>
        <p:nvSpPr>
          <p:cNvPr id="579" name="TextBox 11"/>
          <p:cNvSpPr/>
          <p:nvPr/>
        </p:nvSpPr>
        <p:spPr>
          <a:xfrm>
            <a:off x="527040" y="987480"/>
            <a:ext cx="175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work in progres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フッター プレースホルダー 6"/>
          <p:cNvSpPr/>
          <p:nvPr/>
        </p:nvSpPr>
        <p:spPr>
          <a:xfrm>
            <a:off x="6512040" y="6575400"/>
            <a:ext cx="191124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ja-JP" sz="1200" spc="-1" strike="noStrike">
                <a:solidFill>
                  <a:srgbClr val="ffffff"/>
                </a:solidFill>
                <a:latin typeface="Calibri"/>
              </a:rPr>
              <a:t>物理学会年次大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テキスト ボックス 1"/>
          <p:cNvSpPr/>
          <p:nvPr/>
        </p:nvSpPr>
        <p:spPr>
          <a:xfrm>
            <a:off x="5257800" y="855720"/>
            <a:ext cx="3181320" cy="40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&amp; 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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) subtract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テキスト ボックス 10"/>
          <p:cNvSpPr/>
          <p:nvPr/>
        </p:nvSpPr>
        <p:spPr>
          <a:xfrm>
            <a:off x="5275440" y="857160"/>
            <a:ext cx="3181320" cy="40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&amp; 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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) ZYAM subtract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テキスト ボックス 11"/>
          <p:cNvSpPr/>
          <p:nvPr/>
        </p:nvSpPr>
        <p:spPr>
          <a:xfrm>
            <a:off x="5129280" y="3117960"/>
            <a:ext cx="3327480" cy="40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, 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&amp; 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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) ZYAM subtract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スライド番号プレースホルダー 7"/>
          <p:cNvSpPr/>
          <p:nvPr/>
        </p:nvSpPr>
        <p:spPr>
          <a:xfrm>
            <a:off x="8423280" y="6518160"/>
            <a:ext cx="6620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5B85DD1-1C7B-4558-907D-20D26D42E537}" type="slidenum"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/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9600" cy="6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hysics Motiv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 txBox="1"/>
          <p:nvPr/>
        </p:nvSpPr>
        <p:spPr>
          <a:xfrm>
            <a:off x="457200" y="774360"/>
            <a:ext cx="8229600" cy="52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1f497d"/>
                </a:solidFill>
                <a:latin typeface="Arial"/>
              </a:rPr>
              <a:t>v</a:t>
            </a:r>
            <a:r>
              <a:rPr b="1" lang="en-US" sz="2600" spc="-1" strike="noStrike" baseline="-25000">
                <a:solidFill>
                  <a:srgbClr val="1f497d"/>
                </a:solidFill>
                <a:latin typeface="Arial"/>
              </a:rPr>
              <a:t>n</a:t>
            </a:r>
            <a:r>
              <a:rPr b="1" lang="en-US" sz="2600" spc="-1" strike="noStrike">
                <a:solidFill>
                  <a:srgbClr val="1f497d"/>
                </a:solidFill>
                <a:latin typeface="Arial"/>
              </a:rPr>
              <a:t> subtracted correlations still show double-hump structure in ways side in mid-central collisions</a:t>
            </a:r>
            <a:endParaRPr b="1" lang="en-US" sz="2600" spc="-1" strike="noStrike">
              <a:solidFill>
                <a:srgbClr val="1f497d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verage of jets flying to various direction in bulk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1f497d"/>
                </a:solidFill>
                <a:latin typeface="Arial"/>
              </a:rPr>
              <a:t>Detailed survey of away side peaks</a:t>
            </a:r>
            <a:endParaRPr b="1" lang="en-US" sz="2600" spc="-1" strike="noStrike">
              <a:solidFill>
                <a:srgbClr val="1f497d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wo particle correlations with trigger selection relative to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&amp;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ヒラギノ角ゴ ProN W3"/>
              <a:buChar char="-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cation of away side w.r.t.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&amp;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ヒラギノ角ゴ ProN W3"/>
              <a:buChar char="-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fference betwee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&amp;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日付プレースホルダー 3"/>
          <p:cNvSpPr/>
          <p:nvPr/>
        </p:nvSpPr>
        <p:spPr>
          <a:xfrm>
            <a:off x="5362560" y="6575400"/>
            <a:ext cx="118584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26 Mar. 20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フッター プレースホルダー 1"/>
          <p:cNvSpPr/>
          <p:nvPr/>
        </p:nvSpPr>
        <p:spPr>
          <a:xfrm>
            <a:off x="6512040" y="6575400"/>
            <a:ext cx="191124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ja-JP" sz="1200" spc="-1" strike="noStrike">
                <a:solidFill>
                  <a:srgbClr val="ffffff"/>
                </a:solidFill>
                <a:latin typeface="Calibri"/>
              </a:rPr>
              <a:t>物理学会年次大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89" name="図形グループ 95"/>
          <p:cNvGrpSpPr/>
          <p:nvPr/>
        </p:nvGrpSpPr>
        <p:grpSpPr>
          <a:xfrm>
            <a:off x="4855320" y="4342680"/>
            <a:ext cx="2228040" cy="2138040"/>
            <a:chOff x="4855320" y="4342680"/>
            <a:chExt cx="2228040" cy="2138040"/>
          </a:xfrm>
        </p:grpSpPr>
        <p:sp>
          <p:nvSpPr>
            <p:cNvPr id="590" name="フリーフォーム 7"/>
            <p:cNvSpPr/>
            <p:nvPr/>
          </p:nvSpPr>
          <p:spPr>
            <a:xfrm rot="1816800">
              <a:off x="5113080" y="4669920"/>
              <a:ext cx="1700280" cy="1482840"/>
            </a:xfrm>
            <a:custGeom>
              <a:avLst/>
              <a:gdLst/>
              <a:ahLst/>
              <a:rect l="l" t="t" r="r" b="b"/>
              <a:pathLst>
                <a:path w="1701026" h="1481752">
                  <a:moveTo>
                    <a:pt x="843981" y="0"/>
                  </a:moveTo>
                  <a:cubicBezTo>
                    <a:pt x="600977" y="0"/>
                    <a:pt x="0" y="1058394"/>
                    <a:pt x="122808" y="1270073"/>
                  </a:cubicBezTo>
                  <a:cubicBezTo>
                    <a:pt x="245616" y="1481752"/>
                    <a:pt x="1460636" y="1481752"/>
                    <a:pt x="1580831" y="1270073"/>
                  </a:cubicBezTo>
                  <a:cubicBezTo>
                    <a:pt x="1701026" y="1058394"/>
                    <a:pt x="1086985" y="0"/>
                    <a:pt x="843981" y="0"/>
                  </a:cubicBezTo>
                  <a:close/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1" name="直線コネクタ 8"/>
            <p:cNvSpPr/>
            <p:nvPr/>
          </p:nvSpPr>
          <p:spPr>
            <a:xfrm>
              <a:off x="5921280" y="5502240"/>
              <a:ext cx="1119240" cy="172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2" name="直線コネクタ 9"/>
            <p:cNvSpPr/>
            <p:nvPr/>
          </p:nvSpPr>
          <p:spPr>
            <a:xfrm flipV="1">
              <a:off x="5923080" y="5268600"/>
              <a:ext cx="903240" cy="2289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3" name="直線コネクタ 10"/>
            <p:cNvSpPr/>
            <p:nvPr/>
          </p:nvSpPr>
          <p:spPr>
            <a:xfrm flipV="1">
              <a:off x="5915880" y="5038200"/>
              <a:ext cx="812160" cy="4564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4" name="直線コネクタ 11"/>
            <p:cNvSpPr/>
            <p:nvPr/>
          </p:nvSpPr>
          <p:spPr>
            <a:xfrm flipV="1">
              <a:off x="5933160" y="4833000"/>
              <a:ext cx="666720" cy="6508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5" name="直線コネクタ 12"/>
            <p:cNvSpPr/>
            <p:nvPr/>
          </p:nvSpPr>
          <p:spPr>
            <a:xfrm flipV="1">
              <a:off x="5909400" y="4556880"/>
              <a:ext cx="573480" cy="9615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6" name="直線コネクタ 13"/>
            <p:cNvSpPr/>
            <p:nvPr/>
          </p:nvSpPr>
          <p:spPr>
            <a:xfrm>
              <a:off x="5930640" y="5512320"/>
              <a:ext cx="897120" cy="2512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7" name="直線コネクタ 14"/>
            <p:cNvSpPr/>
            <p:nvPr/>
          </p:nvSpPr>
          <p:spPr>
            <a:xfrm>
              <a:off x="5921280" y="5486040"/>
              <a:ext cx="801360" cy="4752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8" name="直線コネクタ 15"/>
            <p:cNvSpPr/>
            <p:nvPr/>
          </p:nvSpPr>
          <p:spPr>
            <a:xfrm>
              <a:off x="5923800" y="5498280"/>
              <a:ext cx="650880" cy="6667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9" name="直線コネクタ 16"/>
            <p:cNvSpPr/>
            <p:nvPr/>
          </p:nvSpPr>
          <p:spPr>
            <a:xfrm>
              <a:off x="5917680" y="5497560"/>
              <a:ext cx="547560" cy="9763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0" name="TextBox 69"/>
            <p:cNvSpPr/>
            <p:nvPr/>
          </p:nvSpPr>
          <p:spPr>
            <a:xfrm>
              <a:off x="6303600" y="6168240"/>
              <a:ext cx="424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➊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1" name="TextBox 70"/>
            <p:cNvSpPr/>
            <p:nvPr/>
          </p:nvSpPr>
          <p:spPr>
            <a:xfrm>
              <a:off x="6478560" y="5950800"/>
              <a:ext cx="424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➋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2" name="TextBox 71"/>
            <p:cNvSpPr/>
            <p:nvPr/>
          </p:nvSpPr>
          <p:spPr>
            <a:xfrm>
              <a:off x="6582600" y="5726520"/>
              <a:ext cx="424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➌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3" name="TextBox 72"/>
            <p:cNvSpPr/>
            <p:nvPr/>
          </p:nvSpPr>
          <p:spPr>
            <a:xfrm>
              <a:off x="6658920" y="5493960"/>
              <a:ext cx="424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➍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4" name="TextBox 73"/>
            <p:cNvSpPr/>
            <p:nvPr/>
          </p:nvSpPr>
          <p:spPr>
            <a:xfrm>
              <a:off x="6651720" y="5257800"/>
              <a:ext cx="424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➄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5" name="TextBox 74"/>
            <p:cNvSpPr/>
            <p:nvPr/>
          </p:nvSpPr>
          <p:spPr>
            <a:xfrm>
              <a:off x="6588360" y="4993560"/>
              <a:ext cx="424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➅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6" name="TextBox 75"/>
            <p:cNvSpPr/>
            <p:nvPr/>
          </p:nvSpPr>
          <p:spPr>
            <a:xfrm>
              <a:off x="6471720" y="4789080"/>
              <a:ext cx="424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➆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7" name="TextBox 76"/>
            <p:cNvSpPr/>
            <p:nvPr/>
          </p:nvSpPr>
          <p:spPr>
            <a:xfrm>
              <a:off x="6303960" y="4601520"/>
              <a:ext cx="424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➇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08" name="図形グループ 63"/>
          <p:cNvGrpSpPr/>
          <p:nvPr/>
        </p:nvGrpSpPr>
        <p:grpSpPr>
          <a:xfrm>
            <a:off x="2303640" y="4413240"/>
            <a:ext cx="1755720" cy="2138400"/>
            <a:chOff x="2303640" y="4413240"/>
            <a:chExt cx="1755720" cy="2138400"/>
          </a:xfrm>
        </p:grpSpPr>
        <p:sp>
          <p:nvSpPr>
            <p:cNvPr id="609" name="円/楕円 26"/>
            <p:cNvSpPr/>
            <p:nvPr/>
          </p:nvSpPr>
          <p:spPr>
            <a:xfrm>
              <a:off x="2522520" y="4722840"/>
              <a:ext cx="838080" cy="148284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0" name="直線コネクタ 27"/>
            <p:cNvSpPr/>
            <p:nvPr/>
          </p:nvSpPr>
          <p:spPr>
            <a:xfrm flipH="1">
              <a:off x="2941920" y="4413240"/>
              <a:ext cx="1440" cy="21384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1" name="直線コネクタ 28"/>
            <p:cNvSpPr/>
            <p:nvPr/>
          </p:nvSpPr>
          <p:spPr>
            <a:xfrm flipV="1">
              <a:off x="2930400" y="5152680"/>
              <a:ext cx="868680" cy="3373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2" name="直線コネクタ 29"/>
            <p:cNvSpPr/>
            <p:nvPr/>
          </p:nvSpPr>
          <p:spPr>
            <a:xfrm flipV="1">
              <a:off x="2956320" y="4820040"/>
              <a:ext cx="667800" cy="649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3" name="直線コネクタ 30"/>
            <p:cNvSpPr/>
            <p:nvPr/>
          </p:nvSpPr>
          <p:spPr>
            <a:xfrm flipV="1">
              <a:off x="2944440" y="4612680"/>
              <a:ext cx="373680" cy="8532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4" name="直線コネクタ 31"/>
            <p:cNvSpPr/>
            <p:nvPr/>
          </p:nvSpPr>
          <p:spPr>
            <a:xfrm>
              <a:off x="2947680" y="5485320"/>
              <a:ext cx="859680" cy="3592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5" name="直線コネクタ 32"/>
            <p:cNvSpPr/>
            <p:nvPr/>
          </p:nvSpPr>
          <p:spPr>
            <a:xfrm>
              <a:off x="2930760" y="5471640"/>
              <a:ext cx="652680" cy="667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6" name="直線コネクタ 33"/>
            <p:cNvSpPr/>
            <p:nvPr/>
          </p:nvSpPr>
          <p:spPr>
            <a:xfrm>
              <a:off x="2946240" y="5472000"/>
              <a:ext cx="354240" cy="8618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7" name="TextBox 77"/>
            <p:cNvSpPr/>
            <p:nvPr/>
          </p:nvSpPr>
          <p:spPr>
            <a:xfrm>
              <a:off x="2923560" y="6205680"/>
              <a:ext cx="424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➊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8" name="TextBox 78"/>
            <p:cNvSpPr/>
            <p:nvPr/>
          </p:nvSpPr>
          <p:spPr>
            <a:xfrm>
              <a:off x="3236400" y="6088680"/>
              <a:ext cx="424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➋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9" name="TextBox 79"/>
            <p:cNvSpPr/>
            <p:nvPr/>
          </p:nvSpPr>
          <p:spPr>
            <a:xfrm>
              <a:off x="3473280" y="5862240"/>
              <a:ext cx="424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➌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0" name="TextBox 80"/>
            <p:cNvSpPr/>
            <p:nvPr/>
          </p:nvSpPr>
          <p:spPr>
            <a:xfrm>
              <a:off x="3634560" y="5509800"/>
              <a:ext cx="424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➍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1" name="TextBox 81"/>
            <p:cNvSpPr/>
            <p:nvPr/>
          </p:nvSpPr>
          <p:spPr>
            <a:xfrm>
              <a:off x="3634560" y="5181840"/>
              <a:ext cx="424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➄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2" name="TextBox 82"/>
            <p:cNvSpPr/>
            <p:nvPr/>
          </p:nvSpPr>
          <p:spPr>
            <a:xfrm>
              <a:off x="3473280" y="4847040"/>
              <a:ext cx="424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➅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3" name="TextBox 83"/>
            <p:cNvSpPr/>
            <p:nvPr/>
          </p:nvSpPr>
          <p:spPr>
            <a:xfrm>
              <a:off x="3236400" y="4583520"/>
              <a:ext cx="424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➆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4" name="TextBox 84"/>
            <p:cNvSpPr/>
            <p:nvPr/>
          </p:nvSpPr>
          <p:spPr>
            <a:xfrm>
              <a:off x="2936520" y="4444920"/>
              <a:ext cx="424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➇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5" name="直線コネクタ 42"/>
            <p:cNvSpPr/>
            <p:nvPr/>
          </p:nvSpPr>
          <p:spPr>
            <a:xfrm>
              <a:off x="2303640" y="5483160"/>
              <a:ext cx="1675080" cy="2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26" name="スライド番号プレースホルダー 43"/>
          <p:cNvSpPr/>
          <p:nvPr/>
        </p:nvSpPr>
        <p:spPr>
          <a:xfrm>
            <a:off x="8423280" y="6518160"/>
            <a:ext cx="6620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E4F357-76E8-4317-8DDD-A782CB73D726}" type="slidenum"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/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9600" cy="6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nalysis Overview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 txBox="1"/>
          <p:nvPr/>
        </p:nvSpPr>
        <p:spPr>
          <a:xfrm>
            <a:off x="457200" y="3249720"/>
            <a:ext cx="82296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550"/>
              </a:spcBef>
              <a:buClr>
                <a:srgbClr val="1f497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1f497d"/>
                </a:solidFill>
                <a:latin typeface="Arial"/>
              </a:rPr>
              <a:t>v</a:t>
            </a:r>
            <a:r>
              <a:rPr b="1" lang="en-US" sz="2200" spc="-1" strike="noStrike" baseline="-25000">
                <a:solidFill>
                  <a:srgbClr val="1f497d"/>
                </a:solidFill>
                <a:latin typeface="Arial"/>
              </a:rPr>
              <a:t>n</a:t>
            </a:r>
            <a:r>
              <a:rPr b="1" lang="en-US" sz="2200" spc="-1" strike="noStrike">
                <a:solidFill>
                  <a:srgbClr val="1f497d"/>
                </a:solidFill>
                <a:latin typeface="Arial"/>
              </a:rPr>
              <a:t> measurements</a:t>
            </a: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ward Event Plane(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RX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- Charged Hadrons in mid-rapid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99"/>
              </a:spcBef>
              <a:buClr>
                <a:srgbClr val="000000"/>
              </a:buClr>
              <a:buFont typeface="ヒラギノ角ゴ ProN W3"/>
              <a:buChar char="-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exclude autocorrelations by j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550"/>
              </a:spcBef>
              <a:buClr>
                <a:srgbClr val="1f497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1f497d"/>
                </a:solidFill>
                <a:latin typeface="Arial"/>
              </a:rPr>
              <a:t>Selection of Trigger Directions</a:t>
            </a: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  <a:p>
            <a:pPr lvl="1" marL="713160" indent="-274320">
              <a:spcBef>
                <a:spcPts val="476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Forward Event Plane(</a:t>
            </a:r>
            <a:r>
              <a:rPr b="0" lang="en-US" sz="1900" spc="-1" strike="noStrike">
                <a:solidFill>
                  <a:srgbClr val="ff0000"/>
                </a:solidFill>
                <a:latin typeface="Arial"/>
              </a:rPr>
              <a:t>RXN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)-Charged Hadron Trigger in mid-rapidity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550"/>
              </a:spcBef>
              <a:buClr>
                <a:srgbClr val="1f497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1f497d"/>
                </a:solidFill>
                <a:latin typeface="Arial"/>
              </a:rPr>
              <a:t>2 particle charged hadron correlations in azimuth</a:t>
            </a: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  <a:p>
            <a:pPr lvl="1" marL="713160" indent="-274320">
              <a:spcBef>
                <a:spcPts val="476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Mid-rapidity Trigger  – Mid-rapidity Associate, p</a:t>
            </a:r>
            <a:r>
              <a:rPr b="0" lang="en-US" sz="19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: 2-4 &amp; 1-2 [GeV/c]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550"/>
              </a:spcBef>
              <a:buClr>
                <a:srgbClr val="1f497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1f497d"/>
                </a:solidFill>
                <a:latin typeface="Arial"/>
              </a:rPr>
              <a:t>Subtract v</a:t>
            </a:r>
            <a:r>
              <a:rPr b="1" lang="en-US" sz="2200" spc="-1" strike="noStrike" baseline="-25000">
                <a:solidFill>
                  <a:srgbClr val="1f497d"/>
                </a:solidFill>
                <a:latin typeface="Arial"/>
              </a:rPr>
              <a:t>n</a:t>
            </a:r>
            <a:r>
              <a:rPr b="1" lang="en-US" sz="2200" spc="-1" strike="noStrike">
                <a:solidFill>
                  <a:srgbClr val="1f497d"/>
                </a:solidFill>
                <a:latin typeface="Arial"/>
              </a:rPr>
              <a:t> modulated backgrounds by ZYAM Method</a:t>
            </a: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29" name="日付プレースホルダー 3"/>
          <p:cNvSpPr/>
          <p:nvPr/>
        </p:nvSpPr>
        <p:spPr>
          <a:xfrm>
            <a:off x="5362560" y="6575400"/>
            <a:ext cx="118584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26 Mar. 20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0" name="図 3" descr=""/>
          <p:cNvPicPr/>
          <p:nvPr/>
        </p:nvPicPr>
        <p:blipFill>
          <a:blip r:embed="rId1"/>
          <a:stretch/>
        </p:blipFill>
        <p:spPr>
          <a:xfrm>
            <a:off x="6249960" y="1162080"/>
            <a:ext cx="2946600" cy="2120760"/>
          </a:xfrm>
          <a:prstGeom prst="rect">
            <a:avLst/>
          </a:prstGeom>
          <a:ln w="0">
            <a:noFill/>
          </a:ln>
        </p:spPr>
      </p:pic>
      <p:grpSp>
        <p:nvGrpSpPr>
          <p:cNvPr id="631" name="図形グループ 4"/>
          <p:cNvGrpSpPr/>
          <p:nvPr/>
        </p:nvGrpSpPr>
        <p:grpSpPr>
          <a:xfrm>
            <a:off x="779400" y="849240"/>
            <a:ext cx="4465800" cy="2656800"/>
            <a:chOff x="779400" y="849240"/>
            <a:chExt cx="4465800" cy="2656800"/>
          </a:xfrm>
        </p:grpSpPr>
        <p:grpSp>
          <p:nvGrpSpPr>
            <p:cNvPr id="632" name="図形グループ 123"/>
            <p:cNvGrpSpPr/>
            <p:nvPr/>
          </p:nvGrpSpPr>
          <p:grpSpPr>
            <a:xfrm>
              <a:off x="779400" y="849240"/>
              <a:ext cx="4465800" cy="2656800"/>
              <a:chOff x="779400" y="849240"/>
              <a:chExt cx="4465800" cy="2656800"/>
            </a:xfrm>
          </p:grpSpPr>
          <p:sp>
            <p:nvSpPr>
              <p:cNvPr id="633" name="Line 47"/>
              <p:cNvSpPr/>
              <p:nvPr/>
            </p:nvSpPr>
            <p:spPr>
              <a:xfrm>
                <a:off x="1807560" y="3105360"/>
                <a:ext cx="3353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4" name="Line 49"/>
              <p:cNvSpPr/>
              <p:nvPr/>
            </p:nvSpPr>
            <p:spPr>
              <a:xfrm flipV="1">
                <a:off x="3408120" y="1201320"/>
                <a:ext cx="0" cy="1980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5" name="Line 51"/>
              <p:cNvSpPr/>
              <p:nvPr/>
            </p:nvSpPr>
            <p:spPr>
              <a:xfrm flipV="1">
                <a:off x="2112480" y="1658160"/>
                <a:ext cx="685800" cy="144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6" name="Line 52"/>
              <p:cNvSpPr/>
              <p:nvPr/>
            </p:nvSpPr>
            <p:spPr>
              <a:xfrm flipH="1" flipV="1">
                <a:off x="4017600" y="1658160"/>
                <a:ext cx="685800" cy="144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7" name="Line 53"/>
              <p:cNvSpPr/>
              <p:nvPr/>
            </p:nvSpPr>
            <p:spPr>
              <a:xfrm>
                <a:off x="2798280" y="1658520"/>
                <a:ext cx="609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8" name="Line 54"/>
              <p:cNvSpPr/>
              <p:nvPr/>
            </p:nvSpPr>
            <p:spPr>
              <a:xfrm>
                <a:off x="3408120" y="1658520"/>
                <a:ext cx="609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9" name="Rectangle 55"/>
              <p:cNvSpPr/>
              <p:nvPr/>
            </p:nvSpPr>
            <p:spPr>
              <a:xfrm>
                <a:off x="2036160" y="2877120"/>
                <a:ext cx="152280" cy="228240"/>
              </a:xfrm>
              <a:prstGeom prst="rect">
                <a:avLst/>
              </a:prstGeom>
              <a:noFill/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0" name="Text Box 56"/>
              <p:cNvSpPr/>
              <p:nvPr/>
            </p:nvSpPr>
            <p:spPr>
              <a:xfrm>
                <a:off x="3279240" y="318168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1" name="Text Box 57"/>
              <p:cNvSpPr/>
              <p:nvPr/>
            </p:nvSpPr>
            <p:spPr>
              <a:xfrm>
                <a:off x="4574880" y="318168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2" name="Text Box 58"/>
              <p:cNvSpPr/>
              <p:nvPr/>
            </p:nvSpPr>
            <p:spPr>
              <a:xfrm>
                <a:off x="1923840" y="3181680"/>
                <a:ext cx="33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-5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3" name="Text Box 43"/>
              <p:cNvSpPr/>
              <p:nvPr/>
            </p:nvSpPr>
            <p:spPr>
              <a:xfrm>
                <a:off x="797400" y="2602080"/>
                <a:ext cx="990000" cy="307080"/>
              </a:xfrm>
              <a:prstGeom prst="rect">
                <a:avLst/>
              </a:prstGeom>
              <a:noFill/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ZDC/SMD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4" name="Rectangle 60"/>
              <p:cNvSpPr/>
              <p:nvPr/>
            </p:nvSpPr>
            <p:spPr>
              <a:xfrm>
                <a:off x="4627440" y="2877120"/>
                <a:ext cx="152280" cy="228240"/>
              </a:xfrm>
              <a:prstGeom prst="rect">
                <a:avLst/>
              </a:prstGeom>
              <a:noFill/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5" name="Rectangle 65"/>
              <p:cNvSpPr/>
              <p:nvPr/>
            </p:nvSpPr>
            <p:spPr>
              <a:xfrm>
                <a:off x="4093920" y="2039040"/>
                <a:ext cx="228600" cy="1065960"/>
              </a:xfrm>
              <a:prstGeom prst="rect">
                <a:avLst/>
              </a:prstGeom>
              <a:noFill/>
              <a:ln w="1908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6" name="Rectangle 66"/>
              <p:cNvSpPr/>
              <p:nvPr/>
            </p:nvSpPr>
            <p:spPr>
              <a:xfrm>
                <a:off x="2493360" y="2039040"/>
                <a:ext cx="228600" cy="1065960"/>
              </a:xfrm>
              <a:prstGeom prst="rect">
                <a:avLst/>
              </a:prstGeom>
              <a:noFill/>
              <a:ln w="1908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7" name="Rectangle 68"/>
              <p:cNvSpPr/>
              <p:nvPr/>
            </p:nvSpPr>
            <p:spPr>
              <a:xfrm>
                <a:off x="3713040" y="1658520"/>
                <a:ext cx="304560" cy="1446840"/>
              </a:xfrm>
              <a:prstGeom prst="rect">
                <a:avLst/>
              </a:pr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8" name="Rectangle 70"/>
              <p:cNvSpPr/>
              <p:nvPr/>
            </p:nvSpPr>
            <p:spPr>
              <a:xfrm>
                <a:off x="2798280" y="1658520"/>
                <a:ext cx="304560" cy="1446840"/>
              </a:xfrm>
              <a:prstGeom prst="rect">
                <a:avLst/>
              </a:pr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9" name="Rectangle 72"/>
              <p:cNvSpPr/>
              <p:nvPr/>
            </p:nvSpPr>
            <p:spPr>
              <a:xfrm>
                <a:off x="3331800" y="1658520"/>
                <a:ext cx="152280" cy="1446840"/>
              </a:xfrm>
              <a:prstGeom prst="rect">
                <a:avLst/>
              </a:prstGeom>
              <a:noFill/>
              <a:ln w="1908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0" name="Text Box 74"/>
              <p:cNvSpPr/>
              <p:nvPr/>
            </p:nvSpPr>
            <p:spPr>
              <a:xfrm>
                <a:off x="4956120" y="3198960"/>
                <a:ext cx="289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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1" name="Text Box 75"/>
              <p:cNvSpPr/>
              <p:nvPr/>
            </p:nvSpPr>
            <p:spPr>
              <a:xfrm>
                <a:off x="3408480" y="1277640"/>
                <a:ext cx="665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dN/d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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2" name="Rectangle 62"/>
              <p:cNvSpPr/>
              <p:nvPr/>
            </p:nvSpPr>
            <p:spPr>
              <a:xfrm>
                <a:off x="2417400" y="2191320"/>
                <a:ext cx="228600" cy="913680"/>
              </a:xfrm>
              <a:prstGeom prst="rect">
                <a:avLst/>
              </a:prstGeom>
              <a:noFill/>
              <a:ln w="1908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3" name="Rectangle 63"/>
              <p:cNvSpPr/>
              <p:nvPr/>
            </p:nvSpPr>
            <p:spPr>
              <a:xfrm>
                <a:off x="4170240" y="2191320"/>
                <a:ext cx="228600" cy="913680"/>
              </a:xfrm>
              <a:prstGeom prst="rect">
                <a:avLst/>
              </a:prstGeom>
              <a:noFill/>
              <a:ln w="1908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4" name="Text Box 41"/>
              <p:cNvSpPr/>
              <p:nvPr/>
            </p:nvSpPr>
            <p:spPr>
              <a:xfrm>
                <a:off x="779400" y="849240"/>
                <a:ext cx="1803960" cy="520200"/>
              </a:xfrm>
              <a:prstGeom prst="rect">
                <a:avLst/>
              </a:prstGeom>
              <a:noFill/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RXN in: 1.5&lt;|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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|&lt;2.8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  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&amp; out: 1.0&lt;|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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|&lt;1.5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5" name="Text Box 39"/>
              <p:cNvSpPr/>
              <p:nvPr/>
            </p:nvSpPr>
            <p:spPr>
              <a:xfrm>
                <a:off x="787320" y="1539000"/>
                <a:ext cx="1580040" cy="30708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MPC: 3.1&lt;|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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|&lt;3.7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6" name="Text Box 38"/>
              <p:cNvSpPr/>
              <p:nvPr/>
            </p:nvSpPr>
            <p:spPr>
              <a:xfrm>
                <a:off x="785160" y="2128680"/>
                <a:ext cx="1569960" cy="30708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BBC: 3.0&lt;|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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|&lt;3.9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57" name="Text Box 41"/>
            <p:cNvSpPr/>
            <p:nvPr/>
          </p:nvSpPr>
          <p:spPr>
            <a:xfrm>
              <a:off x="2715480" y="868320"/>
              <a:ext cx="1296360" cy="307080"/>
            </a:xfrm>
            <a:prstGeom prst="rect">
              <a:avLst/>
            </a:prstGeom>
            <a:noFill/>
            <a:ln w="255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NT: |</a:t>
              </a: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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|&lt;0.35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58" name="円/楕円 34"/>
          <p:cNvSpPr/>
          <p:nvPr/>
        </p:nvSpPr>
        <p:spPr>
          <a:xfrm>
            <a:off x="3538440" y="1428840"/>
            <a:ext cx="1089000" cy="1770120"/>
          </a:xfrm>
          <a:prstGeom prst="ellipse">
            <a:avLst/>
          </a:prstGeom>
          <a:noFill/>
          <a:ln w="38160">
            <a:solidFill>
              <a:srgbClr val="ff00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左右矢印 35"/>
          <p:cNvSpPr/>
          <p:nvPr/>
        </p:nvSpPr>
        <p:spPr>
          <a:xfrm>
            <a:off x="4987800" y="2027160"/>
            <a:ext cx="1263600" cy="449280"/>
          </a:xfrm>
          <a:prstGeom prst="leftRigh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フッター プレースホルダー 1"/>
          <p:cNvSpPr/>
          <p:nvPr/>
        </p:nvSpPr>
        <p:spPr>
          <a:xfrm>
            <a:off x="6512040" y="6575400"/>
            <a:ext cx="191124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ja-JP" sz="1200" spc="-1" strike="noStrike">
                <a:solidFill>
                  <a:srgbClr val="ffffff"/>
                </a:solidFill>
                <a:latin typeface="Calibri"/>
              </a:rPr>
              <a:t>物理学会年次大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Text Box 41"/>
          <p:cNvSpPr/>
          <p:nvPr/>
        </p:nvSpPr>
        <p:spPr>
          <a:xfrm>
            <a:off x="4157640" y="590400"/>
            <a:ext cx="1320840" cy="398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HENIX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スライド番号プレースホルダー 6"/>
          <p:cNvSpPr/>
          <p:nvPr/>
        </p:nvSpPr>
        <p:spPr>
          <a:xfrm>
            <a:off x="8423280" y="6518160"/>
            <a:ext cx="6620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AB3B81E-9855-410C-941A-84E0C2981543}" type="slidenum"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/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9600" cy="6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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ependent correlations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 txBox="1"/>
          <p:nvPr/>
        </p:nvSpPr>
        <p:spPr>
          <a:xfrm>
            <a:off x="476280" y="5124600"/>
            <a:ext cx="8229600" cy="145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Arial"/>
              </a:rPr>
              <a:t>Two competitive effects</a:t>
            </a:r>
            <a:endParaRPr b="1" lang="en-US" sz="2800" spc="-1" strike="noStrike">
              <a:solidFill>
                <a:srgbClr val="1f497d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way-side peak shift to in/out of plan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ith in/out of plane trig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日付プレースホルダー 3"/>
          <p:cNvSpPr/>
          <p:nvPr/>
        </p:nvSpPr>
        <p:spPr>
          <a:xfrm>
            <a:off x="5362560" y="6575400"/>
            <a:ext cx="118584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26 Mar. 20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66" name="図形グループ 4"/>
          <p:cNvGrpSpPr/>
          <p:nvPr/>
        </p:nvGrpSpPr>
        <p:grpSpPr>
          <a:xfrm>
            <a:off x="81000" y="968400"/>
            <a:ext cx="8660520" cy="4126320"/>
            <a:chOff x="81000" y="968400"/>
            <a:chExt cx="8660520" cy="4126320"/>
          </a:xfrm>
        </p:grpSpPr>
        <p:pic>
          <p:nvPicPr>
            <p:cNvPr id="667" name="図 2" descr=""/>
            <p:cNvPicPr/>
            <p:nvPr/>
          </p:nvPicPr>
          <p:blipFill>
            <a:blip r:embed="rId1"/>
            <a:stretch/>
          </p:blipFill>
          <p:spPr>
            <a:xfrm>
              <a:off x="1649880" y="1128960"/>
              <a:ext cx="6663960" cy="370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8" name="Line 3"/>
            <p:cNvSpPr/>
            <p:nvPr/>
          </p:nvSpPr>
          <p:spPr>
            <a:xfrm>
              <a:off x="3330000" y="3022920"/>
              <a:ext cx="1387080" cy="0"/>
            </a:xfrm>
            <a:prstGeom prst="line">
              <a:avLst/>
            </a:prstGeom>
            <a:ln w="6336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9" name="Rectangle 4"/>
            <p:cNvSpPr/>
            <p:nvPr/>
          </p:nvSpPr>
          <p:spPr>
            <a:xfrm>
              <a:off x="4366080" y="2581560"/>
              <a:ext cx="613800" cy="301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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Calibri"/>
                </a:rPr>
                <a:t>2</a:t>
              </a: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 R.P.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0" name="Oval 5"/>
            <p:cNvSpPr/>
            <p:nvPr/>
          </p:nvSpPr>
          <p:spPr>
            <a:xfrm>
              <a:off x="2942640" y="2457720"/>
              <a:ext cx="685440" cy="1046160"/>
            </a:xfrm>
            <a:prstGeom prst="ellipse">
              <a:avLst/>
            </a:prstGeom>
            <a:noFill/>
            <a:ln w="63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1" name="Oval 6"/>
            <p:cNvSpPr/>
            <p:nvPr/>
          </p:nvSpPr>
          <p:spPr>
            <a:xfrm>
              <a:off x="6399360" y="2462040"/>
              <a:ext cx="660240" cy="1046160"/>
            </a:xfrm>
            <a:prstGeom prst="ellipse">
              <a:avLst/>
            </a:prstGeom>
            <a:noFill/>
            <a:ln w="63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72" name="Group 7"/>
            <p:cNvGrpSpPr/>
            <p:nvPr/>
          </p:nvGrpSpPr>
          <p:grpSpPr>
            <a:xfrm>
              <a:off x="3128040" y="2118240"/>
              <a:ext cx="373320" cy="1798560"/>
              <a:chOff x="3128040" y="2118240"/>
              <a:chExt cx="373320" cy="1798560"/>
            </a:xfrm>
          </p:grpSpPr>
          <p:sp>
            <p:nvSpPr>
              <p:cNvPr id="673" name="Line 8"/>
              <p:cNvSpPr/>
              <p:nvPr/>
            </p:nvSpPr>
            <p:spPr>
              <a:xfrm flipH="1" flipV="1">
                <a:off x="3128040" y="2257920"/>
                <a:ext cx="144360" cy="715680"/>
              </a:xfrm>
              <a:prstGeom prst="line">
                <a:avLst/>
              </a:prstGeom>
              <a:ln w="28440">
                <a:solidFill>
                  <a:srgbClr val="ff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4" name="Line 9"/>
              <p:cNvSpPr/>
              <p:nvPr/>
            </p:nvSpPr>
            <p:spPr>
              <a:xfrm flipV="1">
                <a:off x="3272760" y="2118240"/>
                <a:ext cx="0" cy="855360"/>
              </a:xfrm>
              <a:prstGeom prst="line">
                <a:avLst/>
              </a:prstGeom>
              <a:ln w="28440">
                <a:solidFill>
                  <a:srgbClr val="ff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5" name="Line 10"/>
              <p:cNvSpPr/>
              <p:nvPr/>
            </p:nvSpPr>
            <p:spPr>
              <a:xfrm flipV="1">
                <a:off x="3272760" y="2257920"/>
                <a:ext cx="131760" cy="715680"/>
              </a:xfrm>
              <a:prstGeom prst="line">
                <a:avLst/>
              </a:prstGeom>
              <a:ln w="28440">
                <a:solidFill>
                  <a:srgbClr val="ff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6" name="Line 11"/>
              <p:cNvSpPr/>
              <p:nvPr/>
            </p:nvSpPr>
            <p:spPr>
              <a:xfrm>
                <a:off x="3272760" y="2973600"/>
                <a:ext cx="57240" cy="943200"/>
              </a:xfrm>
              <a:prstGeom prst="line">
                <a:avLst/>
              </a:prstGeom>
              <a:ln w="28440">
                <a:solidFill>
                  <a:srgbClr val="ff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7" name="Line 12"/>
              <p:cNvSpPr/>
              <p:nvPr/>
            </p:nvSpPr>
            <p:spPr>
              <a:xfrm flipH="1">
                <a:off x="3204360" y="2973600"/>
                <a:ext cx="68040" cy="863640"/>
              </a:xfrm>
              <a:prstGeom prst="line">
                <a:avLst/>
              </a:prstGeom>
              <a:ln w="28440">
                <a:solidFill>
                  <a:srgbClr val="ff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8" name="Line 13"/>
              <p:cNvSpPr/>
              <p:nvPr/>
            </p:nvSpPr>
            <p:spPr>
              <a:xfrm>
                <a:off x="3272760" y="2973600"/>
                <a:ext cx="228600" cy="943200"/>
              </a:xfrm>
              <a:prstGeom prst="line">
                <a:avLst/>
              </a:prstGeom>
              <a:ln w="28440">
                <a:solidFill>
                  <a:srgbClr val="ff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79" name="Group 14"/>
            <p:cNvGrpSpPr/>
            <p:nvPr/>
          </p:nvGrpSpPr>
          <p:grpSpPr>
            <a:xfrm>
              <a:off x="5871240" y="2734560"/>
              <a:ext cx="1549080" cy="435960"/>
              <a:chOff x="5871240" y="2734560"/>
              <a:chExt cx="1549080" cy="435960"/>
            </a:xfrm>
          </p:grpSpPr>
          <p:sp>
            <p:nvSpPr>
              <p:cNvPr id="680" name="Line 15"/>
              <p:cNvSpPr/>
              <p:nvPr/>
            </p:nvSpPr>
            <p:spPr>
              <a:xfrm flipV="1">
                <a:off x="6677640" y="2734560"/>
                <a:ext cx="593640" cy="288720"/>
              </a:xfrm>
              <a:prstGeom prst="line">
                <a:avLst/>
              </a:prstGeom>
              <a:ln w="28440">
                <a:solidFill>
                  <a:srgbClr val="ff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1" name="Line 16"/>
              <p:cNvSpPr/>
              <p:nvPr/>
            </p:nvSpPr>
            <p:spPr>
              <a:xfrm flipV="1">
                <a:off x="6677640" y="2892600"/>
                <a:ext cx="666720" cy="129960"/>
              </a:xfrm>
              <a:prstGeom prst="line">
                <a:avLst/>
              </a:prstGeom>
              <a:ln w="28440">
                <a:solidFill>
                  <a:srgbClr val="ff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2" name="Line 17"/>
              <p:cNvSpPr/>
              <p:nvPr/>
            </p:nvSpPr>
            <p:spPr>
              <a:xfrm>
                <a:off x="6677640" y="3023280"/>
                <a:ext cx="742680" cy="147240"/>
              </a:xfrm>
              <a:prstGeom prst="line">
                <a:avLst/>
              </a:prstGeom>
              <a:ln w="28440">
                <a:solidFill>
                  <a:srgbClr val="ff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3" name="Line 18"/>
              <p:cNvSpPr/>
              <p:nvPr/>
            </p:nvSpPr>
            <p:spPr>
              <a:xfrm flipH="1">
                <a:off x="5871240" y="3023280"/>
                <a:ext cx="806040" cy="0"/>
              </a:xfrm>
              <a:prstGeom prst="line">
                <a:avLst/>
              </a:prstGeom>
              <a:ln w="28440">
                <a:solidFill>
                  <a:srgbClr val="ff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4" name="Line 19"/>
              <p:cNvSpPr/>
              <p:nvPr/>
            </p:nvSpPr>
            <p:spPr>
              <a:xfrm flipH="1">
                <a:off x="6015600" y="3023280"/>
                <a:ext cx="661320" cy="147240"/>
              </a:xfrm>
              <a:prstGeom prst="line">
                <a:avLst/>
              </a:prstGeom>
              <a:ln w="28440">
                <a:solidFill>
                  <a:srgbClr val="ff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5" name="Line 20"/>
              <p:cNvSpPr/>
              <p:nvPr/>
            </p:nvSpPr>
            <p:spPr>
              <a:xfrm flipH="1" flipV="1">
                <a:off x="5950800" y="2865960"/>
                <a:ext cx="726480" cy="156960"/>
              </a:xfrm>
              <a:prstGeom prst="line">
                <a:avLst/>
              </a:prstGeom>
              <a:ln w="28440">
                <a:solidFill>
                  <a:srgbClr val="ff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86" name="Rectangle 21"/>
            <p:cNvSpPr/>
            <p:nvPr/>
          </p:nvSpPr>
          <p:spPr>
            <a:xfrm>
              <a:off x="5813280" y="4695840"/>
              <a:ext cx="1808280" cy="3988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ff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shift to in-plan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7" name="Line 23"/>
            <p:cNvSpPr/>
            <p:nvPr/>
          </p:nvSpPr>
          <p:spPr>
            <a:xfrm>
              <a:off x="6720120" y="2984400"/>
              <a:ext cx="1387080" cy="0"/>
            </a:xfrm>
            <a:prstGeom prst="line">
              <a:avLst/>
            </a:prstGeom>
            <a:ln w="6336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8" name="Rectangle 22"/>
            <p:cNvSpPr/>
            <p:nvPr/>
          </p:nvSpPr>
          <p:spPr>
            <a:xfrm>
              <a:off x="2072520" y="4695840"/>
              <a:ext cx="2259360" cy="3988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ff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shift to out-of-plan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9" name="Rectangle 24"/>
            <p:cNvSpPr/>
            <p:nvPr/>
          </p:nvSpPr>
          <p:spPr>
            <a:xfrm>
              <a:off x="8127720" y="2565360"/>
              <a:ext cx="613800" cy="301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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Calibri"/>
                </a:rPr>
                <a:t>2</a:t>
              </a: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 R.P.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0" name="Line 25"/>
            <p:cNvSpPr/>
            <p:nvPr/>
          </p:nvSpPr>
          <p:spPr>
            <a:xfrm flipV="1">
              <a:off x="4048560" y="1346400"/>
              <a:ext cx="304560" cy="457200"/>
            </a:xfrm>
            <a:prstGeom prst="line">
              <a:avLst/>
            </a:prstGeom>
            <a:ln w="4428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1" name="Line 26"/>
            <p:cNvSpPr/>
            <p:nvPr/>
          </p:nvSpPr>
          <p:spPr>
            <a:xfrm>
              <a:off x="4026240" y="4165920"/>
              <a:ext cx="304560" cy="457200"/>
            </a:xfrm>
            <a:prstGeom prst="line">
              <a:avLst/>
            </a:prstGeom>
            <a:ln w="442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2" name="Line 27"/>
            <p:cNvSpPr/>
            <p:nvPr/>
          </p:nvSpPr>
          <p:spPr>
            <a:xfrm>
              <a:off x="7770960" y="3837240"/>
              <a:ext cx="544320" cy="347400"/>
            </a:xfrm>
            <a:prstGeom prst="line">
              <a:avLst/>
            </a:prstGeom>
            <a:ln w="442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3" name="Line 28"/>
            <p:cNvSpPr/>
            <p:nvPr/>
          </p:nvSpPr>
          <p:spPr>
            <a:xfrm flipV="1">
              <a:off x="7804440" y="1766520"/>
              <a:ext cx="544320" cy="347400"/>
            </a:xfrm>
            <a:prstGeom prst="line">
              <a:avLst/>
            </a:prstGeom>
            <a:ln w="4428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4" name="Text Box 29"/>
            <p:cNvSpPr/>
            <p:nvPr/>
          </p:nvSpPr>
          <p:spPr>
            <a:xfrm>
              <a:off x="4268160" y="1346400"/>
              <a:ext cx="50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400" spc="-1" strike="noStrike">
                  <a:solidFill>
                    <a:srgbClr val="3366ff"/>
                  </a:solidFill>
                  <a:latin typeface="Calibri"/>
                </a:rPr>
                <a:t>Trig.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5" name="Text Box 30"/>
            <p:cNvSpPr/>
            <p:nvPr/>
          </p:nvSpPr>
          <p:spPr>
            <a:xfrm>
              <a:off x="8230320" y="1811160"/>
              <a:ext cx="50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400" spc="-1" strike="noStrike">
                  <a:solidFill>
                    <a:srgbClr val="3366ff"/>
                  </a:solidFill>
                  <a:latin typeface="Calibri"/>
                </a:rPr>
                <a:t>Trig.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6" name="Text Box 31"/>
            <p:cNvSpPr/>
            <p:nvPr/>
          </p:nvSpPr>
          <p:spPr>
            <a:xfrm>
              <a:off x="4261680" y="4394520"/>
              <a:ext cx="50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Calibri"/>
                </a:rPr>
                <a:t>Trig.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7" name="Text Box 32"/>
            <p:cNvSpPr/>
            <p:nvPr/>
          </p:nvSpPr>
          <p:spPr>
            <a:xfrm>
              <a:off x="8224200" y="3989520"/>
              <a:ext cx="50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Calibri"/>
                </a:rPr>
                <a:t>Trig.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8" name="Text Box 37"/>
            <p:cNvSpPr/>
            <p:nvPr/>
          </p:nvSpPr>
          <p:spPr>
            <a:xfrm>
              <a:off x="5328360" y="968400"/>
              <a:ext cx="1259640" cy="6426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in-plane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rigger cas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9" name="Text Box 38"/>
            <p:cNvSpPr/>
            <p:nvPr/>
          </p:nvSpPr>
          <p:spPr>
            <a:xfrm>
              <a:off x="1910160" y="968400"/>
              <a:ext cx="1506240" cy="6426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out-of-plane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rigger cas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0" name="Line 39"/>
            <p:cNvSpPr/>
            <p:nvPr/>
          </p:nvSpPr>
          <p:spPr>
            <a:xfrm>
              <a:off x="963360" y="4037760"/>
              <a:ext cx="76176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1" name="Text Box 40"/>
            <p:cNvSpPr/>
            <p:nvPr/>
          </p:nvSpPr>
          <p:spPr>
            <a:xfrm>
              <a:off x="81000" y="3241080"/>
              <a:ext cx="144756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Flow subtracted yield is shown radially with base line.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2" name="Rectangle 43"/>
            <p:cNvSpPr/>
            <p:nvPr/>
          </p:nvSpPr>
          <p:spPr>
            <a:xfrm>
              <a:off x="156960" y="1640520"/>
              <a:ext cx="1447560" cy="97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Trigger angle selection w.r.t. </a:t>
              </a:r>
              <a:r>
                <a:rPr b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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Calibri"/>
                </a:rPr>
                <a:t>2</a:t>
              </a: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 for</a:t>
              </a:r>
              <a:r>
                <a:rPr b="1" lang="en-US" sz="1400" spc="-1" strike="noStrike">
                  <a:solidFill>
                    <a:srgbClr val="ff0000"/>
                  </a:solidFill>
                  <a:latin typeface="Calibri"/>
                </a:rPr>
                <a:t>  </a:t>
              </a:r>
              <a:r>
                <a:rPr b="1" lang="en-US" sz="1400" spc="-1" strike="noStrike">
                  <a:solidFill>
                    <a:srgbClr val="3366ff"/>
                  </a:solidFill>
                  <a:latin typeface="Calibri"/>
                </a:rPr>
                <a:t>left(up) </a:t>
              </a: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/ </a:t>
              </a:r>
              <a:r>
                <a:rPr b="1" lang="en-US" sz="1400" spc="-1" strike="noStrike">
                  <a:solidFill>
                    <a:srgbClr val="ff0000"/>
                  </a:solidFill>
                  <a:latin typeface="Calibri"/>
                </a:rPr>
                <a:t>right(down)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03" name="フッター プレースホルダー 1"/>
          <p:cNvSpPr/>
          <p:nvPr/>
        </p:nvSpPr>
        <p:spPr>
          <a:xfrm>
            <a:off x="6512040" y="6575400"/>
            <a:ext cx="191124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ja-JP" sz="1200" spc="-1" strike="noStrike">
                <a:solidFill>
                  <a:srgbClr val="ffffff"/>
                </a:solidFill>
                <a:latin typeface="Calibri"/>
              </a:rPr>
              <a:t>物理学会年次大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Rectangle 41"/>
          <p:cNvSpPr/>
          <p:nvPr/>
        </p:nvSpPr>
        <p:spPr>
          <a:xfrm>
            <a:off x="6779880" y="698400"/>
            <a:ext cx="2474280" cy="100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200GeV Au+Au -&gt; h-h, 20-50%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(p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Calibri"/>
              </a:rPr>
              <a:t>T</a:t>
            </a:r>
            <a:r>
              <a:rPr b="1" lang="en-US" sz="1400" spc="-1" strike="noStrike" baseline="30000">
                <a:solidFill>
                  <a:srgbClr val="000000"/>
                </a:solidFill>
                <a:latin typeface="Calibri"/>
              </a:rPr>
              <a:t>Trig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=2~4, p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Calibri"/>
              </a:rPr>
              <a:t>T</a:t>
            </a:r>
            <a:r>
              <a:rPr b="1" lang="en-US" sz="1400" spc="-1" strike="noStrike" baseline="30000">
                <a:solidFill>
                  <a:srgbClr val="000000"/>
                </a:solidFill>
                <a:latin typeface="Calibri"/>
              </a:rPr>
              <a:t>Asso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=1~2GeV/c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v2, v3 &amp; v4{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} subtrac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alibri"/>
              </a:rPr>
              <a:t>PHENIX work in progres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スライド番号プレースホルダー 11"/>
          <p:cNvSpPr/>
          <p:nvPr/>
        </p:nvSpPr>
        <p:spPr>
          <a:xfrm>
            <a:off x="8423280" y="6518160"/>
            <a:ext cx="6620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5FF73E8-D001-4F17-ACCB-0B0D68041064}" type="slidenum"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/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9600" cy="6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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ependence before v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subtrac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 txBox="1"/>
          <p:nvPr/>
        </p:nvSpPr>
        <p:spPr>
          <a:xfrm>
            <a:off x="-360" y="1530360"/>
            <a:ext cx="4854600" cy="432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26880" indent="-326880">
              <a:spcBef>
                <a:spcPts val="624"/>
              </a:spcBef>
              <a:buClr>
                <a:srgbClr val="1f497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500" spc="-1" strike="noStrike">
                <a:solidFill>
                  <a:srgbClr val="1f497d"/>
                </a:solidFill>
                <a:latin typeface="Arial"/>
                <a:ea typeface="ＭＳ Ｐゴシック"/>
              </a:rPr>
              <a:t>Subtraction shows no evident dependence</a:t>
            </a:r>
            <a:endParaRPr b="1" lang="en-US" sz="2500" spc="-1" strike="noStrike">
              <a:solidFill>
                <a:srgbClr val="1f497d"/>
              </a:solidFill>
              <a:latin typeface="Arial"/>
            </a:endParaRPr>
          </a:p>
          <a:p>
            <a:pPr marL="326880" indent="-326880">
              <a:spcBef>
                <a:spcPts val="624"/>
              </a:spcBef>
              <a:buClr>
                <a:srgbClr val="1f497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500" spc="-1" strike="noStrike">
                <a:solidFill>
                  <a:srgbClr val="1f497d"/>
                </a:solidFill>
                <a:latin typeface="Arial"/>
                <a:ea typeface="ＭＳ Ｐゴシック"/>
              </a:rPr>
              <a:t>Difference b/w </a:t>
            </a:r>
            <a:r>
              <a:rPr b="1" lang="en-US" sz="2500" spc="-1" strike="noStrike">
                <a:solidFill>
                  <a:srgbClr val="1f497d"/>
                </a:solidFill>
                <a:latin typeface="Symbol"/>
                <a:ea typeface="Symbol"/>
              </a:rPr>
              <a:t></a:t>
            </a:r>
            <a:r>
              <a:rPr b="1" lang="en-US" sz="2500" spc="-1" strike="noStrike" baseline="-25000">
                <a:solidFill>
                  <a:srgbClr val="1f497d"/>
                </a:solidFill>
                <a:latin typeface="Symbol"/>
                <a:ea typeface="Symbol"/>
              </a:rPr>
              <a:t></a:t>
            </a:r>
            <a:r>
              <a:rPr b="1" lang="en-US" sz="2500" spc="-1" strike="noStrike">
                <a:solidFill>
                  <a:srgbClr val="1f497d"/>
                </a:solidFill>
                <a:latin typeface="Arial"/>
                <a:ea typeface="ＭＳ Ｐゴシック"/>
              </a:rPr>
              <a:t> &amp; </a:t>
            </a:r>
            <a:r>
              <a:rPr b="1" lang="en-US" sz="2500" spc="-1" strike="noStrike">
                <a:solidFill>
                  <a:srgbClr val="1f497d"/>
                </a:solidFill>
                <a:latin typeface="Symbol"/>
                <a:ea typeface="Symbol"/>
              </a:rPr>
              <a:t></a:t>
            </a:r>
            <a:r>
              <a:rPr b="1" lang="en-US" sz="2500" spc="-1" strike="noStrike" baseline="-25000">
                <a:solidFill>
                  <a:srgbClr val="1f497d"/>
                </a:solidFill>
                <a:latin typeface="Symbol"/>
                <a:ea typeface="Symbol"/>
              </a:rPr>
              <a:t></a:t>
            </a:r>
            <a:endParaRPr b="1" lang="en-US" sz="2500" spc="-1" strike="noStrike">
              <a:solidFill>
                <a:srgbClr val="1f497d"/>
              </a:solidFill>
              <a:latin typeface="Arial"/>
            </a:endParaRPr>
          </a:p>
          <a:p>
            <a:pPr lvl="1" marL="358920" indent="-28584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US" sz="23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</a:t>
            </a:r>
            <a:r>
              <a:rPr b="0" lang="en-US" sz="23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ominated by almond shap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358920" indent="-28584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US" sz="23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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ominated by fluctuation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358920" indent="-285840">
              <a:spcBef>
                <a:spcPts val="57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ould be related to differences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26880" indent="-326880">
              <a:spcBef>
                <a:spcPts val="575"/>
              </a:spcBef>
              <a:buClr>
                <a:srgbClr val="1f497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08" name="日付プレースホルダー 3"/>
          <p:cNvSpPr/>
          <p:nvPr/>
        </p:nvSpPr>
        <p:spPr>
          <a:xfrm>
            <a:off x="5362560" y="6575400"/>
            <a:ext cx="118584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26 Mar. 20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09" name="図形グループ 30"/>
          <p:cNvGrpSpPr/>
          <p:nvPr/>
        </p:nvGrpSpPr>
        <p:grpSpPr>
          <a:xfrm>
            <a:off x="4645080" y="774720"/>
            <a:ext cx="4112280" cy="5411880"/>
            <a:chOff x="4645080" y="774720"/>
            <a:chExt cx="4112280" cy="5411880"/>
          </a:xfrm>
        </p:grpSpPr>
        <p:sp>
          <p:nvSpPr>
            <p:cNvPr id="710" name="テキスト ボックス 6"/>
            <p:cNvSpPr/>
            <p:nvPr/>
          </p:nvSpPr>
          <p:spPr>
            <a:xfrm rot="16200000">
              <a:off x="8003880" y="1988640"/>
              <a:ext cx="119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out-of-plane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1" name="テキスト ボックス 24"/>
            <p:cNvSpPr/>
            <p:nvPr/>
          </p:nvSpPr>
          <p:spPr>
            <a:xfrm rot="16200000">
              <a:off x="8107560" y="5346000"/>
              <a:ext cx="962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In-plane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12" name="直線矢印コネクタ 21"/>
            <p:cNvCxnSpPr>
              <a:stCxn id="711" idx="3"/>
              <a:endCxn id="710" idx="1"/>
            </p:cNvCxnSpPr>
            <p:nvPr/>
          </p:nvCxnSpPr>
          <p:spPr>
            <a:xfrm flipV="1">
              <a:off x="8589600" y="2742840"/>
              <a:ext cx="14760" cy="22752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</p:cxnSp>
        <p:grpSp>
          <p:nvGrpSpPr>
            <p:cNvPr id="713" name="図形グループ 29"/>
            <p:cNvGrpSpPr/>
            <p:nvPr/>
          </p:nvGrpSpPr>
          <p:grpSpPr>
            <a:xfrm>
              <a:off x="4645080" y="774720"/>
              <a:ext cx="3924000" cy="5411880"/>
              <a:chOff x="4645080" y="774720"/>
              <a:chExt cx="3924000" cy="5411880"/>
            </a:xfrm>
          </p:grpSpPr>
          <p:grpSp>
            <p:nvGrpSpPr>
              <p:cNvPr id="714" name="図形グループ 18"/>
              <p:cNvGrpSpPr/>
              <p:nvPr/>
            </p:nvGrpSpPr>
            <p:grpSpPr>
              <a:xfrm>
                <a:off x="4645080" y="774720"/>
                <a:ext cx="3924000" cy="5411880"/>
                <a:chOff x="4645080" y="774720"/>
                <a:chExt cx="3924000" cy="5411880"/>
              </a:xfrm>
            </p:grpSpPr>
            <p:pic>
              <p:nvPicPr>
                <p:cNvPr id="715" name="図 12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7021080" y="1038240"/>
                  <a:ext cx="1064880" cy="51660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716" name="図形グループ 10"/>
                <p:cNvGrpSpPr/>
                <p:nvPr/>
              </p:nvGrpSpPr>
              <p:grpSpPr>
                <a:xfrm>
                  <a:off x="4651560" y="1394640"/>
                  <a:ext cx="3912480" cy="4791960"/>
                  <a:chOff x="4651560" y="1394640"/>
                  <a:chExt cx="3912480" cy="4791960"/>
                </a:xfrm>
              </p:grpSpPr>
              <p:pic>
                <p:nvPicPr>
                  <p:cNvPr id="717" name="図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8120" y="1525320"/>
                    <a:ext cx="2185920" cy="466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718" name="図 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51560" y="1394640"/>
                    <a:ext cx="1709640" cy="473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pic>
              <p:nvPicPr>
                <p:cNvPr id="719" name="図 16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4645080" y="774720"/>
                  <a:ext cx="3924000" cy="2919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20" name="図 17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4651560" y="1105920"/>
                  <a:ext cx="2174040" cy="3196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721" name="テキスト ボックス 27"/>
              <p:cNvSpPr/>
              <p:nvPr/>
            </p:nvSpPr>
            <p:spPr>
              <a:xfrm>
                <a:off x="6378120" y="1625040"/>
                <a:ext cx="20977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5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3000" spc="-1" strike="noStrike">
                    <a:solidFill>
                      <a:srgbClr val="ff0000"/>
                    </a:solidFill>
                    <a:latin typeface="Calibri"/>
                  </a:rPr>
                  <a:t>▪</a:t>
                </a:r>
                <a:r>
                  <a:rPr b="1" lang="en-US" sz="3000" spc="-1" strike="noStrike">
                    <a:solidFill>
                      <a:srgbClr val="3366ff"/>
                    </a:solidFill>
                    <a:latin typeface="Calibri"/>
                  </a:rPr>
                  <a:t>▫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alibri"/>
                  </a:rPr>
                  <a:t>: C2(data)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3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3000" spc="-1" strike="noStrike">
                    <a:solidFill>
                      <a:srgbClr val="ff0000"/>
                    </a:solidFill>
                    <a:latin typeface="Calibri"/>
                  </a:rPr>
                  <a:t>-</a:t>
                </a:r>
                <a:r>
                  <a:rPr b="1" lang="en-US" sz="3000" spc="-1" strike="noStrike">
                    <a:solidFill>
                      <a:srgbClr val="3366ff"/>
                    </a:solidFill>
                    <a:latin typeface="Calibri"/>
                  </a:rPr>
                  <a:t>-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alibri"/>
                  </a:rPr>
                  <a:t>: vn background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722" name="フッター プレースホルダー 1"/>
          <p:cNvSpPr/>
          <p:nvPr/>
        </p:nvSpPr>
        <p:spPr>
          <a:xfrm>
            <a:off x="6512040" y="6575400"/>
            <a:ext cx="191124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ja-JP" sz="1200" spc="-1" strike="noStrike">
                <a:solidFill>
                  <a:srgbClr val="ffffff"/>
                </a:solidFill>
                <a:latin typeface="Calibri"/>
              </a:rPr>
              <a:t>物理学会年次大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スライド番号プレースホルダー 7"/>
          <p:cNvSpPr/>
          <p:nvPr/>
        </p:nvSpPr>
        <p:spPr>
          <a:xfrm>
            <a:off x="8423280" y="6518160"/>
            <a:ext cx="6620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49183AB-E6FE-446A-8782-199F4C39130E}" type="slidenum"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/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テキスト ボックス 4"/>
          <p:cNvSpPr/>
          <p:nvPr/>
        </p:nvSpPr>
        <p:spPr>
          <a:xfrm rot="16200000">
            <a:off x="4218120" y="3624120"/>
            <a:ext cx="34495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orrelation Func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7T07:04:57Z</dcterms:created>
  <dc:creator>轟木 貴人</dc:creator>
  <dc:description/>
  <dc:language>en-US</dc:language>
  <cp:lastModifiedBy>轟木 貴人</cp:lastModifiedBy>
  <dcterms:modified xsi:type="dcterms:W3CDTF">2012-03-26T06:49:08Z</dcterms:modified>
  <cp:revision>506</cp:revision>
  <dc:subject/>
  <dc:title>PowerPoint プレゼンテーション</dc:title>
</cp:coreProperties>
</file>