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270-2313-49AB-8264-F7D0D7B4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8B0-D65C-4B55-B74E-13A5715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D06-9828-4590-AA64-3752B9B4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FEE-751D-48E3-93F5-AB0DA2AE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8C2-14E2-4D12-A124-2ED55C2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12F-1AF3-4AE1-978D-95B162CE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C0B-4009-404E-8ED9-BB6C4427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2D1-EF03-4CBF-949D-2BB70A1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B90-F360-4178-AA3B-A258147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423-939B-48F5-B119-B8675E6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9FA-1DC7-44DD-BA31-576515A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90D-4BFB-4ABA-B85F-924432B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578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8471-28E5-4FE9-B81E-5F8913CA923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1090440"/>
            <a:ext cx="7239240" cy="53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9000" y="4849920"/>
            <a:ext cx="2768040" cy="161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up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higher harm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BT w.r.t.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et correlation w.r.t.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2400"/>
            <a:ext cx="85345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suppression and v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from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22B-65E1-4014-9953-8BED9F3AEB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71304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2600"/>
            <a:ext cx="5867280" cy="305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69000" y="5475240"/>
            <a:ext cx="2322720" cy="8748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486400" y="3048120"/>
            <a:ext cx="3657600" cy="1827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228600"/>
            <a:ext cx="2819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ast Wave fitting and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CQ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ing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f identified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icl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876920"/>
            <a:ext cx="3276720" cy="614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anisotropy in velocity, coord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constrained by spec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819520"/>
            <a:ext cx="2361960" cy="1029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a) : ~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) : ~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a)+(b) : ~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Q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19051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D36-80A0-441C-864E-A974B580110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3848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3402000"/>
            <a:ext cx="4419720" cy="307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417680"/>
            <a:ext cx="4419720" cy="437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4480" y="611280"/>
            <a:ext cx="1693800" cy="806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438280" y="871560"/>
            <a:ext cx="1747800" cy="54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7960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7480" y="80820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5684760"/>
            <a:ext cx="4419720" cy="716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640" y="15228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zimuthal HBT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7920" y="152388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. Rev. Lett. 103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142301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34290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067200"/>
            <a:ext cx="3581640" cy="647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ini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amp;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pendence of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fin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-side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oscill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--- 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&amp;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HB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0574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C33-231C-48FD-BC9F-0277CC59BE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262080"/>
            <a:ext cx="5638680" cy="3243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1" descr=""/>
          <p:cNvPicPr/>
          <p:nvPr/>
        </p:nvPicPr>
        <p:blipFill>
          <a:blip r:embed="rId2"/>
          <a:stretch/>
        </p:blipFill>
        <p:spPr>
          <a:xfrm>
            <a:off x="480960" y="1828800"/>
            <a:ext cx="27194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57600" y="4233960"/>
            <a:ext cx="5029200" cy="209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52280" y="380880"/>
            <a:ext cx="2819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-sid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-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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-sid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-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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2680" y="3808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0000" y="3581280"/>
            <a:ext cx="3926880" cy="405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-sid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oscill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-ou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oscill.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n=2,3 (cen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990-FEF8-4227-9BDE-56C4117D6E9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244440"/>
            <a:ext cx="8153280" cy="318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232160" cy="300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2057400" cy="7732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3962160" cy="2530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36880" y="1522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95280"/>
            <a:ext cx="259056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xtracted by BW fitting 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th spectra +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3,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,K,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511440"/>
            <a:ext cx="18288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xtracted from R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sid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H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1E1-2ABB-4FD8-8269-B15E9DBFDDE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009800"/>
            <a:ext cx="8229600" cy="464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7400" y="76320"/>
            <a:ext cx="73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-part.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rrelation with various flow subtraction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2800" y="51055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270400"/>
            <a:ext cx="2895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is largely responsible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for away side “mach-cone”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like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404-C6C4-4E74-8DC2-F90735E89C7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617400"/>
            <a:ext cx="8610480" cy="5859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7400" y="76320"/>
            <a:ext cx="73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-part.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rrelation with various flow subtrac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520" y="594360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56070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but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} matters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D9B-6CBB-4FFD-95B6-81951C59D26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1920" y="53341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718240"/>
            <a:ext cx="4952880" cy="891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strong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dependence and left/right asymmetry 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coupling with geometry and/or expansion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almost no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dependence (poor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resolu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715000"/>
            <a:ext cx="1295640" cy="337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cent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1E7-AD9D-42DD-86EC-9CC8005F803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05320" y="5718240"/>
            <a:ext cx="4952880" cy="8575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out-of-plane correlation enhanc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trong jet quenching and collective expansion)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some weak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295640" cy="337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920" y="53341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149-204A-454E-B615-69072B33F86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879480"/>
            <a:ext cx="7238880" cy="5551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3880" y="15228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5160" y="228600"/>
            <a:ext cx="3638160" cy="17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up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higher harm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T w.r.t.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et correlation w.r.t.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D9D-2411-41EF-9D49-A7BB2BB83A6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3452760" cy="399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66400" y="1371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8.2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531-2C2A-4732-9B7C-C664CD5D50C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387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495680" cy="338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64840" y="68580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Non-) suppression of hadron (direct-pho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5400" y="175248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5.5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85400" y="152388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8.2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334120"/>
            <a:ext cx="48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strong suppression of hadrons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no suppression of direct photons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3040" y="167652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pheral 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0640" y="167652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AB7-83FF-4C6E-94B3-2626ACE38F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475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32400" y="227160"/>
            <a:ext cx="756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entrality and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dependences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t 200GeV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5120" y="5334120"/>
            <a:ext cx="2251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harged particle 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: |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&lt;0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action plane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: |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=1.0~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408640"/>
            <a:ext cx="38102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mparable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0~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centrality dependence 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~ 2 x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8071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of these are consistent with initial fluct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885-40DE-439D-99D6-50DA1B84C27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611280"/>
            <a:ext cx="7772400" cy="47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42000" y="12333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80280" y="12333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8920" y="12333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543888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he initial geometrical anisotropy was transformed into the final momentum anisotrop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65040" y="5334120"/>
            <a:ext cx="70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09080" y="304920"/>
            <a:ext cx="71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entrality dependences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at 200GeV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2B4-A10A-46B5-B0FE-471826B1FFD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v2KETnqCent40-45"/>
          <p:cNvPicPr/>
          <p:nvPr/>
        </p:nvPicPr>
        <p:blipFill>
          <a:blip r:embed="rId1"/>
          <a:stretch/>
        </p:blipFill>
        <p:spPr>
          <a:xfrm>
            <a:off x="3048120" y="1143000"/>
            <a:ext cx="3124080" cy="3733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3276720" cy="4038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3657600" y="4114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858000" y="4114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47920" y="3570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8400" y="3708360"/>
            <a:ext cx="9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25320" y="2743200"/>
            <a:ext cx="9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324120" y="3301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277920"/>
            <a:ext cx="548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mall deviations in (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e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256360"/>
            <a:ext cx="4495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oughly (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caled for all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arger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hift for heavier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adial flow increases with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600" y="4724280"/>
            <a:ext cx="218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. Krzewicki, QM11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. Phys. G38, (2011) 124047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6240" y="1720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36960" y="1135080"/>
            <a:ext cx="1904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43200" y="10047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0960" y="100476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b+Pb 2.76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60880" y="10047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39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B6D-C054-49B5-A87F-FA178F31619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47560" y="152280"/>
            <a:ext cx="8048880" cy="611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4F3-7316-4DB6-A480-E908DDA873A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4600" y="193680"/>
            <a:ext cx="8048520" cy="6118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152280"/>
            <a:ext cx="2286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4B4-7A67-48DF-87ED-F926CBFBA1A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F47-E217-43AB-B228-4F66F1150C6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572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E80-8624-4CB6-81F2-5D2B1586F6A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343400" cy="457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1393920"/>
            <a:ext cx="4572000" cy="371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76920" y="3886200"/>
            <a:ext cx="4038480" cy="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4840" y="30492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rmal photons and thei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5800" y="9144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8.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9144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105.41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ys. Rev. Lett. 109, 122302 (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29600" y="1486080"/>
            <a:ext cx="64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HENIX</a:t>
            </a:r>
            <a:br>
              <a:rPr sz="900"/>
            </a:b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M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48760" y="5257800"/>
            <a:ext cx="354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significant low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hoton ex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comparabl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ith had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9880" y="326088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560" y="8380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4680" y="426708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C39-2D66-41DF-A39A-5A3D561C5C5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320" y="3429000"/>
            <a:ext cx="4495680" cy="312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44280"/>
            <a:ext cx="5715000" cy="346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152280"/>
            <a:ext cx="32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nergy dependence of hadron suppression from low RHIC energy to LH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2590920"/>
            <a:ext cx="152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4.15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5120" y="5638680"/>
            <a:ext cx="30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ys. Rev. Lett.101, 162301 (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7960" y="2133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smaller suppression (or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enhancement) at low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saturation at high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FE0-E46B-4F22-8219-B9B20680083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24008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3657600"/>
            <a:ext cx="7467840" cy="0"/>
          </a:xfrm>
          <a:prstGeom prst="line">
            <a:avLst/>
          </a:prstGeom>
          <a:ln w="255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666880"/>
            <a:ext cx="7467840" cy="0"/>
          </a:xfrm>
          <a:prstGeom prst="line">
            <a:avLst/>
          </a:prstGeom>
          <a:ln w="255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676520"/>
            <a:ext cx="7467840" cy="0"/>
          </a:xfrm>
          <a:prstGeom prst="line">
            <a:avLst/>
          </a:prstGeom>
          <a:ln w="255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33640" y="22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al energy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28200" y="108108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8.2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838080"/>
            <a:ext cx="152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Xiv: 1204.15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20240" y="4724280"/>
            <a:ext cx="4137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continuous increase of energy loss in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terms of fractional energy loss in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(coming from slope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360" y="27115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64840" y="20257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.76 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27-E9F4-4AC5-ACD6-5BCED1C69D6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4572000" cy="4235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124080" y="58680"/>
            <a:ext cx="6019920" cy="3446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685800"/>
            <a:ext cx="266724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RHIC to L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4570560"/>
            <a:ext cx="3581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no simple solution to describe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both RHIC/LHC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3FF-FE10-40D4-8BCA-02218C5A0A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200160"/>
            <a:ext cx="6705720" cy="6200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2606760"/>
            <a:ext cx="26672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viation from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CQ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ing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GeV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5181480"/>
            <a:ext cx="2743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consequence of similar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different particle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7440" y="76320"/>
            <a:ext cx="27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ys. Rev. C 85, 064914 (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376-4718-4CF2-BC69-5147255BAD8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60440" y="219240"/>
            <a:ext cx="6629400" cy="6181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25146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entral collisions (193GeV U+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larger rad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various geometry tests on going with Cu+Au, U+U data from run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7400" y="763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294-BEC1-42A1-BF52-1A78E101434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187200"/>
            <a:ext cx="6781680" cy="6442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257560"/>
            <a:ext cx="2590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energy dependence for identified partic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530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similar for al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particle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4480" y="3049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, QM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838080"/>
            <a:ext cx="76176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" y="4243320"/>
            <a:ext cx="844560" cy="938160"/>
          </a:xfrm>
          <a:custGeom>
            <a:avLst/>
            <a:gdLst/>
            <a:ahLst/>
            <a:rect l="l" t="t" r="r" b="b"/>
            <a:pathLst>
              <a:path w="532" h="591">
                <a:moveTo>
                  <a:pt x="0" y="291"/>
                </a:moveTo>
                <a:cubicBezTo>
                  <a:pt x="2" y="203"/>
                  <a:pt x="20" y="64"/>
                  <a:pt x="76" y="32"/>
                </a:cubicBezTo>
                <a:cubicBezTo>
                  <a:pt x="132" y="0"/>
                  <a:pt x="263" y="57"/>
                  <a:pt x="339" y="100"/>
                </a:cubicBezTo>
                <a:cubicBezTo>
                  <a:pt x="415" y="143"/>
                  <a:pt x="532" y="226"/>
                  <a:pt x="530" y="291"/>
                </a:cubicBezTo>
                <a:cubicBezTo>
                  <a:pt x="528" y="356"/>
                  <a:pt x="405" y="444"/>
                  <a:pt x="327" y="489"/>
                </a:cubicBezTo>
                <a:cubicBezTo>
                  <a:pt x="249" y="534"/>
                  <a:pt x="117" y="591"/>
                  <a:pt x="63" y="558"/>
                </a:cubicBezTo>
                <a:cubicBezTo>
                  <a:pt x="9" y="525"/>
                  <a:pt x="0" y="379"/>
                  <a:pt x="0" y="291"/>
                </a:cubicBezTo>
                <a:close/>
              </a:path>
            </a:pathLst>
          </a:custGeom>
          <a:solidFill>
            <a:srgbClr val="ff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C03-D50D-493D-B56D-61C8F955A36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igh pT physics at LHC, Wuhan, China, 23/Oct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42:52Z</dcterms:created>
  <dc:creator>Esumi ShinIchi</dc:creator>
  <dc:description/>
  <dc:language>en-US</dc:language>
  <cp:lastModifiedBy>Esumi ShinIchi</cp:lastModifiedBy>
  <cp:lastPrinted>2012-10-18T02:40:45Z</cp:lastPrinted>
  <dcterms:modified xsi:type="dcterms:W3CDTF">2012-10-21T23:42:29Z</dcterms:modified>
  <cp:revision>44</cp:revision>
  <dc:subject/>
  <dc:title>PowerPoint プレゼンテーション</dc:title>
</cp:coreProperties>
</file>