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280-0711-467C-A324-65649521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D5C-6E1F-493C-918A-77F8E7E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6B4-5BCF-4352-95A6-4C7144BF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D13-F54E-4D28-B545-24B682D7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CCE-FA7B-4099-88E5-EEAC7CA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29E-A5CC-47F9-B04F-A3474FE8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B6E-0B0B-416A-8781-04412290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05F-02E8-4B9A-8FFE-EC5D14EE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7C9-EC94-4033-9972-A478738E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8AB-EB74-4FA3-A89E-AEE8852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BCC-77FD-4176-9731-43EDD83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45F-7648-45B1-8D7B-B67F28BF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4C4-CB4A-4F8E-A31D-D091F759A3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est results and status on T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0: start counter for pp 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2133720"/>
            <a:ext cx="48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st. of Physics, Univ. of Tsukub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8560" y="3505320"/>
            <a:ext cx="446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experiment at KEK-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results and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conversion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, open questions an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Photon conversion rej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81480" y="1904760"/>
            <a:ext cx="3276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hin scintillator in front of T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o reject photon conversion at T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high efficiency and low B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114800"/>
            <a:ext cx="3124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419720"/>
            <a:ext cx="3124440" cy="75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31244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029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61960" y="5029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905120" y="1371600"/>
            <a:ext cx="38088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276720"/>
            <a:ext cx="31244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676520"/>
            <a:ext cx="3124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371600" y="1371600"/>
            <a:ext cx="91440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362320" y="426672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14600" y="1447560"/>
            <a:ext cx="2286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14600" y="1447560"/>
            <a:ext cx="53352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1800" y="114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1280" y="114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9720" y="114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0" y="114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419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00400" y="3927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1000" y="32767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1000" y="23623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0640" y="1523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/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100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752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752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1752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1752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286000"/>
            <a:ext cx="380880" cy="380880"/>
          </a:xfrm>
          <a:prstGeom prst="donut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286000"/>
            <a:ext cx="381240" cy="380880"/>
          </a:xfrm>
          <a:prstGeom prst="donut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286000"/>
            <a:ext cx="381240" cy="380880"/>
          </a:xfrm>
          <a:prstGeom prst="donut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057400" y="4191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191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191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est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33520" y="228600"/>
            <a:ext cx="6568560" cy="2134080"/>
            <a:chOff x="533520" y="228600"/>
            <a:chExt cx="6568560" cy="2134080"/>
          </a:xfrm>
        </p:grpSpPr>
        <p:sp>
          <p:nvSpPr>
            <p:cNvPr id="172" name=""/>
            <p:cNvSpPr/>
            <p:nvPr/>
          </p:nvSpPr>
          <p:spPr>
            <a:xfrm>
              <a:off x="3306960" y="30492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99"/>
                  </a:solidFill>
                  <a:latin typeface="Times New Roman"/>
                </a:rPr>
                <a:t>π</a:t>
              </a:r>
              <a:r>
                <a:rPr b="1" lang="ja-JP" sz="2400" spc="-1" strike="noStrike" baseline="30000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lang="ja-JP" sz="2400" spc="-1" strike="noStrike">
                  <a:solidFill>
                    <a:srgbClr val="ff3399"/>
                  </a:solidFill>
                  <a:latin typeface="Times New Roman"/>
                </a:rPr>
                <a:t>（２</a:t>
              </a:r>
              <a:r>
                <a:rPr b="1" lang="ja-JP" sz="2400" spc="-1" strike="noStrike">
                  <a:solidFill>
                    <a:srgbClr val="ff3399"/>
                  </a:solidFill>
                  <a:latin typeface="Times New Roman"/>
                </a:rPr>
                <a:t>GeV/c</a:t>
              </a:r>
              <a:r>
                <a:rPr b="1" lang="ja-JP" sz="2400" spc="-1" strike="noStrike">
                  <a:solidFill>
                    <a:srgbClr val="ff33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33520" y="1295640"/>
              <a:ext cx="6568560" cy="1067040"/>
              <a:chOff x="533520" y="1295640"/>
              <a:chExt cx="6568560" cy="10670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33520" y="1295640"/>
                <a:ext cx="6568560" cy="1067040"/>
                <a:chOff x="533520" y="1295640"/>
                <a:chExt cx="6568560" cy="1067040"/>
              </a:xfrm>
            </p:grpSpPr>
            <p:sp>
              <p:nvSpPr>
                <p:cNvPr id="175" name=""/>
                <p:cNvSpPr/>
                <p:nvPr/>
              </p:nvSpPr>
              <p:spPr>
                <a:xfrm rot="16200000">
                  <a:off x="5992920" y="948240"/>
                  <a:ext cx="685800" cy="1532520"/>
                </a:xfrm>
                <a:prstGeom prst="can">
                  <a:avLst>
                    <a:gd name="adj" fmla="val 2356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M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533520" y="1295640"/>
                  <a:ext cx="5109120" cy="1067040"/>
                  <a:chOff x="533520" y="1295640"/>
                  <a:chExt cx="5109120" cy="10670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533520" y="1295640"/>
                    <a:ext cx="5109120" cy="1067040"/>
                  </a:xfrm>
                  <a:prstGeom prst="cube">
                    <a:avLst>
                      <a:gd name="adj" fmla="val 74300"/>
                    </a:avLst>
                  </a:prstGeom>
                  <a:solidFill>
                    <a:srgbClr val="ffff99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06600" y="1371960"/>
                    <a:ext cx="4305960" cy="0"/>
                  </a:xfrm>
                  <a:prstGeom prst="line">
                    <a:avLst/>
                  </a:prstGeom>
                  <a:ln w="5724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52400" y="1524240"/>
                    <a:ext cx="4306320" cy="0"/>
                  </a:xfrm>
                  <a:prstGeom prst="line">
                    <a:avLst/>
                  </a:prstGeom>
                  <a:ln w="5724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898560" y="1676880"/>
                    <a:ext cx="4305960" cy="0"/>
                  </a:xfrm>
                  <a:prstGeom prst="line">
                    <a:avLst/>
                  </a:prstGeom>
                  <a:ln w="5724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044360" y="1829160"/>
                    <a:ext cx="4305960" cy="0"/>
                  </a:xfrm>
                  <a:prstGeom prst="line">
                    <a:avLst/>
                  </a:prstGeom>
                  <a:ln w="5724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190160" y="1981440"/>
                    <a:ext cx="4306320" cy="0"/>
                  </a:xfrm>
                  <a:prstGeom prst="line">
                    <a:avLst/>
                  </a:prstGeom>
                  <a:ln w="5724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912560" y="1371960"/>
                <a:ext cx="802800" cy="609120"/>
                <a:chOff x="4912560" y="1371960"/>
                <a:chExt cx="802800" cy="60912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5496480" y="1752480"/>
                  <a:ext cx="218880" cy="2286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5350320" y="1752840"/>
                  <a:ext cx="365040" cy="7632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204520" y="1676880"/>
                  <a:ext cx="510840" cy="7596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058360" y="1524240"/>
                  <a:ext cx="583560" cy="2286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12560" y="1371960"/>
                  <a:ext cx="802800" cy="38088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3160800" y="228600"/>
              <a:ext cx="0" cy="14486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486400" y="2514600"/>
            <a:ext cx="3048120" cy="838080"/>
          </a:xfrm>
          <a:prstGeom prst="borderCallout1">
            <a:avLst>
              <a:gd name="adj1" fmla="val 18750"/>
              <a:gd name="adj2" fmla="val -8333"/>
              <a:gd name="adj3" fmla="val -35606"/>
              <a:gd name="adj4" fmla="val -32449"/>
            </a:avLst>
          </a:prstGeom>
          <a:solidFill>
            <a:srgbClr val="ffffff"/>
          </a:solidFill>
          <a:ln w="349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lastic Scintil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(BC 404,BC4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exp-bpd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4062240" cy="2895480"/>
          </a:xfrm>
          <a:prstGeom prst="rect">
            <a:avLst/>
          </a:prstGeom>
          <a:ln w="0">
            <a:noFill/>
          </a:ln>
        </p:spPr>
      </p:pic>
      <p:pic>
        <p:nvPicPr>
          <p:cNvPr id="192" name="exp-adc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4114800" cy="2930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V="1">
            <a:off x="1600200" y="38858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46483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des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adc-npe" descr=""/>
          <p:cNvPicPr/>
          <p:nvPr/>
        </p:nvPicPr>
        <p:blipFill>
          <a:blip r:embed="rId3"/>
          <a:stretch/>
        </p:blipFill>
        <p:spPr>
          <a:xfrm>
            <a:off x="7162920" y="533520"/>
            <a:ext cx="152244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6796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13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590920"/>
            <a:ext cx="19717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21578"/>
              <a:gd name="adj5" fmla="val -81875"/>
              <a:gd name="adj6" fmla="val 141222"/>
            </a:avLst>
          </a:prstGeom>
          <a:solidFill>
            <a:srgbClr val="ffffff"/>
          </a:solidFill>
          <a:ln w="349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S-fiber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CF-9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8080" y="632448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yako Danm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334120" y="2895480"/>
          <a:ext cx="2973240" cy="31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95480"/>
                    <a:ext cx="297324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with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npe-exp-sim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62360" y="1600200"/>
            <a:ext cx="45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Edx from 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pe&gt; fro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oiss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unt efficiency with Npe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60199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1880" y="5715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0   0.2  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3352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8080" y="61722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yako Danm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Signal/noise for </a:t>
            </a: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to 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dan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4599000"/>
          </a:xfrm>
          <a:prstGeom prst="rect">
            <a:avLst/>
          </a:prstGeom>
          <a:ln w="0">
            <a:noFill/>
          </a:ln>
        </p:spPr>
      </p:pic>
      <p:cxnSp>
        <p:nvCxnSpPr>
          <p:cNvPr id="210" name=""/>
          <p:cNvCxnSpPr/>
          <p:nvPr/>
        </p:nvCxnSpPr>
        <p:spPr>
          <a:xfrm>
            <a:off x="7391520" y="335232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317000" y="2971800"/>
            <a:ext cx="91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/>
          <p:nvPr/>
        </p:nvCxnSpPr>
        <p:spPr>
          <a:xfrm>
            <a:off x="7391520" y="55627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7317000" y="5181480"/>
            <a:ext cx="91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2280" y="609588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yako Danm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1920" y="2556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1320" y="1600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5400" y="1600200"/>
            <a:ext cx="7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84440" y="3809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2N+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11680" y="38098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’=N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38098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’=N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89480" y="617220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iroshi Tsuruo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0_new1" descr=""/>
          <p:cNvPicPr/>
          <p:nvPr/>
        </p:nvPicPr>
        <p:blipFill>
          <a:blip r:embed="rId1"/>
          <a:stretch/>
        </p:blipFill>
        <p:spPr>
          <a:xfrm>
            <a:off x="228600" y="857160"/>
            <a:ext cx="6629400" cy="5770800"/>
          </a:xfrm>
          <a:prstGeom prst="rect">
            <a:avLst/>
          </a:prstGeom>
          <a:ln w="0">
            <a:noFill/>
          </a:ln>
        </p:spPr>
      </p:pic>
      <p:pic>
        <p:nvPicPr>
          <p:cNvPr id="223" name="t0_new2s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770200" cy="2530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c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22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resolution about 60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depend on position nor B-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mesh 2inch PMT (R5924) x25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x8x100(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10cm light guide x8 sl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out electronics (8ch x 3) from 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724280"/>
            <a:ext cx="6553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hoton conversion rejector option? (read-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movable T0 only for hadron PID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9625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0512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ine mesh 2inch PMT (R5924) x25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MT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cintillator and light guid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echanical structure design and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pping all the materials to 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stallation after heavy ion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ne week access to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22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15238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0200" y="16765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00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20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00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200" y="25909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00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200" y="342900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00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200" y="434340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00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143000"/>
            <a:ext cx="2590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0 in 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0_1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495680" cy="3138480"/>
          </a:xfrm>
          <a:prstGeom prst="rect">
            <a:avLst/>
          </a:prstGeom>
          <a:ln w="0">
            <a:noFill/>
          </a:ln>
        </p:spPr>
      </p:pic>
      <p:pic>
        <p:nvPicPr>
          <p:cNvPr id="48" name="phi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352680" cy="3152880"/>
          </a:xfrm>
          <a:prstGeom prst="rect">
            <a:avLst/>
          </a:prstGeom>
          <a:ln w="0">
            <a:noFill/>
          </a:ln>
        </p:spPr>
      </p:pic>
      <p:pic>
        <p:nvPicPr>
          <p:cNvPr id="49" name="t0_3" descr=""/>
          <p:cNvPicPr/>
          <p:nvPr/>
        </p:nvPicPr>
        <p:blipFill>
          <a:blip r:embed="rId3"/>
          <a:stretch/>
        </p:blipFill>
        <p:spPr>
          <a:xfrm>
            <a:off x="3429000" y="533520"/>
            <a:ext cx="5257800" cy="257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3504960" y="2362320"/>
            <a:ext cx="1904760" cy="228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2362320"/>
            <a:ext cx="0" cy="228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4495680"/>
            <a:ext cx="0" cy="685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599840" y="5257440"/>
            <a:ext cx="304920" cy="609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1280" y="58672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08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5280" y="61722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iroshi Tsuruoka, Masaya 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est experiment at KEK-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286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600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GeV/c pi-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514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2895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73392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6483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54864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495680"/>
            <a:ext cx="19810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2327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2520" y="3124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3581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3341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0384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v. r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72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19112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800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-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4600" y="518148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ine mesh PM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amamatsu 2inch R5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66720" y="1447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d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ckness d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th d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field d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3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832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lewing1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2068560" cy="211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8320" y="19810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0120" y="3429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2960" y="1219320"/>
            <a:ext cx="25718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wing 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method1" descr=""/>
          <p:cNvPicPr/>
          <p:nvPr/>
        </p:nvPicPr>
        <p:blipFill>
          <a:blip r:embed="rId2"/>
          <a:stretch/>
        </p:blipFill>
        <p:spPr>
          <a:xfrm>
            <a:off x="3962520" y="1219320"/>
            <a:ext cx="4267080" cy="32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02400" y="1295280"/>
            <a:ext cx="1297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1-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8360" y="2895480"/>
            <a:ext cx="1128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1-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720" y="2895480"/>
            <a:ext cx="1128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2-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295280"/>
            <a:ext cx="1600200" cy="132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0: 59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1: 39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2: 31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ethod2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2819520" cy="222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33720" y="4267080"/>
            <a:ext cx="1828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0R-T0L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8560" y="4800600"/>
            <a:ext cx="41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eam width (def. siz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[cm]/15[cm/ns]/sqrt(12) ~ 20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2200" y="5791320"/>
            <a:ext cx="1800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0) ~ 59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23520" y="6172200"/>
            <a:ext cx="26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Yoshiaki Kuroki, Masaya 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HV/position 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ample-e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581280"/>
          </a:xfrm>
          <a:prstGeom prst="rect">
            <a:avLst/>
          </a:prstGeom>
          <a:ln w="0">
            <a:noFill/>
          </a:ln>
        </p:spPr>
      </p:pic>
      <p:pic>
        <p:nvPicPr>
          <p:cNvPr id="99" name="HVdep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7920" y="586728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asaya Ono, Hiroshi Tsuruo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ckness/width/light guide 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newt0-l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657600" cy="4349880"/>
          </a:xfrm>
          <a:prstGeom prst="rect">
            <a:avLst/>
          </a:prstGeom>
          <a:ln w="0">
            <a:noFill/>
          </a:ln>
        </p:spPr>
      </p:pic>
      <p:pic>
        <p:nvPicPr>
          <p:cNvPr id="103" name="thick-dep_all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385128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867280" y="2590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581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4419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7920" y="61722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asaya Ono, Hiroshi Tsuruo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-field 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dep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430440" cy="3851280"/>
          </a:xfrm>
          <a:prstGeom prst="rect">
            <a:avLst/>
          </a:prstGeom>
          <a:ln w="0">
            <a:noFill/>
          </a:ln>
        </p:spPr>
      </p:pic>
      <p:pic>
        <p:nvPicPr>
          <p:cNvPr id="110" name="jiba_tdc1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889520" cy="4218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19320" y="609588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asaya Ono, Hiroshi Tsuruo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hall_withT0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10552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recoQ23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962520" cy="3086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62360" y="76176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2320" y="56386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mentum 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dP/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6080" y="1752480"/>
            <a:ext cx="24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 GEANT/p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378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with 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4280" y="419112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ithout 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2320" y="49528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no mult. sca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124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048120" y="3276720"/>
            <a:ext cx="30456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4560" y="4038480"/>
            <a:ext cx="1680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ckness :1.5c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5480" y="6172200"/>
            <a:ext cx="43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kio Kiyomichi, Miwako Suzuki, Ayako Danm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20:01:53Z</dcterms:created>
  <dc:creator>江角 晋一</dc:creator>
  <dc:description/>
  <dc:language>en-US</dc:language>
  <cp:lastModifiedBy>江角 晋一</cp:lastModifiedBy>
  <dcterms:modified xsi:type="dcterms:W3CDTF">2001-03-07T04:44:46Z</dcterms:modified>
  <cp:revision>28</cp:revision>
  <dc:subject/>
  <dc:title>Test results and status on T0</dc:title>
</cp:coreProperties>
</file>