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228-0440-40B5-9E8B-DEA505F8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F6C-7C9C-4A96-B2F7-F220C79A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8FC-FC62-476B-A873-919D71C6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0E5-6B09-4D2E-B280-A2AFD919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6CF-A794-47C5-B486-D7CDB299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6A3-3E2E-4652-8FEE-8B906588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42D-0400-411D-8F60-98D3ABD8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BC4-ADD2-4BB6-A8FA-0A5659F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3EB-050E-44FC-9F71-4B9D4BE4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AD2-1F5D-4CFC-B1A1-188DC42F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1C8-A55F-42AF-8EC1-3F4F3B6F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73F-453A-4EFB-84EA-56A07BD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EA5-2CEF-4F85-A249-C05824EB0B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914400"/>
            <a:ext cx="2590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0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7480" y="2133720"/>
            <a:ext cx="23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inIchi E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niv. of Tsuk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4290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) Do we really need T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2) rate estimate and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3) design and 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209680" y="304920"/>
          <a:ext cx="465624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920"/>
                    <a:ext cx="46562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176560" y="187200"/>
          <a:ext cx="4790880" cy="648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6560" y="187200"/>
                    <a:ext cx="479088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200240" y="876240"/>
          <a:ext cx="67453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76240"/>
                    <a:ext cx="67453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308640" y="9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2400" y="4572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oshi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68280" y="1162080"/>
          <a:ext cx="66088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162080"/>
                    <a:ext cx="66088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782400" y="4572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oshi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362320" y="1052640"/>
          <a:ext cx="4419360" cy="47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52640"/>
                    <a:ext cx="4419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782400" y="4572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oshi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38360" y="905040"/>
          <a:ext cx="5867280" cy="50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905040"/>
                    <a:ext cx="5867280" cy="50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782400" y="4572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oshi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776680" y="1100160"/>
          <a:ext cx="359064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100160"/>
                    <a:ext cx="359064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782400" y="4572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oshi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762120" y="57168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7168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935040" y="685800"/>
            <a:ext cx="135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oshi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762120" y="57168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7168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935040" y="685800"/>
            <a:ext cx="135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oshi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66680" y="380880"/>
          <a:ext cx="4343400" cy="61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880"/>
                    <a:ext cx="43434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636160" y="685800"/>
            <a:ext cx="21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harged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n/dy, dn/d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6400" y="76212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b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5360" y="76212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b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6080" y="5334120"/>
            <a:ext cx="2062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BBC1&gt;0 &amp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BC2&gt;0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228600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single B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9040" y="449568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um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ts in both B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5720" y="51055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C or trigger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5400" y="51055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C and trigger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000" y="61722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Pythia : by Hiroaki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1120" y="5562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440" y="5562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312408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Fritiof was f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to be similar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Masaya.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38080" y="304920"/>
          <a:ext cx="4257720" cy="61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4257720" cy="61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182920" y="914400"/>
            <a:ext cx="20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h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0 and 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743200"/>
            <a:ext cx="21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h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OF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0/BB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2720" y="3048120"/>
            <a:ext cx="1066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0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3800" y="3048120"/>
            <a:ext cx="1245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C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4800" y="472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 relativ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al 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dist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4120" y="15238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7440" y="457200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O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9440" y="457200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ultipli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9040" y="563868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0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60120" y="56386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C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1400" y="380880"/>
            <a:ext cx="64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the bias is only on the multiplicity of the ev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can be estimated with 100% NTC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 the bias can be corrected as a function of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ltipl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6800" y="2057400"/>
            <a:ext cx="7143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However, if this bias depends on the particle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or momenta, it can not be corrected even with N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at kind of bias can only be known by sele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vents with or without hit on BBC, if we have 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ich has by definition no bias and provids us P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ithout T0, we can do PID only in events with hit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BC. So as long as BBC does not have 100% efficienc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e need T0 to measure PIDed spectra without bia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ven to know the bias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9720" y="2514600"/>
            <a:ext cx="749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) Luminosity 1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(cm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ec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  : 50kHz pp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2) Trigger rate (1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level) : the same by 100% NT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3) DAQ/Data rate : 1kHz gives 90Mevents/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4) 100M min. bias NTC triggered events g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M charged tracks in T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5) 0.5M identified protons, K/p separation up to 5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xpected power low Pt distribution         (next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ew counts in 200MeV/c bin at 5GeV/c  (next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6) 1 day with NTC trigger or 1/3 day with NTC+T0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ithout safet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533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TC: 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BC: 80% (4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0: 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F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457200"/>
            <a:ext cx="251460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5335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) beam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b) a+N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) a+NTC+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d) a+NTC.or.BBC.or.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457200"/>
            <a:ext cx="281952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133720" y="914400"/>
          <a:ext cx="478152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914400"/>
                    <a:ext cx="47815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742120" y="685800"/>
            <a:ext cx="39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N/dPt  (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er 100MeV/c b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 1M proton tra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2200" y="5562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t (G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6760" y="3352680"/>
            <a:ext cx="27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ff00"/>
                </a:solidFill>
                <a:latin typeface="Times New Roman"/>
              </a:rPr>
              <a:t>exp(-mt/0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ower low (130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proton data (30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p-bar data (30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exp(-mt/0.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65404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p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irst 1 week with transverse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ext 4 weeks with longitudin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propo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1+1 days T0 in trigger for trans./long.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1+1 weeks T0 in read-out with NT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remove T0 from IR after 2 weeks (if reques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ff00"/>
                </a:solidFill>
                <a:latin typeface="Times New Roman"/>
              </a:rPr>
              <a:t>(rea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ff00"/>
                </a:solidFill>
                <a:latin typeface="Times New Roman"/>
              </a:rPr>
              <a:t>reference for non-polarized HI beam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ff00"/>
                </a:solidFill>
                <a:latin typeface="Times New Roman"/>
              </a:rPr>
              <a:t>(systematically remaining long. polariz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ff00"/>
                </a:solidFill>
                <a:latin typeface="Times New Roman"/>
              </a:rPr>
              <a:t>the trans. polarized b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(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asymmetry of identified charged hadron (especi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high Pt proton, anti-proton) with respec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42670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43434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572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648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Do we like to have T0 install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4876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If yes, let’s continue to do 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not, stop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15228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stallation steps in 4 shifts  (Susumu.S and Brendan.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) attach bands to the nosecone (5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2) adjust alignment of south/north bands (2 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3) fix 2 common platforms for 8 PMT supports (1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4) attach 4 edge PMT supports to the platform (1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5) check south/north phi with 2 dummy pipes (2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6) attach other PMT supports to the platform (2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ff00"/>
                </a:solidFill>
                <a:latin typeface="Times New Roman"/>
              </a:rPr>
              <a:t>(7) mount T0 with PCR one by one (6 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ff00"/>
                </a:solidFill>
                <a:latin typeface="Times New Roman"/>
              </a:rPr>
              <a:t>(8) connect all fibers of PCR to PMT (2 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(9) installing signal and HV cable (3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(10) Check signals (2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a) All the steps will be exercised with dummy r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ize nosecone model in Tsuku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b) Carrying the parts into the IR will be tes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ummy parts especially for the band and T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04:00:45Z</dcterms:created>
  <dc:creator>江角 晋一</dc:creator>
  <dc:description/>
  <dc:language>en-US</dc:language>
  <cp:lastModifiedBy>江角 晋一</cp:lastModifiedBy>
  <dcterms:modified xsi:type="dcterms:W3CDTF">2001-05-09T11:26:29Z</dcterms:modified>
  <cp:revision>18</cp:revision>
  <dc:subject/>
  <dc:title>PowerPoint プレゼンテーション</dc:title>
</cp:coreProperties>
</file>