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7B5A-0928-42F5-A977-541B0414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6A8-BE13-4FCE-A484-CE91C72C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F553-FD87-4BD5-9F8A-219766D0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8108-0BAD-438E-8E2A-BA5C2F68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233-DBFB-4B34-B981-1AD781EE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C87-9B6D-4106-B23D-9D5BC856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19FC-E88B-40DA-9D64-764A47D0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88B6-E253-473E-8AD0-9780B85C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0C0-6693-4DA0-8813-F3F60D37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094-F765-4F6C-9458-40663306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884-77F7-4FCA-B7B1-0B30ED4E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B99C-7B4C-457A-98E6-38B369F7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043E-C155-47DD-8018-3A4B8E3D504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7772400" cy="1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 High Voltage value searching of T0 and PCR coun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0GeV Proton-Proton collis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HIC-PHENIX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3809880"/>
            <a:ext cx="4419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0/PCR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.of Tsuku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PHENIX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504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sults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6244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290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12193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500V(Pulse-Hight=0.6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121932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600V(Pulse-Hight=1.0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838080"/>
            <a:ext cx="2133720" cy="3373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o.2(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平均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Gain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のもの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0988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TEK00001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343400" cy="36212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1456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TEK00002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441972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504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sults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6244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290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219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700V(Pulse-Hight=1.5-2.0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121932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800V(Pulse-Hight=3.0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838080"/>
            <a:ext cx="2210040" cy="3373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o.2(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平均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Gain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のもの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0520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TEK00003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343400" cy="3735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9145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TEK00004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26744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504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sults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6244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290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14560" y="1371600"/>
            <a:ext cx="33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00V(Pulse-Hight=4.0-5.0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838080"/>
            <a:ext cx="2210040" cy="3373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o.2(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平均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Gain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のもの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TEK00005" descr=""/>
          <p:cNvPicPr/>
          <p:nvPr/>
        </p:nvPicPr>
        <p:blipFill>
          <a:blip r:embed="rId1"/>
          <a:stretch/>
        </p:blipFill>
        <p:spPr>
          <a:xfrm>
            <a:off x="1790640" y="19051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504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sults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6244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290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121932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500V(Pulse-Hight=0.2-0.3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12193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600V(Pulse-Hight=0.6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838080"/>
            <a:ext cx="2514600" cy="337320"/>
          </a:xfrm>
          <a:prstGeom prst="rect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o.3(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最も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Gain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が低いもの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TEK00013" descr=""/>
          <p:cNvPicPr/>
          <p:nvPr/>
        </p:nvPicPr>
        <p:blipFill>
          <a:blip r:embed="rId1"/>
          <a:stretch/>
        </p:blipFill>
        <p:spPr>
          <a:xfrm>
            <a:off x="152280" y="1743120"/>
            <a:ext cx="4419720" cy="3819600"/>
          </a:xfrm>
          <a:prstGeom prst="rect">
            <a:avLst/>
          </a:prstGeom>
          <a:ln w="0">
            <a:noFill/>
          </a:ln>
        </p:spPr>
      </p:pic>
      <p:pic>
        <p:nvPicPr>
          <p:cNvPr id="187" name="TEK00014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343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504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sults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6244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290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2193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700V(Pulse-Hight=1.0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121932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800V(Pulse-Hight=1.5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838080"/>
            <a:ext cx="2514600" cy="337320"/>
          </a:xfrm>
          <a:prstGeom prst="rect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o.3(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最も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Gain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が低いもの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TEK00015" descr=""/>
          <p:cNvPicPr/>
          <p:nvPr/>
        </p:nvPicPr>
        <p:blipFill>
          <a:blip r:embed="rId1"/>
          <a:stretch/>
        </p:blipFill>
        <p:spPr>
          <a:xfrm>
            <a:off x="76320" y="1743120"/>
            <a:ext cx="4343400" cy="3743280"/>
          </a:xfrm>
          <a:prstGeom prst="rect">
            <a:avLst/>
          </a:prstGeom>
          <a:ln w="0">
            <a:noFill/>
          </a:ln>
        </p:spPr>
      </p:pic>
      <p:pic>
        <p:nvPicPr>
          <p:cNvPr id="195" name="TEK00016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4419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504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sults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6244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290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2952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00V(Pulse-Hight=2.0-3.0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12952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2000V(Pulse-Hight=4.0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838080"/>
            <a:ext cx="2514600" cy="337320"/>
          </a:xfrm>
          <a:prstGeom prst="rect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o.3(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最も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Gain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が低いもの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TEK00017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267440" cy="3784680"/>
          </a:xfrm>
          <a:prstGeom prst="rect">
            <a:avLst/>
          </a:prstGeom>
          <a:ln w="0">
            <a:noFill/>
          </a:ln>
        </p:spPr>
      </p:pic>
      <p:pic>
        <p:nvPicPr>
          <p:cNvPr id="203" name="TEK00018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43434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324160" y="2282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sults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8380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結果をまとめると以下のようにな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028880" y="1523880"/>
          <a:ext cx="7086600" cy="2133720"/>
        </p:xfrm>
        <a:graphic>
          <a:graphicData uri="http://schemas.openxmlformats.org/drawingml/2006/table">
            <a:tbl>
              <a:tblPr/>
              <a:tblGrid>
                <a:gridCol w="1560240"/>
                <a:gridCol w="1170000"/>
                <a:gridCol w="1041480"/>
                <a:gridCol w="1104840"/>
                <a:gridCol w="1170000"/>
                <a:gridCol w="104004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cou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0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0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.1(Gain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-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-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.2(Gain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-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-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.3(Gain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-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8153280" y="3244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単位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[V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4191120"/>
            <a:ext cx="0" cy="304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8098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他の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本の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Gain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は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o.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o.3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の間である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5257800"/>
            <a:ext cx="5715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しかし、（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cm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厚シンチを用いた）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KEK-test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では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1700V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が最も良い点であっ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実際に使うものは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1.75cm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であるから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0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の点からは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1700V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以上が望ましい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449568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よって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1600V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では多少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Pulse-Hight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が小さく、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1700V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では少し大き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46483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0120" y="4419720"/>
            <a:ext cx="13716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50V !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4876920"/>
            <a:ext cx="0" cy="304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5715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0120" y="5486400"/>
            <a:ext cx="13716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00V !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124080" y="2286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提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1523880"/>
            <a:ext cx="2667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第一希望：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70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第二希望：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65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第三希望：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60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990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今回の実験結果より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0counte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用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希望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365760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また、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CR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は宇宙線実験において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2000V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にて十分な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が得られたので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2000V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で運用すべ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24160" y="2282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322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ＭＳ Ｐゴシック"/>
              </a:rPr>
              <a:t>T0counter</a:t>
            </a:r>
            <a:r>
              <a:rPr b="1" i="1" lang="ja-JP" sz="2000" spc="-1" strike="noStrike">
                <a:solidFill>
                  <a:srgbClr val="000000"/>
                </a:solidFill>
                <a:latin typeface="ＭＳ Ｐゴシック"/>
              </a:rPr>
              <a:t>および</a:t>
            </a:r>
            <a:r>
              <a:rPr b="1" i="1" lang="ja-JP" sz="2000" spc="-1" strike="noStrike">
                <a:solidFill>
                  <a:srgbClr val="000000"/>
                </a:solidFill>
                <a:latin typeface="ＭＳ Ｐゴシック"/>
              </a:rPr>
              <a:t>PCR</a:t>
            </a:r>
            <a:r>
              <a:rPr b="1" i="1" lang="ja-JP" sz="2000" spc="-1" strike="noStrike">
                <a:solidFill>
                  <a:srgbClr val="000000"/>
                </a:solidFill>
                <a:latin typeface="ＭＳ Ｐゴシック"/>
              </a:rPr>
              <a:t>の運用</a:t>
            </a:r>
            <a:r>
              <a:rPr b="1" i="1" lang="ja-JP" sz="2000" spc="-1" strike="noStrike">
                <a:solidFill>
                  <a:srgbClr val="000000"/>
                </a:solidFill>
                <a:latin typeface="ＭＳ Ｐゴシック"/>
              </a:rPr>
              <a:t>HV</a:t>
            </a:r>
            <a:r>
              <a:rPr b="1" i="1" lang="ja-JP" sz="2000" spc="-1" strike="noStrike">
                <a:solidFill>
                  <a:srgbClr val="000000"/>
                </a:solidFill>
                <a:latin typeface="ＭＳ Ｐゴシック"/>
              </a:rPr>
              <a:t>値を決定する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9880" y="228600"/>
            <a:ext cx="1524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ＭＳ Ｐゴシック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57480" y="838080"/>
            <a:ext cx="66294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FEM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への入力が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V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.5V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程度であるこ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全てのカウンターの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HV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は同じにする。（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Gain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を合わせるために各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PMT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毎に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HV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を変更すると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timing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がずれるから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KEK-test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の結果から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700V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付近で最も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resolution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が良くなることがわかっている。（ただしシンチ厚さ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cm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宇宙線実験結果では印加電圧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800V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で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50-75ps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が得られている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4796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HVdep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4114800" cy="275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2895480"/>
            <a:ext cx="2438280" cy="307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KEK-test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結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8124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05520" y="3429000"/>
            <a:ext cx="3514680" cy="3335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15000" y="2971800"/>
            <a:ext cx="2438280" cy="307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宇宙線実験結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3429000"/>
            <a:ext cx="91440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01-T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5029200"/>
            <a:ext cx="91440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03-T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3429000"/>
            <a:ext cx="91440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02-T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6248520"/>
            <a:ext cx="121932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印加電圧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[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189200">
            <a:off x="-197280" y="3777480"/>
            <a:ext cx="1219320" cy="52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Resolution[p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5029200"/>
            <a:ext cx="106668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81360" y="1522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000000"/>
                </a:solidFill>
                <a:latin typeface="ＭＳ Ｐゴシック"/>
              </a:rPr>
              <a:t>テスト方法</a:t>
            </a:r>
            <a:r>
              <a:rPr b="1" i="1" lang="ja-JP" sz="2400" spc="-1" strike="noStrike">
                <a:solidFill>
                  <a:srgbClr val="000000"/>
                </a:solidFill>
                <a:latin typeface="ＭＳ Ｐゴシック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990720"/>
            <a:ext cx="7086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β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線源</a:t>
            </a:r>
            <a:r>
              <a:rPr b="0" lang="ja-JP" sz="1400" spc="-1" strike="noStrike" baseline="30000">
                <a:solidFill>
                  <a:srgbClr val="000000"/>
                </a:solidFill>
                <a:latin typeface="ＭＳ Ｐゴシック"/>
              </a:rPr>
              <a:t>90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Sr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を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T0counter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の中心に置いて、オシロスコープでの波高をチェックした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β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線源で得られた波高から、実際に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pp-run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中に荷電粒子が通過したときの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FEM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直前での波高の推測は以下のように行った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2133720"/>
            <a:ext cx="88394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A.Energy deposit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の違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今回用いた</a:t>
            </a:r>
            <a:r>
              <a:rPr b="0" lang="ja-JP" sz="1400" spc="-1" strike="noStrike" baseline="30000">
                <a:solidFill>
                  <a:srgbClr val="000000"/>
                </a:solidFill>
                <a:latin typeface="ＭＳ Ｐゴシック"/>
              </a:rPr>
              <a:t>90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Sr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のエネルギーは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2.282MeV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である。このエネルギーが全てシンチレーターで落されると仮定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また、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MIP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の荷電粒子が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1.75cm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の厚さのシンチで落とすエネルギー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(dE/dx|min [MeV/g/cm</a:t>
            </a:r>
            <a:r>
              <a:rPr b="0" lang="ja-JP" sz="1400" spc="-1" strike="noStrike" baseline="30000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])*(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シンチ厚さ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[cm])*(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シンチ密度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[g/cm</a:t>
            </a:r>
            <a:r>
              <a:rPr b="0" lang="ja-JP" sz="1400" spc="-1" strike="noStrike" baseline="30000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=(1.956)*(1.75)*(1.03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=3.53MeV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4191120"/>
            <a:ext cx="83055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B.FEM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までのケーブルによる減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KEK-test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で用いた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24m cable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では波高が約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70%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に減衰していたことからケーブルによるパルス減衰を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98.5[%/m]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と仮定。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((0.985)^24=0.69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T0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から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FEM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までのケーブル長は（佐藤さんトラペ参照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,pig-tail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は共通なので考えない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(counter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から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rack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まで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:RG8 581cm)+(cable-buffer:400cm)+(rack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内部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FEM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まで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:214c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=1195cm(=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約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12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よってケーブルによる減衰は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(98.5%^12)=83.4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81360" y="1522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000000"/>
                </a:solidFill>
                <a:latin typeface="ＭＳ Ｐゴシック"/>
              </a:rPr>
              <a:t>テスト方法</a:t>
            </a:r>
            <a:r>
              <a:rPr b="1" i="1" lang="ja-JP" sz="2400" spc="-1" strike="noStrike">
                <a:solidFill>
                  <a:srgbClr val="000000"/>
                </a:solidFill>
                <a:latin typeface="ＭＳ Ｐゴシック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A.B.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よ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7664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990720" y="1600200"/>
                <a:ext cx="4162320" cy="20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期待される出力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V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オシロ出力</m:t>
                            </m:r>
                            <m:r>
                              <m:t xml:space="preserve">)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β線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nergy</m:t>
                                </m:r>
                              </m:e>
                            </m:d>
                          </m:den>
                        </m:f>
                        <m:r>
                          <m:t xml:space="preserve">×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ケーブル減衰</m:t>
                            </m:r>
                          </m:e>
                        </m:d>
                      </m:e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オシロ出力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eV</m:t>
                                </m:r>
                              </m:e>
                            </m:d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V</m:t>
                            </m:r>
                          </m:e>
                        </m:d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オシロ出力</m:t>
                            </m:r>
                          </m:e>
                        </m:d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914400" y="3733920"/>
            <a:ext cx="7315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と、なればよいから結局、「オシロでの出力が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0.8-1.2V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となる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HV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を求める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とになる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43240" y="152280"/>
            <a:ext cx="4457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000000"/>
                </a:solidFill>
                <a:latin typeface="ＭＳ Ｐゴシック"/>
              </a:rPr>
              <a:t>テストに用いた</a:t>
            </a:r>
            <a:r>
              <a:rPr b="1" i="1" lang="ja-JP" sz="2400" spc="-1" strike="noStrike">
                <a:solidFill>
                  <a:srgbClr val="000000"/>
                </a:solidFill>
                <a:latin typeface="ＭＳ Ｐゴシック"/>
              </a:rPr>
              <a:t>T0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7664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523880"/>
            <a:ext cx="7315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調べたカウンターは以下の通り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最もゲインの高いものと低いもの、そしてそれらの平均のゲインを持つもの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種類を調べ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219320" y="2971800"/>
            <a:ext cx="6552720" cy="1222200"/>
            <a:chOff x="1219320" y="2971800"/>
            <a:chExt cx="6552720" cy="1222200"/>
          </a:xfrm>
        </p:grpSpPr>
        <p:grpSp>
          <p:nvGrpSpPr>
            <p:cNvPr id="73" name=""/>
            <p:cNvGrpSpPr/>
            <p:nvPr/>
          </p:nvGrpSpPr>
          <p:grpSpPr>
            <a:xfrm>
              <a:off x="1222920" y="2973240"/>
              <a:ext cx="6544800" cy="1218960"/>
              <a:chOff x="1222920" y="2973240"/>
              <a:chExt cx="6544800" cy="121896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1222920" y="2973240"/>
                <a:ext cx="1608840" cy="304560"/>
                <a:chOff x="1222920" y="2973240"/>
                <a:chExt cx="1608840" cy="3045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1294200" y="2973240"/>
                  <a:ext cx="14659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2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呼び名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1222920" y="2973240"/>
                  <a:ext cx="160884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832120" y="2973240"/>
                <a:ext cx="1627200" cy="304560"/>
                <a:chOff x="2832120" y="2973240"/>
                <a:chExt cx="1627200" cy="3045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903760" y="2973240"/>
                  <a:ext cx="14835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PMT numb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832120" y="2973240"/>
                  <a:ext cx="162720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4459680" y="2973240"/>
                <a:ext cx="1696680" cy="304560"/>
                <a:chOff x="4459680" y="2973240"/>
                <a:chExt cx="1696680" cy="3045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4530960" y="2973240"/>
                  <a:ext cx="15537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2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ADCmean(@1400V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459680" y="2973240"/>
                  <a:ext cx="169668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6156720" y="2973240"/>
                <a:ext cx="1611000" cy="304560"/>
                <a:chOff x="6156720" y="2973240"/>
                <a:chExt cx="1611000" cy="3045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6228360" y="2973240"/>
                  <a:ext cx="1467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2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Gain</a:t>
                  </a:r>
                  <a:r>
                    <a:rPr b="1" lang="ja-JP" sz="12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の大きさ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156720" y="2973240"/>
                  <a:ext cx="161100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1222920" y="3277800"/>
                <a:ext cx="1608840" cy="304920"/>
                <a:chOff x="1222920" y="3277800"/>
                <a:chExt cx="1608840" cy="30492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1294200" y="3277800"/>
                  <a:ext cx="146592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No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222920" y="3277800"/>
                  <a:ext cx="160884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832120" y="3277800"/>
                <a:ext cx="1627200" cy="304920"/>
                <a:chOff x="2832120" y="3277800"/>
                <a:chExt cx="1627200" cy="3049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03760" y="3277800"/>
                  <a:ext cx="14835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2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20,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832120" y="3277800"/>
                  <a:ext cx="162720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59680" y="3277800"/>
                <a:ext cx="1696680" cy="304920"/>
                <a:chOff x="4459680" y="3277800"/>
                <a:chExt cx="1696680" cy="3049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530960" y="3277800"/>
                  <a:ext cx="15537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2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1180,103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59680" y="3277800"/>
                  <a:ext cx="169668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6156720" y="3277800"/>
                <a:ext cx="1611000" cy="304920"/>
                <a:chOff x="6156720" y="3277800"/>
                <a:chExt cx="1611000" cy="3049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228360" y="3277800"/>
                  <a:ext cx="146772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2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1</a:t>
                  </a:r>
                  <a:r>
                    <a:rPr b="1" lang="ja-JP" sz="12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位</a:t>
                  </a:r>
                  <a:r>
                    <a:rPr b="1" lang="ja-JP" sz="12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/8</a:t>
                  </a:r>
                  <a:r>
                    <a:rPr b="1" lang="ja-JP" sz="12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本中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156720" y="3277800"/>
                  <a:ext cx="161100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222920" y="3582720"/>
                <a:ext cx="1608840" cy="304560"/>
                <a:chOff x="1222920" y="3582720"/>
                <a:chExt cx="1608840" cy="3045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294200" y="3582720"/>
                  <a:ext cx="14659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No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222920" y="3582720"/>
                  <a:ext cx="160884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832120" y="3582720"/>
                <a:ext cx="1627200" cy="304560"/>
                <a:chOff x="2832120" y="3582720"/>
                <a:chExt cx="1627200" cy="3045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903760" y="3582720"/>
                  <a:ext cx="14835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2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4,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832120" y="3582720"/>
                  <a:ext cx="162720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4459680" y="3582720"/>
                <a:ext cx="1696680" cy="304560"/>
                <a:chOff x="4459680" y="3582720"/>
                <a:chExt cx="1696680" cy="3045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530960" y="3582720"/>
                  <a:ext cx="15537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2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737,77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459680" y="3582720"/>
                  <a:ext cx="169668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156720" y="3582720"/>
                <a:ext cx="1611000" cy="304560"/>
                <a:chOff x="6156720" y="3582720"/>
                <a:chExt cx="1611000" cy="3045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228360" y="3582720"/>
                  <a:ext cx="1467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2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2</a:t>
                  </a:r>
                  <a:r>
                    <a:rPr b="1" lang="ja-JP" sz="12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位</a:t>
                  </a:r>
                  <a:r>
                    <a:rPr b="1" lang="ja-JP" sz="12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/8</a:t>
                  </a:r>
                  <a:r>
                    <a:rPr b="1" lang="ja-JP" sz="12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本中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156720" y="3582720"/>
                  <a:ext cx="161100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1222920" y="3887640"/>
                <a:ext cx="1608840" cy="304560"/>
                <a:chOff x="1222920" y="3887640"/>
                <a:chExt cx="1608840" cy="3045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294200" y="3887640"/>
                  <a:ext cx="14659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No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222920" y="3887640"/>
                  <a:ext cx="160884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832120" y="3887640"/>
                <a:ext cx="1627200" cy="304560"/>
                <a:chOff x="2832120" y="3887640"/>
                <a:chExt cx="1627200" cy="3045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903760" y="3887640"/>
                  <a:ext cx="14835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2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9,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832120" y="3887640"/>
                  <a:ext cx="162720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459680" y="3887640"/>
                <a:ext cx="1696680" cy="304560"/>
                <a:chOff x="4459680" y="3887640"/>
                <a:chExt cx="1696680" cy="3045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4530960" y="3887640"/>
                  <a:ext cx="15537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2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443,43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459680" y="3887640"/>
                  <a:ext cx="169668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156720" y="3887640"/>
                <a:ext cx="1611000" cy="304560"/>
                <a:chOff x="6156720" y="3887640"/>
                <a:chExt cx="1611000" cy="3045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228360" y="3887640"/>
                  <a:ext cx="1467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2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8</a:t>
                  </a:r>
                  <a:r>
                    <a:rPr b="1" lang="ja-JP" sz="12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位</a:t>
                  </a:r>
                  <a:r>
                    <a:rPr b="1" lang="ja-JP" sz="12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/8</a:t>
                  </a:r>
                  <a:r>
                    <a:rPr b="1" lang="ja-JP" sz="12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本中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56720" y="3887640"/>
                  <a:ext cx="161100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2" name=""/>
            <p:cNvSpPr/>
            <p:nvPr/>
          </p:nvSpPr>
          <p:spPr>
            <a:xfrm>
              <a:off x="1219320" y="2971800"/>
              <a:ext cx="6552720" cy="12222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504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sults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6244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TEK00007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4419720" cy="3778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290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TEK00008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343400" cy="3809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90720" y="12193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500V(Pulse-Hight=0.8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121932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600V(Pulse-Hight=1.2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181480"/>
            <a:ext cx="10670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5181480"/>
            <a:ext cx="8380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6172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縦軸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6172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横軸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486400"/>
            <a:ext cx="76212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5486400"/>
            <a:ext cx="76176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838080"/>
            <a:ext cx="2667240" cy="337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o.1(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最も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Gain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が高いもの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504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sults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6244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290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2952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700V(Pulse-Hight=2.0-2.5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2952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800V(Pulse-Hight=3.0-3.5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838080"/>
            <a:ext cx="2667240" cy="337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o.1(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最も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Gain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が高いもの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8124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TEK00009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267440" cy="3700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1464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TEK00010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419112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504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sults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6244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290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62240" y="1295280"/>
            <a:ext cx="31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00V(Pulse-Hight=5.0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838080"/>
            <a:ext cx="2667240" cy="337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o.1(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最も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Gain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が高いもの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520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TEK00011" descr=""/>
          <p:cNvPicPr/>
          <p:nvPr/>
        </p:nvPicPr>
        <p:blipFill>
          <a:blip r:embed="rId1"/>
          <a:stretch/>
        </p:blipFill>
        <p:spPr>
          <a:xfrm>
            <a:off x="2252520" y="1905120"/>
            <a:ext cx="46389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01:57:03Z</dcterms:created>
  <dc:creator>Masaya Ono</dc:creator>
  <dc:description/>
  <dc:language>en-US</dc:language>
  <cp:lastModifiedBy>Masaya Ono</cp:lastModifiedBy>
  <dcterms:modified xsi:type="dcterms:W3CDTF">2001-10-23T03:51:50Z</dcterms:modified>
  <cp:revision>6</cp:revision>
  <dc:subject/>
  <dc:title>目的</dc:title>
</cp:coreProperties>
</file>