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98B-9F97-4DE4-AB3E-98B63B27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431-D8F4-4673-B331-BDFB792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F4C-3FDD-43F8-9DEE-8A56B93C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5D3-4131-4D46-8160-5DEA63C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6D8-1C3B-4ADA-97B0-3F2A2CB1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A5D-D30E-4B6B-B29A-751E412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F2C-CA0C-4482-A98A-CF2FCD8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0A7-4F9B-46BB-AAD7-1EC0670D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A8A-16CB-4450-9856-A59121F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53A-5717-4C0A-AF98-14FB386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866-99E5-487E-8EDE-99F34BE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7F0-BD00-4441-8194-714B655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C2EA-BC7C-47D6-AFD1-4215614A88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1371600"/>
            <a:ext cx="4667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me zero(T0)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80060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aracteristic of p+p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 of Flight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stematic scintillator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intillator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M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mulation of T0 cou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hematic design of T0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 by T0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 6.2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276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. of  Tsuk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roshi Tsuruoka  ,  Masaya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4743360" cy="43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 by T0 (con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20574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Radiation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743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cintillator(BC404):λ=43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591920" y="2286000"/>
          <a:ext cx="2819160" cy="175896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rsion prob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.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3.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04920" y="449568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746840" y="3124080"/>
                <a:ext cx="241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versio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hickness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762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ANT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s" descr=""/>
          <p:cNvPicPr/>
          <p:nvPr/>
        </p:nvPicPr>
        <p:blipFill>
          <a:blip r:embed="rId1"/>
          <a:stretch/>
        </p:blipFill>
        <p:spPr>
          <a:xfrm>
            <a:off x="0" y="1066680"/>
            <a:ext cx="3657600" cy="34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7848720" y="4191120"/>
          <a:ext cx="2514600" cy="181584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cm×2.5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cm×3.0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809880" y="19051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enerate γray which have  (π0⇒2γ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3520" y="4724280"/>
          <a:ext cx="6019560" cy="173988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(GEA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Radiation length(λ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3c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371600" y="6934320"/>
            <a:ext cx="4343400" cy="147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d Multiplicity =primary +second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.18+0.004(J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.26+0.006(FRITI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ここから下は要らないトラ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2990880" cy="355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cintillator selectio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6375240" cy="6248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708660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Every size achieve 50ps at diamond cut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74674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,2.5,3.0cm achieve 50ps at optically polished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822960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We will design a T0 prototype with 2.0cm diamond cut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895640" cy="43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’s different in p+p colli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1066680"/>
          <a:ext cx="350496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350496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4920" y="3124080"/>
          <a:ext cx="3200400" cy="211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124080"/>
                    <a:ext cx="3200400" cy="21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09880" y="3809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+p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０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eV(J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828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+Au 100AGeV(J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7621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harged dn/dy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295280"/>
            <a:ext cx="228600" cy="1600200"/>
          </a:xfrm>
          <a:prstGeom prst="upArrow">
            <a:avLst>
              <a:gd name="adj1" fmla="val 50000"/>
              <a:gd name="adj2" fmla="val 1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195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80773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multiplicity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00 of Au+Au collis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ndy3" descr=""/>
          <p:cNvPicPr/>
          <p:nvPr/>
        </p:nvPicPr>
        <p:blipFill>
          <a:blip r:embed="rId5"/>
          <a:stretch/>
        </p:blipFill>
        <p:spPr>
          <a:xfrm>
            <a:off x="304920" y="5181480"/>
            <a:ext cx="3200400" cy="227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7467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7543800"/>
            <a:ext cx="2438280" cy="152280"/>
          </a:xfrm>
          <a:prstGeom prst="rightArrow">
            <a:avLst>
              <a:gd name="adj1" fmla="val 50000"/>
              <a:gd name="adj2" fmla="val 40029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638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+p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０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eV(FRITI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1080" y="3962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=1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les/eve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5000" cy="38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m-Beam Counter(BB) in p+p colli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71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29000" y="1143000"/>
          <a:ext cx="3048120" cy="24256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of h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BC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68580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t Multiplicity of Beam Beam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33920" y="5867280"/>
          <a:ext cx="2438280" cy="12128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of h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487692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t Multiplicity of Time-of-Flight detector reg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   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6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113°,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φ&lt;45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72388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=0.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les/eve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8229600"/>
            <a:ext cx="5257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w charged particles hit Time of Flig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ed “Trigger” for efficient measur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ofhits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bbhits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2971800" cy="289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1371600"/>
            <a:ext cx="304920" cy="228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715000"/>
            <a:ext cx="304560" cy="228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523880"/>
            <a:ext cx="1295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No Hit at B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44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2120" y="6324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5943600"/>
            <a:ext cx="129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84</a:t>
            </a: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00"/>
                </a:solidFill>
                <a:latin typeface="Times New Roman"/>
              </a:rPr>
              <a:t>No Hit at T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267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C can’t be used as start coun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2057400" cy="380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pose of T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438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352680"/>
            <a:ext cx="5562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zero(T0)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vered Time-of-Flight detector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 resolution &lt;50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6019920" cy="174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vides trigger for hadron measurement and start timing for  TO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838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BC can’t be used as start cou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2952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w charged particles hit Time of Fl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“Trigger” for efficient measu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739152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ER=CLOCK×T0(×T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7696080"/>
            <a:ext cx="9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8001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f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495680" y="7695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76520" y="1066680"/>
                <a:ext cx="2938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o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55760" y="1854360"/>
                <a:ext cx="1079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F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0" y="1828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of Flight method resolu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d 100ps for 4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2514600"/>
                <a:ext cx="1011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op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286000" y="2514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 counter (Time-of-Flight detector)                  resolution.  &lt;80p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1600" y="3124080"/>
                <a:ext cx="10620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rt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9600" y="3733920"/>
            <a:ext cx="36957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ime of  Flight (ToF)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2004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counter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90512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267080"/>
            <a:ext cx="441972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or Au+Au coll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tart counter= Beam Beam Counter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Δ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=60ps achieved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80880"/>
            <a:ext cx="36957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ime of  Flight (ToF)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44000" y="434340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620120" y="5029200"/>
            <a:ext cx="5790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article velocity determined by Time of Fl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ｐ：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article momentum determined by tracks in the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Particles are identified by 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617220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Δ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required 50~60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4514760" cy="4827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to measure the start , stop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143000"/>
            <a:ext cx="6019200" cy="1548000"/>
            <a:chOff x="304920" y="1143000"/>
            <a:chExt cx="6019200" cy="1548000"/>
          </a:xfrm>
        </p:grpSpPr>
        <p:sp>
          <p:nvSpPr>
            <p:cNvPr id="105" name=""/>
            <p:cNvSpPr/>
            <p:nvPr/>
          </p:nvSpPr>
          <p:spPr>
            <a:xfrm>
              <a:off x="5321160" y="1868400"/>
              <a:ext cx="10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M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1868400"/>
              <a:ext cx="10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M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7320" y="1143000"/>
              <a:ext cx="200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rged parti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915800">
              <a:off x="5320800" y="1505160"/>
              <a:ext cx="586800" cy="288720"/>
            </a:xfrm>
            <a:prstGeom prst="flowChartMagneticDrum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2520" y="1505520"/>
              <a:ext cx="585360" cy="290160"/>
            </a:xfrm>
            <a:prstGeom prst="flowChartMagneticDrum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0480" y="1578240"/>
              <a:ext cx="4263480" cy="144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9160" y="1287720"/>
              <a:ext cx="1253880" cy="101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198200">
              <a:off x="2158560" y="1089000"/>
              <a:ext cx="220680" cy="1922760"/>
            </a:xfrm>
            <a:custGeom>
              <a:avLst/>
              <a:gdLst>
                <a:gd name="textAreaLeft" fmla="*/ 141120 w 220680"/>
                <a:gd name="textAreaRight" fmla="*/ 221040 w 220680"/>
                <a:gd name="textAreaTop" fmla="*/ 50040 h 1922760"/>
                <a:gd name="textAreaBottom" fmla="*/ 1872720 h 192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198200">
              <a:off x="4130280" y="1040760"/>
              <a:ext cx="290160" cy="2090160"/>
            </a:xfrm>
            <a:custGeom>
              <a:avLst/>
              <a:gdLst>
                <a:gd name="textAreaLeft" fmla="*/ 185400 w 290160"/>
                <a:gd name="textAreaRight" fmla="*/ 290520 w 290160"/>
                <a:gd name="textAreaTop" fmla="*/ 54360 h 2090160"/>
                <a:gd name="textAreaBottom" fmla="*/ 2035800 h 20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76760" y="21585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3040" y="2231280"/>
              <a:ext cx="10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L-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30640" y="1215360"/>
              <a:ext cx="58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23880" y="2971800"/>
                <a:ext cx="14954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3880" y="3467160"/>
                <a:ext cx="1662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57200" y="3033720"/>
            <a:ext cx="249120" cy="866880"/>
          </a:xfrm>
          <a:custGeom>
            <a:avLst/>
            <a:gdLst>
              <a:gd name="textAreaLeft" fmla="*/ 159120 w 249120"/>
              <a:gd name="textAreaRight" fmla="*/ 249480 w 249120"/>
              <a:gd name="textAreaTop" fmla="*/ 22320 h 866880"/>
              <a:gd name="textAreaBottom" fmla="*/ 8445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2"/>
                </a:lnTo>
                <a:cubicBezTo>
                  <a:pt x="10800" y="9482"/>
                  <a:pt x="5400" y="10382"/>
                  <a:pt x="0" y="10382"/>
                </a:cubicBezTo>
                <a:cubicBezTo>
                  <a:pt x="5400" y="10382"/>
                  <a:pt x="10800" y="11282"/>
                  <a:pt x="10800" y="1218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57600" y="3048120"/>
                <a:ext cx="1905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657600" y="3514680"/>
                <a:ext cx="1905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505320" y="3075120"/>
            <a:ext cx="152280" cy="87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2680 h 879480"/>
              <a:gd name="textAreaBottom" fmla="*/ 856800 h 87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76720"/>
            <a:ext cx="533520" cy="333360"/>
          </a:xfrm>
          <a:prstGeom prst="rightArrow">
            <a:avLst>
              <a:gd name="adj1" fmla="val 50000"/>
              <a:gd name="adj2" fmla="val 400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2920" y="4343400"/>
                <a:ext cx="2458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82920" y="5040360"/>
                <a:ext cx="2469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362320" y="4397400"/>
            <a:ext cx="120600" cy="1125360"/>
          </a:xfrm>
          <a:custGeom>
            <a:avLst/>
            <a:gdLst>
              <a:gd name="textAreaLeft" fmla="*/ 77040 w 120600"/>
              <a:gd name="textAreaRight" fmla="*/ 120960 w 120600"/>
              <a:gd name="textAreaTop" fmla="*/ 29160 h 1125360"/>
              <a:gd name="textAreaBottom" fmla="*/ 109620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743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d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743200"/>
            <a:ext cx="281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 hit time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hit position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8006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solution   t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43200" y="5791320"/>
                <a:ext cx="1523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90720" y="5943600"/>
            <a:ext cx="16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ution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400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Number of photo- elec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3915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resolution has been found to be dominated by Number of photo-electr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4209840" cy="355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ystematic scintillato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34160" y="2786040"/>
          <a:ext cx="7812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4160" y="2786040"/>
                    <a:ext cx="781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3962520" cy="348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5257800"/>
            <a:ext cx="4038480" cy="364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24080" y="6094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ref  M.Kurata et al.  / NIM A 349(1994)447-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47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Light yield (proportional  photo-electr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yield is decrease  exponentially with the distance from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114800"/>
            <a:ext cx="3124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is proportional scintillator’s cross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86200" y="2057400"/>
                <a:ext cx="2590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114800" y="2743200"/>
            <a:ext cx="2057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light attenuatio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1055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2.PMT’s time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86200" y="5486400"/>
                <a:ext cx="2666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14800" y="6324480"/>
            <a:ext cx="2057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T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time degradatio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6858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ΔT  degrades exponentially with the distance from the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7467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Large cross section scintillater  has small Δ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9907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C404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3219480" cy="330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cintillat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685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C404 plastic scintill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143000"/>
          <a:ext cx="5791320" cy="2666520"/>
        </p:xfrm>
        <a:graphic>
          <a:graphicData uri="http://schemas.openxmlformats.org/drawingml/2006/table">
            <a:tbl>
              <a:tblPr/>
              <a:tblGrid>
                <a:gridCol w="4038480"/>
                <a:gridCol w="175284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cons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 output(%anthrace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length of maximum emiss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ay constant of main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k light attenuation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active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tion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6520" y="533412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191120"/>
            <a:ext cx="525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calculate 4 size(1.5,2.0,2.5,3.0cm)scintillator’s ΔT, which refer to Kurata’s pap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Result is next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419720"/>
            <a:ext cx="5486400" cy="181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Required performa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1.for good Δ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large light yield ⇒thicker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2.a little background effect for backyard 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 little conversion probability⇒ thiner scint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66294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do we compromi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403848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φcoverage of T0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6019920"/>
          <a:ext cx="4952520" cy="1676160"/>
        </p:xfrm>
        <a:graphic>
          <a:graphicData uri="http://schemas.openxmlformats.org/drawingml/2006/table">
            <a:tbl>
              <a:tblPr/>
              <a:tblGrid>
                <a:gridCol w="1055520"/>
                <a:gridCol w="811800"/>
                <a:gridCol w="811800"/>
                <a:gridCol w="22734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(MeV/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 φcoverage(Δ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et coverage of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is 1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85800" y="7772400"/>
            <a:ext cx="5638680" cy="1266480"/>
            <a:chOff x="685800" y="7772400"/>
            <a:chExt cx="5638680" cy="1266480"/>
          </a:xfrm>
        </p:grpSpPr>
        <p:sp>
          <p:nvSpPr>
            <p:cNvPr id="161" name=""/>
            <p:cNvSpPr/>
            <p:nvPr/>
          </p:nvSpPr>
          <p:spPr>
            <a:xfrm>
              <a:off x="685800" y="7772400"/>
              <a:ext cx="556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Max degree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・・・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maximum degree that plus charged particles can hit   Time-of-Flight detector .(particles also through drift ,pad chamber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1760" y="8305560"/>
              <a:ext cx="556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Min degree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・・・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minimum degree that minus charged particles can hit   Time-of-Flight detector .(particles also through drift ,pad chamber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90720" y="55627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of-Flight detector cove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φ=168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3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hi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4114800" cy="386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+:Pt=4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+:Pt=3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886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+:Pt=2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:Pt=4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590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:Pt=3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9718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:Pt=200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4382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76520" y="2895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0384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3434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0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9112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0292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Time-of-Flight det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50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410080" y="4191120"/>
            <a:ext cx="609840" cy="533160"/>
          </a:xfrm>
          <a:custGeom>
            <a:avLst/>
            <a:gdLst>
              <a:gd name="textAreaLeft" fmla="*/ 360 w 609840"/>
              <a:gd name="textAreaRight" fmla="*/ 610560 w 6098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23" y="9178"/>
                </a:moveTo>
                <a:arcTo wR="-10800" hR="-10800" stAng="-10281590" swAng="-12086721"/>
                <a:lnTo>
                  <a:pt x="269" y="13194"/>
                </a:lnTo>
                <a:arcTo wR="10800" hR="10800" stAng="10031689" swAng="12086721"/>
                <a:lnTo>
                  <a:pt x="24147" y="12828"/>
                </a:lnTo>
                <a:lnTo>
                  <a:pt x="21072" y="15092"/>
                </a:lnTo>
                <a:lnTo>
                  <a:pt x="18808" y="120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495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962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26:08Z</dcterms:created>
  <dc:creator>Heavy ion experiment group</dc:creator>
  <dc:description/>
  <dc:language>en-US</dc:language>
  <cp:lastModifiedBy>Heavy ion experiment group</cp:lastModifiedBy>
  <dcterms:modified xsi:type="dcterms:W3CDTF">2000-07-07T06:12:27Z</dcterms:modified>
  <cp:revision>14</cp:revision>
  <dc:subject/>
  <dc:title>Time zero(T0)couter資料</dc:title>
</cp:coreProperties>
</file>