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7034213" cy="9194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419720" y="2361960"/>
            <a:ext cx="3047760" cy="116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419720" y="3635640"/>
            <a:ext cx="3047760" cy="116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419720" y="2361960"/>
            <a:ext cx="1487160" cy="116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981760" y="2361960"/>
            <a:ext cx="1487160" cy="116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19720" y="3635640"/>
            <a:ext cx="1487160" cy="116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981760" y="3635640"/>
            <a:ext cx="1487160" cy="116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419720" y="2361960"/>
            <a:ext cx="981000" cy="116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450040" y="2361960"/>
            <a:ext cx="981000" cy="116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480720" y="2361960"/>
            <a:ext cx="981000" cy="116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419720" y="3635640"/>
            <a:ext cx="981000" cy="116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5450040" y="3635640"/>
            <a:ext cx="981000" cy="116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480720" y="3635640"/>
            <a:ext cx="981000" cy="116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419720" y="2361960"/>
            <a:ext cx="304776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419720" y="2361960"/>
            <a:ext cx="304776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419720" y="2361960"/>
            <a:ext cx="148716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981760" y="2361960"/>
            <a:ext cx="148716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419720" y="2361960"/>
            <a:ext cx="1487160" cy="116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981760" y="2361960"/>
            <a:ext cx="148716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419720" y="3635640"/>
            <a:ext cx="1487160" cy="116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419720" y="2361960"/>
            <a:ext cx="304776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419720" y="2361960"/>
            <a:ext cx="148716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81760" y="2361960"/>
            <a:ext cx="1487160" cy="116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981760" y="3635640"/>
            <a:ext cx="1487160" cy="116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419720" y="2361960"/>
            <a:ext cx="1487160" cy="116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981760" y="2361960"/>
            <a:ext cx="1487160" cy="116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419720" y="3635640"/>
            <a:ext cx="3047760" cy="116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419720" y="2361960"/>
            <a:ext cx="3047760" cy="116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419720" y="3635640"/>
            <a:ext cx="3047760" cy="116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419720" y="2361960"/>
            <a:ext cx="1487160" cy="116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981760" y="2361960"/>
            <a:ext cx="1487160" cy="116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419720" y="3635640"/>
            <a:ext cx="1487160" cy="116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5981760" y="3635640"/>
            <a:ext cx="1487160" cy="116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419720" y="2361960"/>
            <a:ext cx="981000" cy="116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450040" y="2361960"/>
            <a:ext cx="981000" cy="116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480720" y="2361960"/>
            <a:ext cx="981000" cy="116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419720" y="3635640"/>
            <a:ext cx="981000" cy="116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5450040" y="3635640"/>
            <a:ext cx="981000" cy="116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480720" y="3635640"/>
            <a:ext cx="981000" cy="116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419720" y="2361960"/>
            <a:ext cx="304776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419720" y="2361960"/>
            <a:ext cx="148716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981760" y="2361960"/>
            <a:ext cx="148716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419720" y="2361960"/>
            <a:ext cx="1487160" cy="116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981760" y="2361960"/>
            <a:ext cx="148716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419720" y="3635640"/>
            <a:ext cx="1487160" cy="116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419720" y="2361960"/>
            <a:ext cx="148716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981760" y="2361960"/>
            <a:ext cx="1487160" cy="116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981760" y="3635640"/>
            <a:ext cx="1487160" cy="116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419720" y="2361960"/>
            <a:ext cx="1487160" cy="116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981760" y="2361960"/>
            <a:ext cx="1487160" cy="116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419720" y="3635640"/>
            <a:ext cx="3047760" cy="116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419720" y="2361960"/>
            <a:ext cx="304776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2000"/>
          </a:bodyPr>
          <a:p>
            <a:pPr marL="212400" indent="-212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60440" indent="-1771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708480" indent="-141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991800" indent="-141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275480" indent="-1414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275480" indent="-1414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275480" indent="-1414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553080"/>
            <a:ext cx="8153280" cy="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3962520" y="6553080"/>
            <a:ext cx="4647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entury"/>
              </a:rPr>
              <a:t>  </a:t>
            </a:r>
            <a:r>
              <a:rPr b="1" lang="en-US" sz="1400" spc="-1" strike="noStrike">
                <a:solidFill>
                  <a:srgbClr val="008000"/>
                </a:solidFill>
                <a:latin typeface="Century"/>
              </a:rPr>
              <a:t>T0/PCR / NTC Meeting at bldg. 1008 (Sep / 27 / 2001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95280" y="1066320"/>
            <a:ext cx="6400800" cy="1295640"/>
          </a:xfrm>
          <a:prstGeom prst="rect">
            <a:avLst/>
          </a:prstGeom>
          <a:solidFill>
            <a:srgbClr val="dbffdb"/>
          </a:solidFill>
          <a:ln w="9360">
            <a:solidFill>
              <a:srgbClr val="008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 for the T0/PCR/NTC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ble length (for HV and signa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371600" y="3925800"/>
            <a:ext cx="65530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*** Contents **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) Dimensions in IR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) Why we need precise length for signal cable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) Signal timing chart for T0/PC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) Time variation due to collision points (for HI run, but not pp run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273840" y="2514600"/>
            <a:ext cx="5299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8000"/>
                </a:solidFill>
                <a:latin typeface="Times New Roman"/>
              </a:rPr>
              <a:t>(Note:) Numbers and contents 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8000"/>
                </a:solidFill>
                <a:latin typeface="Times New Roman"/>
              </a:rPr>
              <a:t>this memo have been updated accord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8000"/>
                </a:solidFill>
                <a:latin typeface="Times New Roman"/>
              </a:rPr>
              <a:t>to the “Sep/27, T0/PCR/NTC” meet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4876920" y="2362320"/>
            <a:ext cx="1752480" cy="3124080"/>
          </a:xfrm>
          <a:prstGeom prst="cube">
            <a:avLst>
              <a:gd name="adj" fmla="val 25000"/>
            </a:avLst>
          </a:prstGeom>
          <a:solidFill>
            <a:srgbClr val="abffa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324480" y="2362320"/>
            <a:ext cx="1828800" cy="3124080"/>
          </a:xfrm>
          <a:prstGeom prst="cube">
            <a:avLst>
              <a:gd name="adj" fmla="val 25000"/>
            </a:avLst>
          </a:prstGeom>
          <a:solidFill>
            <a:srgbClr val="abffa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600200" y="1219320"/>
            <a:ext cx="4191120" cy="4114800"/>
          </a:xfrm>
          <a:prstGeom prst="line">
            <a:avLst/>
          </a:prstGeom>
          <a:ln w="7632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487840" y="61272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2b2b2"/>
                </a:solidFill>
                <a:latin typeface="Times New Roman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63520" y="495288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2b2b2"/>
                </a:solidFill>
                <a:latin typeface="Times New Roman"/>
              </a:rPr>
              <a:t>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81080" y="609480"/>
            <a:ext cx="1752840" cy="1737000"/>
          </a:xfrm>
          <a:prstGeom prst="donut">
            <a:avLst>
              <a:gd name="adj" fmla="val 25000"/>
            </a:avLst>
          </a:prstGeom>
          <a:solidFill>
            <a:srgbClr val="abffa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791320" y="2286000"/>
            <a:ext cx="761760" cy="152280"/>
          </a:xfrm>
          <a:prstGeom prst="cube">
            <a:avLst>
              <a:gd name="adj" fmla="val 77564"/>
            </a:avLst>
          </a:prstGeom>
          <a:solidFill>
            <a:srgbClr val="ffc5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240" bIns="-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052040" y="990720"/>
            <a:ext cx="2153880" cy="6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ff0000"/>
                </a:solidFill>
                <a:latin typeface="Times New Roman"/>
              </a:rPr>
              <a:t>Patch panel</a:t>
            </a:r>
            <a:r>
              <a:rPr b="1" lang="ja-JP" sz="1200" spc="-1" strike="noStrike">
                <a:solidFill>
                  <a:srgbClr val="ff0000"/>
                </a:solidFill>
                <a:latin typeface="Times New Roman"/>
              </a:rPr>
              <a:t>(need to mak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ff0000"/>
                </a:solidFill>
                <a:latin typeface="Times New Roman"/>
              </a:rPr>
              <a:t>( 16”W</a:t>
            </a:r>
            <a:r>
              <a:rPr b="1" lang="ja-JP" sz="1200" spc="-1" strike="noStrike">
                <a:solidFill>
                  <a:srgbClr val="ff0000"/>
                </a:solidFill>
                <a:latin typeface="Symbol"/>
                <a:ea typeface="Symbol"/>
              </a:rPr>
              <a:t></a:t>
            </a:r>
            <a:r>
              <a:rPr b="1" lang="ja-JP" sz="1200" spc="-1" strike="noStrike">
                <a:solidFill>
                  <a:srgbClr val="ff0000"/>
                </a:solidFill>
                <a:latin typeface="Times New Roman"/>
              </a:rPr>
              <a:t>12”D</a:t>
            </a:r>
            <a:r>
              <a:rPr b="1" lang="ja-JP" sz="1200" spc="-1" strike="noStrike">
                <a:solidFill>
                  <a:srgbClr val="ff0000"/>
                </a:solidFill>
                <a:latin typeface="Symbol"/>
                <a:ea typeface="Symbol"/>
              </a:rPr>
              <a:t></a:t>
            </a:r>
            <a:r>
              <a:rPr b="1" lang="ja-JP" sz="1200" spc="-1" strike="noStrike">
                <a:solidFill>
                  <a:srgbClr val="ff0000"/>
                </a:solidFill>
                <a:latin typeface="Times New Roman"/>
              </a:rPr>
              <a:t>4”H, 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ff0000"/>
                </a:solidFill>
                <a:latin typeface="Times New Roman"/>
              </a:rPr>
              <a:t>12”W</a:t>
            </a:r>
            <a:r>
              <a:rPr b="1" lang="ja-JP" sz="1200" spc="-1" strike="noStrike">
                <a:solidFill>
                  <a:srgbClr val="ff0000"/>
                </a:solidFill>
                <a:latin typeface="Symbol"/>
                <a:ea typeface="Symbol"/>
              </a:rPr>
              <a:t></a:t>
            </a:r>
            <a:r>
              <a:rPr b="1" lang="ja-JP" sz="1200" spc="-1" strike="noStrike">
                <a:solidFill>
                  <a:srgbClr val="ff0000"/>
                </a:solidFill>
                <a:latin typeface="Times New Roman"/>
              </a:rPr>
              <a:t>6”D </a:t>
            </a:r>
            <a:r>
              <a:rPr b="1" lang="ja-JP" sz="1200" spc="-1" strike="noStrike">
                <a:solidFill>
                  <a:srgbClr val="ff0000"/>
                </a:solidFill>
                <a:latin typeface="Symbol"/>
                <a:ea typeface="Symbol"/>
              </a:rPr>
              <a:t></a:t>
            </a:r>
            <a:r>
              <a:rPr b="1" lang="ja-JP" sz="1200" spc="-1" strike="noStrike">
                <a:solidFill>
                  <a:srgbClr val="ff0000"/>
                </a:solidFill>
                <a:latin typeface="Times New Roman"/>
              </a:rPr>
              <a:t> no-limint_inH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867280" y="2438280"/>
            <a:ext cx="152640" cy="76320"/>
          </a:xfrm>
          <a:prstGeom prst="ellipse">
            <a:avLst/>
          </a:prstGeom>
          <a:solidFill>
            <a:srgbClr val="cc0066"/>
          </a:solidFill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95880" y="2438280"/>
            <a:ext cx="152640" cy="76320"/>
          </a:xfrm>
          <a:prstGeom prst="ellipse">
            <a:avLst/>
          </a:prstGeom>
          <a:solidFill>
            <a:srgbClr val="cc0066"/>
          </a:solidFill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324480" y="2438280"/>
            <a:ext cx="152640" cy="76320"/>
          </a:xfrm>
          <a:prstGeom prst="ellipse">
            <a:avLst/>
          </a:prstGeom>
          <a:solidFill>
            <a:srgbClr val="cc0066"/>
          </a:solidFill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92520" y="2209680"/>
            <a:ext cx="147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sec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49320"/>
            <a:ext cx="8001000" cy="304560"/>
          </a:xfrm>
          <a:prstGeom prst="rect">
            <a:avLst/>
          </a:prstGeom>
          <a:solidFill>
            <a:srgbClr val="dbffdb"/>
          </a:solidFill>
          <a:ln w="9360">
            <a:solidFill>
              <a:srgbClr val="008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Times New Roman"/>
              </a:rPr>
              <a:t>Dimensions in IR(</a:t>
            </a: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Signal in blue</a:t>
            </a:r>
            <a:r>
              <a:rPr b="1" lang="en-US" sz="1800" spc="-1" strike="noStrike">
                <a:solidFill>
                  <a:srgbClr val="008000"/>
                </a:solidFill>
                <a:latin typeface="Times New Roman"/>
              </a:rPr>
              <a:t>, </a:t>
            </a:r>
            <a:r>
              <a:rPr b="1" lang="en-US" sz="1800" spc="-1" strike="noStrike">
                <a:solidFill>
                  <a:srgbClr val="ffcc00"/>
                </a:solidFill>
                <a:latin typeface="Times New Roman"/>
              </a:rPr>
              <a:t>HV in yellow</a:t>
            </a:r>
            <a:r>
              <a:rPr b="1" lang="en-US" sz="1800" spc="-1" strike="noStrike">
                <a:solidFill>
                  <a:srgbClr val="008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8000"/>
                </a:solidFill>
                <a:latin typeface="Times New Roman"/>
              </a:rPr>
              <a:t>(out of scale drawin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7162920" y="56386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7924680" y="5257800"/>
            <a:ext cx="3049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7924680" y="540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709680" y="54864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d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rot="18600000">
            <a:off x="8121600" y="5216040"/>
            <a:ext cx="55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p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698600" y="5135400"/>
            <a:ext cx="59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315200" y="2666880"/>
            <a:ext cx="3049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952880" y="2895480"/>
            <a:ext cx="1143000" cy="914400"/>
          </a:xfrm>
          <a:prstGeom prst="rect">
            <a:avLst/>
          </a:prstGeom>
          <a:solidFill>
            <a:srgbClr val="2bffc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(FE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695360" y="1616040"/>
            <a:ext cx="1310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Several hol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(need to mak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029200" y="3048120"/>
            <a:ext cx="533520" cy="228600"/>
          </a:xfrm>
          <a:prstGeom prst="rect">
            <a:avLst/>
          </a:prstGeom>
          <a:solidFill>
            <a:srgbClr val="2bff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BB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952880" y="3886200"/>
            <a:ext cx="1143000" cy="990720"/>
          </a:xfrm>
          <a:prstGeom prst="rect">
            <a:avLst/>
          </a:prstGeom>
          <a:solidFill>
            <a:srgbClr val="2bffc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952880" y="3962520"/>
            <a:ext cx="8384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0/PCR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TC/ZD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952880" y="3505320"/>
            <a:ext cx="11430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952880" y="4495680"/>
            <a:ext cx="11430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031360" y="3505320"/>
            <a:ext cx="108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Times New Roman"/>
              </a:rPr>
              <a:t>(clock fanou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012280" y="4525920"/>
            <a:ext cx="108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Times New Roman"/>
              </a:rPr>
              <a:t>(clock fanou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477120" y="3429000"/>
            <a:ext cx="1143000" cy="914400"/>
          </a:xfrm>
          <a:prstGeom prst="rect">
            <a:avLst/>
          </a:prstGeom>
          <a:solidFill>
            <a:srgbClr val="2bffc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781680" y="3733920"/>
            <a:ext cx="6098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477120" y="4419720"/>
            <a:ext cx="1143000" cy="914400"/>
          </a:xfrm>
          <a:prstGeom prst="rect">
            <a:avLst/>
          </a:prstGeom>
          <a:solidFill>
            <a:srgbClr val="2bffc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781680" y="4724280"/>
            <a:ext cx="609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477120" y="2895480"/>
            <a:ext cx="1143000" cy="495360"/>
          </a:xfrm>
          <a:prstGeom prst="rect">
            <a:avLst/>
          </a:prstGeom>
          <a:solidFill>
            <a:srgbClr val="2bffc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629400" y="2971800"/>
            <a:ext cx="762120" cy="380880"/>
          </a:xfrm>
          <a:prstGeom prst="rect">
            <a:avLst/>
          </a:prstGeom>
          <a:solidFill>
            <a:srgbClr val="2bff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V pow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260680" y="4267080"/>
            <a:ext cx="61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(FE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952880" y="4915080"/>
            <a:ext cx="1143000" cy="495000"/>
          </a:xfrm>
          <a:prstGeom prst="rect">
            <a:avLst/>
          </a:prstGeom>
          <a:solidFill>
            <a:srgbClr val="2bffc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105520" y="4991040"/>
            <a:ext cx="761760" cy="381240"/>
          </a:xfrm>
          <a:prstGeom prst="rect">
            <a:avLst/>
          </a:prstGeom>
          <a:solidFill>
            <a:srgbClr val="2bff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V pow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305920" y="2133720"/>
            <a:ext cx="7617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ne exist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4”</a:t>
            </a:r>
            <a:r>
              <a:rPr b="0" lang="en-US" sz="1200" spc="-1" strike="noStrike">
                <a:solidFill>
                  <a:srgbClr val="000000"/>
                </a:solidFill>
                <a:latin typeface="MT Symbol"/>
                <a:ea typeface="MT Symbol"/>
              </a:rPr>
              <a:t>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ho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7620120" y="2362320"/>
            <a:ext cx="76176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649960" y="2755800"/>
            <a:ext cx="1262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L(signal B 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412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(162 ”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894200" y="2362320"/>
            <a:ext cx="1054080" cy="2222280"/>
          </a:xfrm>
          <a:custGeom>
            <a:avLst/>
            <a:gdLst/>
            <a:ahLst/>
            <a:rect l="l" t="t" r="r" b="b"/>
            <a:pathLst>
              <a:path w="664" h="1400">
                <a:moveTo>
                  <a:pt x="640" y="0"/>
                </a:moveTo>
                <a:cubicBezTo>
                  <a:pt x="652" y="64"/>
                  <a:pt x="664" y="128"/>
                  <a:pt x="640" y="144"/>
                </a:cubicBezTo>
                <a:cubicBezTo>
                  <a:pt x="616" y="160"/>
                  <a:pt x="544" y="112"/>
                  <a:pt x="496" y="96"/>
                </a:cubicBezTo>
                <a:cubicBezTo>
                  <a:pt x="448" y="80"/>
                  <a:pt x="392" y="48"/>
                  <a:pt x="352" y="48"/>
                </a:cubicBezTo>
                <a:cubicBezTo>
                  <a:pt x="312" y="48"/>
                  <a:pt x="288" y="72"/>
                  <a:pt x="256" y="96"/>
                </a:cubicBezTo>
                <a:cubicBezTo>
                  <a:pt x="224" y="120"/>
                  <a:pt x="192" y="160"/>
                  <a:pt x="160" y="192"/>
                </a:cubicBezTo>
                <a:cubicBezTo>
                  <a:pt x="128" y="224"/>
                  <a:pt x="88" y="264"/>
                  <a:pt x="64" y="288"/>
                </a:cubicBezTo>
                <a:cubicBezTo>
                  <a:pt x="40" y="312"/>
                  <a:pt x="24" y="304"/>
                  <a:pt x="16" y="336"/>
                </a:cubicBezTo>
                <a:cubicBezTo>
                  <a:pt x="8" y="368"/>
                  <a:pt x="16" y="432"/>
                  <a:pt x="16" y="480"/>
                </a:cubicBezTo>
                <a:cubicBezTo>
                  <a:pt x="16" y="528"/>
                  <a:pt x="16" y="568"/>
                  <a:pt x="16" y="624"/>
                </a:cubicBezTo>
                <a:cubicBezTo>
                  <a:pt x="16" y="680"/>
                  <a:pt x="16" y="760"/>
                  <a:pt x="16" y="816"/>
                </a:cubicBezTo>
                <a:cubicBezTo>
                  <a:pt x="16" y="872"/>
                  <a:pt x="16" y="912"/>
                  <a:pt x="16" y="960"/>
                </a:cubicBezTo>
                <a:cubicBezTo>
                  <a:pt x="16" y="1008"/>
                  <a:pt x="16" y="1056"/>
                  <a:pt x="16" y="1104"/>
                </a:cubicBezTo>
                <a:cubicBezTo>
                  <a:pt x="16" y="1152"/>
                  <a:pt x="16" y="1208"/>
                  <a:pt x="16" y="1248"/>
                </a:cubicBezTo>
                <a:cubicBezTo>
                  <a:pt x="16" y="1288"/>
                  <a:pt x="0" y="1320"/>
                  <a:pt x="16" y="1344"/>
                </a:cubicBezTo>
                <a:cubicBezTo>
                  <a:pt x="32" y="1368"/>
                  <a:pt x="88" y="1400"/>
                  <a:pt x="112" y="1392"/>
                </a:cubicBezTo>
                <a:cubicBezTo>
                  <a:pt x="136" y="1384"/>
                  <a:pt x="144" y="1320"/>
                  <a:pt x="160" y="1296"/>
                </a:cubicBezTo>
                <a:cubicBezTo>
                  <a:pt x="176" y="1272"/>
                  <a:pt x="200" y="1264"/>
                  <a:pt x="208" y="1248"/>
                </a:cubicBezTo>
                <a:cubicBezTo>
                  <a:pt x="216" y="1232"/>
                  <a:pt x="208" y="1216"/>
                  <a:pt x="208" y="1200"/>
                </a:cubicBezTo>
                <a:cubicBezTo>
                  <a:pt x="208" y="1184"/>
                  <a:pt x="208" y="1168"/>
                  <a:pt x="208" y="1152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683160" y="3762360"/>
            <a:ext cx="1256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L(Signal D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214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(84 ”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035040" y="304920"/>
            <a:ext cx="2896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L(Signal C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(“buffer [ns]” [See next page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If 20ns, then 400 cm, i.e. 158 ”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397160" y="4724280"/>
            <a:ext cx="1496880" cy="0"/>
          </a:xfrm>
          <a:prstGeom prst="line">
            <a:avLst/>
          </a:prstGeom>
          <a:ln w="7632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865080" y="4343400"/>
            <a:ext cx="4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2b2b2"/>
                </a:solidFill>
                <a:latin typeface="Times New Roman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865600" y="441972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2b2b2"/>
                </a:solidFill>
                <a:latin typeface="Times New Roman"/>
              </a:rPr>
              <a:t>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rot="18900000">
            <a:off x="1346040" y="3810960"/>
            <a:ext cx="1770480" cy="611640"/>
          </a:xfrm>
          <a:prstGeom prst="rect">
            <a:avLst/>
          </a:prstGeom>
          <a:solidFill>
            <a:srgbClr val="d8d8d8">
              <a:alpha val="50000"/>
            </a:srgbClr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1000" spc="-1" strike="noStrike">
                <a:solidFill>
                  <a:srgbClr val="cc0000"/>
                </a:solidFill>
                <a:latin typeface="Times New Roman"/>
              </a:rPr>
              <a:t>North-South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orientation is</a:t>
            </a:r>
            <a:r>
              <a:rPr b="0" lang="en-US" sz="10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** INVERSED(!) *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rom the Sep/27present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971800" y="520560"/>
            <a:ext cx="1066680" cy="1994040"/>
          </a:xfrm>
          <a:custGeom>
            <a:avLst/>
            <a:gdLst/>
            <a:ahLst/>
            <a:rect l="l" t="t" r="r" b="b"/>
            <a:pathLst>
              <a:path w="672" h="1256">
                <a:moveTo>
                  <a:pt x="0" y="8"/>
                </a:moveTo>
                <a:cubicBezTo>
                  <a:pt x="140" y="4"/>
                  <a:pt x="280" y="0"/>
                  <a:pt x="384" y="56"/>
                </a:cubicBezTo>
                <a:cubicBezTo>
                  <a:pt x="488" y="112"/>
                  <a:pt x="576" y="232"/>
                  <a:pt x="624" y="344"/>
                </a:cubicBezTo>
                <a:cubicBezTo>
                  <a:pt x="672" y="456"/>
                  <a:pt x="672" y="640"/>
                  <a:pt x="672" y="728"/>
                </a:cubicBezTo>
                <a:cubicBezTo>
                  <a:pt x="672" y="816"/>
                  <a:pt x="648" y="816"/>
                  <a:pt x="624" y="872"/>
                </a:cubicBezTo>
                <a:cubicBezTo>
                  <a:pt x="600" y="928"/>
                  <a:pt x="600" y="1008"/>
                  <a:pt x="528" y="1064"/>
                </a:cubicBezTo>
                <a:cubicBezTo>
                  <a:pt x="456" y="1120"/>
                  <a:pt x="272" y="1176"/>
                  <a:pt x="192" y="1208"/>
                </a:cubicBezTo>
                <a:cubicBezTo>
                  <a:pt x="112" y="1240"/>
                  <a:pt x="72" y="1248"/>
                  <a:pt x="48" y="1256"/>
                </a:cubicBezTo>
              </a:path>
            </a:pathLst>
          </a:custGeom>
          <a:noFill/>
          <a:ln w="38160">
            <a:solidFill>
              <a:srgbClr val="ffcc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819520" y="444600"/>
            <a:ext cx="1066680" cy="1993680"/>
          </a:xfrm>
          <a:custGeom>
            <a:avLst/>
            <a:gdLst/>
            <a:ahLst/>
            <a:rect l="l" t="t" r="r" b="b"/>
            <a:pathLst>
              <a:path w="672" h="1256">
                <a:moveTo>
                  <a:pt x="0" y="8"/>
                </a:moveTo>
                <a:cubicBezTo>
                  <a:pt x="140" y="4"/>
                  <a:pt x="280" y="0"/>
                  <a:pt x="384" y="56"/>
                </a:cubicBezTo>
                <a:cubicBezTo>
                  <a:pt x="488" y="112"/>
                  <a:pt x="576" y="232"/>
                  <a:pt x="624" y="344"/>
                </a:cubicBezTo>
                <a:cubicBezTo>
                  <a:pt x="672" y="456"/>
                  <a:pt x="672" y="640"/>
                  <a:pt x="672" y="728"/>
                </a:cubicBezTo>
                <a:cubicBezTo>
                  <a:pt x="672" y="816"/>
                  <a:pt x="648" y="816"/>
                  <a:pt x="624" y="872"/>
                </a:cubicBezTo>
                <a:cubicBezTo>
                  <a:pt x="600" y="928"/>
                  <a:pt x="600" y="1008"/>
                  <a:pt x="528" y="1064"/>
                </a:cubicBezTo>
                <a:cubicBezTo>
                  <a:pt x="456" y="1120"/>
                  <a:pt x="272" y="1176"/>
                  <a:pt x="192" y="1208"/>
                </a:cubicBezTo>
                <a:cubicBezTo>
                  <a:pt x="112" y="1240"/>
                  <a:pt x="72" y="1248"/>
                  <a:pt x="48" y="1256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860560" y="1879560"/>
            <a:ext cx="4826160" cy="3009960"/>
          </a:xfrm>
          <a:custGeom>
            <a:avLst/>
            <a:gdLst/>
            <a:ahLst/>
            <a:rect l="l" t="t" r="r" b="b"/>
            <a:pathLst>
              <a:path w="3040" h="1896">
                <a:moveTo>
                  <a:pt x="48" y="400"/>
                </a:moveTo>
                <a:cubicBezTo>
                  <a:pt x="24" y="440"/>
                  <a:pt x="0" y="480"/>
                  <a:pt x="48" y="496"/>
                </a:cubicBezTo>
                <a:cubicBezTo>
                  <a:pt x="96" y="512"/>
                  <a:pt x="264" y="504"/>
                  <a:pt x="336" y="496"/>
                </a:cubicBezTo>
                <a:cubicBezTo>
                  <a:pt x="408" y="488"/>
                  <a:pt x="408" y="472"/>
                  <a:pt x="480" y="448"/>
                </a:cubicBezTo>
                <a:cubicBezTo>
                  <a:pt x="552" y="424"/>
                  <a:pt x="680" y="400"/>
                  <a:pt x="768" y="352"/>
                </a:cubicBezTo>
                <a:cubicBezTo>
                  <a:pt x="856" y="304"/>
                  <a:pt x="936" y="200"/>
                  <a:pt x="1008" y="160"/>
                </a:cubicBezTo>
                <a:cubicBezTo>
                  <a:pt x="1080" y="120"/>
                  <a:pt x="1128" y="136"/>
                  <a:pt x="1200" y="112"/>
                </a:cubicBezTo>
                <a:cubicBezTo>
                  <a:pt x="1272" y="88"/>
                  <a:pt x="1368" y="32"/>
                  <a:pt x="1440" y="16"/>
                </a:cubicBezTo>
                <a:cubicBezTo>
                  <a:pt x="1512" y="0"/>
                  <a:pt x="1600" y="0"/>
                  <a:pt x="1632" y="16"/>
                </a:cubicBezTo>
                <a:cubicBezTo>
                  <a:pt x="1664" y="32"/>
                  <a:pt x="1648" y="72"/>
                  <a:pt x="1632" y="112"/>
                </a:cubicBezTo>
                <a:cubicBezTo>
                  <a:pt x="1616" y="152"/>
                  <a:pt x="1536" y="232"/>
                  <a:pt x="1536" y="256"/>
                </a:cubicBezTo>
                <a:cubicBezTo>
                  <a:pt x="1536" y="280"/>
                  <a:pt x="1448" y="264"/>
                  <a:pt x="1632" y="256"/>
                </a:cubicBezTo>
                <a:cubicBezTo>
                  <a:pt x="1816" y="248"/>
                  <a:pt x="2416" y="208"/>
                  <a:pt x="2640" y="208"/>
                </a:cubicBezTo>
                <a:cubicBezTo>
                  <a:pt x="2864" y="208"/>
                  <a:pt x="2920" y="240"/>
                  <a:pt x="2976" y="256"/>
                </a:cubicBezTo>
                <a:cubicBezTo>
                  <a:pt x="3032" y="272"/>
                  <a:pt x="2984" y="280"/>
                  <a:pt x="2976" y="304"/>
                </a:cubicBezTo>
                <a:cubicBezTo>
                  <a:pt x="2968" y="328"/>
                  <a:pt x="2936" y="368"/>
                  <a:pt x="2928" y="400"/>
                </a:cubicBezTo>
                <a:cubicBezTo>
                  <a:pt x="2920" y="432"/>
                  <a:pt x="2928" y="472"/>
                  <a:pt x="2928" y="496"/>
                </a:cubicBezTo>
                <a:cubicBezTo>
                  <a:pt x="2928" y="520"/>
                  <a:pt x="2920" y="528"/>
                  <a:pt x="2928" y="544"/>
                </a:cubicBezTo>
                <a:cubicBezTo>
                  <a:pt x="2936" y="560"/>
                  <a:pt x="2968" y="568"/>
                  <a:pt x="2976" y="592"/>
                </a:cubicBezTo>
                <a:cubicBezTo>
                  <a:pt x="2984" y="616"/>
                  <a:pt x="2968" y="656"/>
                  <a:pt x="2976" y="688"/>
                </a:cubicBezTo>
                <a:cubicBezTo>
                  <a:pt x="2984" y="720"/>
                  <a:pt x="3016" y="736"/>
                  <a:pt x="3024" y="784"/>
                </a:cubicBezTo>
                <a:cubicBezTo>
                  <a:pt x="3032" y="832"/>
                  <a:pt x="3024" y="896"/>
                  <a:pt x="3024" y="976"/>
                </a:cubicBezTo>
                <a:cubicBezTo>
                  <a:pt x="3024" y="1056"/>
                  <a:pt x="3024" y="1192"/>
                  <a:pt x="3024" y="1264"/>
                </a:cubicBezTo>
                <a:cubicBezTo>
                  <a:pt x="3024" y="1336"/>
                  <a:pt x="3024" y="1328"/>
                  <a:pt x="3024" y="1408"/>
                </a:cubicBezTo>
                <a:cubicBezTo>
                  <a:pt x="3024" y="1488"/>
                  <a:pt x="3040" y="1672"/>
                  <a:pt x="3024" y="1744"/>
                </a:cubicBezTo>
                <a:cubicBezTo>
                  <a:pt x="3008" y="1816"/>
                  <a:pt x="2960" y="1816"/>
                  <a:pt x="2928" y="1840"/>
                </a:cubicBezTo>
                <a:cubicBezTo>
                  <a:pt x="2896" y="1864"/>
                  <a:pt x="2864" y="1880"/>
                  <a:pt x="2832" y="1888"/>
                </a:cubicBezTo>
                <a:cubicBezTo>
                  <a:pt x="2800" y="1896"/>
                  <a:pt x="2744" y="1896"/>
                  <a:pt x="2736" y="1888"/>
                </a:cubicBezTo>
                <a:cubicBezTo>
                  <a:pt x="2728" y="1880"/>
                  <a:pt x="2776" y="1856"/>
                  <a:pt x="2784" y="1840"/>
                </a:cubicBezTo>
                <a:cubicBezTo>
                  <a:pt x="2792" y="1824"/>
                  <a:pt x="2776" y="1800"/>
                  <a:pt x="2784" y="1792"/>
                </a:cubicBezTo>
                <a:cubicBezTo>
                  <a:pt x="2792" y="1784"/>
                  <a:pt x="2812" y="1788"/>
                  <a:pt x="2832" y="1792"/>
                </a:cubicBezTo>
              </a:path>
            </a:pathLst>
          </a:custGeom>
          <a:noFill/>
          <a:ln w="38160">
            <a:solidFill>
              <a:srgbClr val="ffcc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647160" y="380880"/>
            <a:ext cx="1323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L(signal A, 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169cm (66 ”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806560" y="2044800"/>
            <a:ext cx="3137040" cy="736560"/>
          </a:xfrm>
          <a:custGeom>
            <a:avLst/>
            <a:gdLst/>
            <a:ahLst/>
            <a:rect l="l" t="t" r="r" b="b"/>
            <a:pathLst>
              <a:path w="1976" h="464">
                <a:moveTo>
                  <a:pt x="8" y="200"/>
                </a:moveTo>
                <a:cubicBezTo>
                  <a:pt x="4" y="276"/>
                  <a:pt x="0" y="352"/>
                  <a:pt x="8" y="392"/>
                </a:cubicBezTo>
                <a:cubicBezTo>
                  <a:pt x="16" y="432"/>
                  <a:pt x="32" y="432"/>
                  <a:pt x="56" y="440"/>
                </a:cubicBezTo>
                <a:cubicBezTo>
                  <a:pt x="80" y="448"/>
                  <a:pt x="120" y="440"/>
                  <a:pt x="152" y="440"/>
                </a:cubicBezTo>
                <a:cubicBezTo>
                  <a:pt x="184" y="440"/>
                  <a:pt x="200" y="440"/>
                  <a:pt x="248" y="440"/>
                </a:cubicBezTo>
                <a:cubicBezTo>
                  <a:pt x="296" y="440"/>
                  <a:pt x="344" y="464"/>
                  <a:pt x="440" y="440"/>
                </a:cubicBezTo>
                <a:cubicBezTo>
                  <a:pt x="536" y="416"/>
                  <a:pt x="728" y="344"/>
                  <a:pt x="824" y="296"/>
                </a:cubicBezTo>
                <a:cubicBezTo>
                  <a:pt x="920" y="248"/>
                  <a:pt x="944" y="192"/>
                  <a:pt x="1016" y="152"/>
                </a:cubicBezTo>
                <a:cubicBezTo>
                  <a:pt x="1088" y="112"/>
                  <a:pt x="1184" y="80"/>
                  <a:pt x="1256" y="56"/>
                </a:cubicBezTo>
                <a:cubicBezTo>
                  <a:pt x="1328" y="32"/>
                  <a:pt x="1384" y="16"/>
                  <a:pt x="1448" y="8"/>
                </a:cubicBezTo>
                <a:cubicBezTo>
                  <a:pt x="1512" y="0"/>
                  <a:pt x="1616" y="0"/>
                  <a:pt x="1640" y="8"/>
                </a:cubicBezTo>
                <a:cubicBezTo>
                  <a:pt x="1664" y="16"/>
                  <a:pt x="1616" y="32"/>
                  <a:pt x="1592" y="56"/>
                </a:cubicBezTo>
                <a:cubicBezTo>
                  <a:pt x="1568" y="80"/>
                  <a:pt x="1504" y="128"/>
                  <a:pt x="1496" y="152"/>
                </a:cubicBezTo>
                <a:cubicBezTo>
                  <a:pt x="1488" y="176"/>
                  <a:pt x="1464" y="200"/>
                  <a:pt x="1544" y="200"/>
                </a:cubicBezTo>
                <a:cubicBezTo>
                  <a:pt x="1624" y="200"/>
                  <a:pt x="1800" y="176"/>
                  <a:pt x="1976" y="152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018680" y="914400"/>
            <a:ext cx="123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00"/>
                </a:solidFill>
                <a:latin typeface="Times New Roman"/>
              </a:rPr>
              <a:t>L(HV (A) 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00"/>
                </a:solidFill>
                <a:latin typeface="Times New Roman"/>
              </a:rPr>
              <a:t>169cm(66 ”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01120" y="3000240"/>
            <a:ext cx="1288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00"/>
                </a:solidFill>
                <a:latin typeface="Times New Roman"/>
              </a:rPr>
              <a:t>L( HV (B) 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00"/>
                </a:solidFill>
                <a:latin typeface="Times New Roman"/>
              </a:rPr>
              <a:t>731cm(288”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33520" y="5715000"/>
            <a:ext cx="8001000" cy="763560"/>
          </a:xfrm>
          <a:prstGeom prst="rect">
            <a:avLst/>
          </a:prstGeom>
          <a:solidFill>
            <a:srgbClr val="d7ffd7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Times New Roman"/>
              </a:rPr>
              <a:t>“</a:t>
            </a:r>
            <a:r>
              <a:rPr b="1" lang="en-US" sz="1600" spc="-1" strike="noStrike">
                <a:solidFill>
                  <a:srgbClr val="cc0000"/>
                </a:solidFill>
                <a:latin typeface="Times New Roman"/>
              </a:rPr>
              <a:t>16 for T0 + 2 for PCR + 8 for NTC + 6spare” sets</a:t>
            </a:r>
            <a:r>
              <a:rPr b="1" lang="en-US" sz="1600" spc="-1" strike="noStrike">
                <a:solidFill>
                  <a:srgbClr val="006600"/>
                </a:solidFill>
                <a:latin typeface="Times New Roman"/>
              </a:rPr>
              <a:t>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00"/>
                </a:solidFill>
                <a:latin typeface="Times New Roman"/>
              </a:rPr>
              <a:t>Signal (3 length: A+B(RG8,BNC-BNC), C(RG58BNC-BNC), D(RG58BNC-lemo)),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00"/>
                </a:solidFill>
                <a:latin typeface="Times New Roman"/>
              </a:rPr>
              <a:t>and HV (1 length (9m):  A+B) is need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6324120" y="1295280"/>
            <a:ext cx="83844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6400800" y="1905120"/>
            <a:ext cx="13716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132400" y="3962520"/>
            <a:ext cx="9320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--Rack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eigh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40cm(55”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idth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61cm(24”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867280" y="1066680"/>
            <a:ext cx="1130400" cy="1295640"/>
          </a:xfrm>
          <a:custGeom>
            <a:avLst/>
            <a:gdLst/>
            <a:ahLst/>
            <a:rect l="l" t="t" r="r" b="b"/>
            <a:pathLst>
              <a:path w="712" h="816">
                <a:moveTo>
                  <a:pt x="16" y="720"/>
                </a:moveTo>
                <a:cubicBezTo>
                  <a:pt x="64" y="672"/>
                  <a:pt x="112" y="624"/>
                  <a:pt x="112" y="576"/>
                </a:cubicBezTo>
                <a:cubicBezTo>
                  <a:pt x="112" y="528"/>
                  <a:pt x="32" y="472"/>
                  <a:pt x="16" y="432"/>
                </a:cubicBezTo>
                <a:cubicBezTo>
                  <a:pt x="0" y="392"/>
                  <a:pt x="8" y="368"/>
                  <a:pt x="16" y="336"/>
                </a:cubicBezTo>
                <a:cubicBezTo>
                  <a:pt x="24" y="304"/>
                  <a:pt x="40" y="280"/>
                  <a:pt x="64" y="240"/>
                </a:cubicBezTo>
                <a:cubicBezTo>
                  <a:pt x="88" y="200"/>
                  <a:pt x="112" y="136"/>
                  <a:pt x="160" y="96"/>
                </a:cubicBezTo>
                <a:cubicBezTo>
                  <a:pt x="208" y="56"/>
                  <a:pt x="288" y="0"/>
                  <a:pt x="352" y="0"/>
                </a:cubicBezTo>
                <a:cubicBezTo>
                  <a:pt x="416" y="0"/>
                  <a:pt x="488" y="56"/>
                  <a:pt x="544" y="96"/>
                </a:cubicBezTo>
                <a:cubicBezTo>
                  <a:pt x="600" y="136"/>
                  <a:pt x="664" y="192"/>
                  <a:pt x="688" y="240"/>
                </a:cubicBezTo>
                <a:cubicBezTo>
                  <a:pt x="712" y="288"/>
                  <a:pt x="696" y="328"/>
                  <a:pt x="688" y="384"/>
                </a:cubicBezTo>
                <a:cubicBezTo>
                  <a:pt x="680" y="440"/>
                  <a:pt x="672" y="536"/>
                  <a:pt x="640" y="576"/>
                </a:cubicBezTo>
                <a:cubicBezTo>
                  <a:pt x="608" y="616"/>
                  <a:pt x="552" y="608"/>
                  <a:pt x="496" y="624"/>
                </a:cubicBezTo>
                <a:cubicBezTo>
                  <a:pt x="440" y="640"/>
                  <a:pt x="352" y="672"/>
                  <a:pt x="304" y="672"/>
                </a:cubicBezTo>
                <a:cubicBezTo>
                  <a:pt x="256" y="672"/>
                  <a:pt x="240" y="648"/>
                  <a:pt x="208" y="624"/>
                </a:cubicBezTo>
                <a:cubicBezTo>
                  <a:pt x="176" y="600"/>
                  <a:pt x="136" y="568"/>
                  <a:pt x="112" y="528"/>
                </a:cubicBezTo>
                <a:cubicBezTo>
                  <a:pt x="88" y="488"/>
                  <a:pt x="64" y="424"/>
                  <a:pt x="64" y="384"/>
                </a:cubicBezTo>
                <a:cubicBezTo>
                  <a:pt x="64" y="344"/>
                  <a:pt x="88" y="328"/>
                  <a:pt x="112" y="288"/>
                </a:cubicBezTo>
                <a:cubicBezTo>
                  <a:pt x="136" y="248"/>
                  <a:pt x="168" y="176"/>
                  <a:pt x="208" y="144"/>
                </a:cubicBezTo>
                <a:cubicBezTo>
                  <a:pt x="248" y="112"/>
                  <a:pt x="312" y="104"/>
                  <a:pt x="352" y="96"/>
                </a:cubicBezTo>
                <a:cubicBezTo>
                  <a:pt x="392" y="88"/>
                  <a:pt x="408" y="80"/>
                  <a:pt x="448" y="96"/>
                </a:cubicBezTo>
                <a:cubicBezTo>
                  <a:pt x="488" y="112"/>
                  <a:pt x="560" y="144"/>
                  <a:pt x="592" y="192"/>
                </a:cubicBezTo>
                <a:cubicBezTo>
                  <a:pt x="624" y="240"/>
                  <a:pt x="640" y="336"/>
                  <a:pt x="640" y="384"/>
                </a:cubicBezTo>
                <a:cubicBezTo>
                  <a:pt x="640" y="432"/>
                  <a:pt x="624" y="456"/>
                  <a:pt x="592" y="480"/>
                </a:cubicBezTo>
                <a:cubicBezTo>
                  <a:pt x="560" y="504"/>
                  <a:pt x="496" y="520"/>
                  <a:pt x="448" y="528"/>
                </a:cubicBezTo>
                <a:cubicBezTo>
                  <a:pt x="400" y="536"/>
                  <a:pt x="344" y="528"/>
                  <a:pt x="304" y="528"/>
                </a:cubicBezTo>
                <a:cubicBezTo>
                  <a:pt x="264" y="528"/>
                  <a:pt x="232" y="552"/>
                  <a:pt x="208" y="528"/>
                </a:cubicBezTo>
                <a:cubicBezTo>
                  <a:pt x="184" y="504"/>
                  <a:pt x="160" y="432"/>
                  <a:pt x="160" y="384"/>
                </a:cubicBezTo>
                <a:cubicBezTo>
                  <a:pt x="160" y="336"/>
                  <a:pt x="176" y="272"/>
                  <a:pt x="208" y="240"/>
                </a:cubicBezTo>
                <a:cubicBezTo>
                  <a:pt x="240" y="208"/>
                  <a:pt x="312" y="200"/>
                  <a:pt x="352" y="192"/>
                </a:cubicBezTo>
                <a:cubicBezTo>
                  <a:pt x="392" y="184"/>
                  <a:pt x="416" y="176"/>
                  <a:pt x="448" y="192"/>
                </a:cubicBezTo>
                <a:cubicBezTo>
                  <a:pt x="480" y="208"/>
                  <a:pt x="528" y="256"/>
                  <a:pt x="544" y="288"/>
                </a:cubicBezTo>
                <a:cubicBezTo>
                  <a:pt x="560" y="320"/>
                  <a:pt x="552" y="360"/>
                  <a:pt x="544" y="384"/>
                </a:cubicBezTo>
                <a:cubicBezTo>
                  <a:pt x="536" y="408"/>
                  <a:pt x="520" y="416"/>
                  <a:pt x="496" y="432"/>
                </a:cubicBezTo>
                <a:cubicBezTo>
                  <a:pt x="472" y="448"/>
                  <a:pt x="424" y="472"/>
                  <a:pt x="400" y="480"/>
                </a:cubicBezTo>
                <a:cubicBezTo>
                  <a:pt x="376" y="488"/>
                  <a:pt x="384" y="456"/>
                  <a:pt x="352" y="480"/>
                </a:cubicBezTo>
                <a:cubicBezTo>
                  <a:pt x="320" y="504"/>
                  <a:pt x="256" y="568"/>
                  <a:pt x="208" y="624"/>
                </a:cubicBezTo>
                <a:cubicBezTo>
                  <a:pt x="160" y="680"/>
                  <a:pt x="88" y="784"/>
                  <a:pt x="64" y="816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219320" y="2166840"/>
            <a:ext cx="1904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ignal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1838160"/>
            <a:ext cx="1752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657600" y="1828800"/>
            <a:ext cx="4648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676520" y="2432160"/>
            <a:ext cx="2286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6161040"/>
            <a:ext cx="1676160" cy="1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676520" y="6161040"/>
            <a:ext cx="3581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09920" y="182880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657600" y="1828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3428640" y="20574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 flipV="1">
            <a:off x="5239080" y="6135120"/>
            <a:ext cx="179640" cy="336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5410080" y="6203520"/>
            <a:ext cx="38124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791320" y="6164280"/>
            <a:ext cx="914400" cy="68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152388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114800" y="2432160"/>
            <a:ext cx="4191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038120" y="2427120"/>
            <a:ext cx="65160" cy="239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0" y="2286000"/>
            <a:ext cx="1600200" cy="334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  <a:headEnd len="lg" type="arrow" w="med"/>
            <a:tailEnd len="lg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286000" y="6064200"/>
            <a:ext cx="2971800" cy="316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  <a:headEnd len="lg" type="arrow" w="med"/>
            <a:tailEnd len="lg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429000" y="1676520"/>
            <a:ext cx="182880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  <a:headEnd len="med" type="oval" w="med"/>
            <a:tailEnd len="lg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65200" y="1925640"/>
            <a:ext cx="903240" cy="301320"/>
          </a:xfrm>
          <a:prstGeom prst="rect">
            <a:avLst/>
          </a:prstGeom>
          <a:noFill/>
          <a:ln w="9360">
            <a:solidFill>
              <a:srgbClr val="abff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44.75 [ns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167720" y="1316160"/>
            <a:ext cx="651600" cy="276480"/>
          </a:xfrm>
          <a:prstGeom prst="rect">
            <a:avLst/>
          </a:prstGeom>
          <a:noFill/>
          <a:ln w="9360">
            <a:solidFill>
              <a:srgbClr val="abff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0[ns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165560" y="3063960"/>
            <a:ext cx="901440" cy="459000"/>
          </a:xfrm>
          <a:prstGeom prst="rect">
            <a:avLst/>
          </a:prstGeom>
          <a:noFill/>
          <a:ln w="9360">
            <a:solidFill>
              <a:srgbClr val="abff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Times New Roman"/>
              </a:rPr>
              <a:t>BECA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Times New Roman"/>
              </a:rPr>
              <a:t>~20 [ns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0" y="1676520"/>
            <a:ext cx="106668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  <a:headEnd len="lg" type="arrow" w="med"/>
            <a:tailEnd len="lg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925040" cy="990360"/>
          </a:xfrm>
          <a:prstGeom prst="rect">
            <a:avLst/>
          </a:prstGeom>
          <a:solidFill>
            <a:srgbClr val="dbffdb"/>
          </a:solidFill>
          <a:ln w="9360">
            <a:solidFill>
              <a:srgbClr val="008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Why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 we need precise signal cable length, 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How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 to do ?</a:t>
            </a:r>
            <a:br>
              <a:rPr sz="2400"/>
            </a:br>
            <a:r>
              <a:rPr b="1" lang="en-US" sz="1400" spc="-1" strike="noStrike">
                <a:solidFill>
                  <a:srgbClr val="008000"/>
                </a:solidFill>
                <a:latin typeface="Times New Roman"/>
              </a:rPr>
              <a:t>Constraint due to 1 GTM</a:t>
            </a:r>
            <a:br>
              <a:rPr sz="1400"/>
            </a:br>
            <a:r>
              <a:rPr b="1" lang="en-US" sz="1400" spc="-1" strike="noStrike">
                <a:solidFill>
                  <a:srgbClr val="008000"/>
                </a:solidFill>
                <a:latin typeface="Times New Roman"/>
              </a:rPr>
              <a:t> ( Clock is common for BBC, T0, PCR, NTC, and TOF )</a:t>
            </a:r>
            <a:r>
              <a:rPr b="1" lang="en-US" sz="1800" spc="-1" strike="noStrike">
                <a:solidFill>
                  <a:srgbClr val="008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651200" y="4435560"/>
            <a:ext cx="36547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676520" y="4435560"/>
            <a:ext cx="251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 flipV="1">
            <a:off x="4182840" y="4438080"/>
            <a:ext cx="91800" cy="222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4270320" y="451152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4346640" y="4435200"/>
            <a:ext cx="30456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218600" y="419256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ign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286000" y="4343400"/>
            <a:ext cx="1828800" cy="144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  <a:headEnd len="lg" type="arrow" w="med"/>
            <a:tailEnd len="lg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962520" y="2438280"/>
            <a:ext cx="7596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676520" y="375912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733920" y="3749760"/>
            <a:ext cx="4572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486240" y="374976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733920" y="37497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3504960" y="397836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295280" y="344484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429000" y="3597120"/>
            <a:ext cx="182880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  <a:headEnd len="med" type="oval" w="med"/>
            <a:tailEnd len="lg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286000" y="3611520"/>
            <a:ext cx="106668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  <a:headEnd len="lg" type="arrow" w="med"/>
            <a:tailEnd len="lg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532880" y="3825720"/>
            <a:ext cx="1898280" cy="459000"/>
          </a:xfrm>
          <a:prstGeom prst="rect">
            <a:avLst/>
          </a:prstGeom>
          <a:noFill/>
          <a:ln w="9360">
            <a:solidFill>
              <a:srgbClr val="abff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~ 52.9 (T0)   +</a:t>
            </a:r>
            <a:r>
              <a:rPr b="0" lang="ja-JP" sz="1200" spc="-1" strike="noStrike">
                <a:solidFill>
                  <a:srgbClr val="ff0000"/>
                </a:solidFill>
                <a:latin typeface="Times New Roman"/>
              </a:rPr>
              <a:t>”buffer”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 [ns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~ 60.9 (PCR)+</a:t>
            </a:r>
            <a:r>
              <a:rPr b="0" lang="ja-JP" sz="1200" spc="-1" strike="noStrike">
                <a:solidFill>
                  <a:srgbClr val="ff0000"/>
                </a:solidFill>
                <a:latin typeface="Times New Roman"/>
              </a:rPr>
              <a:t>”buffer”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 [ns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000760" y="5049720"/>
            <a:ext cx="1758240" cy="276480"/>
          </a:xfrm>
          <a:prstGeom prst="rect">
            <a:avLst/>
          </a:prstGeom>
          <a:noFill/>
          <a:ln w="9360">
            <a:solidFill>
              <a:srgbClr val="abff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 (“65to90” + “110”) [ns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76520" y="5667480"/>
            <a:ext cx="419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953400" y="5657760"/>
            <a:ext cx="1428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858000" y="5657760"/>
            <a:ext cx="0" cy="257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53400" y="5657760"/>
            <a:ext cx="0" cy="257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295280" y="535320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724280" y="5410080"/>
            <a:ext cx="21337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  <a:headEnd len="lg" type="arrow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5562720"/>
            <a:ext cx="457200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  <a:headEnd len="lg" type="arrow" w="med"/>
            <a:tailEnd len="lg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877080" y="588312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848200" y="5686560"/>
            <a:ext cx="0" cy="257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943600" y="5686560"/>
            <a:ext cx="0" cy="257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867280" y="591192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943600" y="568656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114800" y="4344840"/>
            <a:ext cx="5335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  <a:headEnd len="lg" type="arrow" w="med"/>
            <a:tailEnd len="lg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363320" y="1128600"/>
            <a:ext cx="2536920" cy="459000"/>
          </a:xfrm>
          <a:prstGeom prst="rect">
            <a:avLst/>
          </a:prstGeom>
          <a:noFill/>
          <a:ln w="9360">
            <a:solidFill>
              <a:srgbClr val="abff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onstant time for clock generation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73.25 [ns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385640" y="2678040"/>
            <a:ext cx="2498760" cy="824040"/>
          </a:xfrm>
          <a:prstGeom prst="rect">
            <a:avLst/>
          </a:prstGeom>
          <a:noFill/>
          <a:ln w="9360">
            <a:solidFill>
              <a:srgbClr val="abff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onstant time for clock generation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73.25 [ns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8000"/>
                </a:solidFill>
                <a:latin typeface="Times New Roman"/>
              </a:rPr>
              <a:t>+ (60.9 - 44.75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[ns]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“buffer”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[ns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819600" y="3963960"/>
            <a:ext cx="1510920" cy="276480"/>
          </a:xfrm>
          <a:prstGeom prst="rect">
            <a:avLst/>
          </a:prstGeom>
          <a:noFill/>
          <a:ln w="9360">
            <a:solidFill>
              <a:srgbClr val="abff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-5.9” to “+10.6” [ns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995480" y="4952880"/>
            <a:ext cx="2498760" cy="459000"/>
          </a:xfrm>
          <a:prstGeom prst="rect">
            <a:avLst/>
          </a:prstGeom>
          <a:noFill/>
          <a:ln w="9360">
            <a:solidFill>
              <a:srgbClr val="abff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onstant time for clock generation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ca.262 [ns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214800" y="5746680"/>
            <a:ext cx="766080" cy="276480"/>
          </a:xfrm>
          <a:prstGeom prst="rect">
            <a:avLst/>
          </a:prstGeom>
          <a:noFill/>
          <a:ln w="9360">
            <a:solidFill>
              <a:srgbClr val="abff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 46 [ns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34440" y="589932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ign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rot="16200000">
            <a:off x="436320" y="1747080"/>
            <a:ext cx="80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B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rot="16200000">
            <a:off x="219240" y="3660120"/>
            <a:ext cx="123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0,PC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rot="16200000">
            <a:off x="510480" y="5508720"/>
            <a:ext cx="80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562720" y="2590920"/>
            <a:ext cx="2438280" cy="2405880"/>
          </a:xfrm>
          <a:prstGeom prst="rect">
            <a:avLst/>
          </a:prstGeom>
          <a:solidFill>
            <a:srgbClr val="ffddff">
              <a:alpha val="5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1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i="1" lang="ja-JP" sz="1200" spc="-1" strike="noStrike">
                <a:solidFill>
                  <a:srgbClr val="000000"/>
                </a:solidFill>
                <a:latin typeface="Times New Roman"/>
              </a:rPr>
              <a:t>By following metho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Times New Roman"/>
              </a:rPr>
              <a:t>(1) The </a:t>
            </a:r>
            <a:r>
              <a:rPr b="1" lang="ja-JP" sz="1200" spc="-1" strike="noStrike">
                <a:solidFill>
                  <a:srgbClr val="ff0000"/>
                </a:solidFill>
                <a:latin typeface="Times New Roman"/>
              </a:rPr>
              <a:t>“buffer”</a:t>
            </a:r>
            <a:r>
              <a:rPr b="1" lang="ja-JP" sz="1200" spc="-1" strike="noStrike">
                <a:solidFill>
                  <a:srgbClr val="000000"/>
                </a:solidFill>
                <a:latin typeface="Times New Roman"/>
              </a:rPr>
              <a:t> [ ns ]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ja-JP" sz="1200" spc="-1" strike="noStrike">
                <a:solidFill>
                  <a:srgbClr val="000000"/>
                </a:solidFill>
                <a:latin typeface="Times New Roman"/>
              </a:rPr>
              <a:t>is first set to, let’s say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ja-JP" sz="1200" spc="-1" strike="noStrike">
                <a:solidFill>
                  <a:srgbClr val="000000"/>
                </a:solidFill>
                <a:latin typeface="Times New Roman"/>
              </a:rPr>
              <a:t>20ns(4m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Times New Roman"/>
              </a:rPr>
              <a:t>(2) Then the “buffer” [ ns ]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ja-JP" sz="1200" spc="-1" strike="noStrike">
                <a:solidFill>
                  <a:srgbClr val="000000"/>
                </a:solidFill>
                <a:latin typeface="Times New Roman"/>
              </a:rPr>
              <a:t>for T0/PC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ja-JP" sz="1200" spc="-1" strike="noStrike">
                <a:solidFill>
                  <a:srgbClr val="ff0000"/>
                </a:solidFill>
                <a:latin typeface="Times New Roman"/>
              </a:rPr>
              <a:t>must be swapped </a:t>
            </a:r>
            <a:r>
              <a:rPr b="1" lang="ja-JP" sz="1200" spc="-1" strike="noStrike">
                <a:solidFill>
                  <a:srgbClr val="000000"/>
                </a:solidFill>
                <a:latin typeface="Times New Roman"/>
              </a:rPr>
              <a:t>wi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ja-JP" sz="1200" spc="-1" strike="noStrike">
                <a:solidFill>
                  <a:srgbClr val="000000"/>
                </a:solidFill>
                <a:latin typeface="Times New Roman"/>
              </a:rPr>
              <a:t>fine-tuned leng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ja-JP" sz="1200" spc="-1" strike="noStrike">
                <a:solidFill>
                  <a:srgbClr val="ff0000"/>
                </a:solidFill>
                <a:latin typeface="Times New Roman"/>
              </a:rPr>
              <a:t>after real pp</a:t>
            </a:r>
            <a:r>
              <a:rPr b="1" lang="ja-JP" sz="1200" spc="-1" strike="noStrike">
                <a:solidFill>
                  <a:srgbClr val="000000"/>
                </a:solidFill>
                <a:latin typeface="Times New Roman"/>
              </a:rPr>
              <a:t> collis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ja-JP" sz="1200" spc="-1" strike="noStrike">
                <a:solidFill>
                  <a:srgbClr val="000000"/>
                </a:solidFill>
                <a:latin typeface="Times New Roman"/>
              </a:rPr>
              <a:t>is measured, (in ord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ja-JP" sz="1200" spc="-1" strike="noStrike">
                <a:solidFill>
                  <a:srgbClr val="000000"/>
                </a:solidFill>
                <a:latin typeface="Times New Roman"/>
              </a:rPr>
              <a:t>to fit with in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ja-JP" sz="1200" spc="-1" strike="noStrike">
                <a:solidFill>
                  <a:srgbClr val="000000"/>
                </a:solidFill>
                <a:latin typeface="Times New Roman"/>
              </a:rPr>
              <a:t>FEM’s dynamic range(</a:t>
            </a:r>
            <a:r>
              <a:rPr b="1" lang="ja-JP" sz="1200" spc="-1" strike="noStrike">
                <a:solidFill>
                  <a:srgbClr val="cc0000"/>
                </a:solidFill>
                <a:latin typeface="Times New Roman"/>
              </a:rPr>
              <a:t>~20ns</a:t>
            </a:r>
            <a:r>
              <a:rPr b="1" lang="ja-JP" sz="1200" spc="-1" strike="noStrike">
                <a:solidFill>
                  <a:srgbClr val="000000"/>
                </a:solidFill>
                <a:latin typeface="Times New Roman"/>
              </a:rPr>
              <a:t>)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2286000" y="1599840"/>
            <a:ext cx="0" cy="4876920"/>
          </a:xfrm>
          <a:prstGeom prst="line">
            <a:avLst/>
          </a:prstGeom>
          <a:ln cap="rnd" w="9360">
            <a:solidFill>
              <a:srgbClr val="9c9ce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35000" y="6324480"/>
            <a:ext cx="81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c9ce6"/>
                </a:solidFill>
                <a:latin typeface="Times New Roman"/>
              </a:rPr>
              <a:t>colli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457200" y="609480"/>
            <a:ext cx="1828800" cy="580680"/>
          </a:xfrm>
          <a:prstGeom prst="rect">
            <a:avLst/>
          </a:prstGeom>
          <a:solidFill>
            <a:srgbClr val="cccc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 Unicode MS"/>
              </a:rPr>
              <a:t>Ts_BBC = 44.75ns</a:t>
            </a:r>
            <a:r>
              <a:rPr b="1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762120"/>
            <a:ext cx="6019920" cy="12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 Unicode MS"/>
              </a:rPr>
              <a:t>Ts_BBC(A)=5.0ns</a:t>
            </a:r>
            <a:r>
              <a:rPr b="1" lang="en-US" sz="1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US" sz="1200" spc="-1" strike="noStrike">
                <a:solidFill>
                  <a:srgbClr val="3333cc"/>
                </a:solidFill>
                <a:latin typeface="Wingdings"/>
                <a:ea typeface="Wingdings"/>
              </a:rPr>
              <a:t></a:t>
            </a:r>
            <a:r>
              <a:rPr b="1" lang="en-US" sz="1200" spc="-1" strike="noStrike">
                <a:solidFill>
                  <a:srgbClr val="3333cc"/>
                </a:solidFill>
                <a:latin typeface="Arial Unicode MS"/>
              </a:rPr>
              <a:t> charged particle flight time </a:t>
            </a:r>
            <a:r>
              <a:rPr b="1" lang="en-US" sz="1400" spc="-1" strike="noStrike">
                <a:solidFill>
                  <a:srgbClr val="000000"/>
                </a:solidFill>
                <a:latin typeface="Arial Unicode MS"/>
              </a:rPr>
              <a:t>(for beta=1; 3.33ns/m, 1.5m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 Unicode MS"/>
              </a:rPr>
              <a:t>Ts_BBC(B)=6ns</a:t>
            </a:r>
            <a:r>
              <a:rPr b="1" lang="en-US" sz="1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ja-JP" sz="1400" spc="-1" strike="noStrike">
                <a:solidFill>
                  <a:srgbClr val="3333cc"/>
                </a:solidFill>
                <a:latin typeface="Wingdings"/>
                <a:ea typeface="Wingdings"/>
              </a:rPr>
              <a:t></a:t>
            </a:r>
            <a:r>
              <a:rPr b="1" lang="en-US" sz="1400" spc="-1" strike="noStrike">
                <a:solidFill>
                  <a:srgbClr val="3333cc"/>
                </a:solidFill>
                <a:latin typeface="Arial Unicode MS"/>
              </a:rPr>
              <a:t>PMT's transit time</a:t>
            </a:r>
            <a:r>
              <a:rPr b="1" lang="en-US" sz="14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 Unicode MS"/>
              </a:rPr>
              <a:t>Ts_BBC(C)=33.75ns</a:t>
            </a:r>
            <a:r>
              <a:rPr b="1" lang="en-US" sz="1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US" sz="1400" spc="-1" strike="noStrike">
                <a:solidFill>
                  <a:srgbClr val="3333cc"/>
                </a:solidFill>
                <a:latin typeface="Wingdings"/>
                <a:ea typeface="Wingdings"/>
              </a:rPr>
              <a:t></a:t>
            </a:r>
            <a:r>
              <a:rPr b="1" lang="en-US" sz="1400" spc="-1" strike="noStrike">
                <a:solidFill>
                  <a:srgbClr val="3333cc"/>
                </a:solidFill>
                <a:latin typeface="Arial Unicode MS"/>
              </a:rPr>
              <a:t>cable</a:t>
            </a:r>
            <a:r>
              <a:rPr b="1" lang="en-US" sz="1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 Unicode MS"/>
              </a:rPr>
              <a:t>(RG58 with75cm of 5ns/m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 Unicode MS"/>
              </a:rPr>
              <a:t>Andrew with 675cm of 4ns/m, and RG58 with 65cm of 5ns/m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286000" y="2133720"/>
            <a:ext cx="5105520" cy="48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 Unicode MS"/>
              </a:rPr>
              <a:t> </a:t>
            </a:r>
            <a:r>
              <a:rPr b="1" lang="en-US" sz="1200" spc="-1" strike="noStrike">
                <a:solidFill>
                  <a:srgbClr val="ff0000"/>
                </a:solidFill>
                <a:latin typeface="Arial Unicode MS"/>
              </a:rPr>
              <a:t>Ts_T0(A)=1.8ns [- 0.0ns + 4.7ns]  </a:t>
            </a:r>
            <a:r>
              <a:rPr b="1" lang="en-US" sz="12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1" lang="en-US" sz="1200" spc="-1" strike="noStrike">
                <a:solidFill>
                  <a:srgbClr val="ff0000"/>
                </a:solidFill>
                <a:latin typeface="Arial Unicode MS"/>
              </a:rPr>
              <a:t> charged particle flight tim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[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 Unicode MS"/>
              </a:rPr>
              <a:t>nominal value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 for beta=1; 3.33ns/m, 0.54m]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[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 Unicode MS"/>
              </a:rPr>
              <a:t>variation is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: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- 0.0ns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, an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+4.7ns for 0.6GeV/c or +3.6ns for 0.7GeV/c or ,  of Deuteron]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 Unicode MS"/>
              </a:rPr>
              <a:t> </a:t>
            </a:r>
            <a:r>
              <a:rPr b="1" lang="en-US" sz="1200" spc="-1" strike="noStrike">
                <a:solidFill>
                  <a:srgbClr val="ff0000"/>
                </a:solidFill>
                <a:latin typeface="Arial Unicode MS"/>
              </a:rPr>
              <a:t>Ts_T0(B)    =3.1ns   [ + -  3.1 ns ]   </a:t>
            </a:r>
            <a:r>
              <a:rPr b="1" lang="en-US" sz="12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1" lang="en-US" sz="1200" spc="-1" strike="noStrike">
                <a:solidFill>
                  <a:srgbClr val="ff0000"/>
                </a:solidFill>
                <a:latin typeface="Arial Unicode MS"/>
              </a:rPr>
              <a:t>  light velocity up tp PMT cathode</a:t>
            </a:r>
            <a:r>
              <a:rPr b="1" lang="en-US" sz="12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 Unicode MS"/>
              </a:rPr>
              <a:t>{Ts_PCR(B) =11.1ns [ + -  3.1 ns ]   </a:t>
            </a:r>
            <a:r>
              <a:rPr b="1" lang="en-US" sz="12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1" lang="en-US" sz="1200" spc="-1" strike="noStrike">
                <a:solidFill>
                  <a:srgbClr val="ff0000"/>
                </a:solidFill>
                <a:latin typeface="Arial Unicode MS"/>
              </a:rPr>
              <a:t> light velocity up tp PMT cathode}</a:t>
            </a:r>
            <a:r>
              <a:rPr b="1" lang="en-US" sz="12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[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 Unicode MS"/>
              </a:rPr>
              <a:t>nominal value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 for 0.5mScintillator 3.1ns/m(80ps/</a:t>
            </a:r>
            <a:r>
              <a:rPr b="0" lang="ja-JP" sz="1200" spc="-1" strike="noStrike">
                <a:solidFill>
                  <a:srgbClr val="000000"/>
                </a:solidFill>
                <a:latin typeface="Arial Unicode MS"/>
              </a:rPr>
              <a:t>1.3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cm)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[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 Unicode MS"/>
              </a:rPr>
              <a:t>variation is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: ±3.1ns, namely, ±0.5mScintillator]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 Unicode MS"/>
              </a:rPr>
              <a:t> </a:t>
            </a:r>
            <a:r>
              <a:rPr b="1" lang="en-US" sz="1200" spc="-1" strike="noStrike">
                <a:solidFill>
                  <a:srgbClr val="ff0000"/>
                </a:solidFill>
                <a:latin typeface="Arial Unicode MS"/>
              </a:rPr>
              <a:t>Ts_T0(C)=9.5ns [ + -  0.44 ns + - 0.15ns] </a:t>
            </a:r>
            <a:r>
              <a:rPr b="1" lang="en-US" sz="12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1" lang="en-US" sz="1200" spc="-1" strike="noStrike">
                <a:solidFill>
                  <a:srgbClr val="ff0000"/>
                </a:solidFill>
                <a:latin typeface="Arial Unicode MS"/>
              </a:rPr>
              <a:t>PM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Unicode MS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[nominal value for PMT's Transit Time]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[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 Unicode MS"/>
              </a:rPr>
              <a:t>variation is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: ±0.44ns of TTS, ±0.15ns of PMT vari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±0.15ns of pigtail cable variations]</a:t>
            </a:r>
            <a:r>
              <a:rPr b="1" lang="en-US" sz="12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 Unicode MS"/>
              </a:rPr>
              <a:t> </a:t>
            </a:r>
            <a:r>
              <a:rPr b="1" lang="en-US" sz="1200" spc="-1" strike="noStrike">
                <a:solidFill>
                  <a:srgbClr val="ff0000"/>
                </a:solidFill>
                <a:latin typeface="Arial Unicode MS"/>
              </a:rPr>
              <a:t>Ts_T0(D)=43.2ns</a:t>
            </a:r>
            <a:r>
              <a:rPr b="1" lang="en-US" sz="1200" spc="-1" strike="noStrike">
                <a:solidFill>
                  <a:srgbClr val="cc0000"/>
                </a:solidFill>
                <a:latin typeface="Arial Unicode MS"/>
              </a:rPr>
              <a:t> [ + - 0.13ns</a:t>
            </a:r>
            <a:r>
              <a:rPr b="1" lang="en-US" sz="1200" spc="-1" strike="noStrike">
                <a:solidFill>
                  <a:srgbClr val="ff0000"/>
                </a:solidFill>
                <a:latin typeface="Arial Unicode MS"/>
              </a:rPr>
              <a:t> ] </a:t>
            </a:r>
            <a:r>
              <a:rPr b="1" lang="en-US" sz="12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1" lang="en-US" sz="1200" spc="-1" strike="noStrike">
                <a:solidFill>
                  <a:srgbClr val="ff0000"/>
                </a:solidFill>
                <a:latin typeface="Arial Unicode MS"/>
              </a:rPr>
              <a:t> cable leng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[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 Unicode MS"/>
              </a:rPr>
              <a:t>nominal value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 for 7.7ns by Pigtail cable with 154cm of 5ns/s,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24.8ns by RG8 with 581cm of 4.27ns/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and 10.7ns by LEMO with 214cm of 5ns/m,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[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 Unicode MS"/>
              </a:rPr>
              <a:t>variation is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: the variation of pigtail cable length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 Unicode MS"/>
              </a:rPr>
              <a:t> </a:t>
            </a:r>
            <a:r>
              <a:rPr b="1" lang="en-US" sz="1200" spc="-1" strike="noStrike">
                <a:solidFill>
                  <a:srgbClr val="ff0000"/>
                </a:solidFill>
                <a:latin typeface="Arial Unicode MS"/>
              </a:rPr>
              <a:t>Ts_T0(E)=0.0ns [ + - 2.1ns] </a:t>
            </a:r>
            <a:r>
              <a:rPr b="1" lang="en-US" sz="12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1" lang="en-US" sz="1200" spc="-1" strike="noStrike">
                <a:solidFill>
                  <a:srgbClr val="ff0000"/>
                </a:solidFill>
                <a:latin typeface="Arial Unicode MS"/>
              </a:rPr>
              <a:t>collision poi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 Unicode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[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 Unicode MS"/>
              </a:rPr>
              <a:t>variation is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: ±2.1ns(3</a:t>
            </a:r>
            <a:r>
              <a:rPr b="0" lang="en-US" sz="1200" spc="-1" strike="noStrike">
                <a:solidFill>
                  <a:srgbClr val="000000"/>
                </a:solidFill>
                <a:latin typeface="MT Symbol"/>
                <a:ea typeface="MT Symbol"/>
              </a:rPr>
              <a:t>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) for Z±63cm 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" y="609480"/>
            <a:ext cx="8381880" cy="129564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" y="1981080"/>
            <a:ext cx="1828800" cy="2266560"/>
          </a:xfrm>
          <a:prstGeom prst="rect">
            <a:avLst/>
          </a:prstGeom>
          <a:solidFill>
            <a:srgbClr val="ffdbf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Unicode MS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Unicode MS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Arial Unicode MS"/>
              </a:rPr>
              <a:t>Ts_T0{PCR}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Unicode MS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Arial Unicode MS"/>
              </a:rPr>
              <a:t>=52.9ns{60.9ns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Unicode MS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Arial Unicode MS"/>
              </a:rPr>
              <a:t>[-5.9ns,+10.6ns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Arial Unicode MS"/>
              </a:rPr>
              <a:t> </a:t>
            </a:r>
            <a:r>
              <a:rPr b="1" lang="en-US" sz="1600" spc="-1" strike="noStrike">
                <a:solidFill>
                  <a:srgbClr val="008000"/>
                </a:solidFill>
                <a:latin typeface="Arial Unicode MS"/>
              </a:rPr>
              <a:t>Note: Dynamic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Arial Unicode MS"/>
              </a:rPr>
              <a:t> </a:t>
            </a:r>
            <a:r>
              <a:rPr b="1" lang="en-US" sz="1600" spc="-1" strike="noStrike">
                <a:solidFill>
                  <a:srgbClr val="008000"/>
                </a:solidFill>
                <a:latin typeface="Arial Unicode MS"/>
              </a:rPr>
              <a:t>range is ~20 [ns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Arial Unicode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57200" y="1981080"/>
            <a:ext cx="8381880" cy="4572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914400" y="4011480"/>
            <a:ext cx="1295280" cy="150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 Unicode MS"/>
              </a:rPr>
              <a:t>,wher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 Unicode MS"/>
              </a:rPr>
              <a:t>Ts_T0 =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 Unicode MS"/>
              </a:rPr>
              <a:t>+Ts_T0(A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 Unicode MS"/>
              </a:rPr>
              <a:t>+Ts_T0(B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 Unicode MS"/>
              </a:rPr>
              <a:t>+Ts_T0(C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 Unicode MS"/>
              </a:rPr>
              <a:t>+Ts_T0(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 Unicode MS"/>
              </a:rPr>
              <a:t>+Ts_T0(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" y="838080"/>
            <a:ext cx="1600200" cy="128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 Unicode MS"/>
              </a:rPr>
              <a:t>,where Ts_BBC =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 Unicode MS"/>
              </a:rPr>
              <a:t>+Ts_BBC(A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 Unicode MS"/>
              </a:rPr>
              <a:t>+Ts_BBC(B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 Unicode MS"/>
              </a:rPr>
              <a:t>+Ts_BBC(C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57200" y="76320"/>
            <a:ext cx="8381880" cy="459720"/>
          </a:xfrm>
          <a:prstGeom prst="rect">
            <a:avLst/>
          </a:prstGeom>
          <a:solidFill>
            <a:srgbClr val="e7f2ff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Times New Roman"/>
              </a:rPr>
              <a:t>Signal Timing Chart for T0/PCR.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008000"/>
                </a:solidFill>
                <a:latin typeface="Times New Roman"/>
              </a:rPr>
              <a:t>(pp collision is assumed to the time zero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4" name="ooRawHtml" descr=""/>
          <p:cNvPicPr/>
          <p:nvPr/>
        </p:nvPicPr>
        <p:blipFill>
          <a:blip r:embed="rId1"/>
          <a:stretch/>
        </p:blipFill>
        <p:spPr>
          <a:xfrm>
            <a:off x="7218360" y="4800600"/>
            <a:ext cx="1620720" cy="1752480"/>
          </a:xfrm>
          <a:prstGeom prst="rect">
            <a:avLst/>
          </a:prstGeom>
          <a:ln w="9360">
            <a:solidFill>
              <a:srgbClr val="cc0066"/>
            </a:solidFill>
            <a:miter/>
          </a:ln>
        </p:spPr>
      </p:pic>
      <p:sp>
        <p:nvSpPr>
          <p:cNvPr id="215" name=""/>
          <p:cNvSpPr/>
          <p:nvPr/>
        </p:nvSpPr>
        <p:spPr>
          <a:xfrm flipV="1">
            <a:off x="5334120" y="5943600"/>
            <a:ext cx="220968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rot="20700000">
            <a:off x="7394400" y="5073120"/>
            <a:ext cx="1597320" cy="337320"/>
          </a:xfrm>
          <a:prstGeom prst="rect">
            <a:avLst/>
          </a:prstGeom>
          <a:solidFill>
            <a:srgbClr val="ffdde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cc0000"/>
                </a:solidFill>
                <a:uFillTx/>
                <a:latin typeface="Times New Roman"/>
              </a:rPr>
              <a:t>See next p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09680" y="2971800"/>
            <a:ext cx="0" cy="60948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981080" y="2971800"/>
            <a:ext cx="228600" cy="0"/>
          </a:xfrm>
          <a:prstGeom prst="line">
            <a:avLst/>
          </a:prstGeom>
          <a:ln w="9360">
            <a:solidFill>
              <a:srgbClr val="008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057400" y="3581280"/>
            <a:ext cx="15228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990720" y="5486400"/>
            <a:ext cx="914400" cy="110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66cc"/>
                </a:solidFill>
                <a:latin typeface="Arial Unicode MS"/>
              </a:rPr>
              <a:t>,where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66cc"/>
                </a:solidFill>
                <a:latin typeface="Arial Unicode MS"/>
              </a:rPr>
              <a:t>Ts_PCR =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66cc"/>
                </a:solidFill>
                <a:latin typeface="Arial Unicode MS"/>
              </a:rPr>
              <a:t>+Ts_T0(A)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66cc"/>
                </a:solidFill>
                <a:latin typeface="Arial Unicode MS"/>
              </a:rPr>
              <a:t>+Ts_PCR(B)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66cc"/>
                </a:solidFill>
                <a:latin typeface="Arial Unicode MS"/>
              </a:rPr>
              <a:t>+Ts_T0(C)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66cc"/>
                </a:solidFill>
                <a:latin typeface="Arial Unicode MS"/>
              </a:rPr>
              <a:t>+Ts_T0(D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66cc"/>
                </a:solidFill>
                <a:latin typeface="Arial Unicode MS"/>
              </a:rPr>
              <a:t>+Ts_T0(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ooRawHtml" descr=""/>
          <p:cNvPicPr/>
          <p:nvPr/>
        </p:nvPicPr>
        <p:blipFill>
          <a:blip r:embed="rId1"/>
          <a:stretch/>
        </p:blipFill>
        <p:spPr>
          <a:xfrm>
            <a:off x="3429000" y="1003320"/>
            <a:ext cx="5715000" cy="55213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75960"/>
            <a:ext cx="7086600" cy="990360"/>
          </a:xfrm>
          <a:prstGeom prst="rect">
            <a:avLst/>
          </a:prstGeom>
          <a:solidFill>
            <a:srgbClr val="dbffdb"/>
          </a:solidFill>
          <a:ln w="9360">
            <a:solidFill>
              <a:srgbClr val="008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Time variation due to collision points.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 </a:t>
            </a:r>
            <a:br>
              <a:rPr sz="2400"/>
            </a:b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(for Y2001-</a:t>
            </a:r>
            <a:r>
              <a:rPr b="0" lang="en-US" sz="2000" spc="-1" strike="noStrike">
                <a:solidFill>
                  <a:srgbClr val="cc0000"/>
                </a:solidFill>
                <a:latin typeface="Times New Roman"/>
              </a:rPr>
              <a:t>HI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 run, [but not pp run])</a:t>
            </a:r>
            <a:br>
              <a:rPr sz="2000"/>
            </a:br>
            <a:r>
              <a:rPr b="0" lang="en-US" sz="1600" spc="-1" strike="noStrike">
                <a:solidFill>
                  <a:srgbClr val="008000"/>
                </a:solidFill>
                <a:latin typeface="Times New Roman"/>
              </a:rPr>
              <a:t>from online logbook (the plot was shown at RHIC time meetin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324120" y="3885840"/>
            <a:ext cx="2590920" cy="2514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r>
              <a:rPr b="1" lang="ja-JP" sz="1600" spc="-1" strike="noStrike">
                <a:solidFill>
                  <a:srgbClr val="3333cc"/>
                </a:solidFill>
                <a:latin typeface="Times New Roman"/>
              </a:rPr>
              <a:t>PHENIX RUN LO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Tue Sep 18 02:49:16 2001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by T.Hachiya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Run 28282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This was the first RUN aft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ja-JP" sz="1200" spc="-1" strike="noStrike">
                <a:solidFill>
                  <a:srgbClr val="ff0000"/>
                </a:solidFill>
                <a:latin typeface="Times New Roman"/>
              </a:rPr>
              <a:t>200MHz RF was  used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ja-JP" sz="1200" spc="-1" strike="noStrike">
                <a:solidFill>
                  <a:srgbClr val="ff0000"/>
                </a:solidFill>
                <a:latin typeface="Times New Roman"/>
              </a:rPr>
              <a:t>56 bunchs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. Plots are tim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distributions of each sid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of BBBBC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ZDC scale down factor wa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already corrected. It is expec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to be BBC Z-vertex distribu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triggered by inclusive ZDC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016160" y="1895400"/>
            <a:ext cx="627120" cy="307080"/>
          </a:xfrm>
          <a:prstGeom prst="rect">
            <a:avLst/>
          </a:prstGeom>
          <a:solidFill>
            <a:srgbClr val="eae7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out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352680" y="4943520"/>
            <a:ext cx="990720" cy="307080"/>
          </a:xfrm>
          <a:prstGeom prst="rect">
            <a:avLst/>
          </a:prstGeom>
          <a:solidFill>
            <a:srgbClr val="ffc5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Differe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749280" y="1895400"/>
            <a:ext cx="636480" cy="307080"/>
          </a:xfrm>
          <a:prstGeom prst="rect">
            <a:avLst/>
          </a:prstGeom>
          <a:solidFill>
            <a:srgbClr val="eae7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Nort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152280" y="2816280"/>
          <a:ext cx="2971800" cy="1670040"/>
        </p:xfrm>
        <a:graphic>
          <a:graphicData uri="http://schemas.openxmlformats.org/drawingml/2006/table">
            <a:tbl>
              <a:tblPr/>
              <a:tblGrid>
                <a:gridCol w="722520"/>
                <a:gridCol w="563400"/>
                <a:gridCol w="619200"/>
                <a:gridCol w="1066680"/>
              </a:tblGrid>
              <a:tr h="49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eight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.u.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a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cm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Sigm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(cm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eam g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Au Au Collis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p5 = 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0.85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eam g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8" name=""/>
          <p:cNvSpPr/>
          <p:nvPr/>
        </p:nvSpPr>
        <p:spPr>
          <a:xfrm>
            <a:off x="3048120" y="4038480"/>
            <a:ext cx="1676160" cy="9144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27880" y="1663560"/>
            <a:ext cx="28735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1400" spc="-1" strike="noStrike">
                <a:solidFill>
                  <a:srgbClr val="008000"/>
                </a:solidFill>
                <a:latin typeface="Times New Roman"/>
              </a:rPr>
              <a:t>                   </a:t>
            </a:r>
            <a:r>
              <a:rPr b="1" i="1" lang="ja-JP" sz="1400" spc="-1" strike="noStrike" u="sng">
                <a:solidFill>
                  <a:srgbClr val="008000"/>
                </a:solidFill>
                <a:uFillTx/>
                <a:latin typeface="Times New Roman"/>
              </a:rPr>
              <a:t>3 gaussian f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14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i="1" lang="ja-JP" sz="1400" spc="-1" strike="noStrike">
                <a:solidFill>
                  <a:srgbClr val="008000"/>
                </a:solidFill>
                <a:latin typeface="Times New Roman"/>
              </a:rPr>
              <a:t>y=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1400" spc="-1" strike="noStrike">
                <a:solidFill>
                  <a:srgbClr val="008000"/>
                </a:solidFill>
                <a:latin typeface="Times New Roman"/>
              </a:rPr>
              <a:t>    </a:t>
            </a:r>
            <a:r>
              <a:rPr b="1" i="1" lang="ja-JP" sz="1400" spc="-1" strike="noStrike">
                <a:solidFill>
                  <a:srgbClr val="008000"/>
                </a:solidFill>
                <a:latin typeface="Times New Roman"/>
              </a:rPr>
              <a:t>+p0 * exp ( -0.5 * {(x - p1) / p2} </a:t>
            </a:r>
            <a:r>
              <a:rPr b="1" i="1" lang="ja-JP" sz="1400" spc="-1" strike="noStrike" baseline="30000">
                <a:solidFill>
                  <a:srgbClr val="008000"/>
                </a:solidFill>
                <a:latin typeface="Times New Roman"/>
              </a:rPr>
              <a:t>2  </a:t>
            </a:r>
            <a:r>
              <a:rPr b="1" i="1" lang="ja-JP" sz="1400" spc="-1" strike="noStrike">
                <a:solidFill>
                  <a:srgbClr val="008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1400" spc="-1" strike="noStrike">
                <a:solidFill>
                  <a:srgbClr val="008000"/>
                </a:solidFill>
                <a:latin typeface="Times New Roman"/>
              </a:rPr>
              <a:t>    </a:t>
            </a:r>
            <a:r>
              <a:rPr b="1" i="1" lang="ja-JP" sz="1400" spc="-1" strike="noStrike">
                <a:solidFill>
                  <a:srgbClr val="008000"/>
                </a:solidFill>
                <a:latin typeface="Times New Roman"/>
              </a:rPr>
              <a:t>+p3 * exp ( -0.5 * {(x - p4) /</a:t>
            </a:r>
            <a:r>
              <a:rPr b="1" i="1" lang="ja-JP" sz="1400" spc="-1" strike="noStrike">
                <a:solidFill>
                  <a:srgbClr val="ff0000"/>
                </a:solidFill>
                <a:latin typeface="Times New Roman"/>
              </a:rPr>
              <a:t> p5</a:t>
            </a:r>
            <a:r>
              <a:rPr b="1" i="1" lang="ja-JP" sz="1400" spc="-1" strike="noStrike">
                <a:solidFill>
                  <a:srgbClr val="008000"/>
                </a:solidFill>
                <a:latin typeface="Times New Roman"/>
              </a:rPr>
              <a:t>} </a:t>
            </a:r>
            <a:r>
              <a:rPr b="1" i="1" lang="ja-JP" sz="1400" spc="-1" strike="noStrike" baseline="30000">
                <a:solidFill>
                  <a:srgbClr val="008000"/>
                </a:solidFill>
                <a:latin typeface="Times New Roman"/>
              </a:rPr>
              <a:t>2  </a:t>
            </a:r>
            <a:r>
              <a:rPr b="1" i="1" lang="ja-JP" sz="1400" spc="-1" strike="noStrike">
                <a:solidFill>
                  <a:srgbClr val="008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1400" spc="-1" strike="noStrike">
                <a:solidFill>
                  <a:srgbClr val="008000"/>
                </a:solidFill>
                <a:latin typeface="Times New Roman"/>
              </a:rPr>
              <a:t>    </a:t>
            </a:r>
            <a:r>
              <a:rPr b="1" i="1" lang="ja-JP" sz="1400" spc="-1" strike="noStrike">
                <a:solidFill>
                  <a:srgbClr val="008000"/>
                </a:solidFill>
                <a:latin typeface="Times New Roman"/>
              </a:rPr>
              <a:t>+p6 * exp ( -0.5 * {(x - p7) / p8} </a:t>
            </a:r>
            <a:r>
              <a:rPr b="1" i="1" lang="ja-JP" sz="1400" spc="-1" strike="noStrike" baseline="30000">
                <a:solidFill>
                  <a:srgbClr val="008000"/>
                </a:solidFill>
                <a:latin typeface="Times New Roman"/>
              </a:rPr>
              <a:t>2  </a:t>
            </a:r>
            <a:r>
              <a:rPr b="1" i="1" lang="ja-JP" sz="1400" spc="-1" strike="noStrike">
                <a:solidFill>
                  <a:srgbClr val="008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343760" y="4068720"/>
            <a:ext cx="657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imes New Roman"/>
              </a:rPr>
              <a:t>Au+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488200" y="6324480"/>
            <a:ext cx="80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Beam g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507120" y="6278400"/>
            <a:ext cx="80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Beam g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648320" y="4267080"/>
            <a:ext cx="75960" cy="152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4267080" y="6019920"/>
            <a:ext cx="152640" cy="38088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H="1" flipV="1">
            <a:off x="5257440" y="5943600"/>
            <a:ext cx="304920" cy="45720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46280" y="51260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61720" y="4495680"/>
            <a:ext cx="3056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Within ±1</a:t>
            </a:r>
            <a:r>
              <a:rPr b="1" lang="en-US" sz="1600" spc="-1" strike="noStrike">
                <a:solidFill>
                  <a:srgbClr val="008000"/>
                </a:solidFill>
                <a:latin typeface="MT Symbol"/>
                <a:ea typeface="MT Symbol"/>
              </a:rPr>
              <a:t></a:t>
            </a:r>
            <a:r>
              <a:rPr b="1" lang="en-US" sz="16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(i.e.±0.695ns)</a:t>
            </a:r>
            <a:r>
              <a:rPr b="1" lang="en-US" sz="1600" spc="-1" strike="noStrike">
                <a:solidFill>
                  <a:srgbClr val="008000"/>
                </a:solidFill>
                <a:latin typeface="Times New Roman"/>
              </a:rPr>
              <a:t> : 68.3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Within ±2</a:t>
            </a:r>
            <a:r>
              <a:rPr b="1" lang="en-US" sz="1600" spc="-1" strike="noStrike">
                <a:solidFill>
                  <a:srgbClr val="008000"/>
                </a:solidFill>
                <a:latin typeface="MT Symbol"/>
                <a:ea typeface="MT Symbol"/>
              </a:rPr>
              <a:t></a:t>
            </a:r>
            <a:r>
              <a:rPr b="1" lang="en-US" sz="16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(i.e.±1.390ns)</a:t>
            </a:r>
            <a:r>
              <a:rPr b="1" lang="en-US" sz="1600" spc="-1" strike="noStrike">
                <a:solidFill>
                  <a:srgbClr val="008000"/>
                </a:solidFill>
                <a:latin typeface="Times New Roman"/>
              </a:rPr>
              <a:t> : 95.5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Within </a:t>
            </a:r>
            <a:r>
              <a:rPr b="1" lang="en-US" sz="16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±3</a:t>
            </a:r>
            <a:r>
              <a:rPr b="1" lang="en-US" sz="1600" spc="-1" strike="noStrike">
                <a:solidFill>
                  <a:srgbClr val="cc0000"/>
                </a:solidFill>
                <a:latin typeface="MT Symbol"/>
                <a:ea typeface="MT Symbol"/>
              </a:rPr>
              <a:t></a:t>
            </a:r>
            <a:r>
              <a:rPr b="1" lang="en-US" sz="16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(i.e.±2.085ns)</a:t>
            </a:r>
            <a:r>
              <a:rPr b="1" lang="en-US" sz="1600" spc="-1" strike="noStrike">
                <a:solidFill>
                  <a:srgbClr val="008000"/>
                </a:solidFill>
                <a:latin typeface="Times New Roman"/>
              </a:rPr>
              <a:t> : 99.7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Within ±4</a:t>
            </a:r>
            <a:r>
              <a:rPr b="1" lang="en-US" sz="1600" spc="-1" strike="noStrike">
                <a:solidFill>
                  <a:srgbClr val="008000"/>
                </a:solidFill>
                <a:latin typeface="MT Symbol"/>
                <a:ea typeface="MT Symbol"/>
              </a:rPr>
              <a:t></a:t>
            </a:r>
            <a:r>
              <a:rPr b="1" lang="en-US" sz="16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(i.e.±2.780ns)</a:t>
            </a:r>
            <a:r>
              <a:rPr b="1" lang="en-US" sz="1600" spc="-1" strike="noStrike">
                <a:solidFill>
                  <a:srgbClr val="008000"/>
                </a:solidFill>
                <a:latin typeface="Times New Roman"/>
              </a:rPr>
              <a:t> : 99.9</a:t>
            </a:r>
            <a:r>
              <a:rPr b="1" lang="en-US" sz="1600" spc="-1" strike="noStrike" baseline="30000">
                <a:solidFill>
                  <a:srgbClr val="008000"/>
                </a:solidFill>
                <a:latin typeface="Times New Roman"/>
              </a:rPr>
              <a:t>9</a:t>
            </a:r>
            <a:r>
              <a:rPr b="1" lang="en-US" sz="1600" spc="-1" strike="noStrike">
                <a:solidFill>
                  <a:srgbClr val="008000"/>
                </a:solidFill>
                <a:latin typeface="Times New Roman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04T18:28:51Z</dcterms:created>
  <dc:creator>Susumu SATO</dc:creator>
  <dc:description/>
  <dc:language>en-US</dc:language>
  <cp:lastModifiedBy>佐藤 進</cp:lastModifiedBy>
  <dcterms:modified xsi:type="dcterms:W3CDTF">2001-10-11T13:34:08Z</dcterms:modified>
  <cp:revision>293</cp:revision>
  <dc:subject/>
  <dc:title>PowerPoint プレゼンテーション</dc:title>
</cp:coreProperties>
</file>