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1CE-4B06-405B-8F43-58945C64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B48-AF5F-451C-A2A7-331A1377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FD9-DDF0-47AE-B548-FB2EE6A8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CCB-F006-455F-B7DD-BB4A45AE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39C-DD66-4D13-A70B-04EE527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96C-E1E0-4321-B84D-FCBEBBA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E96-DF75-431C-81C0-4F36984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96C-662B-4CE4-B500-18DCF09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194-B687-4CD4-842D-7E44571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D6F-1FB1-4FDF-BF6E-63E619E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71A-E873-4D8D-B550-49AF88F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C9F-EDBB-4C07-A7FD-F481802D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82E-D6D2-4F36-BCD0-08872B7605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２９ｐ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SG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PHENIX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実験における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p+p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衝突実験のための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Time Zero Counter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の開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9480"/>
            <a:ext cx="58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筑波大物理　、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BNL</a:t>
            </a:r>
            <a:r>
              <a:rPr b="1" lang="ja-JP" sz="1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鶴岡裕士、小野雅也、相澤美智子、江角晋一、加藤純雄、　　　　　　　　　　　佐藤進、鈴木美和子、箱崎大祐、三明康郎、中條達也</a:t>
            </a:r>
            <a:r>
              <a:rPr b="1" lang="ja-JP" sz="1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3716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 of  Time Zero Counter for p + p collisions at RHIC-PHENIX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0020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Univ. of  Tsukuba  ,  BNL</a:t>
            </a:r>
            <a:r>
              <a:rPr b="1" lang="ja-JP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H.Tsuruoka ,  M.Ono ,  M.Aizawa ,  S.Esumi ,  S.Kato,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A.Kiyomichi ,  S.Sato ,  M.Suzuki ,  D.Hakozaki ,  Y.miake ,  T.chujo</a:t>
            </a:r>
            <a:r>
              <a:rPr b="1" lang="ja-JP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438280"/>
            <a:ext cx="640080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米国ブルックヘブン国立研究所の衝突型高エネルギー重イオン加速器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HIC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にて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000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年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月より　　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=130GeV/A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での金原子核ビーム相互の衝突が確認された。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 さらに、本年はより高いルミノシティでの金・金衝突実験が行われるが、その後に系統的比較のために同一エネルギーにおける陽子・陽子衝突実験も行われる予定であ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ところが、金・金衝突に比べ陽子・陽子衝突では粒子多重度が低いため既存のスタートカウンターである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am Beam Counter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では十分にトリガーできないと考えられる。したがって、新たなスタートカウンター（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e Zero Counter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）が必要であ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e Zero Counter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に求められる性能は主として以下の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点である。①トリガーを得るために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e Zero Counter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が覆う立体角が飛行時間測定器の立体角より大きいこと。②粒子識別のためにスタートカウンターとしての時間分解能が十分良い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③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e Zero Counter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設置される予定の場所は高磁場下（～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000gauss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）であるが、それでも良い時間分解能で運用でき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本講演では陽子・陽子実験専用のスタートカウンターの開発、設計、光電子増倍管の磁場に対する性能評価、および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KEK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におけるテストビーム実験の結果を報告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086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ign1" descr=""/>
          <p:cNvPicPr/>
          <p:nvPr/>
        </p:nvPicPr>
        <p:blipFill>
          <a:blip r:embed="rId1"/>
          <a:stretch/>
        </p:blipFill>
        <p:spPr>
          <a:xfrm>
            <a:off x="228600" y="6629400"/>
            <a:ext cx="3124080" cy="201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8534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ime Zero Counter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の外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620120"/>
            <a:ext cx="3048120" cy="1522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76960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8763120"/>
            <a:ext cx="22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シンチレーターに光電子増倍管を　はさんだ両読み型飛行時間測定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7315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1" descr=""/>
          <p:cNvPicPr/>
          <p:nvPr/>
        </p:nvPicPr>
        <p:blipFill>
          <a:blip r:embed="rId2"/>
          <a:stretch/>
        </p:blipFill>
        <p:spPr>
          <a:xfrm>
            <a:off x="3809880" y="6400800"/>
            <a:ext cx="2286000" cy="211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8534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テスト実験のデー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876312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軸は両読みした際の時間分解能で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ch=25psec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より、時間分解能は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61.5±0.5[psec]  (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ただし、シンチレーターの厚さは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c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2743200"/>
                <a:ext cx="2286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2:08:53Z</dcterms:created>
  <dc:creator>鶴岡　裕士</dc:creator>
  <dc:description/>
  <dc:language>en-US</dc:language>
  <cp:lastModifiedBy>鶴岡　裕士</cp:lastModifiedBy>
  <dcterms:modified xsi:type="dcterms:W3CDTF">2001-01-26T09:00:50Z</dcterms:modified>
  <cp:revision>13</cp:revision>
  <dc:subject/>
  <dc:title>PowerPoint プレゼンテーション</dc:title>
</cp:coreProperties>
</file>