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E616-8C27-4CBC-A6FA-7196CB15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366-96D7-4125-A0BE-E78D0A02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902B-ACD1-4AE4-8148-0C6F65C0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FC5C-EE5E-4C86-AEC5-C9741ED5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DB16-2BD8-4616-A7D1-E59F4EE2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370A-95B9-429C-B32A-22F9D0DE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9B43-847C-4166-AD96-2D18755E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A470-2A7F-485C-A93B-8837184B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C0A7-CBAC-4A01-986B-78A4770C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928C-DAF5-4590-A2EA-DA27F4B2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646B-87D8-4F1F-A8B3-92782D9F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B62D-BBA5-4276-B8CC-DBCA27EC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C8AF-056A-4A3C-9A37-66AE026E124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0666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%20field" descr=""/>
          <p:cNvPicPr/>
          <p:nvPr/>
        </p:nvPicPr>
        <p:blipFill>
          <a:blip r:embed="rId1"/>
          <a:stretch/>
        </p:blipFill>
        <p:spPr>
          <a:xfrm>
            <a:off x="838080" y="4724280"/>
            <a:ext cx="5029200" cy="3432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71600" y="594360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304920"/>
            <a:ext cx="548640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Effect of magnetic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143000" y="6552720"/>
            <a:ext cx="761760" cy="1447560"/>
            <a:chOff x="1143000" y="6552720"/>
            <a:chExt cx="761760" cy="1447560"/>
          </a:xfrm>
        </p:grpSpPr>
        <p:sp>
          <p:nvSpPr>
            <p:cNvPr id="46" name=""/>
            <p:cNvSpPr/>
            <p:nvPr/>
          </p:nvSpPr>
          <p:spPr>
            <a:xfrm flipV="1">
              <a:off x="1904760" y="6552720"/>
              <a:ext cx="0" cy="14475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143000" y="6553080"/>
              <a:ext cx="76176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066680" y="8670960"/>
            <a:ext cx="5791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Top :  http://www.phenix.bnl.gov/phenix/project_info/integration/config_management/envelope_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Bottom :  PHENIX  Conseptual Design  Report  ,  Chapter4  Magnets  (199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81532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MT for strong magnetic field (</a:t>
            </a: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000 gaus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472428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0counter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5486400" cy="345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41911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Hide PMT from charged part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666520"/>
            <a:ext cx="83844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2438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609480" y="-4403880"/>
            <a:ext cx="1713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304920"/>
            <a:ext cx="62481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MT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487692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MT%20BvsAngle" descr=""/>
          <p:cNvPicPr/>
          <p:nvPr/>
        </p:nvPicPr>
        <p:blipFill>
          <a:blip r:embed="rId1"/>
          <a:stretch/>
        </p:blipFill>
        <p:spPr>
          <a:xfrm>
            <a:off x="3048120" y="5257800"/>
            <a:ext cx="3408120" cy="3135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2120" y="70866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7162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MT%20H6614" descr=""/>
          <p:cNvPicPr/>
          <p:nvPr/>
        </p:nvPicPr>
        <p:blipFill>
          <a:blip r:embed="rId2"/>
          <a:stretch/>
        </p:blipFill>
        <p:spPr>
          <a:xfrm>
            <a:off x="762120" y="5410080"/>
            <a:ext cx="1806480" cy="2743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0" y="861048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※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MAMATSU PHOTONICS K.K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1066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R5924  fine mesh P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676520"/>
            <a:ext cx="58676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Operate in high magnetic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High gain   </a:t>
            </a: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00μA  ( cf. R3809 MCP type  </a:t>
            </a: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０</a:t>
            </a: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μA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743200"/>
            <a:ext cx="541008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cc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Rise Time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‥‥‥　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.5 n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cc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T.T.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‥‥‥　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440p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cc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Anode Effective Are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‥‥‥　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Φ39mm (mi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cc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Current Ampl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　　　　 　　　　　　　　　　  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at    0   Tes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at  0.5  Tes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at  1.0  Tes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600200" y="4038480"/>
                <a:ext cx="673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457200" y="-432756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304920"/>
            <a:ext cx="57909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600200"/>
            <a:ext cx="1524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2209680"/>
            <a:ext cx="1524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2514600"/>
            <a:ext cx="1524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905120"/>
            <a:ext cx="1524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1790640" y="1714320"/>
            <a:ext cx="1219320" cy="990360"/>
          </a:xfrm>
          <a:custGeom>
            <a:avLst/>
            <a:gdLst>
              <a:gd name="textAreaLeft" fmla="*/ 279360 w 1219320"/>
              <a:gd name="textAreaRight" fmla="*/ 939960 w 1219320"/>
              <a:gd name="textAreaTop" fmla="*/ 227160 h 990360"/>
              <a:gd name="textAreaBottom" fmla="*/ 763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835" y="21600"/>
                </a:lnTo>
                <a:lnTo>
                  <a:pt x="5765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1752480"/>
            <a:ext cx="838440" cy="91440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914400"/>
              <a:gd name="textAreaBottom" fmla="*/ 873720 h 914400"/>
            </a:gdLst>
            <a:ahLst/>
            <a:rect l="textAreaLeft" t="textAreaTop" r="textAreaRight" b="textAreaBottom"/>
            <a:pathLst>
              <a:path w="21600" h="23556">
                <a:moveTo>
                  <a:pt x="3600" y="0"/>
                </a:moveTo>
                <a:arcTo wR="3600" hR="3600" stAng="16200000" swAng="-5400000"/>
                <a:lnTo>
                  <a:pt x="0" y="19956"/>
                </a:lnTo>
                <a:arcTo wR="3600" hR="3600" stAng="10800000" swAng="-5400000"/>
                <a:lnTo>
                  <a:pt x="18000" y="235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990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572000" y="1600200"/>
            <a:ext cx="304920" cy="1219320"/>
            <a:chOff x="4572000" y="1600200"/>
            <a:chExt cx="304920" cy="1219320"/>
          </a:xfrm>
        </p:grpSpPr>
        <p:sp>
          <p:nvSpPr>
            <p:cNvPr id="78" name=""/>
            <p:cNvSpPr/>
            <p:nvPr/>
          </p:nvSpPr>
          <p:spPr>
            <a:xfrm>
              <a:off x="4572000" y="16002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0" y="190512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220968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25146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715000" y="1905120"/>
            <a:ext cx="609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2819520"/>
            <a:ext cx="14479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cintillator 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cm×8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1981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cintil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2819520"/>
            <a:ext cx="106668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T 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cm×4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in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25146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out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13716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13716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00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990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297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2971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5076720" cy="5143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" y="82296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Few difference between inside rod and outside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85345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get many photon  when L=10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838080" y="-4175280"/>
            <a:ext cx="2664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829120" cy="406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Guide  ( detail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266720" y="761760"/>
            <a:ext cx="1390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0666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scintill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371600"/>
            <a:ext cx="167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in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523880"/>
            <a:ext cx="167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out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7621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100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762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?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80880" y="990720"/>
            <a:ext cx="2819160" cy="914040"/>
            <a:chOff x="380880" y="990720"/>
            <a:chExt cx="2819160" cy="914040"/>
          </a:xfrm>
        </p:grpSpPr>
        <p:sp>
          <p:nvSpPr>
            <p:cNvPr id="109" name=""/>
            <p:cNvSpPr/>
            <p:nvPr/>
          </p:nvSpPr>
          <p:spPr>
            <a:xfrm>
              <a:off x="380880" y="1109880"/>
              <a:ext cx="1281600" cy="159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0880" y="1427760"/>
              <a:ext cx="1281600" cy="159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0880" y="1586880"/>
              <a:ext cx="1281600" cy="159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0880" y="1269000"/>
              <a:ext cx="1281600" cy="15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1760760" y="1011240"/>
              <a:ext cx="636120" cy="832680"/>
            </a:xfrm>
            <a:custGeom>
              <a:avLst/>
              <a:gdLst>
                <a:gd name="textAreaLeft" fmla="*/ 145800 w 636120"/>
                <a:gd name="textAreaRight" fmla="*/ 490320 w 636120"/>
                <a:gd name="textAreaTop" fmla="*/ 190800 h 832680"/>
                <a:gd name="textAreaBottom" fmla="*/ 641880 h 83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835" y="21600"/>
                  </a:lnTo>
                  <a:lnTo>
                    <a:pt x="5765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95160" y="1189440"/>
              <a:ext cx="704880" cy="477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62480" y="990720"/>
              <a:ext cx="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5160" y="990720"/>
              <a:ext cx="0" cy="27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62480" y="1825560"/>
              <a:ext cx="83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62480" y="174600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95160" y="158688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752480" y="19051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 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1295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M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809880" y="1143000"/>
            <a:ext cx="152640" cy="609480"/>
            <a:chOff x="3809880" y="1143000"/>
            <a:chExt cx="152640" cy="609480"/>
          </a:xfrm>
        </p:grpSpPr>
        <p:sp>
          <p:nvSpPr>
            <p:cNvPr id="123" name=""/>
            <p:cNvSpPr/>
            <p:nvPr/>
          </p:nvSpPr>
          <p:spPr>
            <a:xfrm>
              <a:off x="3809880" y="1143000"/>
              <a:ext cx="1526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09880" y="129528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09880" y="1447920"/>
              <a:ext cx="1526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1600200"/>
              <a:ext cx="1526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181480" y="1295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1219320"/>
            <a:ext cx="1371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Scintillator  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cm×8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1219320"/>
            <a:ext cx="838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MT 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cm×4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1143000"/>
            <a:ext cx="0" cy="609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1295280"/>
            <a:ext cx="0" cy="304920"/>
          </a:xfrm>
          <a:prstGeom prst="line">
            <a:avLst/>
          </a:prstGeom>
          <a:ln w="349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52280" y="2209680"/>
            <a:ext cx="6400800" cy="1371600"/>
            <a:chOff x="152280" y="2209680"/>
            <a:chExt cx="6400800" cy="1371600"/>
          </a:xfrm>
        </p:grpSpPr>
        <p:sp>
          <p:nvSpPr>
            <p:cNvPr id="133" name=""/>
            <p:cNvSpPr/>
            <p:nvPr/>
          </p:nvSpPr>
          <p:spPr>
            <a:xfrm>
              <a:off x="152280" y="22096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imes New Roman"/>
                </a:rPr>
                <a:t>① </a:t>
              </a:r>
              <a:r>
                <a:rPr b="0" lang="ja-JP" sz="1400" spc="-1" strike="noStrike">
                  <a:solidFill>
                    <a:srgbClr val="000000"/>
                  </a:solidFill>
                  <a:latin typeface="Times New Roman"/>
                </a:rPr>
                <a:t>no reflec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533160" y="2743200"/>
              <a:ext cx="685800" cy="609480"/>
              <a:chOff x="533160" y="2743200"/>
              <a:chExt cx="685800" cy="609480"/>
            </a:xfrm>
          </p:grpSpPr>
          <p:sp>
            <p:nvSpPr>
              <p:cNvPr id="135" name=""/>
              <p:cNvSpPr/>
              <p:nvPr/>
            </p:nvSpPr>
            <p:spPr>
              <a:xfrm>
                <a:off x="533160" y="2743200"/>
                <a:ext cx="0" cy="609480"/>
              </a:xfrm>
              <a:prstGeom prst="line">
                <a:avLst/>
              </a:prstGeom>
              <a:ln w="349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218960" y="2895480"/>
                <a:ext cx="0" cy="304920"/>
              </a:xfrm>
              <a:prstGeom prst="line">
                <a:avLst/>
              </a:prstGeom>
              <a:ln w="349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33160" y="2743200"/>
                <a:ext cx="685800" cy="152280"/>
              </a:xfrm>
              <a:prstGeom prst="line">
                <a:avLst/>
              </a:prstGeom>
              <a:ln w="6480">
                <a:solidFill>
                  <a:srgbClr val="3333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533160" y="3200040"/>
                <a:ext cx="685800" cy="152280"/>
              </a:xfrm>
              <a:prstGeom prst="line">
                <a:avLst/>
              </a:prstGeom>
              <a:ln w="6480">
                <a:solidFill>
                  <a:srgbClr val="3333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1904760" y="22096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②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ctangl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2209680"/>
              <a:ext cx="121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③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sh tai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7960" y="22096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④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ctangle + fish tai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2057400" y="2743200"/>
              <a:ext cx="761760" cy="609480"/>
              <a:chOff x="2057400" y="2743200"/>
              <a:chExt cx="761760" cy="609480"/>
            </a:xfrm>
          </p:grpSpPr>
          <p:sp>
            <p:nvSpPr>
              <p:cNvPr id="143" name=""/>
              <p:cNvSpPr/>
              <p:nvPr/>
            </p:nvSpPr>
            <p:spPr>
              <a:xfrm>
                <a:off x="2819160" y="2895480"/>
                <a:ext cx="0" cy="304920"/>
              </a:xfrm>
              <a:prstGeom prst="line">
                <a:avLst/>
              </a:prstGeom>
              <a:ln w="349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057400" y="2743200"/>
                <a:ext cx="7617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057400" y="3352680"/>
                <a:ext cx="7617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57400" y="2743200"/>
                <a:ext cx="0" cy="609480"/>
              </a:xfrm>
              <a:prstGeom prst="line">
                <a:avLst/>
              </a:prstGeom>
              <a:ln w="349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19160" y="2743200"/>
                <a:ext cx="0" cy="6094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581280" y="2743200"/>
              <a:ext cx="685800" cy="609480"/>
              <a:chOff x="3581280" y="2743200"/>
              <a:chExt cx="685800" cy="609480"/>
            </a:xfrm>
          </p:grpSpPr>
          <p:sp>
            <p:nvSpPr>
              <p:cNvPr id="149" name=""/>
              <p:cNvSpPr/>
              <p:nvPr/>
            </p:nvSpPr>
            <p:spPr>
              <a:xfrm>
                <a:off x="3581280" y="2743200"/>
                <a:ext cx="0" cy="6094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267080" y="2895480"/>
                <a:ext cx="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581280" y="2743200"/>
                <a:ext cx="685800" cy="1522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3581280" y="3200040"/>
                <a:ext cx="685800" cy="1522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5105160" y="2743200"/>
              <a:ext cx="914400" cy="609480"/>
              <a:chOff x="5105160" y="2743200"/>
              <a:chExt cx="914400" cy="609480"/>
            </a:xfrm>
          </p:grpSpPr>
          <p:sp>
            <p:nvSpPr>
              <p:cNvPr id="154" name=""/>
              <p:cNvSpPr/>
              <p:nvPr/>
            </p:nvSpPr>
            <p:spPr>
              <a:xfrm>
                <a:off x="6019560" y="2895480"/>
                <a:ext cx="0" cy="304920"/>
              </a:xfrm>
              <a:prstGeom prst="line">
                <a:avLst/>
              </a:prstGeom>
              <a:ln w="349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105160" y="2743200"/>
                <a:ext cx="685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105160" y="3352680"/>
                <a:ext cx="685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105160" y="2743200"/>
                <a:ext cx="0" cy="609480"/>
              </a:xfrm>
              <a:prstGeom prst="line">
                <a:avLst/>
              </a:prstGeom>
              <a:ln w="349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790960" y="2743200"/>
                <a:ext cx="228600" cy="1522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5790960" y="3200040"/>
                <a:ext cx="228600" cy="1522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533160" y="3505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57400" y="35053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81280" y="3505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05160" y="3581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90960" y="3200400"/>
              <a:ext cx="0" cy="3049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19560" y="3200400"/>
              <a:ext cx="0" cy="3049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236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01920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6095880" y="32004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3505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[c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3505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[c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3581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[c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3505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[c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5249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90720" y="304920"/>
            <a:ext cx="4647960" cy="3988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Expected Time Degrad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752480"/>
            <a:ext cx="685800" cy="457200"/>
          </a:xfrm>
          <a:prstGeom prst="roundRect">
            <a:avLst>
              <a:gd name="adj" fmla="val 2777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295280" y="12952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1337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9144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ross s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419720" y="1295280"/>
            <a:ext cx="380520" cy="1371240"/>
            <a:chOff x="4419720" y="1295280"/>
            <a:chExt cx="380520" cy="1371240"/>
          </a:xfrm>
        </p:grpSpPr>
        <p:sp>
          <p:nvSpPr>
            <p:cNvPr id="180" name=""/>
            <p:cNvSpPr/>
            <p:nvPr/>
          </p:nvSpPr>
          <p:spPr>
            <a:xfrm>
              <a:off x="4419720" y="1295280"/>
              <a:ext cx="38052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19720" y="1638000"/>
              <a:ext cx="38052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19720" y="1981080"/>
              <a:ext cx="380520" cy="34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19720" y="2323800"/>
              <a:ext cx="38052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562720" y="1295280"/>
            <a:ext cx="3808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523880" y="1295280"/>
            <a:ext cx="1674720" cy="1371240"/>
            <a:chOff x="1523880" y="1295280"/>
            <a:chExt cx="1674720" cy="1371240"/>
          </a:xfrm>
        </p:grpSpPr>
        <p:sp>
          <p:nvSpPr>
            <p:cNvPr id="186" name=""/>
            <p:cNvSpPr/>
            <p:nvPr/>
          </p:nvSpPr>
          <p:spPr>
            <a:xfrm>
              <a:off x="1523880" y="1295280"/>
              <a:ext cx="167472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23880" y="1638000"/>
              <a:ext cx="167472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3880" y="1981080"/>
              <a:ext cx="1674720" cy="34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23880" y="2323800"/>
              <a:ext cx="167472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3809880" y="27432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cm×2cm ×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cm×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129528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‥‥</a:t>
            </a: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12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①</a:t>
            </a:r>
            <a:r>
              <a:rPr b="0" lang="ja-JP" sz="12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outside‥‥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71800" y="16765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‥‥</a:t>
            </a:r>
            <a:r>
              <a:rPr b="0" lang="ja-JP" sz="12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･②</a:t>
            </a:r>
            <a:r>
              <a:rPr b="0" lang="ja-JP" sz="12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inside‥‥‥</a:t>
            </a:r>
            <a:r>
              <a:rPr b="0" lang="ja-JP" sz="12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1752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HG丸ｺﾞｼｯｸM-PRO"/>
              </a:rPr>
              <a:t>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8288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scintil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24080" y="1990800"/>
            <a:ext cx="1419120" cy="676080"/>
          </a:xfrm>
          <a:custGeom>
            <a:avLst/>
            <a:gdLst/>
            <a:ahLst/>
            <a:rect l="l" t="t" r="r" b="b"/>
            <a:pathLst>
              <a:path w="894" h="426">
                <a:moveTo>
                  <a:pt x="0" y="0"/>
                </a:moveTo>
                <a:lnTo>
                  <a:pt x="78" y="282"/>
                </a:lnTo>
                <a:lnTo>
                  <a:pt x="462" y="426"/>
                </a:lnTo>
                <a:cubicBezTo>
                  <a:pt x="606" y="378"/>
                  <a:pt x="894" y="282"/>
                  <a:pt x="894" y="282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666880" y="236160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2743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2743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23880" y="2895480"/>
            <a:ext cx="12193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28954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 [cm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82296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・</a:t>
            </a: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Scintillator should be divided into f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09480" y="2895480"/>
            <a:ext cx="5619960" cy="53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04920"/>
            <a:ext cx="3962160" cy="3988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Expected T0 Resolu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38080" y="1371600"/>
            <a:ext cx="5028840" cy="533520"/>
            <a:chOff x="838080" y="1371600"/>
            <a:chExt cx="5028840" cy="533520"/>
          </a:xfrm>
        </p:grpSpPr>
        <p:grpSp>
          <p:nvGrpSpPr>
            <p:cNvPr id="207" name=""/>
            <p:cNvGrpSpPr/>
            <p:nvPr/>
          </p:nvGrpSpPr>
          <p:grpSpPr>
            <a:xfrm>
              <a:off x="838080" y="1371600"/>
              <a:ext cx="2590560" cy="533520"/>
              <a:chOff x="838080" y="1371600"/>
              <a:chExt cx="2590560" cy="533520"/>
            </a:xfrm>
          </p:grpSpPr>
          <p:sp>
            <p:nvSpPr>
              <p:cNvPr id="208" name=""/>
              <p:cNvSpPr/>
              <p:nvPr/>
            </p:nvSpPr>
            <p:spPr>
              <a:xfrm>
                <a:off x="838080" y="1371600"/>
                <a:ext cx="761760" cy="53352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599840" y="1447920"/>
                <a:ext cx="38124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1599840" y="1752480"/>
                <a:ext cx="3812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81080" y="15238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81080" y="15238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981080" y="17524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3276360" y="1371600"/>
              <a:ext cx="2590560" cy="533520"/>
              <a:chOff x="3276360" y="1371600"/>
              <a:chExt cx="2590560" cy="533520"/>
            </a:xfrm>
          </p:grpSpPr>
          <p:sp>
            <p:nvSpPr>
              <p:cNvPr id="215" name=""/>
              <p:cNvSpPr/>
              <p:nvPr/>
            </p:nvSpPr>
            <p:spPr>
              <a:xfrm flipH="1">
                <a:off x="5105160" y="1371600"/>
                <a:ext cx="761760" cy="53352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4723920" y="1447920"/>
                <a:ext cx="38124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>
                <a:off x="4723920" y="1752480"/>
                <a:ext cx="3812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3276360" y="15238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723920" y="15238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3276360" y="17524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" name=""/>
          <p:cNvSpPr/>
          <p:nvPr/>
        </p:nvSpPr>
        <p:spPr>
          <a:xfrm>
            <a:off x="914400" y="1447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14800" y="129528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10666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Light gu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3" idx="1"/>
          </p:cNvCxnSpPr>
          <p:nvPr/>
        </p:nvCxnSpPr>
        <p:spPr>
          <a:xfrm flipH="1" flipV="1" rot="10800000">
            <a:off x="1752480" y="1234800"/>
            <a:ext cx="76680" cy="442080"/>
          </a:xfrm>
          <a:prstGeom prst="curvedConnector5">
            <a:avLst>
              <a:gd name="adj1" fmla="val -100471"/>
              <a:gd name="adj2" fmla="val 34474"/>
              <a:gd name="adj3" fmla="val -100471"/>
            </a:avLst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3429000" y="990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harged parti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0" y="14479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scintil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⊿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T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⊿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T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810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2057400"/>
            <a:ext cx="2133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2057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[c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480060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360600" y="2530440"/>
                <a:ext cx="23464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T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1143000" y="26668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T0 resolution 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8229600"/>
            <a:ext cx="3048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447920" y="8305920"/>
                <a:ext cx="22906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p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3886200" y="83818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=50c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533520" y="2971800"/>
            <a:ext cx="5715000" cy="53751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762120" y="-4556160"/>
            <a:ext cx="2476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2T13:45:16Z</dcterms:created>
  <dc:creator>鶴岡　裕士</dc:creator>
  <dc:description/>
  <dc:language>en-US</dc:language>
  <cp:lastModifiedBy>鶴岡　裕士</cp:lastModifiedBy>
  <dcterms:modified xsi:type="dcterms:W3CDTF">2000-07-09T00:13:07Z</dcterms:modified>
  <cp:revision>7</cp:revision>
  <dc:subject/>
  <dc:title>PowerPoint プレゼンテーション</dc:title>
</cp:coreProperties>
</file>