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B5F-7C0D-4DC1-9C60-C41C0FBE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DE0-D9B7-4588-9293-C6F3C8D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982-F12E-4B21-B1E8-AD1E333F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1BF-43C7-416D-818C-CC1B8C85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7A1-EB3C-402F-B114-F729932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D29-1342-4CE4-992D-60338CB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94D-70FE-46F8-A530-7588968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E1E-6FC9-4C0D-85F7-B6FD86C9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B14-35F3-4C80-8078-5BAE9FB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274-C2E7-448D-902D-8B57A82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C6D-80A8-44B8-975A-84FA45B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CD7-55D6-4631-A373-CF8FAAB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B47-E196-4785-A63B-D7451EBF9A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15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 Carlo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6477120"/>
            <a:ext cx="464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Nuclear Instruments and Methods in Physics Research  A 349 (1994) 447-4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990720"/>
                <a:ext cx="2628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t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553080" y="2209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2286000"/>
            <a:ext cx="1981440" cy="2057400"/>
          </a:xfrm>
          <a:custGeom>
            <a:avLst/>
            <a:gdLst/>
            <a:ahLst/>
            <a:rect l="l" t="t" r="r" b="b"/>
            <a:pathLst>
              <a:path w="1200" h="1128">
                <a:moveTo>
                  <a:pt x="0" y="1128"/>
                </a:moveTo>
                <a:cubicBezTo>
                  <a:pt x="32" y="1092"/>
                  <a:pt x="64" y="1056"/>
                  <a:pt x="96" y="888"/>
                </a:cubicBezTo>
                <a:cubicBezTo>
                  <a:pt x="128" y="720"/>
                  <a:pt x="152" y="240"/>
                  <a:pt x="192" y="120"/>
                </a:cubicBezTo>
                <a:cubicBezTo>
                  <a:pt x="232" y="0"/>
                  <a:pt x="280" y="48"/>
                  <a:pt x="336" y="168"/>
                </a:cubicBezTo>
                <a:cubicBezTo>
                  <a:pt x="392" y="288"/>
                  <a:pt x="440" y="688"/>
                  <a:pt x="528" y="840"/>
                </a:cubicBezTo>
                <a:cubicBezTo>
                  <a:pt x="616" y="992"/>
                  <a:pt x="752" y="1032"/>
                  <a:pt x="864" y="1080"/>
                </a:cubicBezTo>
                <a:cubicBezTo>
                  <a:pt x="976" y="1128"/>
                  <a:pt x="1144" y="1120"/>
                  <a:pt x="1200" y="1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3962520"/>
            <a:ext cx="380880" cy="38088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480"/>
                </a:moveTo>
                <a:cubicBezTo>
                  <a:pt x="16" y="472"/>
                  <a:pt x="32" y="464"/>
                  <a:pt x="48" y="384"/>
                </a:cubicBezTo>
                <a:cubicBezTo>
                  <a:pt x="64" y="304"/>
                  <a:pt x="72" y="0"/>
                  <a:pt x="96" y="0"/>
                </a:cubicBezTo>
                <a:cubicBezTo>
                  <a:pt x="120" y="0"/>
                  <a:pt x="160" y="304"/>
                  <a:pt x="192" y="384"/>
                </a:cubicBezTo>
                <a:cubicBezTo>
                  <a:pt x="224" y="464"/>
                  <a:pt x="272" y="464"/>
                  <a:pt x="288" y="4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3962520"/>
            <a:ext cx="380880" cy="38088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480"/>
                </a:moveTo>
                <a:cubicBezTo>
                  <a:pt x="16" y="472"/>
                  <a:pt x="32" y="464"/>
                  <a:pt x="48" y="384"/>
                </a:cubicBezTo>
                <a:cubicBezTo>
                  <a:pt x="64" y="304"/>
                  <a:pt x="72" y="0"/>
                  <a:pt x="96" y="0"/>
                </a:cubicBezTo>
                <a:cubicBezTo>
                  <a:pt x="120" y="0"/>
                  <a:pt x="160" y="304"/>
                  <a:pt x="192" y="384"/>
                </a:cubicBezTo>
                <a:cubicBezTo>
                  <a:pt x="224" y="464"/>
                  <a:pt x="272" y="464"/>
                  <a:pt x="288" y="48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962520"/>
            <a:ext cx="380880" cy="38088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480"/>
                </a:moveTo>
                <a:cubicBezTo>
                  <a:pt x="16" y="472"/>
                  <a:pt x="32" y="464"/>
                  <a:pt x="48" y="384"/>
                </a:cubicBezTo>
                <a:cubicBezTo>
                  <a:pt x="64" y="304"/>
                  <a:pt x="72" y="0"/>
                  <a:pt x="96" y="0"/>
                </a:cubicBezTo>
                <a:cubicBezTo>
                  <a:pt x="120" y="0"/>
                  <a:pt x="160" y="304"/>
                  <a:pt x="192" y="384"/>
                </a:cubicBezTo>
                <a:cubicBezTo>
                  <a:pt x="224" y="464"/>
                  <a:pt x="272" y="464"/>
                  <a:pt x="288" y="48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962520"/>
            <a:ext cx="380880" cy="38088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480"/>
                </a:moveTo>
                <a:cubicBezTo>
                  <a:pt x="16" y="472"/>
                  <a:pt x="32" y="464"/>
                  <a:pt x="48" y="384"/>
                </a:cubicBezTo>
                <a:cubicBezTo>
                  <a:pt x="64" y="304"/>
                  <a:pt x="72" y="0"/>
                  <a:pt x="96" y="0"/>
                </a:cubicBezTo>
                <a:cubicBezTo>
                  <a:pt x="120" y="0"/>
                  <a:pt x="160" y="304"/>
                  <a:pt x="192" y="384"/>
                </a:cubicBezTo>
                <a:cubicBezTo>
                  <a:pt x="224" y="464"/>
                  <a:pt x="272" y="464"/>
                  <a:pt x="288" y="48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95880" y="3657600"/>
            <a:ext cx="914400" cy="1218960"/>
            <a:chOff x="6095880" y="3657600"/>
            <a:chExt cx="914400" cy="1218960"/>
          </a:xfrm>
        </p:grpSpPr>
        <p:sp>
          <p:nvSpPr>
            <p:cNvPr id="52" name=""/>
            <p:cNvSpPr/>
            <p:nvPr/>
          </p:nvSpPr>
          <p:spPr>
            <a:xfrm>
              <a:off x="6095880" y="365760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0280" y="365760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019920" y="3429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286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4343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10666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 convert  electron … pulse of  1  photoelect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676520"/>
            <a:ext cx="2057400" cy="9558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987  :  Reflectance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  :  #  of  ref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λ :  Attenuation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524880" y="914400"/>
                <a:ext cx="191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e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2438280"/>
            <a:ext cx="5334120" cy="1586160"/>
            <a:chOff x="228600" y="2438280"/>
            <a:chExt cx="5334120" cy="1586160"/>
          </a:xfrm>
        </p:grpSpPr>
        <p:sp>
          <p:nvSpPr>
            <p:cNvPr id="62" name=""/>
            <p:cNvSpPr/>
            <p:nvPr/>
          </p:nvSpPr>
          <p:spPr>
            <a:xfrm>
              <a:off x="228600" y="2895480"/>
              <a:ext cx="2743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28954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971800" y="350460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3920" y="2895480"/>
              <a:ext cx="106668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800600" y="3047760"/>
              <a:ext cx="762120" cy="838080"/>
              <a:chOff x="4800600" y="3047760"/>
              <a:chExt cx="762120" cy="838080"/>
            </a:xfrm>
          </p:grpSpPr>
          <p:sp>
            <p:nvSpPr>
              <p:cNvPr id="67" name=""/>
              <p:cNvSpPr/>
              <p:nvPr/>
            </p:nvSpPr>
            <p:spPr>
              <a:xfrm>
                <a:off x="4800600" y="3103560"/>
                <a:ext cx="64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45360" y="3047760"/>
                <a:ext cx="117360" cy="111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34960" y="310356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34960" y="3271320"/>
                <a:ext cx="11700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976280" y="3327120"/>
                <a:ext cx="1756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976280" y="3382920"/>
                <a:ext cx="17568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4976280" y="3439080"/>
                <a:ext cx="17568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034960" y="3550320"/>
                <a:ext cx="11700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76280" y="3494880"/>
                <a:ext cx="1756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28000" y="310356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11000" y="3382920"/>
                <a:ext cx="23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11000" y="3494880"/>
                <a:ext cx="23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28000" y="34948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34960" y="360684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976280" y="377424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45360" y="3718440"/>
                <a:ext cx="117360" cy="111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76280" y="3774240"/>
                <a:ext cx="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59280" y="3830400"/>
                <a:ext cx="17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859280" y="3830400"/>
                <a:ext cx="5832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4917240" y="3830400"/>
                <a:ext cx="586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975920" y="3830400"/>
                <a:ext cx="586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520" y="34290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9880" y="3047760"/>
              <a:ext cx="76320" cy="609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01520 h 609840"/>
                <a:gd name="textAreaBottom" fmla="*/ 5083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600"/>
                    <a:pt x="0" y="7200"/>
                  </a:cubicBezTo>
                  <a:lnTo>
                    <a:pt x="0" y="14400"/>
                  </a:lnTo>
                  <a:cubicBezTo>
                    <a:pt x="0" y="180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76720" y="3200400"/>
              <a:ext cx="45720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752480" y="2895120"/>
              <a:ext cx="152424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3520" y="2895480"/>
              <a:ext cx="12189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33520" y="2895480"/>
              <a:ext cx="304560" cy="4572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38080" y="2514600"/>
              <a:ext cx="76320" cy="380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09880" y="3124080"/>
              <a:ext cx="152640" cy="152280"/>
              <a:chOff x="3809880" y="3124080"/>
              <a:chExt cx="152640" cy="152280"/>
            </a:xfrm>
          </p:grpSpPr>
          <p:sp>
            <p:nvSpPr>
              <p:cNvPr id="97" name=""/>
              <p:cNvSpPr/>
              <p:nvPr/>
            </p:nvSpPr>
            <p:spPr>
              <a:xfrm>
                <a:off x="3809880" y="312408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35080" y="3200040"/>
                <a:ext cx="10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V="1">
              <a:off x="3962520" y="3047760"/>
              <a:ext cx="304560" cy="152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app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6200" y="3200400"/>
              <a:ext cx="60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          n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3124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677520" y="1752480"/>
            <a:ext cx="1752480" cy="9558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G  :  PMT 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e  :  electron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τs :  PMT 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523880"/>
            <a:ext cx="457200" cy="2514600"/>
          </a:xfrm>
          <a:custGeom>
            <a:avLst/>
            <a:gdLst/>
            <a:ahLst/>
            <a:rect l="l" t="t" r="r" b="b"/>
            <a:pathLst>
              <a:path w="144" h="1440">
                <a:moveTo>
                  <a:pt x="0" y="0"/>
                </a:moveTo>
                <a:cubicBezTo>
                  <a:pt x="72" y="264"/>
                  <a:pt x="144" y="528"/>
                  <a:pt x="144" y="768"/>
                </a:cubicBezTo>
                <a:cubicBezTo>
                  <a:pt x="144" y="1008"/>
                  <a:pt x="24" y="1328"/>
                  <a:pt x="0" y="1440"/>
                </a:cubicBezTo>
              </a:path>
            </a:pathLst>
          </a:custGeom>
          <a:noFill/>
          <a:ln w="1260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3581280"/>
            <a:ext cx="5257800" cy="1190160"/>
            <a:chOff x="228600" y="3581280"/>
            <a:chExt cx="5257800" cy="1190160"/>
          </a:xfrm>
        </p:grpSpPr>
        <p:sp>
          <p:nvSpPr>
            <p:cNvPr id="106" name=""/>
            <p:cNvSpPr/>
            <p:nvPr/>
          </p:nvSpPr>
          <p:spPr>
            <a:xfrm flipV="1" rot="16200000">
              <a:off x="1981080" y="2589840"/>
              <a:ext cx="228600" cy="2819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960 h 2819520"/>
                <a:gd name="textAreaBottom" fmla="*/ 277956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0"/>
                    <a:pt x="10800" y="980"/>
                  </a:cubicBezTo>
                  <a:lnTo>
                    <a:pt x="10800" y="9070"/>
                  </a:lnTo>
                  <a:cubicBezTo>
                    <a:pt x="10800" y="9560"/>
                    <a:pt x="5400" y="10050"/>
                    <a:pt x="0" y="10050"/>
                  </a:cubicBezTo>
                  <a:cubicBezTo>
                    <a:pt x="5400" y="10050"/>
                    <a:pt x="10800" y="10540"/>
                    <a:pt x="10800" y="11030"/>
                  </a:cubicBezTo>
                  <a:lnTo>
                    <a:pt x="10800" y="20620"/>
                  </a:lnTo>
                  <a:cubicBezTo>
                    <a:pt x="10800" y="2111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4114800" y="3504960"/>
              <a:ext cx="228600" cy="990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4480 h 990360"/>
                <a:gd name="textAreaBottom" fmla="*/ 9658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65"/>
                    <a:pt x="10800" y="1730"/>
                  </a:cubicBezTo>
                  <a:lnTo>
                    <a:pt x="10800" y="9243"/>
                  </a:lnTo>
                  <a:cubicBezTo>
                    <a:pt x="10800" y="10108"/>
                    <a:pt x="5400" y="10973"/>
                    <a:pt x="0" y="10973"/>
                  </a:cubicBezTo>
                  <a:cubicBezTo>
                    <a:pt x="5400" y="10973"/>
                    <a:pt x="10800" y="11838"/>
                    <a:pt x="10800" y="12703"/>
                  </a:cubicBezTo>
                  <a:lnTo>
                    <a:pt x="10800" y="19870"/>
                  </a:lnTo>
                  <a:cubicBezTo>
                    <a:pt x="10800" y="2073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4190760"/>
              <a:ext cx="525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1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　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2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　　　　　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3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=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391520" y="4267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724280"/>
            <a:ext cx="5410080" cy="18082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1  :   Time for  scintillator to emit  photo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Rise Time  =  0.7 ns    ,  Decay Time  =  1.8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2  =   ( Optical pass ) /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3  :   Transit Time in PM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.T.S =  44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 rot="5400000">
            <a:off x="6858000" y="5257800"/>
            <a:ext cx="380880" cy="380880"/>
          </a:xfrm>
          <a:custGeom>
            <a:avLst/>
            <a:gdLst>
              <a:gd name="textAreaLeft" fmla="*/ 59400 w 380880"/>
              <a:gd name="textAreaRight" fmla="*/ 33336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143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715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200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34928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52280"/>
            <a:ext cx="72392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 Design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048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design1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51880" cy="558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25460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52280"/>
            <a:ext cx="72392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 Design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114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design2" descr=""/>
          <p:cNvPicPr/>
          <p:nvPr/>
        </p:nvPicPr>
        <p:blipFill>
          <a:blip r:embed="rId1"/>
          <a:stretch/>
        </p:blipFill>
        <p:spPr>
          <a:xfrm>
            <a:off x="0" y="1523880"/>
            <a:ext cx="9002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51:27Z</dcterms:created>
  <dc:creator>鶴岡　裕士</dc:creator>
  <dc:description/>
  <dc:language>en-US</dc:language>
  <cp:lastModifiedBy>鶴岡　裕士</cp:lastModifiedBy>
  <dcterms:modified xsi:type="dcterms:W3CDTF">2000-07-09T00:15:14Z</dcterms:modified>
  <cp:revision>9</cp:revision>
  <dc:subject/>
  <dc:title>PowerPoint プレゼンテーション</dc:title>
</cp:coreProperties>
</file>